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84A-1FEF-49DD-BB6B-DA686AA3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7AB-DE9D-4226-99DF-85E3BF5D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D34-60A3-4D98-88E0-9E7E38CA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F42-07C4-43C0-9631-E18F5C18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A38-76DF-48A3-9905-658B1E57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139-33D1-4B54-BEF4-4CB17C17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54C-CC84-4BD6-9F6E-93FECDD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D28-5175-42A6-95E8-EDE2BCAE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0EE-2319-46D2-AF04-7CADA22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2AA-1368-4A21-9AD7-BAABD34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3A6-A766-4575-9C0E-D439B20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5AA-81A4-4700-954C-C57C6A2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A83-C301-44CD-BA66-0F9E144D19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678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МУРАВЕ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NT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0040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304920"/>
            <a:ext cx="678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ПЧЕЛ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UMBLBEE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434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04920"/>
            <a:ext cx="678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БАБОЧ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UTRFLY3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30592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380880"/>
            <a:ext cx="739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СТРЕКОЗ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RAGNFLY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733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380880"/>
            <a:ext cx="7467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КУЗНЕЧИ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RSHPPR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8024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304920"/>
            <a:ext cx="678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МУХ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USEFLY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43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304920"/>
            <a:ext cx="6782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ЖУ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ADYBUG1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219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НАСЕКОМЫЕ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NT" descr=""/>
          <p:cNvPicPr/>
          <p:nvPr/>
        </p:nvPicPr>
        <p:blipFill>
          <a:blip r:embed="rId1"/>
          <a:stretch/>
        </p:blipFill>
        <p:spPr>
          <a:xfrm>
            <a:off x="6324480" y="5105520"/>
            <a:ext cx="2514600" cy="1114200"/>
          </a:xfrm>
          <a:prstGeom prst="rect">
            <a:avLst/>
          </a:prstGeom>
          <a:ln w="0">
            <a:noFill/>
          </a:ln>
        </p:spPr>
      </p:pic>
      <p:pic>
        <p:nvPicPr>
          <p:cNvPr id="57" name="LADYBUG1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18493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HOUSEFLY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157968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GRSHPPR" descr=""/>
          <p:cNvPicPr/>
          <p:nvPr/>
        </p:nvPicPr>
        <p:blipFill>
          <a:blip r:embed="rId4"/>
          <a:stretch/>
        </p:blipFill>
        <p:spPr>
          <a:xfrm>
            <a:off x="2743200" y="5029200"/>
            <a:ext cx="3429000" cy="1482840"/>
          </a:xfrm>
          <a:prstGeom prst="rect">
            <a:avLst/>
          </a:prstGeom>
          <a:ln w="0">
            <a:noFill/>
          </a:ln>
        </p:spPr>
      </p:pic>
      <p:pic>
        <p:nvPicPr>
          <p:cNvPr id="60" name="DRAGNFLY" descr=""/>
          <p:cNvPicPr/>
          <p:nvPr/>
        </p:nvPicPr>
        <p:blipFill>
          <a:blip r:embed="rId5"/>
          <a:stretch/>
        </p:blipFill>
        <p:spPr>
          <a:xfrm>
            <a:off x="1905120" y="2133720"/>
            <a:ext cx="20890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BUMBLBEE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362320" cy="1990800"/>
          </a:xfrm>
          <a:prstGeom prst="rect">
            <a:avLst/>
          </a:prstGeom>
          <a:ln w="0">
            <a:noFill/>
          </a:ln>
        </p:spPr>
      </p:pic>
      <p:pic>
        <p:nvPicPr>
          <p:cNvPr id="62" name="BUTRFLY3" descr=""/>
          <p:cNvPicPr/>
          <p:nvPr/>
        </p:nvPicPr>
        <p:blipFill>
          <a:blip r:embed="rId7"/>
          <a:stretch/>
        </p:blipFill>
        <p:spPr>
          <a:xfrm>
            <a:off x="4343400" y="2133720"/>
            <a:ext cx="239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02-06-17T18:03:53Z</dcterms:modified>
  <cp:revision>9</cp:revision>
  <dc:subject/>
  <dc:title>PowerPoint Presentation</dc:title>
</cp:coreProperties>
</file>