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016E-EA7E-4717-9F3B-A12E93AB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8A71-205B-4DC0-829F-F060AD5D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95AD-98E2-4822-8306-25113A20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4AAF-F9A1-45DE-997F-D6D8BACA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48DF-EF84-43C5-A21B-9AA9DC63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3E7E-F63F-4FA6-AF75-7081E192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5159-794C-43F4-91A3-D9E3D8AB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9A8-FAAB-487D-8563-2E4ED003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D357-3521-4C50-A45B-91605508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F914-8A1C-4BF3-AB85-FE5BE3EB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83E4-9F06-4C60-841C-8BD74883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78A8-09C3-4C32-91D2-BCB7E161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30B0-281E-4966-9707-921A15065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8001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ahoma"/>
              </a:rPr>
              <a:t>КОШКА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981080" y="2057400"/>
            <a:ext cx="5334120" cy="4414680"/>
            <a:chOff x="1981080" y="2057400"/>
            <a:chExt cx="5334120" cy="4414680"/>
          </a:xfrm>
        </p:grpSpPr>
        <p:sp>
          <p:nvSpPr>
            <p:cNvPr id="43" name=""/>
            <p:cNvSpPr/>
            <p:nvPr/>
          </p:nvSpPr>
          <p:spPr>
            <a:xfrm>
              <a:off x="1981080" y="2057400"/>
              <a:ext cx="5334120" cy="4414680"/>
            </a:xfrm>
            <a:custGeom>
              <a:avLst/>
              <a:gdLst/>
              <a:ahLst/>
              <a:rect l="l" t="t" r="r" b="b"/>
              <a:pathLst>
                <a:path w="3695" h="3213">
                  <a:moveTo>
                    <a:pt x="632" y="2047"/>
                  </a:moveTo>
                  <a:lnTo>
                    <a:pt x="608" y="2011"/>
                  </a:lnTo>
                  <a:lnTo>
                    <a:pt x="585" y="1974"/>
                  </a:lnTo>
                  <a:lnTo>
                    <a:pt x="551" y="1940"/>
                  </a:lnTo>
                  <a:lnTo>
                    <a:pt x="518" y="1907"/>
                  </a:lnTo>
                  <a:lnTo>
                    <a:pt x="478" y="1870"/>
                  </a:lnTo>
                  <a:lnTo>
                    <a:pt x="431" y="1837"/>
                  </a:lnTo>
                  <a:lnTo>
                    <a:pt x="381" y="1800"/>
                  </a:lnTo>
                  <a:lnTo>
                    <a:pt x="327" y="1760"/>
                  </a:lnTo>
                  <a:lnTo>
                    <a:pt x="281" y="1720"/>
                  </a:lnTo>
                  <a:lnTo>
                    <a:pt x="241" y="1673"/>
                  </a:lnTo>
                  <a:lnTo>
                    <a:pt x="211" y="1627"/>
                  </a:lnTo>
                  <a:lnTo>
                    <a:pt x="191" y="1576"/>
                  </a:lnTo>
                  <a:lnTo>
                    <a:pt x="174" y="1523"/>
                  </a:lnTo>
                  <a:lnTo>
                    <a:pt x="167" y="1473"/>
                  </a:lnTo>
                  <a:lnTo>
                    <a:pt x="160" y="1419"/>
                  </a:lnTo>
                  <a:lnTo>
                    <a:pt x="160" y="1369"/>
                  </a:lnTo>
                  <a:lnTo>
                    <a:pt x="160" y="1369"/>
                  </a:lnTo>
                  <a:lnTo>
                    <a:pt x="157" y="1359"/>
                  </a:lnTo>
                  <a:lnTo>
                    <a:pt x="140" y="1339"/>
                  </a:lnTo>
                  <a:lnTo>
                    <a:pt x="107" y="1296"/>
                  </a:lnTo>
                  <a:lnTo>
                    <a:pt x="84" y="1259"/>
                  </a:lnTo>
                  <a:lnTo>
                    <a:pt x="84" y="1246"/>
                  </a:lnTo>
                  <a:lnTo>
                    <a:pt x="80" y="1219"/>
                  </a:lnTo>
                  <a:lnTo>
                    <a:pt x="47" y="1149"/>
                  </a:lnTo>
                  <a:lnTo>
                    <a:pt x="10" y="1069"/>
                  </a:lnTo>
                  <a:lnTo>
                    <a:pt x="0" y="1025"/>
                  </a:lnTo>
                  <a:lnTo>
                    <a:pt x="13" y="1009"/>
                  </a:lnTo>
                  <a:lnTo>
                    <a:pt x="30" y="995"/>
                  </a:lnTo>
                  <a:lnTo>
                    <a:pt x="44" y="992"/>
                  </a:lnTo>
                  <a:lnTo>
                    <a:pt x="67" y="992"/>
                  </a:lnTo>
                  <a:lnTo>
                    <a:pt x="100" y="999"/>
                  </a:lnTo>
                  <a:lnTo>
                    <a:pt x="134" y="1009"/>
                  </a:lnTo>
                  <a:lnTo>
                    <a:pt x="170" y="1022"/>
                  </a:lnTo>
                  <a:lnTo>
                    <a:pt x="204" y="1035"/>
                  </a:lnTo>
                  <a:lnTo>
                    <a:pt x="237" y="1049"/>
                  </a:lnTo>
                  <a:lnTo>
                    <a:pt x="261" y="1066"/>
                  </a:lnTo>
                  <a:lnTo>
                    <a:pt x="277" y="1076"/>
                  </a:lnTo>
                  <a:lnTo>
                    <a:pt x="294" y="1086"/>
                  </a:lnTo>
                  <a:lnTo>
                    <a:pt x="304" y="1089"/>
                  </a:lnTo>
                  <a:lnTo>
                    <a:pt x="317" y="1086"/>
                  </a:lnTo>
                  <a:lnTo>
                    <a:pt x="327" y="1082"/>
                  </a:lnTo>
                  <a:lnTo>
                    <a:pt x="344" y="1079"/>
                  </a:lnTo>
                  <a:lnTo>
                    <a:pt x="361" y="1069"/>
                  </a:lnTo>
                  <a:lnTo>
                    <a:pt x="384" y="1059"/>
                  </a:lnTo>
                  <a:lnTo>
                    <a:pt x="411" y="1046"/>
                  </a:lnTo>
                  <a:lnTo>
                    <a:pt x="444" y="1035"/>
                  </a:lnTo>
                  <a:lnTo>
                    <a:pt x="481" y="1025"/>
                  </a:lnTo>
                  <a:lnTo>
                    <a:pt x="528" y="1019"/>
                  </a:lnTo>
                  <a:lnTo>
                    <a:pt x="578" y="1012"/>
                  </a:lnTo>
                  <a:lnTo>
                    <a:pt x="635" y="1009"/>
                  </a:lnTo>
                  <a:lnTo>
                    <a:pt x="698" y="1005"/>
                  </a:lnTo>
                  <a:lnTo>
                    <a:pt x="768" y="1009"/>
                  </a:lnTo>
                  <a:lnTo>
                    <a:pt x="802" y="1005"/>
                  </a:lnTo>
                  <a:lnTo>
                    <a:pt x="819" y="995"/>
                  </a:lnTo>
                  <a:lnTo>
                    <a:pt x="829" y="982"/>
                  </a:lnTo>
                  <a:lnTo>
                    <a:pt x="849" y="965"/>
                  </a:lnTo>
                  <a:lnTo>
                    <a:pt x="865" y="952"/>
                  </a:lnTo>
                  <a:lnTo>
                    <a:pt x="895" y="935"/>
                  </a:lnTo>
                  <a:lnTo>
                    <a:pt x="929" y="912"/>
                  </a:lnTo>
                  <a:lnTo>
                    <a:pt x="969" y="892"/>
                  </a:lnTo>
                  <a:lnTo>
                    <a:pt x="1006" y="872"/>
                  </a:lnTo>
                  <a:lnTo>
                    <a:pt x="1042" y="855"/>
                  </a:lnTo>
                  <a:lnTo>
                    <a:pt x="1073" y="848"/>
                  </a:lnTo>
                  <a:lnTo>
                    <a:pt x="1096" y="852"/>
                  </a:lnTo>
                  <a:lnTo>
                    <a:pt x="1106" y="879"/>
                  </a:lnTo>
                  <a:lnTo>
                    <a:pt x="1103" y="919"/>
                  </a:lnTo>
                  <a:lnTo>
                    <a:pt x="1089" y="962"/>
                  </a:lnTo>
                  <a:lnTo>
                    <a:pt x="1066" y="1012"/>
                  </a:lnTo>
                  <a:lnTo>
                    <a:pt x="1056" y="1049"/>
                  </a:lnTo>
                  <a:lnTo>
                    <a:pt x="1066" y="1076"/>
                  </a:lnTo>
                  <a:lnTo>
                    <a:pt x="1073" y="1106"/>
                  </a:lnTo>
                  <a:lnTo>
                    <a:pt x="1046" y="1162"/>
                  </a:lnTo>
                  <a:lnTo>
                    <a:pt x="1049" y="1162"/>
                  </a:lnTo>
                  <a:lnTo>
                    <a:pt x="1056" y="1159"/>
                  </a:lnTo>
                  <a:lnTo>
                    <a:pt x="1073" y="1159"/>
                  </a:lnTo>
                  <a:lnTo>
                    <a:pt x="1089" y="1156"/>
                  </a:lnTo>
                  <a:lnTo>
                    <a:pt x="1109" y="1152"/>
                  </a:lnTo>
                  <a:lnTo>
                    <a:pt x="1136" y="1152"/>
                  </a:lnTo>
                  <a:lnTo>
                    <a:pt x="1163" y="1149"/>
                  </a:lnTo>
                  <a:lnTo>
                    <a:pt x="1189" y="1149"/>
                  </a:lnTo>
                  <a:lnTo>
                    <a:pt x="1166" y="1179"/>
                  </a:lnTo>
                  <a:lnTo>
                    <a:pt x="1169" y="1179"/>
                  </a:lnTo>
                  <a:lnTo>
                    <a:pt x="1176" y="1176"/>
                  </a:lnTo>
                  <a:lnTo>
                    <a:pt x="1186" y="1176"/>
                  </a:lnTo>
                  <a:lnTo>
                    <a:pt x="1203" y="1176"/>
                  </a:lnTo>
                  <a:lnTo>
                    <a:pt x="1220" y="1172"/>
                  </a:lnTo>
                  <a:lnTo>
                    <a:pt x="1240" y="1176"/>
                  </a:lnTo>
                  <a:lnTo>
                    <a:pt x="1263" y="1179"/>
                  </a:lnTo>
                  <a:lnTo>
                    <a:pt x="1286" y="1182"/>
                  </a:lnTo>
                  <a:lnTo>
                    <a:pt x="1283" y="1186"/>
                  </a:lnTo>
                  <a:lnTo>
                    <a:pt x="1270" y="1192"/>
                  </a:lnTo>
                  <a:lnTo>
                    <a:pt x="1250" y="1206"/>
                  </a:lnTo>
                  <a:lnTo>
                    <a:pt x="1220" y="1226"/>
                  </a:lnTo>
                  <a:lnTo>
                    <a:pt x="1223" y="1226"/>
                  </a:lnTo>
                  <a:lnTo>
                    <a:pt x="1236" y="1222"/>
                  </a:lnTo>
                  <a:lnTo>
                    <a:pt x="1263" y="1219"/>
                  </a:lnTo>
                  <a:lnTo>
                    <a:pt x="1300" y="1212"/>
                  </a:lnTo>
                  <a:lnTo>
                    <a:pt x="1357" y="1202"/>
                  </a:lnTo>
                  <a:lnTo>
                    <a:pt x="1430" y="1186"/>
                  </a:lnTo>
                  <a:lnTo>
                    <a:pt x="1524" y="1166"/>
                  </a:lnTo>
                  <a:lnTo>
                    <a:pt x="1640" y="1139"/>
                  </a:lnTo>
                  <a:lnTo>
                    <a:pt x="1707" y="1126"/>
                  </a:lnTo>
                  <a:lnTo>
                    <a:pt x="1777" y="1116"/>
                  </a:lnTo>
                  <a:lnTo>
                    <a:pt x="1854" y="1109"/>
                  </a:lnTo>
                  <a:lnTo>
                    <a:pt x="1934" y="1102"/>
                  </a:lnTo>
                  <a:lnTo>
                    <a:pt x="2018" y="1099"/>
                  </a:lnTo>
                  <a:lnTo>
                    <a:pt x="2105" y="1096"/>
                  </a:lnTo>
                  <a:lnTo>
                    <a:pt x="2188" y="1096"/>
                  </a:lnTo>
                  <a:lnTo>
                    <a:pt x="2275" y="1096"/>
                  </a:lnTo>
                  <a:lnTo>
                    <a:pt x="2362" y="1099"/>
                  </a:lnTo>
                  <a:lnTo>
                    <a:pt x="2442" y="1106"/>
                  </a:lnTo>
                  <a:lnTo>
                    <a:pt x="2526" y="1109"/>
                  </a:lnTo>
                  <a:lnTo>
                    <a:pt x="2603" y="1116"/>
                  </a:lnTo>
                  <a:lnTo>
                    <a:pt x="2673" y="1122"/>
                  </a:lnTo>
                  <a:lnTo>
                    <a:pt x="2740" y="1129"/>
                  </a:lnTo>
                  <a:lnTo>
                    <a:pt x="2800" y="1139"/>
                  </a:lnTo>
                  <a:lnTo>
                    <a:pt x="2853" y="1146"/>
                  </a:lnTo>
                  <a:lnTo>
                    <a:pt x="2913" y="1149"/>
                  </a:lnTo>
                  <a:lnTo>
                    <a:pt x="2964" y="1146"/>
                  </a:lnTo>
                  <a:lnTo>
                    <a:pt x="3000" y="1129"/>
                  </a:lnTo>
                  <a:lnTo>
                    <a:pt x="3027" y="1109"/>
                  </a:lnTo>
                  <a:lnTo>
                    <a:pt x="3050" y="1082"/>
                  </a:lnTo>
                  <a:lnTo>
                    <a:pt x="3067" y="1049"/>
                  </a:lnTo>
                  <a:lnTo>
                    <a:pt x="3084" y="1012"/>
                  </a:lnTo>
                  <a:lnTo>
                    <a:pt x="3104" y="972"/>
                  </a:lnTo>
                  <a:lnTo>
                    <a:pt x="3127" y="929"/>
                  </a:lnTo>
                  <a:lnTo>
                    <a:pt x="3154" y="882"/>
                  </a:lnTo>
                  <a:lnTo>
                    <a:pt x="3187" y="832"/>
                  </a:lnTo>
                  <a:lnTo>
                    <a:pt x="3224" y="775"/>
                  </a:lnTo>
                  <a:lnTo>
                    <a:pt x="3268" y="715"/>
                  </a:lnTo>
                  <a:lnTo>
                    <a:pt x="3311" y="651"/>
                  </a:lnTo>
                  <a:lnTo>
                    <a:pt x="3354" y="581"/>
                  </a:lnTo>
                  <a:lnTo>
                    <a:pt x="3401" y="505"/>
                  </a:lnTo>
                  <a:lnTo>
                    <a:pt x="3435" y="431"/>
                  </a:lnTo>
                  <a:lnTo>
                    <a:pt x="3445" y="368"/>
                  </a:lnTo>
                  <a:lnTo>
                    <a:pt x="3435" y="314"/>
                  </a:lnTo>
                  <a:lnTo>
                    <a:pt x="3408" y="271"/>
                  </a:lnTo>
                  <a:lnTo>
                    <a:pt x="3371" y="241"/>
                  </a:lnTo>
                  <a:lnTo>
                    <a:pt x="3324" y="217"/>
                  </a:lnTo>
                  <a:lnTo>
                    <a:pt x="3278" y="207"/>
                  </a:lnTo>
                  <a:lnTo>
                    <a:pt x="3231" y="204"/>
                  </a:lnTo>
                  <a:lnTo>
                    <a:pt x="3187" y="207"/>
                  </a:lnTo>
                  <a:lnTo>
                    <a:pt x="3144" y="211"/>
                  </a:lnTo>
                  <a:lnTo>
                    <a:pt x="3104" y="214"/>
                  </a:lnTo>
                  <a:lnTo>
                    <a:pt x="3067" y="214"/>
                  </a:lnTo>
                  <a:lnTo>
                    <a:pt x="3037" y="207"/>
                  </a:lnTo>
                  <a:lnTo>
                    <a:pt x="3014" y="194"/>
                  </a:lnTo>
                  <a:lnTo>
                    <a:pt x="3000" y="174"/>
                  </a:lnTo>
                  <a:lnTo>
                    <a:pt x="2994" y="144"/>
                  </a:lnTo>
                  <a:lnTo>
                    <a:pt x="3004" y="101"/>
                  </a:lnTo>
                  <a:lnTo>
                    <a:pt x="3027" y="67"/>
                  </a:lnTo>
                  <a:lnTo>
                    <a:pt x="3064" y="44"/>
                  </a:lnTo>
                  <a:lnTo>
                    <a:pt x="3107" y="24"/>
                  </a:lnTo>
                  <a:lnTo>
                    <a:pt x="3157" y="14"/>
                  </a:lnTo>
                  <a:lnTo>
                    <a:pt x="3207" y="7"/>
                  </a:lnTo>
                  <a:lnTo>
                    <a:pt x="3258" y="4"/>
                  </a:lnTo>
                  <a:lnTo>
                    <a:pt x="3301" y="0"/>
                  </a:lnTo>
                  <a:lnTo>
                    <a:pt x="3338" y="0"/>
                  </a:lnTo>
                  <a:lnTo>
                    <a:pt x="3374" y="7"/>
                  </a:lnTo>
                  <a:lnTo>
                    <a:pt x="3418" y="17"/>
                  </a:lnTo>
                  <a:lnTo>
                    <a:pt x="3461" y="30"/>
                  </a:lnTo>
                  <a:lnTo>
                    <a:pt x="3501" y="47"/>
                  </a:lnTo>
                  <a:lnTo>
                    <a:pt x="3541" y="67"/>
                  </a:lnTo>
                  <a:lnTo>
                    <a:pt x="3575" y="87"/>
                  </a:lnTo>
                  <a:lnTo>
                    <a:pt x="3602" y="111"/>
                  </a:lnTo>
                  <a:lnTo>
                    <a:pt x="3635" y="154"/>
                  </a:lnTo>
                  <a:lnTo>
                    <a:pt x="3665" y="204"/>
                  </a:lnTo>
                  <a:lnTo>
                    <a:pt x="3685" y="264"/>
                  </a:lnTo>
                  <a:lnTo>
                    <a:pt x="3695" y="334"/>
                  </a:lnTo>
                  <a:lnTo>
                    <a:pt x="3688" y="418"/>
                  </a:lnTo>
                  <a:lnTo>
                    <a:pt x="3668" y="518"/>
                  </a:lnTo>
                  <a:lnTo>
                    <a:pt x="3628" y="631"/>
                  </a:lnTo>
                  <a:lnTo>
                    <a:pt x="3565" y="765"/>
                  </a:lnTo>
                  <a:lnTo>
                    <a:pt x="3505" y="885"/>
                  </a:lnTo>
                  <a:lnTo>
                    <a:pt x="3455" y="985"/>
                  </a:lnTo>
                  <a:lnTo>
                    <a:pt x="3418" y="1069"/>
                  </a:lnTo>
                  <a:lnTo>
                    <a:pt x="3388" y="1149"/>
                  </a:lnTo>
                  <a:lnTo>
                    <a:pt x="3361" y="1222"/>
                  </a:lnTo>
                  <a:lnTo>
                    <a:pt x="3341" y="1299"/>
                  </a:lnTo>
                  <a:lnTo>
                    <a:pt x="3321" y="1386"/>
                  </a:lnTo>
                  <a:lnTo>
                    <a:pt x="3301" y="1483"/>
                  </a:lnTo>
                  <a:lnTo>
                    <a:pt x="3298" y="1596"/>
                  </a:lnTo>
                  <a:lnTo>
                    <a:pt x="3291" y="1700"/>
                  </a:lnTo>
                  <a:lnTo>
                    <a:pt x="3264" y="1797"/>
                  </a:lnTo>
                  <a:lnTo>
                    <a:pt x="3217" y="1897"/>
                  </a:lnTo>
                  <a:lnTo>
                    <a:pt x="3187" y="1947"/>
                  </a:lnTo>
                  <a:lnTo>
                    <a:pt x="3157" y="1994"/>
                  </a:lnTo>
                  <a:lnTo>
                    <a:pt x="3131" y="2034"/>
                  </a:lnTo>
                  <a:lnTo>
                    <a:pt x="3104" y="2074"/>
                  </a:lnTo>
                  <a:lnTo>
                    <a:pt x="3080" y="2117"/>
                  </a:lnTo>
                  <a:lnTo>
                    <a:pt x="3057" y="2164"/>
                  </a:lnTo>
                  <a:lnTo>
                    <a:pt x="3037" y="2214"/>
                  </a:lnTo>
                  <a:lnTo>
                    <a:pt x="3017" y="2278"/>
                  </a:lnTo>
                  <a:lnTo>
                    <a:pt x="3007" y="2324"/>
                  </a:lnTo>
                  <a:lnTo>
                    <a:pt x="3010" y="2371"/>
                  </a:lnTo>
                  <a:lnTo>
                    <a:pt x="3020" y="2418"/>
                  </a:lnTo>
                  <a:lnTo>
                    <a:pt x="3034" y="2465"/>
                  </a:lnTo>
                  <a:lnTo>
                    <a:pt x="3054" y="2511"/>
                  </a:lnTo>
                  <a:lnTo>
                    <a:pt x="3070" y="2555"/>
                  </a:lnTo>
                  <a:lnTo>
                    <a:pt x="3084" y="2592"/>
                  </a:lnTo>
                  <a:lnTo>
                    <a:pt x="3090" y="2622"/>
                  </a:lnTo>
                  <a:lnTo>
                    <a:pt x="3094" y="2638"/>
                  </a:lnTo>
                  <a:lnTo>
                    <a:pt x="3097" y="2658"/>
                  </a:lnTo>
                  <a:lnTo>
                    <a:pt x="3100" y="2678"/>
                  </a:lnTo>
                  <a:lnTo>
                    <a:pt x="3100" y="2705"/>
                  </a:lnTo>
                  <a:lnTo>
                    <a:pt x="3090" y="2735"/>
                  </a:lnTo>
                  <a:lnTo>
                    <a:pt x="3070" y="2772"/>
                  </a:lnTo>
                  <a:lnTo>
                    <a:pt x="3037" y="2812"/>
                  </a:lnTo>
                  <a:lnTo>
                    <a:pt x="2987" y="2859"/>
                  </a:lnTo>
                  <a:lnTo>
                    <a:pt x="2923" y="2915"/>
                  </a:lnTo>
                  <a:lnTo>
                    <a:pt x="2873" y="2959"/>
                  </a:lnTo>
                  <a:lnTo>
                    <a:pt x="2833" y="2992"/>
                  </a:lnTo>
                  <a:lnTo>
                    <a:pt x="2803" y="3016"/>
                  </a:lnTo>
                  <a:lnTo>
                    <a:pt x="2776" y="3036"/>
                  </a:lnTo>
                  <a:lnTo>
                    <a:pt x="2760" y="3049"/>
                  </a:lnTo>
                  <a:lnTo>
                    <a:pt x="2743" y="3066"/>
                  </a:lnTo>
                  <a:lnTo>
                    <a:pt x="2726" y="3079"/>
                  </a:lnTo>
                  <a:lnTo>
                    <a:pt x="2710" y="3096"/>
                  </a:lnTo>
                  <a:lnTo>
                    <a:pt x="2690" y="3106"/>
                  </a:lnTo>
                  <a:lnTo>
                    <a:pt x="2666" y="3116"/>
                  </a:lnTo>
                  <a:lnTo>
                    <a:pt x="2639" y="3126"/>
                  </a:lnTo>
                  <a:lnTo>
                    <a:pt x="2613" y="3129"/>
                  </a:lnTo>
                  <a:lnTo>
                    <a:pt x="2583" y="3136"/>
                  </a:lnTo>
                  <a:lnTo>
                    <a:pt x="2549" y="3136"/>
                  </a:lnTo>
                  <a:lnTo>
                    <a:pt x="2512" y="3136"/>
                  </a:lnTo>
                  <a:lnTo>
                    <a:pt x="2509" y="3136"/>
                  </a:lnTo>
                  <a:lnTo>
                    <a:pt x="2499" y="3139"/>
                  </a:lnTo>
                  <a:lnTo>
                    <a:pt x="2482" y="3139"/>
                  </a:lnTo>
                  <a:lnTo>
                    <a:pt x="2462" y="3143"/>
                  </a:lnTo>
                  <a:lnTo>
                    <a:pt x="2439" y="3143"/>
                  </a:lnTo>
                  <a:lnTo>
                    <a:pt x="2419" y="3139"/>
                  </a:lnTo>
                  <a:lnTo>
                    <a:pt x="2396" y="3136"/>
                  </a:lnTo>
                  <a:lnTo>
                    <a:pt x="2379" y="3129"/>
                  </a:lnTo>
                  <a:lnTo>
                    <a:pt x="2365" y="3122"/>
                  </a:lnTo>
                  <a:lnTo>
                    <a:pt x="2342" y="3102"/>
                  </a:lnTo>
                  <a:lnTo>
                    <a:pt x="2322" y="3076"/>
                  </a:lnTo>
                  <a:lnTo>
                    <a:pt x="2322" y="3036"/>
                  </a:lnTo>
                  <a:lnTo>
                    <a:pt x="2309" y="3029"/>
                  </a:lnTo>
                  <a:lnTo>
                    <a:pt x="2285" y="3009"/>
                  </a:lnTo>
                  <a:lnTo>
                    <a:pt x="2259" y="2979"/>
                  </a:lnTo>
                  <a:lnTo>
                    <a:pt x="2249" y="2932"/>
                  </a:lnTo>
                  <a:lnTo>
                    <a:pt x="2255" y="2902"/>
                  </a:lnTo>
                  <a:lnTo>
                    <a:pt x="2275" y="2885"/>
                  </a:lnTo>
                  <a:lnTo>
                    <a:pt x="2302" y="2875"/>
                  </a:lnTo>
                  <a:lnTo>
                    <a:pt x="2335" y="2869"/>
                  </a:lnTo>
                  <a:lnTo>
                    <a:pt x="2372" y="2869"/>
                  </a:lnTo>
                  <a:lnTo>
                    <a:pt x="2409" y="2869"/>
                  </a:lnTo>
                  <a:lnTo>
                    <a:pt x="2446" y="2865"/>
                  </a:lnTo>
                  <a:lnTo>
                    <a:pt x="2476" y="2859"/>
                  </a:lnTo>
                  <a:lnTo>
                    <a:pt x="2499" y="2845"/>
                  </a:lnTo>
                  <a:lnTo>
                    <a:pt x="2523" y="2829"/>
                  </a:lnTo>
                  <a:lnTo>
                    <a:pt x="2543" y="2809"/>
                  </a:lnTo>
                  <a:lnTo>
                    <a:pt x="2556" y="2785"/>
                  </a:lnTo>
                  <a:lnTo>
                    <a:pt x="2569" y="2762"/>
                  </a:lnTo>
                  <a:lnTo>
                    <a:pt x="2583" y="2742"/>
                  </a:lnTo>
                  <a:lnTo>
                    <a:pt x="2589" y="2718"/>
                  </a:lnTo>
                  <a:lnTo>
                    <a:pt x="2596" y="2702"/>
                  </a:lnTo>
                  <a:lnTo>
                    <a:pt x="2599" y="2688"/>
                  </a:lnTo>
                  <a:lnTo>
                    <a:pt x="2599" y="2675"/>
                  </a:lnTo>
                  <a:lnTo>
                    <a:pt x="2593" y="2662"/>
                  </a:lnTo>
                  <a:lnTo>
                    <a:pt x="2583" y="2648"/>
                  </a:lnTo>
                  <a:lnTo>
                    <a:pt x="2566" y="2632"/>
                  </a:lnTo>
                  <a:lnTo>
                    <a:pt x="2546" y="2615"/>
                  </a:lnTo>
                  <a:lnTo>
                    <a:pt x="2519" y="2588"/>
                  </a:lnTo>
                  <a:lnTo>
                    <a:pt x="2486" y="2558"/>
                  </a:lnTo>
                  <a:lnTo>
                    <a:pt x="2452" y="2525"/>
                  </a:lnTo>
                  <a:lnTo>
                    <a:pt x="2422" y="2495"/>
                  </a:lnTo>
                  <a:lnTo>
                    <a:pt x="2399" y="2468"/>
                  </a:lnTo>
                  <a:lnTo>
                    <a:pt x="2375" y="2441"/>
                  </a:lnTo>
                  <a:lnTo>
                    <a:pt x="2359" y="2418"/>
                  </a:lnTo>
                  <a:lnTo>
                    <a:pt x="2345" y="2388"/>
                  </a:lnTo>
                  <a:lnTo>
                    <a:pt x="2335" y="2358"/>
                  </a:lnTo>
                  <a:lnTo>
                    <a:pt x="2332" y="2324"/>
                  </a:lnTo>
                  <a:lnTo>
                    <a:pt x="2325" y="2321"/>
                  </a:lnTo>
                  <a:lnTo>
                    <a:pt x="2312" y="2318"/>
                  </a:lnTo>
                  <a:lnTo>
                    <a:pt x="2289" y="2311"/>
                  </a:lnTo>
                  <a:lnTo>
                    <a:pt x="2255" y="2304"/>
                  </a:lnTo>
                  <a:lnTo>
                    <a:pt x="2218" y="2298"/>
                  </a:lnTo>
                  <a:lnTo>
                    <a:pt x="2178" y="2294"/>
                  </a:lnTo>
                  <a:lnTo>
                    <a:pt x="2135" y="2291"/>
                  </a:lnTo>
                  <a:lnTo>
                    <a:pt x="2088" y="2294"/>
                  </a:lnTo>
                  <a:lnTo>
                    <a:pt x="2038" y="2301"/>
                  </a:lnTo>
                  <a:lnTo>
                    <a:pt x="1985" y="2304"/>
                  </a:lnTo>
                  <a:lnTo>
                    <a:pt x="1928" y="2308"/>
                  </a:lnTo>
                  <a:lnTo>
                    <a:pt x="1868" y="2311"/>
                  </a:lnTo>
                  <a:lnTo>
                    <a:pt x="1804" y="2311"/>
                  </a:lnTo>
                  <a:lnTo>
                    <a:pt x="1741" y="2308"/>
                  </a:lnTo>
                  <a:lnTo>
                    <a:pt x="1674" y="2298"/>
                  </a:lnTo>
                  <a:lnTo>
                    <a:pt x="1607" y="2284"/>
                  </a:lnTo>
                  <a:lnTo>
                    <a:pt x="1604" y="2291"/>
                  </a:lnTo>
                  <a:lnTo>
                    <a:pt x="1594" y="2321"/>
                  </a:lnTo>
                  <a:lnTo>
                    <a:pt x="1564" y="2375"/>
                  </a:lnTo>
                  <a:lnTo>
                    <a:pt x="1517" y="2458"/>
                  </a:lnTo>
                  <a:lnTo>
                    <a:pt x="1524" y="2488"/>
                  </a:lnTo>
                  <a:lnTo>
                    <a:pt x="1544" y="2558"/>
                  </a:lnTo>
                  <a:lnTo>
                    <a:pt x="1567" y="2648"/>
                  </a:lnTo>
                  <a:lnTo>
                    <a:pt x="1587" y="2735"/>
                  </a:lnTo>
                  <a:lnTo>
                    <a:pt x="1587" y="2765"/>
                  </a:lnTo>
                  <a:lnTo>
                    <a:pt x="1580" y="2839"/>
                  </a:lnTo>
                  <a:lnTo>
                    <a:pt x="1560" y="2925"/>
                  </a:lnTo>
                  <a:lnTo>
                    <a:pt x="1520" y="2992"/>
                  </a:lnTo>
                  <a:lnTo>
                    <a:pt x="1517" y="2996"/>
                  </a:lnTo>
                  <a:lnTo>
                    <a:pt x="1504" y="2999"/>
                  </a:lnTo>
                  <a:lnTo>
                    <a:pt x="1483" y="3002"/>
                  </a:lnTo>
                  <a:lnTo>
                    <a:pt x="1460" y="3009"/>
                  </a:lnTo>
                  <a:lnTo>
                    <a:pt x="1430" y="3012"/>
                  </a:lnTo>
                  <a:lnTo>
                    <a:pt x="1403" y="3016"/>
                  </a:lnTo>
                  <a:lnTo>
                    <a:pt x="1373" y="3016"/>
                  </a:lnTo>
                  <a:lnTo>
                    <a:pt x="1343" y="3009"/>
                  </a:lnTo>
                  <a:lnTo>
                    <a:pt x="1336" y="3012"/>
                  </a:lnTo>
                  <a:lnTo>
                    <a:pt x="1316" y="3016"/>
                  </a:lnTo>
                  <a:lnTo>
                    <a:pt x="1286" y="3012"/>
                  </a:lnTo>
                  <a:lnTo>
                    <a:pt x="1253" y="2996"/>
                  </a:lnTo>
                  <a:lnTo>
                    <a:pt x="1230" y="2979"/>
                  </a:lnTo>
                  <a:lnTo>
                    <a:pt x="1220" y="2959"/>
                  </a:lnTo>
                  <a:lnTo>
                    <a:pt x="1220" y="2935"/>
                  </a:lnTo>
                  <a:lnTo>
                    <a:pt x="1226" y="2912"/>
                  </a:lnTo>
                  <a:lnTo>
                    <a:pt x="1240" y="2885"/>
                  </a:lnTo>
                  <a:lnTo>
                    <a:pt x="1253" y="2859"/>
                  </a:lnTo>
                  <a:lnTo>
                    <a:pt x="1270" y="2829"/>
                  </a:lnTo>
                  <a:lnTo>
                    <a:pt x="1286" y="2799"/>
                  </a:lnTo>
                  <a:lnTo>
                    <a:pt x="1273" y="2815"/>
                  </a:lnTo>
                  <a:lnTo>
                    <a:pt x="1240" y="2862"/>
                  </a:lnTo>
                  <a:lnTo>
                    <a:pt x="1186" y="2925"/>
                  </a:lnTo>
                  <a:lnTo>
                    <a:pt x="1123" y="2999"/>
                  </a:lnTo>
                  <a:lnTo>
                    <a:pt x="1056" y="3072"/>
                  </a:lnTo>
                  <a:lnTo>
                    <a:pt x="986" y="3139"/>
                  </a:lnTo>
                  <a:lnTo>
                    <a:pt x="922" y="3186"/>
                  </a:lnTo>
                  <a:lnTo>
                    <a:pt x="869" y="3209"/>
                  </a:lnTo>
                  <a:lnTo>
                    <a:pt x="865" y="3209"/>
                  </a:lnTo>
                  <a:lnTo>
                    <a:pt x="852" y="3213"/>
                  </a:lnTo>
                  <a:lnTo>
                    <a:pt x="839" y="3213"/>
                  </a:lnTo>
                  <a:lnTo>
                    <a:pt x="819" y="3213"/>
                  </a:lnTo>
                  <a:lnTo>
                    <a:pt x="795" y="3209"/>
                  </a:lnTo>
                  <a:lnTo>
                    <a:pt x="775" y="3203"/>
                  </a:lnTo>
                  <a:lnTo>
                    <a:pt x="755" y="3193"/>
                  </a:lnTo>
                  <a:lnTo>
                    <a:pt x="738" y="3179"/>
                  </a:lnTo>
                  <a:lnTo>
                    <a:pt x="732" y="3186"/>
                  </a:lnTo>
                  <a:lnTo>
                    <a:pt x="715" y="3193"/>
                  </a:lnTo>
                  <a:lnTo>
                    <a:pt x="695" y="3189"/>
                  </a:lnTo>
                  <a:lnTo>
                    <a:pt x="672" y="3153"/>
                  </a:lnTo>
                  <a:lnTo>
                    <a:pt x="668" y="3143"/>
                  </a:lnTo>
                  <a:lnTo>
                    <a:pt x="665" y="3126"/>
                  </a:lnTo>
                  <a:lnTo>
                    <a:pt x="658" y="3109"/>
                  </a:lnTo>
                  <a:lnTo>
                    <a:pt x="658" y="3089"/>
                  </a:lnTo>
                  <a:lnTo>
                    <a:pt x="662" y="3072"/>
                  </a:lnTo>
                  <a:lnTo>
                    <a:pt x="672" y="3056"/>
                  </a:lnTo>
                  <a:lnTo>
                    <a:pt x="685" y="3042"/>
                  </a:lnTo>
                  <a:lnTo>
                    <a:pt x="705" y="3029"/>
                  </a:lnTo>
                  <a:lnTo>
                    <a:pt x="728" y="3016"/>
                  </a:lnTo>
                  <a:lnTo>
                    <a:pt x="752" y="3002"/>
                  </a:lnTo>
                  <a:lnTo>
                    <a:pt x="779" y="2992"/>
                  </a:lnTo>
                  <a:lnTo>
                    <a:pt x="805" y="2982"/>
                  </a:lnTo>
                  <a:lnTo>
                    <a:pt x="832" y="2969"/>
                  </a:lnTo>
                  <a:lnTo>
                    <a:pt x="859" y="2946"/>
                  </a:lnTo>
                  <a:lnTo>
                    <a:pt x="882" y="2919"/>
                  </a:lnTo>
                  <a:lnTo>
                    <a:pt x="902" y="2889"/>
                  </a:lnTo>
                  <a:lnTo>
                    <a:pt x="922" y="2855"/>
                  </a:lnTo>
                  <a:lnTo>
                    <a:pt x="942" y="2819"/>
                  </a:lnTo>
                  <a:lnTo>
                    <a:pt x="962" y="2782"/>
                  </a:lnTo>
                  <a:lnTo>
                    <a:pt x="986" y="2742"/>
                  </a:lnTo>
                  <a:lnTo>
                    <a:pt x="1002" y="2708"/>
                  </a:lnTo>
                  <a:lnTo>
                    <a:pt x="1019" y="2678"/>
                  </a:lnTo>
                  <a:lnTo>
                    <a:pt x="1032" y="2645"/>
                  </a:lnTo>
                  <a:lnTo>
                    <a:pt x="1046" y="2608"/>
                  </a:lnTo>
                  <a:lnTo>
                    <a:pt x="1056" y="2572"/>
                  </a:lnTo>
                  <a:lnTo>
                    <a:pt x="1066" y="2531"/>
                  </a:lnTo>
                  <a:lnTo>
                    <a:pt x="1076" y="2488"/>
                  </a:lnTo>
                  <a:lnTo>
                    <a:pt x="1086" y="2438"/>
                  </a:lnTo>
                  <a:lnTo>
                    <a:pt x="1083" y="2435"/>
                  </a:lnTo>
                  <a:lnTo>
                    <a:pt x="1069" y="2431"/>
                  </a:lnTo>
                  <a:lnTo>
                    <a:pt x="1046" y="2421"/>
                  </a:lnTo>
                  <a:lnTo>
                    <a:pt x="1019" y="2408"/>
                  </a:lnTo>
                  <a:lnTo>
                    <a:pt x="989" y="2388"/>
                  </a:lnTo>
                  <a:lnTo>
                    <a:pt x="956" y="2364"/>
                  </a:lnTo>
                  <a:lnTo>
                    <a:pt x="919" y="2338"/>
                  </a:lnTo>
                  <a:lnTo>
                    <a:pt x="882" y="2308"/>
                  </a:lnTo>
                  <a:lnTo>
                    <a:pt x="632" y="20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380560" y="2098440"/>
              <a:ext cx="1900800" cy="4258080"/>
            </a:xfrm>
            <a:custGeom>
              <a:avLst/>
              <a:gdLst/>
              <a:ahLst/>
              <a:rect l="l" t="t" r="r" b="b"/>
              <a:pathLst>
                <a:path w="1317" h="3099">
                  <a:moveTo>
                    <a:pt x="81" y="2228"/>
                  </a:moveTo>
                  <a:lnTo>
                    <a:pt x="97" y="2228"/>
                  </a:lnTo>
                  <a:lnTo>
                    <a:pt x="117" y="2234"/>
                  </a:lnTo>
                  <a:lnTo>
                    <a:pt x="134" y="2238"/>
                  </a:lnTo>
                  <a:lnTo>
                    <a:pt x="141" y="2241"/>
                  </a:lnTo>
                  <a:lnTo>
                    <a:pt x="151" y="2288"/>
                  </a:lnTo>
                  <a:lnTo>
                    <a:pt x="168" y="2338"/>
                  </a:lnTo>
                  <a:lnTo>
                    <a:pt x="194" y="2391"/>
                  </a:lnTo>
                  <a:lnTo>
                    <a:pt x="228" y="2445"/>
                  </a:lnTo>
                  <a:lnTo>
                    <a:pt x="241" y="2465"/>
                  </a:lnTo>
                  <a:lnTo>
                    <a:pt x="254" y="2481"/>
                  </a:lnTo>
                  <a:lnTo>
                    <a:pt x="268" y="2501"/>
                  </a:lnTo>
                  <a:lnTo>
                    <a:pt x="281" y="2518"/>
                  </a:lnTo>
                  <a:lnTo>
                    <a:pt x="294" y="2538"/>
                  </a:lnTo>
                  <a:lnTo>
                    <a:pt x="308" y="2555"/>
                  </a:lnTo>
                  <a:lnTo>
                    <a:pt x="321" y="2572"/>
                  </a:lnTo>
                  <a:lnTo>
                    <a:pt x="335" y="2588"/>
                  </a:lnTo>
                  <a:lnTo>
                    <a:pt x="358" y="2615"/>
                  </a:lnTo>
                  <a:lnTo>
                    <a:pt x="378" y="2638"/>
                  </a:lnTo>
                  <a:lnTo>
                    <a:pt x="395" y="2658"/>
                  </a:lnTo>
                  <a:lnTo>
                    <a:pt x="408" y="2672"/>
                  </a:lnTo>
                  <a:lnTo>
                    <a:pt x="411" y="2675"/>
                  </a:lnTo>
                  <a:lnTo>
                    <a:pt x="415" y="2678"/>
                  </a:lnTo>
                  <a:lnTo>
                    <a:pt x="418" y="2682"/>
                  </a:lnTo>
                  <a:lnTo>
                    <a:pt x="418" y="2682"/>
                  </a:lnTo>
                  <a:lnTo>
                    <a:pt x="398" y="2729"/>
                  </a:lnTo>
                  <a:lnTo>
                    <a:pt x="375" y="2769"/>
                  </a:lnTo>
                  <a:lnTo>
                    <a:pt x="351" y="2805"/>
                  </a:lnTo>
                  <a:lnTo>
                    <a:pt x="331" y="2835"/>
                  </a:lnTo>
                  <a:lnTo>
                    <a:pt x="308" y="2862"/>
                  </a:lnTo>
                  <a:lnTo>
                    <a:pt x="288" y="2882"/>
                  </a:lnTo>
                  <a:lnTo>
                    <a:pt x="268" y="2899"/>
                  </a:lnTo>
                  <a:lnTo>
                    <a:pt x="251" y="2909"/>
                  </a:lnTo>
                  <a:lnTo>
                    <a:pt x="231" y="2916"/>
                  </a:lnTo>
                  <a:lnTo>
                    <a:pt x="208" y="2922"/>
                  </a:lnTo>
                  <a:lnTo>
                    <a:pt x="178" y="2929"/>
                  </a:lnTo>
                  <a:lnTo>
                    <a:pt x="147" y="2936"/>
                  </a:lnTo>
                  <a:lnTo>
                    <a:pt x="111" y="2946"/>
                  </a:lnTo>
                  <a:lnTo>
                    <a:pt x="74" y="2959"/>
                  </a:lnTo>
                  <a:lnTo>
                    <a:pt x="37" y="2976"/>
                  </a:lnTo>
                  <a:lnTo>
                    <a:pt x="4" y="2999"/>
                  </a:lnTo>
                  <a:lnTo>
                    <a:pt x="4" y="3002"/>
                  </a:lnTo>
                  <a:lnTo>
                    <a:pt x="4" y="3002"/>
                  </a:lnTo>
                  <a:lnTo>
                    <a:pt x="4" y="3006"/>
                  </a:lnTo>
                  <a:lnTo>
                    <a:pt x="4" y="3006"/>
                  </a:lnTo>
                  <a:lnTo>
                    <a:pt x="0" y="3029"/>
                  </a:lnTo>
                  <a:lnTo>
                    <a:pt x="0" y="3049"/>
                  </a:lnTo>
                  <a:lnTo>
                    <a:pt x="10" y="3066"/>
                  </a:lnTo>
                  <a:lnTo>
                    <a:pt x="31" y="3079"/>
                  </a:lnTo>
                  <a:lnTo>
                    <a:pt x="27" y="3052"/>
                  </a:lnTo>
                  <a:lnTo>
                    <a:pt x="27" y="3029"/>
                  </a:lnTo>
                  <a:lnTo>
                    <a:pt x="37" y="3009"/>
                  </a:lnTo>
                  <a:lnTo>
                    <a:pt x="61" y="2992"/>
                  </a:lnTo>
                  <a:lnTo>
                    <a:pt x="47" y="3022"/>
                  </a:lnTo>
                  <a:lnTo>
                    <a:pt x="44" y="3052"/>
                  </a:lnTo>
                  <a:lnTo>
                    <a:pt x="44" y="3076"/>
                  </a:lnTo>
                  <a:lnTo>
                    <a:pt x="44" y="3086"/>
                  </a:lnTo>
                  <a:lnTo>
                    <a:pt x="54" y="3089"/>
                  </a:lnTo>
                  <a:lnTo>
                    <a:pt x="64" y="3096"/>
                  </a:lnTo>
                  <a:lnTo>
                    <a:pt x="74" y="3099"/>
                  </a:lnTo>
                  <a:lnTo>
                    <a:pt x="84" y="3099"/>
                  </a:lnTo>
                  <a:lnTo>
                    <a:pt x="94" y="3096"/>
                  </a:lnTo>
                  <a:lnTo>
                    <a:pt x="104" y="3096"/>
                  </a:lnTo>
                  <a:lnTo>
                    <a:pt x="114" y="3092"/>
                  </a:lnTo>
                  <a:lnTo>
                    <a:pt x="124" y="3092"/>
                  </a:lnTo>
                  <a:lnTo>
                    <a:pt x="117" y="3066"/>
                  </a:lnTo>
                  <a:lnTo>
                    <a:pt x="117" y="3042"/>
                  </a:lnTo>
                  <a:lnTo>
                    <a:pt x="127" y="3019"/>
                  </a:lnTo>
                  <a:lnTo>
                    <a:pt x="151" y="3002"/>
                  </a:lnTo>
                  <a:lnTo>
                    <a:pt x="141" y="3032"/>
                  </a:lnTo>
                  <a:lnTo>
                    <a:pt x="137" y="3059"/>
                  </a:lnTo>
                  <a:lnTo>
                    <a:pt x="137" y="3082"/>
                  </a:lnTo>
                  <a:lnTo>
                    <a:pt x="141" y="3089"/>
                  </a:lnTo>
                  <a:lnTo>
                    <a:pt x="157" y="3086"/>
                  </a:lnTo>
                  <a:lnTo>
                    <a:pt x="174" y="3082"/>
                  </a:lnTo>
                  <a:lnTo>
                    <a:pt x="188" y="3079"/>
                  </a:lnTo>
                  <a:lnTo>
                    <a:pt x="204" y="3076"/>
                  </a:lnTo>
                  <a:lnTo>
                    <a:pt x="218" y="3072"/>
                  </a:lnTo>
                  <a:lnTo>
                    <a:pt x="231" y="3069"/>
                  </a:lnTo>
                  <a:lnTo>
                    <a:pt x="241" y="3069"/>
                  </a:lnTo>
                  <a:lnTo>
                    <a:pt x="254" y="3069"/>
                  </a:lnTo>
                  <a:lnTo>
                    <a:pt x="268" y="3069"/>
                  </a:lnTo>
                  <a:lnTo>
                    <a:pt x="284" y="3069"/>
                  </a:lnTo>
                  <a:lnTo>
                    <a:pt x="298" y="3066"/>
                  </a:lnTo>
                  <a:lnTo>
                    <a:pt x="311" y="3062"/>
                  </a:lnTo>
                  <a:lnTo>
                    <a:pt x="325" y="3052"/>
                  </a:lnTo>
                  <a:lnTo>
                    <a:pt x="338" y="3042"/>
                  </a:lnTo>
                  <a:lnTo>
                    <a:pt x="351" y="3029"/>
                  </a:lnTo>
                  <a:lnTo>
                    <a:pt x="365" y="3012"/>
                  </a:lnTo>
                  <a:lnTo>
                    <a:pt x="378" y="2996"/>
                  </a:lnTo>
                  <a:lnTo>
                    <a:pt x="395" y="2979"/>
                  </a:lnTo>
                  <a:lnTo>
                    <a:pt x="411" y="2962"/>
                  </a:lnTo>
                  <a:lnTo>
                    <a:pt x="428" y="2949"/>
                  </a:lnTo>
                  <a:lnTo>
                    <a:pt x="445" y="2936"/>
                  </a:lnTo>
                  <a:lnTo>
                    <a:pt x="465" y="2919"/>
                  </a:lnTo>
                  <a:lnTo>
                    <a:pt x="482" y="2905"/>
                  </a:lnTo>
                  <a:lnTo>
                    <a:pt x="498" y="2892"/>
                  </a:lnTo>
                  <a:lnTo>
                    <a:pt x="518" y="2875"/>
                  </a:lnTo>
                  <a:lnTo>
                    <a:pt x="548" y="2852"/>
                  </a:lnTo>
                  <a:lnTo>
                    <a:pt x="582" y="2825"/>
                  </a:lnTo>
                  <a:lnTo>
                    <a:pt x="619" y="2795"/>
                  </a:lnTo>
                  <a:lnTo>
                    <a:pt x="652" y="2762"/>
                  </a:lnTo>
                  <a:lnTo>
                    <a:pt x="682" y="2732"/>
                  </a:lnTo>
                  <a:lnTo>
                    <a:pt x="702" y="2698"/>
                  </a:lnTo>
                  <a:lnTo>
                    <a:pt x="709" y="2672"/>
                  </a:lnTo>
                  <a:lnTo>
                    <a:pt x="709" y="2615"/>
                  </a:lnTo>
                  <a:lnTo>
                    <a:pt x="695" y="2565"/>
                  </a:lnTo>
                  <a:lnTo>
                    <a:pt x="679" y="2518"/>
                  </a:lnTo>
                  <a:lnTo>
                    <a:pt x="659" y="2471"/>
                  </a:lnTo>
                  <a:lnTo>
                    <a:pt x="645" y="2438"/>
                  </a:lnTo>
                  <a:lnTo>
                    <a:pt x="635" y="2405"/>
                  </a:lnTo>
                  <a:lnTo>
                    <a:pt x="629" y="2368"/>
                  </a:lnTo>
                  <a:lnTo>
                    <a:pt x="625" y="2331"/>
                  </a:lnTo>
                  <a:lnTo>
                    <a:pt x="629" y="2291"/>
                  </a:lnTo>
                  <a:lnTo>
                    <a:pt x="635" y="2254"/>
                  </a:lnTo>
                  <a:lnTo>
                    <a:pt x="642" y="2221"/>
                  </a:lnTo>
                  <a:lnTo>
                    <a:pt x="652" y="2188"/>
                  </a:lnTo>
                  <a:lnTo>
                    <a:pt x="662" y="2158"/>
                  </a:lnTo>
                  <a:lnTo>
                    <a:pt x="675" y="2127"/>
                  </a:lnTo>
                  <a:lnTo>
                    <a:pt x="689" y="2101"/>
                  </a:lnTo>
                  <a:lnTo>
                    <a:pt x="702" y="2074"/>
                  </a:lnTo>
                  <a:lnTo>
                    <a:pt x="719" y="2037"/>
                  </a:lnTo>
                  <a:lnTo>
                    <a:pt x="732" y="2001"/>
                  </a:lnTo>
                  <a:lnTo>
                    <a:pt x="749" y="1964"/>
                  </a:lnTo>
                  <a:lnTo>
                    <a:pt x="772" y="1930"/>
                  </a:lnTo>
                  <a:lnTo>
                    <a:pt x="802" y="1890"/>
                  </a:lnTo>
                  <a:lnTo>
                    <a:pt x="829" y="1850"/>
                  </a:lnTo>
                  <a:lnTo>
                    <a:pt x="852" y="1807"/>
                  </a:lnTo>
                  <a:lnTo>
                    <a:pt x="869" y="1760"/>
                  </a:lnTo>
                  <a:lnTo>
                    <a:pt x="879" y="1707"/>
                  </a:lnTo>
                  <a:lnTo>
                    <a:pt x="889" y="1650"/>
                  </a:lnTo>
                  <a:lnTo>
                    <a:pt x="892" y="1583"/>
                  </a:lnTo>
                  <a:lnTo>
                    <a:pt x="892" y="1506"/>
                  </a:lnTo>
                  <a:lnTo>
                    <a:pt x="903" y="1373"/>
                  </a:lnTo>
                  <a:lnTo>
                    <a:pt x="929" y="1279"/>
                  </a:lnTo>
                  <a:lnTo>
                    <a:pt x="956" y="1219"/>
                  </a:lnTo>
                  <a:lnTo>
                    <a:pt x="976" y="1176"/>
                  </a:lnTo>
                  <a:lnTo>
                    <a:pt x="986" y="1129"/>
                  </a:lnTo>
                  <a:lnTo>
                    <a:pt x="996" y="1082"/>
                  </a:lnTo>
                  <a:lnTo>
                    <a:pt x="1006" y="1032"/>
                  </a:lnTo>
                  <a:lnTo>
                    <a:pt x="1019" y="985"/>
                  </a:lnTo>
                  <a:lnTo>
                    <a:pt x="1039" y="942"/>
                  </a:lnTo>
                  <a:lnTo>
                    <a:pt x="1066" y="899"/>
                  </a:lnTo>
                  <a:lnTo>
                    <a:pt x="1090" y="855"/>
                  </a:lnTo>
                  <a:lnTo>
                    <a:pt x="1110" y="815"/>
                  </a:lnTo>
                  <a:lnTo>
                    <a:pt x="1130" y="772"/>
                  </a:lnTo>
                  <a:lnTo>
                    <a:pt x="1153" y="732"/>
                  </a:lnTo>
                  <a:lnTo>
                    <a:pt x="1176" y="698"/>
                  </a:lnTo>
                  <a:lnTo>
                    <a:pt x="1197" y="665"/>
                  </a:lnTo>
                  <a:lnTo>
                    <a:pt x="1203" y="648"/>
                  </a:lnTo>
                  <a:lnTo>
                    <a:pt x="1213" y="631"/>
                  </a:lnTo>
                  <a:lnTo>
                    <a:pt x="1220" y="618"/>
                  </a:lnTo>
                  <a:lnTo>
                    <a:pt x="1227" y="605"/>
                  </a:lnTo>
                  <a:lnTo>
                    <a:pt x="1247" y="565"/>
                  </a:lnTo>
                  <a:lnTo>
                    <a:pt x="1263" y="521"/>
                  </a:lnTo>
                  <a:lnTo>
                    <a:pt x="1280" y="471"/>
                  </a:lnTo>
                  <a:lnTo>
                    <a:pt x="1297" y="421"/>
                  </a:lnTo>
                  <a:lnTo>
                    <a:pt x="1307" y="374"/>
                  </a:lnTo>
                  <a:lnTo>
                    <a:pt x="1317" y="324"/>
                  </a:lnTo>
                  <a:lnTo>
                    <a:pt x="1317" y="281"/>
                  </a:lnTo>
                  <a:lnTo>
                    <a:pt x="1313" y="241"/>
                  </a:lnTo>
                  <a:lnTo>
                    <a:pt x="1307" y="217"/>
                  </a:lnTo>
                  <a:lnTo>
                    <a:pt x="1300" y="194"/>
                  </a:lnTo>
                  <a:lnTo>
                    <a:pt x="1287" y="171"/>
                  </a:lnTo>
                  <a:lnTo>
                    <a:pt x="1273" y="147"/>
                  </a:lnTo>
                  <a:lnTo>
                    <a:pt x="1260" y="127"/>
                  </a:lnTo>
                  <a:lnTo>
                    <a:pt x="1243" y="107"/>
                  </a:lnTo>
                  <a:lnTo>
                    <a:pt x="1223" y="87"/>
                  </a:lnTo>
                  <a:lnTo>
                    <a:pt x="1203" y="71"/>
                  </a:lnTo>
                  <a:lnTo>
                    <a:pt x="1190" y="60"/>
                  </a:lnTo>
                  <a:lnTo>
                    <a:pt x="1176" y="50"/>
                  </a:lnTo>
                  <a:lnTo>
                    <a:pt x="1163" y="44"/>
                  </a:lnTo>
                  <a:lnTo>
                    <a:pt x="1150" y="37"/>
                  </a:lnTo>
                  <a:lnTo>
                    <a:pt x="1133" y="30"/>
                  </a:lnTo>
                  <a:lnTo>
                    <a:pt x="1116" y="24"/>
                  </a:lnTo>
                  <a:lnTo>
                    <a:pt x="1100" y="17"/>
                  </a:lnTo>
                  <a:lnTo>
                    <a:pt x="1083" y="14"/>
                  </a:lnTo>
                  <a:lnTo>
                    <a:pt x="1039" y="4"/>
                  </a:lnTo>
                  <a:lnTo>
                    <a:pt x="993" y="0"/>
                  </a:lnTo>
                  <a:lnTo>
                    <a:pt x="939" y="0"/>
                  </a:lnTo>
                  <a:lnTo>
                    <a:pt x="889" y="7"/>
                  </a:lnTo>
                  <a:lnTo>
                    <a:pt x="842" y="14"/>
                  </a:lnTo>
                  <a:lnTo>
                    <a:pt x="799" y="24"/>
                  </a:lnTo>
                  <a:lnTo>
                    <a:pt x="766" y="30"/>
                  </a:lnTo>
                  <a:lnTo>
                    <a:pt x="742" y="40"/>
                  </a:lnTo>
                  <a:lnTo>
                    <a:pt x="719" y="54"/>
                  </a:lnTo>
                  <a:lnTo>
                    <a:pt x="702" y="71"/>
                  </a:lnTo>
                  <a:lnTo>
                    <a:pt x="689" y="91"/>
                  </a:lnTo>
                  <a:lnTo>
                    <a:pt x="682" y="111"/>
                  </a:lnTo>
                  <a:lnTo>
                    <a:pt x="682" y="127"/>
                  </a:lnTo>
                  <a:lnTo>
                    <a:pt x="695" y="144"/>
                  </a:lnTo>
                  <a:lnTo>
                    <a:pt x="719" y="154"/>
                  </a:lnTo>
                  <a:lnTo>
                    <a:pt x="756" y="154"/>
                  </a:lnTo>
                  <a:lnTo>
                    <a:pt x="816" y="144"/>
                  </a:lnTo>
                  <a:lnTo>
                    <a:pt x="879" y="144"/>
                  </a:lnTo>
                  <a:lnTo>
                    <a:pt x="946" y="151"/>
                  </a:lnTo>
                  <a:lnTo>
                    <a:pt x="1009" y="167"/>
                  </a:lnTo>
                  <a:lnTo>
                    <a:pt x="1063" y="201"/>
                  </a:lnTo>
                  <a:lnTo>
                    <a:pt x="1103" y="247"/>
                  </a:lnTo>
                  <a:lnTo>
                    <a:pt x="1123" y="314"/>
                  </a:lnTo>
                  <a:lnTo>
                    <a:pt x="1120" y="404"/>
                  </a:lnTo>
                  <a:lnTo>
                    <a:pt x="1116" y="408"/>
                  </a:lnTo>
                  <a:lnTo>
                    <a:pt x="1116" y="414"/>
                  </a:lnTo>
                  <a:lnTo>
                    <a:pt x="1116" y="418"/>
                  </a:lnTo>
                  <a:lnTo>
                    <a:pt x="1116" y="424"/>
                  </a:lnTo>
                  <a:lnTo>
                    <a:pt x="1100" y="451"/>
                  </a:lnTo>
                  <a:lnTo>
                    <a:pt x="1083" y="478"/>
                  </a:lnTo>
                  <a:lnTo>
                    <a:pt x="1066" y="508"/>
                  </a:lnTo>
                  <a:lnTo>
                    <a:pt x="1050" y="535"/>
                  </a:lnTo>
                  <a:lnTo>
                    <a:pt x="1036" y="558"/>
                  </a:lnTo>
                  <a:lnTo>
                    <a:pt x="1019" y="585"/>
                  </a:lnTo>
                  <a:lnTo>
                    <a:pt x="1006" y="608"/>
                  </a:lnTo>
                  <a:lnTo>
                    <a:pt x="989" y="631"/>
                  </a:lnTo>
                  <a:lnTo>
                    <a:pt x="976" y="655"/>
                  </a:lnTo>
                  <a:lnTo>
                    <a:pt x="959" y="678"/>
                  </a:lnTo>
                  <a:lnTo>
                    <a:pt x="946" y="702"/>
                  </a:lnTo>
                  <a:lnTo>
                    <a:pt x="933" y="722"/>
                  </a:lnTo>
                  <a:lnTo>
                    <a:pt x="916" y="748"/>
                  </a:lnTo>
                  <a:lnTo>
                    <a:pt x="896" y="772"/>
                  </a:lnTo>
                  <a:lnTo>
                    <a:pt x="882" y="795"/>
                  </a:lnTo>
                  <a:lnTo>
                    <a:pt x="869" y="815"/>
                  </a:lnTo>
                  <a:lnTo>
                    <a:pt x="856" y="835"/>
                  </a:lnTo>
                  <a:lnTo>
                    <a:pt x="846" y="849"/>
                  </a:lnTo>
                  <a:lnTo>
                    <a:pt x="839" y="862"/>
                  </a:lnTo>
                  <a:lnTo>
                    <a:pt x="832" y="869"/>
                  </a:lnTo>
                  <a:lnTo>
                    <a:pt x="819" y="892"/>
                  </a:lnTo>
                  <a:lnTo>
                    <a:pt x="802" y="925"/>
                  </a:lnTo>
                  <a:lnTo>
                    <a:pt x="782" y="965"/>
                  </a:lnTo>
                  <a:lnTo>
                    <a:pt x="762" y="1009"/>
                  </a:lnTo>
                  <a:lnTo>
                    <a:pt x="749" y="1042"/>
                  </a:lnTo>
                  <a:lnTo>
                    <a:pt x="739" y="1079"/>
                  </a:lnTo>
                  <a:lnTo>
                    <a:pt x="729" y="1109"/>
                  </a:lnTo>
                  <a:lnTo>
                    <a:pt x="719" y="1129"/>
                  </a:lnTo>
                  <a:lnTo>
                    <a:pt x="699" y="1142"/>
                  </a:lnTo>
                  <a:lnTo>
                    <a:pt x="665" y="1149"/>
                  </a:lnTo>
                  <a:lnTo>
                    <a:pt x="629" y="1149"/>
                  </a:lnTo>
                  <a:lnTo>
                    <a:pt x="588" y="1149"/>
                  </a:lnTo>
                  <a:lnTo>
                    <a:pt x="545" y="1146"/>
                  </a:lnTo>
                  <a:lnTo>
                    <a:pt x="502" y="1139"/>
                  </a:lnTo>
                  <a:lnTo>
                    <a:pt x="465" y="1136"/>
                  </a:lnTo>
                  <a:lnTo>
                    <a:pt x="435" y="1129"/>
                  </a:lnTo>
                  <a:lnTo>
                    <a:pt x="418" y="1126"/>
                  </a:lnTo>
                  <a:lnTo>
                    <a:pt x="401" y="1126"/>
                  </a:lnTo>
                  <a:lnTo>
                    <a:pt x="385" y="1126"/>
                  </a:lnTo>
                  <a:lnTo>
                    <a:pt x="368" y="1122"/>
                  </a:lnTo>
                  <a:lnTo>
                    <a:pt x="365" y="1142"/>
                  </a:lnTo>
                  <a:lnTo>
                    <a:pt x="365" y="1166"/>
                  </a:lnTo>
                  <a:lnTo>
                    <a:pt x="365" y="1189"/>
                  </a:lnTo>
                  <a:lnTo>
                    <a:pt x="371" y="1213"/>
                  </a:lnTo>
                  <a:lnTo>
                    <a:pt x="388" y="1249"/>
                  </a:lnTo>
                  <a:lnTo>
                    <a:pt x="411" y="1293"/>
                  </a:lnTo>
                  <a:lnTo>
                    <a:pt x="428" y="1339"/>
                  </a:lnTo>
                  <a:lnTo>
                    <a:pt x="435" y="1393"/>
                  </a:lnTo>
                  <a:lnTo>
                    <a:pt x="435" y="1440"/>
                  </a:lnTo>
                  <a:lnTo>
                    <a:pt x="445" y="1466"/>
                  </a:lnTo>
                  <a:lnTo>
                    <a:pt x="455" y="1486"/>
                  </a:lnTo>
                  <a:lnTo>
                    <a:pt x="468" y="1516"/>
                  </a:lnTo>
                  <a:lnTo>
                    <a:pt x="472" y="1536"/>
                  </a:lnTo>
                  <a:lnTo>
                    <a:pt x="468" y="1556"/>
                  </a:lnTo>
                  <a:lnTo>
                    <a:pt x="458" y="1580"/>
                  </a:lnTo>
                  <a:lnTo>
                    <a:pt x="445" y="1600"/>
                  </a:lnTo>
                  <a:lnTo>
                    <a:pt x="428" y="1623"/>
                  </a:lnTo>
                  <a:lnTo>
                    <a:pt x="408" y="1647"/>
                  </a:lnTo>
                  <a:lnTo>
                    <a:pt x="388" y="1667"/>
                  </a:lnTo>
                  <a:lnTo>
                    <a:pt x="365" y="1687"/>
                  </a:lnTo>
                  <a:lnTo>
                    <a:pt x="341" y="1707"/>
                  </a:lnTo>
                  <a:lnTo>
                    <a:pt x="325" y="1730"/>
                  </a:lnTo>
                  <a:lnTo>
                    <a:pt x="308" y="1757"/>
                  </a:lnTo>
                  <a:lnTo>
                    <a:pt x="298" y="1784"/>
                  </a:lnTo>
                  <a:lnTo>
                    <a:pt x="288" y="1814"/>
                  </a:lnTo>
                  <a:lnTo>
                    <a:pt x="278" y="1844"/>
                  </a:lnTo>
                  <a:lnTo>
                    <a:pt x="271" y="1874"/>
                  </a:lnTo>
                  <a:lnTo>
                    <a:pt x="264" y="1900"/>
                  </a:lnTo>
                  <a:lnTo>
                    <a:pt x="258" y="1924"/>
                  </a:lnTo>
                  <a:lnTo>
                    <a:pt x="251" y="1940"/>
                  </a:lnTo>
                  <a:lnTo>
                    <a:pt x="248" y="1957"/>
                  </a:lnTo>
                  <a:lnTo>
                    <a:pt x="238" y="1971"/>
                  </a:lnTo>
                  <a:lnTo>
                    <a:pt x="224" y="1984"/>
                  </a:lnTo>
                  <a:lnTo>
                    <a:pt x="208" y="2004"/>
                  </a:lnTo>
                  <a:lnTo>
                    <a:pt x="181" y="2031"/>
                  </a:lnTo>
                  <a:lnTo>
                    <a:pt x="144" y="2067"/>
                  </a:lnTo>
                  <a:lnTo>
                    <a:pt x="111" y="2107"/>
                  </a:lnTo>
                  <a:lnTo>
                    <a:pt x="91" y="2147"/>
                  </a:lnTo>
                  <a:lnTo>
                    <a:pt x="81" y="2188"/>
                  </a:lnTo>
                  <a:lnTo>
                    <a:pt x="81" y="2228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28240" y="3278520"/>
              <a:ext cx="2451240" cy="3156120"/>
            </a:xfrm>
            <a:custGeom>
              <a:avLst/>
              <a:gdLst/>
              <a:ahLst/>
              <a:rect l="l" t="t" r="r" b="b"/>
              <a:pathLst>
                <a:path w="1698" h="2297">
                  <a:moveTo>
                    <a:pt x="465" y="925"/>
                  </a:moveTo>
                  <a:lnTo>
                    <a:pt x="475" y="935"/>
                  </a:lnTo>
                  <a:lnTo>
                    <a:pt x="492" y="951"/>
                  </a:lnTo>
                  <a:lnTo>
                    <a:pt x="508" y="965"/>
                  </a:lnTo>
                  <a:lnTo>
                    <a:pt x="528" y="978"/>
                  </a:lnTo>
                  <a:lnTo>
                    <a:pt x="552" y="991"/>
                  </a:lnTo>
                  <a:lnTo>
                    <a:pt x="575" y="1001"/>
                  </a:lnTo>
                  <a:lnTo>
                    <a:pt x="599" y="1008"/>
                  </a:lnTo>
                  <a:lnTo>
                    <a:pt x="625" y="1008"/>
                  </a:lnTo>
                  <a:lnTo>
                    <a:pt x="649" y="1001"/>
                  </a:lnTo>
                  <a:lnTo>
                    <a:pt x="672" y="991"/>
                  </a:lnTo>
                  <a:lnTo>
                    <a:pt x="692" y="978"/>
                  </a:lnTo>
                  <a:lnTo>
                    <a:pt x="712" y="961"/>
                  </a:lnTo>
                  <a:lnTo>
                    <a:pt x="729" y="945"/>
                  </a:lnTo>
                  <a:lnTo>
                    <a:pt x="746" y="928"/>
                  </a:lnTo>
                  <a:lnTo>
                    <a:pt x="759" y="911"/>
                  </a:lnTo>
                  <a:lnTo>
                    <a:pt x="772" y="894"/>
                  </a:lnTo>
                  <a:lnTo>
                    <a:pt x="786" y="884"/>
                  </a:lnTo>
                  <a:lnTo>
                    <a:pt x="806" y="874"/>
                  </a:lnTo>
                  <a:lnTo>
                    <a:pt x="826" y="864"/>
                  </a:lnTo>
                  <a:lnTo>
                    <a:pt x="842" y="851"/>
                  </a:lnTo>
                  <a:lnTo>
                    <a:pt x="876" y="824"/>
                  </a:lnTo>
                  <a:lnTo>
                    <a:pt x="906" y="798"/>
                  </a:lnTo>
                  <a:lnTo>
                    <a:pt x="929" y="771"/>
                  </a:lnTo>
                  <a:lnTo>
                    <a:pt x="949" y="741"/>
                  </a:lnTo>
                  <a:lnTo>
                    <a:pt x="966" y="714"/>
                  </a:lnTo>
                  <a:lnTo>
                    <a:pt x="983" y="687"/>
                  </a:lnTo>
                  <a:lnTo>
                    <a:pt x="996" y="664"/>
                  </a:lnTo>
                  <a:lnTo>
                    <a:pt x="1009" y="641"/>
                  </a:lnTo>
                  <a:lnTo>
                    <a:pt x="1023" y="584"/>
                  </a:lnTo>
                  <a:lnTo>
                    <a:pt x="1019" y="510"/>
                  </a:lnTo>
                  <a:lnTo>
                    <a:pt x="1009" y="440"/>
                  </a:lnTo>
                  <a:lnTo>
                    <a:pt x="1003" y="377"/>
                  </a:lnTo>
                  <a:lnTo>
                    <a:pt x="1006" y="370"/>
                  </a:lnTo>
                  <a:lnTo>
                    <a:pt x="1009" y="357"/>
                  </a:lnTo>
                  <a:lnTo>
                    <a:pt x="1019" y="347"/>
                  </a:lnTo>
                  <a:lnTo>
                    <a:pt x="1029" y="337"/>
                  </a:lnTo>
                  <a:lnTo>
                    <a:pt x="1103" y="317"/>
                  </a:lnTo>
                  <a:lnTo>
                    <a:pt x="1086" y="340"/>
                  </a:lnTo>
                  <a:lnTo>
                    <a:pt x="1093" y="337"/>
                  </a:lnTo>
                  <a:lnTo>
                    <a:pt x="1113" y="330"/>
                  </a:lnTo>
                  <a:lnTo>
                    <a:pt x="1143" y="327"/>
                  </a:lnTo>
                  <a:lnTo>
                    <a:pt x="1180" y="330"/>
                  </a:lnTo>
                  <a:lnTo>
                    <a:pt x="1173" y="333"/>
                  </a:lnTo>
                  <a:lnTo>
                    <a:pt x="1160" y="344"/>
                  </a:lnTo>
                  <a:lnTo>
                    <a:pt x="1146" y="354"/>
                  </a:lnTo>
                  <a:lnTo>
                    <a:pt x="1136" y="367"/>
                  </a:lnTo>
                  <a:lnTo>
                    <a:pt x="1143" y="367"/>
                  </a:lnTo>
                  <a:lnTo>
                    <a:pt x="1150" y="370"/>
                  </a:lnTo>
                  <a:lnTo>
                    <a:pt x="1156" y="374"/>
                  </a:lnTo>
                  <a:lnTo>
                    <a:pt x="1166" y="374"/>
                  </a:lnTo>
                  <a:lnTo>
                    <a:pt x="1176" y="374"/>
                  </a:lnTo>
                  <a:lnTo>
                    <a:pt x="1193" y="374"/>
                  </a:lnTo>
                  <a:lnTo>
                    <a:pt x="1213" y="370"/>
                  </a:lnTo>
                  <a:lnTo>
                    <a:pt x="1243" y="367"/>
                  </a:lnTo>
                  <a:lnTo>
                    <a:pt x="1263" y="367"/>
                  </a:lnTo>
                  <a:lnTo>
                    <a:pt x="1287" y="367"/>
                  </a:lnTo>
                  <a:lnTo>
                    <a:pt x="1317" y="364"/>
                  </a:lnTo>
                  <a:lnTo>
                    <a:pt x="1347" y="364"/>
                  </a:lnTo>
                  <a:lnTo>
                    <a:pt x="1374" y="360"/>
                  </a:lnTo>
                  <a:lnTo>
                    <a:pt x="1404" y="357"/>
                  </a:lnTo>
                  <a:lnTo>
                    <a:pt x="1430" y="354"/>
                  </a:lnTo>
                  <a:lnTo>
                    <a:pt x="1450" y="347"/>
                  </a:lnTo>
                  <a:lnTo>
                    <a:pt x="1471" y="390"/>
                  </a:lnTo>
                  <a:lnTo>
                    <a:pt x="1477" y="424"/>
                  </a:lnTo>
                  <a:lnTo>
                    <a:pt x="1481" y="454"/>
                  </a:lnTo>
                  <a:lnTo>
                    <a:pt x="1487" y="477"/>
                  </a:lnTo>
                  <a:lnTo>
                    <a:pt x="1507" y="497"/>
                  </a:lnTo>
                  <a:lnTo>
                    <a:pt x="1531" y="510"/>
                  </a:lnTo>
                  <a:lnTo>
                    <a:pt x="1547" y="524"/>
                  </a:lnTo>
                  <a:lnTo>
                    <a:pt x="1554" y="527"/>
                  </a:lnTo>
                  <a:lnTo>
                    <a:pt x="1531" y="541"/>
                  </a:lnTo>
                  <a:lnTo>
                    <a:pt x="1581" y="601"/>
                  </a:lnTo>
                  <a:lnTo>
                    <a:pt x="1567" y="594"/>
                  </a:lnTo>
                  <a:lnTo>
                    <a:pt x="1544" y="584"/>
                  </a:lnTo>
                  <a:lnTo>
                    <a:pt x="1534" y="587"/>
                  </a:lnTo>
                  <a:lnTo>
                    <a:pt x="1554" y="621"/>
                  </a:lnTo>
                  <a:lnTo>
                    <a:pt x="1584" y="667"/>
                  </a:lnTo>
                  <a:lnTo>
                    <a:pt x="1597" y="697"/>
                  </a:lnTo>
                  <a:lnTo>
                    <a:pt x="1597" y="714"/>
                  </a:lnTo>
                  <a:lnTo>
                    <a:pt x="1597" y="717"/>
                  </a:lnTo>
                  <a:lnTo>
                    <a:pt x="1591" y="711"/>
                  </a:lnTo>
                  <a:lnTo>
                    <a:pt x="1577" y="697"/>
                  </a:lnTo>
                  <a:lnTo>
                    <a:pt x="1571" y="697"/>
                  </a:lnTo>
                  <a:lnTo>
                    <a:pt x="1574" y="731"/>
                  </a:lnTo>
                  <a:lnTo>
                    <a:pt x="1597" y="778"/>
                  </a:lnTo>
                  <a:lnTo>
                    <a:pt x="1621" y="811"/>
                  </a:lnTo>
                  <a:lnTo>
                    <a:pt x="1634" y="844"/>
                  </a:lnTo>
                  <a:lnTo>
                    <a:pt x="1628" y="884"/>
                  </a:lnTo>
                  <a:lnTo>
                    <a:pt x="1611" y="935"/>
                  </a:lnTo>
                  <a:lnTo>
                    <a:pt x="1607" y="988"/>
                  </a:lnTo>
                  <a:lnTo>
                    <a:pt x="1618" y="1045"/>
                  </a:lnTo>
                  <a:lnTo>
                    <a:pt x="1641" y="1095"/>
                  </a:lnTo>
                  <a:lnTo>
                    <a:pt x="1668" y="1128"/>
                  </a:lnTo>
                  <a:lnTo>
                    <a:pt x="1684" y="1142"/>
                  </a:lnTo>
                  <a:lnTo>
                    <a:pt x="1694" y="1142"/>
                  </a:lnTo>
                  <a:lnTo>
                    <a:pt x="1698" y="1138"/>
                  </a:lnTo>
                  <a:lnTo>
                    <a:pt x="1691" y="1158"/>
                  </a:lnTo>
                  <a:lnTo>
                    <a:pt x="1671" y="1192"/>
                  </a:lnTo>
                  <a:lnTo>
                    <a:pt x="1651" y="1225"/>
                  </a:lnTo>
                  <a:lnTo>
                    <a:pt x="1644" y="1245"/>
                  </a:lnTo>
                  <a:lnTo>
                    <a:pt x="1641" y="1272"/>
                  </a:lnTo>
                  <a:lnTo>
                    <a:pt x="1631" y="1295"/>
                  </a:lnTo>
                  <a:lnTo>
                    <a:pt x="1611" y="1312"/>
                  </a:lnTo>
                  <a:lnTo>
                    <a:pt x="1591" y="1325"/>
                  </a:lnTo>
                  <a:lnTo>
                    <a:pt x="1567" y="1339"/>
                  </a:lnTo>
                  <a:lnTo>
                    <a:pt x="1551" y="1345"/>
                  </a:lnTo>
                  <a:lnTo>
                    <a:pt x="1537" y="1349"/>
                  </a:lnTo>
                  <a:lnTo>
                    <a:pt x="1531" y="1349"/>
                  </a:lnTo>
                  <a:lnTo>
                    <a:pt x="1527" y="1352"/>
                  </a:lnTo>
                  <a:lnTo>
                    <a:pt x="1527" y="1355"/>
                  </a:lnTo>
                  <a:lnTo>
                    <a:pt x="1524" y="1362"/>
                  </a:lnTo>
                  <a:lnTo>
                    <a:pt x="1521" y="1365"/>
                  </a:lnTo>
                  <a:lnTo>
                    <a:pt x="1501" y="1405"/>
                  </a:lnTo>
                  <a:lnTo>
                    <a:pt x="1487" y="1442"/>
                  </a:lnTo>
                  <a:lnTo>
                    <a:pt x="1474" y="1465"/>
                  </a:lnTo>
                  <a:lnTo>
                    <a:pt x="1457" y="1482"/>
                  </a:lnTo>
                  <a:lnTo>
                    <a:pt x="1447" y="1502"/>
                  </a:lnTo>
                  <a:lnTo>
                    <a:pt x="1440" y="1522"/>
                  </a:lnTo>
                  <a:lnTo>
                    <a:pt x="1434" y="1542"/>
                  </a:lnTo>
                  <a:lnTo>
                    <a:pt x="1424" y="1562"/>
                  </a:lnTo>
                  <a:lnTo>
                    <a:pt x="1410" y="1586"/>
                  </a:lnTo>
                  <a:lnTo>
                    <a:pt x="1400" y="1616"/>
                  </a:lnTo>
                  <a:lnTo>
                    <a:pt x="1390" y="1649"/>
                  </a:lnTo>
                  <a:lnTo>
                    <a:pt x="1374" y="1686"/>
                  </a:lnTo>
                  <a:lnTo>
                    <a:pt x="1357" y="1726"/>
                  </a:lnTo>
                  <a:lnTo>
                    <a:pt x="1337" y="1766"/>
                  </a:lnTo>
                  <a:lnTo>
                    <a:pt x="1307" y="1806"/>
                  </a:lnTo>
                  <a:lnTo>
                    <a:pt x="1273" y="1849"/>
                  </a:lnTo>
                  <a:lnTo>
                    <a:pt x="1233" y="1893"/>
                  </a:lnTo>
                  <a:lnTo>
                    <a:pt x="1193" y="1940"/>
                  </a:lnTo>
                  <a:lnTo>
                    <a:pt x="1150" y="1993"/>
                  </a:lnTo>
                  <a:lnTo>
                    <a:pt x="1103" y="2043"/>
                  </a:lnTo>
                  <a:lnTo>
                    <a:pt x="1053" y="2097"/>
                  </a:lnTo>
                  <a:lnTo>
                    <a:pt x="999" y="2150"/>
                  </a:lnTo>
                  <a:lnTo>
                    <a:pt x="943" y="2203"/>
                  </a:lnTo>
                  <a:lnTo>
                    <a:pt x="879" y="2254"/>
                  </a:lnTo>
                  <a:lnTo>
                    <a:pt x="856" y="2270"/>
                  </a:lnTo>
                  <a:lnTo>
                    <a:pt x="836" y="2280"/>
                  </a:lnTo>
                  <a:lnTo>
                    <a:pt x="816" y="2290"/>
                  </a:lnTo>
                  <a:lnTo>
                    <a:pt x="799" y="2294"/>
                  </a:lnTo>
                  <a:lnTo>
                    <a:pt x="782" y="2297"/>
                  </a:lnTo>
                  <a:lnTo>
                    <a:pt x="766" y="2297"/>
                  </a:lnTo>
                  <a:lnTo>
                    <a:pt x="746" y="2294"/>
                  </a:lnTo>
                  <a:lnTo>
                    <a:pt x="729" y="2287"/>
                  </a:lnTo>
                  <a:lnTo>
                    <a:pt x="725" y="2267"/>
                  </a:lnTo>
                  <a:lnTo>
                    <a:pt x="725" y="2247"/>
                  </a:lnTo>
                  <a:lnTo>
                    <a:pt x="729" y="2233"/>
                  </a:lnTo>
                  <a:lnTo>
                    <a:pt x="729" y="2227"/>
                  </a:lnTo>
                  <a:lnTo>
                    <a:pt x="715" y="2237"/>
                  </a:lnTo>
                  <a:lnTo>
                    <a:pt x="709" y="2247"/>
                  </a:lnTo>
                  <a:lnTo>
                    <a:pt x="705" y="2260"/>
                  </a:lnTo>
                  <a:lnTo>
                    <a:pt x="705" y="2284"/>
                  </a:lnTo>
                  <a:lnTo>
                    <a:pt x="699" y="2287"/>
                  </a:lnTo>
                  <a:lnTo>
                    <a:pt x="692" y="2284"/>
                  </a:lnTo>
                  <a:lnTo>
                    <a:pt x="685" y="2277"/>
                  </a:lnTo>
                  <a:lnTo>
                    <a:pt x="679" y="2274"/>
                  </a:lnTo>
                  <a:lnTo>
                    <a:pt x="669" y="2264"/>
                  </a:lnTo>
                  <a:lnTo>
                    <a:pt x="662" y="2240"/>
                  </a:lnTo>
                  <a:lnTo>
                    <a:pt x="659" y="2210"/>
                  </a:lnTo>
                  <a:lnTo>
                    <a:pt x="655" y="2183"/>
                  </a:lnTo>
                  <a:lnTo>
                    <a:pt x="659" y="2170"/>
                  </a:lnTo>
                  <a:lnTo>
                    <a:pt x="669" y="2160"/>
                  </a:lnTo>
                  <a:lnTo>
                    <a:pt x="685" y="2147"/>
                  </a:lnTo>
                  <a:lnTo>
                    <a:pt x="709" y="2137"/>
                  </a:lnTo>
                  <a:lnTo>
                    <a:pt x="735" y="2127"/>
                  </a:lnTo>
                  <a:lnTo>
                    <a:pt x="762" y="2117"/>
                  </a:lnTo>
                  <a:lnTo>
                    <a:pt x="792" y="2110"/>
                  </a:lnTo>
                  <a:lnTo>
                    <a:pt x="822" y="2103"/>
                  </a:lnTo>
                  <a:lnTo>
                    <a:pt x="836" y="2093"/>
                  </a:lnTo>
                  <a:lnTo>
                    <a:pt x="849" y="2080"/>
                  </a:lnTo>
                  <a:lnTo>
                    <a:pt x="866" y="2060"/>
                  </a:lnTo>
                  <a:lnTo>
                    <a:pt x="882" y="2040"/>
                  </a:lnTo>
                  <a:lnTo>
                    <a:pt x="893" y="2023"/>
                  </a:lnTo>
                  <a:lnTo>
                    <a:pt x="906" y="2006"/>
                  </a:lnTo>
                  <a:lnTo>
                    <a:pt x="916" y="1990"/>
                  </a:lnTo>
                  <a:lnTo>
                    <a:pt x="926" y="1973"/>
                  </a:lnTo>
                  <a:lnTo>
                    <a:pt x="943" y="1946"/>
                  </a:lnTo>
                  <a:lnTo>
                    <a:pt x="959" y="1920"/>
                  </a:lnTo>
                  <a:lnTo>
                    <a:pt x="976" y="1893"/>
                  </a:lnTo>
                  <a:lnTo>
                    <a:pt x="989" y="1866"/>
                  </a:lnTo>
                  <a:lnTo>
                    <a:pt x="996" y="1853"/>
                  </a:lnTo>
                  <a:lnTo>
                    <a:pt x="1003" y="1836"/>
                  </a:lnTo>
                  <a:lnTo>
                    <a:pt x="1009" y="1823"/>
                  </a:lnTo>
                  <a:lnTo>
                    <a:pt x="1016" y="1813"/>
                  </a:lnTo>
                  <a:lnTo>
                    <a:pt x="1023" y="1799"/>
                  </a:lnTo>
                  <a:lnTo>
                    <a:pt x="1026" y="1789"/>
                  </a:lnTo>
                  <a:lnTo>
                    <a:pt x="1029" y="1779"/>
                  </a:lnTo>
                  <a:lnTo>
                    <a:pt x="1033" y="1773"/>
                  </a:lnTo>
                  <a:lnTo>
                    <a:pt x="1033" y="1763"/>
                  </a:lnTo>
                  <a:lnTo>
                    <a:pt x="1036" y="1749"/>
                  </a:lnTo>
                  <a:lnTo>
                    <a:pt x="1043" y="1736"/>
                  </a:lnTo>
                  <a:lnTo>
                    <a:pt x="1046" y="1719"/>
                  </a:lnTo>
                  <a:lnTo>
                    <a:pt x="1053" y="1699"/>
                  </a:lnTo>
                  <a:lnTo>
                    <a:pt x="1063" y="1666"/>
                  </a:lnTo>
                  <a:lnTo>
                    <a:pt x="1076" y="1632"/>
                  </a:lnTo>
                  <a:lnTo>
                    <a:pt x="1083" y="1606"/>
                  </a:lnTo>
                  <a:lnTo>
                    <a:pt x="1086" y="1592"/>
                  </a:lnTo>
                  <a:lnTo>
                    <a:pt x="1090" y="1589"/>
                  </a:lnTo>
                  <a:lnTo>
                    <a:pt x="1090" y="1589"/>
                  </a:lnTo>
                  <a:lnTo>
                    <a:pt x="1093" y="1576"/>
                  </a:lnTo>
                  <a:lnTo>
                    <a:pt x="1096" y="1552"/>
                  </a:lnTo>
                  <a:lnTo>
                    <a:pt x="1103" y="1529"/>
                  </a:lnTo>
                  <a:lnTo>
                    <a:pt x="1106" y="1506"/>
                  </a:lnTo>
                  <a:lnTo>
                    <a:pt x="1110" y="1489"/>
                  </a:lnTo>
                  <a:lnTo>
                    <a:pt x="1090" y="1482"/>
                  </a:lnTo>
                  <a:lnTo>
                    <a:pt x="1070" y="1479"/>
                  </a:lnTo>
                  <a:lnTo>
                    <a:pt x="1050" y="1472"/>
                  </a:lnTo>
                  <a:lnTo>
                    <a:pt x="1033" y="1465"/>
                  </a:lnTo>
                  <a:lnTo>
                    <a:pt x="1013" y="1459"/>
                  </a:lnTo>
                  <a:lnTo>
                    <a:pt x="996" y="1449"/>
                  </a:lnTo>
                  <a:lnTo>
                    <a:pt x="976" y="1439"/>
                  </a:lnTo>
                  <a:lnTo>
                    <a:pt x="959" y="1429"/>
                  </a:lnTo>
                  <a:lnTo>
                    <a:pt x="939" y="1419"/>
                  </a:lnTo>
                  <a:lnTo>
                    <a:pt x="923" y="1405"/>
                  </a:lnTo>
                  <a:lnTo>
                    <a:pt x="906" y="1392"/>
                  </a:lnTo>
                  <a:lnTo>
                    <a:pt x="889" y="1379"/>
                  </a:lnTo>
                  <a:lnTo>
                    <a:pt x="876" y="1369"/>
                  </a:lnTo>
                  <a:lnTo>
                    <a:pt x="866" y="1355"/>
                  </a:lnTo>
                  <a:lnTo>
                    <a:pt x="856" y="1342"/>
                  </a:lnTo>
                  <a:lnTo>
                    <a:pt x="846" y="1332"/>
                  </a:lnTo>
                  <a:lnTo>
                    <a:pt x="826" y="1315"/>
                  </a:lnTo>
                  <a:lnTo>
                    <a:pt x="806" y="1299"/>
                  </a:lnTo>
                  <a:lnTo>
                    <a:pt x="786" y="1282"/>
                  </a:lnTo>
                  <a:lnTo>
                    <a:pt x="766" y="1262"/>
                  </a:lnTo>
                  <a:lnTo>
                    <a:pt x="746" y="1242"/>
                  </a:lnTo>
                  <a:lnTo>
                    <a:pt x="725" y="1222"/>
                  </a:lnTo>
                  <a:lnTo>
                    <a:pt x="705" y="1202"/>
                  </a:lnTo>
                  <a:lnTo>
                    <a:pt x="689" y="1182"/>
                  </a:lnTo>
                  <a:lnTo>
                    <a:pt x="682" y="1175"/>
                  </a:lnTo>
                  <a:lnTo>
                    <a:pt x="675" y="1165"/>
                  </a:lnTo>
                  <a:lnTo>
                    <a:pt x="669" y="1158"/>
                  </a:lnTo>
                  <a:lnTo>
                    <a:pt x="662" y="1152"/>
                  </a:lnTo>
                  <a:lnTo>
                    <a:pt x="639" y="1128"/>
                  </a:lnTo>
                  <a:lnTo>
                    <a:pt x="622" y="1108"/>
                  </a:lnTo>
                  <a:lnTo>
                    <a:pt x="609" y="1091"/>
                  </a:lnTo>
                  <a:lnTo>
                    <a:pt x="599" y="1081"/>
                  </a:lnTo>
                  <a:lnTo>
                    <a:pt x="595" y="1075"/>
                  </a:lnTo>
                  <a:lnTo>
                    <a:pt x="585" y="1068"/>
                  </a:lnTo>
                  <a:lnTo>
                    <a:pt x="575" y="1058"/>
                  </a:lnTo>
                  <a:lnTo>
                    <a:pt x="558" y="1045"/>
                  </a:lnTo>
                  <a:lnTo>
                    <a:pt x="528" y="1021"/>
                  </a:lnTo>
                  <a:lnTo>
                    <a:pt x="492" y="991"/>
                  </a:lnTo>
                  <a:lnTo>
                    <a:pt x="452" y="958"/>
                  </a:lnTo>
                  <a:lnTo>
                    <a:pt x="408" y="925"/>
                  </a:lnTo>
                  <a:lnTo>
                    <a:pt x="365" y="888"/>
                  </a:lnTo>
                  <a:lnTo>
                    <a:pt x="321" y="848"/>
                  </a:lnTo>
                  <a:lnTo>
                    <a:pt x="284" y="808"/>
                  </a:lnTo>
                  <a:lnTo>
                    <a:pt x="251" y="768"/>
                  </a:lnTo>
                  <a:lnTo>
                    <a:pt x="198" y="681"/>
                  </a:lnTo>
                  <a:lnTo>
                    <a:pt x="174" y="611"/>
                  </a:lnTo>
                  <a:lnTo>
                    <a:pt x="171" y="551"/>
                  </a:lnTo>
                  <a:lnTo>
                    <a:pt x="171" y="487"/>
                  </a:lnTo>
                  <a:lnTo>
                    <a:pt x="164" y="464"/>
                  </a:lnTo>
                  <a:lnTo>
                    <a:pt x="147" y="434"/>
                  </a:lnTo>
                  <a:lnTo>
                    <a:pt x="127" y="404"/>
                  </a:lnTo>
                  <a:lnTo>
                    <a:pt x="104" y="374"/>
                  </a:lnTo>
                  <a:lnTo>
                    <a:pt x="91" y="350"/>
                  </a:lnTo>
                  <a:lnTo>
                    <a:pt x="84" y="333"/>
                  </a:lnTo>
                  <a:lnTo>
                    <a:pt x="81" y="320"/>
                  </a:lnTo>
                  <a:lnTo>
                    <a:pt x="74" y="303"/>
                  </a:lnTo>
                  <a:lnTo>
                    <a:pt x="61" y="277"/>
                  </a:lnTo>
                  <a:lnTo>
                    <a:pt x="44" y="243"/>
                  </a:lnTo>
                  <a:lnTo>
                    <a:pt x="24" y="210"/>
                  </a:lnTo>
                  <a:lnTo>
                    <a:pt x="7" y="177"/>
                  </a:lnTo>
                  <a:lnTo>
                    <a:pt x="0" y="150"/>
                  </a:lnTo>
                  <a:lnTo>
                    <a:pt x="4" y="136"/>
                  </a:lnTo>
                  <a:lnTo>
                    <a:pt x="17" y="133"/>
                  </a:lnTo>
                  <a:lnTo>
                    <a:pt x="37" y="136"/>
                  </a:lnTo>
                  <a:lnTo>
                    <a:pt x="47" y="136"/>
                  </a:lnTo>
                  <a:lnTo>
                    <a:pt x="57" y="140"/>
                  </a:lnTo>
                  <a:lnTo>
                    <a:pt x="71" y="143"/>
                  </a:lnTo>
                  <a:lnTo>
                    <a:pt x="84" y="146"/>
                  </a:lnTo>
                  <a:lnTo>
                    <a:pt x="101" y="153"/>
                  </a:lnTo>
                  <a:lnTo>
                    <a:pt x="117" y="160"/>
                  </a:lnTo>
                  <a:lnTo>
                    <a:pt x="137" y="170"/>
                  </a:lnTo>
                  <a:lnTo>
                    <a:pt x="161" y="180"/>
                  </a:lnTo>
                  <a:lnTo>
                    <a:pt x="174" y="190"/>
                  </a:lnTo>
                  <a:lnTo>
                    <a:pt x="194" y="200"/>
                  </a:lnTo>
                  <a:lnTo>
                    <a:pt x="214" y="213"/>
                  </a:lnTo>
                  <a:lnTo>
                    <a:pt x="238" y="223"/>
                  </a:lnTo>
                  <a:lnTo>
                    <a:pt x="258" y="233"/>
                  </a:lnTo>
                  <a:lnTo>
                    <a:pt x="278" y="240"/>
                  </a:lnTo>
                  <a:lnTo>
                    <a:pt x="294" y="243"/>
                  </a:lnTo>
                  <a:lnTo>
                    <a:pt x="308" y="237"/>
                  </a:lnTo>
                  <a:lnTo>
                    <a:pt x="318" y="230"/>
                  </a:lnTo>
                  <a:lnTo>
                    <a:pt x="331" y="220"/>
                  </a:lnTo>
                  <a:lnTo>
                    <a:pt x="351" y="210"/>
                  </a:lnTo>
                  <a:lnTo>
                    <a:pt x="371" y="203"/>
                  </a:lnTo>
                  <a:lnTo>
                    <a:pt x="385" y="200"/>
                  </a:lnTo>
                  <a:lnTo>
                    <a:pt x="398" y="193"/>
                  </a:lnTo>
                  <a:lnTo>
                    <a:pt x="415" y="190"/>
                  </a:lnTo>
                  <a:lnTo>
                    <a:pt x="428" y="183"/>
                  </a:lnTo>
                  <a:lnTo>
                    <a:pt x="445" y="180"/>
                  </a:lnTo>
                  <a:lnTo>
                    <a:pt x="462" y="173"/>
                  </a:lnTo>
                  <a:lnTo>
                    <a:pt x="475" y="170"/>
                  </a:lnTo>
                  <a:lnTo>
                    <a:pt x="492" y="167"/>
                  </a:lnTo>
                  <a:lnTo>
                    <a:pt x="512" y="163"/>
                  </a:lnTo>
                  <a:lnTo>
                    <a:pt x="528" y="157"/>
                  </a:lnTo>
                  <a:lnTo>
                    <a:pt x="545" y="153"/>
                  </a:lnTo>
                  <a:lnTo>
                    <a:pt x="562" y="150"/>
                  </a:lnTo>
                  <a:lnTo>
                    <a:pt x="578" y="146"/>
                  </a:lnTo>
                  <a:lnTo>
                    <a:pt x="592" y="146"/>
                  </a:lnTo>
                  <a:lnTo>
                    <a:pt x="609" y="143"/>
                  </a:lnTo>
                  <a:lnTo>
                    <a:pt x="622" y="143"/>
                  </a:lnTo>
                  <a:lnTo>
                    <a:pt x="639" y="140"/>
                  </a:lnTo>
                  <a:lnTo>
                    <a:pt x="655" y="140"/>
                  </a:lnTo>
                  <a:lnTo>
                    <a:pt x="669" y="140"/>
                  </a:lnTo>
                  <a:lnTo>
                    <a:pt x="685" y="140"/>
                  </a:lnTo>
                  <a:lnTo>
                    <a:pt x="705" y="143"/>
                  </a:lnTo>
                  <a:lnTo>
                    <a:pt x="722" y="146"/>
                  </a:lnTo>
                  <a:lnTo>
                    <a:pt x="739" y="150"/>
                  </a:lnTo>
                  <a:lnTo>
                    <a:pt x="749" y="153"/>
                  </a:lnTo>
                  <a:lnTo>
                    <a:pt x="766" y="153"/>
                  </a:lnTo>
                  <a:lnTo>
                    <a:pt x="782" y="146"/>
                  </a:lnTo>
                  <a:lnTo>
                    <a:pt x="796" y="140"/>
                  </a:lnTo>
                  <a:lnTo>
                    <a:pt x="806" y="130"/>
                  </a:lnTo>
                  <a:lnTo>
                    <a:pt x="816" y="116"/>
                  </a:lnTo>
                  <a:lnTo>
                    <a:pt x="829" y="103"/>
                  </a:lnTo>
                  <a:lnTo>
                    <a:pt x="839" y="90"/>
                  </a:lnTo>
                  <a:lnTo>
                    <a:pt x="852" y="76"/>
                  </a:lnTo>
                  <a:lnTo>
                    <a:pt x="872" y="60"/>
                  </a:lnTo>
                  <a:lnTo>
                    <a:pt x="896" y="46"/>
                  </a:lnTo>
                  <a:lnTo>
                    <a:pt x="923" y="33"/>
                  </a:lnTo>
                  <a:lnTo>
                    <a:pt x="953" y="20"/>
                  </a:lnTo>
                  <a:lnTo>
                    <a:pt x="983" y="10"/>
                  </a:lnTo>
                  <a:lnTo>
                    <a:pt x="1009" y="3"/>
                  </a:lnTo>
                  <a:lnTo>
                    <a:pt x="1029" y="0"/>
                  </a:lnTo>
                  <a:lnTo>
                    <a:pt x="1046" y="0"/>
                  </a:lnTo>
                  <a:lnTo>
                    <a:pt x="1050" y="30"/>
                  </a:lnTo>
                  <a:lnTo>
                    <a:pt x="1033" y="76"/>
                  </a:lnTo>
                  <a:lnTo>
                    <a:pt x="1013" y="133"/>
                  </a:lnTo>
                  <a:lnTo>
                    <a:pt x="1009" y="177"/>
                  </a:lnTo>
                  <a:lnTo>
                    <a:pt x="1013" y="203"/>
                  </a:lnTo>
                  <a:lnTo>
                    <a:pt x="1016" y="223"/>
                  </a:lnTo>
                  <a:lnTo>
                    <a:pt x="1009" y="250"/>
                  </a:lnTo>
                  <a:lnTo>
                    <a:pt x="993" y="290"/>
                  </a:lnTo>
                  <a:lnTo>
                    <a:pt x="976" y="310"/>
                  </a:lnTo>
                  <a:lnTo>
                    <a:pt x="966" y="323"/>
                  </a:lnTo>
                  <a:lnTo>
                    <a:pt x="963" y="333"/>
                  </a:lnTo>
                  <a:lnTo>
                    <a:pt x="959" y="337"/>
                  </a:lnTo>
                  <a:lnTo>
                    <a:pt x="976" y="424"/>
                  </a:lnTo>
                  <a:lnTo>
                    <a:pt x="983" y="497"/>
                  </a:lnTo>
                  <a:lnTo>
                    <a:pt x="976" y="564"/>
                  </a:lnTo>
                  <a:lnTo>
                    <a:pt x="953" y="634"/>
                  </a:lnTo>
                  <a:lnTo>
                    <a:pt x="939" y="661"/>
                  </a:lnTo>
                  <a:lnTo>
                    <a:pt x="923" y="691"/>
                  </a:lnTo>
                  <a:lnTo>
                    <a:pt x="903" y="721"/>
                  </a:lnTo>
                  <a:lnTo>
                    <a:pt x="882" y="751"/>
                  </a:lnTo>
                  <a:lnTo>
                    <a:pt x="862" y="778"/>
                  </a:lnTo>
                  <a:lnTo>
                    <a:pt x="842" y="801"/>
                  </a:lnTo>
                  <a:lnTo>
                    <a:pt x="826" y="821"/>
                  </a:lnTo>
                  <a:lnTo>
                    <a:pt x="812" y="834"/>
                  </a:lnTo>
                  <a:lnTo>
                    <a:pt x="786" y="854"/>
                  </a:lnTo>
                  <a:lnTo>
                    <a:pt x="759" y="871"/>
                  </a:lnTo>
                  <a:lnTo>
                    <a:pt x="729" y="881"/>
                  </a:lnTo>
                  <a:lnTo>
                    <a:pt x="702" y="884"/>
                  </a:lnTo>
                  <a:lnTo>
                    <a:pt x="675" y="888"/>
                  </a:lnTo>
                  <a:lnTo>
                    <a:pt x="649" y="884"/>
                  </a:lnTo>
                  <a:lnTo>
                    <a:pt x="629" y="881"/>
                  </a:lnTo>
                  <a:lnTo>
                    <a:pt x="609" y="878"/>
                  </a:lnTo>
                  <a:lnTo>
                    <a:pt x="592" y="891"/>
                  </a:lnTo>
                  <a:lnTo>
                    <a:pt x="575" y="898"/>
                  </a:lnTo>
                  <a:lnTo>
                    <a:pt x="552" y="901"/>
                  </a:lnTo>
                  <a:lnTo>
                    <a:pt x="532" y="904"/>
                  </a:lnTo>
                  <a:lnTo>
                    <a:pt x="505" y="901"/>
                  </a:lnTo>
                  <a:lnTo>
                    <a:pt x="482" y="898"/>
                  </a:lnTo>
                  <a:lnTo>
                    <a:pt x="452" y="891"/>
                  </a:lnTo>
                  <a:lnTo>
                    <a:pt x="425" y="884"/>
                  </a:lnTo>
                  <a:lnTo>
                    <a:pt x="408" y="874"/>
                  </a:lnTo>
                  <a:lnTo>
                    <a:pt x="388" y="864"/>
                  </a:lnTo>
                  <a:lnTo>
                    <a:pt x="365" y="851"/>
                  </a:lnTo>
                  <a:lnTo>
                    <a:pt x="341" y="834"/>
                  </a:lnTo>
                  <a:lnTo>
                    <a:pt x="321" y="818"/>
                  </a:lnTo>
                  <a:lnTo>
                    <a:pt x="298" y="798"/>
                  </a:lnTo>
                  <a:lnTo>
                    <a:pt x="278" y="778"/>
                  </a:lnTo>
                  <a:lnTo>
                    <a:pt x="258" y="754"/>
                  </a:lnTo>
                  <a:lnTo>
                    <a:pt x="261" y="758"/>
                  </a:lnTo>
                  <a:lnTo>
                    <a:pt x="268" y="771"/>
                  </a:lnTo>
                  <a:lnTo>
                    <a:pt x="278" y="788"/>
                  </a:lnTo>
                  <a:lnTo>
                    <a:pt x="294" y="808"/>
                  </a:lnTo>
                  <a:lnTo>
                    <a:pt x="318" y="834"/>
                  </a:lnTo>
                  <a:lnTo>
                    <a:pt x="345" y="858"/>
                  </a:lnTo>
                  <a:lnTo>
                    <a:pt x="378" y="884"/>
                  </a:lnTo>
                  <a:lnTo>
                    <a:pt x="418" y="908"/>
                  </a:lnTo>
                  <a:lnTo>
                    <a:pt x="428" y="911"/>
                  </a:lnTo>
                  <a:lnTo>
                    <a:pt x="438" y="918"/>
                  </a:lnTo>
                  <a:lnTo>
                    <a:pt x="452" y="921"/>
                  </a:lnTo>
                  <a:lnTo>
                    <a:pt x="465" y="925"/>
                  </a:lnTo>
                  <a:close/>
                </a:path>
              </a:pathLst>
            </a:cu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57240" y="4516560"/>
              <a:ext cx="317520" cy="92160"/>
            </a:xfrm>
            <a:custGeom>
              <a:avLst/>
              <a:gdLst/>
              <a:ahLst/>
              <a:rect l="l" t="t" r="r" b="b"/>
              <a:pathLst>
                <a:path w="220" h="67">
                  <a:moveTo>
                    <a:pt x="0" y="27"/>
                  </a:moveTo>
                  <a:lnTo>
                    <a:pt x="17" y="27"/>
                  </a:lnTo>
                  <a:lnTo>
                    <a:pt x="33" y="27"/>
                  </a:lnTo>
                  <a:lnTo>
                    <a:pt x="47" y="24"/>
                  </a:lnTo>
                  <a:lnTo>
                    <a:pt x="63" y="17"/>
                  </a:lnTo>
                  <a:lnTo>
                    <a:pt x="80" y="10"/>
                  </a:lnTo>
                  <a:lnTo>
                    <a:pt x="97" y="7"/>
                  </a:lnTo>
                  <a:lnTo>
                    <a:pt x="114" y="7"/>
                  </a:lnTo>
                  <a:lnTo>
                    <a:pt x="130" y="7"/>
                  </a:lnTo>
                  <a:lnTo>
                    <a:pt x="140" y="7"/>
                  </a:lnTo>
                  <a:lnTo>
                    <a:pt x="147" y="7"/>
                  </a:lnTo>
                  <a:lnTo>
                    <a:pt x="167" y="3"/>
                  </a:lnTo>
                  <a:lnTo>
                    <a:pt x="210" y="3"/>
                  </a:lnTo>
                  <a:lnTo>
                    <a:pt x="214" y="3"/>
                  </a:lnTo>
                  <a:lnTo>
                    <a:pt x="217" y="3"/>
                  </a:lnTo>
                  <a:lnTo>
                    <a:pt x="217" y="3"/>
                  </a:lnTo>
                  <a:lnTo>
                    <a:pt x="220" y="0"/>
                  </a:lnTo>
                  <a:lnTo>
                    <a:pt x="214" y="10"/>
                  </a:lnTo>
                  <a:lnTo>
                    <a:pt x="194" y="30"/>
                  </a:lnTo>
                  <a:lnTo>
                    <a:pt x="167" y="50"/>
                  </a:lnTo>
                  <a:lnTo>
                    <a:pt x="130" y="64"/>
                  </a:lnTo>
                  <a:lnTo>
                    <a:pt x="114" y="67"/>
                  </a:lnTo>
                  <a:lnTo>
                    <a:pt x="97" y="67"/>
                  </a:lnTo>
                  <a:lnTo>
                    <a:pt x="80" y="67"/>
                  </a:lnTo>
                  <a:lnTo>
                    <a:pt x="67" y="64"/>
                  </a:lnTo>
                  <a:lnTo>
                    <a:pt x="50" y="57"/>
                  </a:lnTo>
                  <a:lnTo>
                    <a:pt x="33" y="50"/>
                  </a:lnTo>
                  <a:lnTo>
                    <a:pt x="17" y="40"/>
                  </a:lnTo>
                  <a:lnTo>
                    <a:pt x="0" y="27"/>
                  </a:lnTo>
                  <a:close/>
                </a:path>
              </a:pathLst>
            </a:cu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122000" y="3608280"/>
              <a:ext cx="1939680" cy="1582920"/>
            </a:xfrm>
            <a:custGeom>
              <a:avLst/>
              <a:gdLst/>
              <a:ahLst/>
              <a:rect l="l" t="t" r="r" b="b"/>
              <a:pathLst>
                <a:path w="1344" h="1152">
                  <a:moveTo>
                    <a:pt x="71" y="1125"/>
                  </a:moveTo>
                  <a:lnTo>
                    <a:pt x="117" y="1132"/>
                  </a:lnTo>
                  <a:lnTo>
                    <a:pt x="161" y="1139"/>
                  </a:lnTo>
                  <a:lnTo>
                    <a:pt x="208" y="1145"/>
                  </a:lnTo>
                  <a:lnTo>
                    <a:pt x="251" y="1149"/>
                  </a:lnTo>
                  <a:lnTo>
                    <a:pt x="294" y="1149"/>
                  </a:lnTo>
                  <a:lnTo>
                    <a:pt x="338" y="1152"/>
                  </a:lnTo>
                  <a:lnTo>
                    <a:pt x="381" y="1152"/>
                  </a:lnTo>
                  <a:lnTo>
                    <a:pt x="421" y="1149"/>
                  </a:lnTo>
                  <a:lnTo>
                    <a:pt x="462" y="1149"/>
                  </a:lnTo>
                  <a:lnTo>
                    <a:pt x="498" y="1145"/>
                  </a:lnTo>
                  <a:lnTo>
                    <a:pt x="535" y="1142"/>
                  </a:lnTo>
                  <a:lnTo>
                    <a:pt x="568" y="1139"/>
                  </a:lnTo>
                  <a:lnTo>
                    <a:pt x="598" y="1135"/>
                  </a:lnTo>
                  <a:lnTo>
                    <a:pt x="629" y="1132"/>
                  </a:lnTo>
                  <a:lnTo>
                    <a:pt x="652" y="1125"/>
                  </a:lnTo>
                  <a:lnTo>
                    <a:pt x="675" y="1122"/>
                  </a:lnTo>
                  <a:lnTo>
                    <a:pt x="719" y="1125"/>
                  </a:lnTo>
                  <a:lnTo>
                    <a:pt x="759" y="1129"/>
                  </a:lnTo>
                  <a:lnTo>
                    <a:pt x="796" y="1132"/>
                  </a:lnTo>
                  <a:lnTo>
                    <a:pt x="826" y="1135"/>
                  </a:lnTo>
                  <a:lnTo>
                    <a:pt x="849" y="1142"/>
                  </a:lnTo>
                  <a:lnTo>
                    <a:pt x="869" y="1142"/>
                  </a:lnTo>
                  <a:lnTo>
                    <a:pt x="886" y="1142"/>
                  </a:lnTo>
                  <a:lnTo>
                    <a:pt x="896" y="1142"/>
                  </a:lnTo>
                  <a:lnTo>
                    <a:pt x="919" y="1139"/>
                  </a:lnTo>
                  <a:lnTo>
                    <a:pt x="933" y="1135"/>
                  </a:lnTo>
                  <a:lnTo>
                    <a:pt x="943" y="1129"/>
                  </a:lnTo>
                  <a:lnTo>
                    <a:pt x="953" y="1129"/>
                  </a:lnTo>
                  <a:lnTo>
                    <a:pt x="953" y="1089"/>
                  </a:lnTo>
                  <a:lnTo>
                    <a:pt x="963" y="1048"/>
                  </a:lnTo>
                  <a:lnTo>
                    <a:pt x="983" y="1008"/>
                  </a:lnTo>
                  <a:lnTo>
                    <a:pt x="1016" y="968"/>
                  </a:lnTo>
                  <a:lnTo>
                    <a:pt x="1053" y="932"/>
                  </a:lnTo>
                  <a:lnTo>
                    <a:pt x="1080" y="905"/>
                  </a:lnTo>
                  <a:lnTo>
                    <a:pt x="1096" y="885"/>
                  </a:lnTo>
                  <a:lnTo>
                    <a:pt x="1110" y="872"/>
                  </a:lnTo>
                  <a:lnTo>
                    <a:pt x="1120" y="858"/>
                  </a:lnTo>
                  <a:lnTo>
                    <a:pt x="1123" y="841"/>
                  </a:lnTo>
                  <a:lnTo>
                    <a:pt x="1130" y="825"/>
                  </a:lnTo>
                  <a:lnTo>
                    <a:pt x="1136" y="801"/>
                  </a:lnTo>
                  <a:lnTo>
                    <a:pt x="1143" y="775"/>
                  </a:lnTo>
                  <a:lnTo>
                    <a:pt x="1150" y="745"/>
                  </a:lnTo>
                  <a:lnTo>
                    <a:pt x="1160" y="715"/>
                  </a:lnTo>
                  <a:lnTo>
                    <a:pt x="1170" y="685"/>
                  </a:lnTo>
                  <a:lnTo>
                    <a:pt x="1180" y="658"/>
                  </a:lnTo>
                  <a:lnTo>
                    <a:pt x="1197" y="631"/>
                  </a:lnTo>
                  <a:lnTo>
                    <a:pt x="1213" y="608"/>
                  </a:lnTo>
                  <a:lnTo>
                    <a:pt x="1237" y="588"/>
                  </a:lnTo>
                  <a:lnTo>
                    <a:pt x="1260" y="568"/>
                  </a:lnTo>
                  <a:lnTo>
                    <a:pt x="1280" y="548"/>
                  </a:lnTo>
                  <a:lnTo>
                    <a:pt x="1300" y="524"/>
                  </a:lnTo>
                  <a:lnTo>
                    <a:pt x="1317" y="501"/>
                  </a:lnTo>
                  <a:lnTo>
                    <a:pt x="1330" y="481"/>
                  </a:lnTo>
                  <a:lnTo>
                    <a:pt x="1340" y="457"/>
                  </a:lnTo>
                  <a:lnTo>
                    <a:pt x="1344" y="437"/>
                  </a:lnTo>
                  <a:lnTo>
                    <a:pt x="1340" y="417"/>
                  </a:lnTo>
                  <a:lnTo>
                    <a:pt x="1327" y="387"/>
                  </a:lnTo>
                  <a:lnTo>
                    <a:pt x="1317" y="367"/>
                  </a:lnTo>
                  <a:lnTo>
                    <a:pt x="1307" y="341"/>
                  </a:lnTo>
                  <a:lnTo>
                    <a:pt x="1307" y="294"/>
                  </a:lnTo>
                  <a:lnTo>
                    <a:pt x="1300" y="240"/>
                  </a:lnTo>
                  <a:lnTo>
                    <a:pt x="1283" y="194"/>
                  </a:lnTo>
                  <a:lnTo>
                    <a:pt x="1260" y="150"/>
                  </a:lnTo>
                  <a:lnTo>
                    <a:pt x="1243" y="114"/>
                  </a:lnTo>
                  <a:lnTo>
                    <a:pt x="1237" y="90"/>
                  </a:lnTo>
                  <a:lnTo>
                    <a:pt x="1237" y="67"/>
                  </a:lnTo>
                  <a:lnTo>
                    <a:pt x="1237" y="43"/>
                  </a:lnTo>
                  <a:lnTo>
                    <a:pt x="1240" y="23"/>
                  </a:lnTo>
                  <a:lnTo>
                    <a:pt x="1213" y="23"/>
                  </a:lnTo>
                  <a:lnTo>
                    <a:pt x="1187" y="20"/>
                  </a:lnTo>
                  <a:lnTo>
                    <a:pt x="1163" y="20"/>
                  </a:lnTo>
                  <a:lnTo>
                    <a:pt x="1140" y="17"/>
                  </a:lnTo>
                  <a:lnTo>
                    <a:pt x="1113" y="17"/>
                  </a:lnTo>
                  <a:lnTo>
                    <a:pt x="1090" y="17"/>
                  </a:lnTo>
                  <a:lnTo>
                    <a:pt x="1070" y="13"/>
                  </a:lnTo>
                  <a:lnTo>
                    <a:pt x="1046" y="13"/>
                  </a:lnTo>
                  <a:lnTo>
                    <a:pt x="1026" y="13"/>
                  </a:lnTo>
                  <a:lnTo>
                    <a:pt x="1006" y="10"/>
                  </a:lnTo>
                  <a:lnTo>
                    <a:pt x="986" y="10"/>
                  </a:lnTo>
                  <a:lnTo>
                    <a:pt x="969" y="7"/>
                  </a:lnTo>
                  <a:lnTo>
                    <a:pt x="949" y="7"/>
                  </a:lnTo>
                  <a:lnTo>
                    <a:pt x="933" y="7"/>
                  </a:lnTo>
                  <a:lnTo>
                    <a:pt x="916" y="3"/>
                  </a:lnTo>
                  <a:lnTo>
                    <a:pt x="899" y="3"/>
                  </a:lnTo>
                  <a:lnTo>
                    <a:pt x="866" y="3"/>
                  </a:lnTo>
                  <a:lnTo>
                    <a:pt x="836" y="0"/>
                  </a:lnTo>
                  <a:lnTo>
                    <a:pt x="806" y="0"/>
                  </a:lnTo>
                  <a:lnTo>
                    <a:pt x="779" y="0"/>
                  </a:lnTo>
                  <a:lnTo>
                    <a:pt x="756" y="0"/>
                  </a:lnTo>
                  <a:lnTo>
                    <a:pt x="729" y="0"/>
                  </a:lnTo>
                  <a:lnTo>
                    <a:pt x="709" y="0"/>
                  </a:lnTo>
                  <a:lnTo>
                    <a:pt x="685" y="0"/>
                  </a:lnTo>
                  <a:lnTo>
                    <a:pt x="652" y="0"/>
                  </a:lnTo>
                  <a:lnTo>
                    <a:pt x="625" y="0"/>
                  </a:lnTo>
                  <a:lnTo>
                    <a:pt x="598" y="0"/>
                  </a:lnTo>
                  <a:lnTo>
                    <a:pt x="578" y="0"/>
                  </a:lnTo>
                  <a:lnTo>
                    <a:pt x="558" y="0"/>
                  </a:lnTo>
                  <a:lnTo>
                    <a:pt x="542" y="0"/>
                  </a:lnTo>
                  <a:lnTo>
                    <a:pt x="528" y="0"/>
                  </a:lnTo>
                  <a:lnTo>
                    <a:pt x="515" y="0"/>
                  </a:lnTo>
                  <a:lnTo>
                    <a:pt x="512" y="0"/>
                  </a:lnTo>
                  <a:lnTo>
                    <a:pt x="512" y="0"/>
                  </a:lnTo>
                  <a:lnTo>
                    <a:pt x="508" y="0"/>
                  </a:lnTo>
                  <a:lnTo>
                    <a:pt x="505" y="0"/>
                  </a:lnTo>
                  <a:lnTo>
                    <a:pt x="472" y="0"/>
                  </a:lnTo>
                  <a:lnTo>
                    <a:pt x="448" y="0"/>
                  </a:lnTo>
                  <a:lnTo>
                    <a:pt x="431" y="0"/>
                  </a:lnTo>
                  <a:lnTo>
                    <a:pt x="421" y="0"/>
                  </a:lnTo>
                  <a:lnTo>
                    <a:pt x="408" y="0"/>
                  </a:lnTo>
                  <a:lnTo>
                    <a:pt x="398" y="3"/>
                  </a:lnTo>
                  <a:lnTo>
                    <a:pt x="381" y="3"/>
                  </a:lnTo>
                  <a:lnTo>
                    <a:pt x="358" y="10"/>
                  </a:lnTo>
                  <a:lnTo>
                    <a:pt x="338" y="13"/>
                  </a:lnTo>
                  <a:lnTo>
                    <a:pt x="311" y="20"/>
                  </a:lnTo>
                  <a:lnTo>
                    <a:pt x="281" y="27"/>
                  </a:lnTo>
                  <a:lnTo>
                    <a:pt x="248" y="33"/>
                  </a:lnTo>
                  <a:lnTo>
                    <a:pt x="214" y="40"/>
                  </a:lnTo>
                  <a:lnTo>
                    <a:pt x="184" y="47"/>
                  </a:lnTo>
                  <a:lnTo>
                    <a:pt x="161" y="53"/>
                  </a:lnTo>
                  <a:lnTo>
                    <a:pt x="144" y="57"/>
                  </a:lnTo>
                  <a:lnTo>
                    <a:pt x="117" y="67"/>
                  </a:lnTo>
                  <a:lnTo>
                    <a:pt x="91" y="73"/>
                  </a:lnTo>
                  <a:lnTo>
                    <a:pt x="71" y="80"/>
                  </a:lnTo>
                  <a:lnTo>
                    <a:pt x="51" y="87"/>
                  </a:lnTo>
                  <a:lnTo>
                    <a:pt x="37" y="93"/>
                  </a:lnTo>
                  <a:lnTo>
                    <a:pt x="24" y="97"/>
                  </a:lnTo>
                  <a:lnTo>
                    <a:pt x="14" y="100"/>
                  </a:lnTo>
                  <a:lnTo>
                    <a:pt x="7" y="104"/>
                  </a:lnTo>
                  <a:lnTo>
                    <a:pt x="4" y="107"/>
                  </a:lnTo>
                  <a:lnTo>
                    <a:pt x="4" y="107"/>
                  </a:lnTo>
                  <a:lnTo>
                    <a:pt x="4" y="107"/>
                  </a:lnTo>
                  <a:lnTo>
                    <a:pt x="0" y="107"/>
                  </a:lnTo>
                  <a:lnTo>
                    <a:pt x="21" y="150"/>
                  </a:lnTo>
                  <a:lnTo>
                    <a:pt x="27" y="184"/>
                  </a:lnTo>
                  <a:lnTo>
                    <a:pt x="31" y="214"/>
                  </a:lnTo>
                  <a:lnTo>
                    <a:pt x="37" y="237"/>
                  </a:lnTo>
                  <a:lnTo>
                    <a:pt x="57" y="257"/>
                  </a:lnTo>
                  <a:lnTo>
                    <a:pt x="81" y="270"/>
                  </a:lnTo>
                  <a:lnTo>
                    <a:pt x="97" y="284"/>
                  </a:lnTo>
                  <a:lnTo>
                    <a:pt x="104" y="287"/>
                  </a:lnTo>
                  <a:lnTo>
                    <a:pt x="81" y="301"/>
                  </a:lnTo>
                  <a:lnTo>
                    <a:pt x="131" y="361"/>
                  </a:lnTo>
                  <a:lnTo>
                    <a:pt x="117" y="354"/>
                  </a:lnTo>
                  <a:lnTo>
                    <a:pt x="94" y="344"/>
                  </a:lnTo>
                  <a:lnTo>
                    <a:pt x="84" y="347"/>
                  </a:lnTo>
                  <a:lnTo>
                    <a:pt x="104" y="381"/>
                  </a:lnTo>
                  <a:lnTo>
                    <a:pt x="134" y="427"/>
                  </a:lnTo>
                  <a:lnTo>
                    <a:pt x="147" y="457"/>
                  </a:lnTo>
                  <a:lnTo>
                    <a:pt x="147" y="474"/>
                  </a:lnTo>
                  <a:lnTo>
                    <a:pt x="147" y="477"/>
                  </a:lnTo>
                  <a:lnTo>
                    <a:pt x="141" y="471"/>
                  </a:lnTo>
                  <a:lnTo>
                    <a:pt x="127" y="457"/>
                  </a:lnTo>
                  <a:lnTo>
                    <a:pt x="121" y="457"/>
                  </a:lnTo>
                  <a:lnTo>
                    <a:pt x="124" y="491"/>
                  </a:lnTo>
                  <a:lnTo>
                    <a:pt x="147" y="538"/>
                  </a:lnTo>
                  <a:lnTo>
                    <a:pt x="171" y="571"/>
                  </a:lnTo>
                  <a:lnTo>
                    <a:pt x="184" y="604"/>
                  </a:lnTo>
                  <a:lnTo>
                    <a:pt x="178" y="644"/>
                  </a:lnTo>
                  <a:lnTo>
                    <a:pt x="161" y="695"/>
                  </a:lnTo>
                  <a:lnTo>
                    <a:pt x="157" y="748"/>
                  </a:lnTo>
                  <a:lnTo>
                    <a:pt x="168" y="805"/>
                  </a:lnTo>
                  <a:lnTo>
                    <a:pt x="191" y="855"/>
                  </a:lnTo>
                  <a:lnTo>
                    <a:pt x="218" y="888"/>
                  </a:lnTo>
                  <a:lnTo>
                    <a:pt x="234" y="902"/>
                  </a:lnTo>
                  <a:lnTo>
                    <a:pt x="244" y="902"/>
                  </a:lnTo>
                  <a:lnTo>
                    <a:pt x="248" y="898"/>
                  </a:lnTo>
                  <a:lnTo>
                    <a:pt x="241" y="918"/>
                  </a:lnTo>
                  <a:lnTo>
                    <a:pt x="221" y="952"/>
                  </a:lnTo>
                  <a:lnTo>
                    <a:pt x="201" y="985"/>
                  </a:lnTo>
                  <a:lnTo>
                    <a:pt x="194" y="1005"/>
                  </a:lnTo>
                  <a:lnTo>
                    <a:pt x="191" y="1032"/>
                  </a:lnTo>
                  <a:lnTo>
                    <a:pt x="181" y="1055"/>
                  </a:lnTo>
                  <a:lnTo>
                    <a:pt x="161" y="1072"/>
                  </a:lnTo>
                  <a:lnTo>
                    <a:pt x="141" y="1085"/>
                  </a:lnTo>
                  <a:lnTo>
                    <a:pt x="117" y="1099"/>
                  </a:lnTo>
                  <a:lnTo>
                    <a:pt x="101" y="1105"/>
                  </a:lnTo>
                  <a:lnTo>
                    <a:pt x="87" y="1109"/>
                  </a:lnTo>
                  <a:lnTo>
                    <a:pt x="81" y="1109"/>
                  </a:lnTo>
                  <a:lnTo>
                    <a:pt x="77" y="1112"/>
                  </a:lnTo>
                  <a:lnTo>
                    <a:pt x="77" y="1115"/>
                  </a:lnTo>
                  <a:lnTo>
                    <a:pt x="74" y="1122"/>
                  </a:lnTo>
                  <a:lnTo>
                    <a:pt x="71" y="1125"/>
                  </a:lnTo>
                  <a:close/>
                </a:path>
              </a:pathLst>
            </a:cu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60680" y="5264280"/>
              <a:ext cx="646200" cy="950760"/>
            </a:xfrm>
            <a:custGeom>
              <a:avLst/>
              <a:gdLst/>
              <a:ahLst/>
              <a:rect l="l" t="t" r="r" b="b"/>
              <a:pathLst>
                <a:path w="448" h="692">
                  <a:moveTo>
                    <a:pt x="134" y="0"/>
                  </a:moveTo>
                  <a:lnTo>
                    <a:pt x="134" y="27"/>
                  </a:lnTo>
                  <a:lnTo>
                    <a:pt x="140" y="51"/>
                  </a:lnTo>
                  <a:lnTo>
                    <a:pt x="150" y="77"/>
                  </a:lnTo>
                  <a:lnTo>
                    <a:pt x="170" y="111"/>
                  </a:lnTo>
                  <a:lnTo>
                    <a:pt x="197" y="147"/>
                  </a:lnTo>
                  <a:lnTo>
                    <a:pt x="240" y="194"/>
                  </a:lnTo>
                  <a:lnTo>
                    <a:pt x="294" y="254"/>
                  </a:lnTo>
                  <a:lnTo>
                    <a:pt x="367" y="324"/>
                  </a:lnTo>
                  <a:lnTo>
                    <a:pt x="371" y="354"/>
                  </a:lnTo>
                  <a:lnTo>
                    <a:pt x="367" y="384"/>
                  </a:lnTo>
                  <a:lnTo>
                    <a:pt x="354" y="418"/>
                  </a:lnTo>
                  <a:lnTo>
                    <a:pt x="334" y="451"/>
                  </a:lnTo>
                  <a:lnTo>
                    <a:pt x="307" y="485"/>
                  </a:lnTo>
                  <a:lnTo>
                    <a:pt x="271" y="518"/>
                  </a:lnTo>
                  <a:lnTo>
                    <a:pt x="230" y="548"/>
                  </a:lnTo>
                  <a:lnTo>
                    <a:pt x="180" y="571"/>
                  </a:lnTo>
                  <a:lnTo>
                    <a:pt x="150" y="571"/>
                  </a:lnTo>
                  <a:lnTo>
                    <a:pt x="117" y="571"/>
                  </a:lnTo>
                  <a:lnTo>
                    <a:pt x="87" y="571"/>
                  </a:lnTo>
                  <a:lnTo>
                    <a:pt x="60" y="575"/>
                  </a:lnTo>
                  <a:lnTo>
                    <a:pt x="33" y="578"/>
                  </a:lnTo>
                  <a:lnTo>
                    <a:pt x="17" y="585"/>
                  </a:lnTo>
                  <a:lnTo>
                    <a:pt x="3" y="595"/>
                  </a:lnTo>
                  <a:lnTo>
                    <a:pt x="0" y="608"/>
                  </a:lnTo>
                  <a:lnTo>
                    <a:pt x="3" y="635"/>
                  </a:lnTo>
                  <a:lnTo>
                    <a:pt x="10" y="658"/>
                  </a:lnTo>
                  <a:lnTo>
                    <a:pt x="27" y="678"/>
                  </a:lnTo>
                  <a:lnTo>
                    <a:pt x="50" y="692"/>
                  </a:lnTo>
                  <a:lnTo>
                    <a:pt x="47" y="665"/>
                  </a:lnTo>
                  <a:lnTo>
                    <a:pt x="47" y="635"/>
                  </a:lnTo>
                  <a:lnTo>
                    <a:pt x="53" y="612"/>
                  </a:lnTo>
                  <a:lnTo>
                    <a:pt x="77" y="591"/>
                  </a:lnTo>
                  <a:lnTo>
                    <a:pt x="67" y="615"/>
                  </a:lnTo>
                  <a:lnTo>
                    <a:pt x="63" y="635"/>
                  </a:lnTo>
                  <a:lnTo>
                    <a:pt x="60" y="655"/>
                  </a:lnTo>
                  <a:lnTo>
                    <a:pt x="60" y="668"/>
                  </a:lnTo>
                  <a:lnTo>
                    <a:pt x="90" y="648"/>
                  </a:lnTo>
                  <a:lnTo>
                    <a:pt x="120" y="632"/>
                  </a:lnTo>
                  <a:lnTo>
                    <a:pt x="150" y="625"/>
                  </a:lnTo>
                  <a:lnTo>
                    <a:pt x="184" y="618"/>
                  </a:lnTo>
                  <a:lnTo>
                    <a:pt x="214" y="612"/>
                  </a:lnTo>
                  <a:lnTo>
                    <a:pt x="244" y="608"/>
                  </a:lnTo>
                  <a:lnTo>
                    <a:pt x="271" y="601"/>
                  </a:lnTo>
                  <a:lnTo>
                    <a:pt x="294" y="591"/>
                  </a:lnTo>
                  <a:lnTo>
                    <a:pt x="321" y="571"/>
                  </a:lnTo>
                  <a:lnTo>
                    <a:pt x="347" y="545"/>
                  </a:lnTo>
                  <a:lnTo>
                    <a:pt x="371" y="508"/>
                  </a:lnTo>
                  <a:lnTo>
                    <a:pt x="398" y="471"/>
                  </a:lnTo>
                  <a:lnTo>
                    <a:pt x="418" y="438"/>
                  </a:lnTo>
                  <a:lnTo>
                    <a:pt x="434" y="408"/>
                  </a:lnTo>
                  <a:lnTo>
                    <a:pt x="444" y="388"/>
                  </a:lnTo>
                  <a:lnTo>
                    <a:pt x="448" y="381"/>
                  </a:lnTo>
                  <a:lnTo>
                    <a:pt x="408" y="338"/>
                  </a:lnTo>
                  <a:lnTo>
                    <a:pt x="361" y="288"/>
                  </a:lnTo>
                  <a:lnTo>
                    <a:pt x="311" y="238"/>
                  </a:lnTo>
                  <a:lnTo>
                    <a:pt x="267" y="187"/>
                  </a:lnTo>
                  <a:lnTo>
                    <a:pt x="224" y="137"/>
                  </a:lnTo>
                  <a:lnTo>
                    <a:pt x="194" y="91"/>
                  </a:lnTo>
                  <a:lnTo>
                    <a:pt x="174" y="47"/>
                  </a:lnTo>
                  <a:lnTo>
                    <a:pt x="167" y="10"/>
                  </a:lnTo>
                  <a:lnTo>
                    <a:pt x="154" y="7"/>
                  </a:lnTo>
                  <a:lnTo>
                    <a:pt x="144" y="4"/>
                  </a:lnTo>
                  <a:lnTo>
                    <a:pt x="137" y="0"/>
                  </a:lnTo>
                  <a:lnTo>
                    <a:pt x="134" y="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99800" y="5531040"/>
              <a:ext cx="424440" cy="633240"/>
            </a:xfrm>
            <a:custGeom>
              <a:avLst/>
              <a:gdLst/>
              <a:ahLst/>
              <a:rect l="l" t="t" r="r" b="b"/>
              <a:pathLst>
                <a:path w="294" h="461">
                  <a:moveTo>
                    <a:pt x="86" y="244"/>
                  </a:moveTo>
                  <a:lnTo>
                    <a:pt x="60" y="287"/>
                  </a:lnTo>
                  <a:lnTo>
                    <a:pt x="30" y="331"/>
                  </a:lnTo>
                  <a:lnTo>
                    <a:pt x="6" y="371"/>
                  </a:lnTo>
                  <a:lnTo>
                    <a:pt x="0" y="401"/>
                  </a:lnTo>
                  <a:lnTo>
                    <a:pt x="3" y="418"/>
                  </a:lnTo>
                  <a:lnTo>
                    <a:pt x="6" y="428"/>
                  </a:lnTo>
                  <a:lnTo>
                    <a:pt x="13" y="438"/>
                  </a:lnTo>
                  <a:lnTo>
                    <a:pt x="23" y="444"/>
                  </a:lnTo>
                  <a:lnTo>
                    <a:pt x="20" y="421"/>
                  </a:lnTo>
                  <a:lnTo>
                    <a:pt x="20" y="404"/>
                  </a:lnTo>
                  <a:lnTo>
                    <a:pt x="30" y="391"/>
                  </a:lnTo>
                  <a:lnTo>
                    <a:pt x="53" y="374"/>
                  </a:lnTo>
                  <a:lnTo>
                    <a:pt x="40" y="404"/>
                  </a:lnTo>
                  <a:lnTo>
                    <a:pt x="40" y="428"/>
                  </a:lnTo>
                  <a:lnTo>
                    <a:pt x="40" y="444"/>
                  </a:lnTo>
                  <a:lnTo>
                    <a:pt x="43" y="451"/>
                  </a:lnTo>
                  <a:lnTo>
                    <a:pt x="50" y="454"/>
                  </a:lnTo>
                  <a:lnTo>
                    <a:pt x="60" y="458"/>
                  </a:lnTo>
                  <a:lnTo>
                    <a:pt x="70" y="461"/>
                  </a:lnTo>
                  <a:lnTo>
                    <a:pt x="86" y="458"/>
                  </a:lnTo>
                  <a:lnTo>
                    <a:pt x="93" y="458"/>
                  </a:lnTo>
                  <a:lnTo>
                    <a:pt x="97" y="458"/>
                  </a:lnTo>
                  <a:lnTo>
                    <a:pt x="103" y="458"/>
                  </a:lnTo>
                  <a:lnTo>
                    <a:pt x="107" y="458"/>
                  </a:lnTo>
                  <a:lnTo>
                    <a:pt x="103" y="434"/>
                  </a:lnTo>
                  <a:lnTo>
                    <a:pt x="103" y="414"/>
                  </a:lnTo>
                  <a:lnTo>
                    <a:pt x="113" y="397"/>
                  </a:lnTo>
                  <a:lnTo>
                    <a:pt x="137" y="381"/>
                  </a:lnTo>
                  <a:lnTo>
                    <a:pt x="123" y="411"/>
                  </a:lnTo>
                  <a:lnTo>
                    <a:pt x="123" y="434"/>
                  </a:lnTo>
                  <a:lnTo>
                    <a:pt x="127" y="451"/>
                  </a:lnTo>
                  <a:lnTo>
                    <a:pt x="130" y="458"/>
                  </a:lnTo>
                  <a:lnTo>
                    <a:pt x="153" y="454"/>
                  </a:lnTo>
                  <a:lnTo>
                    <a:pt x="170" y="454"/>
                  </a:lnTo>
                  <a:lnTo>
                    <a:pt x="187" y="451"/>
                  </a:lnTo>
                  <a:lnTo>
                    <a:pt x="203" y="451"/>
                  </a:lnTo>
                  <a:lnTo>
                    <a:pt x="213" y="448"/>
                  </a:lnTo>
                  <a:lnTo>
                    <a:pt x="223" y="444"/>
                  </a:lnTo>
                  <a:lnTo>
                    <a:pt x="233" y="441"/>
                  </a:lnTo>
                  <a:lnTo>
                    <a:pt x="244" y="434"/>
                  </a:lnTo>
                  <a:lnTo>
                    <a:pt x="264" y="401"/>
                  </a:lnTo>
                  <a:lnTo>
                    <a:pt x="284" y="344"/>
                  </a:lnTo>
                  <a:lnTo>
                    <a:pt x="294" y="277"/>
                  </a:lnTo>
                  <a:lnTo>
                    <a:pt x="290" y="214"/>
                  </a:lnTo>
                  <a:lnTo>
                    <a:pt x="280" y="164"/>
                  </a:lnTo>
                  <a:lnTo>
                    <a:pt x="270" y="107"/>
                  </a:lnTo>
                  <a:lnTo>
                    <a:pt x="260" y="50"/>
                  </a:lnTo>
                  <a:lnTo>
                    <a:pt x="247" y="0"/>
                  </a:lnTo>
                  <a:lnTo>
                    <a:pt x="233" y="40"/>
                  </a:lnTo>
                  <a:lnTo>
                    <a:pt x="217" y="70"/>
                  </a:lnTo>
                  <a:lnTo>
                    <a:pt x="203" y="94"/>
                  </a:lnTo>
                  <a:lnTo>
                    <a:pt x="190" y="117"/>
                  </a:lnTo>
                  <a:lnTo>
                    <a:pt x="177" y="134"/>
                  </a:lnTo>
                  <a:lnTo>
                    <a:pt x="163" y="147"/>
                  </a:lnTo>
                  <a:lnTo>
                    <a:pt x="153" y="160"/>
                  </a:lnTo>
                  <a:lnTo>
                    <a:pt x="143" y="174"/>
                  </a:lnTo>
                  <a:lnTo>
                    <a:pt x="130" y="194"/>
                  </a:lnTo>
                  <a:lnTo>
                    <a:pt x="113" y="210"/>
                  </a:lnTo>
                  <a:lnTo>
                    <a:pt x="100" y="227"/>
                  </a:lnTo>
                  <a:lnTo>
                    <a:pt x="86" y="244"/>
                  </a:lnTo>
                  <a:close/>
                </a:path>
              </a:pathLst>
            </a:custGeom>
            <a:gradFill rotWithShape="0">
              <a:gsLst>
                <a:gs pos="0">
                  <a:srgbClr val="5e2f00"/>
                </a:gs>
                <a:gs pos="50000">
                  <a:srgbClr val="cc6600"/>
                </a:gs>
                <a:gs pos="100000">
                  <a:srgbClr val="5e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58800" y="4022280"/>
              <a:ext cx="273960" cy="178200"/>
            </a:xfrm>
            <a:custGeom>
              <a:avLst/>
              <a:gdLst/>
              <a:ahLst/>
              <a:rect l="l" t="t" r="r" b="b"/>
              <a:pathLst>
                <a:path w="190" h="130">
                  <a:moveTo>
                    <a:pt x="190" y="80"/>
                  </a:moveTo>
                  <a:lnTo>
                    <a:pt x="167" y="46"/>
                  </a:lnTo>
                  <a:lnTo>
                    <a:pt x="150" y="23"/>
                  </a:lnTo>
                  <a:lnTo>
                    <a:pt x="133" y="10"/>
                  </a:lnTo>
                  <a:lnTo>
                    <a:pt x="113" y="3"/>
                  </a:lnTo>
                  <a:lnTo>
                    <a:pt x="83" y="0"/>
                  </a:lnTo>
                  <a:lnTo>
                    <a:pt x="60" y="3"/>
                  </a:lnTo>
                  <a:lnTo>
                    <a:pt x="40" y="10"/>
                  </a:lnTo>
                  <a:lnTo>
                    <a:pt x="27" y="20"/>
                  </a:lnTo>
                  <a:lnTo>
                    <a:pt x="13" y="30"/>
                  </a:lnTo>
                  <a:lnTo>
                    <a:pt x="7" y="40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17" y="80"/>
                  </a:lnTo>
                  <a:lnTo>
                    <a:pt x="33" y="100"/>
                  </a:lnTo>
                  <a:lnTo>
                    <a:pt x="50" y="116"/>
                  </a:lnTo>
                  <a:lnTo>
                    <a:pt x="73" y="126"/>
                  </a:lnTo>
                  <a:lnTo>
                    <a:pt x="97" y="130"/>
                  </a:lnTo>
                  <a:lnTo>
                    <a:pt x="117" y="126"/>
                  </a:lnTo>
                  <a:lnTo>
                    <a:pt x="137" y="120"/>
                  </a:lnTo>
                  <a:lnTo>
                    <a:pt x="154" y="110"/>
                  </a:lnTo>
                  <a:lnTo>
                    <a:pt x="170" y="100"/>
                  </a:lnTo>
                  <a:lnTo>
                    <a:pt x="180" y="90"/>
                  </a:lnTo>
                  <a:lnTo>
                    <a:pt x="187" y="83"/>
                  </a:lnTo>
                  <a:lnTo>
                    <a:pt x="19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08880" y="3971520"/>
              <a:ext cx="263880" cy="182520"/>
            </a:xfrm>
            <a:custGeom>
              <a:avLst/>
              <a:gdLst/>
              <a:ahLst/>
              <a:rect l="l" t="t" r="r" b="b"/>
              <a:pathLst>
                <a:path w="183" h="133">
                  <a:moveTo>
                    <a:pt x="0" y="100"/>
                  </a:moveTo>
                  <a:lnTo>
                    <a:pt x="16" y="63"/>
                  </a:lnTo>
                  <a:lnTo>
                    <a:pt x="30" y="37"/>
                  </a:lnTo>
                  <a:lnTo>
                    <a:pt x="46" y="20"/>
                  </a:lnTo>
                  <a:lnTo>
                    <a:pt x="63" y="10"/>
                  </a:lnTo>
                  <a:lnTo>
                    <a:pt x="90" y="3"/>
                  </a:lnTo>
                  <a:lnTo>
                    <a:pt x="117" y="0"/>
                  </a:lnTo>
                  <a:lnTo>
                    <a:pt x="137" y="6"/>
                  </a:lnTo>
                  <a:lnTo>
                    <a:pt x="153" y="13"/>
                  </a:lnTo>
                  <a:lnTo>
                    <a:pt x="167" y="20"/>
                  </a:lnTo>
                  <a:lnTo>
                    <a:pt x="177" y="26"/>
                  </a:lnTo>
                  <a:lnTo>
                    <a:pt x="180" y="33"/>
                  </a:lnTo>
                  <a:lnTo>
                    <a:pt x="183" y="37"/>
                  </a:lnTo>
                  <a:lnTo>
                    <a:pt x="173" y="67"/>
                  </a:lnTo>
                  <a:lnTo>
                    <a:pt x="160" y="93"/>
                  </a:lnTo>
                  <a:lnTo>
                    <a:pt x="143" y="110"/>
                  </a:lnTo>
                  <a:lnTo>
                    <a:pt x="123" y="123"/>
                  </a:lnTo>
                  <a:lnTo>
                    <a:pt x="103" y="130"/>
                  </a:lnTo>
                  <a:lnTo>
                    <a:pt x="80" y="133"/>
                  </a:lnTo>
                  <a:lnTo>
                    <a:pt x="60" y="130"/>
                  </a:lnTo>
                  <a:lnTo>
                    <a:pt x="40" y="123"/>
                  </a:lnTo>
                  <a:lnTo>
                    <a:pt x="23" y="117"/>
                  </a:lnTo>
                  <a:lnTo>
                    <a:pt x="10" y="107"/>
                  </a:lnTo>
                  <a:lnTo>
                    <a:pt x="3" y="103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1920" y="4043880"/>
              <a:ext cx="212040" cy="133200"/>
            </a:xfrm>
            <a:custGeom>
              <a:avLst/>
              <a:gdLst/>
              <a:ahLst/>
              <a:rect l="l" t="t" r="r" b="b"/>
              <a:pathLst>
                <a:path w="147" h="97">
                  <a:moveTo>
                    <a:pt x="0" y="30"/>
                  </a:moveTo>
                  <a:lnTo>
                    <a:pt x="20" y="14"/>
                  </a:lnTo>
                  <a:lnTo>
                    <a:pt x="40" y="4"/>
                  </a:lnTo>
                  <a:lnTo>
                    <a:pt x="60" y="0"/>
                  </a:lnTo>
                  <a:lnTo>
                    <a:pt x="80" y="0"/>
                  </a:lnTo>
                  <a:lnTo>
                    <a:pt x="110" y="10"/>
                  </a:lnTo>
                  <a:lnTo>
                    <a:pt x="131" y="30"/>
                  </a:lnTo>
                  <a:lnTo>
                    <a:pt x="144" y="47"/>
                  </a:lnTo>
                  <a:lnTo>
                    <a:pt x="147" y="57"/>
                  </a:lnTo>
                  <a:lnTo>
                    <a:pt x="127" y="77"/>
                  </a:lnTo>
                  <a:lnTo>
                    <a:pt x="107" y="90"/>
                  </a:lnTo>
                  <a:lnTo>
                    <a:pt x="90" y="97"/>
                  </a:lnTo>
                  <a:lnTo>
                    <a:pt x="70" y="97"/>
                  </a:lnTo>
                  <a:lnTo>
                    <a:pt x="27" y="84"/>
                  </a:lnTo>
                  <a:lnTo>
                    <a:pt x="7" y="60"/>
                  </a:lnTo>
                  <a:lnTo>
                    <a:pt x="0" y="4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37680" y="3993120"/>
              <a:ext cx="197640" cy="142920"/>
            </a:xfrm>
            <a:custGeom>
              <a:avLst/>
              <a:gdLst/>
              <a:ahLst/>
              <a:rect l="l" t="t" r="r" b="b"/>
              <a:pathLst>
                <a:path w="137" h="104">
                  <a:moveTo>
                    <a:pt x="137" y="21"/>
                  </a:moveTo>
                  <a:lnTo>
                    <a:pt x="117" y="7"/>
                  </a:lnTo>
                  <a:lnTo>
                    <a:pt x="97" y="0"/>
                  </a:lnTo>
                  <a:lnTo>
                    <a:pt x="77" y="0"/>
                  </a:lnTo>
                  <a:lnTo>
                    <a:pt x="57" y="4"/>
                  </a:lnTo>
                  <a:lnTo>
                    <a:pt x="26" y="21"/>
                  </a:lnTo>
                  <a:lnTo>
                    <a:pt x="10" y="44"/>
                  </a:lnTo>
                  <a:lnTo>
                    <a:pt x="3" y="64"/>
                  </a:lnTo>
                  <a:lnTo>
                    <a:pt x="0" y="74"/>
                  </a:lnTo>
                  <a:lnTo>
                    <a:pt x="23" y="91"/>
                  </a:lnTo>
                  <a:lnTo>
                    <a:pt x="47" y="101"/>
                  </a:lnTo>
                  <a:lnTo>
                    <a:pt x="63" y="104"/>
                  </a:lnTo>
                  <a:lnTo>
                    <a:pt x="83" y="101"/>
                  </a:lnTo>
                  <a:lnTo>
                    <a:pt x="120" y="77"/>
                  </a:lnTo>
                  <a:lnTo>
                    <a:pt x="137" y="51"/>
                  </a:lnTo>
                  <a:lnTo>
                    <a:pt x="137" y="31"/>
                  </a:lnTo>
                  <a:lnTo>
                    <a:pt x="137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30800" y="4026240"/>
              <a:ext cx="150120" cy="127440"/>
            </a:xfrm>
            <a:custGeom>
              <a:avLst/>
              <a:gdLst/>
              <a:ahLst/>
              <a:rect l="l" t="t" r="r" b="b"/>
              <a:pathLst>
                <a:path w="104" h="93">
                  <a:moveTo>
                    <a:pt x="50" y="93"/>
                  </a:moveTo>
                  <a:lnTo>
                    <a:pt x="70" y="90"/>
                  </a:lnTo>
                  <a:lnTo>
                    <a:pt x="87" y="80"/>
                  </a:lnTo>
                  <a:lnTo>
                    <a:pt x="100" y="67"/>
                  </a:lnTo>
                  <a:lnTo>
                    <a:pt x="104" y="47"/>
                  </a:lnTo>
                  <a:lnTo>
                    <a:pt x="100" y="30"/>
                  </a:lnTo>
                  <a:lnTo>
                    <a:pt x="87" y="13"/>
                  </a:lnTo>
                  <a:lnTo>
                    <a:pt x="70" y="3"/>
                  </a:lnTo>
                  <a:lnTo>
                    <a:pt x="50" y="0"/>
                  </a:lnTo>
                  <a:lnTo>
                    <a:pt x="30" y="3"/>
                  </a:lnTo>
                  <a:lnTo>
                    <a:pt x="17" y="13"/>
                  </a:lnTo>
                  <a:lnTo>
                    <a:pt x="3" y="30"/>
                  </a:lnTo>
                  <a:lnTo>
                    <a:pt x="0" y="47"/>
                  </a:lnTo>
                  <a:lnTo>
                    <a:pt x="3" y="67"/>
                  </a:lnTo>
                  <a:lnTo>
                    <a:pt x="17" y="80"/>
                  </a:lnTo>
                  <a:lnTo>
                    <a:pt x="30" y="90"/>
                  </a:lnTo>
                  <a:lnTo>
                    <a:pt x="5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56400" y="3985200"/>
              <a:ext cx="144360" cy="12348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57" y="90"/>
                  </a:moveTo>
                  <a:lnTo>
                    <a:pt x="37" y="90"/>
                  </a:lnTo>
                  <a:lnTo>
                    <a:pt x="20" y="83"/>
                  </a:lnTo>
                  <a:lnTo>
                    <a:pt x="7" y="70"/>
                  </a:lnTo>
                  <a:lnTo>
                    <a:pt x="0" y="53"/>
                  </a:lnTo>
                  <a:lnTo>
                    <a:pt x="0" y="37"/>
                  </a:lnTo>
                  <a:lnTo>
                    <a:pt x="10" y="20"/>
                  </a:lnTo>
                  <a:lnTo>
                    <a:pt x="23" y="6"/>
                  </a:lnTo>
                  <a:lnTo>
                    <a:pt x="44" y="0"/>
                  </a:lnTo>
                  <a:lnTo>
                    <a:pt x="64" y="0"/>
                  </a:lnTo>
                  <a:lnTo>
                    <a:pt x="80" y="6"/>
                  </a:lnTo>
                  <a:lnTo>
                    <a:pt x="94" y="20"/>
                  </a:lnTo>
                  <a:lnTo>
                    <a:pt x="100" y="37"/>
                  </a:lnTo>
                  <a:lnTo>
                    <a:pt x="100" y="53"/>
                  </a:lnTo>
                  <a:lnTo>
                    <a:pt x="94" y="70"/>
                  </a:lnTo>
                  <a:lnTo>
                    <a:pt x="77" y="83"/>
                  </a:lnTo>
                  <a:lnTo>
                    <a:pt x="57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03160" y="4049640"/>
              <a:ext cx="47160" cy="453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7" y="33"/>
                  </a:moveTo>
                  <a:lnTo>
                    <a:pt x="23" y="33"/>
                  </a:lnTo>
                  <a:lnTo>
                    <a:pt x="30" y="30"/>
                  </a:lnTo>
                  <a:lnTo>
                    <a:pt x="33" y="23"/>
                  </a:lnTo>
                  <a:lnTo>
                    <a:pt x="33" y="16"/>
                  </a:lnTo>
                  <a:lnTo>
                    <a:pt x="33" y="10"/>
                  </a:lnTo>
                  <a:lnTo>
                    <a:pt x="30" y="3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3"/>
                  </a:lnTo>
                  <a:lnTo>
                    <a:pt x="3" y="10"/>
                  </a:lnTo>
                  <a:lnTo>
                    <a:pt x="0" y="16"/>
                  </a:lnTo>
                  <a:lnTo>
                    <a:pt x="3" y="23"/>
                  </a:lnTo>
                  <a:lnTo>
                    <a:pt x="7" y="30"/>
                  </a:lnTo>
                  <a:lnTo>
                    <a:pt x="10" y="33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80880" y="4012560"/>
              <a:ext cx="43200" cy="410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7" y="30"/>
                  </a:moveTo>
                  <a:lnTo>
                    <a:pt x="10" y="30"/>
                  </a:lnTo>
                  <a:lnTo>
                    <a:pt x="6" y="27"/>
                  </a:lnTo>
                  <a:lnTo>
                    <a:pt x="3" y="23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3" y="7"/>
                  </a:lnTo>
                  <a:lnTo>
                    <a:pt x="6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30" y="7"/>
                  </a:lnTo>
                  <a:lnTo>
                    <a:pt x="30" y="13"/>
                  </a:lnTo>
                  <a:lnTo>
                    <a:pt x="30" y="17"/>
                  </a:lnTo>
                  <a:lnTo>
                    <a:pt x="27" y="23"/>
                  </a:lnTo>
                  <a:lnTo>
                    <a:pt x="23" y="27"/>
                  </a:lnTo>
                  <a:lnTo>
                    <a:pt x="1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15200" y="4310640"/>
              <a:ext cx="173160" cy="15084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37" y="80"/>
                  </a:moveTo>
                  <a:lnTo>
                    <a:pt x="47" y="90"/>
                  </a:lnTo>
                  <a:lnTo>
                    <a:pt x="57" y="100"/>
                  </a:lnTo>
                  <a:lnTo>
                    <a:pt x="60" y="110"/>
                  </a:lnTo>
                  <a:lnTo>
                    <a:pt x="64" y="107"/>
                  </a:lnTo>
                  <a:lnTo>
                    <a:pt x="84" y="83"/>
                  </a:lnTo>
                  <a:lnTo>
                    <a:pt x="107" y="57"/>
                  </a:lnTo>
                  <a:lnTo>
                    <a:pt x="120" y="37"/>
                  </a:lnTo>
                  <a:lnTo>
                    <a:pt x="114" y="17"/>
                  </a:lnTo>
                  <a:lnTo>
                    <a:pt x="104" y="10"/>
                  </a:lnTo>
                  <a:lnTo>
                    <a:pt x="90" y="3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43" y="0"/>
                  </a:lnTo>
                  <a:lnTo>
                    <a:pt x="30" y="7"/>
                  </a:lnTo>
                  <a:lnTo>
                    <a:pt x="13" y="17"/>
                  </a:lnTo>
                  <a:lnTo>
                    <a:pt x="0" y="30"/>
                  </a:lnTo>
                  <a:lnTo>
                    <a:pt x="3" y="47"/>
                  </a:lnTo>
                  <a:lnTo>
                    <a:pt x="17" y="63"/>
                  </a:lnTo>
                  <a:lnTo>
                    <a:pt x="30" y="77"/>
                  </a:lnTo>
                  <a:lnTo>
                    <a:pt x="37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06520" y="3319920"/>
              <a:ext cx="288720" cy="270720"/>
            </a:xfrm>
            <a:custGeom>
              <a:avLst/>
              <a:gdLst/>
              <a:ahLst/>
              <a:rect l="l" t="t" r="r" b="b"/>
              <a:pathLst>
                <a:path w="200" h="197">
                  <a:moveTo>
                    <a:pt x="200" y="0"/>
                  </a:moveTo>
                  <a:lnTo>
                    <a:pt x="170" y="26"/>
                  </a:lnTo>
                  <a:lnTo>
                    <a:pt x="147" y="46"/>
                  </a:lnTo>
                  <a:lnTo>
                    <a:pt x="133" y="63"/>
                  </a:lnTo>
                  <a:lnTo>
                    <a:pt x="123" y="80"/>
                  </a:lnTo>
                  <a:lnTo>
                    <a:pt x="113" y="93"/>
                  </a:lnTo>
                  <a:lnTo>
                    <a:pt x="107" y="106"/>
                  </a:lnTo>
                  <a:lnTo>
                    <a:pt x="103" y="120"/>
                  </a:lnTo>
                  <a:lnTo>
                    <a:pt x="93" y="133"/>
                  </a:lnTo>
                  <a:lnTo>
                    <a:pt x="66" y="160"/>
                  </a:lnTo>
                  <a:lnTo>
                    <a:pt x="36" y="180"/>
                  </a:lnTo>
                  <a:lnTo>
                    <a:pt x="10" y="193"/>
                  </a:lnTo>
                  <a:lnTo>
                    <a:pt x="0" y="197"/>
                  </a:lnTo>
                  <a:lnTo>
                    <a:pt x="30" y="190"/>
                  </a:lnTo>
                  <a:lnTo>
                    <a:pt x="53" y="180"/>
                  </a:lnTo>
                  <a:lnTo>
                    <a:pt x="73" y="170"/>
                  </a:lnTo>
                  <a:lnTo>
                    <a:pt x="90" y="157"/>
                  </a:lnTo>
                  <a:lnTo>
                    <a:pt x="103" y="143"/>
                  </a:lnTo>
                  <a:lnTo>
                    <a:pt x="117" y="127"/>
                  </a:lnTo>
                  <a:lnTo>
                    <a:pt x="127" y="106"/>
                  </a:lnTo>
                  <a:lnTo>
                    <a:pt x="140" y="86"/>
                  </a:lnTo>
                  <a:lnTo>
                    <a:pt x="167" y="50"/>
                  </a:lnTo>
                  <a:lnTo>
                    <a:pt x="187" y="23"/>
                  </a:lnTo>
                  <a:lnTo>
                    <a:pt x="197" y="6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15160" y="3576960"/>
              <a:ext cx="193320" cy="16884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7" y="70"/>
                  </a:moveTo>
                  <a:lnTo>
                    <a:pt x="20" y="56"/>
                  </a:lnTo>
                  <a:lnTo>
                    <a:pt x="34" y="43"/>
                  </a:lnTo>
                  <a:lnTo>
                    <a:pt x="47" y="33"/>
                  </a:lnTo>
                  <a:lnTo>
                    <a:pt x="60" y="23"/>
                  </a:lnTo>
                  <a:lnTo>
                    <a:pt x="77" y="13"/>
                  </a:lnTo>
                  <a:lnTo>
                    <a:pt x="94" y="6"/>
                  </a:lnTo>
                  <a:lnTo>
                    <a:pt x="114" y="0"/>
                  </a:lnTo>
                  <a:lnTo>
                    <a:pt x="134" y="0"/>
                  </a:lnTo>
                  <a:lnTo>
                    <a:pt x="107" y="6"/>
                  </a:lnTo>
                  <a:lnTo>
                    <a:pt x="84" y="16"/>
                  </a:lnTo>
                  <a:lnTo>
                    <a:pt x="67" y="26"/>
                  </a:lnTo>
                  <a:lnTo>
                    <a:pt x="50" y="36"/>
                  </a:lnTo>
                  <a:lnTo>
                    <a:pt x="40" y="46"/>
                  </a:lnTo>
                  <a:lnTo>
                    <a:pt x="34" y="56"/>
                  </a:lnTo>
                  <a:lnTo>
                    <a:pt x="27" y="60"/>
                  </a:lnTo>
                  <a:lnTo>
                    <a:pt x="27" y="63"/>
                  </a:lnTo>
                  <a:lnTo>
                    <a:pt x="67" y="46"/>
                  </a:lnTo>
                  <a:lnTo>
                    <a:pt x="97" y="43"/>
                  </a:lnTo>
                  <a:lnTo>
                    <a:pt x="117" y="46"/>
                  </a:lnTo>
                  <a:lnTo>
                    <a:pt x="124" y="50"/>
                  </a:lnTo>
                  <a:lnTo>
                    <a:pt x="101" y="53"/>
                  </a:lnTo>
                  <a:lnTo>
                    <a:pt x="77" y="56"/>
                  </a:lnTo>
                  <a:lnTo>
                    <a:pt x="57" y="63"/>
                  </a:lnTo>
                  <a:lnTo>
                    <a:pt x="44" y="70"/>
                  </a:lnTo>
                  <a:lnTo>
                    <a:pt x="30" y="76"/>
                  </a:lnTo>
                  <a:lnTo>
                    <a:pt x="17" y="86"/>
                  </a:lnTo>
                  <a:lnTo>
                    <a:pt x="10" y="100"/>
                  </a:lnTo>
                  <a:lnTo>
                    <a:pt x="4" y="113"/>
                  </a:lnTo>
                  <a:lnTo>
                    <a:pt x="0" y="123"/>
                  </a:lnTo>
                  <a:lnTo>
                    <a:pt x="0" y="106"/>
                  </a:lnTo>
                  <a:lnTo>
                    <a:pt x="4" y="83"/>
                  </a:lnTo>
                  <a:lnTo>
                    <a:pt x="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89520" y="4296960"/>
              <a:ext cx="376560" cy="58680"/>
            </a:xfrm>
            <a:custGeom>
              <a:avLst/>
              <a:gdLst/>
              <a:ahLst/>
              <a:rect l="l" t="t" r="r" b="b"/>
              <a:pathLst>
                <a:path w="261" h="43">
                  <a:moveTo>
                    <a:pt x="0" y="40"/>
                  </a:moveTo>
                  <a:lnTo>
                    <a:pt x="21" y="27"/>
                  </a:lnTo>
                  <a:lnTo>
                    <a:pt x="37" y="20"/>
                  </a:lnTo>
                  <a:lnTo>
                    <a:pt x="54" y="13"/>
                  </a:lnTo>
                  <a:lnTo>
                    <a:pt x="64" y="10"/>
                  </a:lnTo>
                  <a:lnTo>
                    <a:pt x="74" y="7"/>
                  </a:lnTo>
                  <a:lnTo>
                    <a:pt x="84" y="7"/>
                  </a:lnTo>
                  <a:lnTo>
                    <a:pt x="94" y="3"/>
                  </a:lnTo>
                  <a:lnTo>
                    <a:pt x="104" y="3"/>
                  </a:lnTo>
                  <a:lnTo>
                    <a:pt x="117" y="0"/>
                  </a:lnTo>
                  <a:lnTo>
                    <a:pt x="141" y="0"/>
                  </a:lnTo>
                  <a:lnTo>
                    <a:pt x="164" y="0"/>
                  </a:lnTo>
                  <a:lnTo>
                    <a:pt x="194" y="3"/>
                  </a:lnTo>
                  <a:lnTo>
                    <a:pt x="218" y="3"/>
                  </a:lnTo>
                  <a:lnTo>
                    <a:pt x="241" y="7"/>
                  </a:lnTo>
                  <a:lnTo>
                    <a:pt x="254" y="7"/>
                  </a:lnTo>
                  <a:lnTo>
                    <a:pt x="261" y="7"/>
                  </a:lnTo>
                  <a:lnTo>
                    <a:pt x="218" y="7"/>
                  </a:lnTo>
                  <a:lnTo>
                    <a:pt x="184" y="7"/>
                  </a:lnTo>
                  <a:lnTo>
                    <a:pt x="154" y="7"/>
                  </a:lnTo>
                  <a:lnTo>
                    <a:pt x="134" y="7"/>
                  </a:lnTo>
                  <a:lnTo>
                    <a:pt x="117" y="7"/>
                  </a:lnTo>
                  <a:lnTo>
                    <a:pt x="104" y="7"/>
                  </a:lnTo>
                  <a:lnTo>
                    <a:pt x="97" y="10"/>
                  </a:lnTo>
                  <a:lnTo>
                    <a:pt x="91" y="10"/>
                  </a:lnTo>
                  <a:lnTo>
                    <a:pt x="64" y="17"/>
                  </a:lnTo>
                  <a:lnTo>
                    <a:pt x="34" y="27"/>
                  </a:lnTo>
                  <a:lnTo>
                    <a:pt x="11" y="40"/>
                  </a:lnTo>
                  <a:lnTo>
                    <a:pt x="0" y="43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05360" y="4338000"/>
              <a:ext cx="457560" cy="54720"/>
            </a:xfrm>
            <a:custGeom>
              <a:avLst/>
              <a:gdLst/>
              <a:ahLst/>
              <a:rect l="l" t="t" r="r" b="b"/>
              <a:pathLst>
                <a:path w="317" h="40">
                  <a:moveTo>
                    <a:pt x="3" y="23"/>
                  </a:moveTo>
                  <a:lnTo>
                    <a:pt x="30" y="13"/>
                  </a:lnTo>
                  <a:lnTo>
                    <a:pt x="53" y="7"/>
                  </a:lnTo>
                  <a:lnTo>
                    <a:pt x="70" y="3"/>
                  </a:lnTo>
                  <a:lnTo>
                    <a:pt x="86" y="0"/>
                  </a:lnTo>
                  <a:lnTo>
                    <a:pt x="100" y="0"/>
                  </a:lnTo>
                  <a:lnTo>
                    <a:pt x="110" y="0"/>
                  </a:lnTo>
                  <a:lnTo>
                    <a:pt x="120" y="0"/>
                  </a:lnTo>
                  <a:lnTo>
                    <a:pt x="133" y="0"/>
                  </a:lnTo>
                  <a:lnTo>
                    <a:pt x="150" y="3"/>
                  </a:lnTo>
                  <a:lnTo>
                    <a:pt x="177" y="7"/>
                  </a:lnTo>
                  <a:lnTo>
                    <a:pt x="207" y="13"/>
                  </a:lnTo>
                  <a:lnTo>
                    <a:pt x="237" y="20"/>
                  </a:lnTo>
                  <a:lnTo>
                    <a:pt x="267" y="27"/>
                  </a:lnTo>
                  <a:lnTo>
                    <a:pt x="294" y="33"/>
                  </a:lnTo>
                  <a:lnTo>
                    <a:pt x="310" y="37"/>
                  </a:lnTo>
                  <a:lnTo>
                    <a:pt x="317" y="40"/>
                  </a:lnTo>
                  <a:lnTo>
                    <a:pt x="270" y="33"/>
                  </a:lnTo>
                  <a:lnTo>
                    <a:pt x="230" y="23"/>
                  </a:lnTo>
                  <a:lnTo>
                    <a:pt x="197" y="20"/>
                  </a:lnTo>
                  <a:lnTo>
                    <a:pt x="170" y="13"/>
                  </a:lnTo>
                  <a:lnTo>
                    <a:pt x="150" y="10"/>
                  </a:lnTo>
                  <a:lnTo>
                    <a:pt x="133" y="10"/>
                  </a:lnTo>
                  <a:lnTo>
                    <a:pt x="120" y="7"/>
                  </a:lnTo>
                  <a:lnTo>
                    <a:pt x="113" y="7"/>
                  </a:lnTo>
                  <a:lnTo>
                    <a:pt x="96" y="7"/>
                  </a:lnTo>
                  <a:lnTo>
                    <a:pt x="80" y="10"/>
                  </a:lnTo>
                  <a:lnTo>
                    <a:pt x="60" y="13"/>
                  </a:lnTo>
                  <a:lnTo>
                    <a:pt x="43" y="17"/>
                  </a:lnTo>
                  <a:lnTo>
                    <a:pt x="26" y="20"/>
                  </a:lnTo>
                  <a:lnTo>
                    <a:pt x="13" y="23"/>
                  </a:lnTo>
                  <a:lnTo>
                    <a:pt x="3" y="27"/>
                  </a:lnTo>
                  <a:lnTo>
                    <a:pt x="0" y="27"/>
                  </a:lnTo>
                  <a:lnTo>
                    <a:pt x="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38840" y="4383720"/>
              <a:ext cx="370800" cy="91800"/>
            </a:xfrm>
            <a:custGeom>
              <a:avLst/>
              <a:gdLst/>
              <a:ahLst/>
              <a:rect l="l" t="t" r="r" b="b"/>
              <a:pathLst>
                <a:path w="257" h="67">
                  <a:moveTo>
                    <a:pt x="0" y="7"/>
                  </a:moveTo>
                  <a:lnTo>
                    <a:pt x="23" y="4"/>
                  </a:lnTo>
                  <a:lnTo>
                    <a:pt x="43" y="0"/>
                  </a:lnTo>
                  <a:lnTo>
                    <a:pt x="60" y="0"/>
                  </a:lnTo>
                  <a:lnTo>
                    <a:pt x="73" y="0"/>
                  </a:lnTo>
                  <a:lnTo>
                    <a:pt x="83" y="4"/>
                  </a:lnTo>
                  <a:lnTo>
                    <a:pt x="93" y="4"/>
                  </a:lnTo>
                  <a:lnTo>
                    <a:pt x="103" y="7"/>
                  </a:lnTo>
                  <a:lnTo>
                    <a:pt x="113" y="7"/>
                  </a:lnTo>
                  <a:lnTo>
                    <a:pt x="127" y="10"/>
                  </a:lnTo>
                  <a:lnTo>
                    <a:pt x="147" y="20"/>
                  </a:lnTo>
                  <a:lnTo>
                    <a:pt x="170" y="30"/>
                  </a:lnTo>
                  <a:lnTo>
                    <a:pt x="197" y="40"/>
                  </a:lnTo>
                  <a:lnTo>
                    <a:pt x="220" y="50"/>
                  </a:lnTo>
                  <a:lnTo>
                    <a:pt x="237" y="57"/>
                  </a:lnTo>
                  <a:lnTo>
                    <a:pt x="250" y="64"/>
                  </a:lnTo>
                  <a:lnTo>
                    <a:pt x="257" y="67"/>
                  </a:lnTo>
                  <a:lnTo>
                    <a:pt x="217" y="54"/>
                  </a:lnTo>
                  <a:lnTo>
                    <a:pt x="187" y="40"/>
                  </a:lnTo>
                  <a:lnTo>
                    <a:pt x="160" y="30"/>
                  </a:lnTo>
                  <a:lnTo>
                    <a:pt x="140" y="24"/>
                  </a:lnTo>
                  <a:lnTo>
                    <a:pt x="124" y="17"/>
                  </a:lnTo>
                  <a:lnTo>
                    <a:pt x="110" y="14"/>
                  </a:lnTo>
                  <a:lnTo>
                    <a:pt x="103" y="10"/>
                  </a:lnTo>
                  <a:lnTo>
                    <a:pt x="97" y="10"/>
                  </a:lnTo>
                  <a:lnTo>
                    <a:pt x="70" y="7"/>
                  </a:lnTo>
                  <a:lnTo>
                    <a:pt x="37" y="7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92320" y="3516480"/>
              <a:ext cx="405360" cy="248400"/>
            </a:xfrm>
            <a:custGeom>
              <a:avLst/>
              <a:gdLst/>
              <a:ahLst/>
              <a:rect l="l" t="t" r="r" b="b"/>
              <a:pathLst>
                <a:path w="281" h="181">
                  <a:moveTo>
                    <a:pt x="0" y="0"/>
                  </a:moveTo>
                  <a:lnTo>
                    <a:pt x="33" y="7"/>
                  </a:lnTo>
                  <a:lnTo>
                    <a:pt x="73" y="17"/>
                  </a:lnTo>
                  <a:lnTo>
                    <a:pt x="114" y="30"/>
                  </a:lnTo>
                  <a:lnTo>
                    <a:pt x="154" y="47"/>
                  </a:lnTo>
                  <a:lnTo>
                    <a:pt x="190" y="70"/>
                  </a:lnTo>
                  <a:lnTo>
                    <a:pt x="227" y="100"/>
                  </a:lnTo>
                  <a:lnTo>
                    <a:pt x="257" y="130"/>
                  </a:lnTo>
                  <a:lnTo>
                    <a:pt x="281" y="167"/>
                  </a:lnTo>
                  <a:lnTo>
                    <a:pt x="247" y="154"/>
                  </a:lnTo>
                  <a:lnTo>
                    <a:pt x="250" y="181"/>
                  </a:lnTo>
                  <a:lnTo>
                    <a:pt x="230" y="167"/>
                  </a:lnTo>
                  <a:lnTo>
                    <a:pt x="207" y="154"/>
                  </a:lnTo>
                  <a:lnTo>
                    <a:pt x="187" y="144"/>
                  </a:lnTo>
                  <a:lnTo>
                    <a:pt x="170" y="134"/>
                  </a:lnTo>
                  <a:lnTo>
                    <a:pt x="150" y="127"/>
                  </a:lnTo>
                  <a:lnTo>
                    <a:pt x="140" y="120"/>
                  </a:lnTo>
                  <a:lnTo>
                    <a:pt x="130" y="117"/>
                  </a:lnTo>
                  <a:lnTo>
                    <a:pt x="127" y="117"/>
                  </a:lnTo>
                  <a:lnTo>
                    <a:pt x="147" y="117"/>
                  </a:lnTo>
                  <a:lnTo>
                    <a:pt x="167" y="120"/>
                  </a:lnTo>
                  <a:lnTo>
                    <a:pt x="177" y="127"/>
                  </a:lnTo>
                  <a:lnTo>
                    <a:pt x="184" y="127"/>
                  </a:lnTo>
                  <a:lnTo>
                    <a:pt x="157" y="97"/>
                  </a:lnTo>
                  <a:lnTo>
                    <a:pt x="170" y="104"/>
                  </a:lnTo>
                  <a:lnTo>
                    <a:pt x="177" y="107"/>
                  </a:lnTo>
                  <a:lnTo>
                    <a:pt x="180" y="110"/>
                  </a:lnTo>
                  <a:lnTo>
                    <a:pt x="180" y="110"/>
                  </a:lnTo>
                  <a:lnTo>
                    <a:pt x="210" y="120"/>
                  </a:lnTo>
                  <a:lnTo>
                    <a:pt x="184" y="90"/>
                  </a:lnTo>
                  <a:lnTo>
                    <a:pt x="150" y="64"/>
                  </a:lnTo>
                  <a:lnTo>
                    <a:pt x="117" y="44"/>
                  </a:lnTo>
                  <a:lnTo>
                    <a:pt x="80" y="27"/>
                  </a:lnTo>
                  <a:lnTo>
                    <a:pt x="50" y="14"/>
                  </a:lnTo>
                  <a:lnTo>
                    <a:pt x="23" y="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64320" y="3708720"/>
              <a:ext cx="193320" cy="166320"/>
            </a:xfrm>
            <a:custGeom>
              <a:avLst/>
              <a:gdLst/>
              <a:ahLst/>
              <a:rect l="l" t="t" r="r" b="b"/>
              <a:pathLst>
                <a:path w="134" h="121">
                  <a:moveTo>
                    <a:pt x="127" y="71"/>
                  </a:moveTo>
                  <a:lnTo>
                    <a:pt x="114" y="57"/>
                  </a:lnTo>
                  <a:lnTo>
                    <a:pt x="104" y="44"/>
                  </a:lnTo>
                  <a:lnTo>
                    <a:pt x="90" y="34"/>
                  </a:lnTo>
                  <a:lnTo>
                    <a:pt x="74" y="20"/>
                  </a:lnTo>
                  <a:lnTo>
                    <a:pt x="57" y="14"/>
                  </a:lnTo>
                  <a:lnTo>
                    <a:pt x="40" y="7"/>
                  </a:lnTo>
                  <a:lnTo>
                    <a:pt x="20" y="0"/>
                  </a:lnTo>
                  <a:lnTo>
                    <a:pt x="0" y="0"/>
                  </a:lnTo>
                  <a:lnTo>
                    <a:pt x="27" y="7"/>
                  </a:lnTo>
                  <a:lnTo>
                    <a:pt x="50" y="14"/>
                  </a:lnTo>
                  <a:lnTo>
                    <a:pt x="67" y="24"/>
                  </a:lnTo>
                  <a:lnTo>
                    <a:pt x="84" y="34"/>
                  </a:lnTo>
                  <a:lnTo>
                    <a:pt x="94" y="44"/>
                  </a:lnTo>
                  <a:lnTo>
                    <a:pt x="100" y="54"/>
                  </a:lnTo>
                  <a:lnTo>
                    <a:pt x="107" y="57"/>
                  </a:lnTo>
                  <a:lnTo>
                    <a:pt x="107" y="61"/>
                  </a:lnTo>
                  <a:lnTo>
                    <a:pt x="67" y="47"/>
                  </a:lnTo>
                  <a:lnTo>
                    <a:pt x="37" y="44"/>
                  </a:lnTo>
                  <a:lnTo>
                    <a:pt x="17" y="47"/>
                  </a:lnTo>
                  <a:lnTo>
                    <a:pt x="10" y="51"/>
                  </a:lnTo>
                  <a:lnTo>
                    <a:pt x="33" y="54"/>
                  </a:lnTo>
                  <a:lnTo>
                    <a:pt x="57" y="57"/>
                  </a:lnTo>
                  <a:lnTo>
                    <a:pt x="77" y="64"/>
                  </a:lnTo>
                  <a:lnTo>
                    <a:pt x="94" y="71"/>
                  </a:lnTo>
                  <a:lnTo>
                    <a:pt x="107" y="77"/>
                  </a:lnTo>
                  <a:lnTo>
                    <a:pt x="117" y="87"/>
                  </a:lnTo>
                  <a:lnTo>
                    <a:pt x="124" y="97"/>
                  </a:lnTo>
                  <a:lnTo>
                    <a:pt x="130" y="111"/>
                  </a:lnTo>
                  <a:lnTo>
                    <a:pt x="134" y="121"/>
                  </a:lnTo>
                  <a:lnTo>
                    <a:pt x="134" y="104"/>
                  </a:lnTo>
                  <a:lnTo>
                    <a:pt x="130" y="84"/>
                  </a:lnTo>
                  <a:lnTo>
                    <a:pt x="12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97440" y="4159440"/>
              <a:ext cx="232200" cy="141120"/>
            </a:xfrm>
            <a:custGeom>
              <a:avLst/>
              <a:gdLst/>
              <a:ahLst/>
              <a:rect l="l" t="t" r="r" b="b"/>
              <a:pathLst>
                <a:path w="161" h="103">
                  <a:moveTo>
                    <a:pt x="111" y="0"/>
                  </a:moveTo>
                  <a:lnTo>
                    <a:pt x="94" y="6"/>
                  </a:lnTo>
                  <a:lnTo>
                    <a:pt x="77" y="16"/>
                  </a:lnTo>
                  <a:lnTo>
                    <a:pt x="61" y="26"/>
                  </a:lnTo>
                  <a:lnTo>
                    <a:pt x="47" y="36"/>
                  </a:lnTo>
                  <a:lnTo>
                    <a:pt x="34" y="46"/>
                  </a:lnTo>
                  <a:lnTo>
                    <a:pt x="20" y="63"/>
                  </a:lnTo>
                  <a:lnTo>
                    <a:pt x="10" y="76"/>
                  </a:lnTo>
                  <a:lnTo>
                    <a:pt x="0" y="97"/>
                  </a:lnTo>
                  <a:lnTo>
                    <a:pt x="30" y="56"/>
                  </a:lnTo>
                  <a:lnTo>
                    <a:pt x="64" y="30"/>
                  </a:lnTo>
                  <a:lnTo>
                    <a:pt x="84" y="20"/>
                  </a:lnTo>
                  <a:lnTo>
                    <a:pt x="94" y="16"/>
                  </a:lnTo>
                  <a:lnTo>
                    <a:pt x="67" y="50"/>
                  </a:lnTo>
                  <a:lnTo>
                    <a:pt x="54" y="76"/>
                  </a:lnTo>
                  <a:lnTo>
                    <a:pt x="51" y="97"/>
                  </a:lnTo>
                  <a:lnTo>
                    <a:pt x="51" y="103"/>
                  </a:lnTo>
                  <a:lnTo>
                    <a:pt x="64" y="80"/>
                  </a:lnTo>
                  <a:lnTo>
                    <a:pt x="74" y="63"/>
                  </a:lnTo>
                  <a:lnTo>
                    <a:pt x="87" y="46"/>
                  </a:lnTo>
                  <a:lnTo>
                    <a:pt x="97" y="33"/>
                  </a:lnTo>
                  <a:lnTo>
                    <a:pt x="111" y="23"/>
                  </a:lnTo>
                  <a:lnTo>
                    <a:pt x="124" y="16"/>
                  </a:lnTo>
                  <a:lnTo>
                    <a:pt x="137" y="13"/>
                  </a:lnTo>
                  <a:lnTo>
                    <a:pt x="151" y="13"/>
                  </a:lnTo>
                  <a:lnTo>
                    <a:pt x="161" y="10"/>
                  </a:lnTo>
                  <a:lnTo>
                    <a:pt x="147" y="6"/>
                  </a:lnTo>
                  <a:lnTo>
                    <a:pt x="124" y="3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31800" y="3998880"/>
              <a:ext cx="259920" cy="86400"/>
            </a:xfrm>
            <a:custGeom>
              <a:avLst/>
              <a:gdLst/>
              <a:ahLst/>
              <a:rect l="l" t="t" r="r" b="b"/>
              <a:pathLst>
                <a:path w="180" h="63">
                  <a:moveTo>
                    <a:pt x="40" y="3"/>
                  </a:moveTo>
                  <a:lnTo>
                    <a:pt x="56" y="0"/>
                  </a:lnTo>
                  <a:lnTo>
                    <a:pt x="76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30" y="3"/>
                  </a:lnTo>
                  <a:lnTo>
                    <a:pt x="147" y="10"/>
                  </a:lnTo>
                  <a:lnTo>
                    <a:pt x="163" y="20"/>
                  </a:lnTo>
                  <a:lnTo>
                    <a:pt x="180" y="33"/>
                  </a:lnTo>
                  <a:lnTo>
                    <a:pt x="157" y="20"/>
                  </a:lnTo>
                  <a:lnTo>
                    <a:pt x="133" y="13"/>
                  </a:lnTo>
                  <a:lnTo>
                    <a:pt x="113" y="10"/>
                  </a:lnTo>
                  <a:lnTo>
                    <a:pt x="96" y="6"/>
                  </a:lnTo>
                  <a:lnTo>
                    <a:pt x="80" y="6"/>
                  </a:lnTo>
                  <a:lnTo>
                    <a:pt x="70" y="6"/>
                  </a:lnTo>
                  <a:lnTo>
                    <a:pt x="63" y="10"/>
                  </a:lnTo>
                  <a:lnTo>
                    <a:pt x="60" y="10"/>
                  </a:lnTo>
                  <a:lnTo>
                    <a:pt x="100" y="27"/>
                  </a:lnTo>
                  <a:lnTo>
                    <a:pt x="126" y="43"/>
                  </a:lnTo>
                  <a:lnTo>
                    <a:pt x="137" y="57"/>
                  </a:lnTo>
                  <a:lnTo>
                    <a:pt x="140" y="63"/>
                  </a:lnTo>
                  <a:lnTo>
                    <a:pt x="120" y="50"/>
                  </a:lnTo>
                  <a:lnTo>
                    <a:pt x="100" y="40"/>
                  </a:lnTo>
                  <a:lnTo>
                    <a:pt x="83" y="30"/>
                  </a:lnTo>
                  <a:lnTo>
                    <a:pt x="66" y="23"/>
                  </a:lnTo>
                  <a:lnTo>
                    <a:pt x="50" y="23"/>
                  </a:lnTo>
                  <a:lnTo>
                    <a:pt x="36" y="23"/>
                  </a:lnTo>
                  <a:lnTo>
                    <a:pt x="23" y="27"/>
                  </a:lnTo>
                  <a:lnTo>
                    <a:pt x="10" y="33"/>
                  </a:lnTo>
                  <a:lnTo>
                    <a:pt x="0" y="40"/>
                  </a:lnTo>
                  <a:lnTo>
                    <a:pt x="13" y="27"/>
                  </a:lnTo>
                  <a:lnTo>
                    <a:pt x="30" y="10"/>
                  </a:lnTo>
                  <a:lnTo>
                    <a:pt x="4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43240" y="4393080"/>
              <a:ext cx="380880" cy="45360"/>
            </a:xfrm>
            <a:custGeom>
              <a:avLst/>
              <a:gdLst/>
              <a:ahLst/>
              <a:rect l="l" t="t" r="r" b="b"/>
              <a:pathLst>
                <a:path w="264" h="33">
                  <a:moveTo>
                    <a:pt x="264" y="20"/>
                  </a:moveTo>
                  <a:lnTo>
                    <a:pt x="240" y="10"/>
                  </a:lnTo>
                  <a:lnTo>
                    <a:pt x="223" y="7"/>
                  </a:lnTo>
                  <a:lnTo>
                    <a:pt x="207" y="3"/>
                  </a:lnTo>
                  <a:lnTo>
                    <a:pt x="193" y="0"/>
                  </a:lnTo>
                  <a:lnTo>
                    <a:pt x="183" y="0"/>
                  </a:lnTo>
                  <a:lnTo>
                    <a:pt x="173" y="0"/>
                  </a:lnTo>
                  <a:lnTo>
                    <a:pt x="163" y="0"/>
                  </a:lnTo>
                  <a:lnTo>
                    <a:pt x="153" y="0"/>
                  </a:lnTo>
                  <a:lnTo>
                    <a:pt x="137" y="0"/>
                  </a:lnTo>
                  <a:lnTo>
                    <a:pt x="117" y="7"/>
                  </a:lnTo>
                  <a:lnTo>
                    <a:pt x="90" y="10"/>
                  </a:lnTo>
                  <a:lnTo>
                    <a:pt x="66" y="17"/>
                  </a:lnTo>
                  <a:lnTo>
                    <a:pt x="40" y="23"/>
                  </a:lnTo>
                  <a:lnTo>
                    <a:pt x="20" y="27"/>
                  </a:lnTo>
                  <a:lnTo>
                    <a:pt x="6" y="33"/>
                  </a:lnTo>
                  <a:lnTo>
                    <a:pt x="0" y="33"/>
                  </a:lnTo>
                  <a:lnTo>
                    <a:pt x="36" y="27"/>
                  </a:lnTo>
                  <a:lnTo>
                    <a:pt x="70" y="20"/>
                  </a:lnTo>
                  <a:lnTo>
                    <a:pt x="97" y="13"/>
                  </a:lnTo>
                  <a:lnTo>
                    <a:pt x="120" y="10"/>
                  </a:lnTo>
                  <a:lnTo>
                    <a:pt x="137" y="10"/>
                  </a:lnTo>
                  <a:lnTo>
                    <a:pt x="153" y="7"/>
                  </a:lnTo>
                  <a:lnTo>
                    <a:pt x="163" y="7"/>
                  </a:lnTo>
                  <a:lnTo>
                    <a:pt x="170" y="7"/>
                  </a:lnTo>
                  <a:lnTo>
                    <a:pt x="197" y="7"/>
                  </a:lnTo>
                  <a:lnTo>
                    <a:pt x="227" y="13"/>
                  </a:lnTo>
                  <a:lnTo>
                    <a:pt x="254" y="17"/>
                  </a:lnTo>
                  <a:lnTo>
                    <a:pt x="264" y="20"/>
                  </a:lnTo>
                  <a:lnTo>
                    <a:pt x="26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65480" y="4430520"/>
              <a:ext cx="444240" cy="109440"/>
            </a:xfrm>
            <a:custGeom>
              <a:avLst/>
              <a:gdLst/>
              <a:ahLst/>
              <a:rect l="l" t="t" r="r" b="b"/>
              <a:pathLst>
                <a:path w="308" h="80">
                  <a:moveTo>
                    <a:pt x="308" y="10"/>
                  </a:moveTo>
                  <a:lnTo>
                    <a:pt x="277" y="3"/>
                  </a:lnTo>
                  <a:lnTo>
                    <a:pt x="254" y="0"/>
                  </a:lnTo>
                  <a:lnTo>
                    <a:pt x="234" y="0"/>
                  </a:lnTo>
                  <a:lnTo>
                    <a:pt x="221" y="0"/>
                  </a:lnTo>
                  <a:lnTo>
                    <a:pt x="207" y="3"/>
                  </a:lnTo>
                  <a:lnTo>
                    <a:pt x="194" y="6"/>
                  </a:lnTo>
                  <a:lnTo>
                    <a:pt x="184" y="6"/>
                  </a:lnTo>
                  <a:lnTo>
                    <a:pt x="171" y="10"/>
                  </a:lnTo>
                  <a:lnTo>
                    <a:pt x="154" y="13"/>
                  </a:lnTo>
                  <a:lnTo>
                    <a:pt x="130" y="23"/>
                  </a:lnTo>
                  <a:lnTo>
                    <a:pt x="104" y="33"/>
                  </a:lnTo>
                  <a:lnTo>
                    <a:pt x="74" y="46"/>
                  </a:lnTo>
                  <a:lnTo>
                    <a:pt x="47" y="60"/>
                  </a:lnTo>
                  <a:lnTo>
                    <a:pt x="24" y="70"/>
                  </a:lnTo>
                  <a:lnTo>
                    <a:pt x="7" y="77"/>
                  </a:lnTo>
                  <a:lnTo>
                    <a:pt x="0" y="80"/>
                  </a:lnTo>
                  <a:lnTo>
                    <a:pt x="44" y="63"/>
                  </a:lnTo>
                  <a:lnTo>
                    <a:pt x="84" y="50"/>
                  </a:lnTo>
                  <a:lnTo>
                    <a:pt x="114" y="36"/>
                  </a:lnTo>
                  <a:lnTo>
                    <a:pt x="141" y="30"/>
                  </a:lnTo>
                  <a:lnTo>
                    <a:pt x="157" y="23"/>
                  </a:lnTo>
                  <a:lnTo>
                    <a:pt x="174" y="16"/>
                  </a:lnTo>
                  <a:lnTo>
                    <a:pt x="184" y="16"/>
                  </a:lnTo>
                  <a:lnTo>
                    <a:pt x="191" y="13"/>
                  </a:lnTo>
                  <a:lnTo>
                    <a:pt x="207" y="10"/>
                  </a:lnTo>
                  <a:lnTo>
                    <a:pt x="224" y="10"/>
                  </a:lnTo>
                  <a:lnTo>
                    <a:pt x="244" y="6"/>
                  </a:lnTo>
                  <a:lnTo>
                    <a:pt x="264" y="6"/>
                  </a:lnTo>
                  <a:lnTo>
                    <a:pt x="281" y="10"/>
                  </a:lnTo>
                  <a:lnTo>
                    <a:pt x="294" y="10"/>
                  </a:lnTo>
                  <a:lnTo>
                    <a:pt x="304" y="10"/>
                  </a:lnTo>
                  <a:lnTo>
                    <a:pt x="308" y="10"/>
                  </a:lnTo>
                  <a:lnTo>
                    <a:pt x="30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33160" y="4471560"/>
              <a:ext cx="347760" cy="133200"/>
            </a:xfrm>
            <a:custGeom>
              <a:avLst/>
              <a:gdLst/>
              <a:ahLst/>
              <a:rect l="l" t="t" r="r" b="b"/>
              <a:pathLst>
                <a:path w="241" h="97">
                  <a:moveTo>
                    <a:pt x="241" y="0"/>
                  </a:moveTo>
                  <a:lnTo>
                    <a:pt x="217" y="0"/>
                  </a:lnTo>
                  <a:lnTo>
                    <a:pt x="197" y="0"/>
                  </a:lnTo>
                  <a:lnTo>
                    <a:pt x="180" y="3"/>
                  </a:lnTo>
                  <a:lnTo>
                    <a:pt x="167" y="3"/>
                  </a:lnTo>
                  <a:lnTo>
                    <a:pt x="157" y="10"/>
                  </a:lnTo>
                  <a:lnTo>
                    <a:pt x="147" y="13"/>
                  </a:lnTo>
                  <a:lnTo>
                    <a:pt x="140" y="16"/>
                  </a:lnTo>
                  <a:lnTo>
                    <a:pt x="130" y="20"/>
                  </a:lnTo>
                  <a:lnTo>
                    <a:pt x="117" y="26"/>
                  </a:lnTo>
                  <a:lnTo>
                    <a:pt x="100" y="33"/>
                  </a:lnTo>
                  <a:lnTo>
                    <a:pt x="77" y="47"/>
                  </a:lnTo>
                  <a:lnTo>
                    <a:pt x="57" y="60"/>
                  </a:lnTo>
                  <a:lnTo>
                    <a:pt x="33" y="73"/>
                  </a:lnTo>
                  <a:lnTo>
                    <a:pt x="17" y="87"/>
                  </a:lnTo>
                  <a:lnTo>
                    <a:pt x="3" y="93"/>
                  </a:lnTo>
                  <a:lnTo>
                    <a:pt x="0" y="97"/>
                  </a:lnTo>
                  <a:lnTo>
                    <a:pt x="33" y="77"/>
                  </a:lnTo>
                  <a:lnTo>
                    <a:pt x="63" y="63"/>
                  </a:lnTo>
                  <a:lnTo>
                    <a:pt x="87" y="50"/>
                  </a:lnTo>
                  <a:lnTo>
                    <a:pt x="107" y="40"/>
                  </a:lnTo>
                  <a:lnTo>
                    <a:pt x="120" y="30"/>
                  </a:lnTo>
                  <a:lnTo>
                    <a:pt x="134" y="23"/>
                  </a:lnTo>
                  <a:lnTo>
                    <a:pt x="140" y="20"/>
                  </a:lnTo>
                  <a:lnTo>
                    <a:pt x="147" y="16"/>
                  </a:lnTo>
                  <a:lnTo>
                    <a:pt x="174" y="10"/>
                  </a:lnTo>
                  <a:lnTo>
                    <a:pt x="204" y="3"/>
                  </a:lnTo>
                  <a:lnTo>
                    <a:pt x="230" y="0"/>
                  </a:lnTo>
                  <a:lnTo>
                    <a:pt x="241" y="0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18360" y="3526200"/>
              <a:ext cx="150120" cy="288360"/>
            </a:xfrm>
            <a:custGeom>
              <a:avLst/>
              <a:gdLst/>
              <a:ahLst/>
              <a:rect l="l" t="t" r="r" b="b"/>
              <a:pathLst>
                <a:path w="104" h="210">
                  <a:moveTo>
                    <a:pt x="40" y="0"/>
                  </a:moveTo>
                  <a:lnTo>
                    <a:pt x="20" y="23"/>
                  </a:lnTo>
                  <a:lnTo>
                    <a:pt x="7" y="47"/>
                  </a:lnTo>
                  <a:lnTo>
                    <a:pt x="0" y="67"/>
                  </a:lnTo>
                  <a:lnTo>
                    <a:pt x="10" y="83"/>
                  </a:lnTo>
                  <a:lnTo>
                    <a:pt x="24" y="90"/>
                  </a:lnTo>
                  <a:lnTo>
                    <a:pt x="27" y="93"/>
                  </a:lnTo>
                  <a:lnTo>
                    <a:pt x="30" y="103"/>
                  </a:lnTo>
                  <a:lnTo>
                    <a:pt x="37" y="127"/>
                  </a:lnTo>
                  <a:lnTo>
                    <a:pt x="54" y="157"/>
                  </a:lnTo>
                  <a:lnTo>
                    <a:pt x="70" y="184"/>
                  </a:lnTo>
                  <a:lnTo>
                    <a:pt x="87" y="204"/>
                  </a:lnTo>
                  <a:lnTo>
                    <a:pt x="94" y="210"/>
                  </a:lnTo>
                  <a:lnTo>
                    <a:pt x="90" y="174"/>
                  </a:lnTo>
                  <a:lnTo>
                    <a:pt x="94" y="164"/>
                  </a:lnTo>
                  <a:lnTo>
                    <a:pt x="100" y="160"/>
                  </a:lnTo>
                  <a:lnTo>
                    <a:pt x="104" y="130"/>
                  </a:lnTo>
                  <a:lnTo>
                    <a:pt x="104" y="90"/>
                  </a:lnTo>
                  <a:lnTo>
                    <a:pt x="97" y="70"/>
                  </a:lnTo>
                  <a:lnTo>
                    <a:pt x="87" y="57"/>
                  </a:lnTo>
                  <a:lnTo>
                    <a:pt x="70" y="50"/>
                  </a:lnTo>
                  <a:lnTo>
                    <a:pt x="57" y="37"/>
                  </a:lnTo>
                  <a:lnTo>
                    <a:pt x="47" y="20"/>
                  </a:lnTo>
                  <a:lnTo>
                    <a:pt x="44" y="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63920" y="3508200"/>
              <a:ext cx="174600" cy="333720"/>
            </a:xfrm>
            <a:custGeom>
              <a:avLst/>
              <a:gdLst/>
              <a:ahLst/>
              <a:rect l="l" t="t" r="r" b="b"/>
              <a:pathLst>
                <a:path w="121" h="243">
                  <a:moveTo>
                    <a:pt x="121" y="0"/>
                  </a:moveTo>
                  <a:lnTo>
                    <a:pt x="104" y="3"/>
                  </a:lnTo>
                  <a:lnTo>
                    <a:pt x="91" y="6"/>
                  </a:lnTo>
                  <a:lnTo>
                    <a:pt x="74" y="13"/>
                  </a:lnTo>
                  <a:lnTo>
                    <a:pt x="57" y="16"/>
                  </a:lnTo>
                  <a:lnTo>
                    <a:pt x="44" y="23"/>
                  </a:lnTo>
                  <a:lnTo>
                    <a:pt x="27" y="26"/>
                  </a:lnTo>
                  <a:lnTo>
                    <a:pt x="14" y="33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4" y="63"/>
                  </a:lnTo>
                  <a:lnTo>
                    <a:pt x="17" y="76"/>
                  </a:lnTo>
                  <a:lnTo>
                    <a:pt x="34" y="90"/>
                  </a:lnTo>
                  <a:lnTo>
                    <a:pt x="54" y="106"/>
                  </a:lnTo>
                  <a:lnTo>
                    <a:pt x="60" y="120"/>
                  </a:lnTo>
                  <a:lnTo>
                    <a:pt x="64" y="133"/>
                  </a:lnTo>
                  <a:lnTo>
                    <a:pt x="60" y="153"/>
                  </a:lnTo>
                  <a:lnTo>
                    <a:pt x="60" y="173"/>
                  </a:lnTo>
                  <a:lnTo>
                    <a:pt x="67" y="190"/>
                  </a:lnTo>
                  <a:lnTo>
                    <a:pt x="84" y="213"/>
                  </a:lnTo>
                  <a:lnTo>
                    <a:pt x="117" y="243"/>
                  </a:lnTo>
                  <a:lnTo>
                    <a:pt x="114" y="240"/>
                  </a:lnTo>
                  <a:lnTo>
                    <a:pt x="111" y="230"/>
                  </a:lnTo>
                  <a:lnTo>
                    <a:pt x="104" y="217"/>
                  </a:lnTo>
                  <a:lnTo>
                    <a:pt x="97" y="193"/>
                  </a:lnTo>
                  <a:lnTo>
                    <a:pt x="97" y="170"/>
                  </a:lnTo>
                  <a:lnTo>
                    <a:pt x="97" y="153"/>
                  </a:lnTo>
                  <a:lnTo>
                    <a:pt x="94" y="136"/>
                  </a:lnTo>
                  <a:lnTo>
                    <a:pt x="81" y="113"/>
                  </a:lnTo>
                  <a:lnTo>
                    <a:pt x="67" y="86"/>
                  </a:lnTo>
                  <a:lnTo>
                    <a:pt x="64" y="70"/>
                  </a:lnTo>
                  <a:lnTo>
                    <a:pt x="74" y="50"/>
                  </a:lnTo>
                  <a:lnTo>
                    <a:pt x="97" y="26"/>
                  </a:lnTo>
                  <a:lnTo>
                    <a:pt x="107" y="20"/>
                  </a:lnTo>
                  <a:lnTo>
                    <a:pt x="114" y="13"/>
                  </a:lnTo>
                  <a:lnTo>
                    <a:pt x="117" y="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6440" y="3471120"/>
              <a:ext cx="125640" cy="343080"/>
            </a:xfrm>
            <a:custGeom>
              <a:avLst/>
              <a:gdLst/>
              <a:ahLst/>
              <a:rect l="l" t="t" r="r" b="b"/>
              <a:pathLst>
                <a:path w="87" h="250">
                  <a:moveTo>
                    <a:pt x="0" y="3"/>
                  </a:moveTo>
                  <a:lnTo>
                    <a:pt x="7" y="20"/>
                  </a:lnTo>
                  <a:lnTo>
                    <a:pt x="13" y="37"/>
                  </a:lnTo>
                  <a:lnTo>
                    <a:pt x="20" y="53"/>
                  </a:lnTo>
                  <a:lnTo>
                    <a:pt x="33" y="70"/>
                  </a:lnTo>
                  <a:lnTo>
                    <a:pt x="50" y="93"/>
                  </a:lnTo>
                  <a:lnTo>
                    <a:pt x="50" y="110"/>
                  </a:lnTo>
                  <a:lnTo>
                    <a:pt x="43" y="127"/>
                  </a:lnTo>
                  <a:lnTo>
                    <a:pt x="37" y="150"/>
                  </a:lnTo>
                  <a:lnTo>
                    <a:pt x="30" y="177"/>
                  </a:lnTo>
                  <a:lnTo>
                    <a:pt x="27" y="197"/>
                  </a:lnTo>
                  <a:lnTo>
                    <a:pt x="33" y="217"/>
                  </a:lnTo>
                  <a:lnTo>
                    <a:pt x="50" y="250"/>
                  </a:lnTo>
                  <a:lnTo>
                    <a:pt x="43" y="230"/>
                  </a:lnTo>
                  <a:lnTo>
                    <a:pt x="47" y="207"/>
                  </a:lnTo>
                  <a:lnTo>
                    <a:pt x="53" y="173"/>
                  </a:lnTo>
                  <a:lnTo>
                    <a:pt x="63" y="133"/>
                  </a:lnTo>
                  <a:lnTo>
                    <a:pt x="77" y="100"/>
                  </a:lnTo>
                  <a:lnTo>
                    <a:pt x="83" y="90"/>
                  </a:lnTo>
                  <a:lnTo>
                    <a:pt x="87" y="80"/>
                  </a:lnTo>
                  <a:lnTo>
                    <a:pt x="77" y="43"/>
                  </a:lnTo>
                  <a:lnTo>
                    <a:pt x="73" y="30"/>
                  </a:lnTo>
                  <a:lnTo>
                    <a:pt x="70" y="17"/>
                  </a:lnTo>
                  <a:lnTo>
                    <a:pt x="67" y="6"/>
                  </a:lnTo>
                  <a:lnTo>
                    <a:pt x="63" y="0"/>
                  </a:lnTo>
                  <a:lnTo>
                    <a:pt x="47" y="0"/>
                  </a:lnTo>
                  <a:lnTo>
                    <a:pt x="33" y="0"/>
                  </a:lnTo>
                  <a:lnTo>
                    <a:pt x="17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23280" y="4002840"/>
              <a:ext cx="935280" cy="1239480"/>
            </a:xfrm>
            <a:custGeom>
              <a:avLst/>
              <a:gdLst/>
              <a:ahLst/>
              <a:rect l="l" t="t" r="r" b="b"/>
              <a:pathLst>
                <a:path w="648" h="902">
                  <a:moveTo>
                    <a:pt x="270" y="902"/>
                  </a:moveTo>
                  <a:lnTo>
                    <a:pt x="280" y="898"/>
                  </a:lnTo>
                  <a:lnTo>
                    <a:pt x="294" y="892"/>
                  </a:lnTo>
                  <a:lnTo>
                    <a:pt x="307" y="888"/>
                  </a:lnTo>
                  <a:lnTo>
                    <a:pt x="320" y="885"/>
                  </a:lnTo>
                  <a:lnTo>
                    <a:pt x="344" y="878"/>
                  </a:lnTo>
                  <a:lnTo>
                    <a:pt x="364" y="868"/>
                  </a:lnTo>
                  <a:lnTo>
                    <a:pt x="377" y="858"/>
                  </a:lnTo>
                  <a:lnTo>
                    <a:pt x="394" y="845"/>
                  </a:lnTo>
                  <a:lnTo>
                    <a:pt x="401" y="828"/>
                  </a:lnTo>
                  <a:lnTo>
                    <a:pt x="391" y="812"/>
                  </a:lnTo>
                  <a:lnTo>
                    <a:pt x="371" y="798"/>
                  </a:lnTo>
                  <a:lnTo>
                    <a:pt x="354" y="785"/>
                  </a:lnTo>
                  <a:lnTo>
                    <a:pt x="340" y="778"/>
                  </a:lnTo>
                  <a:lnTo>
                    <a:pt x="340" y="772"/>
                  </a:lnTo>
                  <a:lnTo>
                    <a:pt x="344" y="761"/>
                  </a:lnTo>
                  <a:lnTo>
                    <a:pt x="357" y="748"/>
                  </a:lnTo>
                  <a:lnTo>
                    <a:pt x="357" y="738"/>
                  </a:lnTo>
                  <a:lnTo>
                    <a:pt x="344" y="735"/>
                  </a:lnTo>
                  <a:lnTo>
                    <a:pt x="317" y="731"/>
                  </a:lnTo>
                  <a:lnTo>
                    <a:pt x="290" y="721"/>
                  </a:lnTo>
                  <a:lnTo>
                    <a:pt x="294" y="718"/>
                  </a:lnTo>
                  <a:lnTo>
                    <a:pt x="307" y="708"/>
                  </a:lnTo>
                  <a:lnTo>
                    <a:pt x="327" y="691"/>
                  </a:lnTo>
                  <a:lnTo>
                    <a:pt x="354" y="671"/>
                  </a:lnTo>
                  <a:lnTo>
                    <a:pt x="381" y="648"/>
                  </a:lnTo>
                  <a:lnTo>
                    <a:pt x="407" y="625"/>
                  </a:lnTo>
                  <a:lnTo>
                    <a:pt x="434" y="598"/>
                  </a:lnTo>
                  <a:lnTo>
                    <a:pt x="457" y="574"/>
                  </a:lnTo>
                  <a:lnTo>
                    <a:pt x="457" y="578"/>
                  </a:lnTo>
                  <a:lnTo>
                    <a:pt x="454" y="595"/>
                  </a:lnTo>
                  <a:lnTo>
                    <a:pt x="457" y="621"/>
                  </a:lnTo>
                  <a:lnTo>
                    <a:pt x="467" y="665"/>
                  </a:lnTo>
                  <a:lnTo>
                    <a:pt x="467" y="661"/>
                  </a:lnTo>
                  <a:lnTo>
                    <a:pt x="471" y="655"/>
                  </a:lnTo>
                  <a:lnTo>
                    <a:pt x="484" y="635"/>
                  </a:lnTo>
                  <a:lnTo>
                    <a:pt x="511" y="601"/>
                  </a:lnTo>
                  <a:lnTo>
                    <a:pt x="548" y="558"/>
                  </a:lnTo>
                  <a:lnTo>
                    <a:pt x="574" y="518"/>
                  </a:lnTo>
                  <a:lnTo>
                    <a:pt x="594" y="474"/>
                  </a:lnTo>
                  <a:lnTo>
                    <a:pt x="604" y="428"/>
                  </a:lnTo>
                  <a:lnTo>
                    <a:pt x="604" y="431"/>
                  </a:lnTo>
                  <a:lnTo>
                    <a:pt x="604" y="441"/>
                  </a:lnTo>
                  <a:lnTo>
                    <a:pt x="611" y="454"/>
                  </a:lnTo>
                  <a:lnTo>
                    <a:pt x="624" y="471"/>
                  </a:lnTo>
                  <a:lnTo>
                    <a:pt x="628" y="458"/>
                  </a:lnTo>
                  <a:lnTo>
                    <a:pt x="638" y="421"/>
                  </a:lnTo>
                  <a:lnTo>
                    <a:pt x="645" y="371"/>
                  </a:lnTo>
                  <a:lnTo>
                    <a:pt x="648" y="324"/>
                  </a:lnTo>
                  <a:lnTo>
                    <a:pt x="645" y="287"/>
                  </a:lnTo>
                  <a:lnTo>
                    <a:pt x="638" y="267"/>
                  </a:lnTo>
                  <a:lnTo>
                    <a:pt x="628" y="251"/>
                  </a:lnTo>
                  <a:lnTo>
                    <a:pt x="624" y="224"/>
                  </a:lnTo>
                  <a:lnTo>
                    <a:pt x="614" y="194"/>
                  </a:lnTo>
                  <a:lnTo>
                    <a:pt x="594" y="174"/>
                  </a:lnTo>
                  <a:lnTo>
                    <a:pt x="578" y="154"/>
                  </a:lnTo>
                  <a:lnTo>
                    <a:pt x="568" y="127"/>
                  </a:lnTo>
                  <a:lnTo>
                    <a:pt x="568" y="87"/>
                  </a:lnTo>
                  <a:lnTo>
                    <a:pt x="564" y="47"/>
                  </a:lnTo>
                  <a:lnTo>
                    <a:pt x="551" y="14"/>
                  </a:lnTo>
                  <a:lnTo>
                    <a:pt x="531" y="0"/>
                  </a:lnTo>
                  <a:lnTo>
                    <a:pt x="514" y="7"/>
                  </a:lnTo>
                  <a:lnTo>
                    <a:pt x="511" y="30"/>
                  </a:lnTo>
                  <a:lnTo>
                    <a:pt x="511" y="77"/>
                  </a:lnTo>
                  <a:lnTo>
                    <a:pt x="518" y="140"/>
                  </a:lnTo>
                  <a:lnTo>
                    <a:pt x="518" y="190"/>
                  </a:lnTo>
                  <a:lnTo>
                    <a:pt x="514" y="217"/>
                  </a:lnTo>
                  <a:lnTo>
                    <a:pt x="501" y="251"/>
                  </a:lnTo>
                  <a:lnTo>
                    <a:pt x="484" y="327"/>
                  </a:lnTo>
                  <a:lnTo>
                    <a:pt x="474" y="371"/>
                  </a:lnTo>
                  <a:lnTo>
                    <a:pt x="464" y="404"/>
                  </a:lnTo>
                  <a:lnTo>
                    <a:pt x="451" y="431"/>
                  </a:lnTo>
                  <a:lnTo>
                    <a:pt x="437" y="454"/>
                  </a:lnTo>
                  <a:lnTo>
                    <a:pt x="417" y="474"/>
                  </a:lnTo>
                  <a:lnTo>
                    <a:pt x="391" y="498"/>
                  </a:lnTo>
                  <a:lnTo>
                    <a:pt x="361" y="528"/>
                  </a:lnTo>
                  <a:lnTo>
                    <a:pt x="320" y="564"/>
                  </a:lnTo>
                  <a:lnTo>
                    <a:pt x="320" y="558"/>
                  </a:lnTo>
                  <a:lnTo>
                    <a:pt x="317" y="548"/>
                  </a:lnTo>
                  <a:lnTo>
                    <a:pt x="314" y="528"/>
                  </a:lnTo>
                  <a:lnTo>
                    <a:pt x="314" y="511"/>
                  </a:lnTo>
                  <a:lnTo>
                    <a:pt x="320" y="494"/>
                  </a:lnTo>
                  <a:lnTo>
                    <a:pt x="330" y="478"/>
                  </a:lnTo>
                  <a:lnTo>
                    <a:pt x="344" y="461"/>
                  </a:lnTo>
                  <a:lnTo>
                    <a:pt x="351" y="438"/>
                  </a:lnTo>
                  <a:lnTo>
                    <a:pt x="354" y="421"/>
                  </a:lnTo>
                  <a:lnTo>
                    <a:pt x="361" y="408"/>
                  </a:lnTo>
                  <a:lnTo>
                    <a:pt x="371" y="401"/>
                  </a:lnTo>
                  <a:lnTo>
                    <a:pt x="387" y="391"/>
                  </a:lnTo>
                  <a:lnTo>
                    <a:pt x="401" y="384"/>
                  </a:lnTo>
                  <a:lnTo>
                    <a:pt x="401" y="377"/>
                  </a:lnTo>
                  <a:lnTo>
                    <a:pt x="394" y="371"/>
                  </a:lnTo>
                  <a:lnTo>
                    <a:pt x="391" y="354"/>
                  </a:lnTo>
                  <a:lnTo>
                    <a:pt x="391" y="337"/>
                  </a:lnTo>
                  <a:lnTo>
                    <a:pt x="391" y="331"/>
                  </a:lnTo>
                  <a:lnTo>
                    <a:pt x="397" y="327"/>
                  </a:lnTo>
                  <a:lnTo>
                    <a:pt x="414" y="321"/>
                  </a:lnTo>
                  <a:lnTo>
                    <a:pt x="411" y="314"/>
                  </a:lnTo>
                  <a:lnTo>
                    <a:pt x="401" y="301"/>
                  </a:lnTo>
                  <a:lnTo>
                    <a:pt x="394" y="284"/>
                  </a:lnTo>
                  <a:lnTo>
                    <a:pt x="394" y="271"/>
                  </a:lnTo>
                  <a:lnTo>
                    <a:pt x="394" y="254"/>
                  </a:lnTo>
                  <a:lnTo>
                    <a:pt x="391" y="241"/>
                  </a:lnTo>
                  <a:lnTo>
                    <a:pt x="377" y="234"/>
                  </a:lnTo>
                  <a:lnTo>
                    <a:pt x="361" y="247"/>
                  </a:lnTo>
                  <a:lnTo>
                    <a:pt x="351" y="261"/>
                  </a:lnTo>
                  <a:lnTo>
                    <a:pt x="351" y="267"/>
                  </a:lnTo>
                  <a:lnTo>
                    <a:pt x="357" y="277"/>
                  </a:lnTo>
                  <a:lnTo>
                    <a:pt x="357" y="307"/>
                  </a:lnTo>
                  <a:lnTo>
                    <a:pt x="347" y="347"/>
                  </a:lnTo>
                  <a:lnTo>
                    <a:pt x="334" y="374"/>
                  </a:lnTo>
                  <a:lnTo>
                    <a:pt x="320" y="401"/>
                  </a:lnTo>
                  <a:lnTo>
                    <a:pt x="304" y="434"/>
                  </a:lnTo>
                  <a:lnTo>
                    <a:pt x="294" y="458"/>
                  </a:lnTo>
                  <a:lnTo>
                    <a:pt x="274" y="481"/>
                  </a:lnTo>
                  <a:lnTo>
                    <a:pt x="250" y="504"/>
                  </a:lnTo>
                  <a:lnTo>
                    <a:pt x="217" y="531"/>
                  </a:lnTo>
                  <a:lnTo>
                    <a:pt x="177" y="561"/>
                  </a:lnTo>
                  <a:lnTo>
                    <a:pt x="127" y="591"/>
                  </a:lnTo>
                  <a:lnTo>
                    <a:pt x="70" y="621"/>
                  </a:lnTo>
                  <a:lnTo>
                    <a:pt x="0" y="655"/>
                  </a:lnTo>
                  <a:lnTo>
                    <a:pt x="16" y="675"/>
                  </a:lnTo>
                  <a:lnTo>
                    <a:pt x="36" y="695"/>
                  </a:lnTo>
                  <a:lnTo>
                    <a:pt x="57" y="715"/>
                  </a:lnTo>
                  <a:lnTo>
                    <a:pt x="77" y="735"/>
                  </a:lnTo>
                  <a:lnTo>
                    <a:pt x="97" y="755"/>
                  </a:lnTo>
                  <a:lnTo>
                    <a:pt x="117" y="772"/>
                  </a:lnTo>
                  <a:lnTo>
                    <a:pt x="137" y="788"/>
                  </a:lnTo>
                  <a:lnTo>
                    <a:pt x="157" y="805"/>
                  </a:lnTo>
                  <a:lnTo>
                    <a:pt x="167" y="815"/>
                  </a:lnTo>
                  <a:lnTo>
                    <a:pt x="177" y="828"/>
                  </a:lnTo>
                  <a:lnTo>
                    <a:pt x="187" y="842"/>
                  </a:lnTo>
                  <a:lnTo>
                    <a:pt x="200" y="852"/>
                  </a:lnTo>
                  <a:lnTo>
                    <a:pt x="217" y="865"/>
                  </a:lnTo>
                  <a:lnTo>
                    <a:pt x="234" y="878"/>
                  </a:lnTo>
                  <a:lnTo>
                    <a:pt x="250" y="892"/>
                  </a:lnTo>
                  <a:lnTo>
                    <a:pt x="270" y="9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19720" y="3755520"/>
              <a:ext cx="959760" cy="1688760"/>
            </a:xfrm>
            <a:custGeom>
              <a:avLst/>
              <a:gdLst/>
              <a:ahLst/>
              <a:rect l="l" t="t" r="r" b="b"/>
              <a:pathLst>
                <a:path w="665" h="1229">
                  <a:moveTo>
                    <a:pt x="210" y="20"/>
                  </a:moveTo>
                  <a:lnTo>
                    <a:pt x="220" y="40"/>
                  </a:lnTo>
                  <a:lnTo>
                    <a:pt x="237" y="63"/>
                  </a:lnTo>
                  <a:lnTo>
                    <a:pt x="250" y="93"/>
                  </a:lnTo>
                  <a:lnTo>
                    <a:pt x="254" y="127"/>
                  </a:lnTo>
                  <a:lnTo>
                    <a:pt x="254" y="153"/>
                  </a:lnTo>
                  <a:lnTo>
                    <a:pt x="257" y="170"/>
                  </a:lnTo>
                  <a:lnTo>
                    <a:pt x="267" y="183"/>
                  </a:lnTo>
                  <a:lnTo>
                    <a:pt x="280" y="190"/>
                  </a:lnTo>
                  <a:lnTo>
                    <a:pt x="294" y="200"/>
                  </a:lnTo>
                  <a:lnTo>
                    <a:pt x="311" y="210"/>
                  </a:lnTo>
                  <a:lnTo>
                    <a:pt x="331" y="230"/>
                  </a:lnTo>
                  <a:lnTo>
                    <a:pt x="347" y="257"/>
                  </a:lnTo>
                  <a:lnTo>
                    <a:pt x="367" y="307"/>
                  </a:lnTo>
                  <a:lnTo>
                    <a:pt x="374" y="337"/>
                  </a:lnTo>
                  <a:lnTo>
                    <a:pt x="371" y="360"/>
                  </a:lnTo>
                  <a:lnTo>
                    <a:pt x="367" y="397"/>
                  </a:lnTo>
                  <a:lnTo>
                    <a:pt x="374" y="447"/>
                  </a:lnTo>
                  <a:lnTo>
                    <a:pt x="391" y="497"/>
                  </a:lnTo>
                  <a:lnTo>
                    <a:pt x="414" y="537"/>
                  </a:lnTo>
                  <a:lnTo>
                    <a:pt x="431" y="568"/>
                  </a:lnTo>
                  <a:lnTo>
                    <a:pt x="444" y="591"/>
                  </a:lnTo>
                  <a:lnTo>
                    <a:pt x="451" y="621"/>
                  </a:lnTo>
                  <a:lnTo>
                    <a:pt x="454" y="668"/>
                  </a:lnTo>
                  <a:lnTo>
                    <a:pt x="454" y="738"/>
                  </a:lnTo>
                  <a:lnTo>
                    <a:pt x="478" y="775"/>
                  </a:lnTo>
                  <a:lnTo>
                    <a:pt x="478" y="788"/>
                  </a:lnTo>
                  <a:lnTo>
                    <a:pt x="471" y="818"/>
                  </a:lnTo>
                  <a:lnTo>
                    <a:pt x="468" y="855"/>
                  </a:lnTo>
                  <a:lnTo>
                    <a:pt x="461" y="888"/>
                  </a:lnTo>
                  <a:lnTo>
                    <a:pt x="454" y="901"/>
                  </a:lnTo>
                  <a:lnTo>
                    <a:pt x="441" y="911"/>
                  </a:lnTo>
                  <a:lnTo>
                    <a:pt x="421" y="921"/>
                  </a:lnTo>
                  <a:lnTo>
                    <a:pt x="397" y="928"/>
                  </a:lnTo>
                  <a:lnTo>
                    <a:pt x="371" y="931"/>
                  </a:lnTo>
                  <a:lnTo>
                    <a:pt x="344" y="931"/>
                  </a:lnTo>
                  <a:lnTo>
                    <a:pt x="321" y="928"/>
                  </a:lnTo>
                  <a:lnTo>
                    <a:pt x="301" y="918"/>
                  </a:lnTo>
                  <a:lnTo>
                    <a:pt x="277" y="905"/>
                  </a:lnTo>
                  <a:lnTo>
                    <a:pt x="264" y="898"/>
                  </a:lnTo>
                  <a:lnTo>
                    <a:pt x="257" y="898"/>
                  </a:lnTo>
                  <a:lnTo>
                    <a:pt x="250" y="905"/>
                  </a:lnTo>
                  <a:lnTo>
                    <a:pt x="247" y="915"/>
                  </a:lnTo>
                  <a:lnTo>
                    <a:pt x="240" y="928"/>
                  </a:lnTo>
                  <a:lnTo>
                    <a:pt x="224" y="938"/>
                  </a:lnTo>
                  <a:lnTo>
                    <a:pt x="200" y="948"/>
                  </a:lnTo>
                  <a:lnTo>
                    <a:pt x="177" y="955"/>
                  </a:lnTo>
                  <a:lnTo>
                    <a:pt x="174" y="958"/>
                  </a:lnTo>
                  <a:lnTo>
                    <a:pt x="177" y="958"/>
                  </a:lnTo>
                  <a:lnTo>
                    <a:pt x="184" y="962"/>
                  </a:lnTo>
                  <a:lnTo>
                    <a:pt x="190" y="965"/>
                  </a:lnTo>
                  <a:lnTo>
                    <a:pt x="194" y="972"/>
                  </a:lnTo>
                  <a:lnTo>
                    <a:pt x="180" y="982"/>
                  </a:lnTo>
                  <a:lnTo>
                    <a:pt x="154" y="998"/>
                  </a:lnTo>
                  <a:lnTo>
                    <a:pt x="123" y="1015"/>
                  </a:lnTo>
                  <a:lnTo>
                    <a:pt x="103" y="1032"/>
                  </a:lnTo>
                  <a:lnTo>
                    <a:pt x="87" y="1048"/>
                  </a:lnTo>
                  <a:lnTo>
                    <a:pt x="73" y="1065"/>
                  </a:lnTo>
                  <a:lnTo>
                    <a:pt x="63" y="1078"/>
                  </a:lnTo>
                  <a:lnTo>
                    <a:pt x="47" y="1095"/>
                  </a:lnTo>
                  <a:lnTo>
                    <a:pt x="27" y="1105"/>
                  </a:lnTo>
                  <a:lnTo>
                    <a:pt x="0" y="1118"/>
                  </a:lnTo>
                  <a:lnTo>
                    <a:pt x="17" y="1125"/>
                  </a:lnTo>
                  <a:lnTo>
                    <a:pt x="37" y="1132"/>
                  </a:lnTo>
                  <a:lnTo>
                    <a:pt x="57" y="1135"/>
                  </a:lnTo>
                  <a:lnTo>
                    <a:pt x="77" y="1142"/>
                  </a:lnTo>
                  <a:lnTo>
                    <a:pt x="73" y="1159"/>
                  </a:lnTo>
                  <a:lnTo>
                    <a:pt x="70" y="1182"/>
                  </a:lnTo>
                  <a:lnTo>
                    <a:pt x="63" y="1205"/>
                  </a:lnTo>
                  <a:lnTo>
                    <a:pt x="60" y="1229"/>
                  </a:lnTo>
                  <a:lnTo>
                    <a:pt x="77" y="1222"/>
                  </a:lnTo>
                  <a:lnTo>
                    <a:pt x="93" y="1212"/>
                  </a:lnTo>
                  <a:lnTo>
                    <a:pt x="113" y="1202"/>
                  </a:lnTo>
                  <a:lnTo>
                    <a:pt x="137" y="1189"/>
                  </a:lnTo>
                  <a:lnTo>
                    <a:pt x="157" y="1179"/>
                  </a:lnTo>
                  <a:lnTo>
                    <a:pt x="180" y="1169"/>
                  </a:lnTo>
                  <a:lnTo>
                    <a:pt x="200" y="1159"/>
                  </a:lnTo>
                  <a:lnTo>
                    <a:pt x="220" y="1152"/>
                  </a:lnTo>
                  <a:lnTo>
                    <a:pt x="240" y="1142"/>
                  </a:lnTo>
                  <a:lnTo>
                    <a:pt x="254" y="1128"/>
                  </a:lnTo>
                  <a:lnTo>
                    <a:pt x="260" y="1122"/>
                  </a:lnTo>
                  <a:lnTo>
                    <a:pt x="267" y="1112"/>
                  </a:lnTo>
                  <a:lnTo>
                    <a:pt x="280" y="1108"/>
                  </a:lnTo>
                  <a:lnTo>
                    <a:pt x="297" y="1108"/>
                  </a:lnTo>
                  <a:lnTo>
                    <a:pt x="327" y="1115"/>
                  </a:lnTo>
                  <a:lnTo>
                    <a:pt x="374" y="1125"/>
                  </a:lnTo>
                  <a:lnTo>
                    <a:pt x="394" y="1132"/>
                  </a:lnTo>
                  <a:lnTo>
                    <a:pt x="404" y="1135"/>
                  </a:lnTo>
                  <a:lnTo>
                    <a:pt x="414" y="1139"/>
                  </a:lnTo>
                  <a:lnTo>
                    <a:pt x="424" y="1135"/>
                  </a:lnTo>
                  <a:lnTo>
                    <a:pt x="441" y="1118"/>
                  </a:lnTo>
                  <a:lnTo>
                    <a:pt x="454" y="1095"/>
                  </a:lnTo>
                  <a:lnTo>
                    <a:pt x="468" y="1058"/>
                  </a:lnTo>
                  <a:lnTo>
                    <a:pt x="488" y="1018"/>
                  </a:lnTo>
                  <a:lnTo>
                    <a:pt x="491" y="1015"/>
                  </a:lnTo>
                  <a:lnTo>
                    <a:pt x="494" y="1008"/>
                  </a:lnTo>
                  <a:lnTo>
                    <a:pt x="494" y="1005"/>
                  </a:lnTo>
                  <a:lnTo>
                    <a:pt x="498" y="1002"/>
                  </a:lnTo>
                  <a:lnTo>
                    <a:pt x="504" y="1002"/>
                  </a:lnTo>
                  <a:lnTo>
                    <a:pt x="518" y="998"/>
                  </a:lnTo>
                  <a:lnTo>
                    <a:pt x="534" y="992"/>
                  </a:lnTo>
                  <a:lnTo>
                    <a:pt x="558" y="978"/>
                  </a:lnTo>
                  <a:lnTo>
                    <a:pt x="578" y="965"/>
                  </a:lnTo>
                  <a:lnTo>
                    <a:pt x="598" y="948"/>
                  </a:lnTo>
                  <a:lnTo>
                    <a:pt x="608" y="925"/>
                  </a:lnTo>
                  <a:lnTo>
                    <a:pt x="611" y="898"/>
                  </a:lnTo>
                  <a:lnTo>
                    <a:pt x="618" y="878"/>
                  </a:lnTo>
                  <a:lnTo>
                    <a:pt x="638" y="845"/>
                  </a:lnTo>
                  <a:lnTo>
                    <a:pt x="658" y="811"/>
                  </a:lnTo>
                  <a:lnTo>
                    <a:pt x="665" y="791"/>
                  </a:lnTo>
                  <a:lnTo>
                    <a:pt x="661" y="795"/>
                  </a:lnTo>
                  <a:lnTo>
                    <a:pt x="651" y="795"/>
                  </a:lnTo>
                  <a:lnTo>
                    <a:pt x="635" y="781"/>
                  </a:lnTo>
                  <a:lnTo>
                    <a:pt x="608" y="748"/>
                  </a:lnTo>
                  <a:lnTo>
                    <a:pt x="585" y="698"/>
                  </a:lnTo>
                  <a:lnTo>
                    <a:pt x="574" y="641"/>
                  </a:lnTo>
                  <a:lnTo>
                    <a:pt x="578" y="588"/>
                  </a:lnTo>
                  <a:lnTo>
                    <a:pt x="595" y="537"/>
                  </a:lnTo>
                  <a:lnTo>
                    <a:pt x="601" y="497"/>
                  </a:lnTo>
                  <a:lnTo>
                    <a:pt x="588" y="464"/>
                  </a:lnTo>
                  <a:lnTo>
                    <a:pt x="564" y="431"/>
                  </a:lnTo>
                  <a:lnTo>
                    <a:pt x="541" y="384"/>
                  </a:lnTo>
                  <a:lnTo>
                    <a:pt x="538" y="350"/>
                  </a:lnTo>
                  <a:lnTo>
                    <a:pt x="544" y="350"/>
                  </a:lnTo>
                  <a:lnTo>
                    <a:pt x="558" y="364"/>
                  </a:lnTo>
                  <a:lnTo>
                    <a:pt x="564" y="370"/>
                  </a:lnTo>
                  <a:lnTo>
                    <a:pt x="564" y="367"/>
                  </a:lnTo>
                  <a:lnTo>
                    <a:pt x="564" y="350"/>
                  </a:lnTo>
                  <a:lnTo>
                    <a:pt x="551" y="320"/>
                  </a:lnTo>
                  <a:lnTo>
                    <a:pt x="521" y="274"/>
                  </a:lnTo>
                  <a:lnTo>
                    <a:pt x="501" y="240"/>
                  </a:lnTo>
                  <a:lnTo>
                    <a:pt x="511" y="237"/>
                  </a:lnTo>
                  <a:lnTo>
                    <a:pt x="534" y="247"/>
                  </a:lnTo>
                  <a:lnTo>
                    <a:pt x="548" y="254"/>
                  </a:lnTo>
                  <a:lnTo>
                    <a:pt x="498" y="194"/>
                  </a:lnTo>
                  <a:lnTo>
                    <a:pt x="521" y="180"/>
                  </a:lnTo>
                  <a:lnTo>
                    <a:pt x="514" y="177"/>
                  </a:lnTo>
                  <a:lnTo>
                    <a:pt x="498" y="163"/>
                  </a:lnTo>
                  <a:lnTo>
                    <a:pt x="474" y="150"/>
                  </a:lnTo>
                  <a:lnTo>
                    <a:pt x="454" y="130"/>
                  </a:lnTo>
                  <a:lnTo>
                    <a:pt x="448" y="107"/>
                  </a:lnTo>
                  <a:lnTo>
                    <a:pt x="444" y="77"/>
                  </a:lnTo>
                  <a:lnTo>
                    <a:pt x="438" y="43"/>
                  </a:lnTo>
                  <a:lnTo>
                    <a:pt x="417" y="0"/>
                  </a:lnTo>
                  <a:lnTo>
                    <a:pt x="397" y="7"/>
                  </a:lnTo>
                  <a:lnTo>
                    <a:pt x="371" y="10"/>
                  </a:lnTo>
                  <a:lnTo>
                    <a:pt x="341" y="13"/>
                  </a:lnTo>
                  <a:lnTo>
                    <a:pt x="314" y="17"/>
                  </a:lnTo>
                  <a:lnTo>
                    <a:pt x="284" y="17"/>
                  </a:lnTo>
                  <a:lnTo>
                    <a:pt x="254" y="20"/>
                  </a:lnTo>
                  <a:lnTo>
                    <a:pt x="230" y="20"/>
                  </a:lnTo>
                  <a:lnTo>
                    <a:pt x="21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10640" y="3622320"/>
              <a:ext cx="568800" cy="1168920"/>
            </a:xfrm>
            <a:custGeom>
              <a:avLst/>
              <a:gdLst/>
              <a:ahLst/>
              <a:rect l="l" t="t" r="r" b="b"/>
              <a:pathLst>
                <a:path w="394" h="851">
                  <a:moveTo>
                    <a:pt x="227" y="0"/>
                  </a:moveTo>
                  <a:lnTo>
                    <a:pt x="230" y="13"/>
                  </a:lnTo>
                  <a:lnTo>
                    <a:pt x="220" y="33"/>
                  </a:lnTo>
                  <a:lnTo>
                    <a:pt x="210" y="57"/>
                  </a:lnTo>
                  <a:lnTo>
                    <a:pt x="220" y="80"/>
                  </a:lnTo>
                  <a:lnTo>
                    <a:pt x="197" y="94"/>
                  </a:lnTo>
                  <a:lnTo>
                    <a:pt x="204" y="100"/>
                  </a:lnTo>
                  <a:lnTo>
                    <a:pt x="217" y="117"/>
                  </a:lnTo>
                  <a:lnTo>
                    <a:pt x="237" y="140"/>
                  </a:lnTo>
                  <a:lnTo>
                    <a:pt x="264" y="160"/>
                  </a:lnTo>
                  <a:lnTo>
                    <a:pt x="284" y="177"/>
                  </a:lnTo>
                  <a:lnTo>
                    <a:pt x="294" y="207"/>
                  </a:lnTo>
                  <a:lnTo>
                    <a:pt x="304" y="250"/>
                  </a:lnTo>
                  <a:lnTo>
                    <a:pt x="324" y="314"/>
                  </a:lnTo>
                  <a:lnTo>
                    <a:pt x="344" y="307"/>
                  </a:lnTo>
                  <a:lnTo>
                    <a:pt x="347" y="314"/>
                  </a:lnTo>
                  <a:lnTo>
                    <a:pt x="357" y="341"/>
                  </a:lnTo>
                  <a:lnTo>
                    <a:pt x="364" y="394"/>
                  </a:lnTo>
                  <a:lnTo>
                    <a:pt x="367" y="481"/>
                  </a:lnTo>
                  <a:lnTo>
                    <a:pt x="361" y="558"/>
                  </a:lnTo>
                  <a:lnTo>
                    <a:pt x="357" y="591"/>
                  </a:lnTo>
                  <a:lnTo>
                    <a:pt x="361" y="624"/>
                  </a:lnTo>
                  <a:lnTo>
                    <a:pt x="367" y="701"/>
                  </a:lnTo>
                  <a:lnTo>
                    <a:pt x="394" y="678"/>
                  </a:lnTo>
                  <a:lnTo>
                    <a:pt x="391" y="695"/>
                  </a:lnTo>
                  <a:lnTo>
                    <a:pt x="381" y="735"/>
                  </a:lnTo>
                  <a:lnTo>
                    <a:pt x="354" y="791"/>
                  </a:lnTo>
                  <a:lnTo>
                    <a:pt x="307" y="851"/>
                  </a:lnTo>
                  <a:lnTo>
                    <a:pt x="304" y="845"/>
                  </a:lnTo>
                  <a:lnTo>
                    <a:pt x="297" y="821"/>
                  </a:lnTo>
                  <a:lnTo>
                    <a:pt x="290" y="791"/>
                  </a:lnTo>
                  <a:lnTo>
                    <a:pt x="294" y="755"/>
                  </a:lnTo>
                  <a:lnTo>
                    <a:pt x="294" y="721"/>
                  </a:lnTo>
                  <a:lnTo>
                    <a:pt x="284" y="691"/>
                  </a:lnTo>
                  <a:lnTo>
                    <a:pt x="264" y="654"/>
                  </a:lnTo>
                  <a:lnTo>
                    <a:pt x="244" y="604"/>
                  </a:lnTo>
                  <a:lnTo>
                    <a:pt x="280" y="591"/>
                  </a:lnTo>
                  <a:lnTo>
                    <a:pt x="270" y="581"/>
                  </a:lnTo>
                  <a:lnTo>
                    <a:pt x="250" y="551"/>
                  </a:lnTo>
                  <a:lnTo>
                    <a:pt x="227" y="518"/>
                  </a:lnTo>
                  <a:lnTo>
                    <a:pt x="214" y="481"/>
                  </a:lnTo>
                  <a:lnTo>
                    <a:pt x="234" y="467"/>
                  </a:lnTo>
                  <a:lnTo>
                    <a:pt x="227" y="457"/>
                  </a:lnTo>
                  <a:lnTo>
                    <a:pt x="210" y="431"/>
                  </a:lnTo>
                  <a:lnTo>
                    <a:pt x="194" y="397"/>
                  </a:lnTo>
                  <a:lnTo>
                    <a:pt x="184" y="371"/>
                  </a:lnTo>
                  <a:lnTo>
                    <a:pt x="180" y="361"/>
                  </a:lnTo>
                  <a:lnTo>
                    <a:pt x="173" y="351"/>
                  </a:lnTo>
                  <a:lnTo>
                    <a:pt x="167" y="344"/>
                  </a:lnTo>
                  <a:lnTo>
                    <a:pt x="157" y="334"/>
                  </a:lnTo>
                  <a:lnTo>
                    <a:pt x="143" y="324"/>
                  </a:lnTo>
                  <a:lnTo>
                    <a:pt x="127" y="314"/>
                  </a:lnTo>
                  <a:lnTo>
                    <a:pt x="107" y="304"/>
                  </a:lnTo>
                  <a:lnTo>
                    <a:pt x="83" y="291"/>
                  </a:lnTo>
                  <a:lnTo>
                    <a:pt x="43" y="264"/>
                  </a:lnTo>
                  <a:lnTo>
                    <a:pt x="30" y="237"/>
                  </a:lnTo>
                  <a:lnTo>
                    <a:pt x="23" y="210"/>
                  </a:lnTo>
                  <a:lnTo>
                    <a:pt x="10" y="174"/>
                  </a:lnTo>
                  <a:lnTo>
                    <a:pt x="0" y="147"/>
                  </a:lnTo>
                  <a:lnTo>
                    <a:pt x="6" y="134"/>
                  </a:lnTo>
                  <a:lnTo>
                    <a:pt x="16" y="130"/>
                  </a:lnTo>
                  <a:lnTo>
                    <a:pt x="23" y="130"/>
                  </a:lnTo>
                  <a:lnTo>
                    <a:pt x="0" y="87"/>
                  </a:lnTo>
                  <a:lnTo>
                    <a:pt x="16" y="67"/>
                  </a:lnTo>
                  <a:lnTo>
                    <a:pt x="16" y="63"/>
                  </a:lnTo>
                  <a:lnTo>
                    <a:pt x="16" y="60"/>
                  </a:lnTo>
                  <a:lnTo>
                    <a:pt x="16" y="53"/>
                  </a:lnTo>
                  <a:lnTo>
                    <a:pt x="13" y="47"/>
                  </a:lnTo>
                  <a:lnTo>
                    <a:pt x="30" y="43"/>
                  </a:lnTo>
                  <a:lnTo>
                    <a:pt x="53" y="37"/>
                  </a:lnTo>
                  <a:lnTo>
                    <a:pt x="83" y="30"/>
                  </a:lnTo>
                  <a:lnTo>
                    <a:pt x="117" y="23"/>
                  </a:lnTo>
                  <a:lnTo>
                    <a:pt x="150" y="17"/>
                  </a:lnTo>
                  <a:lnTo>
                    <a:pt x="180" y="10"/>
                  </a:lnTo>
                  <a:lnTo>
                    <a:pt x="207" y="3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7360" y="3612600"/>
              <a:ext cx="501840" cy="1270800"/>
            </a:xfrm>
            <a:custGeom>
              <a:avLst/>
              <a:gdLst/>
              <a:ahLst/>
              <a:rect l="l" t="t" r="r" b="b"/>
              <a:pathLst>
                <a:path w="348" h="925">
                  <a:moveTo>
                    <a:pt x="57" y="0"/>
                  </a:moveTo>
                  <a:lnTo>
                    <a:pt x="64" y="64"/>
                  </a:lnTo>
                  <a:lnTo>
                    <a:pt x="61" y="127"/>
                  </a:lnTo>
                  <a:lnTo>
                    <a:pt x="64" y="194"/>
                  </a:lnTo>
                  <a:lnTo>
                    <a:pt x="84" y="247"/>
                  </a:lnTo>
                  <a:lnTo>
                    <a:pt x="104" y="274"/>
                  </a:lnTo>
                  <a:lnTo>
                    <a:pt x="127" y="301"/>
                  </a:lnTo>
                  <a:lnTo>
                    <a:pt x="147" y="324"/>
                  </a:lnTo>
                  <a:lnTo>
                    <a:pt x="167" y="348"/>
                  </a:lnTo>
                  <a:lnTo>
                    <a:pt x="184" y="374"/>
                  </a:lnTo>
                  <a:lnTo>
                    <a:pt x="191" y="398"/>
                  </a:lnTo>
                  <a:lnTo>
                    <a:pt x="194" y="424"/>
                  </a:lnTo>
                  <a:lnTo>
                    <a:pt x="187" y="451"/>
                  </a:lnTo>
                  <a:lnTo>
                    <a:pt x="161" y="491"/>
                  </a:lnTo>
                  <a:lnTo>
                    <a:pt x="134" y="518"/>
                  </a:lnTo>
                  <a:lnTo>
                    <a:pt x="121" y="545"/>
                  </a:lnTo>
                  <a:lnTo>
                    <a:pt x="127" y="591"/>
                  </a:lnTo>
                  <a:lnTo>
                    <a:pt x="134" y="648"/>
                  </a:lnTo>
                  <a:lnTo>
                    <a:pt x="127" y="695"/>
                  </a:lnTo>
                  <a:lnTo>
                    <a:pt x="111" y="728"/>
                  </a:lnTo>
                  <a:lnTo>
                    <a:pt x="91" y="748"/>
                  </a:lnTo>
                  <a:lnTo>
                    <a:pt x="77" y="755"/>
                  </a:lnTo>
                  <a:lnTo>
                    <a:pt x="67" y="758"/>
                  </a:lnTo>
                  <a:lnTo>
                    <a:pt x="57" y="758"/>
                  </a:lnTo>
                  <a:lnTo>
                    <a:pt x="61" y="762"/>
                  </a:lnTo>
                  <a:lnTo>
                    <a:pt x="87" y="765"/>
                  </a:lnTo>
                  <a:lnTo>
                    <a:pt x="107" y="762"/>
                  </a:lnTo>
                  <a:lnTo>
                    <a:pt x="121" y="758"/>
                  </a:lnTo>
                  <a:lnTo>
                    <a:pt x="127" y="755"/>
                  </a:lnTo>
                  <a:lnTo>
                    <a:pt x="104" y="788"/>
                  </a:lnTo>
                  <a:lnTo>
                    <a:pt x="77" y="818"/>
                  </a:lnTo>
                  <a:lnTo>
                    <a:pt x="50" y="848"/>
                  </a:lnTo>
                  <a:lnTo>
                    <a:pt x="27" y="875"/>
                  </a:lnTo>
                  <a:lnTo>
                    <a:pt x="10" y="899"/>
                  </a:lnTo>
                  <a:lnTo>
                    <a:pt x="0" y="915"/>
                  </a:lnTo>
                  <a:lnTo>
                    <a:pt x="0" y="922"/>
                  </a:lnTo>
                  <a:lnTo>
                    <a:pt x="17" y="925"/>
                  </a:lnTo>
                  <a:lnTo>
                    <a:pt x="40" y="919"/>
                  </a:lnTo>
                  <a:lnTo>
                    <a:pt x="57" y="912"/>
                  </a:lnTo>
                  <a:lnTo>
                    <a:pt x="74" y="899"/>
                  </a:lnTo>
                  <a:lnTo>
                    <a:pt x="87" y="885"/>
                  </a:lnTo>
                  <a:lnTo>
                    <a:pt x="104" y="869"/>
                  </a:lnTo>
                  <a:lnTo>
                    <a:pt x="121" y="848"/>
                  </a:lnTo>
                  <a:lnTo>
                    <a:pt x="141" y="825"/>
                  </a:lnTo>
                  <a:lnTo>
                    <a:pt x="164" y="798"/>
                  </a:lnTo>
                  <a:lnTo>
                    <a:pt x="191" y="772"/>
                  </a:lnTo>
                  <a:lnTo>
                    <a:pt x="214" y="748"/>
                  </a:lnTo>
                  <a:lnTo>
                    <a:pt x="231" y="728"/>
                  </a:lnTo>
                  <a:lnTo>
                    <a:pt x="251" y="708"/>
                  </a:lnTo>
                  <a:lnTo>
                    <a:pt x="264" y="685"/>
                  </a:lnTo>
                  <a:lnTo>
                    <a:pt x="274" y="661"/>
                  </a:lnTo>
                  <a:lnTo>
                    <a:pt x="288" y="635"/>
                  </a:lnTo>
                  <a:lnTo>
                    <a:pt x="294" y="605"/>
                  </a:lnTo>
                  <a:lnTo>
                    <a:pt x="301" y="558"/>
                  </a:lnTo>
                  <a:lnTo>
                    <a:pt x="294" y="531"/>
                  </a:lnTo>
                  <a:lnTo>
                    <a:pt x="288" y="511"/>
                  </a:lnTo>
                  <a:lnTo>
                    <a:pt x="288" y="474"/>
                  </a:lnTo>
                  <a:lnTo>
                    <a:pt x="304" y="434"/>
                  </a:lnTo>
                  <a:lnTo>
                    <a:pt x="324" y="411"/>
                  </a:lnTo>
                  <a:lnTo>
                    <a:pt x="341" y="404"/>
                  </a:lnTo>
                  <a:lnTo>
                    <a:pt x="348" y="401"/>
                  </a:lnTo>
                  <a:lnTo>
                    <a:pt x="314" y="364"/>
                  </a:lnTo>
                  <a:lnTo>
                    <a:pt x="298" y="328"/>
                  </a:lnTo>
                  <a:lnTo>
                    <a:pt x="291" y="301"/>
                  </a:lnTo>
                  <a:lnTo>
                    <a:pt x="288" y="291"/>
                  </a:lnTo>
                  <a:lnTo>
                    <a:pt x="318" y="284"/>
                  </a:lnTo>
                  <a:lnTo>
                    <a:pt x="274" y="227"/>
                  </a:lnTo>
                  <a:lnTo>
                    <a:pt x="261" y="154"/>
                  </a:lnTo>
                  <a:lnTo>
                    <a:pt x="241" y="90"/>
                  </a:lnTo>
                  <a:lnTo>
                    <a:pt x="221" y="44"/>
                  </a:lnTo>
                  <a:lnTo>
                    <a:pt x="204" y="10"/>
                  </a:lnTo>
                  <a:lnTo>
                    <a:pt x="184" y="10"/>
                  </a:lnTo>
                  <a:lnTo>
                    <a:pt x="164" y="7"/>
                  </a:lnTo>
                  <a:lnTo>
                    <a:pt x="144" y="7"/>
                  </a:lnTo>
                  <a:lnTo>
                    <a:pt x="127" y="4"/>
                  </a:lnTo>
                  <a:lnTo>
                    <a:pt x="107" y="4"/>
                  </a:lnTo>
                  <a:lnTo>
                    <a:pt x="91" y="4"/>
                  </a:lnTo>
                  <a:lnTo>
                    <a:pt x="74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97560" y="3484800"/>
              <a:ext cx="1152000" cy="2284920"/>
            </a:xfrm>
            <a:custGeom>
              <a:avLst/>
              <a:gdLst/>
              <a:ahLst/>
              <a:rect l="l" t="t" r="r" b="b"/>
              <a:pathLst>
                <a:path w="798" h="1663">
                  <a:moveTo>
                    <a:pt x="681" y="0"/>
                  </a:moveTo>
                  <a:lnTo>
                    <a:pt x="685" y="10"/>
                  </a:lnTo>
                  <a:lnTo>
                    <a:pt x="688" y="20"/>
                  </a:lnTo>
                  <a:lnTo>
                    <a:pt x="691" y="30"/>
                  </a:lnTo>
                  <a:lnTo>
                    <a:pt x="711" y="40"/>
                  </a:lnTo>
                  <a:lnTo>
                    <a:pt x="738" y="60"/>
                  </a:lnTo>
                  <a:lnTo>
                    <a:pt x="755" y="80"/>
                  </a:lnTo>
                  <a:lnTo>
                    <a:pt x="765" y="103"/>
                  </a:lnTo>
                  <a:lnTo>
                    <a:pt x="775" y="137"/>
                  </a:lnTo>
                  <a:lnTo>
                    <a:pt x="781" y="177"/>
                  </a:lnTo>
                  <a:lnTo>
                    <a:pt x="775" y="214"/>
                  </a:lnTo>
                  <a:lnTo>
                    <a:pt x="765" y="244"/>
                  </a:lnTo>
                  <a:lnTo>
                    <a:pt x="761" y="254"/>
                  </a:lnTo>
                  <a:lnTo>
                    <a:pt x="771" y="287"/>
                  </a:lnTo>
                  <a:lnTo>
                    <a:pt x="775" y="304"/>
                  </a:lnTo>
                  <a:lnTo>
                    <a:pt x="775" y="320"/>
                  </a:lnTo>
                  <a:lnTo>
                    <a:pt x="781" y="340"/>
                  </a:lnTo>
                  <a:lnTo>
                    <a:pt x="791" y="367"/>
                  </a:lnTo>
                  <a:lnTo>
                    <a:pt x="798" y="391"/>
                  </a:lnTo>
                  <a:lnTo>
                    <a:pt x="788" y="407"/>
                  </a:lnTo>
                  <a:lnTo>
                    <a:pt x="761" y="421"/>
                  </a:lnTo>
                  <a:lnTo>
                    <a:pt x="745" y="427"/>
                  </a:lnTo>
                  <a:lnTo>
                    <a:pt x="728" y="437"/>
                  </a:lnTo>
                  <a:lnTo>
                    <a:pt x="711" y="447"/>
                  </a:lnTo>
                  <a:lnTo>
                    <a:pt x="698" y="454"/>
                  </a:lnTo>
                  <a:lnTo>
                    <a:pt x="681" y="457"/>
                  </a:lnTo>
                  <a:lnTo>
                    <a:pt x="668" y="454"/>
                  </a:lnTo>
                  <a:lnTo>
                    <a:pt x="651" y="444"/>
                  </a:lnTo>
                  <a:lnTo>
                    <a:pt x="631" y="421"/>
                  </a:lnTo>
                  <a:lnTo>
                    <a:pt x="611" y="397"/>
                  </a:lnTo>
                  <a:lnTo>
                    <a:pt x="594" y="384"/>
                  </a:lnTo>
                  <a:lnTo>
                    <a:pt x="578" y="377"/>
                  </a:lnTo>
                  <a:lnTo>
                    <a:pt x="561" y="377"/>
                  </a:lnTo>
                  <a:lnTo>
                    <a:pt x="548" y="380"/>
                  </a:lnTo>
                  <a:lnTo>
                    <a:pt x="531" y="380"/>
                  </a:lnTo>
                  <a:lnTo>
                    <a:pt x="517" y="384"/>
                  </a:lnTo>
                  <a:lnTo>
                    <a:pt x="501" y="384"/>
                  </a:lnTo>
                  <a:lnTo>
                    <a:pt x="467" y="384"/>
                  </a:lnTo>
                  <a:lnTo>
                    <a:pt x="441" y="397"/>
                  </a:lnTo>
                  <a:lnTo>
                    <a:pt x="431" y="414"/>
                  </a:lnTo>
                  <a:lnTo>
                    <a:pt x="447" y="437"/>
                  </a:lnTo>
                  <a:lnTo>
                    <a:pt x="471" y="457"/>
                  </a:lnTo>
                  <a:lnTo>
                    <a:pt x="487" y="474"/>
                  </a:lnTo>
                  <a:lnTo>
                    <a:pt x="504" y="487"/>
                  </a:lnTo>
                  <a:lnTo>
                    <a:pt x="528" y="494"/>
                  </a:lnTo>
                  <a:lnTo>
                    <a:pt x="541" y="494"/>
                  </a:lnTo>
                  <a:lnTo>
                    <a:pt x="558" y="494"/>
                  </a:lnTo>
                  <a:lnTo>
                    <a:pt x="571" y="494"/>
                  </a:lnTo>
                  <a:lnTo>
                    <a:pt x="588" y="491"/>
                  </a:lnTo>
                  <a:lnTo>
                    <a:pt x="604" y="494"/>
                  </a:lnTo>
                  <a:lnTo>
                    <a:pt x="624" y="501"/>
                  </a:lnTo>
                  <a:lnTo>
                    <a:pt x="641" y="511"/>
                  </a:lnTo>
                  <a:lnTo>
                    <a:pt x="658" y="531"/>
                  </a:lnTo>
                  <a:lnTo>
                    <a:pt x="675" y="554"/>
                  </a:lnTo>
                  <a:lnTo>
                    <a:pt x="695" y="581"/>
                  </a:lnTo>
                  <a:lnTo>
                    <a:pt x="711" y="608"/>
                  </a:lnTo>
                  <a:lnTo>
                    <a:pt x="728" y="631"/>
                  </a:lnTo>
                  <a:lnTo>
                    <a:pt x="741" y="654"/>
                  </a:lnTo>
                  <a:lnTo>
                    <a:pt x="751" y="674"/>
                  </a:lnTo>
                  <a:lnTo>
                    <a:pt x="758" y="688"/>
                  </a:lnTo>
                  <a:lnTo>
                    <a:pt x="761" y="691"/>
                  </a:lnTo>
                  <a:lnTo>
                    <a:pt x="735" y="674"/>
                  </a:lnTo>
                  <a:lnTo>
                    <a:pt x="718" y="661"/>
                  </a:lnTo>
                  <a:lnTo>
                    <a:pt x="705" y="654"/>
                  </a:lnTo>
                  <a:lnTo>
                    <a:pt x="701" y="654"/>
                  </a:lnTo>
                  <a:lnTo>
                    <a:pt x="695" y="654"/>
                  </a:lnTo>
                  <a:lnTo>
                    <a:pt x="688" y="658"/>
                  </a:lnTo>
                  <a:lnTo>
                    <a:pt x="675" y="664"/>
                  </a:lnTo>
                  <a:lnTo>
                    <a:pt x="651" y="671"/>
                  </a:lnTo>
                  <a:lnTo>
                    <a:pt x="624" y="674"/>
                  </a:lnTo>
                  <a:lnTo>
                    <a:pt x="604" y="674"/>
                  </a:lnTo>
                  <a:lnTo>
                    <a:pt x="588" y="674"/>
                  </a:lnTo>
                  <a:lnTo>
                    <a:pt x="571" y="674"/>
                  </a:lnTo>
                  <a:lnTo>
                    <a:pt x="558" y="674"/>
                  </a:lnTo>
                  <a:lnTo>
                    <a:pt x="548" y="674"/>
                  </a:lnTo>
                  <a:lnTo>
                    <a:pt x="534" y="678"/>
                  </a:lnTo>
                  <a:lnTo>
                    <a:pt x="521" y="684"/>
                  </a:lnTo>
                  <a:lnTo>
                    <a:pt x="494" y="704"/>
                  </a:lnTo>
                  <a:lnTo>
                    <a:pt x="477" y="738"/>
                  </a:lnTo>
                  <a:lnTo>
                    <a:pt x="467" y="785"/>
                  </a:lnTo>
                  <a:lnTo>
                    <a:pt x="461" y="841"/>
                  </a:lnTo>
                  <a:lnTo>
                    <a:pt x="457" y="871"/>
                  </a:lnTo>
                  <a:lnTo>
                    <a:pt x="447" y="901"/>
                  </a:lnTo>
                  <a:lnTo>
                    <a:pt x="434" y="928"/>
                  </a:lnTo>
                  <a:lnTo>
                    <a:pt x="417" y="955"/>
                  </a:lnTo>
                  <a:lnTo>
                    <a:pt x="401" y="982"/>
                  </a:lnTo>
                  <a:lnTo>
                    <a:pt x="381" y="1008"/>
                  </a:lnTo>
                  <a:lnTo>
                    <a:pt x="360" y="1038"/>
                  </a:lnTo>
                  <a:lnTo>
                    <a:pt x="340" y="1068"/>
                  </a:lnTo>
                  <a:lnTo>
                    <a:pt x="324" y="1098"/>
                  </a:lnTo>
                  <a:lnTo>
                    <a:pt x="307" y="1122"/>
                  </a:lnTo>
                  <a:lnTo>
                    <a:pt x="297" y="1145"/>
                  </a:lnTo>
                  <a:lnTo>
                    <a:pt x="284" y="1162"/>
                  </a:lnTo>
                  <a:lnTo>
                    <a:pt x="270" y="1182"/>
                  </a:lnTo>
                  <a:lnTo>
                    <a:pt x="257" y="1199"/>
                  </a:lnTo>
                  <a:lnTo>
                    <a:pt x="240" y="1215"/>
                  </a:lnTo>
                  <a:lnTo>
                    <a:pt x="223" y="1235"/>
                  </a:lnTo>
                  <a:lnTo>
                    <a:pt x="207" y="1255"/>
                  </a:lnTo>
                  <a:lnTo>
                    <a:pt x="200" y="1275"/>
                  </a:lnTo>
                  <a:lnTo>
                    <a:pt x="200" y="1292"/>
                  </a:lnTo>
                  <a:lnTo>
                    <a:pt x="207" y="1305"/>
                  </a:lnTo>
                  <a:lnTo>
                    <a:pt x="217" y="1312"/>
                  </a:lnTo>
                  <a:lnTo>
                    <a:pt x="234" y="1312"/>
                  </a:lnTo>
                  <a:lnTo>
                    <a:pt x="254" y="1309"/>
                  </a:lnTo>
                  <a:lnTo>
                    <a:pt x="277" y="1295"/>
                  </a:lnTo>
                  <a:lnTo>
                    <a:pt x="314" y="1255"/>
                  </a:lnTo>
                  <a:lnTo>
                    <a:pt x="330" y="1212"/>
                  </a:lnTo>
                  <a:lnTo>
                    <a:pt x="347" y="1169"/>
                  </a:lnTo>
                  <a:lnTo>
                    <a:pt x="374" y="1135"/>
                  </a:lnTo>
                  <a:lnTo>
                    <a:pt x="401" y="1118"/>
                  </a:lnTo>
                  <a:lnTo>
                    <a:pt x="417" y="1112"/>
                  </a:lnTo>
                  <a:lnTo>
                    <a:pt x="431" y="1112"/>
                  </a:lnTo>
                  <a:lnTo>
                    <a:pt x="454" y="1098"/>
                  </a:lnTo>
                  <a:lnTo>
                    <a:pt x="477" y="1075"/>
                  </a:lnTo>
                  <a:lnTo>
                    <a:pt x="491" y="1048"/>
                  </a:lnTo>
                  <a:lnTo>
                    <a:pt x="504" y="1035"/>
                  </a:lnTo>
                  <a:lnTo>
                    <a:pt x="528" y="1038"/>
                  </a:lnTo>
                  <a:lnTo>
                    <a:pt x="558" y="1052"/>
                  </a:lnTo>
                  <a:lnTo>
                    <a:pt x="588" y="1062"/>
                  </a:lnTo>
                  <a:lnTo>
                    <a:pt x="611" y="1065"/>
                  </a:lnTo>
                  <a:lnTo>
                    <a:pt x="621" y="1065"/>
                  </a:lnTo>
                  <a:lnTo>
                    <a:pt x="608" y="1092"/>
                  </a:lnTo>
                  <a:lnTo>
                    <a:pt x="594" y="1118"/>
                  </a:lnTo>
                  <a:lnTo>
                    <a:pt x="581" y="1149"/>
                  </a:lnTo>
                  <a:lnTo>
                    <a:pt x="571" y="1179"/>
                  </a:lnTo>
                  <a:lnTo>
                    <a:pt x="538" y="1179"/>
                  </a:lnTo>
                  <a:lnTo>
                    <a:pt x="517" y="1179"/>
                  </a:lnTo>
                  <a:lnTo>
                    <a:pt x="507" y="1182"/>
                  </a:lnTo>
                  <a:lnTo>
                    <a:pt x="501" y="1185"/>
                  </a:lnTo>
                  <a:lnTo>
                    <a:pt x="497" y="1189"/>
                  </a:lnTo>
                  <a:lnTo>
                    <a:pt x="497" y="1195"/>
                  </a:lnTo>
                  <a:lnTo>
                    <a:pt x="491" y="1209"/>
                  </a:lnTo>
                  <a:lnTo>
                    <a:pt x="481" y="1222"/>
                  </a:lnTo>
                  <a:lnTo>
                    <a:pt x="464" y="1235"/>
                  </a:lnTo>
                  <a:lnTo>
                    <a:pt x="447" y="1245"/>
                  </a:lnTo>
                  <a:lnTo>
                    <a:pt x="431" y="1255"/>
                  </a:lnTo>
                  <a:lnTo>
                    <a:pt x="414" y="1262"/>
                  </a:lnTo>
                  <a:lnTo>
                    <a:pt x="401" y="1269"/>
                  </a:lnTo>
                  <a:lnTo>
                    <a:pt x="391" y="1279"/>
                  </a:lnTo>
                  <a:lnTo>
                    <a:pt x="387" y="1289"/>
                  </a:lnTo>
                  <a:lnTo>
                    <a:pt x="387" y="1302"/>
                  </a:lnTo>
                  <a:lnTo>
                    <a:pt x="397" y="1315"/>
                  </a:lnTo>
                  <a:lnTo>
                    <a:pt x="417" y="1322"/>
                  </a:lnTo>
                  <a:lnTo>
                    <a:pt x="444" y="1329"/>
                  </a:lnTo>
                  <a:lnTo>
                    <a:pt x="471" y="1329"/>
                  </a:lnTo>
                  <a:lnTo>
                    <a:pt x="497" y="1329"/>
                  </a:lnTo>
                  <a:lnTo>
                    <a:pt x="521" y="1325"/>
                  </a:lnTo>
                  <a:lnTo>
                    <a:pt x="538" y="1322"/>
                  </a:lnTo>
                  <a:lnTo>
                    <a:pt x="544" y="1322"/>
                  </a:lnTo>
                  <a:lnTo>
                    <a:pt x="548" y="1359"/>
                  </a:lnTo>
                  <a:lnTo>
                    <a:pt x="554" y="1396"/>
                  </a:lnTo>
                  <a:lnTo>
                    <a:pt x="564" y="1429"/>
                  </a:lnTo>
                  <a:lnTo>
                    <a:pt x="578" y="1462"/>
                  </a:lnTo>
                  <a:lnTo>
                    <a:pt x="554" y="1506"/>
                  </a:lnTo>
                  <a:lnTo>
                    <a:pt x="521" y="1546"/>
                  </a:lnTo>
                  <a:lnTo>
                    <a:pt x="481" y="1579"/>
                  </a:lnTo>
                  <a:lnTo>
                    <a:pt x="437" y="1609"/>
                  </a:lnTo>
                  <a:lnTo>
                    <a:pt x="394" y="1633"/>
                  </a:lnTo>
                  <a:lnTo>
                    <a:pt x="360" y="1649"/>
                  </a:lnTo>
                  <a:lnTo>
                    <a:pt x="337" y="1659"/>
                  </a:lnTo>
                  <a:lnTo>
                    <a:pt x="327" y="1663"/>
                  </a:lnTo>
                  <a:lnTo>
                    <a:pt x="314" y="1649"/>
                  </a:lnTo>
                  <a:lnTo>
                    <a:pt x="297" y="1629"/>
                  </a:lnTo>
                  <a:lnTo>
                    <a:pt x="277" y="1606"/>
                  </a:lnTo>
                  <a:lnTo>
                    <a:pt x="254" y="1579"/>
                  </a:lnTo>
                  <a:lnTo>
                    <a:pt x="284" y="1569"/>
                  </a:lnTo>
                  <a:lnTo>
                    <a:pt x="307" y="1563"/>
                  </a:lnTo>
                  <a:lnTo>
                    <a:pt x="327" y="1563"/>
                  </a:lnTo>
                  <a:lnTo>
                    <a:pt x="340" y="1563"/>
                  </a:lnTo>
                  <a:lnTo>
                    <a:pt x="354" y="1563"/>
                  </a:lnTo>
                  <a:lnTo>
                    <a:pt x="367" y="1559"/>
                  </a:lnTo>
                  <a:lnTo>
                    <a:pt x="381" y="1549"/>
                  </a:lnTo>
                  <a:lnTo>
                    <a:pt x="394" y="1536"/>
                  </a:lnTo>
                  <a:lnTo>
                    <a:pt x="421" y="1502"/>
                  </a:lnTo>
                  <a:lnTo>
                    <a:pt x="437" y="1479"/>
                  </a:lnTo>
                  <a:lnTo>
                    <a:pt x="434" y="1462"/>
                  </a:lnTo>
                  <a:lnTo>
                    <a:pt x="401" y="1456"/>
                  </a:lnTo>
                  <a:lnTo>
                    <a:pt x="374" y="1452"/>
                  </a:lnTo>
                  <a:lnTo>
                    <a:pt x="347" y="1452"/>
                  </a:lnTo>
                  <a:lnTo>
                    <a:pt x="320" y="1452"/>
                  </a:lnTo>
                  <a:lnTo>
                    <a:pt x="294" y="1449"/>
                  </a:lnTo>
                  <a:lnTo>
                    <a:pt x="270" y="1449"/>
                  </a:lnTo>
                  <a:lnTo>
                    <a:pt x="254" y="1446"/>
                  </a:lnTo>
                  <a:lnTo>
                    <a:pt x="240" y="1439"/>
                  </a:lnTo>
                  <a:lnTo>
                    <a:pt x="237" y="1432"/>
                  </a:lnTo>
                  <a:lnTo>
                    <a:pt x="244" y="1416"/>
                  </a:lnTo>
                  <a:lnTo>
                    <a:pt x="257" y="1402"/>
                  </a:lnTo>
                  <a:lnTo>
                    <a:pt x="257" y="1399"/>
                  </a:lnTo>
                  <a:lnTo>
                    <a:pt x="230" y="1412"/>
                  </a:lnTo>
                  <a:lnTo>
                    <a:pt x="203" y="1422"/>
                  </a:lnTo>
                  <a:lnTo>
                    <a:pt x="183" y="1432"/>
                  </a:lnTo>
                  <a:lnTo>
                    <a:pt x="163" y="1436"/>
                  </a:lnTo>
                  <a:lnTo>
                    <a:pt x="147" y="1436"/>
                  </a:lnTo>
                  <a:lnTo>
                    <a:pt x="113" y="1382"/>
                  </a:lnTo>
                  <a:lnTo>
                    <a:pt x="87" y="1329"/>
                  </a:lnTo>
                  <a:lnTo>
                    <a:pt x="70" y="1279"/>
                  </a:lnTo>
                  <a:lnTo>
                    <a:pt x="60" y="1232"/>
                  </a:lnTo>
                  <a:lnTo>
                    <a:pt x="53" y="1229"/>
                  </a:lnTo>
                  <a:lnTo>
                    <a:pt x="36" y="1225"/>
                  </a:lnTo>
                  <a:lnTo>
                    <a:pt x="16" y="1219"/>
                  </a:lnTo>
                  <a:lnTo>
                    <a:pt x="0" y="1219"/>
                  </a:lnTo>
                  <a:lnTo>
                    <a:pt x="0" y="1179"/>
                  </a:lnTo>
                  <a:lnTo>
                    <a:pt x="10" y="1138"/>
                  </a:lnTo>
                  <a:lnTo>
                    <a:pt x="30" y="1098"/>
                  </a:lnTo>
                  <a:lnTo>
                    <a:pt x="63" y="1058"/>
                  </a:lnTo>
                  <a:lnTo>
                    <a:pt x="100" y="1022"/>
                  </a:lnTo>
                  <a:lnTo>
                    <a:pt x="127" y="995"/>
                  </a:lnTo>
                  <a:lnTo>
                    <a:pt x="143" y="975"/>
                  </a:lnTo>
                  <a:lnTo>
                    <a:pt x="157" y="962"/>
                  </a:lnTo>
                  <a:lnTo>
                    <a:pt x="167" y="948"/>
                  </a:lnTo>
                  <a:lnTo>
                    <a:pt x="170" y="931"/>
                  </a:lnTo>
                  <a:lnTo>
                    <a:pt x="177" y="915"/>
                  </a:lnTo>
                  <a:lnTo>
                    <a:pt x="183" y="891"/>
                  </a:lnTo>
                  <a:lnTo>
                    <a:pt x="190" y="865"/>
                  </a:lnTo>
                  <a:lnTo>
                    <a:pt x="197" y="835"/>
                  </a:lnTo>
                  <a:lnTo>
                    <a:pt x="207" y="805"/>
                  </a:lnTo>
                  <a:lnTo>
                    <a:pt x="217" y="775"/>
                  </a:lnTo>
                  <a:lnTo>
                    <a:pt x="227" y="748"/>
                  </a:lnTo>
                  <a:lnTo>
                    <a:pt x="244" y="721"/>
                  </a:lnTo>
                  <a:lnTo>
                    <a:pt x="260" y="698"/>
                  </a:lnTo>
                  <a:lnTo>
                    <a:pt x="284" y="678"/>
                  </a:lnTo>
                  <a:lnTo>
                    <a:pt x="307" y="658"/>
                  </a:lnTo>
                  <a:lnTo>
                    <a:pt x="327" y="638"/>
                  </a:lnTo>
                  <a:lnTo>
                    <a:pt x="347" y="614"/>
                  </a:lnTo>
                  <a:lnTo>
                    <a:pt x="364" y="591"/>
                  </a:lnTo>
                  <a:lnTo>
                    <a:pt x="377" y="571"/>
                  </a:lnTo>
                  <a:lnTo>
                    <a:pt x="387" y="547"/>
                  </a:lnTo>
                  <a:lnTo>
                    <a:pt x="391" y="527"/>
                  </a:lnTo>
                  <a:lnTo>
                    <a:pt x="387" y="507"/>
                  </a:lnTo>
                  <a:lnTo>
                    <a:pt x="374" y="477"/>
                  </a:lnTo>
                  <a:lnTo>
                    <a:pt x="364" y="457"/>
                  </a:lnTo>
                  <a:lnTo>
                    <a:pt x="354" y="431"/>
                  </a:lnTo>
                  <a:lnTo>
                    <a:pt x="354" y="384"/>
                  </a:lnTo>
                  <a:lnTo>
                    <a:pt x="347" y="330"/>
                  </a:lnTo>
                  <a:lnTo>
                    <a:pt x="330" y="284"/>
                  </a:lnTo>
                  <a:lnTo>
                    <a:pt x="307" y="240"/>
                  </a:lnTo>
                  <a:lnTo>
                    <a:pt x="290" y="204"/>
                  </a:lnTo>
                  <a:lnTo>
                    <a:pt x="284" y="180"/>
                  </a:lnTo>
                  <a:lnTo>
                    <a:pt x="284" y="157"/>
                  </a:lnTo>
                  <a:lnTo>
                    <a:pt x="284" y="133"/>
                  </a:lnTo>
                  <a:lnTo>
                    <a:pt x="287" y="113"/>
                  </a:lnTo>
                  <a:lnTo>
                    <a:pt x="304" y="117"/>
                  </a:lnTo>
                  <a:lnTo>
                    <a:pt x="320" y="117"/>
                  </a:lnTo>
                  <a:lnTo>
                    <a:pt x="337" y="117"/>
                  </a:lnTo>
                  <a:lnTo>
                    <a:pt x="354" y="120"/>
                  </a:lnTo>
                  <a:lnTo>
                    <a:pt x="384" y="127"/>
                  </a:lnTo>
                  <a:lnTo>
                    <a:pt x="421" y="130"/>
                  </a:lnTo>
                  <a:lnTo>
                    <a:pt x="464" y="137"/>
                  </a:lnTo>
                  <a:lnTo>
                    <a:pt x="507" y="140"/>
                  </a:lnTo>
                  <a:lnTo>
                    <a:pt x="548" y="140"/>
                  </a:lnTo>
                  <a:lnTo>
                    <a:pt x="584" y="140"/>
                  </a:lnTo>
                  <a:lnTo>
                    <a:pt x="618" y="133"/>
                  </a:lnTo>
                  <a:lnTo>
                    <a:pt x="638" y="120"/>
                  </a:lnTo>
                  <a:lnTo>
                    <a:pt x="648" y="100"/>
                  </a:lnTo>
                  <a:lnTo>
                    <a:pt x="658" y="70"/>
                  </a:lnTo>
                  <a:lnTo>
                    <a:pt x="668" y="33"/>
                  </a:lnTo>
                  <a:lnTo>
                    <a:pt x="6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581880" y="3090600"/>
              <a:ext cx="401040" cy="361440"/>
            </a:xfrm>
            <a:custGeom>
              <a:avLst/>
              <a:gdLst/>
              <a:ahLst/>
              <a:rect l="l" t="t" r="r" b="b"/>
              <a:pathLst>
                <a:path w="278" h="263">
                  <a:moveTo>
                    <a:pt x="0" y="147"/>
                  </a:moveTo>
                  <a:lnTo>
                    <a:pt x="34" y="163"/>
                  </a:lnTo>
                  <a:lnTo>
                    <a:pt x="54" y="183"/>
                  </a:lnTo>
                  <a:lnTo>
                    <a:pt x="67" y="203"/>
                  </a:lnTo>
                  <a:lnTo>
                    <a:pt x="71" y="210"/>
                  </a:lnTo>
                  <a:lnTo>
                    <a:pt x="94" y="217"/>
                  </a:lnTo>
                  <a:lnTo>
                    <a:pt x="114" y="220"/>
                  </a:lnTo>
                  <a:lnTo>
                    <a:pt x="131" y="230"/>
                  </a:lnTo>
                  <a:lnTo>
                    <a:pt x="144" y="237"/>
                  </a:lnTo>
                  <a:lnTo>
                    <a:pt x="157" y="243"/>
                  </a:lnTo>
                  <a:lnTo>
                    <a:pt x="167" y="250"/>
                  </a:lnTo>
                  <a:lnTo>
                    <a:pt x="177" y="257"/>
                  </a:lnTo>
                  <a:lnTo>
                    <a:pt x="187" y="263"/>
                  </a:lnTo>
                  <a:lnTo>
                    <a:pt x="207" y="220"/>
                  </a:lnTo>
                  <a:lnTo>
                    <a:pt x="234" y="177"/>
                  </a:lnTo>
                  <a:lnTo>
                    <a:pt x="258" y="133"/>
                  </a:lnTo>
                  <a:lnTo>
                    <a:pt x="278" y="93"/>
                  </a:lnTo>
                  <a:lnTo>
                    <a:pt x="261" y="50"/>
                  </a:lnTo>
                  <a:lnTo>
                    <a:pt x="251" y="23"/>
                  </a:lnTo>
                  <a:lnTo>
                    <a:pt x="234" y="10"/>
                  </a:lnTo>
                  <a:lnTo>
                    <a:pt x="194" y="6"/>
                  </a:lnTo>
                  <a:lnTo>
                    <a:pt x="164" y="6"/>
                  </a:lnTo>
                  <a:lnTo>
                    <a:pt x="137" y="3"/>
                  </a:lnTo>
                  <a:lnTo>
                    <a:pt x="117" y="3"/>
                  </a:lnTo>
                  <a:lnTo>
                    <a:pt x="101" y="0"/>
                  </a:lnTo>
                  <a:lnTo>
                    <a:pt x="84" y="26"/>
                  </a:lnTo>
                  <a:lnTo>
                    <a:pt x="64" y="50"/>
                  </a:lnTo>
                  <a:lnTo>
                    <a:pt x="50" y="73"/>
                  </a:lnTo>
                  <a:lnTo>
                    <a:pt x="37" y="93"/>
                  </a:lnTo>
                  <a:lnTo>
                    <a:pt x="24" y="113"/>
                  </a:lnTo>
                  <a:lnTo>
                    <a:pt x="14" y="127"/>
                  </a:lnTo>
                  <a:lnTo>
                    <a:pt x="7" y="140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96520" y="2196000"/>
              <a:ext cx="385200" cy="816120"/>
            </a:xfrm>
            <a:custGeom>
              <a:avLst/>
              <a:gdLst/>
              <a:ahLst/>
              <a:rect l="l" t="t" r="r" b="b"/>
              <a:pathLst>
                <a:path w="267" h="594">
                  <a:moveTo>
                    <a:pt x="0" y="464"/>
                  </a:moveTo>
                  <a:lnTo>
                    <a:pt x="3" y="464"/>
                  </a:lnTo>
                  <a:lnTo>
                    <a:pt x="13" y="467"/>
                  </a:lnTo>
                  <a:lnTo>
                    <a:pt x="26" y="474"/>
                  </a:lnTo>
                  <a:lnTo>
                    <a:pt x="33" y="484"/>
                  </a:lnTo>
                  <a:lnTo>
                    <a:pt x="50" y="494"/>
                  </a:lnTo>
                  <a:lnTo>
                    <a:pt x="66" y="497"/>
                  </a:lnTo>
                  <a:lnTo>
                    <a:pt x="90" y="497"/>
                  </a:lnTo>
                  <a:lnTo>
                    <a:pt x="123" y="510"/>
                  </a:lnTo>
                  <a:lnTo>
                    <a:pt x="123" y="510"/>
                  </a:lnTo>
                  <a:lnTo>
                    <a:pt x="126" y="520"/>
                  </a:lnTo>
                  <a:lnTo>
                    <a:pt x="133" y="544"/>
                  </a:lnTo>
                  <a:lnTo>
                    <a:pt x="147" y="594"/>
                  </a:lnTo>
                  <a:lnTo>
                    <a:pt x="153" y="577"/>
                  </a:lnTo>
                  <a:lnTo>
                    <a:pt x="163" y="560"/>
                  </a:lnTo>
                  <a:lnTo>
                    <a:pt x="170" y="547"/>
                  </a:lnTo>
                  <a:lnTo>
                    <a:pt x="177" y="534"/>
                  </a:lnTo>
                  <a:lnTo>
                    <a:pt x="197" y="494"/>
                  </a:lnTo>
                  <a:lnTo>
                    <a:pt x="213" y="450"/>
                  </a:lnTo>
                  <a:lnTo>
                    <a:pt x="230" y="400"/>
                  </a:lnTo>
                  <a:lnTo>
                    <a:pt x="247" y="350"/>
                  </a:lnTo>
                  <a:lnTo>
                    <a:pt x="257" y="303"/>
                  </a:lnTo>
                  <a:lnTo>
                    <a:pt x="267" y="253"/>
                  </a:lnTo>
                  <a:lnTo>
                    <a:pt x="267" y="210"/>
                  </a:lnTo>
                  <a:lnTo>
                    <a:pt x="263" y="170"/>
                  </a:lnTo>
                  <a:lnTo>
                    <a:pt x="257" y="146"/>
                  </a:lnTo>
                  <a:lnTo>
                    <a:pt x="250" y="123"/>
                  </a:lnTo>
                  <a:lnTo>
                    <a:pt x="237" y="100"/>
                  </a:lnTo>
                  <a:lnTo>
                    <a:pt x="223" y="76"/>
                  </a:lnTo>
                  <a:lnTo>
                    <a:pt x="210" y="56"/>
                  </a:lnTo>
                  <a:lnTo>
                    <a:pt x="193" y="36"/>
                  </a:lnTo>
                  <a:lnTo>
                    <a:pt x="173" y="16"/>
                  </a:lnTo>
                  <a:lnTo>
                    <a:pt x="153" y="0"/>
                  </a:lnTo>
                  <a:lnTo>
                    <a:pt x="167" y="30"/>
                  </a:lnTo>
                  <a:lnTo>
                    <a:pt x="113" y="23"/>
                  </a:lnTo>
                  <a:lnTo>
                    <a:pt x="116" y="30"/>
                  </a:lnTo>
                  <a:lnTo>
                    <a:pt x="130" y="50"/>
                  </a:lnTo>
                  <a:lnTo>
                    <a:pt x="140" y="73"/>
                  </a:lnTo>
                  <a:lnTo>
                    <a:pt x="150" y="96"/>
                  </a:lnTo>
                  <a:lnTo>
                    <a:pt x="157" y="100"/>
                  </a:lnTo>
                  <a:lnTo>
                    <a:pt x="173" y="116"/>
                  </a:lnTo>
                  <a:lnTo>
                    <a:pt x="193" y="140"/>
                  </a:lnTo>
                  <a:lnTo>
                    <a:pt x="210" y="176"/>
                  </a:lnTo>
                  <a:lnTo>
                    <a:pt x="213" y="217"/>
                  </a:lnTo>
                  <a:lnTo>
                    <a:pt x="210" y="263"/>
                  </a:lnTo>
                  <a:lnTo>
                    <a:pt x="197" y="307"/>
                  </a:lnTo>
                  <a:lnTo>
                    <a:pt x="180" y="343"/>
                  </a:lnTo>
                  <a:lnTo>
                    <a:pt x="167" y="360"/>
                  </a:lnTo>
                  <a:lnTo>
                    <a:pt x="150" y="357"/>
                  </a:lnTo>
                  <a:lnTo>
                    <a:pt x="130" y="357"/>
                  </a:lnTo>
                  <a:lnTo>
                    <a:pt x="100" y="374"/>
                  </a:lnTo>
                  <a:lnTo>
                    <a:pt x="100" y="370"/>
                  </a:lnTo>
                  <a:lnTo>
                    <a:pt x="103" y="357"/>
                  </a:lnTo>
                  <a:lnTo>
                    <a:pt x="106" y="337"/>
                  </a:lnTo>
                  <a:lnTo>
                    <a:pt x="106" y="300"/>
                  </a:lnTo>
                  <a:lnTo>
                    <a:pt x="106" y="303"/>
                  </a:lnTo>
                  <a:lnTo>
                    <a:pt x="100" y="310"/>
                  </a:lnTo>
                  <a:lnTo>
                    <a:pt x="90" y="320"/>
                  </a:lnTo>
                  <a:lnTo>
                    <a:pt x="70" y="333"/>
                  </a:lnTo>
                  <a:lnTo>
                    <a:pt x="66" y="337"/>
                  </a:lnTo>
                  <a:lnTo>
                    <a:pt x="66" y="343"/>
                  </a:lnTo>
                  <a:lnTo>
                    <a:pt x="66" y="347"/>
                  </a:lnTo>
                  <a:lnTo>
                    <a:pt x="66" y="353"/>
                  </a:lnTo>
                  <a:lnTo>
                    <a:pt x="50" y="380"/>
                  </a:lnTo>
                  <a:lnTo>
                    <a:pt x="33" y="407"/>
                  </a:lnTo>
                  <a:lnTo>
                    <a:pt x="16" y="437"/>
                  </a:lnTo>
                  <a:lnTo>
                    <a:pt x="0" y="4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38440" y="5389200"/>
              <a:ext cx="415440" cy="361440"/>
            </a:xfrm>
            <a:custGeom>
              <a:avLst/>
              <a:gdLst/>
              <a:ahLst/>
              <a:rect l="l" t="t" r="r" b="b"/>
              <a:pathLst>
                <a:path w="288" h="263">
                  <a:moveTo>
                    <a:pt x="37" y="70"/>
                  </a:moveTo>
                  <a:lnTo>
                    <a:pt x="40" y="66"/>
                  </a:lnTo>
                  <a:lnTo>
                    <a:pt x="44" y="66"/>
                  </a:lnTo>
                  <a:lnTo>
                    <a:pt x="44" y="63"/>
                  </a:lnTo>
                  <a:lnTo>
                    <a:pt x="47" y="63"/>
                  </a:lnTo>
                  <a:lnTo>
                    <a:pt x="84" y="40"/>
                  </a:lnTo>
                  <a:lnTo>
                    <a:pt x="120" y="20"/>
                  </a:lnTo>
                  <a:lnTo>
                    <a:pt x="154" y="10"/>
                  </a:lnTo>
                  <a:lnTo>
                    <a:pt x="187" y="3"/>
                  </a:lnTo>
                  <a:lnTo>
                    <a:pt x="217" y="0"/>
                  </a:lnTo>
                  <a:lnTo>
                    <a:pt x="244" y="3"/>
                  </a:lnTo>
                  <a:lnTo>
                    <a:pt x="267" y="6"/>
                  </a:lnTo>
                  <a:lnTo>
                    <a:pt x="288" y="16"/>
                  </a:lnTo>
                  <a:lnTo>
                    <a:pt x="274" y="70"/>
                  </a:lnTo>
                  <a:lnTo>
                    <a:pt x="251" y="103"/>
                  </a:lnTo>
                  <a:lnTo>
                    <a:pt x="224" y="137"/>
                  </a:lnTo>
                  <a:lnTo>
                    <a:pt x="197" y="193"/>
                  </a:lnTo>
                  <a:lnTo>
                    <a:pt x="244" y="207"/>
                  </a:lnTo>
                  <a:lnTo>
                    <a:pt x="241" y="213"/>
                  </a:lnTo>
                  <a:lnTo>
                    <a:pt x="227" y="223"/>
                  </a:lnTo>
                  <a:lnTo>
                    <a:pt x="201" y="233"/>
                  </a:lnTo>
                  <a:lnTo>
                    <a:pt x="157" y="233"/>
                  </a:lnTo>
                  <a:lnTo>
                    <a:pt x="161" y="240"/>
                  </a:lnTo>
                  <a:lnTo>
                    <a:pt x="157" y="250"/>
                  </a:lnTo>
                  <a:lnTo>
                    <a:pt x="134" y="260"/>
                  </a:lnTo>
                  <a:lnTo>
                    <a:pt x="84" y="263"/>
                  </a:lnTo>
                  <a:lnTo>
                    <a:pt x="34" y="257"/>
                  </a:lnTo>
                  <a:lnTo>
                    <a:pt x="10" y="240"/>
                  </a:lnTo>
                  <a:lnTo>
                    <a:pt x="7" y="223"/>
                  </a:lnTo>
                  <a:lnTo>
                    <a:pt x="7" y="200"/>
                  </a:lnTo>
                  <a:lnTo>
                    <a:pt x="7" y="197"/>
                  </a:lnTo>
                  <a:lnTo>
                    <a:pt x="4" y="190"/>
                  </a:lnTo>
                  <a:lnTo>
                    <a:pt x="4" y="187"/>
                  </a:lnTo>
                  <a:lnTo>
                    <a:pt x="0" y="183"/>
                  </a:lnTo>
                  <a:lnTo>
                    <a:pt x="7" y="163"/>
                  </a:lnTo>
                  <a:lnTo>
                    <a:pt x="17" y="130"/>
                  </a:lnTo>
                  <a:lnTo>
                    <a:pt x="30" y="96"/>
                  </a:lnTo>
                  <a:lnTo>
                    <a:pt x="3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56360" y="5770080"/>
              <a:ext cx="222120" cy="196560"/>
            </a:xfrm>
            <a:custGeom>
              <a:avLst/>
              <a:gdLst/>
              <a:ahLst/>
              <a:rect l="l" t="t" r="r" b="b"/>
              <a:pathLst>
                <a:path w="154" h="143">
                  <a:moveTo>
                    <a:pt x="27" y="0"/>
                  </a:moveTo>
                  <a:lnTo>
                    <a:pt x="44" y="6"/>
                  </a:lnTo>
                  <a:lnTo>
                    <a:pt x="67" y="20"/>
                  </a:lnTo>
                  <a:lnTo>
                    <a:pt x="91" y="33"/>
                  </a:lnTo>
                  <a:lnTo>
                    <a:pt x="111" y="46"/>
                  </a:lnTo>
                  <a:lnTo>
                    <a:pt x="131" y="60"/>
                  </a:lnTo>
                  <a:lnTo>
                    <a:pt x="147" y="67"/>
                  </a:lnTo>
                  <a:lnTo>
                    <a:pt x="154" y="77"/>
                  </a:lnTo>
                  <a:lnTo>
                    <a:pt x="154" y="90"/>
                  </a:lnTo>
                  <a:lnTo>
                    <a:pt x="147" y="107"/>
                  </a:lnTo>
                  <a:lnTo>
                    <a:pt x="141" y="117"/>
                  </a:lnTo>
                  <a:lnTo>
                    <a:pt x="131" y="127"/>
                  </a:lnTo>
                  <a:lnTo>
                    <a:pt x="117" y="137"/>
                  </a:lnTo>
                  <a:lnTo>
                    <a:pt x="107" y="140"/>
                  </a:lnTo>
                  <a:lnTo>
                    <a:pt x="97" y="143"/>
                  </a:lnTo>
                  <a:lnTo>
                    <a:pt x="84" y="143"/>
                  </a:lnTo>
                  <a:lnTo>
                    <a:pt x="71" y="140"/>
                  </a:lnTo>
                  <a:lnTo>
                    <a:pt x="54" y="137"/>
                  </a:lnTo>
                  <a:lnTo>
                    <a:pt x="40" y="130"/>
                  </a:lnTo>
                  <a:lnTo>
                    <a:pt x="27" y="120"/>
                  </a:lnTo>
                  <a:lnTo>
                    <a:pt x="17" y="107"/>
                  </a:lnTo>
                  <a:lnTo>
                    <a:pt x="7" y="93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0" y="53"/>
                  </a:lnTo>
                  <a:lnTo>
                    <a:pt x="7" y="40"/>
                  </a:lnTo>
                  <a:lnTo>
                    <a:pt x="14" y="23"/>
                  </a:lnTo>
                  <a:lnTo>
                    <a:pt x="20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01920" y="5990040"/>
              <a:ext cx="178920" cy="115200"/>
            </a:xfrm>
            <a:custGeom>
              <a:avLst/>
              <a:gdLst/>
              <a:ahLst/>
              <a:rect l="l" t="t" r="r" b="b"/>
              <a:pathLst>
                <a:path w="124" h="84">
                  <a:moveTo>
                    <a:pt x="44" y="0"/>
                  </a:moveTo>
                  <a:lnTo>
                    <a:pt x="77" y="10"/>
                  </a:lnTo>
                  <a:lnTo>
                    <a:pt x="104" y="23"/>
                  </a:lnTo>
                  <a:lnTo>
                    <a:pt x="117" y="37"/>
                  </a:lnTo>
                  <a:lnTo>
                    <a:pt x="124" y="40"/>
                  </a:lnTo>
                  <a:lnTo>
                    <a:pt x="104" y="67"/>
                  </a:lnTo>
                  <a:lnTo>
                    <a:pt x="97" y="77"/>
                  </a:lnTo>
                  <a:lnTo>
                    <a:pt x="87" y="84"/>
                  </a:lnTo>
                  <a:lnTo>
                    <a:pt x="64" y="84"/>
                  </a:lnTo>
                  <a:lnTo>
                    <a:pt x="47" y="84"/>
                  </a:lnTo>
                  <a:lnTo>
                    <a:pt x="31" y="80"/>
                  </a:lnTo>
                  <a:lnTo>
                    <a:pt x="14" y="73"/>
                  </a:lnTo>
                  <a:lnTo>
                    <a:pt x="0" y="67"/>
                  </a:lnTo>
                  <a:lnTo>
                    <a:pt x="11" y="50"/>
                  </a:lnTo>
                  <a:lnTo>
                    <a:pt x="24" y="33"/>
                  </a:lnTo>
                  <a:lnTo>
                    <a:pt x="34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65400" y="3608280"/>
              <a:ext cx="399600" cy="825840"/>
            </a:xfrm>
            <a:custGeom>
              <a:avLst/>
              <a:gdLst/>
              <a:ahLst/>
              <a:rect l="l" t="t" r="r" b="b"/>
              <a:pathLst>
                <a:path w="277" h="601">
                  <a:moveTo>
                    <a:pt x="170" y="0"/>
                  </a:moveTo>
                  <a:lnTo>
                    <a:pt x="200" y="37"/>
                  </a:lnTo>
                  <a:lnTo>
                    <a:pt x="224" y="70"/>
                  </a:lnTo>
                  <a:lnTo>
                    <a:pt x="241" y="100"/>
                  </a:lnTo>
                  <a:lnTo>
                    <a:pt x="254" y="127"/>
                  </a:lnTo>
                  <a:lnTo>
                    <a:pt x="261" y="154"/>
                  </a:lnTo>
                  <a:lnTo>
                    <a:pt x="264" y="180"/>
                  </a:lnTo>
                  <a:lnTo>
                    <a:pt x="264" y="207"/>
                  </a:lnTo>
                  <a:lnTo>
                    <a:pt x="264" y="237"/>
                  </a:lnTo>
                  <a:lnTo>
                    <a:pt x="264" y="307"/>
                  </a:lnTo>
                  <a:lnTo>
                    <a:pt x="271" y="371"/>
                  </a:lnTo>
                  <a:lnTo>
                    <a:pt x="277" y="431"/>
                  </a:lnTo>
                  <a:lnTo>
                    <a:pt x="271" y="484"/>
                  </a:lnTo>
                  <a:lnTo>
                    <a:pt x="257" y="534"/>
                  </a:lnTo>
                  <a:lnTo>
                    <a:pt x="237" y="581"/>
                  </a:lnTo>
                  <a:lnTo>
                    <a:pt x="217" y="601"/>
                  </a:lnTo>
                  <a:lnTo>
                    <a:pt x="207" y="588"/>
                  </a:lnTo>
                  <a:lnTo>
                    <a:pt x="194" y="554"/>
                  </a:lnTo>
                  <a:lnTo>
                    <a:pt x="170" y="524"/>
                  </a:lnTo>
                  <a:lnTo>
                    <a:pt x="154" y="494"/>
                  </a:lnTo>
                  <a:lnTo>
                    <a:pt x="154" y="454"/>
                  </a:lnTo>
                  <a:lnTo>
                    <a:pt x="164" y="414"/>
                  </a:lnTo>
                  <a:lnTo>
                    <a:pt x="170" y="384"/>
                  </a:lnTo>
                  <a:lnTo>
                    <a:pt x="164" y="354"/>
                  </a:lnTo>
                  <a:lnTo>
                    <a:pt x="140" y="317"/>
                  </a:lnTo>
                  <a:lnTo>
                    <a:pt x="117" y="277"/>
                  </a:lnTo>
                  <a:lnTo>
                    <a:pt x="107" y="244"/>
                  </a:lnTo>
                  <a:lnTo>
                    <a:pt x="104" y="220"/>
                  </a:lnTo>
                  <a:lnTo>
                    <a:pt x="104" y="214"/>
                  </a:lnTo>
                  <a:lnTo>
                    <a:pt x="73" y="190"/>
                  </a:lnTo>
                  <a:lnTo>
                    <a:pt x="47" y="174"/>
                  </a:lnTo>
                  <a:lnTo>
                    <a:pt x="30" y="164"/>
                  </a:lnTo>
                  <a:lnTo>
                    <a:pt x="17" y="154"/>
                  </a:lnTo>
                  <a:lnTo>
                    <a:pt x="10" y="147"/>
                  </a:lnTo>
                  <a:lnTo>
                    <a:pt x="10" y="137"/>
                  </a:lnTo>
                  <a:lnTo>
                    <a:pt x="13" y="120"/>
                  </a:lnTo>
                  <a:lnTo>
                    <a:pt x="23" y="97"/>
                  </a:lnTo>
                  <a:lnTo>
                    <a:pt x="27" y="73"/>
                  </a:lnTo>
                  <a:lnTo>
                    <a:pt x="23" y="47"/>
                  </a:lnTo>
                  <a:lnTo>
                    <a:pt x="13" y="2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43" y="0"/>
                  </a:lnTo>
                  <a:lnTo>
                    <a:pt x="63" y="0"/>
                  </a:lnTo>
                  <a:lnTo>
                    <a:pt x="83" y="0"/>
                  </a:lnTo>
                  <a:lnTo>
                    <a:pt x="110" y="0"/>
                  </a:lnTo>
                  <a:lnTo>
                    <a:pt x="137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56280" y="5691600"/>
              <a:ext cx="308520" cy="183960"/>
            </a:xfrm>
            <a:custGeom>
              <a:avLst/>
              <a:gdLst/>
              <a:ahLst/>
              <a:rect l="l" t="t" r="r" b="b"/>
              <a:pathLst>
                <a:path w="214" h="134">
                  <a:moveTo>
                    <a:pt x="0" y="83"/>
                  </a:moveTo>
                  <a:lnTo>
                    <a:pt x="7" y="97"/>
                  </a:lnTo>
                  <a:lnTo>
                    <a:pt x="17" y="107"/>
                  </a:lnTo>
                  <a:lnTo>
                    <a:pt x="27" y="117"/>
                  </a:lnTo>
                  <a:lnTo>
                    <a:pt x="44" y="124"/>
                  </a:lnTo>
                  <a:lnTo>
                    <a:pt x="57" y="127"/>
                  </a:lnTo>
                  <a:lnTo>
                    <a:pt x="74" y="130"/>
                  </a:lnTo>
                  <a:lnTo>
                    <a:pt x="87" y="134"/>
                  </a:lnTo>
                  <a:lnTo>
                    <a:pt x="104" y="134"/>
                  </a:lnTo>
                  <a:lnTo>
                    <a:pt x="134" y="130"/>
                  </a:lnTo>
                  <a:lnTo>
                    <a:pt x="161" y="120"/>
                  </a:lnTo>
                  <a:lnTo>
                    <a:pt x="181" y="103"/>
                  </a:lnTo>
                  <a:lnTo>
                    <a:pt x="187" y="87"/>
                  </a:lnTo>
                  <a:lnTo>
                    <a:pt x="197" y="67"/>
                  </a:lnTo>
                  <a:lnTo>
                    <a:pt x="207" y="47"/>
                  </a:lnTo>
                  <a:lnTo>
                    <a:pt x="214" y="27"/>
                  </a:lnTo>
                  <a:lnTo>
                    <a:pt x="211" y="7"/>
                  </a:lnTo>
                  <a:lnTo>
                    <a:pt x="201" y="0"/>
                  </a:lnTo>
                  <a:lnTo>
                    <a:pt x="187" y="10"/>
                  </a:lnTo>
                  <a:lnTo>
                    <a:pt x="171" y="23"/>
                  </a:lnTo>
                  <a:lnTo>
                    <a:pt x="147" y="33"/>
                  </a:lnTo>
                  <a:lnTo>
                    <a:pt x="130" y="37"/>
                  </a:lnTo>
                  <a:lnTo>
                    <a:pt x="110" y="43"/>
                  </a:lnTo>
                  <a:lnTo>
                    <a:pt x="87" y="50"/>
                  </a:lnTo>
                  <a:lnTo>
                    <a:pt x="60" y="60"/>
                  </a:lnTo>
                  <a:lnTo>
                    <a:pt x="37" y="70"/>
                  </a:lnTo>
                  <a:lnTo>
                    <a:pt x="17" y="77"/>
                  </a:lnTo>
                  <a:lnTo>
                    <a:pt x="4" y="8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33920" y="4544280"/>
              <a:ext cx="487800" cy="325440"/>
            </a:xfrm>
            <a:custGeom>
              <a:avLst/>
              <a:gdLst/>
              <a:ahLst/>
              <a:rect l="l" t="t" r="r" b="b"/>
              <a:pathLst>
                <a:path w="338" h="237">
                  <a:moveTo>
                    <a:pt x="0" y="124"/>
                  </a:moveTo>
                  <a:lnTo>
                    <a:pt x="4" y="124"/>
                  </a:lnTo>
                  <a:lnTo>
                    <a:pt x="14" y="127"/>
                  </a:lnTo>
                  <a:lnTo>
                    <a:pt x="27" y="127"/>
                  </a:lnTo>
                  <a:lnTo>
                    <a:pt x="47" y="130"/>
                  </a:lnTo>
                  <a:lnTo>
                    <a:pt x="64" y="130"/>
                  </a:lnTo>
                  <a:lnTo>
                    <a:pt x="81" y="134"/>
                  </a:lnTo>
                  <a:lnTo>
                    <a:pt x="97" y="130"/>
                  </a:lnTo>
                  <a:lnTo>
                    <a:pt x="111" y="130"/>
                  </a:lnTo>
                  <a:lnTo>
                    <a:pt x="127" y="127"/>
                  </a:lnTo>
                  <a:lnTo>
                    <a:pt x="137" y="127"/>
                  </a:lnTo>
                  <a:lnTo>
                    <a:pt x="147" y="124"/>
                  </a:lnTo>
                  <a:lnTo>
                    <a:pt x="164" y="110"/>
                  </a:lnTo>
                  <a:lnTo>
                    <a:pt x="184" y="94"/>
                  </a:lnTo>
                  <a:lnTo>
                    <a:pt x="208" y="84"/>
                  </a:lnTo>
                  <a:lnTo>
                    <a:pt x="231" y="74"/>
                  </a:lnTo>
                  <a:lnTo>
                    <a:pt x="254" y="64"/>
                  </a:lnTo>
                  <a:lnTo>
                    <a:pt x="281" y="47"/>
                  </a:lnTo>
                  <a:lnTo>
                    <a:pt x="311" y="17"/>
                  </a:lnTo>
                  <a:lnTo>
                    <a:pt x="335" y="0"/>
                  </a:lnTo>
                  <a:lnTo>
                    <a:pt x="338" y="7"/>
                  </a:lnTo>
                  <a:lnTo>
                    <a:pt x="328" y="20"/>
                  </a:lnTo>
                  <a:lnTo>
                    <a:pt x="314" y="37"/>
                  </a:lnTo>
                  <a:lnTo>
                    <a:pt x="298" y="60"/>
                  </a:lnTo>
                  <a:lnTo>
                    <a:pt x="274" y="80"/>
                  </a:lnTo>
                  <a:lnTo>
                    <a:pt x="254" y="100"/>
                  </a:lnTo>
                  <a:lnTo>
                    <a:pt x="231" y="120"/>
                  </a:lnTo>
                  <a:lnTo>
                    <a:pt x="214" y="134"/>
                  </a:lnTo>
                  <a:lnTo>
                    <a:pt x="198" y="144"/>
                  </a:lnTo>
                  <a:lnTo>
                    <a:pt x="184" y="154"/>
                  </a:lnTo>
                  <a:lnTo>
                    <a:pt x="181" y="157"/>
                  </a:lnTo>
                  <a:lnTo>
                    <a:pt x="188" y="164"/>
                  </a:lnTo>
                  <a:lnTo>
                    <a:pt x="201" y="174"/>
                  </a:lnTo>
                  <a:lnTo>
                    <a:pt x="208" y="180"/>
                  </a:lnTo>
                  <a:lnTo>
                    <a:pt x="204" y="191"/>
                  </a:lnTo>
                  <a:lnTo>
                    <a:pt x="188" y="197"/>
                  </a:lnTo>
                  <a:lnTo>
                    <a:pt x="164" y="207"/>
                  </a:lnTo>
                  <a:lnTo>
                    <a:pt x="141" y="217"/>
                  </a:lnTo>
                  <a:lnTo>
                    <a:pt x="124" y="231"/>
                  </a:lnTo>
                  <a:lnTo>
                    <a:pt x="111" y="237"/>
                  </a:lnTo>
                  <a:lnTo>
                    <a:pt x="104" y="231"/>
                  </a:lnTo>
                  <a:lnTo>
                    <a:pt x="81" y="207"/>
                  </a:lnTo>
                  <a:lnTo>
                    <a:pt x="64" y="187"/>
                  </a:lnTo>
                  <a:lnTo>
                    <a:pt x="51" y="170"/>
                  </a:lnTo>
                  <a:lnTo>
                    <a:pt x="41" y="160"/>
                  </a:lnTo>
                  <a:lnTo>
                    <a:pt x="37" y="154"/>
                  </a:lnTo>
                  <a:lnTo>
                    <a:pt x="27" y="147"/>
                  </a:lnTo>
                  <a:lnTo>
                    <a:pt x="17" y="137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3809880" y="0"/>
            <a:ext cx="5105520" cy="3949560"/>
            <a:chOff x="3809880" y="0"/>
            <a:chExt cx="5105520" cy="3949560"/>
          </a:xfrm>
        </p:grpSpPr>
        <p:sp>
          <p:nvSpPr>
            <p:cNvPr id="278" name=""/>
            <p:cNvSpPr/>
            <p:nvPr/>
          </p:nvSpPr>
          <p:spPr>
            <a:xfrm>
              <a:off x="3962160" y="2211120"/>
              <a:ext cx="4953240" cy="1738440"/>
            </a:xfrm>
            <a:custGeom>
              <a:avLst/>
              <a:gdLst/>
              <a:ahLst/>
              <a:rect l="l" t="t" r="r" b="b"/>
              <a:pathLst>
                <a:path w="3120" h="1095">
                  <a:moveTo>
                    <a:pt x="1520" y="654"/>
                  </a:moveTo>
                  <a:lnTo>
                    <a:pt x="1465" y="719"/>
                  </a:lnTo>
                  <a:lnTo>
                    <a:pt x="1403" y="770"/>
                  </a:lnTo>
                  <a:lnTo>
                    <a:pt x="1337" y="810"/>
                  </a:lnTo>
                  <a:lnTo>
                    <a:pt x="1260" y="840"/>
                  </a:lnTo>
                  <a:lnTo>
                    <a:pt x="1184" y="854"/>
                  </a:lnTo>
                  <a:lnTo>
                    <a:pt x="1103" y="861"/>
                  </a:lnTo>
                  <a:lnTo>
                    <a:pt x="1019" y="861"/>
                  </a:lnTo>
                  <a:lnTo>
                    <a:pt x="935" y="851"/>
                  </a:lnTo>
                  <a:lnTo>
                    <a:pt x="851" y="832"/>
                  </a:lnTo>
                  <a:lnTo>
                    <a:pt x="771" y="810"/>
                  </a:lnTo>
                  <a:lnTo>
                    <a:pt x="694" y="781"/>
                  </a:lnTo>
                  <a:lnTo>
                    <a:pt x="621" y="748"/>
                  </a:lnTo>
                  <a:lnTo>
                    <a:pt x="555" y="712"/>
                  </a:lnTo>
                  <a:lnTo>
                    <a:pt x="497" y="672"/>
                  </a:lnTo>
                  <a:lnTo>
                    <a:pt x="446" y="632"/>
                  </a:lnTo>
                  <a:lnTo>
                    <a:pt x="406" y="588"/>
                  </a:lnTo>
                  <a:lnTo>
                    <a:pt x="427" y="628"/>
                  </a:lnTo>
                  <a:lnTo>
                    <a:pt x="442" y="661"/>
                  </a:lnTo>
                  <a:lnTo>
                    <a:pt x="442" y="690"/>
                  </a:lnTo>
                  <a:lnTo>
                    <a:pt x="431" y="712"/>
                  </a:lnTo>
                  <a:lnTo>
                    <a:pt x="409" y="726"/>
                  </a:lnTo>
                  <a:lnTo>
                    <a:pt x="376" y="730"/>
                  </a:lnTo>
                  <a:lnTo>
                    <a:pt x="329" y="726"/>
                  </a:lnTo>
                  <a:lnTo>
                    <a:pt x="267" y="716"/>
                  </a:lnTo>
                  <a:lnTo>
                    <a:pt x="274" y="756"/>
                  </a:lnTo>
                  <a:lnTo>
                    <a:pt x="259" y="789"/>
                  </a:lnTo>
                  <a:lnTo>
                    <a:pt x="234" y="818"/>
                  </a:lnTo>
                  <a:lnTo>
                    <a:pt x="197" y="840"/>
                  </a:lnTo>
                  <a:lnTo>
                    <a:pt x="150" y="854"/>
                  </a:lnTo>
                  <a:lnTo>
                    <a:pt x="99" y="861"/>
                  </a:lnTo>
                  <a:lnTo>
                    <a:pt x="47" y="861"/>
                  </a:lnTo>
                  <a:lnTo>
                    <a:pt x="0" y="858"/>
                  </a:lnTo>
                  <a:lnTo>
                    <a:pt x="0" y="1095"/>
                  </a:lnTo>
                  <a:lnTo>
                    <a:pt x="3120" y="1095"/>
                  </a:lnTo>
                  <a:lnTo>
                    <a:pt x="3120" y="1069"/>
                  </a:lnTo>
                  <a:lnTo>
                    <a:pt x="3120" y="1007"/>
                  </a:lnTo>
                  <a:lnTo>
                    <a:pt x="3120" y="931"/>
                  </a:lnTo>
                  <a:lnTo>
                    <a:pt x="3120" y="858"/>
                  </a:lnTo>
                  <a:lnTo>
                    <a:pt x="3043" y="869"/>
                  </a:lnTo>
                  <a:lnTo>
                    <a:pt x="2974" y="869"/>
                  </a:lnTo>
                  <a:lnTo>
                    <a:pt x="2915" y="854"/>
                  </a:lnTo>
                  <a:lnTo>
                    <a:pt x="2868" y="836"/>
                  </a:lnTo>
                  <a:lnTo>
                    <a:pt x="2835" y="807"/>
                  </a:lnTo>
                  <a:lnTo>
                    <a:pt x="2817" y="778"/>
                  </a:lnTo>
                  <a:lnTo>
                    <a:pt x="2813" y="752"/>
                  </a:lnTo>
                  <a:lnTo>
                    <a:pt x="2824" y="726"/>
                  </a:lnTo>
                  <a:lnTo>
                    <a:pt x="2861" y="668"/>
                  </a:lnTo>
                  <a:lnTo>
                    <a:pt x="2868" y="613"/>
                  </a:lnTo>
                  <a:lnTo>
                    <a:pt x="2850" y="577"/>
                  </a:lnTo>
                  <a:lnTo>
                    <a:pt x="2820" y="573"/>
                  </a:lnTo>
                  <a:lnTo>
                    <a:pt x="2784" y="584"/>
                  </a:lnTo>
                  <a:lnTo>
                    <a:pt x="2769" y="584"/>
                  </a:lnTo>
                  <a:lnTo>
                    <a:pt x="2762" y="570"/>
                  </a:lnTo>
                  <a:lnTo>
                    <a:pt x="2766" y="548"/>
                  </a:lnTo>
                  <a:lnTo>
                    <a:pt x="2773" y="519"/>
                  </a:lnTo>
                  <a:lnTo>
                    <a:pt x="2773" y="482"/>
                  </a:lnTo>
                  <a:lnTo>
                    <a:pt x="2769" y="442"/>
                  </a:lnTo>
                  <a:lnTo>
                    <a:pt x="2751" y="398"/>
                  </a:lnTo>
                  <a:lnTo>
                    <a:pt x="2740" y="409"/>
                  </a:lnTo>
                  <a:lnTo>
                    <a:pt x="2725" y="420"/>
                  </a:lnTo>
                  <a:lnTo>
                    <a:pt x="2711" y="431"/>
                  </a:lnTo>
                  <a:lnTo>
                    <a:pt x="2696" y="438"/>
                  </a:lnTo>
                  <a:lnTo>
                    <a:pt x="2678" y="442"/>
                  </a:lnTo>
                  <a:lnTo>
                    <a:pt x="2660" y="446"/>
                  </a:lnTo>
                  <a:lnTo>
                    <a:pt x="2645" y="442"/>
                  </a:lnTo>
                  <a:lnTo>
                    <a:pt x="2627" y="438"/>
                  </a:lnTo>
                  <a:lnTo>
                    <a:pt x="2605" y="427"/>
                  </a:lnTo>
                  <a:lnTo>
                    <a:pt x="2587" y="409"/>
                  </a:lnTo>
                  <a:lnTo>
                    <a:pt x="2579" y="391"/>
                  </a:lnTo>
                  <a:lnTo>
                    <a:pt x="2576" y="362"/>
                  </a:lnTo>
                  <a:lnTo>
                    <a:pt x="2583" y="332"/>
                  </a:lnTo>
                  <a:lnTo>
                    <a:pt x="2601" y="292"/>
                  </a:lnTo>
                  <a:lnTo>
                    <a:pt x="2627" y="249"/>
                  </a:lnTo>
                  <a:lnTo>
                    <a:pt x="2667" y="197"/>
                  </a:lnTo>
                  <a:lnTo>
                    <a:pt x="2682" y="172"/>
                  </a:lnTo>
                  <a:lnTo>
                    <a:pt x="2685" y="154"/>
                  </a:lnTo>
                  <a:lnTo>
                    <a:pt x="2682" y="135"/>
                  </a:lnTo>
                  <a:lnTo>
                    <a:pt x="2667" y="128"/>
                  </a:lnTo>
                  <a:lnTo>
                    <a:pt x="2649" y="124"/>
                  </a:lnTo>
                  <a:lnTo>
                    <a:pt x="2630" y="128"/>
                  </a:lnTo>
                  <a:lnTo>
                    <a:pt x="2609" y="135"/>
                  </a:lnTo>
                  <a:lnTo>
                    <a:pt x="2594" y="154"/>
                  </a:lnTo>
                  <a:lnTo>
                    <a:pt x="2583" y="165"/>
                  </a:lnTo>
                  <a:lnTo>
                    <a:pt x="2572" y="172"/>
                  </a:lnTo>
                  <a:lnTo>
                    <a:pt x="2557" y="190"/>
                  </a:lnTo>
                  <a:lnTo>
                    <a:pt x="2543" y="216"/>
                  </a:lnTo>
                  <a:lnTo>
                    <a:pt x="2521" y="245"/>
                  </a:lnTo>
                  <a:lnTo>
                    <a:pt x="2495" y="249"/>
                  </a:lnTo>
                  <a:lnTo>
                    <a:pt x="2473" y="223"/>
                  </a:lnTo>
                  <a:lnTo>
                    <a:pt x="2470" y="161"/>
                  </a:lnTo>
                  <a:lnTo>
                    <a:pt x="2459" y="81"/>
                  </a:lnTo>
                  <a:lnTo>
                    <a:pt x="2430" y="33"/>
                  </a:lnTo>
                  <a:lnTo>
                    <a:pt x="2397" y="8"/>
                  </a:lnTo>
                  <a:lnTo>
                    <a:pt x="2371" y="0"/>
                  </a:lnTo>
                  <a:lnTo>
                    <a:pt x="2331" y="8"/>
                  </a:lnTo>
                  <a:lnTo>
                    <a:pt x="2313" y="37"/>
                  </a:lnTo>
                  <a:lnTo>
                    <a:pt x="2313" y="81"/>
                  </a:lnTo>
                  <a:lnTo>
                    <a:pt x="2324" y="124"/>
                  </a:lnTo>
                  <a:lnTo>
                    <a:pt x="2335" y="146"/>
                  </a:lnTo>
                  <a:lnTo>
                    <a:pt x="2342" y="183"/>
                  </a:lnTo>
                  <a:lnTo>
                    <a:pt x="2342" y="227"/>
                  </a:lnTo>
                  <a:lnTo>
                    <a:pt x="2324" y="278"/>
                  </a:lnTo>
                  <a:lnTo>
                    <a:pt x="2313" y="252"/>
                  </a:lnTo>
                  <a:lnTo>
                    <a:pt x="2298" y="227"/>
                  </a:lnTo>
                  <a:lnTo>
                    <a:pt x="2283" y="205"/>
                  </a:lnTo>
                  <a:lnTo>
                    <a:pt x="2269" y="186"/>
                  </a:lnTo>
                  <a:lnTo>
                    <a:pt x="2254" y="172"/>
                  </a:lnTo>
                  <a:lnTo>
                    <a:pt x="2240" y="157"/>
                  </a:lnTo>
                  <a:lnTo>
                    <a:pt x="2221" y="146"/>
                  </a:lnTo>
                  <a:lnTo>
                    <a:pt x="2207" y="143"/>
                  </a:lnTo>
                  <a:lnTo>
                    <a:pt x="2188" y="143"/>
                  </a:lnTo>
                  <a:lnTo>
                    <a:pt x="2166" y="143"/>
                  </a:lnTo>
                  <a:lnTo>
                    <a:pt x="2148" y="150"/>
                  </a:lnTo>
                  <a:lnTo>
                    <a:pt x="2134" y="161"/>
                  </a:lnTo>
                  <a:lnTo>
                    <a:pt x="2130" y="176"/>
                  </a:lnTo>
                  <a:lnTo>
                    <a:pt x="2134" y="197"/>
                  </a:lnTo>
                  <a:lnTo>
                    <a:pt x="2148" y="227"/>
                  </a:lnTo>
                  <a:lnTo>
                    <a:pt x="2181" y="259"/>
                  </a:lnTo>
                  <a:lnTo>
                    <a:pt x="2210" y="300"/>
                  </a:lnTo>
                  <a:lnTo>
                    <a:pt x="2221" y="340"/>
                  </a:lnTo>
                  <a:lnTo>
                    <a:pt x="2218" y="376"/>
                  </a:lnTo>
                  <a:lnTo>
                    <a:pt x="2207" y="409"/>
                  </a:lnTo>
                  <a:lnTo>
                    <a:pt x="2185" y="431"/>
                  </a:lnTo>
                  <a:lnTo>
                    <a:pt x="2163" y="446"/>
                  </a:lnTo>
                  <a:lnTo>
                    <a:pt x="2141" y="442"/>
                  </a:lnTo>
                  <a:lnTo>
                    <a:pt x="2123" y="424"/>
                  </a:lnTo>
                  <a:lnTo>
                    <a:pt x="2093" y="478"/>
                  </a:lnTo>
                  <a:lnTo>
                    <a:pt x="2053" y="533"/>
                  </a:lnTo>
                  <a:lnTo>
                    <a:pt x="2013" y="577"/>
                  </a:lnTo>
                  <a:lnTo>
                    <a:pt x="1962" y="617"/>
                  </a:lnTo>
                  <a:lnTo>
                    <a:pt x="1911" y="654"/>
                  </a:lnTo>
                  <a:lnTo>
                    <a:pt x="1860" y="683"/>
                  </a:lnTo>
                  <a:lnTo>
                    <a:pt x="1805" y="708"/>
                  </a:lnTo>
                  <a:lnTo>
                    <a:pt x="1750" y="726"/>
                  </a:lnTo>
                  <a:lnTo>
                    <a:pt x="1699" y="741"/>
                  </a:lnTo>
                  <a:lnTo>
                    <a:pt x="1651" y="748"/>
                  </a:lnTo>
                  <a:lnTo>
                    <a:pt x="1611" y="748"/>
                  </a:lnTo>
                  <a:lnTo>
                    <a:pt x="1575" y="741"/>
                  </a:lnTo>
                  <a:lnTo>
                    <a:pt x="1545" y="730"/>
                  </a:lnTo>
                  <a:lnTo>
                    <a:pt x="1527" y="712"/>
                  </a:lnTo>
                  <a:lnTo>
                    <a:pt x="1516" y="686"/>
                  </a:lnTo>
                  <a:lnTo>
                    <a:pt x="1520" y="654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16480" y="0"/>
              <a:ext cx="128880" cy="109440"/>
            </a:xfrm>
            <a:custGeom>
              <a:avLst/>
              <a:gdLst/>
              <a:ahLst/>
              <a:rect l="l" t="t" r="r" b="b"/>
              <a:pathLst>
                <a:path w="81" h="69">
                  <a:moveTo>
                    <a:pt x="33" y="69"/>
                  </a:moveTo>
                  <a:lnTo>
                    <a:pt x="48" y="69"/>
                  </a:lnTo>
                  <a:lnTo>
                    <a:pt x="63" y="65"/>
                  </a:lnTo>
                  <a:lnTo>
                    <a:pt x="74" y="54"/>
                  </a:lnTo>
                  <a:lnTo>
                    <a:pt x="81" y="43"/>
                  </a:lnTo>
                  <a:lnTo>
                    <a:pt x="81" y="29"/>
                  </a:lnTo>
                  <a:lnTo>
                    <a:pt x="74" y="18"/>
                  </a:lnTo>
                  <a:lnTo>
                    <a:pt x="63" y="7"/>
                  </a:lnTo>
                  <a:lnTo>
                    <a:pt x="48" y="3"/>
                  </a:lnTo>
                  <a:lnTo>
                    <a:pt x="33" y="0"/>
                  </a:lnTo>
                  <a:lnTo>
                    <a:pt x="19" y="3"/>
                  </a:lnTo>
                  <a:lnTo>
                    <a:pt x="8" y="14"/>
                  </a:lnTo>
                  <a:lnTo>
                    <a:pt x="0" y="25"/>
                  </a:lnTo>
                  <a:lnTo>
                    <a:pt x="0" y="40"/>
                  </a:lnTo>
                  <a:lnTo>
                    <a:pt x="8" y="51"/>
                  </a:lnTo>
                  <a:lnTo>
                    <a:pt x="19" y="62"/>
                  </a:lnTo>
                  <a:lnTo>
                    <a:pt x="33" y="69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603920" y="190440"/>
              <a:ext cx="122400" cy="109440"/>
            </a:xfrm>
            <a:custGeom>
              <a:avLst/>
              <a:gdLst/>
              <a:ahLst/>
              <a:rect l="l" t="t" r="r" b="b"/>
              <a:pathLst>
                <a:path w="77" h="69">
                  <a:moveTo>
                    <a:pt x="30" y="66"/>
                  </a:moveTo>
                  <a:lnTo>
                    <a:pt x="44" y="69"/>
                  </a:lnTo>
                  <a:lnTo>
                    <a:pt x="59" y="66"/>
                  </a:lnTo>
                  <a:lnTo>
                    <a:pt x="70" y="55"/>
                  </a:lnTo>
                  <a:lnTo>
                    <a:pt x="77" y="44"/>
                  </a:lnTo>
                  <a:lnTo>
                    <a:pt x="77" y="29"/>
                  </a:lnTo>
                  <a:lnTo>
                    <a:pt x="73" y="18"/>
                  </a:lnTo>
                  <a:lnTo>
                    <a:pt x="62" y="7"/>
                  </a:lnTo>
                  <a:lnTo>
                    <a:pt x="48" y="0"/>
                  </a:lnTo>
                  <a:lnTo>
                    <a:pt x="33" y="0"/>
                  </a:lnTo>
                  <a:lnTo>
                    <a:pt x="19" y="4"/>
                  </a:lnTo>
                  <a:lnTo>
                    <a:pt x="8" y="11"/>
                  </a:lnTo>
                  <a:lnTo>
                    <a:pt x="0" y="22"/>
                  </a:lnTo>
                  <a:lnTo>
                    <a:pt x="0" y="37"/>
                  </a:lnTo>
                  <a:lnTo>
                    <a:pt x="8" y="51"/>
                  </a:lnTo>
                  <a:lnTo>
                    <a:pt x="19" y="62"/>
                  </a:lnTo>
                  <a:lnTo>
                    <a:pt x="30" y="66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51400" y="1244520"/>
              <a:ext cx="500400" cy="347760"/>
            </a:xfrm>
            <a:custGeom>
              <a:avLst/>
              <a:gdLst/>
              <a:ahLst/>
              <a:rect l="l" t="t" r="r" b="b"/>
              <a:pathLst>
                <a:path w="315" h="219">
                  <a:moveTo>
                    <a:pt x="315" y="219"/>
                  </a:moveTo>
                  <a:lnTo>
                    <a:pt x="315" y="164"/>
                  </a:lnTo>
                  <a:lnTo>
                    <a:pt x="300" y="113"/>
                  </a:lnTo>
                  <a:lnTo>
                    <a:pt x="278" y="69"/>
                  </a:lnTo>
                  <a:lnTo>
                    <a:pt x="245" y="37"/>
                  </a:lnTo>
                  <a:lnTo>
                    <a:pt x="201" y="11"/>
                  </a:lnTo>
                  <a:lnTo>
                    <a:pt x="154" y="0"/>
                  </a:lnTo>
                  <a:lnTo>
                    <a:pt x="99" y="0"/>
                  </a:lnTo>
                  <a:lnTo>
                    <a:pt x="41" y="18"/>
                  </a:lnTo>
                  <a:lnTo>
                    <a:pt x="4" y="44"/>
                  </a:lnTo>
                  <a:lnTo>
                    <a:pt x="0" y="73"/>
                  </a:lnTo>
                  <a:lnTo>
                    <a:pt x="19" y="91"/>
                  </a:lnTo>
                  <a:lnTo>
                    <a:pt x="48" y="88"/>
                  </a:lnTo>
                  <a:lnTo>
                    <a:pt x="52" y="88"/>
                  </a:lnTo>
                  <a:lnTo>
                    <a:pt x="70" y="84"/>
                  </a:lnTo>
                  <a:lnTo>
                    <a:pt x="103" y="84"/>
                  </a:lnTo>
                  <a:lnTo>
                    <a:pt x="143" y="84"/>
                  </a:lnTo>
                  <a:lnTo>
                    <a:pt x="190" y="95"/>
                  </a:lnTo>
                  <a:lnTo>
                    <a:pt x="238" y="117"/>
                  </a:lnTo>
                  <a:lnTo>
                    <a:pt x="282" y="157"/>
                  </a:lnTo>
                  <a:lnTo>
                    <a:pt x="315" y="219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905600" y="376200"/>
              <a:ext cx="441360" cy="450720"/>
            </a:xfrm>
            <a:custGeom>
              <a:avLst/>
              <a:gdLst/>
              <a:ahLst/>
              <a:rect l="l" t="t" r="r" b="b"/>
              <a:pathLst>
                <a:path w="278" h="284">
                  <a:moveTo>
                    <a:pt x="143" y="190"/>
                  </a:moveTo>
                  <a:lnTo>
                    <a:pt x="143" y="222"/>
                  </a:lnTo>
                  <a:lnTo>
                    <a:pt x="154" y="252"/>
                  </a:lnTo>
                  <a:lnTo>
                    <a:pt x="168" y="270"/>
                  </a:lnTo>
                  <a:lnTo>
                    <a:pt x="190" y="281"/>
                  </a:lnTo>
                  <a:lnTo>
                    <a:pt x="212" y="284"/>
                  </a:lnTo>
                  <a:lnTo>
                    <a:pt x="234" y="277"/>
                  </a:lnTo>
                  <a:lnTo>
                    <a:pt x="256" y="263"/>
                  </a:lnTo>
                  <a:lnTo>
                    <a:pt x="271" y="237"/>
                  </a:lnTo>
                  <a:lnTo>
                    <a:pt x="278" y="204"/>
                  </a:lnTo>
                  <a:lnTo>
                    <a:pt x="267" y="171"/>
                  </a:lnTo>
                  <a:lnTo>
                    <a:pt x="241" y="142"/>
                  </a:lnTo>
                  <a:lnTo>
                    <a:pt x="209" y="109"/>
                  </a:lnTo>
                  <a:lnTo>
                    <a:pt x="161" y="80"/>
                  </a:lnTo>
                  <a:lnTo>
                    <a:pt x="110" y="51"/>
                  </a:lnTo>
                  <a:lnTo>
                    <a:pt x="55" y="25"/>
                  </a:lnTo>
                  <a:lnTo>
                    <a:pt x="0" y="0"/>
                  </a:lnTo>
                  <a:lnTo>
                    <a:pt x="70" y="40"/>
                  </a:lnTo>
                  <a:lnTo>
                    <a:pt x="121" y="80"/>
                  </a:lnTo>
                  <a:lnTo>
                    <a:pt x="157" y="117"/>
                  </a:lnTo>
                  <a:lnTo>
                    <a:pt x="179" y="153"/>
                  </a:lnTo>
                  <a:lnTo>
                    <a:pt x="190" y="179"/>
                  </a:lnTo>
                  <a:lnTo>
                    <a:pt x="183" y="197"/>
                  </a:lnTo>
                  <a:lnTo>
                    <a:pt x="168" y="200"/>
                  </a:lnTo>
                  <a:lnTo>
                    <a:pt x="143" y="19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80200" y="1876320"/>
              <a:ext cx="144360" cy="201600"/>
            </a:xfrm>
            <a:custGeom>
              <a:avLst/>
              <a:gdLst/>
              <a:ahLst/>
              <a:rect l="l" t="t" r="r" b="b"/>
              <a:pathLst>
                <a:path w="91" h="127">
                  <a:moveTo>
                    <a:pt x="69" y="127"/>
                  </a:moveTo>
                  <a:lnTo>
                    <a:pt x="84" y="117"/>
                  </a:lnTo>
                  <a:lnTo>
                    <a:pt x="91" y="98"/>
                  </a:lnTo>
                  <a:lnTo>
                    <a:pt x="91" y="76"/>
                  </a:lnTo>
                  <a:lnTo>
                    <a:pt x="84" y="51"/>
                  </a:lnTo>
                  <a:lnTo>
                    <a:pt x="73" y="25"/>
                  </a:lnTo>
                  <a:lnTo>
                    <a:pt x="58" y="7"/>
                  </a:lnTo>
                  <a:lnTo>
                    <a:pt x="40" y="0"/>
                  </a:lnTo>
                  <a:lnTo>
                    <a:pt x="22" y="0"/>
                  </a:lnTo>
                  <a:lnTo>
                    <a:pt x="7" y="11"/>
                  </a:lnTo>
                  <a:lnTo>
                    <a:pt x="0" y="29"/>
                  </a:lnTo>
                  <a:lnTo>
                    <a:pt x="0" y="51"/>
                  </a:lnTo>
                  <a:lnTo>
                    <a:pt x="7" y="76"/>
                  </a:lnTo>
                  <a:lnTo>
                    <a:pt x="18" y="102"/>
                  </a:lnTo>
                  <a:lnTo>
                    <a:pt x="33" y="117"/>
                  </a:lnTo>
                  <a:lnTo>
                    <a:pt x="51" y="127"/>
                  </a:lnTo>
                  <a:lnTo>
                    <a:pt x="69" y="127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3809880" y="907920"/>
              <a:ext cx="3409920" cy="1900080"/>
              <a:chOff x="3809880" y="907920"/>
              <a:chExt cx="3409920" cy="190008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3809880" y="907920"/>
                <a:ext cx="3029040" cy="1569960"/>
                <a:chOff x="3809880" y="907920"/>
                <a:chExt cx="3029040" cy="1569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809880" y="907920"/>
                  <a:ext cx="3029040" cy="1569960"/>
                </a:xfrm>
                <a:custGeom>
                  <a:avLst/>
                  <a:gdLst/>
                  <a:ahLst/>
                  <a:rect l="l" t="t" r="r" b="b"/>
                  <a:pathLst>
                    <a:path w="1908" h="989">
                      <a:moveTo>
                        <a:pt x="1813" y="275"/>
                      </a:moveTo>
                      <a:lnTo>
                        <a:pt x="1839" y="295"/>
                      </a:lnTo>
                      <a:lnTo>
                        <a:pt x="1862" y="318"/>
                      </a:lnTo>
                      <a:lnTo>
                        <a:pt x="1880" y="341"/>
                      </a:lnTo>
                      <a:lnTo>
                        <a:pt x="1896" y="362"/>
                      </a:lnTo>
                      <a:lnTo>
                        <a:pt x="1906" y="385"/>
                      </a:lnTo>
                      <a:lnTo>
                        <a:pt x="1908" y="404"/>
                      </a:lnTo>
                      <a:lnTo>
                        <a:pt x="1906" y="422"/>
                      </a:lnTo>
                      <a:lnTo>
                        <a:pt x="1894" y="436"/>
                      </a:lnTo>
                      <a:lnTo>
                        <a:pt x="1899" y="441"/>
                      </a:lnTo>
                      <a:lnTo>
                        <a:pt x="1892" y="448"/>
                      </a:lnTo>
                      <a:lnTo>
                        <a:pt x="1878" y="452"/>
                      </a:lnTo>
                      <a:lnTo>
                        <a:pt x="1855" y="459"/>
                      </a:lnTo>
                      <a:lnTo>
                        <a:pt x="1827" y="468"/>
                      </a:lnTo>
                      <a:lnTo>
                        <a:pt x="1793" y="475"/>
                      </a:lnTo>
                      <a:lnTo>
                        <a:pt x="1753" y="484"/>
                      </a:lnTo>
                      <a:lnTo>
                        <a:pt x="1712" y="491"/>
                      </a:lnTo>
                      <a:lnTo>
                        <a:pt x="1668" y="501"/>
                      </a:lnTo>
                      <a:lnTo>
                        <a:pt x="1622" y="508"/>
                      </a:lnTo>
                      <a:lnTo>
                        <a:pt x="1578" y="517"/>
                      </a:lnTo>
                      <a:lnTo>
                        <a:pt x="1532" y="524"/>
                      </a:lnTo>
                      <a:lnTo>
                        <a:pt x="1490" y="531"/>
                      </a:lnTo>
                      <a:lnTo>
                        <a:pt x="1451" y="537"/>
                      </a:lnTo>
                      <a:lnTo>
                        <a:pt x="1417" y="542"/>
                      </a:lnTo>
                      <a:lnTo>
                        <a:pt x="1387" y="547"/>
                      </a:lnTo>
                      <a:lnTo>
                        <a:pt x="1347" y="554"/>
                      </a:lnTo>
                      <a:lnTo>
                        <a:pt x="1303" y="561"/>
                      </a:lnTo>
                      <a:lnTo>
                        <a:pt x="1255" y="567"/>
                      </a:lnTo>
                      <a:lnTo>
                        <a:pt x="1204" y="574"/>
                      </a:lnTo>
                      <a:lnTo>
                        <a:pt x="1151" y="584"/>
                      </a:lnTo>
                      <a:lnTo>
                        <a:pt x="1098" y="593"/>
                      </a:lnTo>
                      <a:lnTo>
                        <a:pt x="1043" y="600"/>
                      </a:lnTo>
                      <a:lnTo>
                        <a:pt x="987" y="609"/>
                      </a:lnTo>
                      <a:lnTo>
                        <a:pt x="934" y="616"/>
                      </a:lnTo>
                      <a:lnTo>
                        <a:pt x="881" y="625"/>
                      </a:lnTo>
                      <a:lnTo>
                        <a:pt x="833" y="632"/>
                      </a:lnTo>
                      <a:lnTo>
                        <a:pt x="787" y="637"/>
                      </a:lnTo>
                      <a:lnTo>
                        <a:pt x="745" y="644"/>
                      </a:lnTo>
                      <a:lnTo>
                        <a:pt x="708" y="646"/>
                      </a:lnTo>
                      <a:lnTo>
                        <a:pt x="676" y="648"/>
                      </a:lnTo>
                      <a:lnTo>
                        <a:pt x="651" y="650"/>
                      </a:lnTo>
                      <a:lnTo>
                        <a:pt x="593" y="655"/>
                      </a:lnTo>
                      <a:lnTo>
                        <a:pt x="538" y="664"/>
                      </a:lnTo>
                      <a:lnTo>
                        <a:pt x="482" y="680"/>
                      </a:lnTo>
                      <a:lnTo>
                        <a:pt x="434" y="697"/>
                      </a:lnTo>
                      <a:lnTo>
                        <a:pt x="390" y="715"/>
                      </a:lnTo>
                      <a:lnTo>
                        <a:pt x="353" y="733"/>
                      </a:lnTo>
                      <a:lnTo>
                        <a:pt x="323" y="750"/>
                      </a:lnTo>
                      <a:lnTo>
                        <a:pt x="305" y="763"/>
                      </a:lnTo>
                      <a:lnTo>
                        <a:pt x="291" y="787"/>
                      </a:lnTo>
                      <a:lnTo>
                        <a:pt x="298" y="810"/>
                      </a:lnTo>
                      <a:lnTo>
                        <a:pt x="311" y="842"/>
                      </a:lnTo>
                      <a:lnTo>
                        <a:pt x="318" y="895"/>
                      </a:lnTo>
                      <a:lnTo>
                        <a:pt x="314" y="923"/>
                      </a:lnTo>
                      <a:lnTo>
                        <a:pt x="302" y="946"/>
                      </a:lnTo>
                      <a:lnTo>
                        <a:pt x="286" y="962"/>
                      </a:lnTo>
                      <a:lnTo>
                        <a:pt x="268" y="973"/>
                      </a:lnTo>
                      <a:lnTo>
                        <a:pt x="247" y="983"/>
                      </a:lnTo>
                      <a:lnTo>
                        <a:pt x="228" y="987"/>
                      </a:lnTo>
                      <a:lnTo>
                        <a:pt x="212" y="989"/>
                      </a:lnTo>
                      <a:lnTo>
                        <a:pt x="201" y="989"/>
                      </a:lnTo>
                      <a:lnTo>
                        <a:pt x="215" y="971"/>
                      </a:lnTo>
                      <a:lnTo>
                        <a:pt x="221" y="946"/>
                      </a:lnTo>
                      <a:lnTo>
                        <a:pt x="224" y="925"/>
                      </a:lnTo>
                      <a:lnTo>
                        <a:pt x="224" y="916"/>
                      </a:lnTo>
                      <a:lnTo>
                        <a:pt x="224" y="916"/>
                      </a:lnTo>
                      <a:lnTo>
                        <a:pt x="221" y="911"/>
                      </a:lnTo>
                      <a:lnTo>
                        <a:pt x="217" y="900"/>
                      </a:lnTo>
                      <a:lnTo>
                        <a:pt x="208" y="879"/>
                      </a:lnTo>
                      <a:lnTo>
                        <a:pt x="201" y="867"/>
                      </a:lnTo>
                      <a:lnTo>
                        <a:pt x="191" y="858"/>
                      </a:lnTo>
                      <a:lnTo>
                        <a:pt x="180" y="851"/>
                      </a:lnTo>
                      <a:lnTo>
                        <a:pt x="168" y="849"/>
                      </a:lnTo>
                      <a:lnTo>
                        <a:pt x="157" y="846"/>
                      </a:lnTo>
                      <a:lnTo>
                        <a:pt x="145" y="846"/>
                      </a:lnTo>
                      <a:lnTo>
                        <a:pt x="136" y="844"/>
                      </a:lnTo>
                      <a:lnTo>
                        <a:pt x="127" y="844"/>
                      </a:lnTo>
                      <a:lnTo>
                        <a:pt x="120" y="842"/>
                      </a:lnTo>
                      <a:lnTo>
                        <a:pt x="120" y="835"/>
                      </a:lnTo>
                      <a:lnTo>
                        <a:pt x="118" y="830"/>
                      </a:lnTo>
                      <a:lnTo>
                        <a:pt x="106" y="828"/>
                      </a:lnTo>
                      <a:lnTo>
                        <a:pt x="88" y="826"/>
                      </a:lnTo>
                      <a:lnTo>
                        <a:pt x="72" y="821"/>
                      </a:lnTo>
                      <a:lnTo>
                        <a:pt x="55" y="814"/>
                      </a:lnTo>
                      <a:lnTo>
                        <a:pt x="42" y="803"/>
                      </a:lnTo>
                      <a:lnTo>
                        <a:pt x="32" y="796"/>
                      </a:lnTo>
                      <a:lnTo>
                        <a:pt x="23" y="798"/>
                      </a:lnTo>
                      <a:lnTo>
                        <a:pt x="14" y="803"/>
                      </a:lnTo>
                      <a:lnTo>
                        <a:pt x="0" y="805"/>
                      </a:lnTo>
                      <a:lnTo>
                        <a:pt x="9" y="793"/>
                      </a:lnTo>
                      <a:lnTo>
                        <a:pt x="23" y="782"/>
                      </a:lnTo>
                      <a:lnTo>
                        <a:pt x="39" y="770"/>
                      </a:lnTo>
                      <a:lnTo>
                        <a:pt x="55" y="759"/>
                      </a:lnTo>
                      <a:lnTo>
                        <a:pt x="65" y="754"/>
                      </a:lnTo>
                      <a:lnTo>
                        <a:pt x="81" y="750"/>
                      </a:lnTo>
                      <a:lnTo>
                        <a:pt x="99" y="747"/>
                      </a:lnTo>
                      <a:lnTo>
                        <a:pt x="118" y="745"/>
                      </a:lnTo>
                      <a:lnTo>
                        <a:pt x="141" y="743"/>
                      </a:lnTo>
                      <a:lnTo>
                        <a:pt x="164" y="740"/>
                      </a:lnTo>
                      <a:lnTo>
                        <a:pt x="187" y="738"/>
                      </a:lnTo>
                      <a:lnTo>
                        <a:pt x="208" y="731"/>
                      </a:lnTo>
                      <a:lnTo>
                        <a:pt x="231" y="722"/>
                      </a:lnTo>
                      <a:lnTo>
                        <a:pt x="258" y="704"/>
                      </a:lnTo>
                      <a:lnTo>
                        <a:pt x="286" y="685"/>
                      </a:lnTo>
                      <a:lnTo>
                        <a:pt x="314" y="662"/>
                      </a:lnTo>
                      <a:lnTo>
                        <a:pt x="339" y="641"/>
                      </a:lnTo>
                      <a:lnTo>
                        <a:pt x="360" y="623"/>
                      </a:lnTo>
                      <a:lnTo>
                        <a:pt x="374" y="609"/>
                      </a:lnTo>
                      <a:lnTo>
                        <a:pt x="378" y="604"/>
                      </a:lnTo>
                      <a:lnTo>
                        <a:pt x="441" y="551"/>
                      </a:lnTo>
                      <a:lnTo>
                        <a:pt x="503" y="503"/>
                      </a:lnTo>
                      <a:lnTo>
                        <a:pt x="565" y="459"/>
                      </a:lnTo>
                      <a:lnTo>
                        <a:pt x="625" y="420"/>
                      </a:lnTo>
                      <a:lnTo>
                        <a:pt x="683" y="388"/>
                      </a:lnTo>
                      <a:lnTo>
                        <a:pt x="738" y="358"/>
                      </a:lnTo>
                      <a:lnTo>
                        <a:pt x="791" y="332"/>
                      </a:lnTo>
                      <a:lnTo>
                        <a:pt x="842" y="309"/>
                      </a:lnTo>
                      <a:lnTo>
                        <a:pt x="888" y="293"/>
                      </a:lnTo>
                      <a:lnTo>
                        <a:pt x="930" y="277"/>
                      </a:lnTo>
                      <a:lnTo>
                        <a:pt x="964" y="265"/>
                      </a:lnTo>
                      <a:lnTo>
                        <a:pt x="997" y="256"/>
                      </a:lnTo>
                      <a:lnTo>
                        <a:pt x="1020" y="249"/>
                      </a:lnTo>
                      <a:lnTo>
                        <a:pt x="1038" y="245"/>
                      </a:lnTo>
                      <a:lnTo>
                        <a:pt x="1050" y="242"/>
                      </a:lnTo>
                      <a:lnTo>
                        <a:pt x="1054" y="242"/>
                      </a:lnTo>
                      <a:lnTo>
                        <a:pt x="1096" y="226"/>
                      </a:lnTo>
                      <a:lnTo>
                        <a:pt x="1121" y="203"/>
                      </a:lnTo>
                      <a:lnTo>
                        <a:pt x="1135" y="175"/>
                      </a:lnTo>
                      <a:lnTo>
                        <a:pt x="1140" y="145"/>
                      </a:lnTo>
                      <a:lnTo>
                        <a:pt x="1135" y="118"/>
                      </a:lnTo>
                      <a:lnTo>
                        <a:pt x="1128" y="95"/>
                      </a:lnTo>
                      <a:lnTo>
                        <a:pt x="1119" y="76"/>
                      </a:lnTo>
                      <a:lnTo>
                        <a:pt x="1110" y="69"/>
                      </a:lnTo>
                      <a:lnTo>
                        <a:pt x="1091" y="44"/>
                      </a:lnTo>
                      <a:lnTo>
                        <a:pt x="1082" y="26"/>
                      </a:lnTo>
                      <a:lnTo>
                        <a:pt x="1082" y="14"/>
                      </a:lnTo>
                      <a:lnTo>
                        <a:pt x="1087" y="5"/>
                      </a:lnTo>
                      <a:lnTo>
                        <a:pt x="1094" y="3"/>
                      </a:lnTo>
                      <a:lnTo>
                        <a:pt x="1103" y="0"/>
                      </a:lnTo>
                      <a:lnTo>
                        <a:pt x="1110" y="0"/>
                      </a:lnTo>
                      <a:lnTo>
                        <a:pt x="1112" y="0"/>
                      </a:lnTo>
                      <a:lnTo>
                        <a:pt x="1144" y="19"/>
                      </a:lnTo>
                      <a:lnTo>
                        <a:pt x="1179" y="46"/>
                      </a:lnTo>
                      <a:lnTo>
                        <a:pt x="1213" y="79"/>
                      </a:lnTo>
                      <a:lnTo>
                        <a:pt x="1248" y="113"/>
                      </a:lnTo>
                      <a:lnTo>
                        <a:pt x="1276" y="145"/>
                      </a:lnTo>
                      <a:lnTo>
                        <a:pt x="1301" y="175"/>
                      </a:lnTo>
                      <a:lnTo>
                        <a:pt x="1322" y="194"/>
                      </a:lnTo>
                      <a:lnTo>
                        <a:pt x="1333" y="201"/>
                      </a:lnTo>
                      <a:lnTo>
                        <a:pt x="1347" y="201"/>
                      </a:lnTo>
                      <a:lnTo>
                        <a:pt x="1366" y="203"/>
                      </a:lnTo>
                      <a:lnTo>
                        <a:pt x="1391" y="203"/>
                      </a:lnTo>
                      <a:lnTo>
                        <a:pt x="1421" y="205"/>
                      </a:lnTo>
                      <a:lnTo>
                        <a:pt x="1456" y="208"/>
                      </a:lnTo>
                      <a:lnTo>
                        <a:pt x="1493" y="212"/>
                      </a:lnTo>
                      <a:lnTo>
                        <a:pt x="1530" y="215"/>
                      </a:lnTo>
                      <a:lnTo>
                        <a:pt x="1569" y="219"/>
                      </a:lnTo>
                      <a:lnTo>
                        <a:pt x="1608" y="224"/>
                      </a:lnTo>
                      <a:lnTo>
                        <a:pt x="1647" y="229"/>
                      </a:lnTo>
                      <a:lnTo>
                        <a:pt x="1684" y="235"/>
                      </a:lnTo>
                      <a:lnTo>
                        <a:pt x="1719" y="242"/>
                      </a:lnTo>
                      <a:lnTo>
                        <a:pt x="1749" y="249"/>
                      </a:lnTo>
                      <a:lnTo>
                        <a:pt x="1776" y="256"/>
                      </a:lnTo>
                      <a:lnTo>
                        <a:pt x="1797" y="265"/>
                      </a:lnTo>
                      <a:lnTo>
                        <a:pt x="1813" y="2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38840" y="1650600"/>
                  <a:ext cx="581040" cy="260640"/>
                </a:xfrm>
                <a:custGeom>
                  <a:avLst/>
                  <a:gdLst/>
                  <a:ahLst/>
                  <a:rect l="l" t="t" r="r" b="b"/>
                  <a:pathLst>
                    <a:path w="366" h="164">
                      <a:moveTo>
                        <a:pt x="0" y="164"/>
                      </a:moveTo>
                      <a:lnTo>
                        <a:pt x="6" y="153"/>
                      </a:lnTo>
                      <a:lnTo>
                        <a:pt x="16" y="136"/>
                      </a:lnTo>
                      <a:lnTo>
                        <a:pt x="34" y="116"/>
                      </a:lnTo>
                      <a:lnTo>
                        <a:pt x="62" y="90"/>
                      </a:lnTo>
                      <a:lnTo>
                        <a:pt x="99" y="65"/>
                      </a:lnTo>
                      <a:lnTo>
                        <a:pt x="150" y="40"/>
                      </a:lnTo>
                      <a:lnTo>
                        <a:pt x="214" y="19"/>
                      </a:lnTo>
                      <a:lnTo>
                        <a:pt x="297" y="0"/>
                      </a:lnTo>
                      <a:lnTo>
                        <a:pt x="332" y="0"/>
                      </a:lnTo>
                      <a:lnTo>
                        <a:pt x="353" y="12"/>
                      </a:lnTo>
                      <a:lnTo>
                        <a:pt x="364" y="28"/>
                      </a:lnTo>
                      <a:lnTo>
                        <a:pt x="366" y="51"/>
                      </a:lnTo>
                      <a:lnTo>
                        <a:pt x="362" y="74"/>
                      </a:lnTo>
                      <a:lnTo>
                        <a:pt x="355" y="95"/>
                      </a:lnTo>
                      <a:lnTo>
                        <a:pt x="346" y="109"/>
                      </a:lnTo>
                      <a:lnTo>
                        <a:pt x="339" y="116"/>
                      </a:lnTo>
                      <a:lnTo>
                        <a:pt x="281" y="127"/>
                      </a:lnTo>
                      <a:lnTo>
                        <a:pt x="221" y="139"/>
                      </a:lnTo>
                      <a:lnTo>
                        <a:pt x="163" y="146"/>
                      </a:lnTo>
                      <a:lnTo>
                        <a:pt x="113" y="153"/>
                      </a:lnTo>
                      <a:lnTo>
                        <a:pt x="66" y="157"/>
                      </a:lnTo>
                      <a:lnTo>
                        <a:pt x="32" y="162"/>
                      </a:lnTo>
                      <a:lnTo>
                        <a:pt x="9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978520" y="1577880"/>
                  <a:ext cx="816120" cy="193680"/>
                </a:xfrm>
                <a:custGeom>
                  <a:avLst/>
                  <a:gdLst/>
                  <a:ahLst/>
                  <a:rect l="l" t="t" r="r" b="b"/>
                  <a:pathLst>
                    <a:path w="514" h="122">
                      <a:moveTo>
                        <a:pt x="0" y="122"/>
                      </a:moveTo>
                      <a:lnTo>
                        <a:pt x="16" y="106"/>
                      </a:lnTo>
                      <a:lnTo>
                        <a:pt x="32" y="88"/>
                      </a:lnTo>
                      <a:lnTo>
                        <a:pt x="48" y="72"/>
                      </a:lnTo>
                      <a:lnTo>
                        <a:pt x="69" y="53"/>
                      </a:lnTo>
                      <a:lnTo>
                        <a:pt x="94" y="39"/>
                      </a:lnTo>
                      <a:lnTo>
                        <a:pt x="127" y="26"/>
                      </a:lnTo>
                      <a:lnTo>
                        <a:pt x="168" y="14"/>
                      </a:lnTo>
                      <a:lnTo>
                        <a:pt x="224" y="5"/>
                      </a:lnTo>
                      <a:lnTo>
                        <a:pt x="249" y="3"/>
                      </a:lnTo>
                      <a:lnTo>
                        <a:pt x="293" y="3"/>
                      </a:lnTo>
                      <a:lnTo>
                        <a:pt x="348" y="0"/>
                      </a:lnTo>
                      <a:lnTo>
                        <a:pt x="403" y="0"/>
                      </a:lnTo>
                      <a:lnTo>
                        <a:pt x="457" y="3"/>
                      </a:lnTo>
                      <a:lnTo>
                        <a:pt x="496" y="5"/>
                      </a:lnTo>
                      <a:lnTo>
                        <a:pt x="514" y="9"/>
                      </a:lnTo>
                      <a:lnTo>
                        <a:pt x="507" y="16"/>
                      </a:lnTo>
                      <a:lnTo>
                        <a:pt x="480" y="26"/>
                      </a:lnTo>
                      <a:lnTo>
                        <a:pt x="452" y="32"/>
                      </a:lnTo>
                      <a:lnTo>
                        <a:pt x="422" y="39"/>
                      </a:lnTo>
                      <a:lnTo>
                        <a:pt x="392" y="46"/>
                      </a:lnTo>
                      <a:lnTo>
                        <a:pt x="355" y="56"/>
                      </a:lnTo>
                      <a:lnTo>
                        <a:pt x="311" y="65"/>
                      </a:lnTo>
                      <a:lnTo>
                        <a:pt x="260" y="74"/>
                      </a:lnTo>
                      <a:lnTo>
                        <a:pt x="198" y="86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765760" y="1603080"/>
                  <a:ext cx="465120" cy="322200"/>
                </a:xfrm>
                <a:custGeom>
                  <a:avLst/>
                  <a:gdLst/>
                  <a:ahLst/>
                  <a:rect l="l" t="t" r="r" b="b"/>
                  <a:pathLst>
                    <a:path w="293" h="203">
                      <a:moveTo>
                        <a:pt x="240" y="3"/>
                      </a:moveTo>
                      <a:lnTo>
                        <a:pt x="235" y="7"/>
                      </a:lnTo>
                      <a:lnTo>
                        <a:pt x="228" y="10"/>
                      </a:lnTo>
                      <a:lnTo>
                        <a:pt x="221" y="12"/>
                      </a:lnTo>
                      <a:lnTo>
                        <a:pt x="212" y="14"/>
                      </a:lnTo>
                      <a:lnTo>
                        <a:pt x="201" y="16"/>
                      </a:lnTo>
                      <a:lnTo>
                        <a:pt x="189" y="19"/>
                      </a:lnTo>
                      <a:lnTo>
                        <a:pt x="180" y="23"/>
                      </a:lnTo>
                      <a:lnTo>
                        <a:pt x="168" y="30"/>
                      </a:lnTo>
                      <a:lnTo>
                        <a:pt x="157" y="37"/>
                      </a:lnTo>
                      <a:lnTo>
                        <a:pt x="143" y="44"/>
                      </a:lnTo>
                      <a:lnTo>
                        <a:pt x="127" y="51"/>
                      </a:lnTo>
                      <a:lnTo>
                        <a:pt x="111" y="60"/>
                      </a:lnTo>
                      <a:lnTo>
                        <a:pt x="92" y="70"/>
                      </a:lnTo>
                      <a:lnTo>
                        <a:pt x="76" y="81"/>
                      </a:lnTo>
                      <a:lnTo>
                        <a:pt x="62" y="93"/>
                      </a:lnTo>
                      <a:lnTo>
                        <a:pt x="48" y="106"/>
                      </a:lnTo>
                      <a:lnTo>
                        <a:pt x="28" y="134"/>
                      </a:lnTo>
                      <a:lnTo>
                        <a:pt x="11" y="164"/>
                      </a:lnTo>
                      <a:lnTo>
                        <a:pt x="2" y="187"/>
                      </a:lnTo>
                      <a:lnTo>
                        <a:pt x="0" y="201"/>
                      </a:lnTo>
                      <a:lnTo>
                        <a:pt x="7" y="203"/>
                      </a:lnTo>
                      <a:lnTo>
                        <a:pt x="21" y="203"/>
                      </a:lnTo>
                      <a:lnTo>
                        <a:pt x="41" y="199"/>
                      </a:lnTo>
                      <a:lnTo>
                        <a:pt x="67" y="194"/>
                      </a:lnTo>
                      <a:lnTo>
                        <a:pt x="92" y="189"/>
                      </a:lnTo>
                      <a:lnTo>
                        <a:pt x="115" y="180"/>
                      </a:lnTo>
                      <a:lnTo>
                        <a:pt x="138" y="173"/>
                      </a:lnTo>
                      <a:lnTo>
                        <a:pt x="155" y="164"/>
                      </a:lnTo>
                      <a:lnTo>
                        <a:pt x="168" y="155"/>
                      </a:lnTo>
                      <a:lnTo>
                        <a:pt x="182" y="143"/>
                      </a:lnTo>
                      <a:lnTo>
                        <a:pt x="196" y="129"/>
                      </a:lnTo>
                      <a:lnTo>
                        <a:pt x="212" y="118"/>
                      </a:lnTo>
                      <a:lnTo>
                        <a:pt x="224" y="104"/>
                      </a:lnTo>
                      <a:lnTo>
                        <a:pt x="235" y="93"/>
                      </a:lnTo>
                      <a:lnTo>
                        <a:pt x="247" y="83"/>
                      </a:lnTo>
                      <a:lnTo>
                        <a:pt x="254" y="76"/>
                      </a:lnTo>
                      <a:lnTo>
                        <a:pt x="265" y="56"/>
                      </a:lnTo>
                      <a:lnTo>
                        <a:pt x="279" y="30"/>
                      </a:lnTo>
                      <a:lnTo>
                        <a:pt x="288" y="10"/>
                      </a:lnTo>
                      <a:lnTo>
                        <a:pt x="293" y="0"/>
                      </a:lnTo>
                      <a:lnTo>
                        <a:pt x="24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757840" y="1596960"/>
                  <a:ext cx="480960" cy="336240"/>
                </a:xfrm>
                <a:custGeom>
                  <a:avLst/>
                  <a:gdLst/>
                  <a:ahLst/>
                  <a:rect l="l" t="t" r="r" b="b"/>
                  <a:pathLst>
                    <a:path w="303" h="212">
                      <a:moveTo>
                        <a:pt x="240" y="2"/>
                      </a:moveTo>
                      <a:lnTo>
                        <a:pt x="238" y="4"/>
                      </a:lnTo>
                      <a:lnTo>
                        <a:pt x="233" y="7"/>
                      </a:lnTo>
                      <a:lnTo>
                        <a:pt x="226" y="9"/>
                      </a:lnTo>
                      <a:lnTo>
                        <a:pt x="217" y="11"/>
                      </a:lnTo>
                      <a:lnTo>
                        <a:pt x="206" y="14"/>
                      </a:lnTo>
                      <a:lnTo>
                        <a:pt x="194" y="16"/>
                      </a:lnTo>
                      <a:lnTo>
                        <a:pt x="180" y="23"/>
                      </a:lnTo>
                      <a:lnTo>
                        <a:pt x="169" y="30"/>
                      </a:lnTo>
                      <a:lnTo>
                        <a:pt x="164" y="32"/>
                      </a:lnTo>
                      <a:lnTo>
                        <a:pt x="157" y="37"/>
                      </a:lnTo>
                      <a:lnTo>
                        <a:pt x="148" y="39"/>
                      </a:lnTo>
                      <a:lnTo>
                        <a:pt x="139" y="44"/>
                      </a:lnTo>
                      <a:lnTo>
                        <a:pt x="127" y="50"/>
                      </a:lnTo>
                      <a:lnTo>
                        <a:pt x="116" y="55"/>
                      </a:lnTo>
                      <a:lnTo>
                        <a:pt x="104" y="62"/>
                      </a:lnTo>
                      <a:lnTo>
                        <a:pt x="90" y="71"/>
                      </a:lnTo>
                      <a:lnTo>
                        <a:pt x="79" y="78"/>
                      </a:lnTo>
                      <a:lnTo>
                        <a:pt x="67" y="87"/>
                      </a:lnTo>
                      <a:lnTo>
                        <a:pt x="58" y="97"/>
                      </a:lnTo>
                      <a:lnTo>
                        <a:pt x="49" y="106"/>
                      </a:lnTo>
                      <a:lnTo>
                        <a:pt x="30" y="133"/>
                      </a:lnTo>
                      <a:lnTo>
                        <a:pt x="12" y="163"/>
                      </a:lnTo>
                      <a:lnTo>
                        <a:pt x="0" y="189"/>
                      </a:lnTo>
                      <a:lnTo>
                        <a:pt x="0" y="207"/>
                      </a:lnTo>
                      <a:lnTo>
                        <a:pt x="3" y="210"/>
                      </a:lnTo>
                      <a:lnTo>
                        <a:pt x="5" y="210"/>
                      </a:lnTo>
                      <a:lnTo>
                        <a:pt x="5" y="212"/>
                      </a:lnTo>
                      <a:lnTo>
                        <a:pt x="7" y="212"/>
                      </a:lnTo>
                      <a:lnTo>
                        <a:pt x="19" y="212"/>
                      </a:lnTo>
                      <a:lnTo>
                        <a:pt x="37" y="212"/>
                      </a:lnTo>
                      <a:lnTo>
                        <a:pt x="58" y="207"/>
                      </a:lnTo>
                      <a:lnTo>
                        <a:pt x="81" y="203"/>
                      </a:lnTo>
                      <a:lnTo>
                        <a:pt x="104" y="198"/>
                      </a:lnTo>
                      <a:lnTo>
                        <a:pt x="127" y="191"/>
                      </a:lnTo>
                      <a:lnTo>
                        <a:pt x="146" y="182"/>
                      </a:lnTo>
                      <a:lnTo>
                        <a:pt x="162" y="175"/>
                      </a:lnTo>
                      <a:lnTo>
                        <a:pt x="178" y="163"/>
                      </a:lnTo>
                      <a:lnTo>
                        <a:pt x="192" y="152"/>
                      </a:lnTo>
                      <a:lnTo>
                        <a:pt x="208" y="138"/>
                      </a:lnTo>
                      <a:lnTo>
                        <a:pt x="222" y="124"/>
                      </a:lnTo>
                      <a:lnTo>
                        <a:pt x="236" y="113"/>
                      </a:lnTo>
                      <a:lnTo>
                        <a:pt x="247" y="101"/>
                      </a:lnTo>
                      <a:lnTo>
                        <a:pt x="256" y="90"/>
                      </a:lnTo>
                      <a:lnTo>
                        <a:pt x="263" y="83"/>
                      </a:lnTo>
                      <a:lnTo>
                        <a:pt x="275" y="64"/>
                      </a:lnTo>
                      <a:lnTo>
                        <a:pt x="289" y="39"/>
                      </a:lnTo>
                      <a:lnTo>
                        <a:pt x="298" y="18"/>
                      </a:lnTo>
                      <a:lnTo>
                        <a:pt x="303" y="9"/>
                      </a:lnTo>
                      <a:lnTo>
                        <a:pt x="303" y="9"/>
                      </a:lnTo>
                      <a:lnTo>
                        <a:pt x="303" y="7"/>
                      </a:lnTo>
                      <a:lnTo>
                        <a:pt x="303" y="4"/>
                      </a:lnTo>
                      <a:lnTo>
                        <a:pt x="303" y="2"/>
                      </a:lnTo>
                      <a:lnTo>
                        <a:pt x="300" y="0"/>
                      </a:lnTo>
                      <a:lnTo>
                        <a:pt x="298" y="0"/>
                      </a:lnTo>
                      <a:lnTo>
                        <a:pt x="296" y="0"/>
                      </a:lnTo>
                      <a:lnTo>
                        <a:pt x="293" y="0"/>
                      </a:lnTo>
                      <a:lnTo>
                        <a:pt x="291" y="2"/>
                      </a:lnTo>
                      <a:lnTo>
                        <a:pt x="291" y="2"/>
                      </a:lnTo>
                      <a:lnTo>
                        <a:pt x="291" y="2"/>
                      </a:lnTo>
                      <a:lnTo>
                        <a:pt x="286" y="11"/>
                      </a:lnTo>
                      <a:lnTo>
                        <a:pt x="277" y="34"/>
                      </a:lnTo>
                      <a:lnTo>
                        <a:pt x="266" y="57"/>
                      </a:lnTo>
                      <a:lnTo>
                        <a:pt x="254" y="76"/>
                      </a:lnTo>
                      <a:lnTo>
                        <a:pt x="245" y="85"/>
                      </a:lnTo>
                      <a:lnTo>
                        <a:pt x="236" y="94"/>
                      </a:lnTo>
                      <a:lnTo>
                        <a:pt x="224" y="106"/>
                      </a:lnTo>
                      <a:lnTo>
                        <a:pt x="210" y="120"/>
                      </a:lnTo>
                      <a:lnTo>
                        <a:pt x="196" y="131"/>
                      </a:lnTo>
                      <a:lnTo>
                        <a:pt x="183" y="143"/>
                      </a:lnTo>
                      <a:lnTo>
                        <a:pt x="169" y="154"/>
                      </a:lnTo>
                      <a:lnTo>
                        <a:pt x="155" y="163"/>
                      </a:lnTo>
                      <a:lnTo>
                        <a:pt x="139" y="173"/>
                      </a:lnTo>
                      <a:lnTo>
                        <a:pt x="120" y="180"/>
                      </a:lnTo>
                      <a:lnTo>
                        <a:pt x="97" y="187"/>
                      </a:lnTo>
                      <a:lnTo>
                        <a:pt x="74" y="191"/>
                      </a:lnTo>
                      <a:lnTo>
                        <a:pt x="51" y="196"/>
                      </a:lnTo>
                      <a:lnTo>
                        <a:pt x="33" y="200"/>
                      </a:lnTo>
                      <a:lnTo>
                        <a:pt x="19" y="200"/>
                      </a:lnTo>
                      <a:lnTo>
                        <a:pt x="10" y="200"/>
                      </a:lnTo>
                      <a:lnTo>
                        <a:pt x="10" y="200"/>
                      </a:lnTo>
                      <a:lnTo>
                        <a:pt x="10" y="200"/>
                      </a:lnTo>
                      <a:lnTo>
                        <a:pt x="10" y="200"/>
                      </a:lnTo>
                      <a:lnTo>
                        <a:pt x="12" y="200"/>
                      </a:lnTo>
                      <a:lnTo>
                        <a:pt x="12" y="200"/>
                      </a:lnTo>
                      <a:lnTo>
                        <a:pt x="12" y="200"/>
                      </a:lnTo>
                      <a:lnTo>
                        <a:pt x="12" y="200"/>
                      </a:lnTo>
                      <a:lnTo>
                        <a:pt x="12" y="200"/>
                      </a:lnTo>
                      <a:lnTo>
                        <a:pt x="12" y="189"/>
                      </a:lnTo>
                      <a:lnTo>
                        <a:pt x="21" y="168"/>
                      </a:lnTo>
                      <a:lnTo>
                        <a:pt x="37" y="143"/>
                      </a:lnTo>
                      <a:lnTo>
                        <a:pt x="58" y="113"/>
                      </a:lnTo>
                      <a:lnTo>
                        <a:pt x="67" y="103"/>
                      </a:lnTo>
                      <a:lnTo>
                        <a:pt x="76" y="94"/>
                      </a:lnTo>
                      <a:lnTo>
                        <a:pt x="88" y="87"/>
                      </a:lnTo>
                      <a:lnTo>
                        <a:pt x="100" y="80"/>
                      </a:lnTo>
                      <a:lnTo>
                        <a:pt x="111" y="74"/>
                      </a:lnTo>
                      <a:lnTo>
                        <a:pt x="123" y="67"/>
                      </a:lnTo>
                      <a:lnTo>
                        <a:pt x="134" y="62"/>
                      </a:lnTo>
                      <a:lnTo>
                        <a:pt x="146" y="55"/>
                      </a:lnTo>
                      <a:lnTo>
                        <a:pt x="155" y="50"/>
                      </a:lnTo>
                      <a:lnTo>
                        <a:pt x="162" y="46"/>
                      </a:lnTo>
                      <a:lnTo>
                        <a:pt x="169" y="44"/>
                      </a:lnTo>
                      <a:lnTo>
                        <a:pt x="176" y="39"/>
                      </a:lnTo>
                      <a:lnTo>
                        <a:pt x="187" y="32"/>
                      </a:lnTo>
                      <a:lnTo>
                        <a:pt x="199" y="30"/>
                      </a:lnTo>
                      <a:lnTo>
                        <a:pt x="208" y="25"/>
                      </a:lnTo>
                      <a:lnTo>
                        <a:pt x="219" y="23"/>
                      </a:lnTo>
                      <a:lnTo>
                        <a:pt x="229" y="20"/>
                      </a:lnTo>
                      <a:lnTo>
                        <a:pt x="238" y="18"/>
                      </a:lnTo>
                      <a:lnTo>
                        <a:pt x="245" y="16"/>
                      </a:lnTo>
                      <a:lnTo>
                        <a:pt x="249" y="11"/>
                      </a:lnTo>
                      <a:lnTo>
                        <a:pt x="249" y="11"/>
                      </a:lnTo>
                      <a:lnTo>
                        <a:pt x="252" y="9"/>
                      </a:lnTo>
                      <a:lnTo>
                        <a:pt x="252" y="7"/>
                      </a:lnTo>
                      <a:lnTo>
                        <a:pt x="252" y="4"/>
                      </a:lnTo>
                      <a:lnTo>
                        <a:pt x="249" y="2"/>
                      </a:lnTo>
                      <a:lnTo>
                        <a:pt x="247" y="0"/>
                      </a:lnTo>
                      <a:lnTo>
                        <a:pt x="245" y="0"/>
                      </a:lnTo>
                      <a:lnTo>
                        <a:pt x="243" y="0"/>
                      </a:lnTo>
                      <a:lnTo>
                        <a:pt x="240" y="2"/>
                      </a:lnTo>
                      <a:lnTo>
                        <a:pt x="24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264360" y="1395000"/>
                  <a:ext cx="317520" cy="157320"/>
                </a:xfrm>
                <a:custGeom>
                  <a:avLst/>
                  <a:gdLst/>
                  <a:ahLst/>
                  <a:rect l="l" t="t" r="r" b="b"/>
                  <a:pathLst>
                    <a:path w="200" h="99">
                      <a:moveTo>
                        <a:pt x="16" y="64"/>
                      </a:moveTo>
                      <a:lnTo>
                        <a:pt x="46" y="41"/>
                      </a:lnTo>
                      <a:lnTo>
                        <a:pt x="76" y="23"/>
                      </a:lnTo>
                      <a:lnTo>
                        <a:pt x="106" y="9"/>
                      </a:lnTo>
                      <a:lnTo>
                        <a:pt x="134" y="2"/>
                      </a:lnTo>
                      <a:lnTo>
                        <a:pt x="159" y="0"/>
                      </a:lnTo>
                      <a:lnTo>
                        <a:pt x="180" y="5"/>
                      </a:lnTo>
                      <a:lnTo>
                        <a:pt x="193" y="11"/>
                      </a:lnTo>
                      <a:lnTo>
                        <a:pt x="200" y="25"/>
                      </a:lnTo>
                      <a:lnTo>
                        <a:pt x="198" y="37"/>
                      </a:lnTo>
                      <a:lnTo>
                        <a:pt x="193" y="48"/>
                      </a:lnTo>
                      <a:lnTo>
                        <a:pt x="182" y="58"/>
                      </a:lnTo>
                      <a:lnTo>
                        <a:pt x="170" y="64"/>
                      </a:lnTo>
                      <a:lnTo>
                        <a:pt x="157" y="71"/>
                      </a:lnTo>
                      <a:lnTo>
                        <a:pt x="143" y="78"/>
                      </a:lnTo>
                      <a:lnTo>
                        <a:pt x="129" y="83"/>
                      </a:lnTo>
                      <a:lnTo>
                        <a:pt x="115" y="85"/>
                      </a:lnTo>
                      <a:lnTo>
                        <a:pt x="99" y="88"/>
                      </a:lnTo>
                      <a:lnTo>
                        <a:pt x="78" y="92"/>
                      </a:lnTo>
                      <a:lnTo>
                        <a:pt x="53" y="97"/>
                      </a:lnTo>
                      <a:lnTo>
                        <a:pt x="30" y="99"/>
                      </a:lnTo>
                      <a:lnTo>
                        <a:pt x="11" y="99"/>
                      </a:lnTo>
                      <a:lnTo>
                        <a:pt x="0" y="94"/>
                      </a:lnTo>
                      <a:lnTo>
                        <a:pt x="2" y="83"/>
                      </a:lnTo>
                      <a:lnTo>
                        <a:pt x="16" y="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2" name=""/>
              <p:cNvSpPr/>
              <p:nvPr/>
            </p:nvSpPr>
            <p:spPr>
              <a:xfrm>
                <a:off x="6040440" y="2357280"/>
                <a:ext cx="1179360" cy="450720"/>
              </a:xfrm>
              <a:custGeom>
                <a:avLst/>
                <a:gdLst/>
                <a:ahLst/>
                <a:rect l="l" t="t" r="r" b="b"/>
                <a:pathLst>
                  <a:path w="743" h="284">
                    <a:moveTo>
                      <a:pt x="0" y="35"/>
                    </a:moveTo>
                    <a:lnTo>
                      <a:pt x="12" y="26"/>
                    </a:lnTo>
                    <a:lnTo>
                      <a:pt x="30" y="19"/>
                    </a:lnTo>
                    <a:lnTo>
                      <a:pt x="53" y="12"/>
                    </a:lnTo>
                    <a:lnTo>
                      <a:pt x="81" y="7"/>
                    </a:lnTo>
                    <a:lnTo>
                      <a:pt x="115" y="3"/>
                    </a:lnTo>
                    <a:lnTo>
                      <a:pt x="152" y="0"/>
                    </a:lnTo>
                    <a:lnTo>
                      <a:pt x="191" y="0"/>
                    </a:lnTo>
                    <a:lnTo>
                      <a:pt x="238" y="3"/>
                    </a:lnTo>
                    <a:lnTo>
                      <a:pt x="286" y="5"/>
                    </a:lnTo>
                    <a:lnTo>
                      <a:pt x="337" y="10"/>
                    </a:lnTo>
                    <a:lnTo>
                      <a:pt x="390" y="16"/>
                    </a:lnTo>
                    <a:lnTo>
                      <a:pt x="445" y="26"/>
                    </a:lnTo>
                    <a:lnTo>
                      <a:pt x="503" y="37"/>
                    </a:lnTo>
                    <a:lnTo>
                      <a:pt x="563" y="51"/>
                    </a:lnTo>
                    <a:lnTo>
                      <a:pt x="623" y="70"/>
                    </a:lnTo>
                    <a:lnTo>
                      <a:pt x="685" y="88"/>
                    </a:lnTo>
                    <a:lnTo>
                      <a:pt x="724" y="109"/>
                    </a:lnTo>
                    <a:lnTo>
                      <a:pt x="743" y="139"/>
                    </a:lnTo>
                    <a:lnTo>
                      <a:pt x="741" y="171"/>
                    </a:lnTo>
                    <a:lnTo>
                      <a:pt x="729" y="206"/>
                    </a:lnTo>
                    <a:lnTo>
                      <a:pt x="708" y="236"/>
                    </a:lnTo>
                    <a:lnTo>
                      <a:pt x="685" y="261"/>
                    </a:lnTo>
                    <a:lnTo>
                      <a:pt x="664" y="279"/>
                    </a:lnTo>
                    <a:lnTo>
                      <a:pt x="653" y="284"/>
                    </a:lnTo>
                    <a:lnTo>
                      <a:pt x="561" y="259"/>
                    </a:lnTo>
                    <a:lnTo>
                      <a:pt x="478" y="233"/>
                    </a:lnTo>
                    <a:lnTo>
                      <a:pt x="404" y="208"/>
                    </a:lnTo>
                    <a:lnTo>
                      <a:pt x="337" y="185"/>
                    </a:lnTo>
                    <a:lnTo>
                      <a:pt x="275" y="164"/>
                    </a:lnTo>
                    <a:lnTo>
                      <a:pt x="221" y="143"/>
                    </a:lnTo>
                    <a:lnTo>
                      <a:pt x="175" y="125"/>
                    </a:lnTo>
                    <a:lnTo>
                      <a:pt x="136" y="106"/>
                    </a:lnTo>
                    <a:lnTo>
                      <a:pt x="101" y="90"/>
                    </a:lnTo>
                    <a:lnTo>
                      <a:pt x="71" y="76"/>
                    </a:lnTo>
                    <a:lnTo>
                      <a:pt x="48" y="65"/>
                    </a:lnTo>
                    <a:lnTo>
                      <a:pt x="30" y="53"/>
                    </a:lnTo>
                    <a:lnTo>
                      <a:pt x="16" y="46"/>
                    </a:lnTo>
                    <a:lnTo>
                      <a:pt x="7" y="40"/>
                    </a:lnTo>
                    <a:lnTo>
                      <a:pt x="2" y="37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7448400" y="1946160"/>
              <a:ext cx="439920" cy="165240"/>
            </a:xfrm>
            <a:custGeom>
              <a:avLst/>
              <a:gdLst/>
              <a:ahLst/>
              <a:rect l="l" t="t" r="r" b="b"/>
              <a:pathLst>
                <a:path w="277" h="104">
                  <a:moveTo>
                    <a:pt x="30" y="39"/>
                  </a:moveTo>
                  <a:lnTo>
                    <a:pt x="74" y="19"/>
                  </a:lnTo>
                  <a:lnTo>
                    <a:pt x="120" y="5"/>
                  </a:lnTo>
                  <a:lnTo>
                    <a:pt x="163" y="0"/>
                  </a:lnTo>
                  <a:lnTo>
                    <a:pt x="203" y="2"/>
                  </a:lnTo>
                  <a:lnTo>
                    <a:pt x="235" y="9"/>
                  </a:lnTo>
                  <a:lnTo>
                    <a:pt x="260" y="21"/>
                  </a:lnTo>
                  <a:lnTo>
                    <a:pt x="274" y="37"/>
                  </a:lnTo>
                  <a:lnTo>
                    <a:pt x="277" y="55"/>
                  </a:lnTo>
                  <a:lnTo>
                    <a:pt x="270" y="72"/>
                  </a:lnTo>
                  <a:lnTo>
                    <a:pt x="258" y="83"/>
                  </a:lnTo>
                  <a:lnTo>
                    <a:pt x="242" y="92"/>
                  </a:lnTo>
                  <a:lnTo>
                    <a:pt x="223" y="99"/>
                  </a:lnTo>
                  <a:lnTo>
                    <a:pt x="203" y="102"/>
                  </a:lnTo>
                  <a:lnTo>
                    <a:pt x="184" y="104"/>
                  </a:lnTo>
                  <a:lnTo>
                    <a:pt x="163" y="104"/>
                  </a:lnTo>
                  <a:lnTo>
                    <a:pt x="147" y="102"/>
                  </a:lnTo>
                  <a:lnTo>
                    <a:pt x="124" y="99"/>
                  </a:lnTo>
                  <a:lnTo>
                    <a:pt x="94" y="97"/>
                  </a:lnTo>
                  <a:lnTo>
                    <a:pt x="62" y="95"/>
                  </a:lnTo>
                  <a:lnTo>
                    <a:pt x="34" y="90"/>
                  </a:lnTo>
                  <a:lnTo>
                    <a:pt x="11" y="83"/>
                  </a:lnTo>
                  <a:lnTo>
                    <a:pt x="0" y="72"/>
                  </a:lnTo>
                  <a:lnTo>
                    <a:pt x="4" y="58"/>
                  </a:lnTo>
                  <a:lnTo>
                    <a:pt x="3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72120" y="2136600"/>
              <a:ext cx="1127160" cy="204840"/>
            </a:xfrm>
            <a:custGeom>
              <a:avLst/>
              <a:gdLst/>
              <a:ahLst/>
              <a:rect l="l" t="t" r="r" b="b"/>
              <a:pathLst>
                <a:path w="710" h="129">
                  <a:moveTo>
                    <a:pt x="0" y="58"/>
                  </a:moveTo>
                  <a:lnTo>
                    <a:pt x="27" y="44"/>
                  </a:lnTo>
                  <a:lnTo>
                    <a:pt x="53" y="30"/>
                  </a:lnTo>
                  <a:lnTo>
                    <a:pt x="78" y="18"/>
                  </a:lnTo>
                  <a:lnTo>
                    <a:pt x="111" y="9"/>
                  </a:lnTo>
                  <a:lnTo>
                    <a:pt x="147" y="2"/>
                  </a:lnTo>
                  <a:lnTo>
                    <a:pt x="196" y="0"/>
                  </a:lnTo>
                  <a:lnTo>
                    <a:pt x="256" y="5"/>
                  </a:lnTo>
                  <a:lnTo>
                    <a:pt x="332" y="14"/>
                  </a:lnTo>
                  <a:lnTo>
                    <a:pt x="360" y="18"/>
                  </a:lnTo>
                  <a:lnTo>
                    <a:pt x="390" y="25"/>
                  </a:lnTo>
                  <a:lnTo>
                    <a:pt x="424" y="32"/>
                  </a:lnTo>
                  <a:lnTo>
                    <a:pt x="459" y="39"/>
                  </a:lnTo>
                  <a:lnTo>
                    <a:pt x="496" y="48"/>
                  </a:lnTo>
                  <a:lnTo>
                    <a:pt x="533" y="58"/>
                  </a:lnTo>
                  <a:lnTo>
                    <a:pt x="567" y="67"/>
                  </a:lnTo>
                  <a:lnTo>
                    <a:pt x="602" y="76"/>
                  </a:lnTo>
                  <a:lnTo>
                    <a:pt x="632" y="88"/>
                  </a:lnTo>
                  <a:lnTo>
                    <a:pt x="660" y="95"/>
                  </a:lnTo>
                  <a:lnTo>
                    <a:pt x="683" y="104"/>
                  </a:lnTo>
                  <a:lnTo>
                    <a:pt x="699" y="111"/>
                  </a:lnTo>
                  <a:lnTo>
                    <a:pt x="708" y="118"/>
                  </a:lnTo>
                  <a:lnTo>
                    <a:pt x="710" y="122"/>
                  </a:lnTo>
                  <a:lnTo>
                    <a:pt x="706" y="124"/>
                  </a:lnTo>
                  <a:lnTo>
                    <a:pt x="690" y="127"/>
                  </a:lnTo>
                  <a:lnTo>
                    <a:pt x="660" y="127"/>
                  </a:lnTo>
                  <a:lnTo>
                    <a:pt x="632" y="129"/>
                  </a:lnTo>
                  <a:lnTo>
                    <a:pt x="607" y="129"/>
                  </a:lnTo>
                  <a:lnTo>
                    <a:pt x="583" y="127"/>
                  </a:lnTo>
                  <a:lnTo>
                    <a:pt x="560" y="127"/>
                  </a:lnTo>
                  <a:lnTo>
                    <a:pt x="540" y="127"/>
                  </a:lnTo>
                  <a:lnTo>
                    <a:pt x="519" y="124"/>
                  </a:lnTo>
                  <a:lnTo>
                    <a:pt x="496" y="124"/>
                  </a:lnTo>
                  <a:lnTo>
                    <a:pt x="475" y="122"/>
                  </a:lnTo>
                  <a:lnTo>
                    <a:pt x="452" y="120"/>
                  </a:lnTo>
                  <a:lnTo>
                    <a:pt x="429" y="115"/>
                  </a:lnTo>
                  <a:lnTo>
                    <a:pt x="404" y="113"/>
                  </a:lnTo>
                  <a:lnTo>
                    <a:pt x="374" y="108"/>
                  </a:lnTo>
                  <a:lnTo>
                    <a:pt x="344" y="104"/>
                  </a:lnTo>
                  <a:lnTo>
                    <a:pt x="311" y="99"/>
                  </a:lnTo>
                  <a:lnTo>
                    <a:pt x="274" y="95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61080" y="2089080"/>
              <a:ext cx="819000" cy="344520"/>
            </a:xfrm>
            <a:custGeom>
              <a:avLst/>
              <a:gdLst/>
              <a:ahLst/>
              <a:rect l="l" t="t" r="r" b="b"/>
              <a:pathLst>
                <a:path w="516" h="217">
                  <a:moveTo>
                    <a:pt x="339" y="0"/>
                  </a:moveTo>
                  <a:lnTo>
                    <a:pt x="316" y="2"/>
                  </a:lnTo>
                  <a:lnTo>
                    <a:pt x="279" y="9"/>
                  </a:lnTo>
                  <a:lnTo>
                    <a:pt x="235" y="21"/>
                  </a:lnTo>
                  <a:lnTo>
                    <a:pt x="187" y="35"/>
                  </a:lnTo>
                  <a:lnTo>
                    <a:pt x="138" y="53"/>
                  </a:lnTo>
                  <a:lnTo>
                    <a:pt x="94" y="74"/>
                  </a:lnTo>
                  <a:lnTo>
                    <a:pt x="57" y="92"/>
                  </a:lnTo>
                  <a:lnTo>
                    <a:pt x="32" y="113"/>
                  </a:lnTo>
                  <a:lnTo>
                    <a:pt x="9" y="143"/>
                  </a:lnTo>
                  <a:lnTo>
                    <a:pt x="0" y="168"/>
                  </a:lnTo>
                  <a:lnTo>
                    <a:pt x="2" y="187"/>
                  </a:lnTo>
                  <a:lnTo>
                    <a:pt x="7" y="203"/>
                  </a:lnTo>
                  <a:lnTo>
                    <a:pt x="7" y="205"/>
                  </a:lnTo>
                  <a:lnTo>
                    <a:pt x="9" y="208"/>
                  </a:lnTo>
                  <a:lnTo>
                    <a:pt x="14" y="210"/>
                  </a:lnTo>
                  <a:lnTo>
                    <a:pt x="16" y="212"/>
                  </a:lnTo>
                  <a:lnTo>
                    <a:pt x="18" y="212"/>
                  </a:lnTo>
                  <a:lnTo>
                    <a:pt x="39" y="214"/>
                  </a:lnTo>
                  <a:lnTo>
                    <a:pt x="69" y="217"/>
                  </a:lnTo>
                  <a:lnTo>
                    <a:pt x="108" y="214"/>
                  </a:lnTo>
                  <a:lnTo>
                    <a:pt x="152" y="212"/>
                  </a:lnTo>
                  <a:lnTo>
                    <a:pt x="196" y="208"/>
                  </a:lnTo>
                  <a:lnTo>
                    <a:pt x="237" y="201"/>
                  </a:lnTo>
                  <a:lnTo>
                    <a:pt x="272" y="191"/>
                  </a:lnTo>
                  <a:lnTo>
                    <a:pt x="297" y="182"/>
                  </a:lnTo>
                  <a:lnTo>
                    <a:pt x="313" y="175"/>
                  </a:lnTo>
                  <a:lnTo>
                    <a:pt x="330" y="166"/>
                  </a:lnTo>
                  <a:lnTo>
                    <a:pt x="346" y="157"/>
                  </a:lnTo>
                  <a:lnTo>
                    <a:pt x="364" y="150"/>
                  </a:lnTo>
                  <a:lnTo>
                    <a:pt x="380" y="143"/>
                  </a:lnTo>
                  <a:lnTo>
                    <a:pt x="394" y="134"/>
                  </a:lnTo>
                  <a:lnTo>
                    <a:pt x="408" y="127"/>
                  </a:lnTo>
                  <a:lnTo>
                    <a:pt x="422" y="120"/>
                  </a:lnTo>
                  <a:lnTo>
                    <a:pt x="433" y="115"/>
                  </a:lnTo>
                  <a:lnTo>
                    <a:pt x="445" y="108"/>
                  </a:lnTo>
                  <a:lnTo>
                    <a:pt x="454" y="101"/>
                  </a:lnTo>
                  <a:lnTo>
                    <a:pt x="461" y="97"/>
                  </a:lnTo>
                  <a:lnTo>
                    <a:pt x="477" y="78"/>
                  </a:lnTo>
                  <a:lnTo>
                    <a:pt x="493" y="62"/>
                  </a:lnTo>
                  <a:lnTo>
                    <a:pt x="507" y="51"/>
                  </a:lnTo>
                  <a:lnTo>
                    <a:pt x="512" y="46"/>
                  </a:lnTo>
                  <a:lnTo>
                    <a:pt x="512" y="46"/>
                  </a:lnTo>
                  <a:lnTo>
                    <a:pt x="514" y="44"/>
                  </a:lnTo>
                  <a:lnTo>
                    <a:pt x="516" y="39"/>
                  </a:lnTo>
                  <a:lnTo>
                    <a:pt x="514" y="37"/>
                  </a:lnTo>
                  <a:lnTo>
                    <a:pt x="512" y="32"/>
                  </a:lnTo>
                  <a:lnTo>
                    <a:pt x="510" y="30"/>
                  </a:lnTo>
                  <a:lnTo>
                    <a:pt x="505" y="28"/>
                  </a:lnTo>
                  <a:lnTo>
                    <a:pt x="503" y="30"/>
                  </a:lnTo>
                  <a:lnTo>
                    <a:pt x="498" y="32"/>
                  </a:lnTo>
                  <a:lnTo>
                    <a:pt x="498" y="32"/>
                  </a:lnTo>
                  <a:lnTo>
                    <a:pt x="491" y="37"/>
                  </a:lnTo>
                  <a:lnTo>
                    <a:pt x="480" y="48"/>
                  </a:lnTo>
                  <a:lnTo>
                    <a:pt x="463" y="65"/>
                  </a:lnTo>
                  <a:lnTo>
                    <a:pt x="445" y="83"/>
                  </a:lnTo>
                  <a:lnTo>
                    <a:pt x="440" y="88"/>
                  </a:lnTo>
                  <a:lnTo>
                    <a:pt x="431" y="92"/>
                  </a:lnTo>
                  <a:lnTo>
                    <a:pt x="422" y="99"/>
                  </a:lnTo>
                  <a:lnTo>
                    <a:pt x="410" y="104"/>
                  </a:lnTo>
                  <a:lnTo>
                    <a:pt x="396" y="111"/>
                  </a:lnTo>
                  <a:lnTo>
                    <a:pt x="385" y="118"/>
                  </a:lnTo>
                  <a:lnTo>
                    <a:pt x="371" y="125"/>
                  </a:lnTo>
                  <a:lnTo>
                    <a:pt x="357" y="131"/>
                  </a:lnTo>
                  <a:lnTo>
                    <a:pt x="348" y="136"/>
                  </a:lnTo>
                  <a:lnTo>
                    <a:pt x="339" y="141"/>
                  </a:lnTo>
                  <a:lnTo>
                    <a:pt x="330" y="145"/>
                  </a:lnTo>
                  <a:lnTo>
                    <a:pt x="320" y="148"/>
                  </a:lnTo>
                  <a:lnTo>
                    <a:pt x="311" y="152"/>
                  </a:lnTo>
                  <a:lnTo>
                    <a:pt x="304" y="157"/>
                  </a:lnTo>
                  <a:lnTo>
                    <a:pt x="295" y="161"/>
                  </a:lnTo>
                  <a:lnTo>
                    <a:pt x="288" y="166"/>
                  </a:lnTo>
                  <a:lnTo>
                    <a:pt x="263" y="175"/>
                  </a:lnTo>
                  <a:lnTo>
                    <a:pt x="228" y="182"/>
                  </a:lnTo>
                  <a:lnTo>
                    <a:pt x="187" y="189"/>
                  </a:lnTo>
                  <a:lnTo>
                    <a:pt x="145" y="194"/>
                  </a:lnTo>
                  <a:lnTo>
                    <a:pt x="101" y="196"/>
                  </a:lnTo>
                  <a:lnTo>
                    <a:pt x="64" y="196"/>
                  </a:lnTo>
                  <a:lnTo>
                    <a:pt x="37" y="196"/>
                  </a:lnTo>
                  <a:lnTo>
                    <a:pt x="23" y="194"/>
                  </a:lnTo>
                  <a:lnTo>
                    <a:pt x="23" y="194"/>
                  </a:lnTo>
                  <a:lnTo>
                    <a:pt x="25" y="194"/>
                  </a:lnTo>
                  <a:lnTo>
                    <a:pt x="25" y="194"/>
                  </a:lnTo>
                  <a:lnTo>
                    <a:pt x="25" y="196"/>
                  </a:lnTo>
                  <a:lnTo>
                    <a:pt x="25" y="196"/>
                  </a:lnTo>
                  <a:lnTo>
                    <a:pt x="25" y="196"/>
                  </a:lnTo>
                  <a:lnTo>
                    <a:pt x="25" y="196"/>
                  </a:lnTo>
                  <a:lnTo>
                    <a:pt x="25" y="196"/>
                  </a:lnTo>
                  <a:lnTo>
                    <a:pt x="20" y="184"/>
                  </a:lnTo>
                  <a:lnTo>
                    <a:pt x="20" y="171"/>
                  </a:lnTo>
                  <a:lnTo>
                    <a:pt x="27" y="152"/>
                  </a:lnTo>
                  <a:lnTo>
                    <a:pt x="48" y="125"/>
                  </a:lnTo>
                  <a:lnTo>
                    <a:pt x="71" y="108"/>
                  </a:lnTo>
                  <a:lnTo>
                    <a:pt x="103" y="90"/>
                  </a:lnTo>
                  <a:lnTo>
                    <a:pt x="147" y="71"/>
                  </a:lnTo>
                  <a:lnTo>
                    <a:pt x="193" y="53"/>
                  </a:lnTo>
                  <a:lnTo>
                    <a:pt x="240" y="39"/>
                  </a:lnTo>
                  <a:lnTo>
                    <a:pt x="281" y="28"/>
                  </a:lnTo>
                  <a:lnTo>
                    <a:pt x="316" y="21"/>
                  </a:lnTo>
                  <a:lnTo>
                    <a:pt x="337" y="18"/>
                  </a:lnTo>
                  <a:lnTo>
                    <a:pt x="337" y="18"/>
                  </a:lnTo>
                  <a:lnTo>
                    <a:pt x="341" y="18"/>
                  </a:lnTo>
                  <a:lnTo>
                    <a:pt x="346" y="16"/>
                  </a:lnTo>
                  <a:lnTo>
                    <a:pt x="348" y="14"/>
                  </a:lnTo>
                  <a:lnTo>
                    <a:pt x="348" y="9"/>
                  </a:lnTo>
                  <a:lnTo>
                    <a:pt x="348" y="7"/>
                  </a:lnTo>
                  <a:lnTo>
                    <a:pt x="346" y="2"/>
                  </a:lnTo>
                  <a:lnTo>
                    <a:pt x="343" y="0"/>
                  </a:lnTo>
                  <a:lnTo>
                    <a:pt x="339" y="0"/>
                  </a:lnTo>
                  <a:lnTo>
                    <a:pt x="3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80880" y="1371600"/>
            <a:ext cx="4077000" cy="4283640"/>
            <a:chOff x="380880" y="1371600"/>
            <a:chExt cx="4077000" cy="4283640"/>
          </a:xfrm>
        </p:grpSpPr>
        <p:sp>
          <p:nvSpPr>
            <p:cNvPr id="297" name=""/>
            <p:cNvSpPr/>
            <p:nvPr/>
          </p:nvSpPr>
          <p:spPr>
            <a:xfrm>
              <a:off x="1369440" y="1738800"/>
              <a:ext cx="413280" cy="437400"/>
            </a:xfrm>
            <a:custGeom>
              <a:avLst/>
              <a:gdLst/>
              <a:ahLst/>
              <a:rect l="l" t="t" r="r" b="b"/>
              <a:pathLst>
                <a:path w="285" h="300">
                  <a:moveTo>
                    <a:pt x="0" y="300"/>
                  </a:moveTo>
                  <a:lnTo>
                    <a:pt x="45" y="225"/>
                  </a:lnTo>
                  <a:lnTo>
                    <a:pt x="117" y="150"/>
                  </a:lnTo>
                  <a:lnTo>
                    <a:pt x="186" y="78"/>
                  </a:lnTo>
                  <a:lnTo>
                    <a:pt x="225" y="24"/>
                  </a:lnTo>
                  <a:lnTo>
                    <a:pt x="255" y="0"/>
                  </a:lnTo>
                  <a:lnTo>
                    <a:pt x="276" y="18"/>
                  </a:lnTo>
                  <a:lnTo>
                    <a:pt x="285" y="75"/>
                  </a:lnTo>
                  <a:lnTo>
                    <a:pt x="270" y="156"/>
                  </a:lnTo>
                  <a:lnTo>
                    <a:pt x="255" y="180"/>
                  </a:lnTo>
                  <a:lnTo>
                    <a:pt x="255" y="189"/>
                  </a:lnTo>
                  <a:lnTo>
                    <a:pt x="255" y="198"/>
                  </a:lnTo>
                  <a:lnTo>
                    <a:pt x="255" y="204"/>
                  </a:lnTo>
                  <a:lnTo>
                    <a:pt x="231" y="243"/>
                  </a:lnTo>
                  <a:lnTo>
                    <a:pt x="186" y="276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4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432720" y="1379880"/>
              <a:ext cx="1202400" cy="923040"/>
              <a:chOff x="432720" y="1379880"/>
              <a:chExt cx="1202400" cy="923040"/>
            </a:xfrm>
          </p:grpSpPr>
          <p:sp>
            <p:nvSpPr>
              <p:cNvPr id="299" name=""/>
              <p:cNvSpPr/>
              <p:nvPr/>
            </p:nvSpPr>
            <p:spPr>
              <a:xfrm>
                <a:off x="432720" y="1379880"/>
                <a:ext cx="1202400" cy="923040"/>
              </a:xfrm>
              <a:custGeom>
                <a:avLst/>
                <a:gdLst/>
                <a:ahLst/>
                <a:rect l="l" t="t" r="r" b="b"/>
                <a:pathLst>
                  <a:path w="828" h="633">
                    <a:moveTo>
                      <a:pt x="708" y="510"/>
                    </a:moveTo>
                    <a:lnTo>
                      <a:pt x="630" y="492"/>
                    </a:lnTo>
                    <a:lnTo>
                      <a:pt x="588" y="480"/>
                    </a:lnTo>
                    <a:lnTo>
                      <a:pt x="558" y="468"/>
                    </a:lnTo>
                    <a:lnTo>
                      <a:pt x="546" y="450"/>
                    </a:lnTo>
                    <a:lnTo>
                      <a:pt x="558" y="414"/>
                    </a:lnTo>
                    <a:lnTo>
                      <a:pt x="612" y="372"/>
                    </a:lnTo>
                    <a:lnTo>
                      <a:pt x="666" y="336"/>
                    </a:lnTo>
                    <a:lnTo>
                      <a:pt x="738" y="288"/>
                    </a:lnTo>
                    <a:lnTo>
                      <a:pt x="798" y="222"/>
                    </a:lnTo>
                    <a:lnTo>
                      <a:pt x="828" y="186"/>
                    </a:lnTo>
                    <a:lnTo>
                      <a:pt x="822" y="174"/>
                    </a:lnTo>
                    <a:lnTo>
                      <a:pt x="768" y="192"/>
                    </a:lnTo>
                    <a:lnTo>
                      <a:pt x="750" y="186"/>
                    </a:lnTo>
                    <a:lnTo>
                      <a:pt x="744" y="168"/>
                    </a:lnTo>
                    <a:lnTo>
                      <a:pt x="750" y="150"/>
                    </a:lnTo>
                    <a:lnTo>
                      <a:pt x="753" y="135"/>
                    </a:lnTo>
                    <a:lnTo>
                      <a:pt x="756" y="126"/>
                    </a:lnTo>
                    <a:lnTo>
                      <a:pt x="738" y="114"/>
                    </a:lnTo>
                    <a:lnTo>
                      <a:pt x="738" y="90"/>
                    </a:lnTo>
                    <a:lnTo>
                      <a:pt x="750" y="66"/>
                    </a:lnTo>
                    <a:lnTo>
                      <a:pt x="759" y="39"/>
                    </a:lnTo>
                    <a:lnTo>
                      <a:pt x="768" y="12"/>
                    </a:lnTo>
                    <a:lnTo>
                      <a:pt x="750" y="0"/>
                    </a:lnTo>
                    <a:lnTo>
                      <a:pt x="690" y="42"/>
                    </a:lnTo>
                    <a:lnTo>
                      <a:pt x="651" y="66"/>
                    </a:lnTo>
                    <a:lnTo>
                      <a:pt x="624" y="66"/>
                    </a:lnTo>
                    <a:lnTo>
                      <a:pt x="618" y="48"/>
                    </a:lnTo>
                    <a:lnTo>
                      <a:pt x="606" y="48"/>
                    </a:lnTo>
                    <a:lnTo>
                      <a:pt x="588" y="57"/>
                    </a:lnTo>
                    <a:lnTo>
                      <a:pt x="567" y="78"/>
                    </a:lnTo>
                    <a:lnTo>
                      <a:pt x="546" y="96"/>
                    </a:lnTo>
                    <a:lnTo>
                      <a:pt x="516" y="105"/>
                    </a:lnTo>
                    <a:lnTo>
                      <a:pt x="510" y="90"/>
                    </a:lnTo>
                    <a:lnTo>
                      <a:pt x="504" y="72"/>
                    </a:lnTo>
                    <a:lnTo>
                      <a:pt x="486" y="90"/>
                    </a:lnTo>
                    <a:lnTo>
                      <a:pt x="402" y="168"/>
                    </a:lnTo>
                    <a:lnTo>
                      <a:pt x="348" y="222"/>
                    </a:lnTo>
                    <a:lnTo>
                      <a:pt x="318" y="240"/>
                    </a:lnTo>
                    <a:lnTo>
                      <a:pt x="282" y="240"/>
                    </a:lnTo>
                    <a:lnTo>
                      <a:pt x="264" y="204"/>
                    </a:lnTo>
                    <a:lnTo>
                      <a:pt x="270" y="156"/>
                    </a:lnTo>
                    <a:lnTo>
                      <a:pt x="285" y="99"/>
                    </a:lnTo>
                    <a:lnTo>
                      <a:pt x="294" y="51"/>
                    </a:lnTo>
                    <a:lnTo>
                      <a:pt x="300" y="15"/>
                    </a:lnTo>
                    <a:lnTo>
                      <a:pt x="270" y="51"/>
                    </a:lnTo>
                    <a:lnTo>
                      <a:pt x="237" y="102"/>
                    </a:lnTo>
                    <a:lnTo>
                      <a:pt x="216" y="150"/>
                    </a:lnTo>
                    <a:lnTo>
                      <a:pt x="204" y="204"/>
                    </a:lnTo>
                    <a:lnTo>
                      <a:pt x="204" y="240"/>
                    </a:lnTo>
                    <a:lnTo>
                      <a:pt x="204" y="276"/>
                    </a:lnTo>
                    <a:lnTo>
                      <a:pt x="186" y="309"/>
                    </a:lnTo>
                    <a:lnTo>
                      <a:pt x="168" y="324"/>
                    </a:lnTo>
                    <a:lnTo>
                      <a:pt x="147" y="312"/>
                    </a:lnTo>
                    <a:lnTo>
                      <a:pt x="147" y="285"/>
                    </a:lnTo>
                    <a:lnTo>
                      <a:pt x="156" y="252"/>
                    </a:lnTo>
                    <a:lnTo>
                      <a:pt x="159" y="207"/>
                    </a:lnTo>
                    <a:lnTo>
                      <a:pt x="144" y="228"/>
                    </a:lnTo>
                    <a:lnTo>
                      <a:pt x="120" y="270"/>
                    </a:lnTo>
                    <a:lnTo>
                      <a:pt x="111" y="252"/>
                    </a:lnTo>
                    <a:lnTo>
                      <a:pt x="114" y="207"/>
                    </a:lnTo>
                    <a:lnTo>
                      <a:pt x="120" y="156"/>
                    </a:lnTo>
                    <a:lnTo>
                      <a:pt x="120" y="138"/>
                    </a:lnTo>
                    <a:lnTo>
                      <a:pt x="90" y="174"/>
                    </a:lnTo>
                    <a:lnTo>
                      <a:pt x="78" y="228"/>
                    </a:lnTo>
                    <a:lnTo>
                      <a:pt x="78" y="276"/>
                    </a:lnTo>
                    <a:lnTo>
                      <a:pt x="84" y="306"/>
                    </a:lnTo>
                    <a:lnTo>
                      <a:pt x="102" y="333"/>
                    </a:lnTo>
                    <a:lnTo>
                      <a:pt x="99" y="366"/>
                    </a:lnTo>
                    <a:lnTo>
                      <a:pt x="96" y="405"/>
                    </a:lnTo>
                    <a:lnTo>
                      <a:pt x="102" y="447"/>
                    </a:lnTo>
                    <a:lnTo>
                      <a:pt x="114" y="486"/>
                    </a:lnTo>
                    <a:lnTo>
                      <a:pt x="120" y="510"/>
                    </a:lnTo>
                    <a:lnTo>
                      <a:pt x="132" y="516"/>
                    </a:lnTo>
                    <a:lnTo>
                      <a:pt x="96" y="519"/>
                    </a:lnTo>
                    <a:lnTo>
                      <a:pt x="72" y="504"/>
                    </a:lnTo>
                    <a:lnTo>
                      <a:pt x="60" y="480"/>
                    </a:lnTo>
                    <a:lnTo>
                      <a:pt x="48" y="441"/>
                    </a:lnTo>
                    <a:lnTo>
                      <a:pt x="54" y="399"/>
                    </a:lnTo>
                    <a:lnTo>
                      <a:pt x="54" y="336"/>
                    </a:lnTo>
                    <a:lnTo>
                      <a:pt x="30" y="354"/>
                    </a:lnTo>
                    <a:lnTo>
                      <a:pt x="12" y="408"/>
                    </a:lnTo>
                    <a:lnTo>
                      <a:pt x="0" y="474"/>
                    </a:lnTo>
                    <a:lnTo>
                      <a:pt x="6" y="519"/>
                    </a:lnTo>
                    <a:lnTo>
                      <a:pt x="15" y="546"/>
                    </a:lnTo>
                    <a:lnTo>
                      <a:pt x="33" y="573"/>
                    </a:lnTo>
                    <a:lnTo>
                      <a:pt x="54" y="585"/>
                    </a:lnTo>
                    <a:lnTo>
                      <a:pt x="96" y="588"/>
                    </a:lnTo>
                    <a:lnTo>
                      <a:pt x="126" y="585"/>
                    </a:lnTo>
                    <a:lnTo>
                      <a:pt x="156" y="576"/>
                    </a:lnTo>
                    <a:lnTo>
                      <a:pt x="174" y="570"/>
                    </a:lnTo>
                    <a:lnTo>
                      <a:pt x="198" y="588"/>
                    </a:lnTo>
                    <a:lnTo>
                      <a:pt x="222" y="576"/>
                    </a:lnTo>
                    <a:lnTo>
                      <a:pt x="234" y="570"/>
                    </a:lnTo>
                    <a:lnTo>
                      <a:pt x="246" y="564"/>
                    </a:lnTo>
                    <a:lnTo>
                      <a:pt x="270" y="606"/>
                    </a:lnTo>
                    <a:lnTo>
                      <a:pt x="294" y="624"/>
                    </a:lnTo>
                    <a:lnTo>
                      <a:pt x="318" y="633"/>
                    </a:lnTo>
                    <a:lnTo>
                      <a:pt x="342" y="624"/>
                    </a:lnTo>
                    <a:lnTo>
                      <a:pt x="384" y="588"/>
                    </a:lnTo>
                    <a:lnTo>
                      <a:pt x="414" y="546"/>
                    </a:lnTo>
                    <a:lnTo>
                      <a:pt x="438" y="531"/>
                    </a:lnTo>
                    <a:lnTo>
                      <a:pt x="459" y="528"/>
                    </a:lnTo>
                    <a:lnTo>
                      <a:pt x="483" y="549"/>
                    </a:lnTo>
                    <a:lnTo>
                      <a:pt x="504" y="573"/>
                    </a:lnTo>
                    <a:lnTo>
                      <a:pt x="522" y="606"/>
                    </a:lnTo>
                    <a:lnTo>
                      <a:pt x="708" y="510"/>
                    </a:lnTo>
                    <a:close/>
                  </a:path>
                </a:pathLst>
              </a:custGeom>
              <a:solidFill>
                <a:srgbClr val="40404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80680" y="1773360"/>
                <a:ext cx="26280" cy="91800"/>
              </a:xfrm>
              <a:custGeom>
                <a:avLst/>
                <a:gdLst/>
                <a:ahLst/>
                <a:rect l="l" t="t" r="r" b="b"/>
                <a:pathLst>
                  <a:path w="18" h="63">
                    <a:moveTo>
                      <a:pt x="18" y="0"/>
                    </a:moveTo>
                    <a:lnTo>
                      <a:pt x="6" y="39"/>
                    </a:lnTo>
                    <a:lnTo>
                      <a:pt x="0" y="6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24240" y="2140920"/>
                <a:ext cx="65520" cy="7848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0" y="0"/>
                    </a:moveTo>
                    <a:lnTo>
                      <a:pt x="21" y="30"/>
                    </a:lnTo>
                    <a:lnTo>
                      <a:pt x="45" y="5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41520" y="1838880"/>
                <a:ext cx="122040" cy="310680"/>
              </a:xfrm>
              <a:custGeom>
                <a:avLst/>
                <a:gdLst/>
                <a:ahLst/>
                <a:rect l="l" t="t" r="r" b="b"/>
                <a:pathLst>
                  <a:path w="84" h="213">
                    <a:moveTo>
                      <a:pt x="6" y="0"/>
                    </a:moveTo>
                    <a:lnTo>
                      <a:pt x="0" y="51"/>
                    </a:lnTo>
                    <a:lnTo>
                      <a:pt x="3" y="72"/>
                    </a:lnTo>
                    <a:lnTo>
                      <a:pt x="12" y="126"/>
                    </a:lnTo>
                    <a:lnTo>
                      <a:pt x="24" y="162"/>
                    </a:lnTo>
                    <a:lnTo>
                      <a:pt x="39" y="189"/>
                    </a:lnTo>
                    <a:lnTo>
                      <a:pt x="57" y="213"/>
                    </a:lnTo>
                    <a:lnTo>
                      <a:pt x="66" y="213"/>
                    </a:lnTo>
                    <a:lnTo>
                      <a:pt x="84" y="20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41960" y="1799640"/>
                <a:ext cx="178200" cy="424440"/>
              </a:xfrm>
              <a:custGeom>
                <a:avLst/>
                <a:gdLst/>
                <a:ahLst/>
                <a:rect l="l" t="t" r="r" b="b"/>
                <a:pathLst>
                  <a:path w="123" h="291">
                    <a:moveTo>
                      <a:pt x="33" y="282"/>
                    </a:moveTo>
                    <a:lnTo>
                      <a:pt x="9" y="210"/>
                    </a:lnTo>
                    <a:lnTo>
                      <a:pt x="6" y="183"/>
                    </a:lnTo>
                    <a:lnTo>
                      <a:pt x="0" y="138"/>
                    </a:lnTo>
                    <a:lnTo>
                      <a:pt x="0" y="69"/>
                    </a:lnTo>
                    <a:lnTo>
                      <a:pt x="9" y="30"/>
                    </a:lnTo>
                    <a:lnTo>
                      <a:pt x="24" y="0"/>
                    </a:lnTo>
                    <a:lnTo>
                      <a:pt x="33" y="57"/>
                    </a:lnTo>
                    <a:lnTo>
                      <a:pt x="36" y="105"/>
                    </a:lnTo>
                    <a:lnTo>
                      <a:pt x="45" y="165"/>
                    </a:lnTo>
                    <a:lnTo>
                      <a:pt x="57" y="222"/>
                    </a:lnTo>
                    <a:lnTo>
                      <a:pt x="72" y="261"/>
                    </a:lnTo>
                    <a:lnTo>
                      <a:pt x="87" y="285"/>
                    </a:lnTo>
                    <a:lnTo>
                      <a:pt x="102" y="291"/>
                    </a:lnTo>
                    <a:lnTo>
                      <a:pt x="114" y="282"/>
                    </a:lnTo>
                    <a:lnTo>
                      <a:pt x="123" y="25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007640" y="1633680"/>
                <a:ext cx="191520" cy="402120"/>
              </a:xfrm>
              <a:custGeom>
                <a:avLst/>
                <a:gdLst/>
                <a:ahLst/>
                <a:rect l="l" t="t" r="r" b="b"/>
                <a:pathLst>
                  <a:path w="132" h="276">
                    <a:moveTo>
                      <a:pt x="132" y="0"/>
                    </a:moveTo>
                    <a:lnTo>
                      <a:pt x="96" y="36"/>
                    </a:lnTo>
                    <a:lnTo>
                      <a:pt x="72" y="72"/>
                    </a:lnTo>
                    <a:lnTo>
                      <a:pt x="48" y="108"/>
                    </a:lnTo>
                    <a:lnTo>
                      <a:pt x="36" y="144"/>
                    </a:lnTo>
                    <a:lnTo>
                      <a:pt x="12" y="180"/>
                    </a:lnTo>
                    <a:lnTo>
                      <a:pt x="0" y="216"/>
                    </a:lnTo>
                    <a:lnTo>
                      <a:pt x="12" y="27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129680" y="1738440"/>
                <a:ext cx="278640" cy="262440"/>
              </a:xfrm>
              <a:custGeom>
                <a:avLst/>
                <a:gdLst/>
                <a:ahLst/>
                <a:rect l="l" t="t" r="r" b="b"/>
                <a:pathLst>
                  <a:path w="192" h="180">
                    <a:moveTo>
                      <a:pt x="192" y="0"/>
                    </a:moveTo>
                    <a:lnTo>
                      <a:pt x="156" y="12"/>
                    </a:lnTo>
                    <a:lnTo>
                      <a:pt x="120" y="36"/>
                    </a:lnTo>
                    <a:lnTo>
                      <a:pt x="84" y="60"/>
                    </a:lnTo>
                    <a:lnTo>
                      <a:pt x="48" y="84"/>
                    </a:lnTo>
                    <a:lnTo>
                      <a:pt x="36" y="120"/>
                    </a:lnTo>
                    <a:lnTo>
                      <a:pt x="12" y="156"/>
                    </a:lnTo>
                    <a:lnTo>
                      <a:pt x="0" y="18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920520" y="1791000"/>
                <a:ext cx="17280" cy="209880"/>
              </a:xfrm>
              <a:custGeom>
                <a:avLst/>
                <a:gdLst/>
                <a:ahLst/>
                <a:rect l="l" t="t" r="r" b="b"/>
                <a:pathLst>
                  <a:path w="12" h="144">
                    <a:moveTo>
                      <a:pt x="0" y="0"/>
                    </a:moveTo>
                    <a:lnTo>
                      <a:pt x="0" y="36"/>
                    </a:lnTo>
                    <a:lnTo>
                      <a:pt x="0" y="72"/>
                    </a:lnTo>
                    <a:lnTo>
                      <a:pt x="0" y="108"/>
                    </a:lnTo>
                    <a:lnTo>
                      <a:pt x="12" y="144"/>
                    </a:lnTo>
                    <a:lnTo>
                      <a:pt x="12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380880" y="1878840"/>
              <a:ext cx="4077000" cy="3776400"/>
              <a:chOff x="380880" y="1878840"/>
              <a:chExt cx="4077000" cy="3776400"/>
            </a:xfrm>
          </p:grpSpPr>
          <p:sp>
            <p:nvSpPr>
              <p:cNvPr id="308" name=""/>
              <p:cNvSpPr/>
              <p:nvPr/>
            </p:nvSpPr>
            <p:spPr>
              <a:xfrm>
                <a:off x="380880" y="1878840"/>
                <a:ext cx="4077000" cy="3765240"/>
              </a:xfrm>
              <a:custGeom>
                <a:avLst/>
                <a:gdLst/>
                <a:ahLst/>
                <a:rect l="l" t="t" r="r" b="b"/>
                <a:pathLst>
                  <a:path w="2808" h="2583">
                    <a:moveTo>
                      <a:pt x="2547" y="2574"/>
                    </a:moveTo>
                    <a:lnTo>
                      <a:pt x="2637" y="2583"/>
                    </a:lnTo>
                    <a:lnTo>
                      <a:pt x="2718" y="2574"/>
                    </a:lnTo>
                    <a:lnTo>
                      <a:pt x="2736" y="2556"/>
                    </a:lnTo>
                    <a:lnTo>
                      <a:pt x="2745" y="2529"/>
                    </a:lnTo>
                    <a:lnTo>
                      <a:pt x="2745" y="2475"/>
                    </a:lnTo>
                    <a:lnTo>
                      <a:pt x="2736" y="2457"/>
                    </a:lnTo>
                    <a:lnTo>
                      <a:pt x="2772" y="2430"/>
                    </a:lnTo>
                    <a:lnTo>
                      <a:pt x="2754" y="2322"/>
                    </a:lnTo>
                    <a:lnTo>
                      <a:pt x="2745" y="2115"/>
                    </a:lnTo>
                    <a:lnTo>
                      <a:pt x="2754" y="1953"/>
                    </a:lnTo>
                    <a:lnTo>
                      <a:pt x="2772" y="1872"/>
                    </a:lnTo>
                    <a:lnTo>
                      <a:pt x="2790" y="1710"/>
                    </a:lnTo>
                    <a:lnTo>
                      <a:pt x="2808" y="1575"/>
                    </a:lnTo>
                    <a:lnTo>
                      <a:pt x="2772" y="1512"/>
                    </a:lnTo>
                    <a:lnTo>
                      <a:pt x="2754" y="1440"/>
                    </a:lnTo>
                    <a:lnTo>
                      <a:pt x="2763" y="1305"/>
                    </a:lnTo>
                    <a:lnTo>
                      <a:pt x="2754" y="1161"/>
                    </a:lnTo>
                    <a:lnTo>
                      <a:pt x="2772" y="1017"/>
                    </a:lnTo>
                    <a:lnTo>
                      <a:pt x="2790" y="819"/>
                    </a:lnTo>
                    <a:lnTo>
                      <a:pt x="2772" y="711"/>
                    </a:lnTo>
                    <a:lnTo>
                      <a:pt x="2781" y="621"/>
                    </a:lnTo>
                    <a:lnTo>
                      <a:pt x="2727" y="513"/>
                    </a:lnTo>
                    <a:lnTo>
                      <a:pt x="2610" y="441"/>
                    </a:lnTo>
                    <a:lnTo>
                      <a:pt x="2511" y="414"/>
                    </a:lnTo>
                    <a:lnTo>
                      <a:pt x="2421" y="369"/>
                    </a:lnTo>
                    <a:lnTo>
                      <a:pt x="2376" y="369"/>
                    </a:lnTo>
                    <a:lnTo>
                      <a:pt x="2286" y="342"/>
                    </a:lnTo>
                    <a:lnTo>
                      <a:pt x="2160" y="297"/>
                    </a:lnTo>
                    <a:lnTo>
                      <a:pt x="2061" y="288"/>
                    </a:lnTo>
                    <a:lnTo>
                      <a:pt x="2025" y="243"/>
                    </a:lnTo>
                    <a:lnTo>
                      <a:pt x="1989" y="144"/>
                    </a:lnTo>
                    <a:lnTo>
                      <a:pt x="1908" y="54"/>
                    </a:lnTo>
                    <a:lnTo>
                      <a:pt x="1836" y="9"/>
                    </a:lnTo>
                    <a:lnTo>
                      <a:pt x="1755" y="0"/>
                    </a:lnTo>
                    <a:lnTo>
                      <a:pt x="1629" y="9"/>
                    </a:lnTo>
                    <a:lnTo>
                      <a:pt x="1593" y="27"/>
                    </a:lnTo>
                    <a:lnTo>
                      <a:pt x="1467" y="45"/>
                    </a:lnTo>
                    <a:lnTo>
                      <a:pt x="1341" y="72"/>
                    </a:lnTo>
                    <a:lnTo>
                      <a:pt x="1233" y="99"/>
                    </a:lnTo>
                    <a:lnTo>
                      <a:pt x="1062" y="135"/>
                    </a:lnTo>
                    <a:lnTo>
                      <a:pt x="936" y="135"/>
                    </a:lnTo>
                    <a:lnTo>
                      <a:pt x="891" y="135"/>
                    </a:lnTo>
                    <a:lnTo>
                      <a:pt x="801" y="153"/>
                    </a:lnTo>
                    <a:lnTo>
                      <a:pt x="675" y="198"/>
                    </a:lnTo>
                    <a:lnTo>
                      <a:pt x="576" y="243"/>
                    </a:lnTo>
                    <a:lnTo>
                      <a:pt x="513" y="261"/>
                    </a:lnTo>
                    <a:lnTo>
                      <a:pt x="459" y="288"/>
                    </a:lnTo>
                    <a:lnTo>
                      <a:pt x="432" y="324"/>
                    </a:lnTo>
                    <a:lnTo>
                      <a:pt x="405" y="360"/>
                    </a:lnTo>
                    <a:lnTo>
                      <a:pt x="405" y="369"/>
                    </a:lnTo>
                    <a:lnTo>
                      <a:pt x="405" y="378"/>
                    </a:lnTo>
                    <a:lnTo>
                      <a:pt x="342" y="414"/>
                    </a:lnTo>
                    <a:lnTo>
                      <a:pt x="207" y="468"/>
                    </a:lnTo>
                    <a:lnTo>
                      <a:pt x="117" y="522"/>
                    </a:lnTo>
                    <a:lnTo>
                      <a:pt x="54" y="585"/>
                    </a:lnTo>
                    <a:lnTo>
                      <a:pt x="27" y="639"/>
                    </a:lnTo>
                    <a:lnTo>
                      <a:pt x="18" y="693"/>
                    </a:lnTo>
                    <a:lnTo>
                      <a:pt x="0" y="774"/>
                    </a:lnTo>
                    <a:lnTo>
                      <a:pt x="9" y="819"/>
                    </a:lnTo>
                    <a:lnTo>
                      <a:pt x="54" y="882"/>
                    </a:lnTo>
                    <a:lnTo>
                      <a:pt x="144" y="882"/>
                    </a:lnTo>
                    <a:lnTo>
                      <a:pt x="207" y="918"/>
                    </a:lnTo>
                    <a:lnTo>
                      <a:pt x="279" y="909"/>
                    </a:lnTo>
                    <a:lnTo>
                      <a:pt x="342" y="891"/>
                    </a:lnTo>
                    <a:lnTo>
                      <a:pt x="369" y="810"/>
                    </a:lnTo>
                    <a:lnTo>
                      <a:pt x="405" y="774"/>
                    </a:lnTo>
                    <a:lnTo>
                      <a:pt x="513" y="765"/>
                    </a:lnTo>
                    <a:lnTo>
                      <a:pt x="558" y="783"/>
                    </a:lnTo>
                    <a:lnTo>
                      <a:pt x="612" y="864"/>
                    </a:lnTo>
                    <a:lnTo>
                      <a:pt x="693" y="981"/>
                    </a:lnTo>
                    <a:lnTo>
                      <a:pt x="729" y="1098"/>
                    </a:lnTo>
                    <a:lnTo>
                      <a:pt x="738" y="1143"/>
                    </a:lnTo>
                    <a:lnTo>
                      <a:pt x="765" y="1107"/>
                    </a:lnTo>
                    <a:lnTo>
                      <a:pt x="801" y="1035"/>
                    </a:lnTo>
                    <a:lnTo>
                      <a:pt x="810" y="909"/>
                    </a:lnTo>
                    <a:lnTo>
                      <a:pt x="864" y="828"/>
                    </a:lnTo>
                    <a:lnTo>
                      <a:pt x="936" y="873"/>
                    </a:lnTo>
                    <a:lnTo>
                      <a:pt x="1035" y="936"/>
                    </a:lnTo>
                    <a:lnTo>
                      <a:pt x="1098" y="981"/>
                    </a:lnTo>
                    <a:lnTo>
                      <a:pt x="1134" y="1062"/>
                    </a:lnTo>
                    <a:lnTo>
                      <a:pt x="1161" y="1125"/>
                    </a:lnTo>
                    <a:lnTo>
                      <a:pt x="1242" y="1224"/>
                    </a:lnTo>
                    <a:lnTo>
                      <a:pt x="1260" y="1269"/>
                    </a:lnTo>
                    <a:lnTo>
                      <a:pt x="1281" y="1299"/>
                    </a:lnTo>
                    <a:lnTo>
                      <a:pt x="1278" y="1395"/>
                    </a:lnTo>
                    <a:lnTo>
                      <a:pt x="1314" y="1503"/>
                    </a:lnTo>
                    <a:lnTo>
                      <a:pt x="1359" y="1575"/>
                    </a:lnTo>
                    <a:lnTo>
                      <a:pt x="1368" y="1710"/>
                    </a:lnTo>
                    <a:lnTo>
                      <a:pt x="1365" y="1794"/>
                    </a:lnTo>
                    <a:lnTo>
                      <a:pt x="1362" y="1866"/>
                    </a:lnTo>
                    <a:lnTo>
                      <a:pt x="1368" y="1896"/>
                    </a:lnTo>
                    <a:lnTo>
                      <a:pt x="1395" y="1923"/>
                    </a:lnTo>
                    <a:lnTo>
                      <a:pt x="1404" y="1989"/>
                    </a:lnTo>
                    <a:lnTo>
                      <a:pt x="1407" y="2124"/>
                    </a:lnTo>
                    <a:lnTo>
                      <a:pt x="1419" y="2301"/>
                    </a:lnTo>
                    <a:lnTo>
                      <a:pt x="1413" y="2421"/>
                    </a:lnTo>
                    <a:lnTo>
                      <a:pt x="1395" y="2520"/>
                    </a:lnTo>
                    <a:lnTo>
                      <a:pt x="1368" y="2547"/>
                    </a:lnTo>
                    <a:lnTo>
                      <a:pt x="1404" y="2565"/>
                    </a:lnTo>
                    <a:lnTo>
                      <a:pt x="1476" y="2556"/>
                    </a:lnTo>
                    <a:lnTo>
                      <a:pt x="1512" y="2547"/>
                    </a:lnTo>
                    <a:lnTo>
                      <a:pt x="1548" y="2511"/>
                    </a:lnTo>
                    <a:lnTo>
                      <a:pt x="1530" y="2466"/>
                    </a:lnTo>
                    <a:lnTo>
                      <a:pt x="1521" y="2448"/>
                    </a:lnTo>
                    <a:lnTo>
                      <a:pt x="1548" y="2430"/>
                    </a:lnTo>
                    <a:lnTo>
                      <a:pt x="1512" y="2313"/>
                    </a:lnTo>
                    <a:lnTo>
                      <a:pt x="1494" y="2196"/>
                    </a:lnTo>
                    <a:lnTo>
                      <a:pt x="1485" y="2043"/>
                    </a:lnTo>
                    <a:lnTo>
                      <a:pt x="1488" y="1926"/>
                    </a:lnTo>
                    <a:lnTo>
                      <a:pt x="1512" y="1881"/>
                    </a:lnTo>
                    <a:lnTo>
                      <a:pt x="1512" y="1782"/>
                    </a:lnTo>
                    <a:lnTo>
                      <a:pt x="1521" y="1629"/>
                    </a:lnTo>
                    <a:lnTo>
                      <a:pt x="1530" y="1476"/>
                    </a:lnTo>
                    <a:lnTo>
                      <a:pt x="1530" y="1377"/>
                    </a:lnTo>
                    <a:lnTo>
                      <a:pt x="1566" y="1323"/>
                    </a:lnTo>
                    <a:lnTo>
                      <a:pt x="1638" y="1314"/>
                    </a:lnTo>
                    <a:lnTo>
                      <a:pt x="1638" y="1422"/>
                    </a:lnTo>
                    <a:lnTo>
                      <a:pt x="1602" y="1620"/>
                    </a:lnTo>
                    <a:lnTo>
                      <a:pt x="1566" y="1773"/>
                    </a:lnTo>
                    <a:lnTo>
                      <a:pt x="1566" y="1836"/>
                    </a:lnTo>
                    <a:lnTo>
                      <a:pt x="1575" y="1881"/>
                    </a:lnTo>
                    <a:lnTo>
                      <a:pt x="1587" y="1980"/>
                    </a:lnTo>
                    <a:lnTo>
                      <a:pt x="1581" y="2277"/>
                    </a:lnTo>
                    <a:lnTo>
                      <a:pt x="1584" y="2439"/>
                    </a:lnTo>
                    <a:lnTo>
                      <a:pt x="1584" y="2511"/>
                    </a:lnTo>
                    <a:lnTo>
                      <a:pt x="1566" y="2538"/>
                    </a:lnTo>
                    <a:lnTo>
                      <a:pt x="1647" y="2538"/>
                    </a:lnTo>
                    <a:lnTo>
                      <a:pt x="1701" y="2520"/>
                    </a:lnTo>
                    <a:lnTo>
                      <a:pt x="1719" y="2475"/>
                    </a:lnTo>
                    <a:lnTo>
                      <a:pt x="1719" y="2430"/>
                    </a:lnTo>
                    <a:lnTo>
                      <a:pt x="1737" y="2403"/>
                    </a:lnTo>
                    <a:lnTo>
                      <a:pt x="1701" y="2295"/>
                    </a:lnTo>
                    <a:lnTo>
                      <a:pt x="1692" y="2187"/>
                    </a:lnTo>
                    <a:lnTo>
                      <a:pt x="1674" y="2016"/>
                    </a:lnTo>
                    <a:lnTo>
                      <a:pt x="1665" y="1917"/>
                    </a:lnTo>
                    <a:lnTo>
                      <a:pt x="1710" y="1854"/>
                    </a:lnTo>
                    <a:lnTo>
                      <a:pt x="1755" y="1719"/>
                    </a:lnTo>
                    <a:lnTo>
                      <a:pt x="1755" y="1638"/>
                    </a:lnTo>
                    <a:lnTo>
                      <a:pt x="1836" y="1476"/>
                    </a:lnTo>
                    <a:lnTo>
                      <a:pt x="1881" y="1368"/>
                    </a:lnTo>
                    <a:lnTo>
                      <a:pt x="1980" y="1386"/>
                    </a:lnTo>
                    <a:lnTo>
                      <a:pt x="2079" y="1377"/>
                    </a:lnTo>
                    <a:lnTo>
                      <a:pt x="2169" y="1359"/>
                    </a:lnTo>
                    <a:lnTo>
                      <a:pt x="2196" y="1476"/>
                    </a:lnTo>
                    <a:lnTo>
                      <a:pt x="2178" y="1575"/>
                    </a:lnTo>
                    <a:lnTo>
                      <a:pt x="2178" y="1674"/>
                    </a:lnTo>
                    <a:lnTo>
                      <a:pt x="2178" y="1782"/>
                    </a:lnTo>
                    <a:lnTo>
                      <a:pt x="2169" y="1845"/>
                    </a:lnTo>
                    <a:lnTo>
                      <a:pt x="2142" y="1953"/>
                    </a:lnTo>
                    <a:lnTo>
                      <a:pt x="2097" y="2070"/>
                    </a:lnTo>
                    <a:lnTo>
                      <a:pt x="2052" y="2160"/>
                    </a:lnTo>
                    <a:lnTo>
                      <a:pt x="1989" y="2304"/>
                    </a:lnTo>
                    <a:lnTo>
                      <a:pt x="1953" y="2394"/>
                    </a:lnTo>
                    <a:lnTo>
                      <a:pt x="1917" y="2430"/>
                    </a:lnTo>
                    <a:lnTo>
                      <a:pt x="1917" y="2457"/>
                    </a:lnTo>
                    <a:lnTo>
                      <a:pt x="1944" y="2481"/>
                    </a:lnTo>
                    <a:lnTo>
                      <a:pt x="1980" y="2502"/>
                    </a:lnTo>
                    <a:lnTo>
                      <a:pt x="2070" y="2493"/>
                    </a:lnTo>
                    <a:lnTo>
                      <a:pt x="2097" y="2478"/>
                    </a:lnTo>
                    <a:lnTo>
                      <a:pt x="2112" y="2436"/>
                    </a:lnTo>
                    <a:lnTo>
                      <a:pt x="2112" y="2385"/>
                    </a:lnTo>
                    <a:lnTo>
                      <a:pt x="2142" y="2349"/>
                    </a:lnTo>
                    <a:lnTo>
                      <a:pt x="2142" y="2268"/>
                    </a:lnTo>
                    <a:lnTo>
                      <a:pt x="2133" y="2160"/>
                    </a:lnTo>
                    <a:lnTo>
                      <a:pt x="2160" y="2097"/>
                    </a:lnTo>
                    <a:lnTo>
                      <a:pt x="2205" y="1998"/>
                    </a:lnTo>
                    <a:lnTo>
                      <a:pt x="2250" y="1908"/>
                    </a:lnTo>
                    <a:lnTo>
                      <a:pt x="2367" y="1737"/>
                    </a:lnTo>
                    <a:lnTo>
                      <a:pt x="2421" y="1638"/>
                    </a:lnTo>
                    <a:lnTo>
                      <a:pt x="2403" y="1557"/>
                    </a:lnTo>
                    <a:lnTo>
                      <a:pt x="2403" y="1467"/>
                    </a:lnTo>
                    <a:lnTo>
                      <a:pt x="2403" y="1377"/>
                    </a:lnTo>
                    <a:lnTo>
                      <a:pt x="2430" y="1296"/>
                    </a:lnTo>
                    <a:lnTo>
                      <a:pt x="2475" y="1215"/>
                    </a:lnTo>
                    <a:lnTo>
                      <a:pt x="2511" y="1233"/>
                    </a:lnTo>
                    <a:lnTo>
                      <a:pt x="2538" y="1305"/>
                    </a:lnTo>
                    <a:lnTo>
                      <a:pt x="2583" y="1395"/>
                    </a:lnTo>
                    <a:lnTo>
                      <a:pt x="2610" y="1557"/>
                    </a:lnTo>
                    <a:lnTo>
                      <a:pt x="2628" y="1656"/>
                    </a:lnTo>
                    <a:lnTo>
                      <a:pt x="2664" y="1809"/>
                    </a:lnTo>
                    <a:lnTo>
                      <a:pt x="2664" y="1971"/>
                    </a:lnTo>
                    <a:lnTo>
                      <a:pt x="2646" y="2079"/>
                    </a:lnTo>
                    <a:lnTo>
                      <a:pt x="2628" y="2196"/>
                    </a:lnTo>
                    <a:lnTo>
                      <a:pt x="2619" y="2304"/>
                    </a:lnTo>
                    <a:lnTo>
                      <a:pt x="2601" y="2376"/>
                    </a:lnTo>
                    <a:lnTo>
                      <a:pt x="2592" y="2439"/>
                    </a:lnTo>
                    <a:lnTo>
                      <a:pt x="2574" y="2502"/>
                    </a:lnTo>
                    <a:lnTo>
                      <a:pt x="2547" y="257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200a00"/>
                  </a:gs>
                </a:gsLst>
                <a:lin ang="5400000"/>
              </a:gra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"/>
              <p:cNvGrpSpPr/>
              <p:nvPr/>
            </p:nvGrpSpPr>
            <p:grpSpPr>
              <a:xfrm>
                <a:off x="1369440" y="2377080"/>
                <a:ext cx="177840" cy="174240"/>
                <a:chOff x="1369440" y="2377080"/>
                <a:chExt cx="177840" cy="17424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1369440" y="2377080"/>
                  <a:ext cx="164880" cy="108720"/>
                </a:xfrm>
                <a:custGeom>
                  <a:avLst/>
                  <a:gdLst/>
                  <a:ahLst/>
                  <a:rect l="l" t="t" r="r" b="b"/>
                  <a:pathLst>
                    <a:path w="114" h="75">
                      <a:moveTo>
                        <a:pt x="72" y="0"/>
                      </a:moveTo>
                      <a:lnTo>
                        <a:pt x="39" y="0"/>
                      </a:lnTo>
                      <a:lnTo>
                        <a:pt x="18" y="9"/>
                      </a:lnTo>
                      <a:lnTo>
                        <a:pt x="0" y="33"/>
                      </a:lnTo>
                      <a:lnTo>
                        <a:pt x="3" y="54"/>
                      </a:lnTo>
                      <a:lnTo>
                        <a:pt x="21" y="72"/>
                      </a:lnTo>
                      <a:lnTo>
                        <a:pt x="60" y="75"/>
                      </a:lnTo>
                      <a:lnTo>
                        <a:pt x="93" y="60"/>
                      </a:lnTo>
                      <a:lnTo>
                        <a:pt x="108" y="33"/>
                      </a:lnTo>
                      <a:lnTo>
                        <a:pt x="114" y="21"/>
                      </a:lnTo>
                      <a:lnTo>
                        <a:pt x="99" y="9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a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403640" y="2394360"/>
                  <a:ext cx="91080" cy="9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3300"/>
                    </a:gs>
                    <a:gs pos="100000">
                      <a:srgbClr val="200a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1444680" y="2412000"/>
                  <a:ext cx="50400" cy="46440"/>
                </a:xfrm>
                <a:custGeom>
                  <a:avLst/>
                  <a:gdLst/>
                  <a:ahLst/>
                  <a:rect l="l" t="t" r="r" b="b"/>
                  <a:pathLst>
                    <a:path w="35" h="32">
                      <a:moveTo>
                        <a:pt x="0" y="20"/>
                      </a:moveTo>
                      <a:lnTo>
                        <a:pt x="35" y="32"/>
                      </a:lnTo>
                      <a:lnTo>
                        <a:pt x="35" y="12"/>
                      </a:lnTo>
                      <a:lnTo>
                        <a:pt x="2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a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1391040" y="2490480"/>
                  <a:ext cx="156240" cy="60840"/>
                </a:xfrm>
                <a:custGeom>
                  <a:avLst/>
                  <a:gdLst/>
                  <a:ahLst/>
                  <a:rect l="l" t="t" r="r" b="b"/>
                  <a:pathLst>
                    <a:path w="108" h="42">
                      <a:moveTo>
                        <a:pt x="0" y="36"/>
                      </a:moveTo>
                      <a:lnTo>
                        <a:pt x="36" y="42"/>
                      </a:lnTo>
                      <a:lnTo>
                        <a:pt x="81" y="30"/>
                      </a:lnTo>
                      <a:lnTo>
                        <a:pt x="108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a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415440" y="2936880"/>
                <a:ext cx="507960" cy="212400"/>
                <a:chOff x="415440" y="2936880"/>
                <a:chExt cx="507960" cy="2124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611640" y="2945160"/>
                  <a:ext cx="194400" cy="133920"/>
                </a:xfrm>
                <a:custGeom>
                  <a:avLst/>
                  <a:gdLst/>
                  <a:ahLst/>
                  <a:rect l="l" t="t" r="r" b="b"/>
                  <a:pathLst>
                    <a:path w="134" h="92">
                      <a:moveTo>
                        <a:pt x="112" y="0"/>
                      </a:moveTo>
                      <a:lnTo>
                        <a:pt x="80" y="23"/>
                      </a:lnTo>
                      <a:lnTo>
                        <a:pt x="48" y="33"/>
                      </a:lnTo>
                      <a:lnTo>
                        <a:pt x="29" y="33"/>
                      </a:lnTo>
                      <a:lnTo>
                        <a:pt x="13" y="36"/>
                      </a:lnTo>
                      <a:lnTo>
                        <a:pt x="6" y="43"/>
                      </a:lnTo>
                      <a:lnTo>
                        <a:pt x="0" y="56"/>
                      </a:lnTo>
                      <a:lnTo>
                        <a:pt x="0" y="72"/>
                      </a:lnTo>
                      <a:lnTo>
                        <a:pt x="13" y="85"/>
                      </a:lnTo>
                      <a:lnTo>
                        <a:pt x="45" y="92"/>
                      </a:lnTo>
                      <a:lnTo>
                        <a:pt x="70" y="89"/>
                      </a:lnTo>
                      <a:lnTo>
                        <a:pt x="105" y="69"/>
                      </a:lnTo>
                      <a:lnTo>
                        <a:pt x="128" y="43"/>
                      </a:lnTo>
                      <a:lnTo>
                        <a:pt x="134" y="7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a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41720" y="2989080"/>
                  <a:ext cx="481680" cy="160200"/>
                </a:xfrm>
                <a:custGeom>
                  <a:avLst/>
                  <a:gdLst/>
                  <a:ahLst/>
                  <a:rect l="l" t="t" r="r" b="b"/>
                  <a:pathLst>
                    <a:path w="332" h="110">
                      <a:moveTo>
                        <a:pt x="0" y="71"/>
                      </a:moveTo>
                      <a:lnTo>
                        <a:pt x="18" y="55"/>
                      </a:lnTo>
                      <a:lnTo>
                        <a:pt x="40" y="61"/>
                      </a:lnTo>
                      <a:lnTo>
                        <a:pt x="49" y="81"/>
                      </a:lnTo>
                      <a:lnTo>
                        <a:pt x="65" y="94"/>
                      </a:lnTo>
                      <a:lnTo>
                        <a:pt x="111" y="97"/>
                      </a:lnTo>
                      <a:lnTo>
                        <a:pt x="172" y="87"/>
                      </a:lnTo>
                      <a:lnTo>
                        <a:pt x="215" y="74"/>
                      </a:lnTo>
                      <a:lnTo>
                        <a:pt x="258" y="58"/>
                      </a:lnTo>
                      <a:lnTo>
                        <a:pt x="292" y="39"/>
                      </a:lnTo>
                      <a:lnTo>
                        <a:pt x="332" y="0"/>
                      </a:lnTo>
                      <a:lnTo>
                        <a:pt x="295" y="52"/>
                      </a:lnTo>
                      <a:lnTo>
                        <a:pt x="258" y="78"/>
                      </a:lnTo>
                      <a:lnTo>
                        <a:pt x="209" y="91"/>
                      </a:lnTo>
                      <a:lnTo>
                        <a:pt x="166" y="104"/>
                      </a:lnTo>
                      <a:lnTo>
                        <a:pt x="111" y="107"/>
                      </a:lnTo>
                      <a:lnTo>
                        <a:pt x="77" y="110"/>
                      </a:lnTo>
                      <a:lnTo>
                        <a:pt x="43" y="107"/>
                      </a:lnTo>
                      <a:lnTo>
                        <a:pt x="25" y="100"/>
                      </a:lnTo>
                      <a:lnTo>
                        <a:pt x="6" y="91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a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15440" y="2936880"/>
                  <a:ext cx="85680" cy="112320"/>
                </a:xfrm>
                <a:custGeom>
                  <a:avLst/>
                  <a:gdLst/>
                  <a:ahLst/>
                  <a:rect l="l" t="t" r="r" b="b"/>
                  <a:pathLst>
                    <a:path w="59" h="77">
                      <a:moveTo>
                        <a:pt x="42" y="30"/>
                      </a:moveTo>
                      <a:lnTo>
                        <a:pt x="59" y="54"/>
                      </a:lnTo>
                      <a:lnTo>
                        <a:pt x="59" y="74"/>
                      </a:lnTo>
                      <a:lnTo>
                        <a:pt x="35" y="77"/>
                      </a:lnTo>
                      <a:lnTo>
                        <a:pt x="10" y="64"/>
                      </a:lnTo>
                      <a:lnTo>
                        <a:pt x="0" y="33"/>
                      </a:lnTo>
                      <a:lnTo>
                        <a:pt x="3" y="7"/>
                      </a:lnTo>
                      <a:lnTo>
                        <a:pt x="17" y="0"/>
                      </a:lnTo>
                      <a:lnTo>
                        <a:pt x="42" y="3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a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1635120" y="2700720"/>
                <a:ext cx="348120" cy="384480"/>
              </a:xfrm>
              <a:custGeom>
                <a:avLst/>
                <a:gdLst/>
                <a:ahLst/>
                <a:rect l="l" t="t" r="r" b="b"/>
                <a:pathLst>
                  <a:path w="240" h="264">
                    <a:moveTo>
                      <a:pt x="240" y="0"/>
                    </a:moveTo>
                    <a:lnTo>
                      <a:pt x="192" y="108"/>
                    </a:lnTo>
                    <a:lnTo>
                      <a:pt x="72" y="192"/>
                    </a:lnTo>
                    <a:lnTo>
                      <a:pt x="12" y="228"/>
                    </a:lnTo>
                    <a:lnTo>
                      <a:pt x="0" y="264"/>
                    </a:lnTo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200a00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116160" y="3558240"/>
                <a:ext cx="138960" cy="314640"/>
              </a:xfrm>
              <a:custGeom>
                <a:avLst/>
                <a:gdLst/>
                <a:ahLst/>
                <a:rect l="l" t="t" r="r" b="b"/>
                <a:pathLst>
                  <a:path w="96" h="216">
                    <a:moveTo>
                      <a:pt x="0" y="216"/>
                    </a:moveTo>
                    <a:lnTo>
                      <a:pt x="36" y="132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200a00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534480" y="3654360"/>
                <a:ext cx="443880" cy="200880"/>
              </a:xfrm>
              <a:custGeom>
                <a:avLst/>
                <a:gdLst/>
                <a:ahLst/>
                <a:rect l="l" t="t" r="r" b="b"/>
                <a:pathLst>
                  <a:path w="306" h="138">
                    <a:moveTo>
                      <a:pt x="0" y="138"/>
                    </a:moveTo>
                    <a:lnTo>
                      <a:pt x="144" y="102"/>
                    </a:lnTo>
                    <a:lnTo>
                      <a:pt x="240" y="54"/>
                    </a:lnTo>
                    <a:lnTo>
                      <a:pt x="306" y="0"/>
                    </a:lnTo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200a00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2367000" y="5394960"/>
                <a:ext cx="2014920" cy="260280"/>
                <a:chOff x="2367000" y="5394960"/>
                <a:chExt cx="2014920" cy="2602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2367000" y="5477760"/>
                  <a:ext cx="277200" cy="151560"/>
                </a:xfrm>
                <a:custGeom>
                  <a:avLst/>
                  <a:gdLst/>
                  <a:ahLst/>
                  <a:rect l="l" t="t" r="r" b="b"/>
                  <a:pathLst>
                    <a:path w="191" h="104">
                      <a:moveTo>
                        <a:pt x="31" y="13"/>
                      </a:moveTo>
                      <a:lnTo>
                        <a:pt x="31" y="33"/>
                      </a:lnTo>
                      <a:lnTo>
                        <a:pt x="28" y="55"/>
                      </a:lnTo>
                      <a:lnTo>
                        <a:pt x="0" y="85"/>
                      </a:lnTo>
                      <a:lnTo>
                        <a:pt x="31" y="104"/>
                      </a:lnTo>
                      <a:lnTo>
                        <a:pt x="50" y="104"/>
                      </a:lnTo>
                      <a:lnTo>
                        <a:pt x="150" y="91"/>
                      </a:lnTo>
                      <a:lnTo>
                        <a:pt x="191" y="46"/>
                      </a:lnTo>
                      <a:lnTo>
                        <a:pt x="169" y="0"/>
                      </a:lnTo>
                      <a:lnTo>
                        <a:pt x="106" y="10"/>
                      </a:lnTo>
                      <a:lnTo>
                        <a:pt x="85" y="68"/>
                      </a:lnTo>
                      <a:lnTo>
                        <a:pt x="69" y="68"/>
                      </a:lnTo>
                      <a:lnTo>
                        <a:pt x="85" y="10"/>
                      </a:lnTo>
                      <a:lnTo>
                        <a:pt x="31" y="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a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654280" y="5455800"/>
                  <a:ext cx="237960" cy="133920"/>
                </a:xfrm>
                <a:custGeom>
                  <a:avLst/>
                  <a:gdLst/>
                  <a:ahLst/>
                  <a:rect l="l" t="t" r="r" b="b"/>
                  <a:pathLst>
                    <a:path w="164" h="92">
                      <a:moveTo>
                        <a:pt x="19" y="16"/>
                      </a:moveTo>
                      <a:lnTo>
                        <a:pt x="19" y="62"/>
                      </a:lnTo>
                      <a:lnTo>
                        <a:pt x="0" y="85"/>
                      </a:lnTo>
                      <a:lnTo>
                        <a:pt x="6" y="92"/>
                      </a:lnTo>
                      <a:lnTo>
                        <a:pt x="98" y="92"/>
                      </a:lnTo>
                      <a:lnTo>
                        <a:pt x="151" y="76"/>
                      </a:lnTo>
                      <a:lnTo>
                        <a:pt x="164" y="20"/>
                      </a:lnTo>
                      <a:lnTo>
                        <a:pt x="164" y="0"/>
                      </a:lnTo>
                      <a:lnTo>
                        <a:pt x="79" y="13"/>
                      </a:lnTo>
                      <a:lnTo>
                        <a:pt x="76" y="62"/>
                      </a:lnTo>
                      <a:lnTo>
                        <a:pt x="50" y="62"/>
                      </a:lnTo>
                      <a:lnTo>
                        <a:pt x="60" y="16"/>
                      </a:lnTo>
                      <a:lnTo>
                        <a:pt x="19" y="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a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164040" y="5394960"/>
                  <a:ext cx="294480" cy="142560"/>
                </a:xfrm>
                <a:custGeom>
                  <a:avLst/>
                  <a:gdLst/>
                  <a:ahLst/>
                  <a:rect l="l" t="t" r="r" b="b"/>
                  <a:pathLst>
                    <a:path w="203" h="98">
                      <a:moveTo>
                        <a:pt x="19" y="0"/>
                      </a:moveTo>
                      <a:lnTo>
                        <a:pt x="0" y="23"/>
                      </a:lnTo>
                      <a:lnTo>
                        <a:pt x="0" y="59"/>
                      </a:lnTo>
                      <a:lnTo>
                        <a:pt x="66" y="98"/>
                      </a:lnTo>
                      <a:lnTo>
                        <a:pt x="166" y="91"/>
                      </a:lnTo>
                      <a:lnTo>
                        <a:pt x="191" y="72"/>
                      </a:lnTo>
                      <a:lnTo>
                        <a:pt x="203" y="29"/>
                      </a:lnTo>
                      <a:lnTo>
                        <a:pt x="203" y="7"/>
                      </a:lnTo>
                      <a:lnTo>
                        <a:pt x="103" y="10"/>
                      </a:lnTo>
                      <a:lnTo>
                        <a:pt x="87" y="59"/>
                      </a:lnTo>
                      <a:lnTo>
                        <a:pt x="59" y="56"/>
                      </a:lnTo>
                      <a:lnTo>
                        <a:pt x="87" y="1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a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082760" y="5534640"/>
                  <a:ext cx="299160" cy="120600"/>
                </a:xfrm>
                <a:custGeom>
                  <a:avLst/>
                  <a:gdLst/>
                  <a:ahLst/>
                  <a:rect l="l" t="t" r="r" b="b"/>
                  <a:pathLst>
                    <a:path w="206" h="83">
                      <a:moveTo>
                        <a:pt x="22" y="3"/>
                      </a:moveTo>
                      <a:lnTo>
                        <a:pt x="0" y="73"/>
                      </a:lnTo>
                      <a:lnTo>
                        <a:pt x="87" y="83"/>
                      </a:lnTo>
                      <a:lnTo>
                        <a:pt x="181" y="76"/>
                      </a:lnTo>
                      <a:lnTo>
                        <a:pt x="206" y="43"/>
                      </a:lnTo>
                      <a:lnTo>
                        <a:pt x="206" y="0"/>
                      </a:lnTo>
                      <a:lnTo>
                        <a:pt x="100" y="3"/>
                      </a:lnTo>
                      <a:lnTo>
                        <a:pt x="94" y="56"/>
                      </a:lnTo>
                      <a:lnTo>
                        <a:pt x="72" y="56"/>
                      </a:lnTo>
                      <a:lnTo>
                        <a:pt x="78" y="7"/>
                      </a:lnTo>
                      <a:lnTo>
                        <a:pt x="22" y="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a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6" name=""/>
            <p:cNvSpPr/>
            <p:nvPr/>
          </p:nvSpPr>
          <p:spPr>
            <a:xfrm>
              <a:off x="1748520" y="1716840"/>
              <a:ext cx="405000" cy="463320"/>
            </a:xfrm>
            <a:custGeom>
              <a:avLst/>
              <a:gdLst/>
              <a:ahLst/>
              <a:rect l="l" t="t" r="r" b="b"/>
              <a:pathLst>
                <a:path w="279" h="318">
                  <a:moveTo>
                    <a:pt x="0" y="318"/>
                  </a:moveTo>
                  <a:lnTo>
                    <a:pt x="39" y="249"/>
                  </a:lnTo>
                  <a:lnTo>
                    <a:pt x="99" y="174"/>
                  </a:lnTo>
                  <a:lnTo>
                    <a:pt x="171" y="108"/>
                  </a:lnTo>
                  <a:lnTo>
                    <a:pt x="216" y="75"/>
                  </a:lnTo>
                  <a:lnTo>
                    <a:pt x="252" y="24"/>
                  </a:lnTo>
                  <a:lnTo>
                    <a:pt x="261" y="6"/>
                  </a:lnTo>
                  <a:lnTo>
                    <a:pt x="276" y="0"/>
                  </a:lnTo>
                  <a:lnTo>
                    <a:pt x="279" y="36"/>
                  </a:lnTo>
                  <a:lnTo>
                    <a:pt x="273" y="81"/>
                  </a:lnTo>
                  <a:lnTo>
                    <a:pt x="264" y="147"/>
                  </a:lnTo>
                  <a:lnTo>
                    <a:pt x="246" y="222"/>
                  </a:lnTo>
                  <a:lnTo>
                    <a:pt x="225" y="315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4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1587240" y="1371600"/>
              <a:ext cx="1354320" cy="939960"/>
              <a:chOff x="1587240" y="1371600"/>
              <a:chExt cx="1354320" cy="939960"/>
            </a:xfrm>
          </p:grpSpPr>
          <p:sp>
            <p:nvSpPr>
              <p:cNvPr id="328" name=""/>
              <p:cNvSpPr/>
              <p:nvPr/>
            </p:nvSpPr>
            <p:spPr>
              <a:xfrm>
                <a:off x="1587240" y="1371600"/>
                <a:ext cx="1354320" cy="939960"/>
              </a:xfrm>
              <a:custGeom>
                <a:avLst/>
                <a:gdLst/>
                <a:ahLst/>
                <a:rect l="l" t="t" r="r" b="b"/>
                <a:pathLst>
                  <a:path w="933" h="645">
                    <a:moveTo>
                      <a:pt x="18" y="297"/>
                    </a:moveTo>
                    <a:lnTo>
                      <a:pt x="3" y="354"/>
                    </a:lnTo>
                    <a:lnTo>
                      <a:pt x="0" y="408"/>
                    </a:lnTo>
                    <a:lnTo>
                      <a:pt x="9" y="450"/>
                    </a:lnTo>
                    <a:lnTo>
                      <a:pt x="21" y="501"/>
                    </a:lnTo>
                    <a:lnTo>
                      <a:pt x="45" y="549"/>
                    </a:lnTo>
                    <a:lnTo>
                      <a:pt x="78" y="588"/>
                    </a:lnTo>
                    <a:lnTo>
                      <a:pt x="129" y="618"/>
                    </a:lnTo>
                    <a:lnTo>
                      <a:pt x="171" y="618"/>
                    </a:lnTo>
                    <a:lnTo>
                      <a:pt x="204" y="606"/>
                    </a:lnTo>
                    <a:lnTo>
                      <a:pt x="219" y="606"/>
                    </a:lnTo>
                    <a:lnTo>
                      <a:pt x="228" y="627"/>
                    </a:lnTo>
                    <a:lnTo>
                      <a:pt x="255" y="642"/>
                    </a:lnTo>
                    <a:lnTo>
                      <a:pt x="297" y="633"/>
                    </a:lnTo>
                    <a:lnTo>
                      <a:pt x="330" y="627"/>
                    </a:lnTo>
                    <a:lnTo>
                      <a:pt x="357" y="633"/>
                    </a:lnTo>
                    <a:lnTo>
                      <a:pt x="396" y="645"/>
                    </a:lnTo>
                    <a:lnTo>
                      <a:pt x="429" y="645"/>
                    </a:lnTo>
                    <a:lnTo>
                      <a:pt x="450" y="639"/>
                    </a:lnTo>
                    <a:lnTo>
                      <a:pt x="471" y="615"/>
                    </a:lnTo>
                    <a:lnTo>
                      <a:pt x="489" y="576"/>
                    </a:lnTo>
                    <a:lnTo>
                      <a:pt x="501" y="564"/>
                    </a:lnTo>
                    <a:lnTo>
                      <a:pt x="525" y="555"/>
                    </a:lnTo>
                    <a:lnTo>
                      <a:pt x="579" y="537"/>
                    </a:lnTo>
                    <a:lnTo>
                      <a:pt x="666" y="495"/>
                    </a:lnTo>
                    <a:lnTo>
                      <a:pt x="735" y="426"/>
                    </a:lnTo>
                    <a:lnTo>
                      <a:pt x="801" y="354"/>
                    </a:lnTo>
                    <a:lnTo>
                      <a:pt x="837" y="285"/>
                    </a:lnTo>
                    <a:lnTo>
                      <a:pt x="861" y="231"/>
                    </a:lnTo>
                    <a:lnTo>
                      <a:pt x="864" y="201"/>
                    </a:lnTo>
                    <a:lnTo>
                      <a:pt x="885" y="180"/>
                    </a:lnTo>
                    <a:lnTo>
                      <a:pt x="921" y="126"/>
                    </a:lnTo>
                    <a:lnTo>
                      <a:pt x="933" y="81"/>
                    </a:lnTo>
                    <a:lnTo>
                      <a:pt x="930" y="51"/>
                    </a:lnTo>
                    <a:lnTo>
                      <a:pt x="912" y="66"/>
                    </a:lnTo>
                    <a:lnTo>
                      <a:pt x="906" y="66"/>
                    </a:lnTo>
                    <a:lnTo>
                      <a:pt x="894" y="30"/>
                    </a:lnTo>
                    <a:lnTo>
                      <a:pt x="873" y="54"/>
                    </a:lnTo>
                    <a:lnTo>
                      <a:pt x="861" y="51"/>
                    </a:lnTo>
                    <a:lnTo>
                      <a:pt x="846" y="6"/>
                    </a:lnTo>
                    <a:lnTo>
                      <a:pt x="834" y="0"/>
                    </a:lnTo>
                    <a:lnTo>
                      <a:pt x="828" y="45"/>
                    </a:lnTo>
                    <a:lnTo>
                      <a:pt x="831" y="75"/>
                    </a:lnTo>
                    <a:lnTo>
                      <a:pt x="822" y="96"/>
                    </a:lnTo>
                    <a:lnTo>
                      <a:pt x="813" y="111"/>
                    </a:lnTo>
                    <a:lnTo>
                      <a:pt x="798" y="108"/>
                    </a:lnTo>
                    <a:lnTo>
                      <a:pt x="798" y="96"/>
                    </a:lnTo>
                    <a:lnTo>
                      <a:pt x="783" y="123"/>
                    </a:lnTo>
                    <a:lnTo>
                      <a:pt x="759" y="150"/>
                    </a:lnTo>
                    <a:lnTo>
                      <a:pt x="744" y="156"/>
                    </a:lnTo>
                    <a:lnTo>
                      <a:pt x="735" y="138"/>
                    </a:lnTo>
                    <a:lnTo>
                      <a:pt x="726" y="153"/>
                    </a:lnTo>
                    <a:lnTo>
                      <a:pt x="714" y="168"/>
                    </a:lnTo>
                    <a:lnTo>
                      <a:pt x="702" y="171"/>
                    </a:lnTo>
                    <a:lnTo>
                      <a:pt x="690" y="171"/>
                    </a:lnTo>
                    <a:lnTo>
                      <a:pt x="681" y="150"/>
                    </a:lnTo>
                    <a:lnTo>
                      <a:pt x="654" y="105"/>
                    </a:lnTo>
                    <a:lnTo>
                      <a:pt x="651" y="102"/>
                    </a:lnTo>
                    <a:lnTo>
                      <a:pt x="654" y="174"/>
                    </a:lnTo>
                    <a:lnTo>
                      <a:pt x="654" y="228"/>
                    </a:lnTo>
                    <a:lnTo>
                      <a:pt x="645" y="270"/>
                    </a:lnTo>
                    <a:lnTo>
                      <a:pt x="636" y="306"/>
                    </a:lnTo>
                    <a:lnTo>
                      <a:pt x="618" y="339"/>
                    </a:lnTo>
                    <a:lnTo>
                      <a:pt x="606" y="360"/>
                    </a:lnTo>
                    <a:lnTo>
                      <a:pt x="582" y="390"/>
                    </a:lnTo>
                    <a:lnTo>
                      <a:pt x="558" y="408"/>
                    </a:lnTo>
                    <a:lnTo>
                      <a:pt x="513" y="429"/>
                    </a:lnTo>
                    <a:lnTo>
                      <a:pt x="495" y="435"/>
                    </a:lnTo>
                    <a:lnTo>
                      <a:pt x="495" y="396"/>
                    </a:lnTo>
                    <a:lnTo>
                      <a:pt x="495" y="366"/>
                    </a:lnTo>
                    <a:lnTo>
                      <a:pt x="486" y="333"/>
                    </a:lnTo>
                    <a:lnTo>
                      <a:pt x="474" y="300"/>
                    </a:lnTo>
                    <a:lnTo>
                      <a:pt x="468" y="324"/>
                    </a:lnTo>
                    <a:lnTo>
                      <a:pt x="465" y="348"/>
                    </a:lnTo>
                    <a:lnTo>
                      <a:pt x="465" y="381"/>
                    </a:lnTo>
                    <a:lnTo>
                      <a:pt x="459" y="408"/>
                    </a:lnTo>
                    <a:lnTo>
                      <a:pt x="456" y="468"/>
                    </a:lnTo>
                    <a:lnTo>
                      <a:pt x="450" y="489"/>
                    </a:lnTo>
                    <a:lnTo>
                      <a:pt x="423" y="510"/>
                    </a:lnTo>
                    <a:lnTo>
                      <a:pt x="390" y="522"/>
                    </a:lnTo>
                    <a:lnTo>
                      <a:pt x="366" y="528"/>
                    </a:lnTo>
                    <a:lnTo>
                      <a:pt x="342" y="528"/>
                    </a:lnTo>
                    <a:lnTo>
                      <a:pt x="318" y="528"/>
                    </a:lnTo>
                    <a:lnTo>
                      <a:pt x="303" y="510"/>
                    </a:lnTo>
                    <a:lnTo>
                      <a:pt x="288" y="444"/>
                    </a:lnTo>
                    <a:lnTo>
                      <a:pt x="279" y="330"/>
                    </a:lnTo>
                    <a:lnTo>
                      <a:pt x="276" y="246"/>
                    </a:lnTo>
                    <a:lnTo>
                      <a:pt x="267" y="186"/>
                    </a:lnTo>
                    <a:lnTo>
                      <a:pt x="252" y="237"/>
                    </a:lnTo>
                    <a:lnTo>
                      <a:pt x="246" y="288"/>
                    </a:lnTo>
                    <a:lnTo>
                      <a:pt x="240" y="366"/>
                    </a:lnTo>
                    <a:lnTo>
                      <a:pt x="234" y="426"/>
                    </a:lnTo>
                    <a:lnTo>
                      <a:pt x="225" y="474"/>
                    </a:lnTo>
                    <a:lnTo>
                      <a:pt x="213" y="507"/>
                    </a:lnTo>
                    <a:lnTo>
                      <a:pt x="186" y="534"/>
                    </a:lnTo>
                    <a:lnTo>
                      <a:pt x="147" y="537"/>
                    </a:lnTo>
                    <a:lnTo>
                      <a:pt x="120" y="522"/>
                    </a:lnTo>
                    <a:lnTo>
                      <a:pt x="75" y="474"/>
                    </a:lnTo>
                    <a:lnTo>
                      <a:pt x="60" y="444"/>
                    </a:lnTo>
                    <a:lnTo>
                      <a:pt x="42" y="408"/>
                    </a:lnTo>
                    <a:lnTo>
                      <a:pt x="18" y="297"/>
                    </a:lnTo>
                    <a:close/>
                  </a:path>
                </a:pathLst>
              </a:custGeom>
              <a:solidFill>
                <a:srgbClr val="40404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900800" y="2101680"/>
                <a:ext cx="23040" cy="174600"/>
              </a:xfrm>
              <a:custGeom>
                <a:avLst/>
                <a:gdLst/>
                <a:ahLst/>
                <a:rect l="l" t="t" r="r" b="b"/>
                <a:pathLst>
                  <a:path w="16" h="120">
                    <a:moveTo>
                      <a:pt x="4" y="0"/>
                    </a:moveTo>
                    <a:lnTo>
                      <a:pt x="0" y="48"/>
                    </a:lnTo>
                    <a:lnTo>
                      <a:pt x="16" y="12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296800" y="1996920"/>
                <a:ext cx="8640" cy="213840"/>
              </a:xfrm>
              <a:custGeom>
                <a:avLst/>
                <a:gdLst/>
                <a:ahLst/>
                <a:rect l="l" t="t" r="r" b="b"/>
                <a:pathLst>
                  <a:path w="6" h="147">
                    <a:moveTo>
                      <a:pt x="6" y="0"/>
                    </a:moveTo>
                    <a:lnTo>
                      <a:pt x="6" y="60"/>
                    </a:lnTo>
                    <a:lnTo>
                      <a:pt x="6" y="111"/>
                    </a:lnTo>
                    <a:lnTo>
                      <a:pt x="0" y="14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593080" y="1459080"/>
                <a:ext cx="200160" cy="231480"/>
              </a:xfrm>
              <a:custGeom>
                <a:avLst/>
                <a:gdLst/>
                <a:ahLst/>
                <a:rect l="l" t="t" r="r" b="b"/>
                <a:pathLst>
                  <a:path w="138" h="159">
                    <a:moveTo>
                      <a:pt x="0" y="111"/>
                    </a:moveTo>
                    <a:lnTo>
                      <a:pt x="18" y="138"/>
                    </a:lnTo>
                    <a:lnTo>
                      <a:pt x="48" y="156"/>
                    </a:lnTo>
                    <a:lnTo>
                      <a:pt x="84" y="159"/>
                    </a:lnTo>
                    <a:lnTo>
                      <a:pt x="108" y="144"/>
                    </a:lnTo>
                    <a:lnTo>
                      <a:pt x="126" y="108"/>
                    </a:lnTo>
                    <a:lnTo>
                      <a:pt x="138" y="63"/>
                    </a:lnTo>
                    <a:lnTo>
                      <a:pt x="13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305800" y="1642320"/>
                <a:ext cx="256680" cy="415440"/>
              </a:xfrm>
              <a:custGeom>
                <a:avLst/>
                <a:gdLst/>
                <a:ahLst/>
                <a:rect l="l" t="t" r="r" b="b"/>
                <a:pathLst>
                  <a:path w="177" h="285">
                    <a:moveTo>
                      <a:pt x="165" y="0"/>
                    </a:moveTo>
                    <a:lnTo>
                      <a:pt x="177" y="51"/>
                    </a:lnTo>
                    <a:lnTo>
                      <a:pt x="174" y="96"/>
                    </a:lnTo>
                    <a:lnTo>
                      <a:pt x="159" y="159"/>
                    </a:lnTo>
                    <a:lnTo>
                      <a:pt x="138" y="213"/>
                    </a:lnTo>
                    <a:lnTo>
                      <a:pt x="84" y="249"/>
                    </a:lnTo>
                    <a:lnTo>
                      <a:pt x="21" y="282"/>
                    </a:lnTo>
                    <a:lnTo>
                      <a:pt x="0" y="28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828160" y="1459080"/>
                <a:ext cx="82800" cy="113400"/>
              </a:xfrm>
              <a:custGeom>
                <a:avLst/>
                <a:gdLst/>
                <a:ahLst/>
                <a:rect l="l" t="t" r="r" b="b"/>
                <a:pathLst>
                  <a:path w="57" h="78">
                    <a:moveTo>
                      <a:pt x="9" y="0"/>
                    </a:moveTo>
                    <a:lnTo>
                      <a:pt x="12" y="42"/>
                    </a:lnTo>
                    <a:lnTo>
                      <a:pt x="0" y="78"/>
                    </a:lnTo>
                    <a:lnTo>
                      <a:pt x="30" y="42"/>
                    </a:lnTo>
                    <a:lnTo>
                      <a:pt x="57" y="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" name=""/>
          <p:cNvGrpSpPr/>
          <p:nvPr/>
        </p:nvGrpSpPr>
        <p:grpSpPr>
          <a:xfrm>
            <a:off x="4876920" y="1828800"/>
            <a:ext cx="4038120" cy="3603240"/>
            <a:chOff x="4876920" y="1828800"/>
            <a:chExt cx="4038120" cy="3603240"/>
          </a:xfrm>
        </p:grpSpPr>
        <p:grpSp>
          <p:nvGrpSpPr>
            <p:cNvPr id="335" name=""/>
            <p:cNvGrpSpPr/>
            <p:nvPr/>
          </p:nvGrpSpPr>
          <p:grpSpPr>
            <a:xfrm>
              <a:off x="8663400" y="2127240"/>
              <a:ext cx="251640" cy="298080"/>
              <a:chOff x="8663400" y="2127240"/>
              <a:chExt cx="251640" cy="298080"/>
            </a:xfrm>
          </p:grpSpPr>
          <p:sp>
            <p:nvSpPr>
              <p:cNvPr id="336" name=""/>
              <p:cNvSpPr/>
              <p:nvPr/>
            </p:nvSpPr>
            <p:spPr>
              <a:xfrm>
                <a:off x="8663400" y="2127240"/>
                <a:ext cx="251640" cy="298080"/>
              </a:xfrm>
              <a:custGeom>
                <a:avLst/>
                <a:gdLst/>
                <a:ahLst/>
                <a:rect l="l" t="t" r="r" b="b"/>
                <a:pathLst>
                  <a:path w="179" h="204">
                    <a:moveTo>
                      <a:pt x="29" y="201"/>
                    </a:moveTo>
                    <a:lnTo>
                      <a:pt x="72" y="204"/>
                    </a:lnTo>
                    <a:lnTo>
                      <a:pt x="112" y="193"/>
                    </a:lnTo>
                    <a:lnTo>
                      <a:pt x="147" y="161"/>
                    </a:lnTo>
                    <a:lnTo>
                      <a:pt x="171" y="118"/>
                    </a:lnTo>
                    <a:lnTo>
                      <a:pt x="177" y="72"/>
                    </a:lnTo>
                    <a:lnTo>
                      <a:pt x="179" y="32"/>
                    </a:lnTo>
                    <a:lnTo>
                      <a:pt x="179" y="0"/>
                    </a:lnTo>
                    <a:lnTo>
                      <a:pt x="128" y="10"/>
                    </a:lnTo>
                    <a:lnTo>
                      <a:pt x="72" y="32"/>
                    </a:lnTo>
                    <a:lnTo>
                      <a:pt x="18" y="70"/>
                    </a:lnTo>
                    <a:lnTo>
                      <a:pt x="0" y="99"/>
                    </a:lnTo>
                    <a:lnTo>
                      <a:pt x="29" y="201"/>
                    </a:lnTo>
                    <a:close/>
                  </a:path>
                </a:pathLst>
              </a:custGeom>
              <a:solidFill>
                <a:srgbClr val="bf7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721000" y="2185560"/>
                <a:ext cx="120600" cy="156240"/>
              </a:xfrm>
              <a:custGeom>
                <a:avLst/>
                <a:gdLst/>
                <a:ahLst/>
                <a:rect l="l" t="t" r="r" b="b"/>
                <a:pathLst>
                  <a:path w="86" h="107">
                    <a:moveTo>
                      <a:pt x="13" y="106"/>
                    </a:moveTo>
                    <a:lnTo>
                      <a:pt x="35" y="107"/>
                    </a:lnTo>
                    <a:lnTo>
                      <a:pt x="53" y="101"/>
                    </a:lnTo>
                    <a:lnTo>
                      <a:pt x="70" y="84"/>
                    </a:lnTo>
                    <a:lnTo>
                      <a:pt x="82" y="62"/>
                    </a:lnTo>
                    <a:lnTo>
                      <a:pt x="85" y="38"/>
                    </a:lnTo>
                    <a:lnTo>
                      <a:pt x="86" y="16"/>
                    </a:lnTo>
                    <a:lnTo>
                      <a:pt x="86" y="0"/>
                    </a:lnTo>
                    <a:lnTo>
                      <a:pt x="61" y="5"/>
                    </a:lnTo>
                    <a:lnTo>
                      <a:pt x="35" y="16"/>
                    </a:lnTo>
                    <a:lnTo>
                      <a:pt x="9" y="37"/>
                    </a:lnTo>
                    <a:lnTo>
                      <a:pt x="0" y="52"/>
                    </a:lnTo>
                    <a:lnTo>
                      <a:pt x="13" y="106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8650440" y="2509200"/>
              <a:ext cx="101520" cy="59760"/>
            </a:xfrm>
            <a:custGeom>
              <a:avLst/>
              <a:gdLst/>
              <a:ahLst/>
              <a:rect l="l" t="t" r="r" b="b"/>
              <a:pathLst>
                <a:path w="72" h="41">
                  <a:moveTo>
                    <a:pt x="72" y="8"/>
                  </a:moveTo>
                  <a:lnTo>
                    <a:pt x="60" y="3"/>
                  </a:lnTo>
                  <a:lnTo>
                    <a:pt x="44" y="0"/>
                  </a:lnTo>
                  <a:lnTo>
                    <a:pt x="25" y="3"/>
                  </a:lnTo>
                  <a:lnTo>
                    <a:pt x="16" y="10"/>
                  </a:lnTo>
                  <a:lnTo>
                    <a:pt x="9" y="17"/>
                  </a:lnTo>
                  <a:lnTo>
                    <a:pt x="3" y="32"/>
                  </a:lnTo>
                  <a:lnTo>
                    <a:pt x="0" y="40"/>
                  </a:lnTo>
                  <a:lnTo>
                    <a:pt x="18" y="41"/>
                  </a:lnTo>
                  <a:lnTo>
                    <a:pt x="37" y="39"/>
                  </a:lnTo>
                  <a:lnTo>
                    <a:pt x="56" y="33"/>
                  </a:lnTo>
                  <a:lnTo>
                    <a:pt x="68" y="21"/>
                  </a:lnTo>
                  <a:lnTo>
                    <a:pt x="72" y="8"/>
                  </a:lnTo>
                  <a:close/>
                </a:path>
              </a:pathLst>
            </a:custGeom>
            <a:solidFill>
              <a:srgbClr val="7f5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76920" y="2074680"/>
              <a:ext cx="4006080" cy="3357360"/>
            </a:xfrm>
            <a:custGeom>
              <a:avLst/>
              <a:gdLst/>
              <a:ahLst/>
              <a:rect l="l" t="t" r="r" b="b"/>
              <a:pathLst>
                <a:path w="2845" h="2294">
                  <a:moveTo>
                    <a:pt x="2057" y="157"/>
                  </a:moveTo>
                  <a:lnTo>
                    <a:pt x="1937" y="157"/>
                  </a:lnTo>
                  <a:lnTo>
                    <a:pt x="1782" y="179"/>
                  </a:lnTo>
                  <a:lnTo>
                    <a:pt x="1574" y="217"/>
                  </a:lnTo>
                  <a:lnTo>
                    <a:pt x="1462" y="243"/>
                  </a:lnTo>
                  <a:lnTo>
                    <a:pt x="1352" y="270"/>
                  </a:lnTo>
                  <a:lnTo>
                    <a:pt x="1256" y="294"/>
                  </a:lnTo>
                  <a:lnTo>
                    <a:pt x="1166" y="313"/>
                  </a:lnTo>
                  <a:lnTo>
                    <a:pt x="1081" y="322"/>
                  </a:lnTo>
                  <a:lnTo>
                    <a:pt x="976" y="324"/>
                  </a:lnTo>
                  <a:lnTo>
                    <a:pt x="801" y="308"/>
                  </a:lnTo>
                  <a:lnTo>
                    <a:pt x="680" y="270"/>
                  </a:lnTo>
                  <a:lnTo>
                    <a:pt x="586" y="249"/>
                  </a:lnTo>
                  <a:lnTo>
                    <a:pt x="520" y="233"/>
                  </a:lnTo>
                  <a:lnTo>
                    <a:pt x="456" y="220"/>
                  </a:lnTo>
                  <a:lnTo>
                    <a:pt x="411" y="214"/>
                  </a:lnTo>
                  <a:lnTo>
                    <a:pt x="374" y="211"/>
                  </a:lnTo>
                  <a:lnTo>
                    <a:pt x="331" y="216"/>
                  </a:lnTo>
                  <a:lnTo>
                    <a:pt x="288" y="227"/>
                  </a:lnTo>
                  <a:lnTo>
                    <a:pt x="230" y="251"/>
                  </a:lnTo>
                  <a:lnTo>
                    <a:pt x="176" y="278"/>
                  </a:lnTo>
                  <a:lnTo>
                    <a:pt x="132" y="308"/>
                  </a:lnTo>
                  <a:lnTo>
                    <a:pt x="99" y="337"/>
                  </a:lnTo>
                  <a:lnTo>
                    <a:pt x="62" y="378"/>
                  </a:lnTo>
                  <a:lnTo>
                    <a:pt x="30" y="432"/>
                  </a:lnTo>
                  <a:lnTo>
                    <a:pt x="5" y="524"/>
                  </a:lnTo>
                  <a:lnTo>
                    <a:pt x="0" y="627"/>
                  </a:lnTo>
                  <a:lnTo>
                    <a:pt x="26" y="755"/>
                  </a:lnTo>
                  <a:lnTo>
                    <a:pt x="69" y="912"/>
                  </a:lnTo>
                  <a:lnTo>
                    <a:pt x="128" y="1131"/>
                  </a:lnTo>
                  <a:lnTo>
                    <a:pt x="134" y="1464"/>
                  </a:lnTo>
                  <a:lnTo>
                    <a:pt x="112" y="1691"/>
                  </a:lnTo>
                  <a:lnTo>
                    <a:pt x="187" y="1917"/>
                  </a:lnTo>
                  <a:lnTo>
                    <a:pt x="204" y="2014"/>
                  </a:lnTo>
                  <a:lnTo>
                    <a:pt x="209" y="2153"/>
                  </a:lnTo>
                  <a:lnTo>
                    <a:pt x="166" y="2258"/>
                  </a:lnTo>
                  <a:lnTo>
                    <a:pt x="232" y="2281"/>
                  </a:lnTo>
                  <a:lnTo>
                    <a:pt x="354" y="2265"/>
                  </a:lnTo>
                  <a:lnTo>
                    <a:pt x="370" y="2067"/>
                  </a:lnTo>
                  <a:lnTo>
                    <a:pt x="392" y="2260"/>
                  </a:lnTo>
                  <a:lnTo>
                    <a:pt x="441" y="2291"/>
                  </a:lnTo>
                  <a:lnTo>
                    <a:pt x="529" y="2294"/>
                  </a:lnTo>
                  <a:lnTo>
                    <a:pt x="601" y="2271"/>
                  </a:lnTo>
                  <a:lnTo>
                    <a:pt x="622" y="2239"/>
                  </a:lnTo>
                  <a:lnTo>
                    <a:pt x="553" y="2067"/>
                  </a:lnTo>
                  <a:lnTo>
                    <a:pt x="545" y="1927"/>
                  </a:lnTo>
                  <a:lnTo>
                    <a:pt x="574" y="1809"/>
                  </a:lnTo>
                  <a:lnTo>
                    <a:pt x="610" y="1691"/>
                  </a:lnTo>
                  <a:lnTo>
                    <a:pt x="660" y="1561"/>
                  </a:lnTo>
                  <a:lnTo>
                    <a:pt x="767" y="1421"/>
                  </a:lnTo>
                  <a:lnTo>
                    <a:pt x="844" y="1324"/>
                  </a:lnTo>
                  <a:lnTo>
                    <a:pt x="978" y="1287"/>
                  </a:lnTo>
                  <a:lnTo>
                    <a:pt x="1101" y="1324"/>
                  </a:lnTo>
                  <a:lnTo>
                    <a:pt x="1225" y="1351"/>
                  </a:lnTo>
                  <a:lnTo>
                    <a:pt x="1320" y="1351"/>
                  </a:lnTo>
                  <a:lnTo>
                    <a:pt x="1434" y="1319"/>
                  </a:lnTo>
                  <a:lnTo>
                    <a:pt x="1563" y="1260"/>
                  </a:lnTo>
                  <a:lnTo>
                    <a:pt x="1633" y="1228"/>
                  </a:lnTo>
                  <a:lnTo>
                    <a:pt x="1653" y="1260"/>
                  </a:lnTo>
                  <a:lnTo>
                    <a:pt x="1681" y="1324"/>
                  </a:lnTo>
                  <a:lnTo>
                    <a:pt x="1620" y="1455"/>
                  </a:lnTo>
                  <a:lnTo>
                    <a:pt x="1586" y="1542"/>
                  </a:lnTo>
                  <a:lnTo>
                    <a:pt x="1569" y="1728"/>
                  </a:lnTo>
                  <a:lnTo>
                    <a:pt x="1547" y="1824"/>
                  </a:lnTo>
                  <a:lnTo>
                    <a:pt x="1546" y="1898"/>
                  </a:lnTo>
                  <a:lnTo>
                    <a:pt x="1557" y="2024"/>
                  </a:lnTo>
                  <a:lnTo>
                    <a:pt x="1577" y="2127"/>
                  </a:lnTo>
                  <a:lnTo>
                    <a:pt x="1623" y="2129"/>
                  </a:lnTo>
                  <a:lnTo>
                    <a:pt x="1677" y="2131"/>
                  </a:lnTo>
                  <a:lnTo>
                    <a:pt x="1731" y="2123"/>
                  </a:lnTo>
                  <a:lnTo>
                    <a:pt x="1777" y="2105"/>
                  </a:lnTo>
                  <a:lnTo>
                    <a:pt x="1797" y="2084"/>
                  </a:lnTo>
                  <a:lnTo>
                    <a:pt x="1810" y="2056"/>
                  </a:lnTo>
                  <a:lnTo>
                    <a:pt x="1749" y="1970"/>
                  </a:lnTo>
                  <a:lnTo>
                    <a:pt x="1728" y="1925"/>
                  </a:lnTo>
                  <a:lnTo>
                    <a:pt x="1714" y="1874"/>
                  </a:lnTo>
                  <a:lnTo>
                    <a:pt x="1712" y="1777"/>
                  </a:lnTo>
                  <a:lnTo>
                    <a:pt x="1724" y="1691"/>
                  </a:lnTo>
                  <a:lnTo>
                    <a:pt x="1761" y="1576"/>
                  </a:lnTo>
                  <a:lnTo>
                    <a:pt x="1800" y="1475"/>
                  </a:lnTo>
                  <a:lnTo>
                    <a:pt x="1886" y="1292"/>
                  </a:lnTo>
                  <a:lnTo>
                    <a:pt x="1961" y="1088"/>
                  </a:lnTo>
                  <a:lnTo>
                    <a:pt x="2031" y="900"/>
                  </a:lnTo>
                  <a:lnTo>
                    <a:pt x="2106" y="814"/>
                  </a:lnTo>
                  <a:lnTo>
                    <a:pt x="2207" y="733"/>
                  </a:lnTo>
                  <a:lnTo>
                    <a:pt x="2289" y="653"/>
                  </a:lnTo>
                  <a:lnTo>
                    <a:pt x="2352" y="615"/>
                  </a:lnTo>
                  <a:lnTo>
                    <a:pt x="2424" y="583"/>
                  </a:lnTo>
                  <a:lnTo>
                    <a:pt x="2472" y="588"/>
                  </a:lnTo>
                  <a:lnTo>
                    <a:pt x="2513" y="637"/>
                  </a:lnTo>
                  <a:lnTo>
                    <a:pt x="2563" y="680"/>
                  </a:lnTo>
                  <a:lnTo>
                    <a:pt x="2626" y="707"/>
                  </a:lnTo>
                  <a:lnTo>
                    <a:pt x="2681" y="712"/>
                  </a:lnTo>
                  <a:lnTo>
                    <a:pt x="2713" y="707"/>
                  </a:lnTo>
                  <a:lnTo>
                    <a:pt x="2755" y="696"/>
                  </a:lnTo>
                  <a:lnTo>
                    <a:pt x="2788" y="680"/>
                  </a:lnTo>
                  <a:lnTo>
                    <a:pt x="2821" y="653"/>
                  </a:lnTo>
                  <a:lnTo>
                    <a:pt x="2836" y="626"/>
                  </a:lnTo>
                  <a:lnTo>
                    <a:pt x="2843" y="588"/>
                  </a:lnTo>
                  <a:lnTo>
                    <a:pt x="2845" y="553"/>
                  </a:lnTo>
                  <a:lnTo>
                    <a:pt x="2834" y="508"/>
                  </a:lnTo>
                  <a:lnTo>
                    <a:pt x="2815" y="478"/>
                  </a:lnTo>
                  <a:lnTo>
                    <a:pt x="2791" y="446"/>
                  </a:lnTo>
                  <a:lnTo>
                    <a:pt x="2768" y="415"/>
                  </a:lnTo>
                  <a:lnTo>
                    <a:pt x="2764" y="383"/>
                  </a:lnTo>
                  <a:lnTo>
                    <a:pt x="2754" y="362"/>
                  </a:lnTo>
                  <a:lnTo>
                    <a:pt x="2733" y="346"/>
                  </a:lnTo>
                  <a:lnTo>
                    <a:pt x="2756" y="321"/>
                  </a:lnTo>
                  <a:lnTo>
                    <a:pt x="2755" y="297"/>
                  </a:lnTo>
                  <a:lnTo>
                    <a:pt x="2748" y="270"/>
                  </a:lnTo>
                  <a:lnTo>
                    <a:pt x="2735" y="249"/>
                  </a:lnTo>
                  <a:lnTo>
                    <a:pt x="2744" y="217"/>
                  </a:lnTo>
                  <a:lnTo>
                    <a:pt x="2750" y="190"/>
                  </a:lnTo>
                  <a:lnTo>
                    <a:pt x="2763" y="136"/>
                  </a:lnTo>
                  <a:lnTo>
                    <a:pt x="2741" y="82"/>
                  </a:lnTo>
                  <a:lnTo>
                    <a:pt x="2703" y="45"/>
                  </a:lnTo>
                  <a:lnTo>
                    <a:pt x="2661" y="33"/>
                  </a:lnTo>
                  <a:lnTo>
                    <a:pt x="2586" y="15"/>
                  </a:lnTo>
                  <a:lnTo>
                    <a:pt x="2525" y="2"/>
                  </a:lnTo>
                  <a:lnTo>
                    <a:pt x="2475" y="0"/>
                  </a:lnTo>
                  <a:lnTo>
                    <a:pt x="2427" y="12"/>
                  </a:lnTo>
                  <a:lnTo>
                    <a:pt x="2346" y="50"/>
                  </a:lnTo>
                  <a:lnTo>
                    <a:pt x="2320" y="55"/>
                  </a:lnTo>
                  <a:lnTo>
                    <a:pt x="2278" y="58"/>
                  </a:lnTo>
                  <a:lnTo>
                    <a:pt x="2211" y="55"/>
                  </a:lnTo>
                  <a:lnTo>
                    <a:pt x="2175" y="47"/>
                  </a:lnTo>
                  <a:lnTo>
                    <a:pt x="2127" y="29"/>
                  </a:lnTo>
                  <a:lnTo>
                    <a:pt x="2066" y="12"/>
                  </a:lnTo>
                  <a:lnTo>
                    <a:pt x="2033" y="15"/>
                  </a:lnTo>
                  <a:lnTo>
                    <a:pt x="2011" y="24"/>
                  </a:lnTo>
                  <a:lnTo>
                    <a:pt x="1997" y="43"/>
                  </a:lnTo>
                  <a:lnTo>
                    <a:pt x="1997" y="72"/>
                  </a:lnTo>
                  <a:lnTo>
                    <a:pt x="2013" y="104"/>
                  </a:lnTo>
                  <a:lnTo>
                    <a:pt x="2057" y="157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422760" y="3997800"/>
              <a:ext cx="467280" cy="1056600"/>
            </a:xfrm>
            <a:custGeom>
              <a:avLst/>
              <a:gdLst/>
              <a:ahLst/>
              <a:rect l="l" t="t" r="r" b="b"/>
              <a:pathLst>
                <a:path w="332" h="722">
                  <a:moveTo>
                    <a:pt x="112" y="24"/>
                  </a:moveTo>
                  <a:lnTo>
                    <a:pt x="94" y="185"/>
                  </a:lnTo>
                  <a:lnTo>
                    <a:pt x="67" y="263"/>
                  </a:lnTo>
                  <a:lnTo>
                    <a:pt x="36" y="327"/>
                  </a:lnTo>
                  <a:lnTo>
                    <a:pt x="11" y="396"/>
                  </a:lnTo>
                  <a:lnTo>
                    <a:pt x="0" y="484"/>
                  </a:lnTo>
                  <a:lnTo>
                    <a:pt x="2" y="546"/>
                  </a:lnTo>
                  <a:lnTo>
                    <a:pt x="22" y="646"/>
                  </a:lnTo>
                  <a:lnTo>
                    <a:pt x="29" y="702"/>
                  </a:lnTo>
                  <a:lnTo>
                    <a:pt x="68" y="715"/>
                  </a:lnTo>
                  <a:lnTo>
                    <a:pt x="117" y="722"/>
                  </a:lnTo>
                  <a:lnTo>
                    <a:pt x="164" y="713"/>
                  </a:lnTo>
                  <a:lnTo>
                    <a:pt x="202" y="699"/>
                  </a:lnTo>
                  <a:lnTo>
                    <a:pt x="214" y="675"/>
                  </a:lnTo>
                  <a:lnTo>
                    <a:pt x="184" y="600"/>
                  </a:lnTo>
                  <a:lnTo>
                    <a:pt x="164" y="500"/>
                  </a:lnTo>
                  <a:lnTo>
                    <a:pt x="155" y="409"/>
                  </a:lnTo>
                  <a:lnTo>
                    <a:pt x="161" y="330"/>
                  </a:lnTo>
                  <a:lnTo>
                    <a:pt x="229" y="223"/>
                  </a:lnTo>
                  <a:lnTo>
                    <a:pt x="296" y="91"/>
                  </a:lnTo>
                  <a:lnTo>
                    <a:pt x="332" y="0"/>
                  </a:lnTo>
                  <a:lnTo>
                    <a:pt x="112" y="24"/>
                  </a:lnTo>
                  <a:close/>
                </a:path>
              </a:pathLst>
            </a:custGeom>
            <a:gradFill rotWithShape="0">
              <a:gsLst>
                <a:gs pos="0">
                  <a:srgbClr val="493a2b"/>
                </a:gs>
                <a:gs pos="50000">
                  <a:srgbClr val="9f7f5f"/>
                </a:gs>
                <a:gs pos="100000">
                  <a:srgbClr val="493a2b"/>
                </a:gs>
              </a:gsLst>
              <a:lin ang="108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04640" y="3655080"/>
              <a:ext cx="1596600" cy="774360"/>
            </a:xfrm>
            <a:custGeom>
              <a:avLst/>
              <a:gdLst/>
              <a:ahLst/>
              <a:rect l="l" t="t" r="r" b="b"/>
              <a:pathLst>
                <a:path w="1134" h="529">
                  <a:moveTo>
                    <a:pt x="0" y="476"/>
                  </a:moveTo>
                  <a:lnTo>
                    <a:pt x="24" y="487"/>
                  </a:lnTo>
                  <a:lnTo>
                    <a:pt x="51" y="494"/>
                  </a:lnTo>
                  <a:lnTo>
                    <a:pt x="66" y="518"/>
                  </a:lnTo>
                  <a:lnTo>
                    <a:pt x="79" y="529"/>
                  </a:lnTo>
                  <a:lnTo>
                    <a:pt x="98" y="524"/>
                  </a:lnTo>
                  <a:lnTo>
                    <a:pt x="98" y="500"/>
                  </a:lnTo>
                  <a:lnTo>
                    <a:pt x="98" y="476"/>
                  </a:lnTo>
                  <a:lnTo>
                    <a:pt x="141" y="473"/>
                  </a:lnTo>
                  <a:lnTo>
                    <a:pt x="157" y="484"/>
                  </a:lnTo>
                  <a:lnTo>
                    <a:pt x="184" y="510"/>
                  </a:lnTo>
                  <a:lnTo>
                    <a:pt x="202" y="511"/>
                  </a:lnTo>
                  <a:lnTo>
                    <a:pt x="221" y="505"/>
                  </a:lnTo>
                  <a:lnTo>
                    <a:pt x="213" y="476"/>
                  </a:lnTo>
                  <a:lnTo>
                    <a:pt x="203" y="443"/>
                  </a:lnTo>
                  <a:lnTo>
                    <a:pt x="229" y="430"/>
                  </a:lnTo>
                  <a:lnTo>
                    <a:pt x="260" y="419"/>
                  </a:lnTo>
                  <a:lnTo>
                    <a:pt x="287" y="399"/>
                  </a:lnTo>
                  <a:lnTo>
                    <a:pt x="313" y="373"/>
                  </a:lnTo>
                  <a:lnTo>
                    <a:pt x="329" y="344"/>
                  </a:lnTo>
                  <a:lnTo>
                    <a:pt x="334" y="325"/>
                  </a:lnTo>
                  <a:lnTo>
                    <a:pt x="400" y="337"/>
                  </a:lnTo>
                  <a:lnTo>
                    <a:pt x="452" y="347"/>
                  </a:lnTo>
                  <a:lnTo>
                    <a:pt x="505" y="352"/>
                  </a:lnTo>
                  <a:lnTo>
                    <a:pt x="568" y="357"/>
                  </a:lnTo>
                  <a:lnTo>
                    <a:pt x="637" y="355"/>
                  </a:lnTo>
                  <a:lnTo>
                    <a:pt x="726" y="347"/>
                  </a:lnTo>
                  <a:lnTo>
                    <a:pt x="885" y="304"/>
                  </a:lnTo>
                  <a:lnTo>
                    <a:pt x="965" y="271"/>
                  </a:lnTo>
                  <a:lnTo>
                    <a:pt x="1054" y="236"/>
                  </a:lnTo>
                  <a:lnTo>
                    <a:pt x="1134" y="193"/>
                  </a:lnTo>
                  <a:lnTo>
                    <a:pt x="1134" y="0"/>
                  </a:lnTo>
                  <a:lnTo>
                    <a:pt x="11" y="0"/>
                  </a:lnTo>
                  <a:lnTo>
                    <a:pt x="0" y="476"/>
                  </a:lnTo>
                  <a:close/>
                </a:path>
              </a:pathLst>
            </a:custGeom>
            <a:gradFill rotWithShape="0">
              <a:gsLst>
                <a:gs pos="0">
                  <a:srgbClr val="9f7f5f"/>
                </a:gs>
                <a:gs pos="100000">
                  <a:srgbClr val="493a2b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14840" y="2322000"/>
              <a:ext cx="2202120" cy="3013560"/>
            </a:xfrm>
            <a:custGeom>
              <a:avLst/>
              <a:gdLst/>
              <a:ahLst/>
              <a:rect l="l" t="t" r="r" b="b"/>
              <a:pathLst>
                <a:path w="1564" h="2059">
                  <a:moveTo>
                    <a:pt x="0" y="1866"/>
                  </a:moveTo>
                  <a:lnTo>
                    <a:pt x="22" y="2059"/>
                  </a:lnTo>
                  <a:lnTo>
                    <a:pt x="129" y="2059"/>
                  </a:lnTo>
                  <a:lnTo>
                    <a:pt x="158" y="2045"/>
                  </a:lnTo>
                  <a:lnTo>
                    <a:pt x="99" y="1916"/>
                  </a:lnTo>
                  <a:lnTo>
                    <a:pt x="96" y="1741"/>
                  </a:lnTo>
                  <a:lnTo>
                    <a:pt x="122" y="1635"/>
                  </a:lnTo>
                  <a:lnTo>
                    <a:pt x="150" y="1539"/>
                  </a:lnTo>
                  <a:lnTo>
                    <a:pt x="239" y="1326"/>
                  </a:lnTo>
                  <a:lnTo>
                    <a:pt x="291" y="1244"/>
                  </a:lnTo>
                  <a:lnTo>
                    <a:pt x="388" y="1177"/>
                  </a:lnTo>
                  <a:lnTo>
                    <a:pt x="488" y="1105"/>
                  </a:lnTo>
                  <a:lnTo>
                    <a:pt x="538" y="1098"/>
                  </a:lnTo>
                  <a:lnTo>
                    <a:pt x="627" y="1139"/>
                  </a:lnTo>
                  <a:lnTo>
                    <a:pt x="689" y="1170"/>
                  </a:lnTo>
                  <a:lnTo>
                    <a:pt x="753" y="1184"/>
                  </a:lnTo>
                  <a:lnTo>
                    <a:pt x="825" y="1187"/>
                  </a:lnTo>
                  <a:lnTo>
                    <a:pt x="894" y="1175"/>
                  </a:lnTo>
                  <a:lnTo>
                    <a:pt x="972" y="1143"/>
                  </a:lnTo>
                  <a:lnTo>
                    <a:pt x="1047" y="1091"/>
                  </a:lnTo>
                  <a:lnTo>
                    <a:pt x="1133" y="1041"/>
                  </a:lnTo>
                  <a:lnTo>
                    <a:pt x="1176" y="1019"/>
                  </a:lnTo>
                  <a:lnTo>
                    <a:pt x="1226" y="1127"/>
                  </a:lnTo>
                  <a:lnTo>
                    <a:pt x="1235" y="1156"/>
                  </a:lnTo>
                  <a:lnTo>
                    <a:pt x="1219" y="1234"/>
                  </a:lnTo>
                  <a:lnTo>
                    <a:pt x="1204" y="1284"/>
                  </a:lnTo>
                  <a:lnTo>
                    <a:pt x="1184" y="1332"/>
                  </a:lnTo>
                  <a:lnTo>
                    <a:pt x="1170" y="1377"/>
                  </a:lnTo>
                  <a:lnTo>
                    <a:pt x="1161" y="1442"/>
                  </a:lnTo>
                  <a:lnTo>
                    <a:pt x="1147" y="1572"/>
                  </a:lnTo>
                  <a:lnTo>
                    <a:pt x="1154" y="1708"/>
                  </a:lnTo>
                  <a:lnTo>
                    <a:pt x="1154" y="1837"/>
                  </a:lnTo>
                  <a:lnTo>
                    <a:pt x="1161" y="1866"/>
                  </a:lnTo>
                  <a:lnTo>
                    <a:pt x="1181" y="1929"/>
                  </a:lnTo>
                  <a:lnTo>
                    <a:pt x="1216" y="1927"/>
                  </a:lnTo>
                  <a:lnTo>
                    <a:pt x="1255" y="1917"/>
                  </a:lnTo>
                  <a:lnTo>
                    <a:pt x="1297" y="1893"/>
                  </a:lnTo>
                  <a:lnTo>
                    <a:pt x="1204" y="1694"/>
                  </a:lnTo>
                  <a:lnTo>
                    <a:pt x="1194" y="1645"/>
                  </a:lnTo>
                  <a:lnTo>
                    <a:pt x="1197" y="1593"/>
                  </a:lnTo>
                  <a:lnTo>
                    <a:pt x="1240" y="1471"/>
                  </a:lnTo>
                  <a:lnTo>
                    <a:pt x="1301" y="1363"/>
                  </a:lnTo>
                  <a:lnTo>
                    <a:pt x="1362" y="1249"/>
                  </a:lnTo>
                  <a:lnTo>
                    <a:pt x="1455" y="1019"/>
                  </a:lnTo>
                  <a:lnTo>
                    <a:pt x="1555" y="733"/>
                  </a:lnTo>
                  <a:lnTo>
                    <a:pt x="1564" y="637"/>
                  </a:lnTo>
                  <a:lnTo>
                    <a:pt x="1548" y="554"/>
                  </a:lnTo>
                  <a:lnTo>
                    <a:pt x="1527" y="518"/>
                  </a:lnTo>
                  <a:lnTo>
                    <a:pt x="1546" y="473"/>
                  </a:lnTo>
                  <a:lnTo>
                    <a:pt x="1562" y="418"/>
                  </a:lnTo>
                  <a:lnTo>
                    <a:pt x="1557" y="371"/>
                  </a:lnTo>
                  <a:lnTo>
                    <a:pt x="1527" y="324"/>
                  </a:lnTo>
                  <a:lnTo>
                    <a:pt x="1490" y="315"/>
                  </a:lnTo>
                  <a:lnTo>
                    <a:pt x="1449" y="328"/>
                  </a:lnTo>
                  <a:lnTo>
                    <a:pt x="1428" y="306"/>
                  </a:lnTo>
                  <a:lnTo>
                    <a:pt x="1405" y="281"/>
                  </a:lnTo>
                  <a:lnTo>
                    <a:pt x="1382" y="258"/>
                  </a:lnTo>
                  <a:lnTo>
                    <a:pt x="1363" y="226"/>
                  </a:lnTo>
                  <a:lnTo>
                    <a:pt x="1357" y="178"/>
                  </a:lnTo>
                  <a:lnTo>
                    <a:pt x="1385" y="121"/>
                  </a:lnTo>
                  <a:lnTo>
                    <a:pt x="1406" y="53"/>
                  </a:lnTo>
                  <a:lnTo>
                    <a:pt x="1407" y="0"/>
                  </a:lnTo>
                  <a:lnTo>
                    <a:pt x="1271" y="21"/>
                  </a:lnTo>
                  <a:lnTo>
                    <a:pt x="1153" y="42"/>
                  </a:lnTo>
                  <a:lnTo>
                    <a:pt x="1097" y="55"/>
                  </a:lnTo>
                  <a:lnTo>
                    <a:pt x="1124" y="110"/>
                  </a:lnTo>
                  <a:lnTo>
                    <a:pt x="1176" y="173"/>
                  </a:lnTo>
                  <a:lnTo>
                    <a:pt x="1181" y="247"/>
                  </a:lnTo>
                  <a:lnTo>
                    <a:pt x="1161" y="317"/>
                  </a:lnTo>
                  <a:lnTo>
                    <a:pt x="1183" y="432"/>
                  </a:lnTo>
                  <a:lnTo>
                    <a:pt x="1181" y="500"/>
                  </a:lnTo>
                  <a:lnTo>
                    <a:pt x="1161" y="561"/>
                  </a:lnTo>
                  <a:lnTo>
                    <a:pt x="1106" y="621"/>
                  </a:lnTo>
                  <a:lnTo>
                    <a:pt x="1067" y="699"/>
                  </a:lnTo>
                  <a:lnTo>
                    <a:pt x="1040" y="772"/>
                  </a:lnTo>
                  <a:lnTo>
                    <a:pt x="1014" y="838"/>
                  </a:lnTo>
                  <a:lnTo>
                    <a:pt x="968" y="883"/>
                  </a:lnTo>
                  <a:lnTo>
                    <a:pt x="882" y="876"/>
                  </a:lnTo>
                  <a:lnTo>
                    <a:pt x="800" y="840"/>
                  </a:lnTo>
                  <a:lnTo>
                    <a:pt x="748" y="782"/>
                  </a:lnTo>
                  <a:lnTo>
                    <a:pt x="718" y="707"/>
                  </a:lnTo>
                  <a:lnTo>
                    <a:pt x="725" y="632"/>
                  </a:lnTo>
                  <a:lnTo>
                    <a:pt x="732" y="582"/>
                  </a:lnTo>
                  <a:lnTo>
                    <a:pt x="674" y="525"/>
                  </a:lnTo>
                  <a:lnTo>
                    <a:pt x="639" y="410"/>
                  </a:lnTo>
                  <a:lnTo>
                    <a:pt x="638" y="339"/>
                  </a:lnTo>
                  <a:lnTo>
                    <a:pt x="617" y="281"/>
                  </a:lnTo>
                  <a:lnTo>
                    <a:pt x="571" y="244"/>
                  </a:lnTo>
                  <a:lnTo>
                    <a:pt x="509" y="217"/>
                  </a:lnTo>
                  <a:lnTo>
                    <a:pt x="442" y="195"/>
                  </a:lnTo>
                  <a:lnTo>
                    <a:pt x="396" y="190"/>
                  </a:lnTo>
                  <a:lnTo>
                    <a:pt x="359" y="202"/>
                  </a:lnTo>
                  <a:lnTo>
                    <a:pt x="353" y="236"/>
                  </a:lnTo>
                  <a:lnTo>
                    <a:pt x="366" y="273"/>
                  </a:lnTo>
                  <a:lnTo>
                    <a:pt x="407" y="301"/>
                  </a:lnTo>
                  <a:lnTo>
                    <a:pt x="460" y="339"/>
                  </a:lnTo>
                  <a:lnTo>
                    <a:pt x="418" y="360"/>
                  </a:lnTo>
                  <a:lnTo>
                    <a:pt x="374" y="375"/>
                  </a:lnTo>
                  <a:lnTo>
                    <a:pt x="316" y="389"/>
                  </a:lnTo>
                  <a:lnTo>
                    <a:pt x="291" y="417"/>
                  </a:lnTo>
                  <a:lnTo>
                    <a:pt x="283" y="457"/>
                  </a:lnTo>
                  <a:lnTo>
                    <a:pt x="281" y="546"/>
                  </a:lnTo>
                  <a:lnTo>
                    <a:pt x="239" y="597"/>
                  </a:lnTo>
                  <a:lnTo>
                    <a:pt x="156" y="672"/>
                  </a:lnTo>
                  <a:lnTo>
                    <a:pt x="110" y="734"/>
                  </a:lnTo>
                  <a:lnTo>
                    <a:pt x="84" y="797"/>
                  </a:lnTo>
                  <a:lnTo>
                    <a:pt x="92" y="892"/>
                  </a:lnTo>
                  <a:lnTo>
                    <a:pt x="108" y="1005"/>
                  </a:lnTo>
                  <a:lnTo>
                    <a:pt x="65" y="1249"/>
                  </a:lnTo>
                  <a:lnTo>
                    <a:pt x="0" y="1866"/>
                  </a:lnTo>
                  <a:close/>
                </a:path>
              </a:pathLst>
            </a:custGeom>
            <a:gradFill rotWithShape="0">
              <a:gsLst>
                <a:gs pos="0">
                  <a:srgbClr val="ffbf5f"/>
                </a:gs>
                <a:gs pos="100000">
                  <a:srgbClr val="75582b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8145000" y="2476800"/>
              <a:ext cx="216720" cy="128880"/>
              <a:chOff x="8145000" y="2476800"/>
              <a:chExt cx="216720" cy="128880"/>
            </a:xfrm>
          </p:grpSpPr>
          <p:sp>
            <p:nvSpPr>
              <p:cNvPr id="344" name=""/>
              <p:cNvSpPr/>
              <p:nvPr/>
            </p:nvSpPr>
            <p:spPr>
              <a:xfrm>
                <a:off x="8145000" y="2476800"/>
                <a:ext cx="216720" cy="128880"/>
              </a:xfrm>
              <a:custGeom>
                <a:avLst/>
                <a:gdLst/>
                <a:ahLst/>
                <a:rect l="l" t="t" r="r" b="b"/>
                <a:pathLst>
                  <a:path w="154" h="88">
                    <a:moveTo>
                      <a:pt x="0" y="18"/>
                    </a:moveTo>
                    <a:lnTo>
                      <a:pt x="25" y="6"/>
                    </a:lnTo>
                    <a:lnTo>
                      <a:pt x="60" y="0"/>
                    </a:lnTo>
                    <a:lnTo>
                      <a:pt x="100" y="6"/>
                    </a:lnTo>
                    <a:lnTo>
                      <a:pt x="120" y="22"/>
                    </a:lnTo>
                    <a:lnTo>
                      <a:pt x="132" y="36"/>
                    </a:lnTo>
                    <a:lnTo>
                      <a:pt x="146" y="65"/>
                    </a:lnTo>
                    <a:lnTo>
                      <a:pt x="154" y="83"/>
                    </a:lnTo>
                    <a:lnTo>
                      <a:pt x="114" y="88"/>
                    </a:lnTo>
                    <a:lnTo>
                      <a:pt x="74" y="81"/>
                    </a:lnTo>
                    <a:lnTo>
                      <a:pt x="36" y="70"/>
                    </a:lnTo>
                    <a:lnTo>
                      <a:pt x="10" y="43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192880" y="2504520"/>
                <a:ext cx="135000" cy="7884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0" y="10"/>
                    </a:moveTo>
                    <a:lnTo>
                      <a:pt x="15" y="3"/>
                    </a:lnTo>
                    <a:lnTo>
                      <a:pt x="37" y="0"/>
                    </a:lnTo>
                    <a:lnTo>
                      <a:pt x="62" y="3"/>
                    </a:lnTo>
                    <a:lnTo>
                      <a:pt x="76" y="13"/>
                    </a:lnTo>
                    <a:lnTo>
                      <a:pt x="83" y="22"/>
                    </a:lnTo>
                    <a:lnTo>
                      <a:pt x="92" y="41"/>
                    </a:lnTo>
                    <a:lnTo>
                      <a:pt x="96" y="52"/>
                    </a:lnTo>
                    <a:lnTo>
                      <a:pt x="71" y="54"/>
                    </a:lnTo>
                    <a:lnTo>
                      <a:pt x="46" y="51"/>
                    </a:lnTo>
                    <a:lnTo>
                      <a:pt x="22" y="43"/>
                    </a:lnTo>
                    <a:lnTo>
                      <a:pt x="6" y="2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d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232120" y="2513520"/>
                <a:ext cx="51840" cy="550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8352360" y="2169360"/>
              <a:ext cx="498240" cy="740520"/>
            </a:xfrm>
            <a:custGeom>
              <a:avLst/>
              <a:gdLst/>
              <a:ahLst/>
              <a:rect l="l" t="t" r="r" b="b"/>
              <a:pathLst>
                <a:path w="354" h="506">
                  <a:moveTo>
                    <a:pt x="32" y="8"/>
                  </a:moveTo>
                  <a:lnTo>
                    <a:pt x="59" y="0"/>
                  </a:lnTo>
                  <a:lnTo>
                    <a:pt x="91" y="11"/>
                  </a:lnTo>
                  <a:lnTo>
                    <a:pt x="131" y="27"/>
                  </a:lnTo>
                  <a:lnTo>
                    <a:pt x="155" y="65"/>
                  </a:lnTo>
                  <a:lnTo>
                    <a:pt x="169" y="94"/>
                  </a:lnTo>
                  <a:lnTo>
                    <a:pt x="191" y="100"/>
                  </a:lnTo>
                  <a:lnTo>
                    <a:pt x="214" y="121"/>
                  </a:lnTo>
                  <a:lnTo>
                    <a:pt x="226" y="132"/>
                  </a:lnTo>
                  <a:lnTo>
                    <a:pt x="236" y="153"/>
                  </a:lnTo>
                  <a:lnTo>
                    <a:pt x="228" y="186"/>
                  </a:lnTo>
                  <a:lnTo>
                    <a:pt x="206" y="218"/>
                  </a:lnTo>
                  <a:lnTo>
                    <a:pt x="223" y="245"/>
                  </a:lnTo>
                  <a:lnTo>
                    <a:pt x="230" y="285"/>
                  </a:lnTo>
                  <a:lnTo>
                    <a:pt x="292" y="376"/>
                  </a:lnTo>
                  <a:lnTo>
                    <a:pt x="324" y="418"/>
                  </a:lnTo>
                  <a:lnTo>
                    <a:pt x="343" y="461"/>
                  </a:lnTo>
                  <a:lnTo>
                    <a:pt x="354" y="506"/>
                  </a:lnTo>
                  <a:lnTo>
                    <a:pt x="324" y="498"/>
                  </a:lnTo>
                  <a:lnTo>
                    <a:pt x="284" y="501"/>
                  </a:lnTo>
                  <a:lnTo>
                    <a:pt x="228" y="506"/>
                  </a:lnTo>
                  <a:lnTo>
                    <a:pt x="198" y="501"/>
                  </a:lnTo>
                  <a:lnTo>
                    <a:pt x="112" y="436"/>
                  </a:lnTo>
                  <a:lnTo>
                    <a:pt x="50" y="363"/>
                  </a:lnTo>
                  <a:lnTo>
                    <a:pt x="40" y="309"/>
                  </a:lnTo>
                  <a:lnTo>
                    <a:pt x="50" y="245"/>
                  </a:lnTo>
                  <a:lnTo>
                    <a:pt x="58" y="196"/>
                  </a:lnTo>
                  <a:lnTo>
                    <a:pt x="48" y="164"/>
                  </a:lnTo>
                  <a:lnTo>
                    <a:pt x="24" y="151"/>
                  </a:lnTo>
                  <a:lnTo>
                    <a:pt x="13" y="121"/>
                  </a:lnTo>
                  <a:lnTo>
                    <a:pt x="0" y="78"/>
                  </a:lnTo>
                  <a:lnTo>
                    <a:pt x="5" y="43"/>
                  </a:lnTo>
                  <a:lnTo>
                    <a:pt x="14" y="19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ffbf1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741080" y="2154960"/>
              <a:ext cx="250560" cy="136080"/>
            </a:xfrm>
            <a:custGeom>
              <a:avLst/>
              <a:gdLst/>
              <a:ahLst/>
              <a:rect l="l" t="t" r="r" b="b"/>
              <a:pathLst>
                <a:path w="178" h="93">
                  <a:moveTo>
                    <a:pt x="133" y="34"/>
                  </a:moveTo>
                  <a:lnTo>
                    <a:pt x="72" y="8"/>
                  </a:lnTo>
                  <a:lnTo>
                    <a:pt x="13" y="0"/>
                  </a:lnTo>
                  <a:lnTo>
                    <a:pt x="0" y="12"/>
                  </a:lnTo>
                  <a:lnTo>
                    <a:pt x="8" y="38"/>
                  </a:lnTo>
                  <a:lnTo>
                    <a:pt x="46" y="77"/>
                  </a:lnTo>
                  <a:lnTo>
                    <a:pt x="82" y="93"/>
                  </a:lnTo>
                  <a:lnTo>
                    <a:pt x="120" y="77"/>
                  </a:lnTo>
                  <a:lnTo>
                    <a:pt x="156" y="58"/>
                  </a:lnTo>
                  <a:lnTo>
                    <a:pt x="178" y="58"/>
                  </a:lnTo>
                  <a:lnTo>
                    <a:pt x="133" y="34"/>
                  </a:lnTo>
                  <a:close/>
                </a:path>
              </a:pathLst>
            </a:custGeom>
            <a:solidFill>
              <a:srgbClr val="7f5f3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52840" y="3416400"/>
              <a:ext cx="544680" cy="503280"/>
            </a:xfrm>
            <a:custGeom>
              <a:avLst/>
              <a:gdLst/>
              <a:ahLst/>
              <a:rect l="l" t="t" r="r" b="b"/>
              <a:pathLst>
                <a:path w="387" h="344">
                  <a:moveTo>
                    <a:pt x="238" y="156"/>
                  </a:moveTo>
                  <a:lnTo>
                    <a:pt x="200" y="121"/>
                  </a:lnTo>
                  <a:lnTo>
                    <a:pt x="167" y="59"/>
                  </a:lnTo>
                  <a:lnTo>
                    <a:pt x="129" y="21"/>
                  </a:lnTo>
                  <a:lnTo>
                    <a:pt x="79" y="0"/>
                  </a:lnTo>
                  <a:lnTo>
                    <a:pt x="43" y="6"/>
                  </a:lnTo>
                  <a:lnTo>
                    <a:pt x="14" y="27"/>
                  </a:lnTo>
                  <a:lnTo>
                    <a:pt x="0" y="49"/>
                  </a:lnTo>
                  <a:lnTo>
                    <a:pt x="1" y="89"/>
                  </a:lnTo>
                  <a:lnTo>
                    <a:pt x="14" y="128"/>
                  </a:lnTo>
                  <a:lnTo>
                    <a:pt x="28" y="172"/>
                  </a:lnTo>
                  <a:lnTo>
                    <a:pt x="57" y="228"/>
                  </a:lnTo>
                  <a:lnTo>
                    <a:pt x="95" y="274"/>
                  </a:lnTo>
                  <a:lnTo>
                    <a:pt x="150" y="321"/>
                  </a:lnTo>
                  <a:lnTo>
                    <a:pt x="194" y="333"/>
                  </a:lnTo>
                  <a:lnTo>
                    <a:pt x="251" y="343"/>
                  </a:lnTo>
                  <a:lnTo>
                    <a:pt x="286" y="344"/>
                  </a:lnTo>
                  <a:lnTo>
                    <a:pt x="337" y="343"/>
                  </a:lnTo>
                  <a:lnTo>
                    <a:pt x="366" y="322"/>
                  </a:lnTo>
                  <a:lnTo>
                    <a:pt x="382" y="301"/>
                  </a:lnTo>
                  <a:lnTo>
                    <a:pt x="387" y="279"/>
                  </a:lnTo>
                  <a:lnTo>
                    <a:pt x="374" y="247"/>
                  </a:lnTo>
                  <a:lnTo>
                    <a:pt x="339" y="209"/>
                  </a:lnTo>
                  <a:lnTo>
                    <a:pt x="294" y="183"/>
                  </a:lnTo>
                  <a:lnTo>
                    <a:pt x="238" y="156"/>
                  </a:lnTo>
                  <a:close/>
                </a:path>
              </a:pathLst>
            </a:cu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8581680" y="2923200"/>
              <a:ext cx="250560" cy="138600"/>
              <a:chOff x="8581680" y="2923200"/>
              <a:chExt cx="250560" cy="138600"/>
            </a:xfrm>
          </p:grpSpPr>
          <p:sp>
            <p:nvSpPr>
              <p:cNvPr id="351" name=""/>
              <p:cNvSpPr/>
              <p:nvPr/>
            </p:nvSpPr>
            <p:spPr>
              <a:xfrm>
                <a:off x="8581680" y="3000600"/>
                <a:ext cx="237960" cy="61200"/>
              </a:xfrm>
              <a:custGeom>
                <a:avLst/>
                <a:gdLst/>
                <a:ahLst/>
                <a:rect l="l" t="t" r="r" b="b"/>
                <a:pathLst>
                  <a:path w="169" h="42">
                    <a:moveTo>
                      <a:pt x="169" y="8"/>
                    </a:moveTo>
                    <a:lnTo>
                      <a:pt x="118" y="0"/>
                    </a:lnTo>
                    <a:lnTo>
                      <a:pt x="75" y="10"/>
                    </a:lnTo>
                    <a:lnTo>
                      <a:pt x="51" y="17"/>
                    </a:lnTo>
                    <a:lnTo>
                      <a:pt x="16" y="23"/>
                    </a:lnTo>
                    <a:lnTo>
                      <a:pt x="0" y="34"/>
                    </a:lnTo>
                    <a:lnTo>
                      <a:pt x="51" y="42"/>
                    </a:lnTo>
                    <a:lnTo>
                      <a:pt x="97" y="42"/>
                    </a:lnTo>
                    <a:lnTo>
                      <a:pt x="137" y="28"/>
                    </a:lnTo>
                    <a:lnTo>
                      <a:pt x="169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609760" y="2931840"/>
                <a:ext cx="74160" cy="29160"/>
              </a:xfrm>
              <a:custGeom>
                <a:avLst/>
                <a:gdLst/>
                <a:ahLst/>
                <a:rect l="l" t="t" r="r" b="b"/>
                <a:pathLst>
                  <a:path w="53" h="20">
                    <a:moveTo>
                      <a:pt x="40" y="1"/>
                    </a:moveTo>
                    <a:lnTo>
                      <a:pt x="12" y="0"/>
                    </a:lnTo>
                    <a:lnTo>
                      <a:pt x="0" y="4"/>
                    </a:lnTo>
                    <a:lnTo>
                      <a:pt x="6" y="15"/>
                    </a:lnTo>
                    <a:lnTo>
                      <a:pt x="28" y="20"/>
                    </a:lnTo>
                    <a:lnTo>
                      <a:pt x="53" y="18"/>
                    </a:lnTo>
                    <a:lnTo>
                      <a:pt x="40" y="1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790120" y="2923200"/>
                <a:ext cx="42120" cy="3060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7" y="1"/>
                    </a:moveTo>
                    <a:lnTo>
                      <a:pt x="23" y="0"/>
                    </a:lnTo>
                    <a:lnTo>
                      <a:pt x="30" y="5"/>
                    </a:lnTo>
                    <a:lnTo>
                      <a:pt x="27" y="15"/>
                    </a:lnTo>
                    <a:lnTo>
                      <a:pt x="14" y="21"/>
                    </a:lnTo>
                    <a:lnTo>
                      <a:pt x="0" y="18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8001720" y="1828800"/>
              <a:ext cx="376920" cy="408240"/>
              <a:chOff x="8001720" y="1828800"/>
              <a:chExt cx="376920" cy="408240"/>
            </a:xfrm>
          </p:grpSpPr>
          <p:sp>
            <p:nvSpPr>
              <p:cNvPr id="355" name=""/>
              <p:cNvSpPr/>
              <p:nvPr/>
            </p:nvSpPr>
            <p:spPr>
              <a:xfrm>
                <a:off x="8001720" y="1828800"/>
                <a:ext cx="376920" cy="408240"/>
              </a:xfrm>
              <a:custGeom>
                <a:avLst/>
                <a:gdLst/>
                <a:ahLst/>
                <a:rect l="l" t="t" r="r" b="b"/>
                <a:pathLst>
                  <a:path w="268" h="279">
                    <a:moveTo>
                      <a:pt x="40" y="249"/>
                    </a:moveTo>
                    <a:lnTo>
                      <a:pt x="16" y="198"/>
                    </a:lnTo>
                    <a:lnTo>
                      <a:pt x="2" y="150"/>
                    </a:lnTo>
                    <a:lnTo>
                      <a:pt x="0" y="120"/>
                    </a:lnTo>
                    <a:lnTo>
                      <a:pt x="10" y="94"/>
                    </a:lnTo>
                    <a:lnTo>
                      <a:pt x="32" y="75"/>
                    </a:lnTo>
                    <a:lnTo>
                      <a:pt x="54" y="66"/>
                    </a:lnTo>
                    <a:lnTo>
                      <a:pt x="75" y="64"/>
                    </a:lnTo>
                    <a:lnTo>
                      <a:pt x="131" y="59"/>
                    </a:lnTo>
                    <a:lnTo>
                      <a:pt x="169" y="51"/>
                    </a:lnTo>
                    <a:lnTo>
                      <a:pt x="217" y="29"/>
                    </a:lnTo>
                    <a:lnTo>
                      <a:pt x="268" y="0"/>
                    </a:lnTo>
                    <a:lnTo>
                      <a:pt x="249" y="34"/>
                    </a:lnTo>
                    <a:lnTo>
                      <a:pt x="233" y="60"/>
                    </a:lnTo>
                    <a:lnTo>
                      <a:pt x="213" y="74"/>
                    </a:lnTo>
                    <a:lnTo>
                      <a:pt x="196" y="87"/>
                    </a:lnTo>
                    <a:lnTo>
                      <a:pt x="171" y="103"/>
                    </a:lnTo>
                    <a:lnTo>
                      <a:pt x="145" y="126"/>
                    </a:lnTo>
                    <a:lnTo>
                      <a:pt x="135" y="143"/>
                    </a:lnTo>
                    <a:lnTo>
                      <a:pt x="126" y="161"/>
                    </a:lnTo>
                    <a:lnTo>
                      <a:pt x="123" y="176"/>
                    </a:lnTo>
                    <a:lnTo>
                      <a:pt x="126" y="193"/>
                    </a:lnTo>
                    <a:lnTo>
                      <a:pt x="139" y="209"/>
                    </a:lnTo>
                    <a:lnTo>
                      <a:pt x="166" y="222"/>
                    </a:lnTo>
                    <a:lnTo>
                      <a:pt x="155" y="249"/>
                    </a:lnTo>
                    <a:lnTo>
                      <a:pt x="123" y="271"/>
                    </a:lnTo>
                    <a:lnTo>
                      <a:pt x="101" y="279"/>
                    </a:lnTo>
                    <a:lnTo>
                      <a:pt x="75" y="274"/>
                    </a:lnTo>
                    <a:lnTo>
                      <a:pt x="40" y="249"/>
                    </a:lnTo>
                    <a:close/>
                  </a:path>
                </a:pathLst>
              </a:custGeom>
              <a:solidFill>
                <a:srgbClr val="bf7f1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049240" y="1929600"/>
                <a:ext cx="241920" cy="289440"/>
              </a:xfrm>
              <a:custGeom>
                <a:avLst/>
                <a:gdLst/>
                <a:ahLst/>
                <a:rect l="l" t="t" r="r" b="b"/>
                <a:pathLst>
                  <a:path w="172" h="198">
                    <a:moveTo>
                      <a:pt x="26" y="163"/>
                    </a:moveTo>
                    <a:lnTo>
                      <a:pt x="9" y="130"/>
                    </a:lnTo>
                    <a:lnTo>
                      <a:pt x="1" y="98"/>
                    </a:lnTo>
                    <a:lnTo>
                      <a:pt x="0" y="79"/>
                    </a:lnTo>
                    <a:lnTo>
                      <a:pt x="6" y="61"/>
                    </a:lnTo>
                    <a:lnTo>
                      <a:pt x="20" y="49"/>
                    </a:lnTo>
                    <a:lnTo>
                      <a:pt x="35" y="43"/>
                    </a:lnTo>
                    <a:lnTo>
                      <a:pt x="48" y="42"/>
                    </a:lnTo>
                    <a:lnTo>
                      <a:pt x="85" y="39"/>
                    </a:lnTo>
                    <a:lnTo>
                      <a:pt x="109" y="33"/>
                    </a:lnTo>
                    <a:lnTo>
                      <a:pt x="140" y="19"/>
                    </a:lnTo>
                    <a:lnTo>
                      <a:pt x="172" y="0"/>
                    </a:lnTo>
                    <a:lnTo>
                      <a:pt x="158" y="17"/>
                    </a:lnTo>
                    <a:lnTo>
                      <a:pt x="139" y="33"/>
                    </a:lnTo>
                    <a:lnTo>
                      <a:pt x="131" y="41"/>
                    </a:lnTo>
                    <a:lnTo>
                      <a:pt x="115" y="50"/>
                    </a:lnTo>
                    <a:lnTo>
                      <a:pt x="104" y="62"/>
                    </a:lnTo>
                    <a:lnTo>
                      <a:pt x="93" y="83"/>
                    </a:lnTo>
                    <a:lnTo>
                      <a:pt x="86" y="93"/>
                    </a:lnTo>
                    <a:lnTo>
                      <a:pt x="84" y="108"/>
                    </a:lnTo>
                    <a:lnTo>
                      <a:pt x="85" y="115"/>
                    </a:lnTo>
                    <a:lnTo>
                      <a:pt x="86" y="124"/>
                    </a:lnTo>
                    <a:lnTo>
                      <a:pt x="94" y="134"/>
                    </a:lnTo>
                    <a:lnTo>
                      <a:pt x="128" y="156"/>
                    </a:lnTo>
                    <a:lnTo>
                      <a:pt x="119" y="179"/>
                    </a:lnTo>
                    <a:lnTo>
                      <a:pt x="95" y="191"/>
                    </a:lnTo>
                    <a:lnTo>
                      <a:pt x="73" y="198"/>
                    </a:lnTo>
                    <a:lnTo>
                      <a:pt x="48" y="179"/>
                    </a:lnTo>
                    <a:lnTo>
                      <a:pt x="26" y="163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8564760" y="1854720"/>
              <a:ext cx="293040" cy="364320"/>
              <a:chOff x="8564760" y="1854720"/>
              <a:chExt cx="293040" cy="364320"/>
            </a:xfrm>
          </p:grpSpPr>
          <p:sp>
            <p:nvSpPr>
              <p:cNvPr id="358" name=""/>
              <p:cNvSpPr/>
              <p:nvPr/>
            </p:nvSpPr>
            <p:spPr>
              <a:xfrm>
                <a:off x="8564760" y="1854720"/>
                <a:ext cx="293040" cy="364320"/>
              </a:xfrm>
              <a:custGeom>
                <a:avLst/>
                <a:gdLst/>
                <a:ahLst/>
                <a:rect l="l" t="t" r="r" b="b"/>
                <a:pathLst>
                  <a:path w="208" h="249">
                    <a:moveTo>
                      <a:pt x="101" y="0"/>
                    </a:moveTo>
                    <a:lnTo>
                      <a:pt x="133" y="16"/>
                    </a:lnTo>
                    <a:lnTo>
                      <a:pt x="165" y="33"/>
                    </a:lnTo>
                    <a:lnTo>
                      <a:pt x="198" y="62"/>
                    </a:lnTo>
                    <a:lnTo>
                      <a:pt x="208" y="93"/>
                    </a:lnTo>
                    <a:lnTo>
                      <a:pt x="208" y="119"/>
                    </a:lnTo>
                    <a:lnTo>
                      <a:pt x="200" y="144"/>
                    </a:lnTo>
                    <a:lnTo>
                      <a:pt x="181" y="169"/>
                    </a:lnTo>
                    <a:lnTo>
                      <a:pt x="146" y="195"/>
                    </a:lnTo>
                    <a:lnTo>
                      <a:pt x="117" y="226"/>
                    </a:lnTo>
                    <a:lnTo>
                      <a:pt x="104" y="247"/>
                    </a:lnTo>
                    <a:lnTo>
                      <a:pt x="79" y="249"/>
                    </a:lnTo>
                    <a:lnTo>
                      <a:pt x="42" y="233"/>
                    </a:lnTo>
                    <a:lnTo>
                      <a:pt x="12" y="209"/>
                    </a:lnTo>
                    <a:lnTo>
                      <a:pt x="0" y="179"/>
                    </a:lnTo>
                    <a:lnTo>
                      <a:pt x="15" y="166"/>
                    </a:lnTo>
                    <a:lnTo>
                      <a:pt x="69" y="157"/>
                    </a:lnTo>
                    <a:lnTo>
                      <a:pt x="93" y="143"/>
                    </a:lnTo>
                    <a:lnTo>
                      <a:pt x="114" y="119"/>
                    </a:lnTo>
                    <a:lnTo>
                      <a:pt x="120" y="85"/>
                    </a:lnTo>
                    <a:lnTo>
                      <a:pt x="120" y="45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bf7f1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620920" y="1917720"/>
                <a:ext cx="231840" cy="299880"/>
              </a:xfrm>
              <a:custGeom>
                <a:avLst/>
                <a:gdLst/>
                <a:ahLst/>
                <a:rect l="l" t="t" r="r" b="b"/>
                <a:pathLst>
                  <a:path w="165" h="205">
                    <a:moveTo>
                      <a:pt x="108" y="0"/>
                    </a:moveTo>
                    <a:lnTo>
                      <a:pt x="133" y="18"/>
                    </a:lnTo>
                    <a:lnTo>
                      <a:pt x="153" y="32"/>
                    </a:lnTo>
                    <a:lnTo>
                      <a:pt x="165" y="59"/>
                    </a:lnTo>
                    <a:lnTo>
                      <a:pt x="162" y="84"/>
                    </a:lnTo>
                    <a:lnTo>
                      <a:pt x="147" y="112"/>
                    </a:lnTo>
                    <a:lnTo>
                      <a:pt x="125" y="134"/>
                    </a:lnTo>
                    <a:lnTo>
                      <a:pt x="98" y="160"/>
                    </a:lnTo>
                    <a:lnTo>
                      <a:pt x="83" y="179"/>
                    </a:lnTo>
                    <a:lnTo>
                      <a:pt x="62" y="202"/>
                    </a:lnTo>
                    <a:lnTo>
                      <a:pt x="40" y="205"/>
                    </a:lnTo>
                    <a:lnTo>
                      <a:pt x="19" y="194"/>
                    </a:lnTo>
                    <a:lnTo>
                      <a:pt x="4" y="179"/>
                    </a:lnTo>
                    <a:lnTo>
                      <a:pt x="0" y="161"/>
                    </a:lnTo>
                    <a:lnTo>
                      <a:pt x="17" y="148"/>
                    </a:lnTo>
                    <a:lnTo>
                      <a:pt x="48" y="141"/>
                    </a:lnTo>
                    <a:lnTo>
                      <a:pt x="67" y="129"/>
                    </a:lnTo>
                    <a:lnTo>
                      <a:pt x="94" y="112"/>
                    </a:lnTo>
                    <a:lnTo>
                      <a:pt x="112" y="84"/>
                    </a:lnTo>
                    <a:lnTo>
                      <a:pt x="125" y="51"/>
                    </a:lnTo>
                    <a:lnTo>
                      <a:pt x="120" y="27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8218440" y="2744640"/>
              <a:ext cx="143280" cy="188640"/>
            </a:xfrm>
            <a:custGeom>
              <a:avLst/>
              <a:gdLst/>
              <a:ahLst/>
              <a:rect l="l" t="t" r="r" b="b"/>
              <a:pathLst>
                <a:path w="102" h="129">
                  <a:moveTo>
                    <a:pt x="102" y="129"/>
                  </a:moveTo>
                  <a:lnTo>
                    <a:pt x="54" y="78"/>
                  </a:lnTo>
                  <a:lnTo>
                    <a:pt x="19" y="33"/>
                  </a:lnTo>
                  <a:lnTo>
                    <a:pt x="0" y="0"/>
                  </a:lnTo>
                  <a:lnTo>
                    <a:pt x="102" y="12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99200" y="3708000"/>
              <a:ext cx="91440" cy="1416600"/>
            </a:xfrm>
            <a:custGeom>
              <a:avLst/>
              <a:gdLst/>
              <a:ahLst/>
              <a:rect l="l" t="t" r="r" b="b"/>
              <a:pathLst>
                <a:path w="65" h="968">
                  <a:moveTo>
                    <a:pt x="65" y="968"/>
                  </a:moveTo>
                  <a:lnTo>
                    <a:pt x="49" y="785"/>
                  </a:lnTo>
                  <a:lnTo>
                    <a:pt x="27" y="656"/>
                  </a:lnTo>
                  <a:lnTo>
                    <a:pt x="0" y="532"/>
                  </a:lnTo>
                  <a:lnTo>
                    <a:pt x="43" y="371"/>
                  </a:lnTo>
                  <a:lnTo>
                    <a:pt x="38" y="123"/>
                  </a:lnTo>
                  <a:lnTo>
                    <a:pt x="2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5037480" y="2440440"/>
              <a:ext cx="499680" cy="2161080"/>
              <a:chOff x="5037480" y="2440440"/>
              <a:chExt cx="499680" cy="2161080"/>
            </a:xfrm>
          </p:grpSpPr>
          <p:sp>
            <p:nvSpPr>
              <p:cNvPr id="363" name=""/>
              <p:cNvSpPr/>
              <p:nvPr/>
            </p:nvSpPr>
            <p:spPr>
              <a:xfrm>
                <a:off x="5037480" y="2440440"/>
                <a:ext cx="499680" cy="1798560"/>
              </a:xfrm>
              <a:custGeom>
                <a:avLst/>
                <a:gdLst/>
                <a:ahLst/>
                <a:rect l="l" t="t" r="r" b="b"/>
                <a:pathLst>
                  <a:path w="355" h="1229">
                    <a:moveTo>
                      <a:pt x="355" y="14"/>
                    </a:moveTo>
                    <a:lnTo>
                      <a:pt x="291" y="5"/>
                    </a:lnTo>
                    <a:lnTo>
                      <a:pt x="242" y="0"/>
                    </a:lnTo>
                    <a:lnTo>
                      <a:pt x="206" y="6"/>
                    </a:lnTo>
                    <a:lnTo>
                      <a:pt x="170" y="15"/>
                    </a:lnTo>
                    <a:lnTo>
                      <a:pt x="137" y="31"/>
                    </a:lnTo>
                    <a:lnTo>
                      <a:pt x="98" y="63"/>
                    </a:lnTo>
                    <a:lnTo>
                      <a:pt x="76" y="92"/>
                    </a:lnTo>
                    <a:lnTo>
                      <a:pt x="54" y="124"/>
                    </a:lnTo>
                    <a:lnTo>
                      <a:pt x="37" y="162"/>
                    </a:lnTo>
                    <a:lnTo>
                      <a:pt x="22" y="208"/>
                    </a:lnTo>
                    <a:lnTo>
                      <a:pt x="8" y="260"/>
                    </a:lnTo>
                    <a:lnTo>
                      <a:pt x="1" y="314"/>
                    </a:lnTo>
                    <a:lnTo>
                      <a:pt x="0" y="415"/>
                    </a:lnTo>
                    <a:lnTo>
                      <a:pt x="27" y="601"/>
                    </a:lnTo>
                    <a:lnTo>
                      <a:pt x="86" y="794"/>
                    </a:lnTo>
                    <a:lnTo>
                      <a:pt x="124" y="1004"/>
                    </a:lnTo>
                    <a:lnTo>
                      <a:pt x="129" y="1100"/>
                    </a:lnTo>
                    <a:lnTo>
                      <a:pt x="113" y="1170"/>
                    </a:lnTo>
                    <a:lnTo>
                      <a:pt x="91" y="1229"/>
                    </a:lnTo>
                    <a:lnTo>
                      <a:pt x="156" y="1176"/>
                    </a:lnTo>
                    <a:lnTo>
                      <a:pt x="193" y="1219"/>
                    </a:lnTo>
                    <a:lnTo>
                      <a:pt x="150" y="993"/>
                    </a:lnTo>
                    <a:lnTo>
                      <a:pt x="112" y="760"/>
                    </a:lnTo>
                    <a:lnTo>
                      <a:pt x="70" y="563"/>
                    </a:lnTo>
                    <a:lnTo>
                      <a:pt x="54" y="380"/>
                    </a:lnTo>
                    <a:lnTo>
                      <a:pt x="75" y="268"/>
                    </a:lnTo>
                    <a:lnTo>
                      <a:pt x="102" y="143"/>
                    </a:lnTo>
                    <a:lnTo>
                      <a:pt x="134" y="79"/>
                    </a:lnTo>
                    <a:lnTo>
                      <a:pt x="183" y="41"/>
                    </a:lnTo>
                    <a:lnTo>
                      <a:pt x="263" y="30"/>
                    </a:lnTo>
                    <a:lnTo>
                      <a:pt x="355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140080" y="4156920"/>
                <a:ext cx="191520" cy="444600"/>
              </a:xfrm>
              <a:custGeom>
                <a:avLst/>
                <a:gdLst/>
                <a:ahLst/>
                <a:rect l="l" t="t" r="r" b="b"/>
                <a:pathLst>
                  <a:path w="136" h="304">
                    <a:moveTo>
                      <a:pt x="82" y="0"/>
                    </a:moveTo>
                    <a:lnTo>
                      <a:pt x="21" y="53"/>
                    </a:lnTo>
                    <a:lnTo>
                      <a:pt x="0" y="90"/>
                    </a:lnTo>
                    <a:lnTo>
                      <a:pt x="29" y="72"/>
                    </a:lnTo>
                    <a:lnTo>
                      <a:pt x="0" y="150"/>
                    </a:lnTo>
                    <a:lnTo>
                      <a:pt x="34" y="123"/>
                    </a:lnTo>
                    <a:lnTo>
                      <a:pt x="10" y="230"/>
                    </a:lnTo>
                    <a:lnTo>
                      <a:pt x="53" y="190"/>
                    </a:lnTo>
                    <a:lnTo>
                      <a:pt x="64" y="257"/>
                    </a:lnTo>
                    <a:lnTo>
                      <a:pt x="112" y="304"/>
                    </a:lnTo>
                    <a:lnTo>
                      <a:pt x="111" y="229"/>
                    </a:lnTo>
                    <a:lnTo>
                      <a:pt x="136" y="142"/>
                    </a:lnTo>
                    <a:lnTo>
                      <a:pt x="117" y="41"/>
                    </a:lnTo>
                    <a:lnTo>
                      <a:pt x="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114880" y="2465280"/>
                <a:ext cx="410760" cy="1722240"/>
              </a:xfrm>
              <a:custGeom>
                <a:avLst/>
                <a:gdLst/>
                <a:ahLst/>
                <a:rect l="l" t="t" r="r" b="b"/>
                <a:pathLst>
                  <a:path w="292" h="1177">
                    <a:moveTo>
                      <a:pt x="132" y="1177"/>
                    </a:moveTo>
                    <a:lnTo>
                      <a:pt x="125" y="938"/>
                    </a:lnTo>
                    <a:lnTo>
                      <a:pt x="87" y="723"/>
                    </a:lnTo>
                    <a:lnTo>
                      <a:pt x="67" y="596"/>
                    </a:lnTo>
                    <a:lnTo>
                      <a:pt x="55" y="486"/>
                    </a:lnTo>
                    <a:lnTo>
                      <a:pt x="51" y="378"/>
                    </a:lnTo>
                    <a:lnTo>
                      <a:pt x="61" y="282"/>
                    </a:lnTo>
                    <a:lnTo>
                      <a:pt x="77" y="196"/>
                    </a:lnTo>
                    <a:lnTo>
                      <a:pt x="96" y="131"/>
                    </a:lnTo>
                    <a:lnTo>
                      <a:pt x="120" y="91"/>
                    </a:lnTo>
                    <a:lnTo>
                      <a:pt x="150" y="63"/>
                    </a:lnTo>
                    <a:lnTo>
                      <a:pt x="187" y="39"/>
                    </a:lnTo>
                    <a:lnTo>
                      <a:pt x="233" y="19"/>
                    </a:lnTo>
                    <a:lnTo>
                      <a:pt x="292" y="0"/>
                    </a:lnTo>
                    <a:lnTo>
                      <a:pt x="227" y="3"/>
                    </a:lnTo>
                    <a:lnTo>
                      <a:pt x="181" y="8"/>
                    </a:lnTo>
                    <a:lnTo>
                      <a:pt x="128" y="22"/>
                    </a:lnTo>
                    <a:lnTo>
                      <a:pt x="88" y="47"/>
                    </a:lnTo>
                    <a:lnTo>
                      <a:pt x="63" y="78"/>
                    </a:lnTo>
                    <a:lnTo>
                      <a:pt x="44" y="115"/>
                    </a:lnTo>
                    <a:lnTo>
                      <a:pt x="24" y="195"/>
                    </a:lnTo>
                    <a:lnTo>
                      <a:pt x="10" y="271"/>
                    </a:lnTo>
                    <a:lnTo>
                      <a:pt x="0" y="340"/>
                    </a:lnTo>
                    <a:lnTo>
                      <a:pt x="1" y="422"/>
                    </a:lnTo>
                    <a:lnTo>
                      <a:pt x="5" y="494"/>
                    </a:lnTo>
                    <a:lnTo>
                      <a:pt x="23" y="594"/>
                    </a:lnTo>
                    <a:lnTo>
                      <a:pt x="55" y="734"/>
                    </a:lnTo>
                    <a:lnTo>
                      <a:pt x="93" y="971"/>
                    </a:lnTo>
                    <a:lnTo>
                      <a:pt x="132" y="117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6" name=""/>
          <p:cNvGrpSpPr/>
          <p:nvPr/>
        </p:nvGrpSpPr>
        <p:grpSpPr>
          <a:xfrm>
            <a:off x="3124080" y="3200400"/>
            <a:ext cx="4357440" cy="2376000"/>
            <a:chOff x="3124080" y="3200400"/>
            <a:chExt cx="4357440" cy="2376000"/>
          </a:xfrm>
        </p:grpSpPr>
        <p:sp>
          <p:nvSpPr>
            <p:cNvPr id="367" name=""/>
            <p:cNvSpPr/>
            <p:nvPr/>
          </p:nvSpPr>
          <p:spPr>
            <a:xfrm>
              <a:off x="4726440" y="3210840"/>
              <a:ext cx="63720" cy="6300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4" y="6"/>
                  </a:moveTo>
                  <a:lnTo>
                    <a:pt x="15" y="2"/>
                  </a:lnTo>
                  <a:lnTo>
                    <a:pt x="29" y="0"/>
                  </a:lnTo>
                  <a:lnTo>
                    <a:pt x="44" y="6"/>
                  </a:lnTo>
                  <a:lnTo>
                    <a:pt x="53" y="14"/>
                  </a:lnTo>
                  <a:lnTo>
                    <a:pt x="57" y="27"/>
                  </a:lnTo>
                  <a:lnTo>
                    <a:pt x="57" y="37"/>
                  </a:lnTo>
                  <a:lnTo>
                    <a:pt x="53" y="46"/>
                  </a:lnTo>
                  <a:lnTo>
                    <a:pt x="46" y="48"/>
                  </a:lnTo>
                  <a:lnTo>
                    <a:pt x="38" y="50"/>
                  </a:lnTo>
                  <a:lnTo>
                    <a:pt x="25" y="54"/>
                  </a:lnTo>
                  <a:lnTo>
                    <a:pt x="15" y="52"/>
                  </a:lnTo>
                  <a:lnTo>
                    <a:pt x="9" y="42"/>
                  </a:lnTo>
                  <a:lnTo>
                    <a:pt x="4" y="29"/>
                  </a:lnTo>
                  <a:lnTo>
                    <a:pt x="2" y="19"/>
                  </a:lnTo>
                  <a:lnTo>
                    <a:pt x="0" y="1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01320" y="3282480"/>
              <a:ext cx="53640" cy="5868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15" y="2"/>
                  </a:moveTo>
                  <a:lnTo>
                    <a:pt x="27" y="0"/>
                  </a:lnTo>
                  <a:lnTo>
                    <a:pt x="42" y="8"/>
                  </a:lnTo>
                  <a:lnTo>
                    <a:pt x="48" y="23"/>
                  </a:lnTo>
                  <a:lnTo>
                    <a:pt x="40" y="41"/>
                  </a:lnTo>
                  <a:lnTo>
                    <a:pt x="19" y="50"/>
                  </a:lnTo>
                  <a:lnTo>
                    <a:pt x="4" y="43"/>
                  </a:lnTo>
                  <a:lnTo>
                    <a:pt x="0" y="25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38680" y="3316680"/>
              <a:ext cx="62280" cy="179280"/>
            </a:xfrm>
            <a:custGeom>
              <a:avLst/>
              <a:gdLst/>
              <a:ahLst/>
              <a:rect l="l" t="t" r="r" b="b"/>
              <a:pathLst>
                <a:path w="56" h="153">
                  <a:moveTo>
                    <a:pt x="21" y="0"/>
                  </a:moveTo>
                  <a:lnTo>
                    <a:pt x="33" y="2"/>
                  </a:lnTo>
                  <a:lnTo>
                    <a:pt x="44" y="12"/>
                  </a:lnTo>
                  <a:lnTo>
                    <a:pt x="48" y="27"/>
                  </a:lnTo>
                  <a:lnTo>
                    <a:pt x="42" y="44"/>
                  </a:lnTo>
                  <a:lnTo>
                    <a:pt x="33" y="58"/>
                  </a:lnTo>
                  <a:lnTo>
                    <a:pt x="31" y="71"/>
                  </a:lnTo>
                  <a:lnTo>
                    <a:pt x="33" y="84"/>
                  </a:lnTo>
                  <a:lnTo>
                    <a:pt x="39" y="98"/>
                  </a:lnTo>
                  <a:lnTo>
                    <a:pt x="46" y="113"/>
                  </a:lnTo>
                  <a:lnTo>
                    <a:pt x="54" y="128"/>
                  </a:lnTo>
                  <a:lnTo>
                    <a:pt x="56" y="140"/>
                  </a:lnTo>
                  <a:lnTo>
                    <a:pt x="50" y="146"/>
                  </a:lnTo>
                  <a:lnTo>
                    <a:pt x="37" y="151"/>
                  </a:lnTo>
                  <a:lnTo>
                    <a:pt x="21" y="153"/>
                  </a:lnTo>
                  <a:lnTo>
                    <a:pt x="8" y="149"/>
                  </a:lnTo>
                  <a:lnTo>
                    <a:pt x="4" y="136"/>
                  </a:lnTo>
                  <a:lnTo>
                    <a:pt x="2" y="105"/>
                  </a:lnTo>
                  <a:lnTo>
                    <a:pt x="0" y="63"/>
                  </a:lnTo>
                  <a:lnTo>
                    <a:pt x="4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961520" y="3314160"/>
              <a:ext cx="69120" cy="112320"/>
            </a:xfrm>
            <a:custGeom>
              <a:avLst/>
              <a:gdLst/>
              <a:ahLst/>
              <a:rect l="l" t="t" r="r" b="b"/>
              <a:pathLst>
                <a:path w="62" h="96">
                  <a:moveTo>
                    <a:pt x="0" y="19"/>
                  </a:moveTo>
                  <a:lnTo>
                    <a:pt x="4" y="8"/>
                  </a:lnTo>
                  <a:lnTo>
                    <a:pt x="12" y="2"/>
                  </a:lnTo>
                  <a:lnTo>
                    <a:pt x="23" y="0"/>
                  </a:lnTo>
                  <a:lnTo>
                    <a:pt x="29" y="6"/>
                  </a:lnTo>
                  <a:lnTo>
                    <a:pt x="37" y="19"/>
                  </a:lnTo>
                  <a:lnTo>
                    <a:pt x="52" y="31"/>
                  </a:lnTo>
                  <a:lnTo>
                    <a:pt x="62" y="46"/>
                  </a:lnTo>
                  <a:lnTo>
                    <a:pt x="62" y="58"/>
                  </a:lnTo>
                  <a:lnTo>
                    <a:pt x="52" y="73"/>
                  </a:lnTo>
                  <a:lnTo>
                    <a:pt x="41" y="88"/>
                  </a:lnTo>
                  <a:lnTo>
                    <a:pt x="31" y="96"/>
                  </a:lnTo>
                  <a:lnTo>
                    <a:pt x="27" y="90"/>
                  </a:lnTo>
                  <a:lnTo>
                    <a:pt x="21" y="71"/>
                  </a:lnTo>
                  <a:lnTo>
                    <a:pt x="12" y="52"/>
                  </a:lnTo>
                  <a:lnTo>
                    <a:pt x="4" y="33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839480" y="3424680"/>
              <a:ext cx="74520" cy="193320"/>
            </a:xfrm>
            <a:custGeom>
              <a:avLst/>
              <a:gdLst/>
              <a:ahLst/>
              <a:rect l="l" t="t" r="r" b="b"/>
              <a:pathLst>
                <a:path w="67" h="165">
                  <a:moveTo>
                    <a:pt x="48" y="0"/>
                  </a:moveTo>
                  <a:lnTo>
                    <a:pt x="54" y="36"/>
                  </a:lnTo>
                  <a:lnTo>
                    <a:pt x="62" y="86"/>
                  </a:lnTo>
                  <a:lnTo>
                    <a:pt x="67" y="130"/>
                  </a:lnTo>
                  <a:lnTo>
                    <a:pt x="65" y="149"/>
                  </a:lnTo>
                  <a:lnTo>
                    <a:pt x="54" y="153"/>
                  </a:lnTo>
                  <a:lnTo>
                    <a:pt x="42" y="161"/>
                  </a:lnTo>
                  <a:lnTo>
                    <a:pt x="33" y="165"/>
                  </a:lnTo>
                  <a:lnTo>
                    <a:pt x="29" y="157"/>
                  </a:lnTo>
                  <a:lnTo>
                    <a:pt x="27" y="140"/>
                  </a:lnTo>
                  <a:lnTo>
                    <a:pt x="25" y="128"/>
                  </a:lnTo>
                  <a:lnTo>
                    <a:pt x="21" y="115"/>
                  </a:lnTo>
                  <a:lnTo>
                    <a:pt x="14" y="98"/>
                  </a:lnTo>
                  <a:lnTo>
                    <a:pt x="10" y="88"/>
                  </a:lnTo>
                  <a:lnTo>
                    <a:pt x="6" y="75"/>
                  </a:lnTo>
                  <a:lnTo>
                    <a:pt x="2" y="63"/>
                  </a:lnTo>
                  <a:lnTo>
                    <a:pt x="0" y="50"/>
                  </a:lnTo>
                  <a:lnTo>
                    <a:pt x="4" y="36"/>
                  </a:lnTo>
                  <a:lnTo>
                    <a:pt x="10" y="23"/>
                  </a:lnTo>
                  <a:lnTo>
                    <a:pt x="25" y="1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63320" y="3549960"/>
              <a:ext cx="41040" cy="61200"/>
            </a:xfrm>
            <a:custGeom>
              <a:avLst/>
              <a:gdLst/>
              <a:ahLst/>
              <a:rect l="l" t="t" r="r" b="b"/>
              <a:pathLst>
                <a:path w="37" h="52">
                  <a:moveTo>
                    <a:pt x="19" y="0"/>
                  </a:moveTo>
                  <a:lnTo>
                    <a:pt x="31" y="2"/>
                  </a:lnTo>
                  <a:lnTo>
                    <a:pt x="37" y="17"/>
                  </a:lnTo>
                  <a:lnTo>
                    <a:pt x="35" y="38"/>
                  </a:lnTo>
                  <a:lnTo>
                    <a:pt x="25" y="52"/>
                  </a:lnTo>
                  <a:lnTo>
                    <a:pt x="10" y="52"/>
                  </a:lnTo>
                  <a:lnTo>
                    <a:pt x="0" y="38"/>
                  </a:lnTo>
                  <a:lnTo>
                    <a:pt x="2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728600" y="3660480"/>
              <a:ext cx="131760" cy="221400"/>
            </a:xfrm>
            <a:custGeom>
              <a:avLst/>
              <a:gdLst/>
              <a:ahLst/>
              <a:rect l="l" t="t" r="r" b="b"/>
              <a:pathLst>
                <a:path w="118" h="189">
                  <a:moveTo>
                    <a:pt x="111" y="2"/>
                  </a:moveTo>
                  <a:lnTo>
                    <a:pt x="118" y="8"/>
                  </a:lnTo>
                  <a:lnTo>
                    <a:pt x="113" y="21"/>
                  </a:lnTo>
                  <a:lnTo>
                    <a:pt x="103" y="34"/>
                  </a:lnTo>
                  <a:lnTo>
                    <a:pt x="88" y="46"/>
                  </a:lnTo>
                  <a:lnTo>
                    <a:pt x="78" y="57"/>
                  </a:lnTo>
                  <a:lnTo>
                    <a:pt x="71" y="65"/>
                  </a:lnTo>
                  <a:lnTo>
                    <a:pt x="67" y="76"/>
                  </a:lnTo>
                  <a:lnTo>
                    <a:pt x="67" y="88"/>
                  </a:lnTo>
                  <a:lnTo>
                    <a:pt x="67" y="101"/>
                  </a:lnTo>
                  <a:lnTo>
                    <a:pt x="67" y="113"/>
                  </a:lnTo>
                  <a:lnTo>
                    <a:pt x="67" y="124"/>
                  </a:lnTo>
                  <a:lnTo>
                    <a:pt x="67" y="128"/>
                  </a:lnTo>
                  <a:lnTo>
                    <a:pt x="88" y="126"/>
                  </a:lnTo>
                  <a:lnTo>
                    <a:pt x="99" y="145"/>
                  </a:lnTo>
                  <a:lnTo>
                    <a:pt x="94" y="168"/>
                  </a:lnTo>
                  <a:lnTo>
                    <a:pt x="80" y="187"/>
                  </a:lnTo>
                  <a:lnTo>
                    <a:pt x="67" y="174"/>
                  </a:lnTo>
                  <a:lnTo>
                    <a:pt x="57" y="161"/>
                  </a:lnTo>
                  <a:lnTo>
                    <a:pt x="51" y="155"/>
                  </a:lnTo>
                  <a:lnTo>
                    <a:pt x="44" y="159"/>
                  </a:lnTo>
                  <a:lnTo>
                    <a:pt x="38" y="168"/>
                  </a:lnTo>
                  <a:lnTo>
                    <a:pt x="25" y="178"/>
                  </a:lnTo>
                  <a:lnTo>
                    <a:pt x="13" y="187"/>
                  </a:lnTo>
                  <a:lnTo>
                    <a:pt x="9" y="189"/>
                  </a:lnTo>
                  <a:lnTo>
                    <a:pt x="2" y="174"/>
                  </a:lnTo>
                  <a:lnTo>
                    <a:pt x="0" y="159"/>
                  </a:lnTo>
                  <a:lnTo>
                    <a:pt x="2" y="149"/>
                  </a:lnTo>
                  <a:lnTo>
                    <a:pt x="9" y="143"/>
                  </a:lnTo>
                  <a:lnTo>
                    <a:pt x="11" y="109"/>
                  </a:lnTo>
                  <a:lnTo>
                    <a:pt x="11" y="76"/>
                  </a:lnTo>
                  <a:lnTo>
                    <a:pt x="15" y="48"/>
                  </a:lnTo>
                  <a:lnTo>
                    <a:pt x="23" y="32"/>
                  </a:lnTo>
                  <a:lnTo>
                    <a:pt x="30" y="27"/>
                  </a:lnTo>
                  <a:lnTo>
                    <a:pt x="40" y="21"/>
                  </a:lnTo>
                  <a:lnTo>
                    <a:pt x="51" y="15"/>
                  </a:lnTo>
                  <a:lnTo>
                    <a:pt x="61" y="11"/>
                  </a:lnTo>
                  <a:lnTo>
                    <a:pt x="74" y="4"/>
                  </a:lnTo>
                  <a:lnTo>
                    <a:pt x="86" y="2"/>
                  </a:lnTo>
                  <a:lnTo>
                    <a:pt x="99" y="0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29840" y="3738960"/>
              <a:ext cx="84600" cy="10800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49" y="0"/>
                  </a:moveTo>
                  <a:lnTo>
                    <a:pt x="55" y="2"/>
                  </a:lnTo>
                  <a:lnTo>
                    <a:pt x="65" y="9"/>
                  </a:lnTo>
                  <a:lnTo>
                    <a:pt x="76" y="15"/>
                  </a:lnTo>
                  <a:lnTo>
                    <a:pt x="76" y="23"/>
                  </a:lnTo>
                  <a:lnTo>
                    <a:pt x="67" y="36"/>
                  </a:lnTo>
                  <a:lnTo>
                    <a:pt x="57" y="57"/>
                  </a:lnTo>
                  <a:lnTo>
                    <a:pt x="46" y="78"/>
                  </a:lnTo>
                  <a:lnTo>
                    <a:pt x="42" y="92"/>
                  </a:lnTo>
                  <a:lnTo>
                    <a:pt x="28" y="78"/>
                  </a:lnTo>
                  <a:lnTo>
                    <a:pt x="13" y="63"/>
                  </a:lnTo>
                  <a:lnTo>
                    <a:pt x="5" y="52"/>
                  </a:lnTo>
                  <a:lnTo>
                    <a:pt x="0" y="48"/>
                  </a:lnTo>
                  <a:lnTo>
                    <a:pt x="5" y="42"/>
                  </a:lnTo>
                  <a:lnTo>
                    <a:pt x="17" y="29"/>
                  </a:lnTo>
                  <a:lnTo>
                    <a:pt x="34" y="1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756680" y="3884400"/>
              <a:ext cx="59040" cy="87840"/>
            </a:xfrm>
            <a:custGeom>
              <a:avLst/>
              <a:gdLst/>
              <a:ahLst/>
              <a:rect l="l" t="t" r="r" b="b"/>
              <a:pathLst>
                <a:path w="53" h="75">
                  <a:moveTo>
                    <a:pt x="44" y="0"/>
                  </a:moveTo>
                  <a:lnTo>
                    <a:pt x="53" y="21"/>
                  </a:lnTo>
                  <a:lnTo>
                    <a:pt x="53" y="46"/>
                  </a:lnTo>
                  <a:lnTo>
                    <a:pt x="46" y="67"/>
                  </a:lnTo>
                  <a:lnTo>
                    <a:pt x="34" y="75"/>
                  </a:lnTo>
                  <a:lnTo>
                    <a:pt x="17" y="71"/>
                  </a:lnTo>
                  <a:lnTo>
                    <a:pt x="5" y="58"/>
                  </a:lnTo>
                  <a:lnTo>
                    <a:pt x="0" y="44"/>
                  </a:lnTo>
                  <a:lnTo>
                    <a:pt x="7" y="31"/>
                  </a:lnTo>
                  <a:lnTo>
                    <a:pt x="19" y="21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78560" y="4098240"/>
              <a:ext cx="198720" cy="410400"/>
            </a:xfrm>
            <a:custGeom>
              <a:avLst/>
              <a:gdLst/>
              <a:ahLst/>
              <a:rect l="l" t="t" r="r" b="b"/>
              <a:pathLst>
                <a:path w="178" h="350">
                  <a:moveTo>
                    <a:pt x="55" y="134"/>
                  </a:moveTo>
                  <a:lnTo>
                    <a:pt x="55" y="155"/>
                  </a:lnTo>
                  <a:lnTo>
                    <a:pt x="49" y="155"/>
                  </a:lnTo>
                  <a:lnTo>
                    <a:pt x="36" y="157"/>
                  </a:lnTo>
                  <a:lnTo>
                    <a:pt x="21" y="163"/>
                  </a:lnTo>
                  <a:lnTo>
                    <a:pt x="9" y="178"/>
                  </a:lnTo>
                  <a:lnTo>
                    <a:pt x="3" y="151"/>
                  </a:lnTo>
                  <a:lnTo>
                    <a:pt x="0" y="134"/>
                  </a:lnTo>
                  <a:lnTo>
                    <a:pt x="3" y="121"/>
                  </a:lnTo>
                  <a:lnTo>
                    <a:pt x="9" y="105"/>
                  </a:lnTo>
                  <a:lnTo>
                    <a:pt x="17" y="86"/>
                  </a:lnTo>
                  <a:lnTo>
                    <a:pt x="26" y="69"/>
                  </a:lnTo>
                  <a:lnTo>
                    <a:pt x="32" y="54"/>
                  </a:lnTo>
                  <a:lnTo>
                    <a:pt x="34" y="38"/>
                  </a:lnTo>
                  <a:lnTo>
                    <a:pt x="38" y="25"/>
                  </a:lnTo>
                  <a:lnTo>
                    <a:pt x="51" y="17"/>
                  </a:lnTo>
                  <a:lnTo>
                    <a:pt x="67" y="15"/>
                  </a:lnTo>
                  <a:lnTo>
                    <a:pt x="88" y="19"/>
                  </a:lnTo>
                  <a:lnTo>
                    <a:pt x="97" y="6"/>
                  </a:lnTo>
                  <a:lnTo>
                    <a:pt x="105" y="0"/>
                  </a:lnTo>
                  <a:lnTo>
                    <a:pt x="116" y="0"/>
                  </a:lnTo>
                  <a:lnTo>
                    <a:pt x="126" y="6"/>
                  </a:lnTo>
                  <a:lnTo>
                    <a:pt x="134" y="17"/>
                  </a:lnTo>
                  <a:lnTo>
                    <a:pt x="137" y="27"/>
                  </a:lnTo>
                  <a:lnTo>
                    <a:pt x="134" y="40"/>
                  </a:lnTo>
                  <a:lnTo>
                    <a:pt x="126" y="52"/>
                  </a:lnTo>
                  <a:lnTo>
                    <a:pt x="120" y="63"/>
                  </a:lnTo>
                  <a:lnTo>
                    <a:pt x="122" y="71"/>
                  </a:lnTo>
                  <a:lnTo>
                    <a:pt x="130" y="77"/>
                  </a:lnTo>
                  <a:lnTo>
                    <a:pt x="143" y="80"/>
                  </a:lnTo>
                  <a:lnTo>
                    <a:pt x="160" y="80"/>
                  </a:lnTo>
                  <a:lnTo>
                    <a:pt x="172" y="82"/>
                  </a:lnTo>
                  <a:lnTo>
                    <a:pt x="178" y="90"/>
                  </a:lnTo>
                  <a:lnTo>
                    <a:pt x="174" y="105"/>
                  </a:lnTo>
                  <a:lnTo>
                    <a:pt x="162" y="119"/>
                  </a:lnTo>
                  <a:lnTo>
                    <a:pt x="149" y="130"/>
                  </a:lnTo>
                  <a:lnTo>
                    <a:pt x="134" y="142"/>
                  </a:lnTo>
                  <a:lnTo>
                    <a:pt x="122" y="161"/>
                  </a:lnTo>
                  <a:lnTo>
                    <a:pt x="114" y="182"/>
                  </a:lnTo>
                  <a:lnTo>
                    <a:pt x="111" y="197"/>
                  </a:lnTo>
                  <a:lnTo>
                    <a:pt x="116" y="207"/>
                  </a:lnTo>
                  <a:lnTo>
                    <a:pt x="126" y="216"/>
                  </a:lnTo>
                  <a:lnTo>
                    <a:pt x="132" y="224"/>
                  </a:lnTo>
                  <a:lnTo>
                    <a:pt x="126" y="230"/>
                  </a:lnTo>
                  <a:lnTo>
                    <a:pt x="114" y="235"/>
                  </a:lnTo>
                  <a:lnTo>
                    <a:pt x="99" y="228"/>
                  </a:lnTo>
                  <a:lnTo>
                    <a:pt x="86" y="224"/>
                  </a:lnTo>
                  <a:lnTo>
                    <a:pt x="78" y="230"/>
                  </a:lnTo>
                  <a:lnTo>
                    <a:pt x="72" y="243"/>
                  </a:lnTo>
                  <a:lnTo>
                    <a:pt x="70" y="256"/>
                  </a:lnTo>
                  <a:lnTo>
                    <a:pt x="67" y="266"/>
                  </a:lnTo>
                  <a:lnTo>
                    <a:pt x="67" y="276"/>
                  </a:lnTo>
                  <a:lnTo>
                    <a:pt x="67" y="283"/>
                  </a:lnTo>
                  <a:lnTo>
                    <a:pt x="76" y="287"/>
                  </a:lnTo>
                  <a:lnTo>
                    <a:pt x="88" y="293"/>
                  </a:lnTo>
                  <a:lnTo>
                    <a:pt x="101" y="306"/>
                  </a:lnTo>
                  <a:lnTo>
                    <a:pt x="105" y="323"/>
                  </a:lnTo>
                  <a:lnTo>
                    <a:pt x="97" y="339"/>
                  </a:lnTo>
                  <a:lnTo>
                    <a:pt x="86" y="346"/>
                  </a:lnTo>
                  <a:lnTo>
                    <a:pt x="76" y="348"/>
                  </a:lnTo>
                  <a:lnTo>
                    <a:pt x="63" y="350"/>
                  </a:lnTo>
                  <a:lnTo>
                    <a:pt x="51" y="348"/>
                  </a:lnTo>
                  <a:lnTo>
                    <a:pt x="38" y="343"/>
                  </a:lnTo>
                  <a:lnTo>
                    <a:pt x="30" y="335"/>
                  </a:lnTo>
                  <a:lnTo>
                    <a:pt x="21" y="327"/>
                  </a:lnTo>
                  <a:lnTo>
                    <a:pt x="15" y="314"/>
                  </a:lnTo>
                  <a:lnTo>
                    <a:pt x="11" y="293"/>
                  </a:lnTo>
                  <a:lnTo>
                    <a:pt x="15" y="279"/>
                  </a:lnTo>
                  <a:lnTo>
                    <a:pt x="23" y="270"/>
                  </a:lnTo>
                  <a:lnTo>
                    <a:pt x="34" y="268"/>
                  </a:lnTo>
                  <a:lnTo>
                    <a:pt x="32" y="249"/>
                  </a:lnTo>
                  <a:lnTo>
                    <a:pt x="38" y="232"/>
                  </a:lnTo>
                  <a:lnTo>
                    <a:pt x="47" y="218"/>
                  </a:lnTo>
                  <a:lnTo>
                    <a:pt x="61" y="207"/>
                  </a:lnTo>
                  <a:lnTo>
                    <a:pt x="74" y="199"/>
                  </a:lnTo>
                  <a:lnTo>
                    <a:pt x="78" y="186"/>
                  </a:lnTo>
                  <a:lnTo>
                    <a:pt x="76" y="176"/>
                  </a:lnTo>
                  <a:lnTo>
                    <a:pt x="70" y="168"/>
                  </a:lnTo>
                  <a:lnTo>
                    <a:pt x="63" y="159"/>
                  </a:lnTo>
                  <a:lnTo>
                    <a:pt x="63" y="149"/>
                  </a:lnTo>
                  <a:lnTo>
                    <a:pt x="70" y="142"/>
                  </a:lnTo>
                  <a:lnTo>
                    <a:pt x="80" y="136"/>
                  </a:lnTo>
                  <a:lnTo>
                    <a:pt x="93" y="124"/>
                  </a:lnTo>
                  <a:lnTo>
                    <a:pt x="101" y="96"/>
                  </a:lnTo>
                  <a:lnTo>
                    <a:pt x="99" y="71"/>
                  </a:lnTo>
                  <a:lnTo>
                    <a:pt x="80" y="57"/>
                  </a:lnTo>
                  <a:lnTo>
                    <a:pt x="65" y="59"/>
                  </a:lnTo>
                  <a:lnTo>
                    <a:pt x="53" y="65"/>
                  </a:lnTo>
                  <a:lnTo>
                    <a:pt x="42" y="73"/>
                  </a:lnTo>
                  <a:lnTo>
                    <a:pt x="36" y="86"/>
                  </a:lnTo>
                  <a:lnTo>
                    <a:pt x="32" y="98"/>
                  </a:lnTo>
                  <a:lnTo>
                    <a:pt x="34" y="113"/>
                  </a:lnTo>
                  <a:lnTo>
                    <a:pt x="40" y="124"/>
                  </a:lnTo>
                  <a:lnTo>
                    <a:pt x="55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96720" y="4215600"/>
              <a:ext cx="46800" cy="7128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0" y="19"/>
                  </a:moveTo>
                  <a:lnTo>
                    <a:pt x="4" y="9"/>
                  </a:lnTo>
                  <a:lnTo>
                    <a:pt x="13" y="3"/>
                  </a:lnTo>
                  <a:lnTo>
                    <a:pt x="23" y="0"/>
                  </a:lnTo>
                  <a:lnTo>
                    <a:pt x="32" y="5"/>
                  </a:lnTo>
                  <a:lnTo>
                    <a:pt x="38" y="17"/>
                  </a:lnTo>
                  <a:lnTo>
                    <a:pt x="42" y="36"/>
                  </a:lnTo>
                  <a:lnTo>
                    <a:pt x="42" y="53"/>
                  </a:lnTo>
                  <a:lnTo>
                    <a:pt x="38" y="61"/>
                  </a:lnTo>
                  <a:lnTo>
                    <a:pt x="27" y="61"/>
                  </a:lnTo>
                  <a:lnTo>
                    <a:pt x="17" y="57"/>
                  </a:lnTo>
                  <a:lnTo>
                    <a:pt x="6" y="4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64320" y="4365720"/>
              <a:ext cx="55440" cy="6912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25" y="0"/>
                  </a:moveTo>
                  <a:lnTo>
                    <a:pt x="38" y="9"/>
                  </a:lnTo>
                  <a:lnTo>
                    <a:pt x="48" y="28"/>
                  </a:lnTo>
                  <a:lnTo>
                    <a:pt x="50" y="48"/>
                  </a:lnTo>
                  <a:lnTo>
                    <a:pt x="38" y="59"/>
                  </a:lnTo>
                  <a:lnTo>
                    <a:pt x="27" y="57"/>
                  </a:lnTo>
                  <a:lnTo>
                    <a:pt x="17" y="51"/>
                  </a:lnTo>
                  <a:lnTo>
                    <a:pt x="8" y="42"/>
                  </a:lnTo>
                  <a:lnTo>
                    <a:pt x="2" y="34"/>
                  </a:lnTo>
                  <a:lnTo>
                    <a:pt x="0" y="23"/>
                  </a:lnTo>
                  <a:lnTo>
                    <a:pt x="2" y="13"/>
                  </a:lnTo>
                  <a:lnTo>
                    <a:pt x="10" y="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633280" y="4560480"/>
              <a:ext cx="81360" cy="130320"/>
            </a:xfrm>
            <a:custGeom>
              <a:avLst/>
              <a:gdLst/>
              <a:ahLst/>
              <a:rect l="l" t="t" r="r" b="b"/>
              <a:pathLst>
                <a:path w="73" h="111">
                  <a:moveTo>
                    <a:pt x="73" y="19"/>
                  </a:moveTo>
                  <a:lnTo>
                    <a:pt x="56" y="35"/>
                  </a:lnTo>
                  <a:lnTo>
                    <a:pt x="46" y="61"/>
                  </a:lnTo>
                  <a:lnTo>
                    <a:pt x="44" y="88"/>
                  </a:lnTo>
                  <a:lnTo>
                    <a:pt x="50" y="111"/>
                  </a:lnTo>
                  <a:lnTo>
                    <a:pt x="39" y="98"/>
                  </a:lnTo>
                  <a:lnTo>
                    <a:pt x="29" y="84"/>
                  </a:lnTo>
                  <a:lnTo>
                    <a:pt x="18" y="67"/>
                  </a:lnTo>
                  <a:lnTo>
                    <a:pt x="10" y="52"/>
                  </a:lnTo>
                  <a:lnTo>
                    <a:pt x="4" y="37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4" y="8"/>
                  </a:lnTo>
                  <a:lnTo>
                    <a:pt x="10" y="4"/>
                  </a:lnTo>
                  <a:lnTo>
                    <a:pt x="18" y="2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4" y="2"/>
                  </a:lnTo>
                  <a:lnTo>
                    <a:pt x="54" y="6"/>
                  </a:lnTo>
                  <a:lnTo>
                    <a:pt x="62" y="10"/>
                  </a:lnTo>
                  <a:lnTo>
                    <a:pt x="7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08160" y="4734000"/>
              <a:ext cx="53640" cy="7128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14" y="0"/>
                  </a:moveTo>
                  <a:lnTo>
                    <a:pt x="31" y="9"/>
                  </a:lnTo>
                  <a:lnTo>
                    <a:pt x="44" y="30"/>
                  </a:lnTo>
                  <a:lnTo>
                    <a:pt x="48" y="51"/>
                  </a:lnTo>
                  <a:lnTo>
                    <a:pt x="39" y="61"/>
                  </a:lnTo>
                  <a:lnTo>
                    <a:pt x="21" y="53"/>
                  </a:lnTo>
                  <a:lnTo>
                    <a:pt x="6" y="34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4218480" y="3876120"/>
              <a:ext cx="2900160" cy="1640520"/>
              <a:chOff x="4218480" y="3876120"/>
              <a:chExt cx="2900160" cy="1640520"/>
            </a:xfrm>
          </p:grpSpPr>
          <p:sp>
            <p:nvSpPr>
              <p:cNvPr id="382" name=""/>
              <p:cNvSpPr/>
              <p:nvPr/>
            </p:nvSpPr>
            <p:spPr>
              <a:xfrm>
                <a:off x="4218480" y="4439160"/>
                <a:ext cx="852120" cy="1070280"/>
              </a:xfrm>
              <a:custGeom>
                <a:avLst/>
                <a:gdLst/>
                <a:ahLst/>
                <a:rect l="l" t="t" r="r" b="b"/>
                <a:pathLst>
                  <a:path w="762" h="912">
                    <a:moveTo>
                      <a:pt x="27" y="228"/>
                    </a:moveTo>
                    <a:lnTo>
                      <a:pt x="123" y="240"/>
                    </a:lnTo>
                    <a:lnTo>
                      <a:pt x="256" y="312"/>
                    </a:lnTo>
                    <a:lnTo>
                      <a:pt x="352" y="408"/>
                    </a:lnTo>
                    <a:lnTo>
                      <a:pt x="405" y="504"/>
                    </a:lnTo>
                    <a:lnTo>
                      <a:pt x="437" y="558"/>
                    </a:lnTo>
                    <a:lnTo>
                      <a:pt x="464" y="630"/>
                    </a:lnTo>
                    <a:lnTo>
                      <a:pt x="480" y="732"/>
                    </a:lnTo>
                    <a:lnTo>
                      <a:pt x="458" y="780"/>
                    </a:lnTo>
                    <a:lnTo>
                      <a:pt x="384" y="786"/>
                    </a:lnTo>
                    <a:lnTo>
                      <a:pt x="357" y="798"/>
                    </a:lnTo>
                    <a:lnTo>
                      <a:pt x="330" y="828"/>
                    </a:lnTo>
                    <a:lnTo>
                      <a:pt x="320" y="876"/>
                    </a:lnTo>
                    <a:lnTo>
                      <a:pt x="341" y="912"/>
                    </a:lnTo>
                    <a:lnTo>
                      <a:pt x="448" y="912"/>
                    </a:lnTo>
                    <a:lnTo>
                      <a:pt x="591" y="912"/>
                    </a:lnTo>
                    <a:lnTo>
                      <a:pt x="634" y="870"/>
                    </a:lnTo>
                    <a:lnTo>
                      <a:pt x="650" y="756"/>
                    </a:lnTo>
                    <a:lnTo>
                      <a:pt x="666" y="744"/>
                    </a:lnTo>
                    <a:lnTo>
                      <a:pt x="655" y="570"/>
                    </a:lnTo>
                    <a:lnTo>
                      <a:pt x="671" y="486"/>
                    </a:lnTo>
                    <a:lnTo>
                      <a:pt x="703" y="396"/>
                    </a:lnTo>
                    <a:lnTo>
                      <a:pt x="762" y="186"/>
                    </a:lnTo>
                    <a:lnTo>
                      <a:pt x="0" y="0"/>
                    </a:lnTo>
                    <a:lnTo>
                      <a:pt x="27" y="228"/>
                    </a:lnTo>
                    <a:close/>
                  </a:path>
                </a:pathLst>
              </a:custGeom>
              <a:solidFill>
                <a:srgbClr val="606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33400" y="3876120"/>
                <a:ext cx="885240" cy="1640520"/>
              </a:xfrm>
              <a:custGeom>
                <a:avLst/>
                <a:gdLst/>
                <a:ahLst/>
                <a:rect l="l" t="t" r="r" b="b"/>
                <a:pathLst>
                  <a:path w="792" h="1398">
                    <a:moveTo>
                      <a:pt x="37" y="636"/>
                    </a:moveTo>
                    <a:lnTo>
                      <a:pt x="128" y="732"/>
                    </a:lnTo>
                    <a:lnTo>
                      <a:pt x="219" y="816"/>
                    </a:lnTo>
                    <a:lnTo>
                      <a:pt x="304" y="876"/>
                    </a:lnTo>
                    <a:lnTo>
                      <a:pt x="373" y="900"/>
                    </a:lnTo>
                    <a:lnTo>
                      <a:pt x="427" y="960"/>
                    </a:lnTo>
                    <a:lnTo>
                      <a:pt x="469" y="1032"/>
                    </a:lnTo>
                    <a:lnTo>
                      <a:pt x="501" y="1128"/>
                    </a:lnTo>
                    <a:lnTo>
                      <a:pt x="544" y="1212"/>
                    </a:lnTo>
                    <a:lnTo>
                      <a:pt x="587" y="1296"/>
                    </a:lnTo>
                    <a:lnTo>
                      <a:pt x="640" y="1374"/>
                    </a:lnTo>
                    <a:lnTo>
                      <a:pt x="685" y="1398"/>
                    </a:lnTo>
                    <a:lnTo>
                      <a:pt x="752" y="1395"/>
                    </a:lnTo>
                    <a:lnTo>
                      <a:pt x="776" y="1365"/>
                    </a:lnTo>
                    <a:lnTo>
                      <a:pt x="792" y="1323"/>
                    </a:lnTo>
                    <a:lnTo>
                      <a:pt x="789" y="1272"/>
                    </a:lnTo>
                    <a:lnTo>
                      <a:pt x="747" y="1236"/>
                    </a:lnTo>
                    <a:lnTo>
                      <a:pt x="688" y="1182"/>
                    </a:lnTo>
                    <a:lnTo>
                      <a:pt x="640" y="1068"/>
                    </a:lnTo>
                    <a:lnTo>
                      <a:pt x="619" y="996"/>
                    </a:lnTo>
                    <a:lnTo>
                      <a:pt x="608" y="900"/>
                    </a:lnTo>
                    <a:lnTo>
                      <a:pt x="592" y="768"/>
                    </a:lnTo>
                    <a:lnTo>
                      <a:pt x="475" y="696"/>
                    </a:lnTo>
                    <a:lnTo>
                      <a:pt x="427" y="552"/>
                    </a:lnTo>
                    <a:lnTo>
                      <a:pt x="373" y="264"/>
                    </a:lnTo>
                    <a:lnTo>
                      <a:pt x="299" y="0"/>
                    </a:lnTo>
                    <a:lnTo>
                      <a:pt x="0" y="192"/>
                    </a:lnTo>
                    <a:lnTo>
                      <a:pt x="37" y="636"/>
                    </a:lnTo>
                    <a:close/>
                  </a:path>
                </a:pathLst>
              </a:custGeom>
              <a:solidFill>
                <a:srgbClr val="606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4152600" y="4516920"/>
              <a:ext cx="647640" cy="246240"/>
            </a:xfrm>
            <a:custGeom>
              <a:avLst/>
              <a:gdLst/>
              <a:ahLst/>
              <a:rect l="l" t="t" r="r" b="b"/>
              <a:pathLst>
                <a:path w="579" h="210">
                  <a:moveTo>
                    <a:pt x="0" y="177"/>
                  </a:moveTo>
                  <a:lnTo>
                    <a:pt x="117" y="204"/>
                  </a:lnTo>
                  <a:lnTo>
                    <a:pt x="160" y="201"/>
                  </a:lnTo>
                  <a:lnTo>
                    <a:pt x="221" y="207"/>
                  </a:lnTo>
                  <a:lnTo>
                    <a:pt x="280" y="210"/>
                  </a:lnTo>
                  <a:lnTo>
                    <a:pt x="339" y="198"/>
                  </a:lnTo>
                  <a:lnTo>
                    <a:pt x="382" y="198"/>
                  </a:lnTo>
                  <a:lnTo>
                    <a:pt x="408" y="201"/>
                  </a:lnTo>
                  <a:lnTo>
                    <a:pt x="451" y="186"/>
                  </a:lnTo>
                  <a:lnTo>
                    <a:pt x="494" y="165"/>
                  </a:lnTo>
                  <a:lnTo>
                    <a:pt x="523" y="159"/>
                  </a:lnTo>
                  <a:lnTo>
                    <a:pt x="542" y="147"/>
                  </a:lnTo>
                  <a:lnTo>
                    <a:pt x="568" y="138"/>
                  </a:lnTo>
                  <a:lnTo>
                    <a:pt x="579" y="126"/>
                  </a:lnTo>
                  <a:lnTo>
                    <a:pt x="200" y="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24080" y="3337560"/>
              <a:ext cx="4294080" cy="2238840"/>
            </a:xfrm>
            <a:custGeom>
              <a:avLst/>
              <a:gdLst/>
              <a:ahLst/>
              <a:rect l="l" t="t" r="r" b="b"/>
              <a:pathLst>
                <a:path w="3840" h="1908">
                  <a:moveTo>
                    <a:pt x="117" y="300"/>
                  </a:moveTo>
                  <a:lnTo>
                    <a:pt x="117" y="348"/>
                  </a:lnTo>
                  <a:lnTo>
                    <a:pt x="117" y="372"/>
                  </a:lnTo>
                  <a:lnTo>
                    <a:pt x="107" y="456"/>
                  </a:lnTo>
                  <a:lnTo>
                    <a:pt x="0" y="678"/>
                  </a:lnTo>
                  <a:lnTo>
                    <a:pt x="32" y="699"/>
                  </a:lnTo>
                  <a:lnTo>
                    <a:pt x="53" y="756"/>
                  </a:lnTo>
                  <a:lnTo>
                    <a:pt x="96" y="816"/>
                  </a:lnTo>
                  <a:lnTo>
                    <a:pt x="117" y="828"/>
                  </a:lnTo>
                  <a:lnTo>
                    <a:pt x="116" y="851"/>
                  </a:lnTo>
                  <a:lnTo>
                    <a:pt x="119" y="865"/>
                  </a:lnTo>
                  <a:lnTo>
                    <a:pt x="128" y="876"/>
                  </a:lnTo>
                  <a:lnTo>
                    <a:pt x="145" y="881"/>
                  </a:lnTo>
                  <a:lnTo>
                    <a:pt x="165" y="884"/>
                  </a:lnTo>
                  <a:lnTo>
                    <a:pt x="180" y="876"/>
                  </a:lnTo>
                  <a:lnTo>
                    <a:pt x="203" y="864"/>
                  </a:lnTo>
                  <a:lnTo>
                    <a:pt x="245" y="840"/>
                  </a:lnTo>
                  <a:lnTo>
                    <a:pt x="512" y="1044"/>
                  </a:lnTo>
                  <a:lnTo>
                    <a:pt x="555" y="1212"/>
                  </a:lnTo>
                  <a:lnTo>
                    <a:pt x="576" y="1308"/>
                  </a:lnTo>
                  <a:lnTo>
                    <a:pt x="437" y="1680"/>
                  </a:lnTo>
                  <a:lnTo>
                    <a:pt x="413" y="1743"/>
                  </a:lnTo>
                  <a:lnTo>
                    <a:pt x="384" y="1758"/>
                  </a:lnTo>
                  <a:lnTo>
                    <a:pt x="315" y="1752"/>
                  </a:lnTo>
                  <a:lnTo>
                    <a:pt x="283" y="1764"/>
                  </a:lnTo>
                  <a:lnTo>
                    <a:pt x="251" y="1788"/>
                  </a:lnTo>
                  <a:lnTo>
                    <a:pt x="235" y="1836"/>
                  </a:lnTo>
                  <a:lnTo>
                    <a:pt x="229" y="1884"/>
                  </a:lnTo>
                  <a:lnTo>
                    <a:pt x="251" y="1905"/>
                  </a:lnTo>
                  <a:lnTo>
                    <a:pt x="501" y="1905"/>
                  </a:lnTo>
                  <a:lnTo>
                    <a:pt x="576" y="1860"/>
                  </a:lnTo>
                  <a:lnTo>
                    <a:pt x="869" y="1422"/>
                  </a:lnTo>
                  <a:lnTo>
                    <a:pt x="944" y="1302"/>
                  </a:lnTo>
                  <a:lnTo>
                    <a:pt x="1024" y="1158"/>
                  </a:lnTo>
                  <a:lnTo>
                    <a:pt x="1051" y="1074"/>
                  </a:lnTo>
                  <a:lnTo>
                    <a:pt x="1120" y="1044"/>
                  </a:lnTo>
                  <a:lnTo>
                    <a:pt x="1259" y="1092"/>
                  </a:lnTo>
                  <a:lnTo>
                    <a:pt x="1525" y="1140"/>
                  </a:lnTo>
                  <a:lnTo>
                    <a:pt x="1781" y="1176"/>
                  </a:lnTo>
                  <a:lnTo>
                    <a:pt x="1952" y="1188"/>
                  </a:lnTo>
                  <a:lnTo>
                    <a:pt x="2117" y="1134"/>
                  </a:lnTo>
                  <a:lnTo>
                    <a:pt x="2256" y="1056"/>
                  </a:lnTo>
                  <a:lnTo>
                    <a:pt x="2389" y="1020"/>
                  </a:lnTo>
                  <a:lnTo>
                    <a:pt x="2389" y="1092"/>
                  </a:lnTo>
                  <a:lnTo>
                    <a:pt x="2427" y="1188"/>
                  </a:lnTo>
                  <a:lnTo>
                    <a:pt x="2507" y="1320"/>
                  </a:lnTo>
                  <a:lnTo>
                    <a:pt x="2613" y="1428"/>
                  </a:lnTo>
                  <a:lnTo>
                    <a:pt x="2643" y="1509"/>
                  </a:lnTo>
                  <a:lnTo>
                    <a:pt x="2648" y="1608"/>
                  </a:lnTo>
                  <a:lnTo>
                    <a:pt x="2512" y="1773"/>
                  </a:lnTo>
                  <a:lnTo>
                    <a:pt x="2440" y="1764"/>
                  </a:lnTo>
                  <a:lnTo>
                    <a:pt x="2392" y="1785"/>
                  </a:lnTo>
                  <a:lnTo>
                    <a:pt x="2368" y="1842"/>
                  </a:lnTo>
                  <a:lnTo>
                    <a:pt x="2384" y="1902"/>
                  </a:lnTo>
                  <a:lnTo>
                    <a:pt x="2416" y="1908"/>
                  </a:lnTo>
                  <a:lnTo>
                    <a:pt x="2576" y="1908"/>
                  </a:lnTo>
                  <a:lnTo>
                    <a:pt x="2736" y="1773"/>
                  </a:lnTo>
                  <a:lnTo>
                    <a:pt x="2891" y="1620"/>
                  </a:lnTo>
                  <a:lnTo>
                    <a:pt x="2856" y="1500"/>
                  </a:lnTo>
                  <a:lnTo>
                    <a:pt x="2848" y="1392"/>
                  </a:lnTo>
                  <a:lnTo>
                    <a:pt x="2859" y="1212"/>
                  </a:lnTo>
                  <a:lnTo>
                    <a:pt x="2912" y="948"/>
                  </a:lnTo>
                  <a:lnTo>
                    <a:pt x="2987" y="720"/>
                  </a:lnTo>
                  <a:lnTo>
                    <a:pt x="3019" y="600"/>
                  </a:lnTo>
                  <a:lnTo>
                    <a:pt x="3051" y="714"/>
                  </a:lnTo>
                  <a:lnTo>
                    <a:pt x="3067" y="798"/>
                  </a:lnTo>
                  <a:lnTo>
                    <a:pt x="3088" y="924"/>
                  </a:lnTo>
                  <a:lnTo>
                    <a:pt x="3109" y="1062"/>
                  </a:lnTo>
                  <a:lnTo>
                    <a:pt x="3136" y="1188"/>
                  </a:lnTo>
                  <a:lnTo>
                    <a:pt x="3168" y="1296"/>
                  </a:lnTo>
                  <a:lnTo>
                    <a:pt x="3205" y="1368"/>
                  </a:lnTo>
                  <a:lnTo>
                    <a:pt x="3229" y="1398"/>
                  </a:lnTo>
                  <a:lnTo>
                    <a:pt x="3275" y="1452"/>
                  </a:lnTo>
                  <a:lnTo>
                    <a:pt x="3339" y="1500"/>
                  </a:lnTo>
                  <a:lnTo>
                    <a:pt x="3381" y="1524"/>
                  </a:lnTo>
                  <a:lnTo>
                    <a:pt x="3467" y="1560"/>
                  </a:lnTo>
                  <a:lnTo>
                    <a:pt x="3523" y="1572"/>
                  </a:lnTo>
                  <a:lnTo>
                    <a:pt x="3584" y="1575"/>
                  </a:lnTo>
                  <a:lnTo>
                    <a:pt x="3648" y="1572"/>
                  </a:lnTo>
                  <a:lnTo>
                    <a:pt x="3723" y="1578"/>
                  </a:lnTo>
                  <a:lnTo>
                    <a:pt x="3797" y="1560"/>
                  </a:lnTo>
                  <a:lnTo>
                    <a:pt x="3840" y="1536"/>
                  </a:lnTo>
                  <a:lnTo>
                    <a:pt x="3840" y="1476"/>
                  </a:lnTo>
                  <a:lnTo>
                    <a:pt x="3808" y="1452"/>
                  </a:lnTo>
                  <a:lnTo>
                    <a:pt x="3765" y="1446"/>
                  </a:lnTo>
                  <a:lnTo>
                    <a:pt x="3712" y="1452"/>
                  </a:lnTo>
                  <a:lnTo>
                    <a:pt x="3637" y="1464"/>
                  </a:lnTo>
                  <a:lnTo>
                    <a:pt x="3499" y="1440"/>
                  </a:lnTo>
                  <a:lnTo>
                    <a:pt x="3413" y="1413"/>
                  </a:lnTo>
                  <a:lnTo>
                    <a:pt x="3360" y="1362"/>
                  </a:lnTo>
                  <a:lnTo>
                    <a:pt x="3304" y="1278"/>
                  </a:lnTo>
                  <a:lnTo>
                    <a:pt x="3275" y="1206"/>
                  </a:lnTo>
                  <a:lnTo>
                    <a:pt x="3251" y="1128"/>
                  </a:lnTo>
                  <a:lnTo>
                    <a:pt x="3229" y="1044"/>
                  </a:lnTo>
                  <a:lnTo>
                    <a:pt x="3221" y="960"/>
                  </a:lnTo>
                  <a:lnTo>
                    <a:pt x="3211" y="780"/>
                  </a:lnTo>
                  <a:lnTo>
                    <a:pt x="3189" y="600"/>
                  </a:lnTo>
                  <a:lnTo>
                    <a:pt x="3157" y="474"/>
                  </a:lnTo>
                  <a:lnTo>
                    <a:pt x="3104" y="366"/>
                  </a:lnTo>
                  <a:lnTo>
                    <a:pt x="3035" y="282"/>
                  </a:lnTo>
                  <a:lnTo>
                    <a:pt x="2944" y="216"/>
                  </a:lnTo>
                  <a:lnTo>
                    <a:pt x="2805" y="144"/>
                  </a:lnTo>
                  <a:lnTo>
                    <a:pt x="2539" y="120"/>
                  </a:lnTo>
                  <a:lnTo>
                    <a:pt x="2368" y="144"/>
                  </a:lnTo>
                  <a:lnTo>
                    <a:pt x="2165" y="156"/>
                  </a:lnTo>
                  <a:lnTo>
                    <a:pt x="1867" y="168"/>
                  </a:lnTo>
                  <a:lnTo>
                    <a:pt x="1696" y="132"/>
                  </a:lnTo>
                  <a:lnTo>
                    <a:pt x="1259" y="144"/>
                  </a:lnTo>
                  <a:lnTo>
                    <a:pt x="1216" y="144"/>
                  </a:lnTo>
                  <a:lnTo>
                    <a:pt x="885" y="48"/>
                  </a:lnTo>
                  <a:lnTo>
                    <a:pt x="619" y="0"/>
                  </a:lnTo>
                  <a:lnTo>
                    <a:pt x="299" y="0"/>
                  </a:lnTo>
                  <a:lnTo>
                    <a:pt x="117" y="300"/>
                  </a:lnTo>
                  <a:close/>
                </a:path>
              </a:pathLst>
            </a:custGeom>
            <a:gradFill rotWithShape="0">
              <a:gsLst>
                <a:gs pos="0">
                  <a:srgbClr val="75583b"/>
                </a:gs>
                <a:gs pos="100000">
                  <a:srgbClr val="ffc080"/>
                </a:gs>
              </a:gsLst>
              <a:lin ang="54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180920" y="5006520"/>
              <a:ext cx="300600" cy="203760"/>
            </a:xfrm>
            <a:custGeom>
              <a:avLst/>
              <a:gdLst/>
              <a:ahLst/>
              <a:rect l="l" t="t" r="r" b="b"/>
              <a:pathLst>
                <a:path w="269" h="174">
                  <a:moveTo>
                    <a:pt x="3" y="61"/>
                  </a:moveTo>
                  <a:lnTo>
                    <a:pt x="12" y="37"/>
                  </a:lnTo>
                  <a:lnTo>
                    <a:pt x="44" y="18"/>
                  </a:lnTo>
                  <a:lnTo>
                    <a:pt x="70" y="12"/>
                  </a:lnTo>
                  <a:lnTo>
                    <a:pt x="113" y="0"/>
                  </a:lnTo>
                  <a:lnTo>
                    <a:pt x="164" y="9"/>
                  </a:lnTo>
                  <a:lnTo>
                    <a:pt x="194" y="18"/>
                  </a:lnTo>
                  <a:lnTo>
                    <a:pt x="217" y="30"/>
                  </a:lnTo>
                  <a:lnTo>
                    <a:pt x="241" y="48"/>
                  </a:lnTo>
                  <a:lnTo>
                    <a:pt x="269" y="86"/>
                  </a:lnTo>
                  <a:lnTo>
                    <a:pt x="238" y="118"/>
                  </a:lnTo>
                  <a:lnTo>
                    <a:pt x="212" y="135"/>
                  </a:lnTo>
                  <a:lnTo>
                    <a:pt x="189" y="153"/>
                  </a:lnTo>
                  <a:lnTo>
                    <a:pt x="151" y="164"/>
                  </a:lnTo>
                  <a:lnTo>
                    <a:pt x="113" y="174"/>
                  </a:lnTo>
                  <a:lnTo>
                    <a:pt x="91" y="174"/>
                  </a:lnTo>
                  <a:lnTo>
                    <a:pt x="54" y="169"/>
                  </a:lnTo>
                  <a:lnTo>
                    <a:pt x="38" y="160"/>
                  </a:lnTo>
                  <a:lnTo>
                    <a:pt x="14" y="150"/>
                  </a:lnTo>
                  <a:lnTo>
                    <a:pt x="4" y="129"/>
                  </a:lnTo>
                  <a:lnTo>
                    <a:pt x="0" y="98"/>
                  </a:lnTo>
                  <a:lnTo>
                    <a:pt x="2" y="70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404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3125160" y="3858480"/>
              <a:ext cx="237600" cy="456480"/>
              <a:chOff x="3125160" y="3858480"/>
              <a:chExt cx="237600" cy="456480"/>
            </a:xfrm>
          </p:grpSpPr>
          <p:sp>
            <p:nvSpPr>
              <p:cNvPr id="388" name=""/>
              <p:cNvSpPr/>
              <p:nvPr/>
            </p:nvSpPr>
            <p:spPr>
              <a:xfrm>
                <a:off x="3125160" y="4100040"/>
                <a:ext cx="52200" cy="60840"/>
              </a:xfrm>
              <a:custGeom>
                <a:avLst/>
                <a:gdLst/>
                <a:ahLst/>
                <a:rect l="l" t="t" r="r" b="b"/>
                <a:pathLst>
                  <a:path w="47" h="52">
                    <a:moveTo>
                      <a:pt x="0" y="28"/>
                    </a:moveTo>
                    <a:lnTo>
                      <a:pt x="22" y="17"/>
                    </a:lnTo>
                    <a:lnTo>
                      <a:pt x="47" y="0"/>
                    </a:lnTo>
                    <a:lnTo>
                      <a:pt x="43" y="26"/>
                    </a:lnTo>
                    <a:lnTo>
                      <a:pt x="35" y="40"/>
                    </a:lnTo>
                    <a:lnTo>
                      <a:pt x="29" y="52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a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254400" y="4262040"/>
                <a:ext cx="108360" cy="52920"/>
              </a:xfrm>
              <a:custGeom>
                <a:avLst/>
                <a:gdLst/>
                <a:ahLst/>
                <a:rect l="l" t="t" r="r" b="b"/>
                <a:pathLst>
                  <a:path w="97" h="45">
                    <a:moveTo>
                      <a:pt x="0" y="45"/>
                    </a:moveTo>
                    <a:lnTo>
                      <a:pt x="33" y="43"/>
                    </a:lnTo>
                    <a:lnTo>
                      <a:pt x="56" y="43"/>
                    </a:lnTo>
                    <a:lnTo>
                      <a:pt x="77" y="28"/>
                    </a:lnTo>
                    <a:lnTo>
                      <a:pt x="9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267000" y="3858480"/>
                <a:ext cx="64800" cy="58680"/>
              </a:xfrm>
              <a:custGeom>
                <a:avLst/>
                <a:gdLst/>
                <a:ahLst/>
                <a:rect l="l" t="t" r="r" b="b"/>
                <a:pathLst>
                  <a:path w="58" h="50">
                    <a:moveTo>
                      <a:pt x="0" y="0"/>
                    </a:moveTo>
                    <a:lnTo>
                      <a:pt x="58" y="17"/>
                    </a:lnTo>
                    <a:lnTo>
                      <a:pt x="17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300480" y="3909960"/>
                <a:ext cx="12240" cy="64440"/>
              </a:xfrm>
              <a:custGeom>
                <a:avLst/>
                <a:gdLst/>
                <a:ahLst/>
                <a:rect l="l" t="t" r="r" b="b"/>
                <a:pathLst>
                  <a:path w="11" h="55">
                    <a:moveTo>
                      <a:pt x="2" y="0"/>
                    </a:moveTo>
                    <a:lnTo>
                      <a:pt x="0" y="22"/>
                    </a:lnTo>
                    <a:lnTo>
                      <a:pt x="2" y="37"/>
                    </a:lnTo>
                    <a:lnTo>
                      <a:pt x="7" y="52"/>
                    </a:lnTo>
                    <a:lnTo>
                      <a:pt x="11" y="5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4295880" y="4390200"/>
              <a:ext cx="1496520" cy="207000"/>
              <a:chOff x="4295880" y="4390200"/>
              <a:chExt cx="1496520" cy="207000"/>
            </a:xfrm>
          </p:grpSpPr>
          <p:sp>
            <p:nvSpPr>
              <p:cNvPr id="393" name=""/>
              <p:cNvSpPr/>
              <p:nvPr/>
            </p:nvSpPr>
            <p:spPr>
              <a:xfrm>
                <a:off x="4295880" y="4414320"/>
                <a:ext cx="369720" cy="182880"/>
              </a:xfrm>
              <a:custGeom>
                <a:avLst/>
                <a:gdLst/>
                <a:ahLst/>
                <a:rect l="l" t="t" r="r" b="b"/>
                <a:pathLst>
                  <a:path w="331" h="156">
                    <a:moveTo>
                      <a:pt x="0" y="156"/>
                    </a:moveTo>
                    <a:lnTo>
                      <a:pt x="21" y="99"/>
                    </a:lnTo>
                    <a:lnTo>
                      <a:pt x="56" y="54"/>
                    </a:lnTo>
                    <a:lnTo>
                      <a:pt x="104" y="21"/>
                    </a:lnTo>
                    <a:lnTo>
                      <a:pt x="141" y="9"/>
                    </a:lnTo>
                    <a:lnTo>
                      <a:pt x="182" y="0"/>
                    </a:lnTo>
                    <a:lnTo>
                      <a:pt x="222" y="12"/>
                    </a:lnTo>
                    <a:lnTo>
                      <a:pt x="275" y="27"/>
                    </a:lnTo>
                    <a:lnTo>
                      <a:pt x="331" y="5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434920" y="4390200"/>
                <a:ext cx="357480" cy="133560"/>
              </a:xfrm>
              <a:custGeom>
                <a:avLst/>
                <a:gdLst/>
                <a:ahLst/>
                <a:rect l="l" t="t" r="r" b="b"/>
                <a:pathLst>
                  <a:path w="320" h="114">
                    <a:moveTo>
                      <a:pt x="0" y="0"/>
                    </a:moveTo>
                    <a:lnTo>
                      <a:pt x="32" y="6"/>
                    </a:lnTo>
                    <a:lnTo>
                      <a:pt x="69" y="3"/>
                    </a:lnTo>
                    <a:lnTo>
                      <a:pt x="117" y="6"/>
                    </a:lnTo>
                    <a:lnTo>
                      <a:pt x="168" y="12"/>
                    </a:lnTo>
                    <a:lnTo>
                      <a:pt x="221" y="24"/>
                    </a:lnTo>
                    <a:lnTo>
                      <a:pt x="259" y="51"/>
                    </a:lnTo>
                    <a:lnTo>
                      <a:pt x="296" y="78"/>
                    </a:lnTo>
                    <a:lnTo>
                      <a:pt x="320" y="11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3133080" y="3200400"/>
              <a:ext cx="1944360" cy="1619280"/>
            </a:xfrm>
            <a:custGeom>
              <a:avLst/>
              <a:gdLst/>
              <a:ahLst/>
              <a:rect l="l" t="t" r="r" b="b"/>
              <a:pathLst>
                <a:path w="1739" h="1380">
                  <a:moveTo>
                    <a:pt x="96" y="492"/>
                  </a:moveTo>
                  <a:lnTo>
                    <a:pt x="85" y="444"/>
                  </a:lnTo>
                  <a:lnTo>
                    <a:pt x="32" y="516"/>
                  </a:lnTo>
                  <a:lnTo>
                    <a:pt x="53" y="408"/>
                  </a:lnTo>
                  <a:lnTo>
                    <a:pt x="96" y="324"/>
                  </a:lnTo>
                  <a:lnTo>
                    <a:pt x="0" y="384"/>
                  </a:lnTo>
                  <a:lnTo>
                    <a:pt x="107" y="288"/>
                  </a:lnTo>
                  <a:lnTo>
                    <a:pt x="48" y="240"/>
                  </a:lnTo>
                  <a:lnTo>
                    <a:pt x="128" y="210"/>
                  </a:lnTo>
                  <a:lnTo>
                    <a:pt x="165" y="186"/>
                  </a:lnTo>
                  <a:lnTo>
                    <a:pt x="123" y="162"/>
                  </a:lnTo>
                  <a:lnTo>
                    <a:pt x="203" y="132"/>
                  </a:lnTo>
                  <a:lnTo>
                    <a:pt x="245" y="78"/>
                  </a:lnTo>
                  <a:lnTo>
                    <a:pt x="325" y="72"/>
                  </a:lnTo>
                  <a:lnTo>
                    <a:pt x="384" y="36"/>
                  </a:lnTo>
                  <a:lnTo>
                    <a:pt x="469" y="60"/>
                  </a:lnTo>
                  <a:lnTo>
                    <a:pt x="576" y="48"/>
                  </a:lnTo>
                  <a:lnTo>
                    <a:pt x="560" y="6"/>
                  </a:lnTo>
                  <a:lnTo>
                    <a:pt x="635" y="30"/>
                  </a:lnTo>
                  <a:lnTo>
                    <a:pt x="789" y="12"/>
                  </a:lnTo>
                  <a:lnTo>
                    <a:pt x="779" y="48"/>
                  </a:lnTo>
                  <a:lnTo>
                    <a:pt x="886" y="0"/>
                  </a:lnTo>
                  <a:lnTo>
                    <a:pt x="918" y="60"/>
                  </a:lnTo>
                  <a:lnTo>
                    <a:pt x="960" y="36"/>
                  </a:lnTo>
                  <a:lnTo>
                    <a:pt x="960" y="72"/>
                  </a:lnTo>
                  <a:lnTo>
                    <a:pt x="950" y="72"/>
                  </a:lnTo>
                  <a:lnTo>
                    <a:pt x="1046" y="24"/>
                  </a:lnTo>
                  <a:lnTo>
                    <a:pt x="1014" y="72"/>
                  </a:lnTo>
                  <a:lnTo>
                    <a:pt x="1163" y="60"/>
                  </a:lnTo>
                  <a:lnTo>
                    <a:pt x="1270" y="120"/>
                  </a:lnTo>
                  <a:lnTo>
                    <a:pt x="1376" y="144"/>
                  </a:lnTo>
                  <a:lnTo>
                    <a:pt x="1430" y="156"/>
                  </a:lnTo>
                  <a:lnTo>
                    <a:pt x="1408" y="192"/>
                  </a:lnTo>
                  <a:lnTo>
                    <a:pt x="1526" y="192"/>
                  </a:lnTo>
                  <a:lnTo>
                    <a:pt x="1579" y="216"/>
                  </a:lnTo>
                  <a:lnTo>
                    <a:pt x="1632" y="252"/>
                  </a:lnTo>
                  <a:lnTo>
                    <a:pt x="1579" y="276"/>
                  </a:lnTo>
                  <a:lnTo>
                    <a:pt x="1675" y="300"/>
                  </a:lnTo>
                  <a:lnTo>
                    <a:pt x="1739" y="300"/>
                  </a:lnTo>
                  <a:lnTo>
                    <a:pt x="1675" y="360"/>
                  </a:lnTo>
                  <a:lnTo>
                    <a:pt x="1579" y="384"/>
                  </a:lnTo>
                  <a:lnTo>
                    <a:pt x="1504" y="372"/>
                  </a:lnTo>
                  <a:lnTo>
                    <a:pt x="1387" y="420"/>
                  </a:lnTo>
                  <a:lnTo>
                    <a:pt x="1483" y="468"/>
                  </a:lnTo>
                  <a:lnTo>
                    <a:pt x="1398" y="516"/>
                  </a:lnTo>
                  <a:lnTo>
                    <a:pt x="1259" y="492"/>
                  </a:lnTo>
                  <a:lnTo>
                    <a:pt x="1216" y="516"/>
                  </a:lnTo>
                  <a:lnTo>
                    <a:pt x="1291" y="624"/>
                  </a:lnTo>
                  <a:lnTo>
                    <a:pt x="1216" y="720"/>
                  </a:lnTo>
                  <a:lnTo>
                    <a:pt x="1131" y="744"/>
                  </a:lnTo>
                  <a:lnTo>
                    <a:pt x="1110" y="816"/>
                  </a:lnTo>
                  <a:lnTo>
                    <a:pt x="1083" y="900"/>
                  </a:lnTo>
                  <a:lnTo>
                    <a:pt x="1035" y="1002"/>
                  </a:lnTo>
                  <a:lnTo>
                    <a:pt x="960" y="1068"/>
                  </a:lnTo>
                  <a:lnTo>
                    <a:pt x="907" y="1008"/>
                  </a:lnTo>
                  <a:lnTo>
                    <a:pt x="832" y="1050"/>
                  </a:lnTo>
                  <a:lnTo>
                    <a:pt x="768" y="1152"/>
                  </a:lnTo>
                  <a:lnTo>
                    <a:pt x="640" y="1260"/>
                  </a:lnTo>
                  <a:lnTo>
                    <a:pt x="629" y="1368"/>
                  </a:lnTo>
                  <a:lnTo>
                    <a:pt x="565" y="1308"/>
                  </a:lnTo>
                  <a:lnTo>
                    <a:pt x="555" y="1380"/>
                  </a:lnTo>
                  <a:lnTo>
                    <a:pt x="491" y="1260"/>
                  </a:lnTo>
                  <a:lnTo>
                    <a:pt x="459" y="1212"/>
                  </a:lnTo>
                  <a:lnTo>
                    <a:pt x="437" y="1296"/>
                  </a:lnTo>
                  <a:lnTo>
                    <a:pt x="427" y="1188"/>
                  </a:lnTo>
                  <a:lnTo>
                    <a:pt x="373" y="1092"/>
                  </a:lnTo>
                  <a:lnTo>
                    <a:pt x="320" y="1104"/>
                  </a:lnTo>
                  <a:lnTo>
                    <a:pt x="261" y="972"/>
                  </a:lnTo>
                  <a:lnTo>
                    <a:pt x="293" y="924"/>
                  </a:lnTo>
                  <a:lnTo>
                    <a:pt x="325" y="846"/>
                  </a:lnTo>
                  <a:lnTo>
                    <a:pt x="336" y="744"/>
                  </a:lnTo>
                  <a:lnTo>
                    <a:pt x="293" y="678"/>
                  </a:lnTo>
                  <a:lnTo>
                    <a:pt x="325" y="594"/>
                  </a:lnTo>
                  <a:lnTo>
                    <a:pt x="336" y="522"/>
                  </a:lnTo>
                  <a:lnTo>
                    <a:pt x="267" y="456"/>
                  </a:lnTo>
                  <a:lnTo>
                    <a:pt x="256" y="336"/>
                  </a:lnTo>
                  <a:lnTo>
                    <a:pt x="208" y="378"/>
                  </a:lnTo>
                  <a:lnTo>
                    <a:pt x="176" y="426"/>
                  </a:lnTo>
                  <a:lnTo>
                    <a:pt x="149" y="414"/>
                  </a:lnTo>
                  <a:lnTo>
                    <a:pt x="96" y="492"/>
                  </a:lnTo>
                  <a:close/>
                </a:path>
              </a:pathLst>
            </a:custGeom>
            <a:gradFill rotWithShape="0">
              <a:gsLst>
                <a:gs pos="0">
                  <a:srgbClr val="2f0017"/>
                </a:gs>
                <a:gs pos="100000">
                  <a:srgbClr val="660033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3490920" y="3444480"/>
              <a:ext cx="162000" cy="248400"/>
              <a:chOff x="3490920" y="3444480"/>
              <a:chExt cx="162000" cy="248400"/>
            </a:xfrm>
          </p:grpSpPr>
          <p:sp>
            <p:nvSpPr>
              <p:cNvPr id="397" name=""/>
              <p:cNvSpPr/>
              <p:nvPr/>
            </p:nvSpPr>
            <p:spPr>
              <a:xfrm>
                <a:off x="3490920" y="3444480"/>
                <a:ext cx="162000" cy="248400"/>
              </a:xfrm>
              <a:custGeom>
                <a:avLst/>
                <a:gdLst/>
                <a:ahLst/>
                <a:rect l="l" t="t" r="r" b="b"/>
                <a:pathLst>
                  <a:path w="145" h="212">
                    <a:moveTo>
                      <a:pt x="117" y="212"/>
                    </a:moveTo>
                    <a:lnTo>
                      <a:pt x="128" y="176"/>
                    </a:lnTo>
                    <a:lnTo>
                      <a:pt x="139" y="140"/>
                    </a:lnTo>
                    <a:lnTo>
                      <a:pt x="144" y="117"/>
                    </a:lnTo>
                    <a:lnTo>
                      <a:pt x="145" y="93"/>
                    </a:lnTo>
                    <a:lnTo>
                      <a:pt x="144" y="65"/>
                    </a:lnTo>
                    <a:lnTo>
                      <a:pt x="137" y="34"/>
                    </a:lnTo>
                    <a:lnTo>
                      <a:pt x="125" y="19"/>
                    </a:lnTo>
                    <a:lnTo>
                      <a:pt x="109" y="7"/>
                    </a:lnTo>
                    <a:lnTo>
                      <a:pt x="87" y="0"/>
                    </a:lnTo>
                    <a:lnTo>
                      <a:pt x="57" y="11"/>
                    </a:lnTo>
                    <a:lnTo>
                      <a:pt x="38" y="29"/>
                    </a:lnTo>
                    <a:lnTo>
                      <a:pt x="21" y="56"/>
                    </a:lnTo>
                    <a:lnTo>
                      <a:pt x="11" y="80"/>
                    </a:lnTo>
                    <a:lnTo>
                      <a:pt x="0" y="128"/>
                    </a:lnTo>
                    <a:lnTo>
                      <a:pt x="117" y="212"/>
                    </a:lnTo>
                    <a:close/>
                  </a:path>
                </a:pathLst>
              </a:custGeom>
              <a:solidFill>
                <a:srgbClr val="ffc08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15400" y="3473640"/>
                <a:ext cx="131760" cy="212040"/>
              </a:xfrm>
              <a:custGeom>
                <a:avLst/>
                <a:gdLst/>
                <a:ahLst/>
                <a:rect l="l" t="t" r="r" b="b"/>
                <a:pathLst>
                  <a:path w="118" h="181">
                    <a:moveTo>
                      <a:pt x="28" y="99"/>
                    </a:moveTo>
                    <a:lnTo>
                      <a:pt x="0" y="113"/>
                    </a:lnTo>
                    <a:lnTo>
                      <a:pt x="25" y="132"/>
                    </a:lnTo>
                    <a:lnTo>
                      <a:pt x="58" y="155"/>
                    </a:lnTo>
                    <a:lnTo>
                      <a:pt x="97" y="181"/>
                    </a:lnTo>
                    <a:lnTo>
                      <a:pt x="118" y="116"/>
                    </a:lnTo>
                    <a:lnTo>
                      <a:pt x="114" y="100"/>
                    </a:lnTo>
                    <a:lnTo>
                      <a:pt x="116" y="78"/>
                    </a:lnTo>
                    <a:lnTo>
                      <a:pt x="113" y="60"/>
                    </a:lnTo>
                    <a:lnTo>
                      <a:pt x="91" y="82"/>
                    </a:lnTo>
                    <a:lnTo>
                      <a:pt x="108" y="48"/>
                    </a:lnTo>
                    <a:lnTo>
                      <a:pt x="104" y="33"/>
                    </a:lnTo>
                    <a:lnTo>
                      <a:pt x="97" y="20"/>
                    </a:lnTo>
                    <a:lnTo>
                      <a:pt x="84" y="5"/>
                    </a:lnTo>
                    <a:lnTo>
                      <a:pt x="57" y="0"/>
                    </a:lnTo>
                    <a:lnTo>
                      <a:pt x="63" y="15"/>
                    </a:lnTo>
                    <a:lnTo>
                      <a:pt x="62" y="26"/>
                    </a:lnTo>
                    <a:lnTo>
                      <a:pt x="34" y="39"/>
                    </a:lnTo>
                    <a:lnTo>
                      <a:pt x="60" y="47"/>
                    </a:lnTo>
                    <a:lnTo>
                      <a:pt x="42" y="55"/>
                    </a:lnTo>
                    <a:lnTo>
                      <a:pt x="69" y="64"/>
                    </a:lnTo>
                    <a:lnTo>
                      <a:pt x="40" y="68"/>
                    </a:lnTo>
                    <a:lnTo>
                      <a:pt x="63" y="78"/>
                    </a:lnTo>
                    <a:lnTo>
                      <a:pt x="39" y="91"/>
                    </a:lnTo>
                    <a:lnTo>
                      <a:pt x="69" y="92"/>
                    </a:lnTo>
                    <a:lnTo>
                      <a:pt x="63" y="127"/>
                    </a:lnTo>
                    <a:lnTo>
                      <a:pt x="28" y="99"/>
                    </a:lnTo>
                    <a:close/>
                  </a:path>
                </a:pathLst>
              </a:custGeom>
              <a:solidFill>
                <a:srgbClr val="4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9" name=""/>
          <p:cNvGrpSpPr/>
          <p:nvPr/>
        </p:nvGrpSpPr>
        <p:grpSpPr>
          <a:xfrm>
            <a:off x="380880" y="3733920"/>
            <a:ext cx="3191040" cy="2384280"/>
            <a:chOff x="380880" y="3733920"/>
            <a:chExt cx="3191040" cy="2384280"/>
          </a:xfrm>
        </p:grpSpPr>
        <p:sp>
          <p:nvSpPr>
            <p:cNvPr id="400" name=""/>
            <p:cNvSpPr/>
            <p:nvPr/>
          </p:nvSpPr>
          <p:spPr>
            <a:xfrm>
              <a:off x="380880" y="3733920"/>
              <a:ext cx="1370520" cy="2384280"/>
            </a:xfrm>
            <a:custGeom>
              <a:avLst/>
              <a:gdLst/>
              <a:ahLst/>
              <a:rect l="l" t="t" r="r" b="b"/>
              <a:pathLst>
                <a:path w="1549" h="2894">
                  <a:moveTo>
                    <a:pt x="1392" y="1965"/>
                  </a:moveTo>
                  <a:lnTo>
                    <a:pt x="1377" y="2035"/>
                  </a:lnTo>
                  <a:lnTo>
                    <a:pt x="1394" y="2043"/>
                  </a:lnTo>
                  <a:lnTo>
                    <a:pt x="1379" y="2146"/>
                  </a:lnTo>
                  <a:lnTo>
                    <a:pt x="1392" y="2154"/>
                  </a:lnTo>
                  <a:lnTo>
                    <a:pt x="1400" y="2260"/>
                  </a:lnTo>
                  <a:lnTo>
                    <a:pt x="1409" y="2369"/>
                  </a:lnTo>
                  <a:lnTo>
                    <a:pt x="1413" y="2388"/>
                  </a:lnTo>
                  <a:lnTo>
                    <a:pt x="1419" y="2439"/>
                  </a:lnTo>
                  <a:lnTo>
                    <a:pt x="1426" y="2501"/>
                  </a:lnTo>
                  <a:lnTo>
                    <a:pt x="1426" y="2562"/>
                  </a:lnTo>
                  <a:lnTo>
                    <a:pt x="1421" y="2571"/>
                  </a:lnTo>
                  <a:lnTo>
                    <a:pt x="1413" y="2592"/>
                  </a:lnTo>
                  <a:lnTo>
                    <a:pt x="1400" y="2622"/>
                  </a:lnTo>
                  <a:lnTo>
                    <a:pt x="1383" y="2658"/>
                  </a:lnTo>
                  <a:lnTo>
                    <a:pt x="1368" y="2698"/>
                  </a:lnTo>
                  <a:lnTo>
                    <a:pt x="1351" y="2737"/>
                  </a:lnTo>
                  <a:lnTo>
                    <a:pt x="1338" y="2769"/>
                  </a:lnTo>
                  <a:lnTo>
                    <a:pt x="1328" y="2794"/>
                  </a:lnTo>
                  <a:lnTo>
                    <a:pt x="1321" y="2813"/>
                  </a:lnTo>
                  <a:lnTo>
                    <a:pt x="1315" y="2828"/>
                  </a:lnTo>
                  <a:lnTo>
                    <a:pt x="1311" y="2843"/>
                  </a:lnTo>
                  <a:lnTo>
                    <a:pt x="1300" y="2854"/>
                  </a:lnTo>
                  <a:lnTo>
                    <a:pt x="1287" y="2864"/>
                  </a:lnTo>
                  <a:lnTo>
                    <a:pt x="1270" y="2873"/>
                  </a:lnTo>
                  <a:lnTo>
                    <a:pt x="1243" y="2879"/>
                  </a:lnTo>
                  <a:lnTo>
                    <a:pt x="1209" y="2883"/>
                  </a:lnTo>
                  <a:lnTo>
                    <a:pt x="1189" y="2894"/>
                  </a:lnTo>
                  <a:lnTo>
                    <a:pt x="1175" y="2873"/>
                  </a:lnTo>
                  <a:lnTo>
                    <a:pt x="1170" y="2873"/>
                  </a:lnTo>
                  <a:lnTo>
                    <a:pt x="1162" y="2875"/>
                  </a:lnTo>
                  <a:lnTo>
                    <a:pt x="1147" y="2875"/>
                  </a:lnTo>
                  <a:lnTo>
                    <a:pt x="1132" y="2875"/>
                  </a:lnTo>
                  <a:lnTo>
                    <a:pt x="1115" y="2873"/>
                  </a:lnTo>
                  <a:lnTo>
                    <a:pt x="1100" y="2868"/>
                  </a:lnTo>
                  <a:lnTo>
                    <a:pt x="1087" y="2862"/>
                  </a:lnTo>
                  <a:lnTo>
                    <a:pt x="1081" y="2851"/>
                  </a:lnTo>
                  <a:lnTo>
                    <a:pt x="1077" y="2854"/>
                  </a:lnTo>
                  <a:lnTo>
                    <a:pt x="1068" y="2860"/>
                  </a:lnTo>
                  <a:lnTo>
                    <a:pt x="1058" y="2862"/>
                  </a:lnTo>
                  <a:lnTo>
                    <a:pt x="1043" y="2858"/>
                  </a:lnTo>
                  <a:lnTo>
                    <a:pt x="1038" y="2854"/>
                  </a:lnTo>
                  <a:lnTo>
                    <a:pt x="1036" y="2847"/>
                  </a:lnTo>
                  <a:lnTo>
                    <a:pt x="1034" y="2843"/>
                  </a:lnTo>
                  <a:lnTo>
                    <a:pt x="1032" y="2839"/>
                  </a:lnTo>
                  <a:lnTo>
                    <a:pt x="1038" y="2822"/>
                  </a:lnTo>
                  <a:lnTo>
                    <a:pt x="1049" y="2805"/>
                  </a:lnTo>
                  <a:lnTo>
                    <a:pt x="1066" y="2792"/>
                  </a:lnTo>
                  <a:lnTo>
                    <a:pt x="1085" y="2779"/>
                  </a:lnTo>
                  <a:lnTo>
                    <a:pt x="1109" y="2766"/>
                  </a:lnTo>
                  <a:lnTo>
                    <a:pt x="1136" y="2758"/>
                  </a:lnTo>
                  <a:lnTo>
                    <a:pt x="1164" y="2749"/>
                  </a:lnTo>
                  <a:lnTo>
                    <a:pt x="1192" y="2741"/>
                  </a:lnTo>
                  <a:lnTo>
                    <a:pt x="1194" y="2737"/>
                  </a:lnTo>
                  <a:lnTo>
                    <a:pt x="1200" y="2722"/>
                  </a:lnTo>
                  <a:lnTo>
                    <a:pt x="1209" y="2700"/>
                  </a:lnTo>
                  <a:lnTo>
                    <a:pt x="1219" y="2675"/>
                  </a:lnTo>
                  <a:lnTo>
                    <a:pt x="1230" y="2645"/>
                  </a:lnTo>
                  <a:lnTo>
                    <a:pt x="1243" y="2615"/>
                  </a:lnTo>
                  <a:lnTo>
                    <a:pt x="1253" y="2586"/>
                  </a:lnTo>
                  <a:lnTo>
                    <a:pt x="1264" y="2558"/>
                  </a:lnTo>
                  <a:lnTo>
                    <a:pt x="1268" y="2533"/>
                  </a:lnTo>
                  <a:lnTo>
                    <a:pt x="1266" y="2505"/>
                  </a:lnTo>
                  <a:lnTo>
                    <a:pt x="1255" y="2475"/>
                  </a:lnTo>
                  <a:lnTo>
                    <a:pt x="1243" y="2443"/>
                  </a:lnTo>
                  <a:lnTo>
                    <a:pt x="1226" y="2409"/>
                  </a:lnTo>
                  <a:lnTo>
                    <a:pt x="1211" y="2373"/>
                  </a:lnTo>
                  <a:lnTo>
                    <a:pt x="1194" y="2335"/>
                  </a:lnTo>
                  <a:lnTo>
                    <a:pt x="1181" y="2292"/>
                  </a:lnTo>
                  <a:lnTo>
                    <a:pt x="1177" y="2307"/>
                  </a:lnTo>
                  <a:lnTo>
                    <a:pt x="1164" y="2348"/>
                  </a:lnTo>
                  <a:lnTo>
                    <a:pt x="1149" y="2401"/>
                  </a:lnTo>
                  <a:lnTo>
                    <a:pt x="1136" y="2452"/>
                  </a:lnTo>
                  <a:lnTo>
                    <a:pt x="1149" y="2564"/>
                  </a:lnTo>
                  <a:lnTo>
                    <a:pt x="1145" y="2569"/>
                  </a:lnTo>
                  <a:lnTo>
                    <a:pt x="1136" y="2584"/>
                  </a:lnTo>
                  <a:lnTo>
                    <a:pt x="1121" y="2605"/>
                  </a:lnTo>
                  <a:lnTo>
                    <a:pt x="1104" y="2630"/>
                  </a:lnTo>
                  <a:lnTo>
                    <a:pt x="1085" y="2658"/>
                  </a:lnTo>
                  <a:lnTo>
                    <a:pt x="1066" y="2683"/>
                  </a:lnTo>
                  <a:lnTo>
                    <a:pt x="1049" y="2707"/>
                  </a:lnTo>
                  <a:lnTo>
                    <a:pt x="1036" y="2726"/>
                  </a:lnTo>
                  <a:lnTo>
                    <a:pt x="1021" y="2752"/>
                  </a:lnTo>
                  <a:lnTo>
                    <a:pt x="1013" y="2769"/>
                  </a:lnTo>
                  <a:lnTo>
                    <a:pt x="1007" y="2781"/>
                  </a:lnTo>
                  <a:lnTo>
                    <a:pt x="994" y="2794"/>
                  </a:lnTo>
                  <a:lnTo>
                    <a:pt x="983" y="2798"/>
                  </a:lnTo>
                  <a:lnTo>
                    <a:pt x="972" y="2800"/>
                  </a:lnTo>
                  <a:lnTo>
                    <a:pt x="962" y="2803"/>
                  </a:lnTo>
                  <a:lnTo>
                    <a:pt x="953" y="2803"/>
                  </a:lnTo>
                  <a:lnTo>
                    <a:pt x="943" y="2800"/>
                  </a:lnTo>
                  <a:lnTo>
                    <a:pt x="936" y="2800"/>
                  </a:lnTo>
                  <a:lnTo>
                    <a:pt x="932" y="2798"/>
                  </a:lnTo>
                  <a:lnTo>
                    <a:pt x="930" y="2798"/>
                  </a:lnTo>
                  <a:lnTo>
                    <a:pt x="930" y="2798"/>
                  </a:lnTo>
                  <a:lnTo>
                    <a:pt x="926" y="2803"/>
                  </a:lnTo>
                  <a:lnTo>
                    <a:pt x="921" y="2807"/>
                  </a:lnTo>
                  <a:lnTo>
                    <a:pt x="915" y="2811"/>
                  </a:lnTo>
                  <a:lnTo>
                    <a:pt x="907" y="2815"/>
                  </a:lnTo>
                  <a:lnTo>
                    <a:pt x="896" y="2822"/>
                  </a:lnTo>
                  <a:lnTo>
                    <a:pt x="881" y="2826"/>
                  </a:lnTo>
                  <a:lnTo>
                    <a:pt x="864" y="2828"/>
                  </a:lnTo>
                  <a:lnTo>
                    <a:pt x="847" y="2805"/>
                  </a:lnTo>
                  <a:lnTo>
                    <a:pt x="775" y="2803"/>
                  </a:lnTo>
                  <a:lnTo>
                    <a:pt x="768" y="2779"/>
                  </a:lnTo>
                  <a:lnTo>
                    <a:pt x="766" y="2783"/>
                  </a:lnTo>
                  <a:lnTo>
                    <a:pt x="762" y="2790"/>
                  </a:lnTo>
                  <a:lnTo>
                    <a:pt x="758" y="2790"/>
                  </a:lnTo>
                  <a:lnTo>
                    <a:pt x="758" y="2779"/>
                  </a:lnTo>
                  <a:lnTo>
                    <a:pt x="760" y="2769"/>
                  </a:lnTo>
                  <a:lnTo>
                    <a:pt x="766" y="2754"/>
                  </a:lnTo>
                  <a:lnTo>
                    <a:pt x="777" y="2741"/>
                  </a:lnTo>
                  <a:lnTo>
                    <a:pt x="790" y="2726"/>
                  </a:lnTo>
                  <a:lnTo>
                    <a:pt x="809" y="2713"/>
                  </a:lnTo>
                  <a:lnTo>
                    <a:pt x="830" y="2703"/>
                  </a:lnTo>
                  <a:lnTo>
                    <a:pt x="858" y="2694"/>
                  </a:lnTo>
                  <a:lnTo>
                    <a:pt x="890" y="2690"/>
                  </a:lnTo>
                  <a:lnTo>
                    <a:pt x="894" y="2686"/>
                  </a:lnTo>
                  <a:lnTo>
                    <a:pt x="907" y="2675"/>
                  </a:lnTo>
                  <a:lnTo>
                    <a:pt x="926" y="2660"/>
                  </a:lnTo>
                  <a:lnTo>
                    <a:pt x="947" y="2641"/>
                  </a:lnTo>
                  <a:lnTo>
                    <a:pt x="968" y="2618"/>
                  </a:lnTo>
                  <a:lnTo>
                    <a:pt x="987" y="2594"/>
                  </a:lnTo>
                  <a:lnTo>
                    <a:pt x="1004" y="2569"/>
                  </a:lnTo>
                  <a:lnTo>
                    <a:pt x="1013" y="2545"/>
                  </a:lnTo>
                  <a:lnTo>
                    <a:pt x="1007" y="2530"/>
                  </a:lnTo>
                  <a:lnTo>
                    <a:pt x="996" y="2490"/>
                  </a:lnTo>
                  <a:lnTo>
                    <a:pt x="983" y="2435"/>
                  </a:lnTo>
                  <a:lnTo>
                    <a:pt x="979" y="2377"/>
                  </a:lnTo>
                  <a:lnTo>
                    <a:pt x="962" y="2384"/>
                  </a:lnTo>
                  <a:lnTo>
                    <a:pt x="960" y="2371"/>
                  </a:lnTo>
                  <a:lnTo>
                    <a:pt x="958" y="2337"/>
                  </a:lnTo>
                  <a:lnTo>
                    <a:pt x="955" y="2290"/>
                  </a:lnTo>
                  <a:lnTo>
                    <a:pt x="958" y="2239"/>
                  </a:lnTo>
                  <a:lnTo>
                    <a:pt x="947" y="2250"/>
                  </a:lnTo>
                  <a:lnTo>
                    <a:pt x="958" y="2133"/>
                  </a:lnTo>
                  <a:lnTo>
                    <a:pt x="913" y="2126"/>
                  </a:lnTo>
                  <a:lnTo>
                    <a:pt x="892" y="2033"/>
                  </a:lnTo>
                  <a:lnTo>
                    <a:pt x="881" y="2043"/>
                  </a:lnTo>
                  <a:lnTo>
                    <a:pt x="879" y="2029"/>
                  </a:lnTo>
                  <a:lnTo>
                    <a:pt x="872" y="1992"/>
                  </a:lnTo>
                  <a:lnTo>
                    <a:pt x="868" y="1944"/>
                  </a:lnTo>
                  <a:lnTo>
                    <a:pt x="866" y="1895"/>
                  </a:lnTo>
                  <a:lnTo>
                    <a:pt x="862" y="1890"/>
                  </a:lnTo>
                  <a:lnTo>
                    <a:pt x="851" y="1882"/>
                  </a:lnTo>
                  <a:lnTo>
                    <a:pt x="834" y="1865"/>
                  </a:lnTo>
                  <a:lnTo>
                    <a:pt x="815" y="1839"/>
                  </a:lnTo>
                  <a:lnTo>
                    <a:pt x="794" y="1810"/>
                  </a:lnTo>
                  <a:lnTo>
                    <a:pt x="770" y="1771"/>
                  </a:lnTo>
                  <a:lnTo>
                    <a:pt x="749" y="1727"/>
                  </a:lnTo>
                  <a:lnTo>
                    <a:pt x="732" y="1676"/>
                  </a:lnTo>
                  <a:lnTo>
                    <a:pt x="726" y="1667"/>
                  </a:lnTo>
                  <a:lnTo>
                    <a:pt x="713" y="1644"/>
                  </a:lnTo>
                  <a:lnTo>
                    <a:pt x="694" y="1612"/>
                  </a:lnTo>
                  <a:lnTo>
                    <a:pt x="679" y="1576"/>
                  </a:lnTo>
                  <a:lnTo>
                    <a:pt x="675" y="1571"/>
                  </a:lnTo>
                  <a:lnTo>
                    <a:pt x="664" y="1559"/>
                  </a:lnTo>
                  <a:lnTo>
                    <a:pt x="651" y="1537"/>
                  </a:lnTo>
                  <a:lnTo>
                    <a:pt x="636" y="1508"/>
                  </a:lnTo>
                  <a:lnTo>
                    <a:pt x="626" y="1514"/>
                  </a:lnTo>
                  <a:lnTo>
                    <a:pt x="615" y="1431"/>
                  </a:lnTo>
                  <a:lnTo>
                    <a:pt x="602" y="1406"/>
                  </a:lnTo>
                  <a:lnTo>
                    <a:pt x="617" y="1389"/>
                  </a:lnTo>
                  <a:lnTo>
                    <a:pt x="626" y="1331"/>
                  </a:lnTo>
                  <a:lnTo>
                    <a:pt x="624" y="1329"/>
                  </a:lnTo>
                  <a:lnTo>
                    <a:pt x="619" y="1325"/>
                  </a:lnTo>
                  <a:lnTo>
                    <a:pt x="611" y="1316"/>
                  </a:lnTo>
                  <a:lnTo>
                    <a:pt x="602" y="1308"/>
                  </a:lnTo>
                  <a:lnTo>
                    <a:pt x="592" y="1295"/>
                  </a:lnTo>
                  <a:lnTo>
                    <a:pt x="581" y="1280"/>
                  </a:lnTo>
                  <a:lnTo>
                    <a:pt x="570" y="1263"/>
                  </a:lnTo>
                  <a:lnTo>
                    <a:pt x="562" y="1246"/>
                  </a:lnTo>
                  <a:lnTo>
                    <a:pt x="551" y="1259"/>
                  </a:lnTo>
                  <a:lnTo>
                    <a:pt x="547" y="1248"/>
                  </a:lnTo>
                  <a:lnTo>
                    <a:pt x="536" y="1216"/>
                  </a:lnTo>
                  <a:lnTo>
                    <a:pt x="524" y="1170"/>
                  </a:lnTo>
                  <a:lnTo>
                    <a:pt x="509" y="1112"/>
                  </a:lnTo>
                  <a:lnTo>
                    <a:pt x="492" y="1106"/>
                  </a:lnTo>
                  <a:lnTo>
                    <a:pt x="483" y="1125"/>
                  </a:lnTo>
                  <a:lnTo>
                    <a:pt x="470" y="1076"/>
                  </a:lnTo>
                  <a:lnTo>
                    <a:pt x="462" y="1010"/>
                  </a:lnTo>
                  <a:lnTo>
                    <a:pt x="460" y="940"/>
                  </a:lnTo>
                  <a:lnTo>
                    <a:pt x="462" y="882"/>
                  </a:lnTo>
                  <a:lnTo>
                    <a:pt x="460" y="882"/>
                  </a:lnTo>
                  <a:lnTo>
                    <a:pt x="456" y="882"/>
                  </a:lnTo>
                  <a:lnTo>
                    <a:pt x="447" y="880"/>
                  </a:lnTo>
                  <a:lnTo>
                    <a:pt x="436" y="882"/>
                  </a:lnTo>
                  <a:lnTo>
                    <a:pt x="424" y="885"/>
                  </a:lnTo>
                  <a:lnTo>
                    <a:pt x="411" y="889"/>
                  </a:lnTo>
                  <a:lnTo>
                    <a:pt x="398" y="895"/>
                  </a:lnTo>
                  <a:lnTo>
                    <a:pt x="385" y="904"/>
                  </a:lnTo>
                  <a:lnTo>
                    <a:pt x="370" y="914"/>
                  </a:lnTo>
                  <a:lnTo>
                    <a:pt x="356" y="925"/>
                  </a:lnTo>
                  <a:lnTo>
                    <a:pt x="336" y="933"/>
                  </a:lnTo>
                  <a:lnTo>
                    <a:pt x="317" y="940"/>
                  </a:lnTo>
                  <a:lnTo>
                    <a:pt x="296" y="946"/>
                  </a:lnTo>
                  <a:lnTo>
                    <a:pt x="273" y="950"/>
                  </a:lnTo>
                  <a:lnTo>
                    <a:pt x="247" y="953"/>
                  </a:lnTo>
                  <a:lnTo>
                    <a:pt x="219" y="953"/>
                  </a:lnTo>
                  <a:lnTo>
                    <a:pt x="217" y="957"/>
                  </a:lnTo>
                  <a:lnTo>
                    <a:pt x="213" y="968"/>
                  </a:lnTo>
                  <a:lnTo>
                    <a:pt x="207" y="980"/>
                  </a:lnTo>
                  <a:lnTo>
                    <a:pt x="196" y="995"/>
                  </a:lnTo>
                  <a:lnTo>
                    <a:pt x="183" y="1010"/>
                  </a:lnTo>
                  <a:lnTo>
                    <a:pt x="168" y="1021"/>
                  </a:lnTo>
                  <a:lnTo>
                    <a:pt x="154" y="1025"/>
                  </a:lnTo>
                  <a:lnTo>
                    <a:pt x="134" y="1021"/>
                  </a:lnTo>
                  <a:lnTo>
                    <a:pt x="119" y="1014"/>
                  </a:lnTo>
                  <a:lnTo>
                    <a:pt x="124" y="1014"/>
                  </a:lnTo>
                  <a:lnTo>
                    <a:pt x="134" y="1010"/>
                  </a:lnTo>
                  <a:lnTo>
                    <a:pt x="147" y="995"/>
                  </a:lnTo>
                  <a:lnTo>
                    <a:pt x="154" y="963"/>
                  </a:lnTo>
                  <a:lnTo>
                    <a:pt x="156" y="925"/>
                  </a:lnTo>
                  <a:lnTo>
                    <a:pt x="162" y="893"/>
                  </a:lnTo>
                  <a:lnTo>
                    <a:pt x="171" y="878"/>
                  </a:lnTo>
                  <a:lnTo>
                    <a:pt x="179" y="876"/>
                  </a:lnTo>
                  <a:lnTo>
                    <a:pt x="192" y="872"/>
                  </a:lnTo>
                  <a:lnTo>
                    <a:pt x="205" y="863"/>
                  </a:lnTo>
                  <a:lnTo>
                    <a:pt x="222" y="855"/>
                  </a:lnTo>
                  <a:lnTo>
                    <a:pt x="234" y="846"/>
                  </a:lnTo>
                  <a:lnTo>
                    <a:pt x="249" y="836"/>
                  </a:lnTo>
                  <a:lnTo>
                    <a:pt x="258" y="825"/>
                  </a:lnTo>
                  <a:lnTo>
                    <a:pt x="264" y="817"/>
                  </a:lnTo>
                  <a:lnTo>
                    <a:pt x="256" y="817"/>
                  </a:lnTo>
                  <a:lnTo>
                    <a:pt x="232" y="817"/>
                  </a:lnTo>
                  <a:lnTo>
                    <a:pt x="198" y="812"/>
                  </a:lnTo>
                  <a:lnTo>
                    <a:pt x="158" y="808"/>
                  </a:lnTo>
                  <a:lnTo>
                    <a:pt x="119" y="800"/>
                  </a:lnTo>
                  <a:lnTo>
                    <a:pt x="83" y="789"/>
                  </a:lnTo>
                  <a:lnTo>
                    <a:pt x="58" y="772"/>
                  </a:lnTo>
                  <a:lnTo>
                    <a:pt x="45" y="751"/>
                  </a:lnTo>
                  <a:lnTo>
                    <a:pt x="15" y="725"/>
                  </a:lnTo>
                  <a:lnTo>
                    <a:pt x="3" y="700"/>
                  </a:lnTo>
                  <a:lnTo>
                    <a:pt x="0" y="676"/>
                  </a:lnTo>
                  <a:lnTo>
                    <a:pt x="9" y="655"/>
                  </a:lnTo>
                  <a:lnTo>
                    <a:pt x="11" y="655"/>
                  </a:lnTo>
                  <a:lnTo>
                    <a:pt x="17" y="651"/>
                  </a:lnTo>
                  <a:lnTo>
                    <a:pt x="26" y="649"/>
                  </a:lnTo>
                  <a:lnTo>
                    <a:pt x="37" y="642"/>
                  </a:lnTo>
                  <a:lnTo>
                    <a:pt x="51" y="638"/>
                  </a:lnTo>
                  <a:lnTo>
                    <a:pt x="66" y="632"/>
                  </a:lnTo>
                  <a:lnTo>
                    <a:pt x="81" y="625"/>
                  </a:lnTo>
                  <a:lnTo>
                    <a:pt x="96" y="621"/>
                  </a:lnTo>
                  <a:lnTo>
                    <a:pt x="115" y="615"/>
                  </a:lnTo>
                  <a:lnTo>
                    <a:pt x="141" y="604"/>
                  </a:lnTo>
                  <a:lnTo>
                    <a:pt x="171" y="589"/>
                  </a:lnTo>
                  <a:lnTo>
                    <a:pt x="202" y="574"/>
                  </a:lnTo>
                  <a:lnTo>
                    <a:pt x="234" y="559"/>
                  </a:lnTo>
                  <a:lnTo>
                    <a:pt x="264" y="542"/>
                  </a:lnTo>
                  <a:lnTo>
                    <a:pt x="292" y="529"/>
                  </a:lnTo>
                  <a:lnTo>
                    <a:pt x="311" y="521"/>
                  </a:lnTo>
                  <a:lnTo>
                    <a:pt x="336" y="504"/>
                  </a:lnTo>
                  <a:lnTo>
                    <a:pt x="353" y="485"/>
                  </a:lnTo>
                  <a:lnTo>
                    <a:pt x="362" y="466"/>
                  </a:lnTo>
                  <a:lnTo>
                    <a:pt x="366" y="444"/>
                  </a:lnTo>
                  <a:lnTo>
                    <a:pt x="370" y="434"/>
                  </a:lnTo>
                  <a:lnTo>
                    <a:pt x="379" y="421"/>
                  </a:lnTo>
                  <a:lnTo>
                    <a:pt x="394" y="408"/>
                  </a:lnTo>
                  <a:lnTo>
                    <a:pt x="413" y="393"/>
                  </a:lnTo>
                  <a:lnTo>
                    <a:pt x="432" y="378"/>
                  </a:lnTo>
                  <a:lnTo>
                    <a:pt x="453" y="364"/>
                  </a:lnTo>
                  <a:lnTo>
                    <a:pt x="473" y="349"/>
                  </a:lnTo>
                  <a:lnTo>
                    <a:pt x="492" y="334"/>
                  </a:lnTo>
                  <a:lnTo>
                    <a:pt x="490" y="327"/>
                  </a:lnTo>
                  <a:lnTo>
                    <a:pt x="483" y="308"/>
                  </a:lnTo>
                  <a:lnTo>
                    <a:pt x="475" y="287"/>
                  </a:lnTo>
                  <a:lnTo>
                    <a:pt x="468" y="268"/>
                  </a:lnTo>
                  <a:lnTo>
                    <a:pt x="468" y="251"/>
                  </a:lnTo>
                  <a:lnTo>
                    <a:pt x="470" y="228"/>
                  </a:lnTo>
                  <a:lnTo>
                    <a:pt x="470" y="202"/>
                  </a:lnTo>
                  <a:lnTo>
                    <a:pt x="462" y="174"/>
                  </a:lnTo>
                  <a:lnTo>
                    <a:pt x="451" y="138"/>
                  </a:lnTo>
                  <a:lnTo>
                    <a:pt x="449" y="94"/>
                  </a:lnTo>
                  <a:lnTo>
                    <a:pt x="451" y="47"/>
                  </a:lnTo>
                  <a:lnTo>
                    <a:pt x="453" y="0"/>
                  </a:lnTo>
                  <a:lnTo>
                    <a:pt x="458" y="6"/>
                  </a:lnTo>
                  <a:lnTo>
                    <a:pt x="468" y="26"/>
                  </a:lnTo>
                  <a:lnTo>
                    <a:pt x="479" y="51"/>
                  </a:lnTo>
                  <a:lnTo>
                    <a:pt x="485" y="81"/>
                  </a:lnTo>
                  <a:lnTo>
                    <a:pt x="490" y="98"/>
                  </a:lnTo>
                  <a:lnTo>
                    <a:pt x="500" y="115"/>
                  </a:lnTo>
                  <a:lnTo>
                    <a:pt x="511" y="134"/>
                  </a:lnTo>
                  <a:lnTo>
                    <a:pt x="526" y="153"/>
                  </a:lnTo>
                  <a:lnTo>
                    <a:pt x="539" y="172"/>
                  </a:lnTo>
                  <a:lnTo>
                    <a:pt x="549" y="187"/>
                  </a:lnTo>
                  <a:lnTo>
                    <a:pt x="560" y="202"/>
                  </a:lnTo>
                  <a:lnTo>
                    <a:pt x="564" y="215"/>
                  </a:lnTo>
                  <a:lnTo>
                    <a:pt x="570" y="234"/>
                  </a:lnTo>
                  <a:lnTo>
                    <a:pt x="581" y="255"/>
                  </a:lnTo>
                  <a:lnTo>
                    <a:pt x="596" y="276"/>
                  </a:lnTo>
                  <a:lnTo>
                    <a:pt x="613" y="304"/>
                  </a:lnTo>
                  <a:lnTo>
                    <a:pt x="619" y="296"/>
                  </a:lnTo>
                  <a:lnTo>
                    <a:pt x="634" y="276"/>
                  </a:lnTo>
                  <a:lnTo>
                    <a:pt x="653" y="249"/>
                  </a:lnTo>
                  <a:lnTo>
                    <a:pt x="668" y="219"/>
                  </a:lnTo>
                  <a:lnTo>
                    <a:pt x="668" y="200"/>
                  </a:lnTo>
                  <a:lnTo>
                    <a:pt x="670" y="151"/>
                  </a:lnTo>
                  <a:lnTo>
                    <a:pt x="683" y="87"/>
                  </a:lnTo>
                  <a:lnTo>
                    <a:pt x="715" y="28"/>
                  </a:lnTo>
                  <a:lnTo>
                    <a:pt x="717" y="36"/>
                  </a:lnTo>
                  <a:lnTo>
                    <a:pt x="721" y="60"/>
                  </a:lnTo>
                  <a:lnTo>
                    <a:pt x="730" y="94"/>
                  </a:lnTo>
                  <a:lnTo>
                    <a:pt x="741" y="132"/>
                  </a:lnTo>
                  <a:lnTo>
                    <a:pt x="753" y="174"/>
                  </a:lnTo>
                  <a:lnTo>
                    <a:pt x="766" y="213"/>
                  </a:lnTo>
                  <a:lnTo>
                    <a:pt x="779" y="245"/>
                  </a:lnTo>
                  <a:lnTo>
                    <a:pt x="792" y="264"/>
                  </a:lnTo>
                  <a:lnTo>
                    <a:pt x="804" y="281"/>
                  </a:lnTo>
                  <a:lnTo>
                    <a:pt x="817" y="300"/>
                  </a:lnTo>
                  <a:lnTo>
                    <a:pt x="828" y="325"/>
                  </a:lnTo>
                  <a:lnTo>
                    <a:pt x="838" y="353"/>
                  </a:lnTo>
                  <a:lnTo>
                    <a:pt x="849" y="383"/>
                  </a:lnTo>
                  <a:lnTo>
                    <a:pt x="858" y="415"/>
                  </a:lnTo>
                  <a:lnTo>
                    <a:pt x="864" y="449"/>
                  </a:lnTo>
                  <a:lnTo>
                    <a:pt x="866" y="483"/>
                  </a:lnTo>
                  <a:lnTo>
                    <a:pt x="870" y="487"/>
                  </a:lnTo>
                  <a:lnTo>
                    <a:pt x="879" y="495"/>
                  </a:lnTo>
                  <a:lnTo>
                    <a:pt x="892" y="508"/>
                  </a:lnTo>
                  <a:lnTo>
                    <a:pt x="907" y="525"/>
                  </a:lnTo>
                  <a:lnTo>
                    <a:pt x="924" y="544"/>
                  </a:lnTo>
                  <a:lnTo>
                    <a:pt x="941" y="566"/>
                  </a:lnTo>
                  <a:lnTo>
                    <a:pt x="955" y="585"/>
                  </a:lnTo>
                  <a:lnTo>
                    <a:pt x="966" y="602"/>
                  </a:lnTo>
                  <a:lnTo>
                    <a:pt x="975" y="617"/>
                  </a:lnTo>
                  <a:lnTo>
                    <a:pt x="983" y="632"/>
                  </a:lnTo>
                  <a:lnTo>
                    <a:pt x="992" y="644"/>
                  </a:lnTo>
                  <a:lnTo>
                    <a:pt x="1002" y="657"/>
                  </a:lnTo>
                  <a:lnTo>
                    <a:pt x="1015" y="670"/>
                  </a:lnTo>
                  <a:lnTo>
                    <a:pt x="1028" y="687"/>
                  </a:lnTo>
                  <a:lnTo>
                    <a:pt x="1045" y="704"/>
                  </a:lnTo>
                  <a:lnTo>
                    <a:pt x="1066" y="723"/>
                  </a:lnTo>
                  <a:lnTo>
                    <a:pt x="1087" y="742"/>
                  </a:lnTo>
                  <a:lnTo>
                    <a:pt x="1102" y="757"/>
                  </a:lnTo>
                  <a:lnTo>
                    <a:pt x="1115" y="770"/>
                  </a:lnTo>
                  <a:lnTo>
                    <a:pt x="1126" y="778"/>
                  </a:lnTo>
                  <a:lnTo>
                    <a:pt x="1132" y="783"/>
                  </a:lnTo>
                  <a:lnTo>
                    <a:pt x="1136" y="787"/>
                  </a:lnTo>
                  <a:lnTo>
                    <a:pt x="1138" y="789"/>
                  </a:lnTo>
                  <a:lnTo>
                    <a:pt x="1138" y="789"/>
                  </a:lnTo>
                  <a:lnTo>
                    <a:pt x="1117" y="802"/>
                  </a:lnTo>
                  <a:lnTo>
                    <a:pt x="1213" y="889"/>
                  </a:lnTo>
                  <a:lnTo>
                    <a:pt x="1221" y="891"/>
                  </a:lnTo>
                  <a:lnTo>
                    <a:pt x="1240" y="899"/>
                  </a:lnTo>
                  <a:lnTo>
                    <a:pt x="1272" y="912"/>
                  </a:lnTo>
                  <a:lnTo>
                    <a:pt x="1309" y="927"/>
                  </a:lnTo>
                  <a:lnTo>
                    <a:pt x="1347" y="942"/>
                  </a:lnTo>
                  <a:lnTo>
                    <a:pt x="1385" y="959"/>
                  </a:lnTo>
                  <a:lnTo>
                    <a:pt x="1417" y="974"/>
                  </a:lnTo>
                  <a:lnTo>
                    <a:pt x="1443" y="987"/>
                  </a:lnTo>
                  <a:lnTo>
                    <a:pt x="1453" y="1006"/>
                  </a:lnTo>
                  <a:lnTo>
                    <a:pt x="1466" y="1031"/>
                  </a:lnTo>
                  <a:lnTo>
                    <a:pt x="1479" y="1061"/>
                  </a:lnTo>
                  <a:lnTo>
                    <a:pt x="1489" y="1095"/>
                  </a:lnTo>
                  <a:lnTo>
                    <a:pt x="1498" y="1131"/>
                  </a:lnTo>
                  <a:lnTo>
                    <a:pt x="1502" y="1170"/>
                  </a:lnTo>
                  <a:lnTo>
                    <a:pt x="1502" y="1206"/>
                  </a:lnTo>
                  <a:lnTo>
                    <a:pt x="1498" y="1242"/>
                  </a:lnTo>
                  <a:lnTo>
                    <a:pt x="1474" y="1267"/>
                  </a:lnTo>
                  <a:lnTo>
                    <a:pt x="1487" y="1278"/>
                  </a:lnTo>
                  <a:lnTo>
                    <a:pt x="1500" y="1289"/>
                  </a:lnTo>
                  <a:lnTo>
                    <a:pt x="1513" y="1299"/>
                  </a:lnTo>
                  <a:lnTo>
                    <a:pt x="1523" y="1310"/>
                  </a:lnTo>
                  <a:lnTo>
                    <a:pt x="1534" y="1320"/>
                  </a:lnTo>
                  <a:lnTo>
                    <a:pt x="1543" y="1329"/>
                  </a:lnTo>
                  <a:lnTo>
                    <a:pt x="1547" y="1333"/>
                  </a:lnTo>
                  <a:lnTo>
                    <a:pt x="1549" y="1335"/>
                  </a:lnTo>
                  <a:lnTo>
                    <a:pt x="1491" y="1363"/>
                  </a:lnTo>
                  <a:lnTo>
                    <a:pt x="1528" y="1399"/>
                  </a:lnTo>
                  <a:lnTo>
                    <a:pt x="1489" y="1389"/>
                  </a:lnTo>
                  <a:lnTo>
                    <a:pt x="1494" y="1463"/>
                  </a:lnTo>
                  <a:lnTo>
                    <a:pt x="1483" y="1548"/>
                  </a:lnTo>
                  <a:lnTo>
                    <a:pt x="1468" y="1616"/>
                  </a:lnTo>
                  <a:lnTo>
                    <a:pt x="1462" y="1644"/>
                  </a:lnTo>
                  <a:lnTo>
                    <a:pt x="1457" y="1680"/>
                  </a:lnTo>
                  <a:lnTo>
                    <a:pt x="1453" y="1722"/>
                  </a:lnTo>
                  <a:lnTo>
                    <a:pt x="1443" y="1767"/>
                  </a:lnTo>
                  <a:lnTo>
                    <a:pt x="1434" y="1814"/>
                  </a:lnTo>
                  <a:lnTo>
                    <a:pt x="1421" y="1858"/>
                  </a:lnTo>
                  <a:lnTo>
                    <a:pt x="1411" y="1895"/>
                  </a:lnTo>
                  <a:lnTo>
                    <a:pt x="1398" y="1924"/>
                  </a:lnTo>
                  <a:lnTo>
                    <a:pt x="1387" y="1941"/>
                  </a:lnTo>
                  <a:lnTo>
                    <a:pt x="1392" y="1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08120" y="4547160"/>
              <a:ext cx="1963800" cy="1491840"/>
            </a:xfrm>
            <a:custGeom>
              <a:avLst/>
              <a:gdLst/>
              <a:ahLst/>
              <a:rect l="l" t="t" r="r" b="b"/>
              <a:pathLst>
                <a:path w="2219" h="1811">
                  <a:moveTo>
                    <a:pt x="111" y="255"/>
                  </a:moveTo>
                  <a:lnTo>
                    <a:pt x="87" y="280"/>
                  </a:lnTo>
                  <a:lnTo>
                    <a:pt x="100" y="291"/>
                  </a:lnTo>
                  <a:lnTo>
                    <a:pt x="113" y="302"/>
                  </a:lnTo>
                  <a:lnTo>
                    <a:pt x="126" y="312"/>
                  </a:lnTo>
                  <a:lnTo>
                    <a:pt x="136" y="323"/>
                  </a:lnTo>
                  <a:lnTo>
                    <a:pt x="147" y="333"/>
                  </a:lnTo>
                  <a:lnTo>
                    <a:pt x="156" y="342"/>
                  </a:lnTo>
                  <a:lnTo>
                    <a:pt x="160" y="346"/>
                  </a:lnTo>
                  <a:lnTo>
                    <a:pt x="162" y="348"/>
                  </a:lnTo>
                  <a:lnTo>
                    <a:pt x="104" y="376"/>
                  </a:lnTo>
                  <a:lnTo>
                    <a:pt x="141" y="412"/>
                  </a:lnTo>
                  <a:lnTo>
                    <a:pt x="102" y="402"/>
                  </a:lnTo>
                  <a:lnTo>
                    <a:pt x="107" y="476"/>
                  </a:lnTo>
                  <a:lnTo>
                    <a:pt x="96" y="561"/>
                  </a:lnTo>
                  <a:lnTo>
                    <a:pt x="81" y="629"/>
                  </a:lnTo>
                  <a:lnTo>
                    <a:pt x="75" y="657"/>
                  </a:lnTo>
                  <a:lnTo>
                    <a:pt x="70" y="693"/>
                  </a:lnTo>
                  <a:lnTo>
                    <a:pt x="66" y="735"/>
                  </a:lnTo>
                  <a:lnTo>
                    <a:pt x="56" y="780"/>
                  </a:lnTo>
                  <a:lnTo>
                    <a:pt x="47" y="827"/>
                  </a:lnTo>
                  <a:lnTo>
                    <a:pt x="34" y="871"/>
                  </a:lnTo>
                  <a:lnTo>
                    <a:pt x="24" y="908"/>
                  </a:lnTo>
                  <a:lnTo>
                    <a:pt x="11" y="937"/>
                  </a:lnTo>
                  <a:lnTo>
                    <a:pt x="0" y="954"/>
                  </a:lnTo>
                  <a:lnTo>
                    <a:pt x="5" y="978"/>
                  </a:lnTo>
                  <a:lnTo>
                    <a:pt x="39" y="1005"/>
                  </a:lnTo>
                  <a:lnTo>
                    <a:pt x="41" y="978"/>
                  </a:lnTo>
                  <a:lnTo>
                    <a:pt x="64" y="995"/>
                  </a:lnTo>
                  <a:lnTo>
                    <a:pt x="83" y="1003"/>
                  </a:lnTo>
                  <a:lnTo>
                    <a:pt x="96" y="1003"/>
                  </a:lnTo>
                  <a:lnTo>
                    <a:pt x="100" y="1003"/>
                  </a:lnTo>
                  <a:lnTo>
                    <a:pt x="85" y="976"/>
                  </a:lnTo>
                  <a:lnTo>
                    <a:pt x="139" y="1001"/>
                  </a:lnTo>
                  <a:lnTo>
                    <a:pt x="136" y="978"/>
                  </a:lnTo>
                  <a:lnTo>
                    <a:pt x="164" y="976"/>
                  </a:lnTo>
                  <a:lnTo>
                    <a:pt x="194" y="971"/>
                  </a:lnTo>
                  <a:lnTo>
                    <a:pt x="224" y="965"/>
                  </a:lnTo>
                  <a:lnTo>
                    <a:pt x="251" y="957"/>
                  </a:lnTo>
                  <a:lnTo>
                    <a:pt x="275" y="948"/>
                  </a:lnTo>
                  <a:lnTo>
                    <a:pt x="294" y="942"/>
                  </a:lnTo>
                  <a:lnTo>
                    <a:pt x="307" y="937"/>
                  </a:lnTo>
                  <a:lnTo>
                    <a:pt x="311" y="935"/>
                  </a:lnTo>
                  <a:lnTo>
                    <a:pt x="317" y="950"/>
                  </a:lnTo>
                  <a:lnTo>
                    <a:pt x="355" y="922"/>
                  </a:lnTo>
                  <a:lnTo>
                    <a:pt x="355" y="933"/>
                  </a:lnTo>
                  <a:lnTo>
                    <a:pt x="404" y="912"/>
                  </a:lnTo>
                  <a:lnTo>
                    <a:pt x="409" y="929"/>
                  </a:lnTo>
                  <a:lnTo>
                    <a:pt x="475" y="888"/>
                  </a:lnTo>
                  <a:lnTo>
                    <a:pt x="494" y="884"/>
                  </a:lnTo>
                  <a:lnTo>
                    <a:pt x="511" y="876"/>
                  </a:lnTo>
                  <a:lnTo>
                    <a:pt x="528" y="869"/>
                  </a:lnTo>
                  <a:lnTo>
                    <a:pt x="543" y="861"/>
                  </a:lnTo>
                  <a:lnTo>
                    <a:pt x="555" y="854"/>
                  </a:lnTo>
                  <a:lnTo>
                    <a:pt x="564" y="848"/>
                  </a:lnTo>
                  <a:lnTo>
                    <a:pt x="570" y="844"/>
                  </a:lnTo>
                  <a:lnTo>
                    <a:pt x="572" y="842"/>
                  </a:lnTo>
                  <a:lnTo>
                    <a:pt x="579" y="899"/>
                  </a:lnTo>
                  <a:lnTo>
                    <a:pt x="596" y="901"/>
                  </a:lnTo>
                  <a:lnTo>
                    <a:pt x="611" y="903"/>
                  </a:lnTo>
                  <a:lnTo>
                    <a:pt x="628" y="903"/>
                  </a:lnTo>
                  <a:lnTo>
                    <a:pt x="643" y="901"/>
                  </a:lnTo>
                  <a:lnTo>
                    <a:pt x="653" y="901"/>
                  </a:lnTo>
                  <a:lnTo>
                    <a:pt x="664" y="901"/>
                  </a:lnTo>
                  <a:lnTo>
                    <a:pt x="670" y="899"/>
                  </a:lnTo>
                  <a:lnTo>
                    <a:pt x="672" y="899"/>
                  </a:lnTo>
                  <a:lnTo>
                    <a:pt x="692" y="933"/>
                  </a:lnTo>
                  <a:lnTo>
                    <a:pt x="711" y="963"/>
                  </a:lnTo>
                  <a:lnTo>
                    <a:pt x="730" y="988"/>
                  </a:lnTo>
                  <a:lnTo>
                    <a:pt x="751" y="1010"/>
                  </a:lnTo>
                  <a:lnTo>
                    <a:pt x="772" y="1029"/>
                  </a:lnTo>
                  <a:lnTo>
                    <a:pt x="794" y="1048"/>
                  </a:lnTo>
                  <a:lnTo>
                    <a:pt x="815" y="1063"/>
                  </a:lnTo>
                  <a:lnTo>
                    <a:pt x="836" y="1078"/>
                  </a:lnTo>
                  <a:lnTo>
                    <a:pt x="855" y="1093"/>
                  </a:lnTo>
                  <a:lnTo>
                    <a:pt x="875" y="1110"/>
                  </a:lnTo>
                  <a:lnTo>
                    <a:pt x="889" y="1129"/>
                  </a:lnTo>
                  <a:lnTo>
                    <a:pt x="904" y="1146"/>
                  </a:lnTo>
                  <a:lnTo>
                    <a:pt x="917" y="1163"/>
                  </a:lnTo>
                  <a:lnTo>
                    <a:pt x="930" y="1180"/>
                  </a:lnTo>
                  <a:lnTo>
                    <a:pt x="943" y="1195"/>
                  </a:lnTo>
                  <a:lnTo>
                    <a:pt x="957" y="1207"/>
                  </a:lnTo>
                  <a:lnTo>
                    <a:pt x="972" y="1218"/>
                  </a:lnTo>
                  <a:lnTo>
                    <a:pt x="989" y="1224"/>
                  </a:lnTo>
                  <a:lnTo>
                    <a:pt x="1006" y="1231"/>
                  </a:lnTo>
                  <a:lnTo>
                    <a:pt x="1023" y="1235"/>
                  </a:lnTo>
                  <a:lnTo>
                    <a:pt x="1038" y="1237"/>
                  </a:lnTo>
                  <a:lnTo>
                    <a:pt x="1053" y="1241"/>
                  </a:lnTo>
                  <a:lnTo>
                    <a:pt x="1066" y="1248"/>
                  </a:lnTo>
                  <a:lnTo>
                    <a:pt x="1077" y="1256"/>
                  </a:lnTo>
                  <a:lnTo>
                    <a:pt x="1089" y="1271"/>
                  </a:lnTo>
                  <a:lnTo>
                    <a:pt x="1104" y="1292"/>
                  </a:lnTo>
                  <a:lnTo>
                    <a:pt x="1123" y="1320"/>
                  </a:lnTo>
                  <a:lnTo>
                    <a:pt x="1145" y="1348"/>
                  </a:lnTo>
                  <a:lnTo>
                    <a:pt x="1162" y="1375"/>
                  </a:lnTo>
                  <a:lnTo>
                    <a:pt x="1179" y="1399"/>
                  </a:lnTo>
                  <a:lnTo>
                    <a:pt x="1189" y="1416"/>
                  </a:lnTo>
                  <a:lnTo>
                    <a:pt x="1194" y="1422"/>
                  </a:lnTo>
                  <a:lnTo>
                    <a:pt x="1043" y="1628"/>
                  </a:lnTo>
                  <a:lnTo>
                    <a:pt x="1019" y="1624"/>
                  </a:lnTo>
                  <a:lnTo>
                    <a:pt x="1009" y="1626"/>
                  </a:lnTo>
                  <a:lnTo>
                    <a:pt x="1000" y="1631"/>
                  </a:lnTo>
                  <a:lnTo>
                    <a:pt x="983" y="1631"/>
                  </a:lnTo>
                  <a:lnTo>
                    <a:pt x="970" y="1628"/>
                  </a:lnTo>
                  <a:lnTo>
                    <a:pt x="957" y="1628"/>
                  </a:lnTo>
                  <a:lnTo>
                    <a:pt x="945" y="1633"/>
                  </a:lnTo>
                  <a:lnTo>
                    <a:pt x="932" y="1637"/>
                  </a:lnTo>
                  <a:lnTo>
                    <a:pt x="919" y="1643"/>
                  </a:lnTo>
                  <a:lnTo>
                    <a:pt x="911" y="1650"/>
                  </a:lnTo>
                  <a:lnTo>
                    <a:pt x="902" y="1658"/>
                  </a:lnTo>
                  <a:lnTo>
                    <a:pt x="898" y="1669"/>
                  </a:lnTo>
                  <a:lnTo>
                    <a:pt x="894" y="1688"/>
                  </a:lnTo>
                  <a:lnTo>
                    <a:pt x="885" y="1701"/>
                  </a:lnTo>
                  <a:lnTo>
                    <a:pt x="879" y="1711"/>
                  </a:lnTo>
                  <a:lnTo>
                    <a:pt x="877" y="1713"/>
                  </a:lnTo>
                  <a:lnTo>
                    <a:pt x="913" y="1748"/>
                  </a:lnTo>
                  <a:lnTo>
                    <a:pt x="913" y="1762"/>
                  </a:lnTo>
                  <a:lnTo>
                    <a:pt x="1019" y="1762"/>
                  </a:lnTo>
                  <a:lnTo>
                    <a:pt x="1043" y="1758"/>
                  </a:lnTo>
                  <a:lnTo>
                    <a:pt x="1060" y="1752"/>
                  </a:lnTo>
                  <a:lnTo>
                    <a:pt x="1074" y="1748"/>
                  </a:lnTo>
                  <a:lnTo>
                    <a:pt x="1087" y="1741"/>
                  </a:lnTo>
                  <a:lnTo>
                    <a:pt x="1098" y="1735"/>
                  </a:lnTo>
                  <a:lnTo>
                    <a:pt x="1108" y="1724"/>
                  </a:lnTo>
                  <a:lnTo>
                    <a:pt x="1121" y="1711"/>
                  </a:lnTo>
                  <a:lnTo>
                    <a:pt x="1136" y="1696"/>
                  </a:lnTo>
                  <a:lnTo>
                    <a:pt x="1160" y="1671"/>
                  </a:lnTo>
                  <a:lnTo>
                    <a:pt x="1194" y="1635"/>
                  </a:lnTo>
                  <a:lnTo>
                    <a:pt x="1232" y="1592"/>
                  </a:lnTo>
                  <a:lnTo>
                    <a:pt x="1272" y="1548"/>
                  </a:lnTo>
                  <a:lnTo>
                    <a:pt x="1311" y="1503"/>
                  </a:lnTo>
                  <a:lnTo>
                    <a:pt x="1345" y="1467"/>
                  </a:lnTo>
                  <a:lnTo>
                    <a:pt x="1366" y="1441"/>
                  </a:lnTo>
                  <a:lnTo>
                    <a:pt x="1374" y="1433"/>
                  </a:lnTo>
                  <a:lnTo>
                    <a:pt x="1408" y="1412"/>
                  </a:lnTo>
                  <a:lnTo>
                    <a:pt x="1425" y="1388"/>
                  </a:lnTo>
                  <a:lnTo>
                    <a:pt x="1434" y="1371"/>
                  </a:lnTo>
                  <a:lnTo>
                    <a:pt x="1436" y="1363"/>
                  </a:lnTo>
                  <a:lnTo>
                    <a:pt x="1398" y="1326"/>
                  </a:lnTo>
                  <a:lnTo>
                    <a:pt x="1362" y="1295"/>
                  </a:lnTo>
                  <a:lnTo>
                    <a:pt x="1328" y="1263"/>
                  </a:lnTo>
                  <a:lnTo>
                    <a:pt x="1296" y="1231"/>
                  </a:lnTo>
                  <a:lnTo>
                    <a:pt x="1270" y="1203"/>
                  </a:lnTo>
                  <a:lnTo>
                    <a:pt x="1251" y="1176"/>
                  </a:lnTo>
                  <a:lnTo>
                    <a:pt x="1236" y="1148"/>
                  </a:lnTo>
                  <a:lnTo>
                    <a:pt x="1232" y="1120"/>
                  </a:lnTo>
                  <a:lnTo>
                    <a:pt x="1236" y="1071"/>
                  </a:lnTo>
                  <a:lnTo>
                    <a:pt x="1247" y="1037"/>
                  </a:lnTo>
                  <a:lnTo>
                    <a:pt x="1257" y="1014"/>
                  </a:lnTo>
                  <a:lnTo>
                    <a:pt x="1262" y="1008"/>
                  </a:lnTo>
                  <a:lnTo>
                    <a:pt x="1289" y="1044"/>
                  </a:lnTo>
                  <a:lnTo>
                    <a:pt x="1325" y="1071"/>
                  </a:lnTo>
                  <a:lnTo>
                    <a:pt x="1366" y="1093"/>
                  </a:lnTo>
                  <a:lnTo>
                    <a:pt x="1406" y="1110"/>
                  </a:lnTo>
                  <a:lnTo>
                    <a:pt x="1445" y="1122"/>
                  </a:lnTo>
                  <a:lnTo>
                    <a:pt x="1476" y="1135"/>
                  </a:lnTo>
                  <a:lnTo>
                    <a:pt x="1500" y="1148"/>
                  </a:lnTo>
                  <a:lnTo>
                    <a:pt x="1511" y="1161"/>
                  </a:lnTo>
                  <a:lnTo>
                    <a:pt x="1519" y="1190"/>
                  </a:lnTo>
                  <a:lnTo>
                    <a:pt x="1525" y="1222"/>
                  </a:lnTo>
                  <a:lnTo>
                    <a:pt x="1528" y="1246"/>
                  </a:lnTo>
                  <a:lnTo>
                    <a:pt x="1530" y="1254"/>
                  </a:lnTo>
                  <a:lnTo>
                    <a:pt x="1542" y="1248"/>
                  </a:lnTo>
                  <a:lnTo>
                    <a:pt x="1551" y="1284"/>
                  </a:lnTo>
                  <a:lnTo>
                    <a:pt x="1559" y="1312"/>
                  </a:lnTo>
                  <a:lnTo>
                    <a:pt x="1566" y="1326"/>
                  </a:lnTo>
                  <a:lnTo>
                    <a:pt x="1568" y="1333"/>
                  </a:lnTo>
                  <a:lnTo>
                    <a:pt x="1579" y="1329"/>
                  </a:lnTo>
                  <a:lnTo>
                    <a:pt x="1587" y="1354"/>
                  </a:lnTo>
                  <a:lnTo>
                    <a:pt x="1598" y="1380"/>
                  </a:lnTo>
                  <a:lnTo>
                    <a:pt x="1610" y="1401"/>
                  </a:lnTo>
                  <a:lnTo>
                    <a:pt x="1625" y="1422"/>
                  </a:lnTo>
                  <a:lnTo>
                    <a:pt x="1638" y="1439"/>
                  </a:lnTo>
                  <a:lnTo>
                    <a:pt x="1649" y="1452"/>
                  </a:lnTo>
                  <a:lnTo>
                    <a:pt x="1657" y="1460"/>
                  </a:lnTo>
                  <a:lnTo>
                    <a:pt x="1659" y="1463"/>
                  </a:lnTo>
                  <a:lnTo>
                    <a:pt x="1674" y="1439"/>
                  </a:lnTo>
                  <a:lnTo>
                    <a:pt x="1700" y="1486"/>
                  </a:lnTo>
                  <a:lnTo>
                    <a:pt x="1717" y="1509"/>
                  </a:lnTo>
                  <a:lnTo>
                    <a:pt x="1730" y="1518"/>
                  </a:lnTo>
                  <a:lnTo>
                    <a:pt x="1734" y="1518"/>
                  </a:lnTo>
                  <a:lnTo>
                    <a:pt x="1742" y="1501"/>
                  </a:lnTo>
                  <a:lnTo>
                    <a:pt x="1774" y="1537"/>
                  </a:lnTo>
                  <a:lnTo>
                    <a:pt x="1785" y="1522"/>
                  </a:lnTo>
                  <a:lnTo>
                    <a:pt x="1813" y="1543"/>
                  </a:lnTo>
                  <a:lnTo>
                    <a:pt x="1836" y="1556"/>
                  </a:lnTo>
                  <a:lnTo>
                    <a:pt x="1855" y="1565"/>
                  </a:lnTo>
                  <a:lnTo>
                    <a:pt x="1872" y="1567"/>
                  </a:lnTo>
                  <a:lnTo>
                    <a:pt x="1885" y="1565"/>
                  </a:lnTo>
                  <a:lnTo>
                    <a:pt x="1896" y="1563"/>
                  </a:lnTo>
                  <a:lnTo>
                    <a:pt x="1904" y="1556"/>
                  </a:lnTo>
                  <a:lnTo>
                    <a:pt x="1910" y="1552"/>
                  </a:lnTo>
                  <a:lnTo>
                    <a:pt x="1896" y="1533"/>
                  </a:lnTo>
                  <a:lnTo>
                    <a:pt x="1883" y="1516"/>
                  </a:lnTo>
                  <a:lnTo>
                    <a:pt x="1872" y="1499"/>
                  </a:lnTo>
                  <a:lnTo>
                    <a:pt x="1866" y="1482"/>
                  </a:lnTo>
                  <a:lnTo>
                    <a:pt x="1859" y="1465"/>
                  </a:lnTo>
                  <a:lnTo>
                    <a:pt x="1857" y="1446"/>
                  </a:lnTo>
                  <a:lnTo>
                    <a:pt x="1857" y="1426"/>
                  </a:lnTo>
                  <a:lnTo>
                    <a:pt x="1859" y="1407"/>
                  </a:lnTo>
                  <a:lnTo>
                    <a:pt x="1861" y="1367"/>
                  </a:lnTo>
                  <a:lnTo>
                    <a:pt x="1853" y="1329"/>
                  </a:lnTo>
                  <a:lnTo>
                    <a:pt x="1842" y="1301"/>
                  </a:lnTo>
                  <a:lnTo>
                    <a:pt x="1838" y="1290"/>
                  </a:lnTo>
                  <a:lnTo>
                    <a:pt x="2008" y="1414"/>
                  </a:lnTo>
                  <a:lnTo>
                    <a:pt x="2036" y="1460"/>
                  </a:lnTo>
                  <a:lnTo>
                    <a:pt x="2051" y="1507"/>
                  </a:lnTo>
                  <a:lnTo>
                    <a:pt x="2057" y="1548"/>
                  </a:lnTo>
                  <a:lnTo>
                    <a:pt x="2059" y="1584"/>
                  </a:lnTo>
                  <a:lnTo>
                    <a:pt x="2055" y="1614"/>
                  </a:lnTo>
                  <a:lnTo>
                    <a:pt x="2051" y="1637"/>
                  </a:lnTo>
                  <a:lnTo>
                    <a:pt x="2047" y="1652"/>
                  </a:lnTo>
                  <a:lnTo>
                    <a:pt x="2044" y="1656"/>
                  </a:lnTo>
                  <a:lnTo>
                    <a:pt x="2017" y="1667"/>
                  </a:lnTo>
                  <a:lnTo>
                    <a:pt x="1995" y="1682"/>
                  </a:lnTo>
                  <a:lnTo>
                    <a:pt x="1978" y="1699"/>
                  </a:lnTo>
                  <a:lnTo>
                    <a:pt x="1968" y="1718"/>
                  </a:lnTo>
                  <a:lnTo>
                    <a:pt x="1959" y="1737"/>
                  </a:lnTo>
                  <a:lnTo>
                    <a:pt x="1955" y="1752"/>
                  </a:lnTo>
                  <a:lnTo>
                    <a:pt x="1951" y="1762"/>
                  </a:lnTo>
                  <a:lnTo>
                    <a:pt x="1951" y="1767"/>
                  </a:lnTo>
                  <a:lnTo>
                    <a:pt x="1968" y="1771"/>
                  </a:lnTo>
                  <a:lnTo>
                    <a:pt x="1983" y="1775"/>
                  </a:lnTo>
                  <a:lnTo>
                    <a:pt x="1995" y="1775"/>
                  </a:lnTo>
                  <a:lnTo>
                    <a:pt x="2006" y="1775"/>
                  </a:lnTo>
                  <a:lnTo>
                    <a:pt x="2015" y="1773"/>
                  </a:lnTo>
                  <a:lnTo>
                    <a:pt x="2021" y="1773"/>
                  </a:lnTo>
                  <a:lnTo>
                    <a:pt x="2023" y="1771"/>
                  </a:lnTo>
                  <a:lnTo>
                    <a:pt x="2025" y="1771"/>
                  </a:lnTo>
                  <a:lnTo>
                    <a:pt x="2044" y="1773"/>
                  </a:lnTo>
                  <a:lnTo>
                    <a:pt x="2051" y="1788"/>
                  </a:lnTo>
                  <a:lnTo>
                    <a:pt x="2057" y="1796"/>
                  </a:lnTo>
                  <a:lnTo>
                    <a:pt x="2068" y="1805"/>
                  </a:lnTo>
                  <a:lnTo>
                    <a:pt x="2076" y="1809"/>
                  </a:lnTo>
                  <a:lnTo>
                    <a:pt x="2087" y="1811"/>
                  </a:lnTo>
                  <a:lnTo>
                    <a:pt x="2098" y="1811"/>
                  </a:lnTo>
                  <a:lnTo>
                    <a:pt x="2106" y="1809"/>
                  </a:lnTo>
                  <a:lnTo>
                    <a:pt x="2115" y="1807"/>
                  </a:lnTo>
                  <a:lnTo>
                    <a:pt x="2127" y="1803"/>
                  </a:lnTo>
                  <a:lnTo>
                    <a:pt x="2140" y="1801"/>
                  </a:lnTo>
                  <a:lnTo>
                    <a:pt x="2149" y="1799"/>
                  </a:lnTo>
                  <a:lnTo>
                    <a:pt x="2153" y="1799"/>
                  </a:lnTo>
                  <a:lnTo>
                    <a:pt x="2178" y="1743"/>
                  </a:lnTo>
                  <a:lnTo>
                    <a:pt x="2202" y="1716"/>
                  </a:lnTo>
                  <a:lnTo>
                    <a:pt x="2215" y="1688"/>
                  </a:lnTo>
                  <a:lnTo>
                    <a:pt x="2219" y="1658"/>
                  </a:lnTo>
                  <a:lnTo>
                    <a:pt x="2217" y="1631"/>
                  </a:lnTo>
                  <a:lnTo>
                    <a:pt x="2212" y="1603"/>
                  </a:lnTo>
                  <a:lnTo>
                    <a:pt x="2204" y="1577"/>
                  </a:lnTo>
                  <a:lnTo>
                    <a:pt x="2198" y="1552"/>
                  </a:lnTo>
                  <a:lnTo>
                    <a:pt x="2193" y="1531"/>
                  </a:lnTo>
                  <a:lnTo>
                    <a:pt x="2187" y="1507"/>
                  </a:lnTo>
                  <a:lnTo>
                    <a:pt x="2176" y="1477"/>
                  </a:lnTo>
                  <a:lnTo>
                    <a:pt x="2159" y="1443"/>
                  </a:lnTo>
                  <a:lnTo>
                    <a:pt x="2140" y="1407"/>
                  </a:lnTo>
                  <a:lnTo>
                    <a:pt x="2123" y="1375"/>
                  </a:lnTo>
                  <a:lnTo>
                    <a:pt x="2106" y="1344"/>
                  </a:lnTo>
                  <a:lnTo>
                    <a:pt x="2093" y="1318"/>
                  </a:lnTo>
                  <a:lnTo>
                    <a:pt x="2087" y="1299"/>
                  </a:lnTo>
                  <a:lnTo>
                    <a:pt x="2083" y="1265"/>
                  </a:lnTo>
                  <a:lnTo>
                    <a:pt x="2078" y="1229"/>
                  </a:lnTo>
                  <a:lnTo>
                    <a:pt x="2076" y="1201"/>
                  </a:lnTo>
                  <a:lnTo>
                    <a:pt x="2074" y="1188"/>
                  </a:lnTo>
                  <a:lnTo>
                    <a:pt x="2015" y="1122"/>
                  </a:lnTo>
                  <a:lnTo>
                    <a:pt x="1953" y="1114"/>
                  </a:lnTo>
                  <a:lnTo>
                    <a:pt x="1921" y="1095"/>
                  </a:lnTo>
                  <a:lnTo>
                    <a:pt x="1893" y="1076"/>
                  </a:lnTo>
                  <a:lnTo>
                    <a:pt x="1870" y="1059"/>
                  </a:lnTo>
                  <a:lnTo>
                    <a:pt x="1851" y="1042"/>
                  </a:lnTo>
                  <a:lnTo>
                    <a:pt x="1834" y="1029"/>
                  </a:lnTo>
                  <a:lnTo>
                    <a:pt x="1823" y="1018"/>
                  </a:lnTo>
                  <a:lnTo>
                    <a:pt x="1817" y="1012"/>
                  </a:lnTo>
                  <a:lnTo>
                    <a:pt x="1815" y="1010"/>
                  </a:lnTo>
                  <a:lnTo>
                    <a:pt x="1804" y="957"/>
                  </a:lnTo>
                  <a:lnTo>
                    <a:pt x="1793" y="908"/>
                  </a:lnTo>
                  <a:lnTo>
                    <a:pt x="1783" y="861"/>
                  </a:lnTo>
                  <a:lnTo>
                    <a:pt x="1770" y="818"/>
                  </a:lnTo>
                  <a:lnTo>
                    <a:pt x="1762" y="784"/>
                  </a:lnTo>
                  <a:lnTo>
                    <a:pt x="1753" y="757"/>
                  </a:lnTo>
                  <a:lnTo>
                    <a:pt x="1747" y="740"/>
                  </a:lnTo>
                  <a:lnTo>
                    <a:pt x="1744" y="733"/>
                  </a:lnTo>
                  <a:lnTo>
                    <a:pt x="1706" y="621"/>
                  </a:lnTo>
                  <a:lnTo>
                    <a:pt x="1727" y="614"/>
                  </a:lnTo>
                  <a:lnTo>
                    <a:pt x="1655" y="491"/>
                  </a:lnTo>
                  <a:lnTo>
                    <a:pt x="1653" y="487"/>
                  </a:lnTo>
                  <a:lnTo>
                    <a:pt x="1649" y="474"/>
                  </a:lnTo>
                  <a:lnTo>
                    <a:pt x="1640" y="455"/>
                  </a:lnTo>
                  <a:lnTo>
                    <a:pt x="1623" y="427"/>
                  </a:lnTo>
                  <a:lnTo>
                    <a:pt x="1589" y="376"/>
                  </a:lnTo>
                  <a:lnTo>
                    <a:pt x="1555" y="325"/>
                  </a:lnTo>
                  <a:lnTo>
                    <a:pt x="1519" y="278"/>
                  </a:lnTo>
                  <a:lnTo>
                    <a:pt x="1483" y="238"/>
                  </a:lnTo>
                  <a:lnTo>
                    <a:pt x="1442" y="202"/>
                  </a:lnTo>
                  <a:lnTo>
                    <a:pt x="1400" y="176"/>
                  </a:lnTo>
                  <a:lnTo>
                    <a:pt x="1355" y="159"/>
                  </a:lnTo>
                  <a:lnTo>
                    <a:pt x="1308" y="153"/>
                  </a:lnTo>
                  <a:lnTo>
                    <a:pt x="1287" y="144"/>
                  </a:lnTo>
                  <a:lnTo>
                    <a:pt x="1264" y="136"/>
                  </a:lnTo>
                  <a:lnTo>
                    <a:pt x="1240" y="129"/>
                  </a:lnTo>
                  <a:lnTo>
                    <a:pt x="1215" y="121"/>
                  </a:lnTo>
                  <a:lnTo>
                    <a:pt x="1189" y="114"/>
                  </a:lnTo>
                  <a:lnTo>
                    <a:pt x="1164" y="108"/>
                  </a:lnTo>
                  <a:lnTo>
                    <a:pt x="1138" y="102"/>
                  </a:lnTo>
                  <a:lnTo>
                    <a:pt x="1113" y="97"/>
                  </a:lnTo>
                  <a:lnTo>
                    <a:pt x="1087" y="93"/>
                  </a:lnTo>
                  <a:lnTo>
                    <a:pt x="1062" y="89"/>
                  </a:lnTo>
                  <a:lnTo>
                    <a:pt x="1040" y="85"/>
                  </a:lnTo>
                  <a:lnTo>
                    <a:pt x="1017" y="83"/>
                  </a:lnTo>
                  <a:lnTo>
                    <a:pt x="998" y="80"/>
                  </a:lnTo>
                  <a:lnTo>
                    <a:pt x="979" y="78"/>
                  </a:lnTo>
                  <a:lnTo>
                    <a:pt x="964" y="78"/>
                  </a:lnTo>
                  <a:lnTo>
                    <a:pt x="951" y="78"/>
                  </a:lnTo>
                  <a:lnTo>
                    <a:pt x="926" y="78"/>
                  </a:lnTo>
                  <a:lnTo>
                    <a:pt x="896" y="76"/>
                  </a:lnTo>
                  <a:lnTo>
                    <a:pt x="864" y="74"/>
                  </a:lnTo>
                  <a:lnTo>
                    <a:pt x="834" y="70"/>
                  </a:lnTo>
                  <a:lnTo>
                    <a:pt x="806" y="66"/>
                  </a:lnTo>
                  <a:lnTo>
                    <a:pt x="785" y="63"/>
                  </a:lnTo>
                  <a:lnTo>
                    <a:pt x="770" y="59"/>
                  </a:lnTo>
                  <a:lnTo>
                    <a:pt x="764" y="59"/>
                  </a:lnTo>
                  <a:lnTo>
                    <a:pt x="702" y="63"/>
                  </a:lnTo>
                  <a:lnTo>
                    <a:pt x="711" y="42"/>
                  </a:lnTo>
                  <a:lnTo>
                    <a:pt x="592" y="53"/>
                  </a:lnTo>
                  <a:lnTo>
                    <a:pt x="464" y="49"/>
                  </a:lnTo>
                  <a:lnTo>
                    <a:pt x="485" y="34"/>
                  </a:lnTo>
                  <a:lnTo>
                    <a:pt x="366" y="38"/>
                  </a:lnTo>
                  <a:lnTo>
                    <a:pt x="321" y="32"/>
                  </a:lnTo>
                  <a:lnTo>
                    <a:pt x="277" y="27"/>
                  </a:lnTo>
                  <a:lnTo>
                    <a:pt x="230" y="25"/>
                  </a:lnTo>
                  <a:lnTo>
                    <a:pt x="187" y="23"/>
                  </a:lnTo>
                  <a:lnTo>
                    <a:pt x="147" y="19"/>
                  </a:lnTo>
                  <a:lnTo>
                    <a:pt x="111" y="15"/>
                  </a:lnTo>
                  <a:lnTo>
                    <a:pt x="79" y="8"/>
                  </a:lnTo>
                  <a:lnTo>
                    <a:pt x="56" y="0"/>
                  </a:lnTo>
                  <a:lnTo>
                    <a:pt x="66" y="19"/>
                  </a:lnTo>
                  <a:lnTo>
                    <a:pt x="79" y="44"/>
                  </a:lnTo>
                  <a:lnTo>
                    <a:pt x="92" y="74"/>
                  </a:lnTo>
                  <a:lnTo>
                    <a:pt x="102" y="108"/>
                  </a:lnTo>
                  <a:lnTo>
                    <a:pt x="111" y="144"/>
                  </a:lnTo>
                  <a:lnTo>
                    <a:pt x="115" y="183"/>
                  </a:lnTo>
                  <a:lnTo>
                    <a:pt x="115" y="219"/>
                  </a:lnTo>
                  <a:lnTo>
                    <a:pt x="111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9240" y="4138560"/>
              <a:ext cx="46800" cy="4032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30" y="15"/>
                  </a:moveTo>
                  <a:lnTo>
                    <a:pt x="25" y="13"/>
                  </a:lnTo>
                  <a:lnTo>
                    <a:pt x="17" y="9"/>
                  </a:lnTo>
                  <a:lnTo>
                    <a:pt x="8" y="4"/>
                  </a:lnTo>
                  <a:lnTo>
                    <a:pt x="6" y="0"/>
                  </a:lnTo>
                  <a:lnTo>
                    <a:pt x="0" y="13"/>
                  </a:lnTo>
                  <a:lnTo>
                    <a:pt x="2" y="30"/>
                  </a:lnTo>
                  <a:lnTo>
                    <a:pt x="8" y="43"/>
                  </a:lnTo>
                  <a:lnTo>
                    <a:pt x="11" y="49"/>
                  </a:lnTo>
                  <a:lnTo>
                    <a:pt x="53" y="36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0600" y="4276800"/>
              <a:ext cx="56520" cy="73080"/>
            </a:xfrm>
            <a:custGeom>
              <a:avLst/>
              <a:gdLst/>
              <a:ahLst/>
              <a:rect l="l" t="t" r="r" b="b"/>
              <a:pathLst>
                <a:path w="64" h="89">
                  <a:moveTo>
                    <a:pt x="9" y="2"/>
                  </a:moveTo>
                  <a:lnTo>
                    <a:pt x="30" y="0"/>
                  </a:lnTo>
                  <a:lnTo>
                    <a:pt x="47" y="2"/>
                  </a:lnTo>
                  <a:lnTo>
                    <a:pt x="60" y="4"/>
                  </a:lnTo>
                  <a:lnTo>
                    <a:pt x="64" y="7"/>
                  </a:lnTo>
                  <a:lnTo>
                    <a:pt x="62" y="24"/>
                  </a:lnTo>
                  <a:lnTo>
                    <a:pt x="55" y="41"/>
                  </a:lnTo>
                  <a:lnTo>
                    <a:pt x="49" y="58"/>
                  </a:lnTo>
                  <a:lnTo>
                    <a:pt x="45" y="72"/>
                  </a:lnTo>
                  <a:lnTo>
                    <a:pt x="49" y="83"/>
                  </a:lnTo>
                  <a:lnTo>
                    <a:pt x="55" y="87"/>
                  </a:lnTo>
                  <a:lnTo>
                    <a:pt x="55" y="89"/>
                  </a:lnTo>
                  <a:lnTo>
                    <a:pt x="45" y="85"/>
                  </a:lnTo>
                  <a:lnTo>
                    <a:pt x="28" y="79"/>
                  </a:lnTo>
                  <a:lnTo>
                    <a:pt x="13" y="68"/>
                  </a:lnTo>
                  <a:lnTo>
                    <a:pt x="4" y="55"/>
                  </a:lnTo>
                  <a:lnTo>
                    <a:pt x="0" y="38"/>
                  </a:lnTo>
                  <a:lnTo>
                    <a:pt x="0" y="24"/>
                  </a:lnTo>
                  <a:lnTo>
                    <a:pt x="4" y="11"/>
                  </a:lnTo>
                  <a:lnTo>
                    <a:pt x="6" y="4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7240" y="4357440"/>
              <a:ext cx="281880" cy="211680"/>
            </a:xfrm>
            <a:custGeom>
              <a:avLst/>
              <a:gdLst/>
              <a:ahLst/>
              <a:rect l="l" t="t" r="r" b="b"/>
              <a:pathLst>
                <a:path w="319" h="257">
                  <a:moveTo>
                    <a:pt x="138" y="64"/>
                  </a:moveTo>
                  <a:lnTo>
                    <a:pt x="147" y="62"/>
                  </a:lnTo>
                  <a:lnTo>
                    <a:pt x="155" y="60"/>
                  </a:lnTo>
                  <a:lnTo>
                    <a:pt x="166" y="57"/>
                  </a:lnTo>
                  <a:lnTo>
                    <a:pt x="176" y="53"/>
                  </a:lnTo>
                  <a:lnTo>
                    <a:pt x="187" y="49"/>
                  </a:lnTo>
                  <a:lnTo>
                    <a:pt x="198" y="43"/>
                  </a:lnTo>
                  <a:lnTo>
                    <a:pt x="208" y="36"/>
                  </a:lnTo>
                  <a:lnTo>
                    <a:pt x="221" y="28"/>
                  </a:lnTo>
                  <a:lnTo>
                    <a:pt x="236" y="19"/>
                  </a:lnTo>
                  <a:lnTo>
                    <a:pt x="249" y="13"/>
                  </a:lnTo>
                  <a:lnTo>
                    <a:pt x="262" y="8"/>
                  </a:lnTo>
                  <a:lnTo>
                    <a:pt x="274" y="4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5" y="6"/>
                  </a:lnTo>
                  <a:lnTo>
                    <a:pt x="319" y="15"/>
                  </a:lnTo>
                  <a:lnTo>
                    <a:pt x="317" y="23"/>
                  </a:lnTo>
                  <a:lnTo>
                    <a:pt x="302" y="28"/>
                  </a:lnTo>
                  <a:lnTo>
                    <a:pt x="289" y="30"/>
                  </a:lnTo>
                  <a:lnTo>
                    <a:pt x="274" y="36"/>
                  </a:lnTo>
                  <a:lnTo>
                    <a:pt x="257" y="47"/>
                  </a:lnTo>
                  <a:lnTo>
                    <a:pt x="238" y="57"/>
                  </a:lnTo>
                  <a:lnTo>
                    <a:pt x="219" y="70"/>
                  </a:lnTo>
                  <a:lnTo>
                    <a:pt x="202" y="85"/>
                  </a:lnTo>
                  <a:lnTo>
                    <a:pt x="187" y="98"/>
                  </a:lnTo>
                  <a:lnTo>
                    <a:pt x="174" y="113"/>
                  </a:lnTo>
                  <a:lnTo>
                    <a:pt x="164" y="123"/>
                  </a:lnTo>
                  <a:lnTo>
                    <a:pt x="151" y="132"/>
                  </a:lnTo>
                  <a:lnTo>
                    <a:pt x="136" y="138"/>
                  </a:lnTo>
                  <a:lnTo>
                    <a:pt x="121" y="142"/>
                  </a:lnTo>
                  <a:lnTo>
                    <a:pt x="106" y="145"/>
                  </a:lnTo>
                  <a:lnTo>
                    <a:pt x="93" y="147"/>
                  </a:lnTo>
                  <a:lnTo>
                    <a:pt x="85" y="149"/>
                  </a:lnTo>
                  <a:lnTo>
                    <a:pt x="83" y="149"/>
                  </a:lnTo>
                  <a:lnTo>
                    <a:pt x="68" y="179"/>
                  </a:lnTo>
                  <a:lnTo>
                    <a:pt x="51" y="213"/>
                  </a:lnTo>
                  <a:lnTo>
                    <a:pt x="36" y="242"/>
                  </a:lnTo>
                  <a:lnTo>
                    <a:pt x="23" y="253"/>
                  </a:lnTo>
                  <a:lnTo>
                    <a:pt x="13" y="255"/>
                  </a:lnTo>
                  <a:lnTo>
                    <a:pt x="4" y="257"/>
                  </a:lnTo>
                  <a:lnTo>
                    <a:pt x="0" y="257"/>
                  </a:lnTo>
                  <a:lnTo>
                    <a:pt x="6" y="247"/>
                  </a:lnTo>
                  <a:lnTo>
                    <a:pt x="28" y="206"/>
                  </a:lnTo>
                  <a:lnTo>
                    <a:pt x="32" y="172"/>
                  </a:lnTo>
                  <a:lnTo>
                    <a:pt x="32" y="149"/>
                  </a:lnTo>
                  <a:lnTo>
                    <a:pt x="38" y="136"/>
                  </a:lnTo>
                  <a:lnTo>
                    <a:pt x="49" y="132"/>
                  </a:lnTo>
                  <a:lnTo>
                    <a:pt x="64" y="121"/>
                  </a:lnTo>
                  <a:lnTo>
                    <a:pt x="79" y="111"/>
                  </a:lnTo>
                  <a:lnTo>
                    <a:pt x="96" y="98"/>
                  </a:lnTo>
                  <a:lnTo>
                    <a:pt x="113" y="85"/>
                  </a:lnTo>
                  <a:lnTo>
                    <a:pt x="125" y="74"/>
                  </a:lnTo>
                  <a:lnTo>
                    <a:pt x="134" y="66"/>
                  </a:lnTo>
                  <a:lnTo>
                    <a:pt x="138" y="64"/>
                  </a:lnTo>
                  <a:close/>
                </a:path>
              </a:pathLst>
            </a:custGeom>
            <a:gradFill rotWithShape="0">
              <a:gsLst>
                <a:gs pos="0">
                  <a:srgbClr val="fef4f4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9880" y="4052520"/>
              <a:ext cx="126360" cy="113400"/>
            </a:xfrm>
            <a:custGeom>
              <a:avLst/>
              <a:gdLst/>
              <a:ahLst/>
              <a:rect l="l" t="t" r="r" b="b"/>
              <a:pathLst>
                <a:path w="143" h="138">
                  <a:moveTo>
                    <a:pt x="70" y="2"/>
                  </a:moveTo>
                  <a:lnTo>
                    <a:pt x="34" y="0"/>
                  </a:lnTo>
                  <a:lnTo>
                    <a:pt x="0" y="36"/>
                  </a:lnTo>
                  <a:lnTo>
                    <a:pt x="53" y="57"/>
                  </a:lnTo>
                  <a:lnTo>
                    <a:pt x="39" y="62"/>
                  </a:lnTo>
                  <a:lnTo>
                    <a:pt x="66" y="79"/>
                  </a:lnTo>
                  <a:lnTo>
                    <a:pt x="53" y="91"/>
                  </a:lnTo>
                  <a:lnTo>
                    <a:pt x="83" y="136"/>
                  </a:lnTo>
                  <a:lnTo>
                    <a:pt x="143" y="138"/>
                  </a:lnTo>
                  <a:lnTo>
                    <a:pt x="124" y="106"/>
                  </a:lnTo>
                  <a:lnTo>
                    <a:pt x="113" y="79"/>
                  </a:lnTo>
                  <a:lnTo>
                    <a:pt x="109" y="57"/>
                  </a:lnTo>
                  <a:lnTo>
                    <a:pt x="107" y="51"/>
                  </a:lnTo>
                  <a:lnTo>
                    <a:pt x="79" y="38"/>
                  </a:lnTo>
                  <a:lnTo>
                    <a:pt x="88" y="4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7600" y="4124520"/>
              <a:ext cx="539280" cy="284040"/>
            </a:xfrm>
            <a:custGeom>
              <a:avLst/>
              <a:gdLst/>
              <a:ahLst/>
              <a:rect l="l" t="t" r="r" b="b"/>
              <a:pathLst>
                <a:path w="610" h="345">
                  <a:moveTo>
                    <a:pt x="157" y="60"/>
                  </a:moveTo>
                  <a:lnTo>
                    <a:pt x="143" y="70"/>
                  </a:lnTo>
                  <a:lnTo>
                    <a:pt x="121" y="83"/>
                  </a:lnTo>
                  <a:lnTo>
                    <a:pt x="96" y="94"/>
                  </a:lnTo>
                  <a:lnTo>
                    <a:pt x="68" y="104"/>
                  </a:lnTo>
                  <a:lnTo>
                    <a:pt x="43" y="115"/>
                  </a:lnTo>
                  <a:lnTo>
                    <a:pt x="21" y="124"/>
                  </a:lnTo>
                  <a:lnTo>
                    <a:pt x="6" y="128"/>
                  </a:lnTo>
                  <a:lnTo>
                    <a:pt x="0" y="130"/>
                  </a:lnTo>
                  <a:lnTo>
                    <a:pt x="0" y="136"/>
                  </a:lnTo>
                  <a:lnTo>
                    <a:pt x="4" y="151"/>
                  </a:lnTo>
                  <a:lnTo>
                    <a:pt x="11" y="170"/>
                  </a:lnTo>
                  <a:lnTo>
                    <a:pt x="26" y="181"/>
                  </a:lnTo>
                  <a:lnTo>
                    <a:pt x="36" y="187"/>
                  </a:lnTo>
                  <a:lnTo>
                    <a:pt x="53" y="196"/>
                  </a:lnTo>
                  <a:lnTo>
                    <a:pt x="72" y="204"/>
                  </a:lnTo>
                  <a:lnTo>
                    <a:pt x="91" y="215"/>
                  </a:lnTo>
                  <a:lnTo>
                    <a:pt x="111" y="226"/>
                  </a:lnTo>
                  <a:lnTo>
                    <a:pt x="128" y="234"/>
                  </a:lnTo>
                  <a:lnTo>
                    <a:pt x="143" y="240"/>
                  </a:lnTo>
                  <a:lnTo>
                    <a:pt x="149" y="243"/>
                  </a:lnTo>
                  <a:lnTo>
                    <a:pt x="162" y="243"/>
                  </a:lnTo>
                  <a:lnTo>
                    <a:pt x="183" y="240"/>
                  </a:lnTo>
                  <a:lnTo>
                    <a:pt x="200" y="238"/>
                  </a:lnTo>
                  <a:lnTo>
                    <a:pt x="208" y="236"/>
                  </a:lnTo>
                  <a:lnTo>
                    <a:pt x="268" y="200"/>
                  </a:lnTo>
                  <a:lnTo>
                    <a:pt x="281" y="206"/>
                  </a:lnTo>
                  <a:lnTo>
                    <a:pt x="294" y="213"/>
                  </a:lnTo>
                  <a:lnTo>
                    <a:pt x="308" y="219"/>
                  </a:lnTo>
                  <a:lnTo>
                    <a:pt x="323" y="223"/>
                  </a:lnTo>
                  <a:lnTo>
                    <a:pt x="336" y="228"/>
                  </a:lnTo>
                  <a:lnTo>
                    <a:pt x="347" y="232"/>
                  </a:lnTo>
                  <a:lnTo>
                    <a:pt x="353" y="234"/>
                  </a:lnTo>
                  <a:lnTo>
                    <a:pt x="355" y="234"/>
                  </a:lnTo>
                  <a:lnTo>
                    <a:pt x="330" y="338"/>
                  </a:lnTo>
                  <a:lnTo>
                    <a:pt x="347" y="330"/>
                  </a:lnTo>
                  <a:lnTo>
                    <a:pt x="374" y="328"/>
                  </a:lnTo>
                  <a:lnTo>
                    <a:pt x="404" y="328"/>
                  </a:lnTo>
                  <a:lnTo>
                    <a:pt x="438" y="332"/>
                  </a:lnTo>
                  <a:lnTo>
                    <a:pt x="468" y="336"/>
                  </a:lnTo>
                  <a:lnTo>
                    <a:pt x="493" y="340"/>
                  </a:lnTo>
                  <a:lnTo>
                    <a:pt x="513" y="343"/>
                  </a:lnTo>
                  <a:lnTo>
                    <a:pt x="519" y="345"/>
                  </a:lnTo>
                  <a:lnTo>
                    <a:pt x="523" y="319"/>
                  </a:lnTo>
                  <a:lnTo>
                    <a:pt x="521" y="296"/>
                  </a:lnTo>
                  <a:lnTo>
                    <a:pt x="519" y="277"/>
                  </a:lnTo>
                  <a:lnTo>
                    <a:pt x="517" y="268"/>
                  </a:lnTo>
                  <a:lnTo>
                    <a:pt x="530" y="266"/>
                  </a:lnTo>
                  <a:lnTo>
                    <a:pt x="540" y="266"/>
                  </a:lnTo>
                  <a:lnTo>
                    <a:pt x="551" y="268"/>
                  </a:lnTo>
                  <a:lnTo>
                    <a:pt x="562" y="268"/>
                  </a:lnTo>
                  <a:lnTo>
                    <a:pt x="570" y="270"/>
                  </a:lnTo>
                  <a:lnTo>
                    <a:pt x="576" y="272"/>
                  </a:lnTo>
                  <a:lnTo>
                    <a:pt x="581" y="274"/>
                  </a:lnTo>
                  <a:lnTo>
                    <a:pt x="583" y="274"/>
                  </a:lnTo>
                  <a:lnTo>
                    <a:pt x="562" y="257"/>
                  </a:lnTo>
                  <a:lnTo>
                    <a:pt x="545" y="247"/>
                  </a:lnTo>
                  <a:lnTo>
                    <a:pt x="532" y="243"/>
                  </a:lnTo>
                  <a:lnTo>
                    <a:pt x="528" y="240"/>
                  </a:lnTo>
                  <a:lnTo>
                    <a:pt x="542" y="238"/>
                  </a:lnTo>
                  <a:lnTo>
                    <a:pt x="555" y="236"/>
                  </a:lnTo>
                  <a:lnTo>
                    <a:pt x="570" y="238"/>
                  </a:lnTo>
                  <a:lnTo>
                    <a:pt x="583" y="238"/>
                  </a:lnTo>
                  <a:lnTo>
                    <a:pt x="593" y="240"/>
                  </a:lnTo>
                  <a:lnTo>
                    <a:pt x="602" y="240"/>
                  </a:lnTo>
                  <a:lnTo>
                    <a:pt x="608" y="243"/>
                  </a:lnTo>
                  <a:lnTo>
                    <a:pt x="610" y="243"/>
                  </a:lnTo>
                  <a:lnTo>
                    <a:pt x="602" y="236"/>
                  </a:lnTo>
                  <a:lnTo>
                    <a:pt x="591" y="228"/>
                  </a:lnTo>
                  <a:lnTo>
                    <a:pt x="581" y="221"/>
                  </a:lnTo>
                  <a:lnTo>
                    <a:pt x="570" y="215"/>
                  </a:lnTo>
                  <a:lnTo>
                    <a:pt x="559" y="211"/>
                  </a:lnTo>
                  <a:lnTo>
                    <a:pt x="553" y="206"/>
                  </a:lnTo>
                  <a:lnTo>
                    <a:pt x="547" y="202"/>
                  </a:lnTo>
                  <a:lnTo>
                    <a:pt x="545" y="202"/>
                  </a:lnTo>
                  <a:lnTo>
                    <a:pt x="566" y="198"/>
                  </a:lnTo>
                  <a:lnTo>
                    <a:pt x="583" y="200"/>
                  </a:lnTo>
                  <a:lnTo>
                    <a:pt x="593" y="202"/>
                  </a:lnTo>
                  <a:lnTo>
                    <a:pt x="598" y="204"/>
                  </a:lnTo>
                  <a:lnTo>
                    <a:pt x="549" y="166"/>
                  </a:lnTo>
                  <a:lnTo>
                    <a:pt x="496" y="151"/>
                  </a:lnTo>
                  <a:lnTo>
                    <a:pt x="521" y="145"/>
                  </a:lnTo>
                  <a:lnTo>
                    <a:pt x="538" y="143"/>
                  </a:lnTo>
                  <a:lnTo>
                    <a:pt x="551" y="145"/>
                  </a:lnTo>
                  <a:lnTo>
                    <a:pt x="555" y="147"/>
                  </a:lnTo>
                  <a:lnTo>
                    <a:pt x="532" y="124"/>
                  </a:lnTo>
                  <a:lnTo>
                    <a:pt x="513" y="111"/>
                  </a:lnTo>
                  <a:lnTo>
                    <a:pt x="498" y="104"/>
                  </a:lnTo>
                  <a:lnTo>
                    <a:pt x="493" y="102"/>
                  </a:lnTo>
                  <a:lnTo>
                    <a:pt x="485" y="81"/>
                  </a:lnTo>
                  <a:lnTo>
                    <a:pt x="472" y="60"/>
                  </a:lnTo>
                  <a:lnTo>
                    <a:pt x="457" y="43"/>
                  </a:lnTo>
                  <a:lnTo>
                    <a:pt x="442" y="28"/>
                  </a:lnTo>
                  <a:lnTo>
                    <a:pt x="430" y="17"/>
                  </a:lnTo>
                  <a:lnTo>
                    <a:pt x="417" y="7"/>
                  </a:lnTo>
                  <a:lnTo>
                    <a:pt x="408" y="2"/>
                  </a:lnTo>
                  <a:lnTo>
                    <a:pt x="406" y="0"/>
                  </a:lnTo>
                  <a:lnTo>
                    <a:pt x="402" y="32"/>
                  </a:lnTo>
                  <a:lnTo>
                    <a:pt x="396" y="60"/>
                  </a:lnTo>
                  <a:lnTo>
                    <a:pt x="389" y="81"/>
                  </a:lnTo>
                  <a:lnTo>
                    <a:pt x="387" y="87"/>
                  </a:lnTo>
                  <a:lnTo>
                    <a:pt x="387" y="89"/>
                  </a:lnTo>
                  <a:lnTo>
                    <a:pt x="389" y="92"/>
                  </a:lnTo>
                  <a:lnTo>
                    <a:pt x="385" y="92"/>
                  </a:lnTo>
                  <a:lnTo>
                    <a:pt x="376" y="87"/>
                  </a:lnTo>
                  <a:lnTo>
                    <a:pt x="366" y="83"/>
                  </a:lnTo>
                  <a:lnTo>
                    <a:pt x="359" y="87"/>
                  </a:lnTo>
                  <a:lnTo>
                    <a:pt x="357" y="94"/>
                  </a:lnTo>
                  <a:lnTo>
                    <a:pt x="355" y="98"/>
                  </a:lnTo>
                  <a:lnTo>
                    <a:pt x="332" y="96"/>
                  </a:lnTo>
                  <a:lnTo>
                    <a:pt x="308" y="96"/>
                  </a:lnTo>
                  <a:lnTo>
                    <a:pt x="287" y="94"/>
                  </a:lnTo>
                  <a:lnTo>
                    <a:pt x="270" y="94"/>
                  </a:lnTo>
                  <a:lnTo>
                    <a:pt x="255" y="92"/>
                  </a:lnTo>
                  <a:lnTo>
                    <a:pt x="245" y="92"/>
                  </a:lnTo>
                  <a:lnTo>
                    <a:pt x="236" y="92"/>
                  </a:lnTo>
                  <a:lnTo>
                    <a:pt x="234" y="92"/>
                  </a:lnTo>
                  <a:lnTo>
                    <a:pt x="221" y="87"/>
                  </a:lnTo>
                  <a:lnTo>
                    <a:pt x="208" y="83"/>
                  </a:lnTo>
                  <a:lnTo>
                    <a:pt x="196" y="79"/>
                  </a:lnTo>
                  <a:lnTo>
                    <a:pt x="183" y="72"/>
                  </a:lnTo>
                  <a:lnTo>
                    <a:pt x="172" y="68"/>
                  </a:lnTo>
                  <a:lnTo>
                    <a:pt x="166" y="64"/>
                  </a:lnTo>
                  <a:lnTo>
                    <a:pt x="160" y="62"/>
                  </a:lnTo>
                  <a:lnTo>
                    <a:pt x="157" y="60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21520" y="4411800"/>
              <a:ext cx="929880" cy="1687320"/>
            </a:xfrm>
            <a:custGeom>
              <a:avLst/>
              <a:gdLst/>
              <a:ahLst/>
              <a:rect l="l" t="t" r="r" b="b"/>
              <a:pathLst>
                <a:path w="1051" h="2048">
                  <a:moveTo>
                    <a:pt x="889" y="1118"/>
                  </a:moveTo>
                  <a:lnTo>
                    <a:pt x="847" y="1201"/>
                  </a:lnTo>
                  <a:lnTo>
                    <a:pt x="879" y="1237"/>
                  </a:lnTo>
                  <a:lnTo>
                    <a:pt x="866" y="1295"/>
                  </a:lnTo>
                  <a:lnTo>
                    <a:pt x="868" y="1344"/>
                  </a:lnTo>
                  <a:lnTo>
                    <a:pt x="887" y="1448"/>
                  </a:lnTo>
                  <a:lnTo>
                    <a:pt x="902" y="1580"/>
                  </a:lnTo>
                  <a:lnTo>
                    <a:pt x="904" y="1595"/>
                  </a:lnTo>
                  <a:lnTo>
                    <a:pt x="908" y="1631"/>
                  </a:lnTo>
                  <a:lnTo>
                    <a:pt x="913" y="1684"/>
                  </a:lnTo>
                  <a:lnTo>
                    <a:pt x="913" y="1739"/>
                  </a:lnTo>
                  <a:lnTo>
                    <a:pt x="908" y="1748"/>
                  </a:lnTo>
                  <a:lnTo>
                    <a:pt x="900" y="1769"/>
                  </a:lnTo>
                  <a:lnTo>
                    <a:pt x="887" y="1799"/>
                  </a:lnTo>
                  <a:lnTo>
                    <a:pt x="872" y="1837"/>
                  </a:lnTo>
                  <a:lnTo>
                    <a:pt x="855" y="1875"/>
                  </a:lnTo>
                  <a:lnTo>
                    <a:pt x="840" y="1914"/>
                  </a:lnTo>
                  <a:lnTo>
                    <a:pt x="828" y="1948"/>
                  </a:lnTo>
                  <a:lnTo>
                    <a:pt x="819" y="1971"/>
                  </a:lnTo>
                  <a:lnTo>
                    <a:pt x="813" y="1986"/>
                  </a:lnTo>
                  <a:lnTo>
                    <a:pt x="808" y="1999"/>
                  </a:lnTo>
                  <a:lnTo>
                    <a:pt x="802" y="2011"/>
                  </a:lnTo>
                  <a:lnTo>
                    <a:pt x="794" y="2024"/>
                  </a:lnTo>
                  <a:lnTo>
                    <a:pt x="783" y="2033"/>
                  </a:lnTo>
                  <a:lnTo>
                    <a:pt x="768" y="2037"/>
                  </a:lnTo>
                  <a:lnTo>
                    <a:pt x="751" y="2035"/>
                  </a:lnTo>
                  <a:lnTo>
                    <a:pt x="728" y="2028"/>
                  </a:lnTo>
                  <a:lnTo>
                    <a:pt x="702" y="2048"/>
                  </a:lnTo>
                  <a:lnTo>
                    <a:pt x="679" y="2033"/>
                  </a:lnTo>
                  <a:lnTo>
                    <a:pt x="670" y="2035"/>
                  </a:lnTo>
                  <a:lnTo>
                    <a:pt x="653" y="2037"/>
                  </a:lnTo>
                  <a:lnTo>
                    <a:pt x="632" y="2033"/>
                  </a:lnTo>
                  <a:lnTo>
                    <a:pt x="619" y="2018"/>
                  </a:lnTo>
                  <a:lnTo>
                    <a:pt x="613" y="2020"/>
                  </a:lnTo>
                  <a:lnTo>
                    <a:pt x="596" y="2026"/>
                  </a:lnTo>
                  <a:lnTo>
                    <a:pt x="574" y="2028"/>
                  </a:lnTo>
                  <a:lnTo>
                    <a:pt x="557" y="2022"/>
                  </a:lnTo>
                  <a:lnTo>
                    <a:pt x="547" y="2011"/>
                  </a:lnTo>
                  <a:lnTo>
                    <a:pt x="545" y="2005"/>
                  </a:lnTo>
                  <a:lnTo>
                    <a:pt x="553" y="1997"/>
                  </a:lnTo>
                  <a:lnTo>
                    <a:pt x="577" y="1984"/>
                  </a:lnTo>
                  <a:lnTo>
                    <a:pt x="591" y="1975"/>
                  </a:lnTo>
                  <a:lnTo>
                    <a:pt x="604" y="1969"/>
                  </a:lnTo>
                  <a:lnTo>
                    <a:pt x="617" y="1960"/>
                  </a:lnTo>
                  <a:lnTo>
                    <a:pt x="630" y="1952"/>
                  </a:lnTo>
                  <a:lnTo>
                    <a:pt x="645" y="1946"/>
                  </a:lnTo>
                  <a:lnTo>
                    <a:pt x="662" y="1937"/>
                  </a:lnTo>
                  <a:lnTo>
                    <a:pt x="681" y="1931"/>
                  </a:lnTo>
                  <a:lnTo>
                    <a:pt x="706" y="1924"/>
                  </a:lnTo>
                  <a:lnTo>
                    <a:pt x="708" y="1918"/>
                  </a:lnTo>
                  <a:lnTo>
                    <a:pt x="717" y="1901"/>
                  </a:lnTo>
                  <a:lnTo>
                    <a:pt x="728" y="1877"/>
                  </a:lnTo>
                  <a:lnTo>
                    <a:pt x="740" y="1848"/>
                  </a:lnTo>
                  <a:lnTo>
                    <a:pt x="753" y="1814"/>
                  </a:lnTo>
                  <a:lnTo>
                    <a:pt x="768" y="1780"/>
                  </a:lnTo>
                  <a:lnTo>
                    <a:pt x="779" y="1750"/>
                  </a:lnTo>
                  <a:lnTo>
                    <a:pt x="789" y="1722"/>
                  </a:lnTo>
                  <a:lnTo>
                    <a:pt x="791" y="1695"/>
                  </a:lnTo>
                  <a:lnTo>
                    <a:pt x="785" y="1663"/>
                  </a:lnTo>
                  <a:lnTo>
                    <a:pt x="772" y="1627"/>
                  </a:lnTo>
                  <a:lnTo>
                    <a:pt x="753" y="1588"/>
                  </a:lnTo>
                  <a:lnTo>
                    <a:pt x="734" y="1548"/>
                  </a:lnTo>
                  <a:lnTo>
                    <a:pt x="713" y="1505"/>
                  </a:lnTo>
                  <a:lnTo>
                    <a:pt x="694" y="1463"/>
                  </a:lnTo>
                  <a:lnTo>
                    <a:pt x="679" y="1420"/>
                  </a:lnTo>
                  <a:lnTo>
                    <a:pt x="672" y="1444"/>
                  </a:lnTo>
                  <a:lnTo>
                    <a:pt x="657" y="1501"/>
                  </a:lnTo>
                  <a:lnTo>
                    <a:pt x="640" y="1571"/>
                  </a:lnTo>
                  <a:lnTo>
                    <a:pt x="628" y="1631"/>
                  </a:lnTo>
                  <a:lnTo>
                    <a:pt x="632" y="1737"/>
                  </a:lnTo>
                  <a:lnTo>
                    <a:pt x="630" y="1741"/>
                  </a:lnTo>
                  <a:lnTo>
                    <a:pt x="623" y="1752"/>
                  </a:lnTo>
                  <a:lnTo>
                    <a:pt x="615" y="1769"/>
                  </a:lnTo>
                  <a:lnTo>
                    <a:pt x="604" y="1788"/>
                  </a:lnTo>
                  <a:lnTo>
                    <a:pt x="591" y="1809"/>
                  </a:lnTo>
                  <a:lnTo>
                    <a:pt x="581" y="1831"/>
                  </a:lnTo>
                  <a:lnTo>
                    <a:pt x="570" y="1848"/>
                  </a:lnTo>
                  <a:lnTo>
                    <a:pt x="562" y="1860"/>
                  </a:lnTo>
                  <a:lnTo>
                    <a:pt x="553" y="1873"/>
                  </a:lnTo>
                  <a:lnTo>
                    <a:pt x="543" y="1886"/>
                  </a:lnTo>
                  <a:lnTo>
                    <a:pt x="530" y="1903"/>
                  </a:lnTo>
                  <a:lnTo>
                    <a:pt x="519" y="1918"/>
                  </a:lnTo>
                  <a:lnTo>
                    <a:pt x="509" y="1931"/>
                  </a:lnTo>
                  <a:lnTo>
                    <a:pt x="500" y="1943"/>
                  </a:lnTo>
                  <a:lnTo>
                    <a:pt x="494" y="1950"/>
                  </a:lnTo>
                  <a:lnTo>
                    <a:pt x="494" y="1952"/>
                  </a:lnTo>
                  <a:lnTo>
                    <a:pt x="474" y="1965"/>
                  </a:lnTo>
                  <a:lnTo>
                    <a:pt x="460" y="1965"/>
                  </a:lnTo>
                  <a:lnTo>
                    <a:pt x="451" y="1963"/>
                  </a:lnTo>
                  <a:lnTo>
                    <a:pt x="449" y="1960"/>
                  </a:lnTo>
                  <a:lnTo>
                    <a:pt x="449" y="1960"/>
                  </a:lnTo>
                  <a:lnTo>
                    <a:pt x="445" y="1963"/>
                  </a:lnTo>
                  <a:lnTo>
                    <a:pt x="440" y="1965"/>
                  </a:lnTo>
                  <a:lnTo>
                    <a:pt x="432" y="1969"/>
                  </a:lnTo>
                  <a:lnTo>
                    <a:pt x="423" y="1973"/>
                  </a:lnTo>
                  <a:lnTo>
                    <a:pt x="411" y="1975"/>
                  </a:lnTo>
                  <a:lnTo>
                    <a:pt x="398" y="1980"/>
                  </a:lnTo>
                  <a:lnTo>
                    <a:pt x="381" y="1982"/>
                  </a:lnTo>
                  <a:lnTo>
                    <a:pt x="362" y="1960"/>
                  </a:lnTo>
                  <a:lnTo>
                    <a:pt x="304" y="1967"/>
                  </a:lnTo>
                  <a:lnTo>
                    <a:pt x="298" y="1943"/>
                  </a:lnTo>
                  <a:lnTo>
                    <a:pt x="296" y="1946"/>
                  </a:lnTo>
                  <a:lnTo>
                    <a:pt x="292" y="1950"/>
                  </a:lnTo>
                  <a:lnTo>
                    <a:pt x="289" y="1948"/>
                  </a:lnTo>
                  <a:lnTo>
                    <a:pt x="289" y="1935"/>
                  </a:lnTo>
                  <a:lnTo>
                    <a:pt x="292" y="1924"/>
                  </a:lnTo>
                  <a:lnTo>
                    <a:pt x="298" y="1916"/>
                  </a:lnTo>
                  <a:lnTo>
                    <a:pt x="309" y="1907"/>
                  </a:lnTo>
                  <a:lnTo>
                    <a:pt x="323" y="1899"/>
                  </a:lnTo>
                  <a:lnTo>
                    <a:pt x="340" y="1892"/>
                  </a:lnTo>
                  <a:lnTo>
                    <a:pt x="362" y="1886"/>
                  </a:lnTo>
                  <a:lnTo>
                    <a:pt x="387" y="1882"/>
                  </a:lnTo>
                  <a:lnTo>
                    <a:pt x="419" y="1880"/>
                  </a:lnTo>
                  <a:lnTo>
                    <a:pt x="423" y="1875"/>
                  </a:lnTo>
                  <a:lnTo>
                    <a:pt x="436" y="1865"/>
                  </a:lnTo>
                  <a:lnTo>
                    <a:pt x="451" y="1850"/>
                  </a:lnTo>
                  <a:lnTo>
                    <a:pt x="472" y="1829"/>
                  </a:lnTo>
                  <a:lnTo>
                    <a:pt x="491" y="1805"/>
                  </a:lnTo>
                  <a:lnTo>
                    <a:pt x="511" y="1782"/>
                  </a:lnTo>
                  <a:lnTo>
                    <a:pt x="523" y="1756"/>
                  </a:lnTo>
                  <a:lnTo>
                    <a:pt x="532" y="1733"/>
                  </a:lnTo>
                  <a:lnTo>
                    <a:pt x="528" y="1710"/>
                  </a:lnTo>
                  <a:lnTo>
                    <a:pt x="519" y="1656"/>
                  </a:lnTo>
                  <a:lnTo>
                    <a:pt x="509" y="1588"/>
                  </a:lnTo>
                  <a:lnTo>
                    <a:pt x="506" y="1527"/>
                  </a:lnTo>
                  <a:lnTo>
                    <a:pt x="489" y="1533"/>
                  </a:lnTo>
                  <a:lnTo>
                    <a:pt x="487" y="1520"/>
                  </a:lnTo>
                  <a:lnTo>
                    <a:pt x="485" y="1488"/>
                  </a:lnTo>
                  <a:lnTo>
                    <a:pt x="483" y="1444"/>
                  </a:lnTo>
                  <a:lnTo>
                    <a:pt x="483" y="1393"/>
                  </a:lnTo>
                  <a:lnTo>
                    <a:pt x="472" y="1403"/>
                  </a:lnTo>
                  <a:lnTo>
                    <a:pt x="483" y="1291"/>
                  </a:lnTo>
                  <a:lnTo>
                    <a:pt x="440" y="1286"/>
                  </a:lnTo>
                  <a:lnTo>
                    <a:pt x="419" y="1195"/>
                  </a:lnTo>
                  <a:lnTo>
                    <a:pt x="409" y="1206"/>
                  </a:lnTo>
                  <a:lnTo>
                    <a:pt x="406" y="1191"/>
                  </a:lnTo>
                  <a:lnTo>
                    <a:pt x="400" y="1155"/>
                  </a:lnTo>
                  <a:lnTo>
                    <a:pt x="396" y="1108"/>
                  </a:lnTo>
                  <a:lnTo>
                    <a:pt x="394" y="1061"/>
                  </a:lnTo>
                  <a:lnTo>
                    <a:pt x="389" y="1057"/>
                  </a:lnTo>
                  <a:lnTo>
                    <a:pt x="379" y="1048"/>
                  </a:lnTo>
                  <a:lnTo>
                    <a:pt x="364" y="1031"/>
                  </a:lnTo>
                  <a:lnTo>
                    <a:pt x="345" y="1010"/>
                  </a:lnTo>
                  <a:lnTo>
                    <a:pt x="323" y="980"/>
                  </a:lnTo>
                  <a:lnTo>
                    <a:pt x="302" y="944"/>
                  </a:lnTo>
                  <a:lnTo>
                    <a:pt x="281" y="899"/>
                  </a:lnTo>
                  <a:lnTo>
                    <a:pt x="264" y="850"/>
                  </a:lnTo>
                  <a:lnTo>
                    <a:pt x="258" y="842"/>
                  </a:lnTo>
                  <a:lnTo>
                    <a:pt x="245" y="821"/>
                  </a:lnTo>
                  <a:lnTo>
                    <a:pt x="228" y="791"/>
                  </a:lnTo>
                  <a:lnTo>
                    <a:pt x="213" y="755"/>
                  </a:lnTo>
                  <a:lnTo>
                    <a:pt x="209" y="751"/>
                  </a:lnTo>
                  <a:lnTo>
                    <a:pt x="200" y="738"/>
                  </a:lnTo>
                  <a:lnTo>
                    <a:pt x="187" y="719"/>
                  </a:lnTo>
                  <a:lnTo>
                    <a:pt x="172" y="691"/>
                  </a:lnTo>
                  <a:lnTo>
                    <a:pt x="162" y="697"/>
                  </a:lnTo>
                  <a:lnTo>
                    <a:pt x="151" y="617"/>
                  </a:lnTo>
                  <a:lnTo>
                    <a:pt x="138" y="593"/>
                  </a:lnTo>
                  <a:lnTo>
                    <a:pt x="153" y="576"/>
                  </a:lnTo>
                  <a:lnTo>
                    <a:pt x="162" y="521"/>
                  </a:lnTo>
                  <a:lnTo>
                    <a:pt x="155" y="514"/>
                  </a:lnTo>
                  <a:lnTo>
                    <a:pt x="138" y="497"/>
                  </a:lnTo>
                  <a:lnTo>
                    <a:pt x="119" y="472"/>
                  </a:lnTo>
                  <a:lnTo>
                    <a:pt x="100" y="438"/>
                  </a:lnTo>
                  <a:lnTo>
                    <a:pt x="89" y="451"/>
                  </a:lnTo>
                  <a:lnTo>
                    <a:pt x="85" y="440"/>
                  </a:lnTo>
                  <a:lnTo>
                    <a:pt x="75" y="410"/>
                  </a:lnTo>
                  <a:lnTo>
                    <a:pt x="62" y="366"/>
                  </a:lnTo>
                  <a:lnTo>
                    <a:pt x="47" y="310"/>
                  </a:lnTo>
                  <a:lnTo>
                    <a:pt x="32" y="304"/>
                  </a:lnTo>
                  <a:lnTo>
                    <a:pt x="24" y="323"/>
                  </a:lnTo>
                  <a:lnTo>
                    <a:pt x="15" y="300"/>
                  </a:lnTo>
                  <a:lnTo>
                    <a:pt x="9" y="268"/>
                  </a:lnTo>
                  <a:lnTo>
                    <a:pt x="4" y="234"/>
                  </a:lnTo>
                  <a:lnTo>
                    <a:pt x="0" y="196"/>
                  </a:lnTo>
                  <a:lnTo>
                    <a:pt x="15" y="234"/>
                  </a:lnTo>
                  <a:lnTo>
                    <a:pt x="34" y="257"/>
                  </a:lnTo>
                  <a:lnTo>
                    <a:pt x="51" y="270"/>
                  </a:lnTo>
                  <a:lnTo>
                    <a:pt x="58" y="274"/>
                  </a:lnTo>
                  <a:lnTo>
                    <a:pt x="75" y="310"/>
                  </a:lnTo>
                  <a:lnTo>
                    <a:pt x="102" y="340"/>
                  </a:lnTo>
                  <a:lnTo>
                    <a:pt x="134" y="361"/>
                  </a:lnTo>
                  <a:lnTo>
                    <a:pt x="170" y="376"/>
                  </a:lnTo>
                  <a:lnTo>
                    <a:pt x="204" y="387"/>
                  </a:lnTo>
                  <a:lnTo>
                    <a:pt x="232" y="391"/>
                  </a:lnTo>
                  <a:lnTo>
                    <a:pt x="251" y="395"/>
                  </a:lnTo>
                  <a:lnTo>
                    <a:pt x="260" y="395"/>
                  </a:lnTo>
                  <a:lnTo>
                    <a:pt x="245" y="347"/>
                  </a:lnTo>
                  <a:lnTo>
                    <a:pt x="221" y="315"/>
                  </a:lnTo>
                  <a:lnTo>
                    <a:pt x="204" y="287"/>
                  </a:lnTo>
                  <a:lnTo>
                    <a:pt x="192" y="264"/>
                  </a:lnTo>
                  <a:lnTo>
                    <a:pt x="183" y="244"/>
                  </a:lnTo>
                  <a:lnTo>
                    <a:pt x="177" y="230"/>
                  </a:lnTo>
                  <a:lnTo>
                    <a:pt x="175" y="221"/>
                  </a:lnTo>
                  <a:lnTo>
                    <a:pt x="172" y="215"/>
                  </a:lnTo>
                  <a:lnTo>
                    <a:pt x="172" y="213"/>
                  </a:lnTo>
                  <a:lnTo>
                    <a:pt x="213" y="202"/>
                  </a:lnTo>
                  <a:lnTo>
                    <a:pt x="247" y="185"/>
                  </a:lnTo>
                  <a:lnTo>
                    <a:pt x="270" y="166"/>
                  </a:lnTo>
                  <a:lnTo>
                    <a:pt x="289" y="145"/>
                  </a:lnTo>
                  <a:lnTo>
                    <a:pt x="300" y="125"/>
                  </a:lnTo>
                  <a:lnTo>
                    <a:pt x="309" y="108"/>
                  </a:lnTo>
                  <a:lnTo>
                    <a:pt x="313" y="98"/>
                  </a:lnTo>
                  <a:lnTo>
                    <a:pt x="313" y="93"/>
                  </a:lnTo>
                  <a:lnTo>
                    <a:pt x="323" y="96"/>
                  </a:lnTo>
                  <a:lnTo>
                    <a:pt x="336" y="96"/>
                  </a:lnTo>
                  <a:lnTo>
                    <a:pt x="353" y="98"/>
                  </a:lnTo>
                  <a:lnTo>
                    <a:pt x="370" y="100"/>
                  </a:lnTo>
                  <a:lnTo>
                    <a:pt x="387" y="102"/>
                  </a:lnTo>
                  <a:lnTo>
                    <a:pt x="400" y="102"/>
                  </a:lnTo>
                  <a:lnTo>
                    <a:pt x="409" y="104"/>
                  </a:lnTo>
                  <a:lnTo>
                    <a:pt x="413" y="104"/>
                  </a:lnTo>
                  <a:lnTo>
                    <a:pt x="377" y="53"/>
                  </a:lnTo>
                  <a:lnTo>
                    <a:pt x="451" y="55"/>
                  </a:lnTo>
                  <a:lnTo>
                    <a:pt x="443" y="0"/>
                  </a:lnTo>
                  <a:lnTo>
                    <a:pt x="462" y="4"/>
                  </a:lnTo>
                  <a:lnTo>
                    <a:pt x="481" y="13"/>
                  </a:lnTo>
                  <a:lnTo>
                    <a:pt x="500" y="21"/>
                  </a:lnTo>
                  <a:lnTo>
                    <a:pt x="519" y="32"/>
                  </a:lnTo>
                  <a:lnTo>
                    <a:pt x="534" y="42"/>
                  </a:lnTo>
                  <a:lnTo>
                    <a:pt x="549" y="51"/>
                  </a:lnTo>
                  <a:lnTo>
                    <a:pt x="557" y="57"/>
                  </a:lnTo>
                  <a:lnTo>
                    <a:pt x="560" y="59"/>
                  </a:lnTo>
                  <a:lnTo>
                    <a:pt x="511" y="62"/>
                  </a:lnTo>
                  <a:lnTo>
                    <a:pt x="547" y="113"/>
                  </a:lnTo>
                  <a:lnTo>
                    <a:pt x="491" y="119"/>
                  </a:lnTo>
                  <a:lnTo>
                    <a:pt x="560" y="181"/>
                  </a:lnTo>
                  <a:lnTo>
                    <a:pt x="474" y="164"/>
                  </a:lnTo>
                  <a:lnTo>
                    <a:pt x="457" y="189"/>
                  </a:lnTo>
                  <a:lnTo>
                    <a:pt x="474" y="210"/>
                  </a:lnTo>
                  <a:lnTo>
                    <a:pt x="404" y="238"/>
                  </a:lnTo>
                  <a:lnTo>
                    <a:pt x="349" y="319"/>
                  </a:lnTo>
                  <a:lnTo>
                    <a:pt x="389" y="304"/>
                  </a:lnTo>
                  <a:lnTo>
                    <a:pt x="432" y="281"/>
                  </a:lnTo>
                  <a:lnTo>
                    <a:pt x="474" y="251"/>
                  </a:lnTo>
                  <a:lnTo>
                    <a:pt x="513" y="219"/>
                  </a:lnTo>
                  <a:lnTo>
                    <a:pt x="547" y="189"/>
                  </a:lnTo>
                  <a:lnTo>
                    <a:pt x="574" y="164"/>
                  </a:lnTo>
                  <a:lnTo>
                    <a:pt x="591" y="145"/>
                  </a:lnTo>
                  <a:lnTo>
                    <a:pt x="598" y="138"/>
                  </a:lnTo>
                  <a:lnTo>
                    <a:pt x="634" y="181"/>
                  </a:lnTo>
                  <a:lnTo>
                    <a:pt x="591" y="189"/>
                  </a:lnTo>
                  <a:lnTo>
                    <a:pt x="596" y="223"/>
                  </a:lnTo>
                  <a:lnTo>
                    <a:pt x="530" y="329"/>
                  </a:lnTo>
                  <a:lnTo>
                    <a:pt x="574" y="302"/>
                  </a:lnTo>
                  <a:lnTo>
                    <a:pt x="611" y="276"/>
                  </a:lnTo>
                  <a:lnTo>
                    <a:pt x="638" y="253"/>
                  </a:lnTo>
                  <a:lnTo>
                    <a:pt x="660" y="232"/>
                  </a:lnTo>
                  <a:lnTo>
                    <a:pt x="677" y="213"/>
                  </a:lnTo>
                  <a:lnTo>
                    <a:pt x="687" y="200"/>
                  </a:lnTo>
                  <a:lnTo>
                    <a:pt x="691" y="189"/>
                  </a:lnTo>
                  <a:lnTo>
                    <a:pt x="694" y="187"/>
                  </a:lnTo>
                  <a:lnTo>
                    <a:pt x="719" y="213"/>
                  </a:lnTo>
                  <a:lnTo>
                    <a:pt x="736" y="234"/>
                  </a:lnTo>
                  <a:lnTo>
                    <a:pt x="745" y="249"/>
                  </a:lnTo>
                  <a:lnTo>
                    <a:pt x="747" y="253"/>
                  </a:lnTo>
                  <a:lnTo>
                    <a:pt x="768" y="253"/>
                  </a:lnTo>
                  <a:lnTo>
                    <a:pt x="787" y="255"/>
                  </a:lnTo>
                  <a:lnTo>
                    <a:pt x="806" y="257"/>
                  </a:lnTo>
                  <a:lnTo>
                    <a:pt x="823" y="264"/>
                  </a:lnTo>
                  <a:lnTo>
                    <a:pt x="838" y="268"/>
                  </a:lnTo>
                  <a:lnTo>
                    <a:pt x="849" y="274"/>
                  </a:lnTo>
                  <a:lnTo>
                    <a:pt x="857" y="276"/>
                  </a:lnTo>
                  <a:lnTo>
                    <a:pt x="859" y="278"/>
                  </a:lnTo>
                  <a:lnTo>
                    <a:pt x="811" y="293"/>
                  </a:lnTo>
                  <a:lnTo>
                    <a:pt x="830" y="357"/>
                  </a:lnTo>
                  <a:lnTo>
                    <a:pt x="845" y="415"/>
                  </a:lnTo>
                  <a:lnTo>
                    <a:pt x="855" y="455"/>
                  </a:lnTo>
                  <a:lnTo>
                    <a:pt x="859" y="472"/>
                  </a:lnTo>
                  <a:lnTo>
                    <a:pt x="842" y="497"/>
                  </a:lnTo>
                  <a:lnTo>
                    <a:pt x="866" y="606"/>
                  </a:lnTo>
                  <a:lnTo>
                    <a:pt x="887" y="563"/>
                  </a:lnTo>
                  <a:lnTo>
                    <a:pt x="904" y="523"/>
                  </a:lnTo>
                  <a:lnTo>
                    <a:pt x="915" y="487"/>
                  </a:lnTo>
                  <a:lnTo>
                    <a:pt x="923" y="453"/>
                  </a:lnTo>
                  <a:lnTo>
                    <a:pt x="928" y="425"/>
                  </a:lnTo>
                  <a:lnTo>
                    <a:pt x="930" y="404"/>
                  </a:lnTo>
                  <a:lnTo>
                    <a:pt x="930" y="389"/>
                  </a:lnTo>
                  <a:lnTo>
                    <a:pt x="930" y="385"/>
                  </a:lnTo>
                  <a:lnTo>
                    <a:pt x="945" y="387"/>
                  </a:lnTo>
                  <a:lnTo>
                    <a:pt x="957" y="391"/>
                  </a:lnTo>
                  <a:lnTo>
                    <a:pt x="970" y="398"/>
                  </a:lnTo>
                  <a:lnTo>
                    <a:pt x="981" y="404"/>
                  </a:lnTo>
                  <a:lnTo>
                    <a:pt x="989" y="408"/>
                  </a:lnTo>
                  <a:lnTo>
                    <a:pt x="996" y="415"/>
                  </a:lnTo>
                  <a:lnTo>
                    <a:pt x="998" y="417"/>
                  </a:lnTo>
                  <a:lnTo>
                    <a:pt x="1000" y="419"/>
                  </a:lnTo>
                  <a:lnTo>
                    <a:pt x="976" y="444"/>
                  </a:lnTo>
                  <a:lnTo>
                    <a:pt x="989" y="455"/>
                  </a:lnTo>
                  <a:lnTo>
                    <a:pt x="1002" y="466"/>
                  </a:lnTo>
                  <a:lnTo>
                    <a:pt x="1015" y="476"/>
                  </a:lnTo>
                  <a:lnTo>
                    <a:pt x="1025" y="487"/>
                  </a:lnTo>
                  <a:lnTo>
                    <a:pt x="1036" y="497"/>
                  </a:lnTo>
                  <a:lnTo>
                    <a:pt x="1045" y="506"/>
                  </a:lnTo>
                  <a:lnTo>
                    <a:pt x="1049" y="510"/>
                  </a:lnTo>
                  <a:lnTo>
                    <a:pt x="1051" y="512"/>
                  </a:lnTo>
                  <a:lnTo>
                    <a:pt x="993" y="540"/>
                  </a:lnTo>
                  <a:lnTo>
                    <a:pt x="1030" y="576"/>
                  </a:lnTo>
                  <a:lnTo>
                    <a:pt x="991" y="566"/>
                  </a:lnTo>
                  <a:lnTo>
                    <a:pt x="996" y="640"/>
                  </a:lnTo>
                  <a:lnTo>
                    <a:pt x="985" y="725"/>
                  </a:lnTo>
                  <a:lnTo>
                    <a:pt x="970" y="793"/>
                  </a:lnTo>
                  <a:lnTo>
                    <a:pt x="964" y="821"/>
                  </a:lnTo>
                  <a:lnTo>
                    <a:pt x="959" y="857"/>
                  </a:lnTo>
                  <a:lnTo>
                    <a:pt x="955" y="899"/>
                  </a:lnTo>
                  <a:lnTo>
                    <a:pt x="945" y="944"/>
                  </a:lnTo>
                  <a:lnTo>
                    <a:pt x="936" y="991"/>
                  </a:lnTo>
                  <a:lnTo>
                    <a:pt x="923" y="1035"/>
                  </a:lnTo>
                  <a:lnTo>
                    <a:pt x="913" y="1072"/>
                  </a:lnTo>
                  <a:lnTo>
                    <a:pt x="900" y="1101"/>
                  </a:lnTo>
                  <a:lnTo>
                    <a:pt x="889" y="1118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08120" y="4931640"/>
              <a:ext cx="1948680" cy="1091520"/>
            </a:xfrm>
            <a:custGeom>
              <a:avLst/>
              <a:gdLst/>
              <a:ahLst/>
              <a:rect l="l" t="t" r="r" b="b"/>
              <a:pathLst>
                <a:path w="2202" h="1325">
                  <a:moveTo>
                    <a:pt x="0" y="487"/>
                  </a:moveTo>
                  <a:lnTo>
                    <a:pt x="36" y="500"/>
                  </a:lnTo>
                  <a:lnTo>
                    <a:pt x="45" y="485"/>
                  </a:lnTo>
                  <a:lnTo>
                    <a:pt x="62" y="502"/>
                  </a:lnTo>
                  <a:lnTo>
                    <a:pt x="70" y="502"/>
                  </a:lnTo>
                  <a:lnTo>
                    <a:pt x="75" y="498"/>
                  </a:lnTo>
                  <a:lnTo>
                    <a:pt x="77" y="494"/>
                  </a:lnTo>
                  <a:lnTo>
                    <a:pt x="94" y="498"/>
                  </a:lnTo>
                  <a:lnTo>
                    <a:pt x="124" y="507"/>
                  </a:lnTo>
                  <a:lnTo>
                    <a:pt x="143" y="500"/>
                  </a:lnTo>
                  <a:lnTo>
                    <a:pt x="168" y="498"/>
                  </a:lnTo>
                  <a:lnTo>
                    <a:pt x="198" y="492"/>
                  </a:lnTo>
                  <a:lnTo>
                    <a:pt x="228" y="483"/>
                  </a:lnTo>
                  <a:lnTo>
                    <a:pt x="256" y="472"/>
                  </a:lnTo>
                  <a:lnTo>
                    <a:pt x="281" y="464"/>
                  </a:lnTo>
                  <a:lnTo>
                    <a:pt x="302" y="455"/>
                  </a:lnTo>
                  <a:lnTo>
                    <a:pt x="317" y="449"/>
                  </a:lnTo>
                  <a:lnTo>
                    <a:pt x="321" y="447"/>
                  </a:lnTo>
                  <a:lnTo>
                    <a:pt x="332" y="453"/>
                  </a:lnTo>
                  <a:lnTo>
                    <a:pt x="370" y="428"/>
                  </a:lnTo>
                  <a:lnTo>
                    <a:pt x="366" y="441"/>
                  </a:lnTo>
                  <a:lnTo>
                    <a:pt x="413" y="419"/>
                  </a:lnTo>
                  <a:lnTo>
                    <a:pt x="428" y="428"/>
                  </a:lnTo>
                  <a:lnTo>
                    <a:pt x="492" y="390"/>
                  </a:lnTo>
                  <a:lnTo>
                    <a:pt x="504" y="392"/>
                  </a:lnTo>
                  <a:lnTo>
                    <a:pt x="517" y="392"/>
                  </a:lnTo>
                  <a:lnTo>
                    <a:pt x="532" y="387"/>
                  </a:lnTo>
                  <a:lnTo>
                    <a:pt x="547" y="383"/>
                  </a:lnTo>
                  <a:lnTo>
                    <a:pt x="560" y="377"/>
                  </a:lnTo>
                  <a:lnTo>
                    <a:pt x="570" y="370"/>
                  </a:lnTo>
                  <a:lnTo>
                    <a:pt x="579" y="366"/>
                  </a:lnTo>
                  <a:lnTo>
                    <a:pt x="581" y="364"/>
                  </a:lnTo>
                  <a:lnTo>
                    <a:pt x="592" y="419"/>
                  </a:lnTo>
                  <a:lnTo>
                    <a:pt x="615" y="424"/>
                  </a:lnTo>
                  <a:lnTo>
                    <a:pt x="636" y="424"/>
                  </a:lnTo>
                  <a:lnTo>
                    <a:pt x="655" y="421"/>
                  </a:lnTo>
                  <a:lnTo>
                    <a:pt x="670" y="419"/>
                  </a:lnTo>
                  <a:lnTo>
                    <a:pt x="685" y="415"/>
                  </a:lnTo>
                  <a:lnTo>
                    <a:pt x="696" y="413"/>
                  </a:lnTo>
                  <a:lnTo>
                    <a:pt x="702" y="409"/>
                  </a:lnTo>
                  <a:lnTo>
                    <a:pt x="704" y="409"/>
                  </a:lnTo>
                  <a:lnTo>
                    <a:pt x="717" y="447"/>
                  </a:lnTo>
                  <a:lnTo>
                    <a:pt x="734" y="481"/>
                  </a:lnTo>
                  <a:lnTo>
                    <a:pt x="753" y="511"/>
                  </a:lnTo>
                  <a:lnTo>
                    <a:pt x="772" y="534"/>
                  </a:lnTo>
                  <a:lnTo>
                    <a:pt x="792" y="553"/>
                  </a:lnTo>
                  <a:lnTo>
                    <a:pt x="811" y="568"/>
                  </a:lnTo>
                  <a:lnTo>
                    <a:pt x="823" y="579"/>
                  </a:lnTo>
                  <a:lnTo>
                    <a:pt x="834" y="585"/>
                  </a:lnTo>
                  <a:lnTo>
                    <a:pt x="853" y="600"/>
                  </a:lnTo>
                  <a:lnTo>
                    <a:pt x="872" y="617"/>
                  </a:lnTo>
                  <a:lnTo>
                    <a:pt x="889" y="632"/>
                  </a:lnTo>
                  <a:lnTo>
                    <a:pt x="904" y="649"/>
                  </a:lnTo>
                  <a:lnTo>
                    <a:pt x="919" y="666"/>
                  </a:lnTo>
                  <a:lnTo>
                    <a:pt x="934" y="681"/>
                  </a:lnTo>
                  <a:lnTo>
                    <a:pt x="949" y="696"/>
                  </a:lnTo>
                  <a:lnTo>
                    <a:pt x="962" y="709"/>
                  </a:lnTo>
                  <a:lnTo>
                    <a:pt x="977" y="723"/>
                  </a:lnTo>
                  <a:lnTo>
                    <a:pt x="994" y="734"/>
                  </a:lnTo>
                  <a:lnTo>
                    <a:pt x="1011" y="745"/>
                  </a:lnTo>
                  <a:lnTo>
                    <a:pt x="1030" y="751"/>
                  </a:lnTo>
                  <a:lnTo>
                    <a:pt x="1045" y="760"/>
                  </a:lnTo>
                  <a:lnTo>
                    <a:pt x="1060" y="768"/>
                  </a:lnTo>
                  <a:lnTo>
                    <a:pt x="1072" y="774"/>
                  </a:lnTo>
                  <a:lnTo>
                    <a:pt x="1083" y="783"/>
                  </a:lnTo>
                  <a:lnTo>
                    <a:pt x="1096" y="798"/>
                  </a:lnTo>
                  <a:lnTo>
                    <a:pt x="1113" y="819"/>
                  </a:lnTo>
                  <a:lnTo>
                    <a:pt x="1134" y="847"/>
                  </a:lnTo>
                  <a:lnTo>
                    <a:pt x="1157" y="877"/>
                  </a:lnTo>
                  <a:lnTo>
                    <a:pt x="1179" y="904"/>
                  </a:lnTo>
                  <a:lnTo>
                    <a:pt x="1198" y="928"/>
                  </a:lnTo>
                  <a:lnTo>
                    <a:pt x="1211" y="945"/>
                  </a:lnTo>
                  <a:lnTo>
                    <a:pt x="1215" y="951"/>
                  </a:lnTo>
                  <a:lnTo>
                    <a:pt x="1047" y="1170"/>
                  </a:lnTo>
                  <a:lnTo>
                    <a:pt x="1032" y="1168"/>
                  </a:lnTo>
                  <a:lnTo>
                    <a:pt x="1021" y="1166"/>
                  </a:lnTo>
                  <a:lnTo>
                    <a:pt x="1011" y="1168"/>
                  </a:lnTo>
                  <a:lnTo>
                    <a:pt x="1004" y="1170"/>
                  </a:lnTo>
                  <a:lnTo>
                    <a:pt x="998" y="1174"/>
                  </a:lnTo>
                  <a:lnTo>
                    <a:pt x="989" y="1176"/>
                  </a:lnTo>
                  <a:lnTo>
                    <a:pt x="983" y="1176"/>
                  </a:lnTo>
                  <a:lnTo>
                    <a:pt x="972" y="1174"/>
                  </a:lnTo>
                  <a:lnTo>
                    <a:pt x="962" y="1172"/>
                  </a:lnTo>
                  <a:lnTo>
                    <a:pt x="951" y="1174"/>
                  </a:lnTo>
                  <a:lnTo>
                    <a:pt x="940" y="1176"/>
                  </a:lnTo>
                  <a:lnTo>
                    <a:pt x="932" y="1178"/>
                  </a:lnTo>
                  <a:lnTo>
                    <a:pt x="923" y="1185"/>
                  </a:lnTo>
                  <a:lnTo>
                    <a:pt x="917" y="1191"/>
                  </a:lnTo>
                  <a:lnTo>
                    <a:pt x="911" y="1200"/>
                  </a:lnTo>
                  <a:lnTo>
                    <a:pt x="909" y="1210"/>
                  </a:lnTo>
                  <a:lnTo>
                    <a:pt x="904" y="1227"/>
                  </a:lnTo>
                  <a:lnTo>
                    <a:pt x="900" y="1238"/>
                  </a:lnTo>
                  <a:lnTo>
                    <a:pt x="896" y="1244"/>
                  </a:lnTo>
                  <a:lnTo>
                    <a:pt x="894" y="1246"/>
                  </a:lnTo>
                  <a:lnTo>
                    <a:pt x="902" y="1253"/>
                  </a:lnTo>
                  <a:lnTo>
                    <a:pt x="938" y="1287"/>
                  </a:lnTo>
                  <a:lnTo>
                    <a:pt x="1009" y="1278"/>
                  </a:lnTo>
                  <a:lnTo>
                    <a:pt x="1032" y="1274"/>
                  </a:lnTo>
                  <a:lnTo>
                    <a:pt x="1049" y="1270"/>
                  </a:lnTo>
                  <a:lnTo>
                    <a:pt x="1064" y="1266"/>
                  </a:lnTo>
                  <a:lnTo>
                    <a:pt x="1077" y="1261"/>
                  </a:lnTo>
                  <a:lnTo>
                    <a:pt x="1087" y="1255"/>
                  </a:lnTo>
                  <a:lnTo>
                    <a:pt x="1098" y="1246"/>
                  </a:lnTo>
                  <a:lnTo>
                    <a:pt x="1111" y="1236"/>
                  </a:lnTo>
                  <a:lnTo>
                    <a:pt x="1126" y="1221"/>
                  </a:lnTo>
                  <a:lnTo>
                    <a:pt x="1149" y="1198"/>
                  </a:lnTo>
                  <a:lnTo>
                    <a:pt x="1179" y="1161"/>
                  </a:lnTo>
                  <a:lnTo>
                    <a:pt x="1215" y="1119"/>
                  </a:lnTo>
                  <a:lnTo>
                    <a:pt x="1253" y="1074"/>
                  </a:lnTo>
                  <a:lnTo>
                    <a:pt x="1289" y="1030"/>
                  </a:lnTo>
                  <a:lnTo>
                    <a:pt x="1321" y="993"/>
                  </a:lnTo>
                  <a:lnTo>
                    <a:pt x="1340" y="968"/>
                  </a:lnTo>
                  <a:lnTo>
                    <a:pt x="1349" y="959"/>
                  </a:lnTo>
                  <a:lnTo>
                    <a:pt x="1368" y="951"/>
                  </a:lnTo>
                  <a:lnTo>
                    <a:pt x="1383" y="942"/>
                  </a:lnTo>
                  <a:lnTo>
                    <a:pt x="1396" y="936"/>
                  </a:lnTo>
                  <a:lnTo>
                    <a:pt x="1406" y="928"/>
                  </a:lnTo>
                  <a:lnTo>
                    <a:pt x="1413" y="921"/>
                  </a:lnTo>
                  <a:lnTo>
                    <a:pt x="1417" y="917"/>
                  </a:lnTo>
                  <a:lnTo>
                    <a:pt x="1421" y="915"/>
                  </a:lnTo>
                  <a:lnTo>
                    <a:pt x="1421" y="913"/>
                  </a:lnTo>
                  <a:lnTo>
                    <a:pt x="1383" y="877"/>
                  </a:lnTo>
                  <a:lnTo>
                    <a:pt x="1347" y="840"/>
                  </a:lnTo>
                  <a:lnTo>
                    <a:pt x="1311" y="804"/>
                  </a:lnTo>
                  <a:lnTo>
                    <a:pt x="1279" y="766"/>
                  </a:lnTo>
                  <a:lnTo>
                    <a:pt x="1249" y="730"/>
                  </a:lnTo>
                  <a:lnTo>
                    <a:pt x="1228" y="696"/>
                  </a:lnTo>
                  <a:lnTo>
                    <a:pt x="1213" y="664"/>
                  </a:lnTo>
                  <a:lnTo>
                    <a:pt x="1206" y="636"/>
                  </a:lnTo>
                  <a:lnTo>
                    <a:pt x="1213" y="587"/>
                  </a:lnTo>
                  <a:lnTo>
                    <a:pt x="1225" y="547"/>
                  </a:lnTo>
                  <a:lnTo>
                    <a:pt x="1236" y="519"/>
                  </a:lnTo>
                  <a:lnTo>
                    <a:pt x="1242" y="509"/>
                  </a:lnTo>
                  <a:lnTo>
                    <a:pt x="1268" y="541"/>
                  </a:lnTo>
                  <a:lnTo>
                    <a:pt x="1300" y="566"/>
                  </a:lnTo>
                  <a:lnTo>
                    <a:pt x="1336" y="587"/>
                  </a:lnTo>
                  <a:lnTo>
                    <a:pt x="1377" y="606"/>
                  </a:lnTo>
                  <a:lnTo>
                    <a:pt x="1413" y="621"/>
                  </a:lnTo>
                  <a:lnTo>
                    <a:pt x="1449" y="634"/>
                  </a:lnTo>
                  <a:lnTo>
                    <a:pt x="1479" y="643"/>
                  </a:lnTo>
                  <a:lnTo>
                    <a:pt x="1502" y="651"/>
                  </a:lnTo>
                  <a:lnTo>
                    <a:pt x="1515" y="670"/>
                  </a:lnTo>
                  <a:lnTo>
                    <a:pt x="1528" y="700"/>
                  </a:lnTo>
                  <a:lnTo>
                    <a:pt x="1534" y="732"/>
                  </a:lnTo>
                  <a:lnTo>
                    <a:pt x="1538" y="745"/>
                  </a:lnTo>
                  <a:lnTo>
                    <a:pt x="1555" y="779"/>
                  </a:lnTo>
                  <a:lnTo>
                    <a:pt x="1566" y="811"/>
                  </a:lnTo>
                  <a:lnTo>
                    <a:pt x="1579" y="830"/>
                  </a:lnTo>
                  <a:lnTo>
                    <a:pt x="1591" y="838"/>
                  </a:lnTo>
                  <a:lnTo>
                    <a:pt x="1596" y="840"/>
                  </a:lnTo>
                  <a:lnTo>
                    <a:pt x="1589" y="857"/>
                  </a:lnTo>
                  <a:lnTo>
                    <a:pt x="1604" y="896"/>
                  </a:lnTo>
                  <a:lnTo>
                    <a:pt x="1621" y="915"/>
                  </a:lnTo>
                  <a:lnTo>
                    <a:pt x="1634" y="921"/>
                  </a:lnTo>
                  <a:lnTo>
                    <a:pt x="1640" y="921"/>
                  </a:lnTo>
                  <a:lnTo>
                    <a:pt x="1659" y="934"/>
                  </a:lnTo>
                  <a:lnTo>
                    <a:pt x="1681" y="972"/>
                  </a:lnTo>
                  <a:lnTo>
                    <a:pt x="1693" y="979"/>
                  </a:lnTo>
                  <a:lnTo>
                    <a:pt x="1698" y="972"/>
                  </a:lnTo>
                  <a:lnTo>
                    <a:pt x="1700" y="966"/>
                  </a:lnTo>
                  <a:lnTo>
                    <a:pt x="1719" y="979"/>
                  </a:lnTo>
                  <a:lnTo>
                    <a:pt x="1734" y="1021"/>
                  </a:lnTo>
                  <a:lnTo>
                    <a:pt x="1768" y="1006"/>
                  </a:lnTo>
                  <a:lnTo>
                    <a:pt x="1783" y="1025"/>
                  </a:lnTo>
                  <a:lnTo>
                    <a:pt x="1800" y="1042"/>
                  </a:lnTo>
                  <a:lnTo>
                    <a:pt x="1817" y="1053"/>
                  </a:lnTo>
                  <a:lnTo>
                    <a:pt x="1834" y="1062"/>
                  </a:lnTo>
                  <a:lnTo>
                    <a:pt x="1849" y="1068"/>
                  </a:lnTo>
                  <a:lnTo>
                    <a:pt x="1861" y="1070"/>
                  </a:lnTo>
                  <a:lnTo>
                    <a:pt x="1872" y="1070"/>
                  </a:lnTo>
                  <a:lnTo>
                    <a:pt x="1881" y="1066"/>
                  </a:lnTo>
                  <a:lnTo>
                    <a:pt x="1855" y="1032"/>
                  </a:lnTo>
                  <a:lnTo>
                    <a:pt x="1838" y="1000"/>
                  </a:lnTo>
                  <a:lnTo>
                    <a:pt x="1830" y="966"/>
                  </a:lnTo>
                  <a:lnTo>
                    <a:pt x="1834" y="928"/>
                  </a:lnTo>
                  <a:lnTo>
                    <a:pt x="1836" y="885"/>
                  </a:lnTo>
                  <a:lnTo>
                    <a:pt x="1830" y="845"/>
                  </a:lnTo>
                  <a:lnTo>
                    <a:pt x="1823" y="813"/>
                  </a:lnTo>
                  <a:lnTo>
                    <a:pt x="1819" y="800"/>
                  </a:lnTo>
                  <a:lnTo>
                    <a:pt x="2008" y="928"/>
                  </a:lnTo>
                  <a:lnTo>
                    <a:pt x="2042" y="981"/>
                  </a:lnTo>
                  <a:lnTo>
                    <a:pt x="2064" y="1030"/>
                  </a:lnTo>
                  <a:lnTo>
                    <a:pt x="2072" y="1074"/>
                  </a:lnTo>
                  <a:lnTo>
                    <a:pt x="2074" y="1115"/>
                  </a:lnTo>
                  <a:lnTo>
                    <a:pt x="2070" y="1147"/>
                  </a:lnTo>
                  <a:lnTo>
                    <a:pt x="2064" y="1172"/>
                  </a:lnTo>
                  <a:lnTo>
                    <a:pt x="2057" y="1187"/>
                  </a:lnTo>
                  <a:lnTo>
                    <a:pt x="2055" y="1193"/>
                  </a:lnTo>
                  <a:lnTo>
                    <a:pt x="2027" y="1206"/>
                  </a:lnTo>
                  <a:lnTo>
                    <a:pt x="2004" y="1221"/>
                  </a:lnTo>
                  <a:lnTo>
                    <a:pt x="1989" y="1236"/>
                  </a:lnTo>
                  <a:lnTo>
                    <a:pt x="1976" y="1253"/>
                  </a:lnTo>
                  <a:lnTo>
                    <a:pt x="1968" y="1268"/>
                  </a:lnTo>
                  <a:lnTo>
                    <a:pt x="1964" y="1281"/>
                  </a:lnTo>
                  <a:lnTo>
                    <a:pt x="1961" y="1289"/>
                  </a:lnTo>
                  <a:lnTo>
                    <a:pt x="1961" y="1291"/>
                  </a:lnTo>
                  <a:lnTo>
                    <a:pt x="1989" y="1295"/>
                  </a:lnTo>
                  <a:lnTo>
                    <a:pt x="2006" y="1293"/>
                  </a:lnTo>
                  <a:lnTo>
                    <a:pt x="2013" y="1287"/>
                  </a:lnTo>
                  <a:lnTo>
                    <a:pt x="2015" y="1285"/>
                  </a:lnTo>
                  <a:lnTo>
                    <a:pt x="2038" y="1285"/>
                  </a:lnTo>
                  <a:lnTo>
                    <a:pt x="2055" y="1306"/>
                  </a:lnTo>
                  <a:lnTo>
                    <a:pt x="2072" y="1319"/>
                  </a:lnTo>
                  <a:lnTo>
                    <a:pt x="2087" y="1325"/>
                  </a:lnTo>
                  <a:lnTo>
                    <a:pt x="2100" y="1323"/>
                  </a:lnTo>
                  <a:lnTo>
                    <a:pt x="2112" y="1321"/>
                  </a:lnTo>
                  <a:lnTo>
                    <a:pt x="2123" y="1319"/>
                  </a:lnTo>
                  <a:lnTo>
                    <a:pt x="2130" y="1321"/>
                  </a:lnTo>
                  <a:lnTo>
                    <a:pt x="2132" y="1321"/>
                  </a:lnTo>
                  <a:lnTo>
                    <a:pt x="2166" y="1264"/>
                  </a:lnTo>
                  <a:lnTo>
                    <a:pt x="2187" y="1236"/>
                  </a:lnTo>
                  <a:lnTo>
                    <a:pt x="2200" y="1210"/>
                  </a:lnTo>
                  <a:lnTo>
                    <a:pt x="2202" y="1183"/>
                  </a:lnTo>
                  <a:lnTo>
                    <a:pt x="2202" y="1155"/>
                  </a:lnTo>
                  <a:lnTo>
                    <a:pt x="2195" y="1130"/>
                  </a:lnTo>
                  <a:lnTo>
                    <a:pt x="2189" y="1106"/>
                  </a:lnTo>
                  <a:lnTo>
                    <a:pt x="2183" y="1083"/>
                  </a:lnTo>
                  <a:lnTo>
                    <a:pt x="2178" y="1062"/>
                  </a:lnTo>
                  <a:lnTo>
                    <a:pt x="2172" y="1038"/>
                  </a:lnTo>
                  <a:lnTo>
                    <a:pt x="2161" y="1006"/>
                  </a:lnTo>
                  <a:lnTo>
                    <a:pt x="2144" y="972"/>
                  </a:lnTo>
                  <a:lnTo>
                    <a:pt x="2125" y="934"/>
                  </a:lnTo>
                  <a:lnTo>
                    <a:pt x="2106" y="898"/>
                  </a:lnTo>
                  <a:lnTo>
                    <a:pt x="2089" y="866"/>
                  </a:lnTo>
                  <a:lnTo>
                    <a:pt x="2076" y="838"/>
                  </a:lnTo>
                  <a:lnTo>
                    <a:pt x="2070" y="819"/>
                  </a:lnTo>
                  <a:lnTo>
                    <a:pt x="2068" y="789"/>
                  </a:lnTo>
                  <a:lnTo>
                    <a:pt x="2064" y="762"/>
                  </a:lnTo>
                  <a:lnTo>
                    <a:pt x="2061" y="738"/>
                  </a:lnTo>
                  <a:lnTo>
                    <a:pt x="2061" y="730"/>
                  </a:lnTo>
                  <a:lnTo>
                    <a:pt x="2008" y="668"/>
                  </a:lnTo>
                  <a:lnTo>
                    <a:pt x="1944" y="660"/>
                  </a:lnTo>
                  <a:lnTo>
                    <a:pt x="1913" y="640"/>
                  </a:lnTo>
                  <a:lnTo>
                    <a:pt x="1885" y="619"/>
                  </a:lnTo>
                  <a:lnTo>
                    <a:pt x="1859" y="598"/>
                  </a:lnTo>
                  <a:lnTo>
                    <a:pt x="1838" y="577"/>
                  </a:lnTo>
                  <a:lnTo>
                    <a:pt x="1819" y="560"/>
                  </a:lnTo>
                  <a:lnTo>
                    <a:pt x="1804" y="547"/>
                  </a:lnTo>
                  <a:lnTo>
                    <a:pt x="1796" y="538"/>
                  </a:lnTo>
                  <a:lnTo>
                    <a:pt x="1793" y="534"/>
                  </a:lnTo>
                  <a:lnTo>
                    <a:pt x="1789" y="485"/>
                  </a:lnTo>
                  <a:lnTo>
                    <a:pt x="1781" y="438"/>
                  </a:lnTo>
                  <a:lnTo>
                    <a:pt x="1770" y="394"/>
                  </a:lnTo>
                  <a:lnTo>
                    <a:pt x="1757" y="353"/>
                  </a:lnTo>
                  <a:lnTo>
                    <a:pt x="1744" y="319"/>
                  </a:lnTo>
                  <a:lnTo>
                    <a:pt x="1736" y="294"/>
                  </a:lnTo>
                  <a:lnTo>
                    <a:pt x="1727" y="277"/>
                  </a:lnTo>
                  <a:lnTo>
                    <a:pt x="1725" y="270"/>
                  </a:lnTo>
                  <a:lnTo>
                    <a:pt x="1668" y="139"/>
                  </a:lnTo>
                  <a:lnTo>
                    <a:pt x="1583" y="71"/>
                  </a:lnTo>
                  <a:lnTo>
                    <a:pt x="1617" y="141"/>
                  </a:lnTo>
                  <a:lnTo>
                    <a:pt x="1596" y="149"/>
                  </a:lnTo>
                  <a:lnTo>
                    <a:pt x="1628" y="219"/>
                  </a:lnTo>
                  <a:lnTo>
                    <a:pt x="1600" y="224"/>
                  </a:lnTo>
                  <a:lnTo>
                    <a:pt x="1606" y="243"/>
                  </a:lnTo>
                  <a:lnTo>
                    <a:pt x="1623" y="288"/>
                  </a:lnTo>
                  <a:lnTo>
                    <a:pt x="1640" y="345"/>
                  </a:lnTo>
                  <a:lnTo>
                    <a:pt x="1655" y="402"/>
                  </a:lnTo>
                  <a:lnTo>
                    <a:pt x="1655" y="430"/>
                  </a:lnTo>
                  <a:lnTo>
                    <a:pt x="1640" y="426"/>
                  </a:lnTo>
                  <a:lnTo>
                    <a:pt x="1623" y="409"/>
                  </a:lnTo>
                  <a:lnTo>
                    <a:pt x="1615" y="398"/>
                  </a:lnTo>
                  <a:lnTo>
                    <a:pt x="1625" y="421"/>
                  </a:lnTo>
                  <a:lnTo>
                    <a:pt x="1630" y="438"/>
                  </a:lnTo>
                  <a:lnTo>
                    <a:pt x="1625" y="451"/>
                  </a:lnTo>
                  <a:lnTo>
                    <a:pt x="1617" y="460"/>
                  </a:lnTo>
                  <a:lnTo>
                    <a:pt x="1602" y="462"/>
                  </a:lnTo>
                  <a:lnTo>
                    <a:pt x="1583" y="458"/>
                  </a:lnTo>
                  <a:lnTo>
                    <a:pt x="1559" y="447"/>
                  </a:lnTo>
                  <a:lnTo>
                    <a:pt x="1532" y="430"/>
                  </a:lnTo>
                  <a:lnTo>
                    <a:pt x="1445" y="415"/>
                  </a:lnTo>
                  <a:lnTo>
                    <a:pt x="1447" y="421"/>
                  </a:lnTo>
                  <a:lnTo>
                    <a:pt x="1449" y="434"/>
                  </a:lnTo>
                  <a:lnTo>
                    <a:pt x="1438" y="443"/>
                  </a:lnTo>
                  <a:lnTo>
                    <a:pt x="1408" y="436"/>
                  </a:lnTo>
                  <a:lnTo>
                    <a:pt x="1383" y="424"/>
                  </a:lnTo>
                  <a:lnTo>
                    <a:pt x="1351" y="404"/>
                  </a:lnTo>
                  <a:lnTo>
                    <a:pt x="1313" y="377"/>
                  </a:lnTo>
                  <a:lnTo>
                    <a:pt x="1272" y="343"/>
                  </a:lnTo>
                  <a:lnTo>
                    <a:pt x="1232" y="305"/>
                  </a:lnTo>
                  <a:lnTo>
                    <a:pt x="1196" y="264"/>
                  </a:lnTo>
                  <a:lnTo>
                    <a:pt x="1162" y="219"/>
                  </a:lnTo>
                  <a:lnTo>
                    <a:pt x="1134" y="175"/>
                  </a:lnTo>
                  <a:lnTo>
                    <a:pt x="1145" y="124"/>
                  </a:lnTo>
                  <a:lnTo>
                    <a:pt x="1091" y="60"/>
                  </a:lnTo>
                  <a:lnTo>
                    <a:pt x="1134" y="49"/>
                  </a:lnTo>
                  <a:lnTo>
                    <a:pt x="1040" y="26"/>
                  </a:lnTo>
                  <a:lnTo>
                    <a:pt x="1064" y="9"/>
                  </a:lnTo>
                  <a:lnTo>
                    <a:pt x="923" y="0"/>
                  </a:lnTo>
                  <a:lnTo>
                    <a:pt x="872" y="22"/>
                  </a:lnTo>
                  <a:lnTo>
                    <a:pt x="919" y="41"/>
                  </a:lnTo>
                  <a:lnTo>
                    <a:pt x="915" y="41"/>
                  </a:lnTo>
                  <a:lnTo>
                    <a:pt x="904" y="43"/>
                  </a:lnTo>
                  <a:lnTo>
                    <a:pt x="885" y="47"/>
                  </a:lnTo>
                  <a:lnTo>
                    <a:pt x="860" y="54"/>
                  </a:lnTo>
                  <a:lnTo>
                    <a:pt x="830" y="60"/>
                  </a:lnTo>
                  <a:lnTo>
                    <a:pt x="796" y="66"/>
                  </a:lnTo>
                  <a:lnTo>
                    <a:pt x="758" y="75"/>
                  </a:lnTo>
                  <a:lnTo>
                    <a:pt x="717" y="85"/>
                  </a:lnTo>
                  <a:lnTo>
                    <a:pt x="713" y="90"/>
                  </a:lnTo>
                  <a:lnTo>
                    <a:pt x="702" y="100"/>
                  </a:lnTo>
                  <a:lnTo>
                    <a:pt x="685" y="115"/>
                  </a:lnTo>
                  <a:lnTo>
                    <a:pt x="664" y="134"/>
                  </a:lnTo>
                  <a:lnTo>
                    <a:pt x="638" y="156"/>
                  </a:lnTo>
                  <a:lnTo>
                    <a:pt x="609" y="179"/>
                  </a:lnTo>
                  <a:lnTo>
                    <a:pt x="575" y="202"/>
                  </a:lnTo>
                  <a:lnTo>
                    <a:pt x="541" y="226"/>
                  </a:lnTo>
                  <a:lnTo>
                    <a:pt x="551" y="188"/>
                  </a:lnTo>
                  <a:lnTo>
                    <a:pt x="543" y="192"/>
                  </a:lnTo>
                  <a:lnTo>
                    <a:pt x="521" y="202"/>
                  </a:lnTo>
                  <a:lnTo>
                    <a:pt x="489" y="215"/>
                  </a:lnTo>
                  <a:lnTo>
                    <a:pt x="447" y="230"/>
                  </a:lnTo>
                  <a:lnTo>
                    <a:pt x="400" y="245"/>
                  </a:lnTo>
                  <a:lnTo>
                    <a:pt x="347" y="256"/>
                  </a:lnTo>
                  <a:lnTo>
                    <a:pt x="294" y="258"/>
                  </a:lnTo>
                  <a:lnTo>
                    <a:pt x="243" y="253"/>
                  </a:lnTo>
                  <a:lnTo>
                    <a:pt x="238" y="253"/>
                  </a:lnTo>
                  <a:lnTo>
                    <a:pt x="226" y="253"/>
                  </a:lnTo>
                  <a:lnTo>
                    <a:pt x="207" y="251"/>
                  </a:lnTo>
                  <a:lnTo>
                    <a:pt x="181" y="247"/>
                  </a:lnTo>
                  <a:lnTo>
                    <a:pt x="156" y="239"/>
                  </a:lnTo>
                  <a:lnTo>
                    <a:pt x="128" y="228"/>
                  </a:lnTo>
                  <a:lnTo>
                    <a:pt x="100" y="211"/>
                  </a:lnTo>
                  <a:lnTo>
                    <a:pt x="75" y="190"/>
                  </a:lnTo>
                  <a:lnTo>
                    <a:pt x="70" y="226"/>
                  </a:lnTo>
                  <a:lnTo>
                    <a:pt x="66" y="268"/>
                  </a:lnTo>
                  <a:lnTo>
                    <a:pt x="56" y="313"/>
                  </a:lnTo>
                  <a:lnTo>
                    <a:pt x="47" y="360"/>
                  </a:lnTo>
                  <a:lnTo>
                    <a:pt x="34" y="404"/>
                  </a:lnTo>
                  <a:lnTo>
                    <a:pt x="24" y="441"/>
                  </a:lnTo>
                  <a:lnTo>
                    <a:pt x="11" y="470"/>
                  </a:lnTo>
                  <a:lnTo>
                    <a:pt x="0" y="487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16800" y="5076000"/>
              <a:ext cx="571680" cy="261000"/>
            </a:xfrm>
            <a:custGeom>
              <a:avLst/>
              <a:gdLst/>
              <a:ahLst/>
              <a:rect l="l" t="t" r="r" b="b"/>
              <a:pathLst>
                <a:path w="646" h="317">
                  <a:moveTo>
                    <a:pt x="0" y="178"/>
                  </a:moveTo>
                  <a:lnTo>
                    <a:pt x="23" y="168"/>
                  </a:lnTo>
                  <a:lnTo>
                    <a:pt x="51" y="153"/>
                  </a:lnTo>
                  <a:lnTo>
                    <a:pt x="76" y="138"/>
                  </a:lnTo>
                  <a:lnTo>
                    <a:pt x="104" y="125"/>
                  </a:lnTo>
                  <a:lnTo>
                    <a:pt x="125" y="113"/>
                  </a:lnTo>
                  <a:lnTo>
                    <a:pt x="144" y="102"/>
                  </a:lnTo>
                  <a:lnTo>
                    <a:pt x="157" y="93"/>
                  </a:lnTo>
                  <a:lnTo>
                    <a:pt x="161" y="91"/>
                  </a:lnTo>
                  <a:lnTo>
                    <a:pt x="178" y="85"/>
                  </a:lnTo>
                  <a:lnTo>
                    <a:pt x="193" y="81"/>
                  </a:lnTo>
                  <a:lnTo>
                    <a:pt x="206" y="74"/>
                  </a:lnTo>
                  <a:lnTo>
                    <a:pt x="217" y="70"/>
                  </a:lnTo>
                  <a:lnTo>
                    <a:pt x="225" y="68"/>
                  </a:lnTo>
                  <a:lnTo>
                    <a:pt x="231" y="64"/>
                  </a:lnTo>
                  <a:lnTo>
                    <a:pt x="234" y="61"/>
                  </a:lnTo>
                  <a:lnTo>
                    <a:pt x="236" y="61"/>
                  </a:lnTo>
                  <a:lnTo>
                    <a:pt x="265" y="51"/>
                  </a:lnTo>
                  <a:lnTo>
                    <a:pt x="295" y="40"/>
                  </a:lnTo>
                  <a:lnTo>
                    <a:pt x="319" y="30"/>
                  </a:lnTo>
                  <a:lnTo>
                    <a:pt x="340" y="19"/>
                  </a:lnTo>
                  <a:lnTo>
                    <a:pt x="357" y="10"/>
                  </a:lnTo>
                  <a:lnTo>
                    <a:pt x="370" y="6"/>
                  </a:lnTo>
                  <a:lnTo>
                    <a:pt x="378" y="2"/>
                  </a:lnTo>
                  <a:lnTo>
                    <a:pt x="380" y="0"/>
                  </a:lnTo>
                  <a:lnTo>
                    <a:pt x="414" y="13"/>
                  </a:lnTo>
                  <a:lnTo>
                    <a:pt x="423" y="34"/>
                  </a:lnTo>
                  <a:lnTo>
                    <a:pt x="436" y="57"/>
                  </a:lnTo>
                  <a:lnTo>
                    <a:pt x="451" y="78"/>
                  </a:lnTo>
                  <a:lnTo>
                    <a:pt x="468" y="100"/>
                  </a:lnTo>
                  <a:lnTo>
                    <a:pt x="482" y="119"/>
                  </a:lnTo>
                  <a:lnTo>
                    <a:pt x="495" y="132"/>
                  </a:lnTo>
                  <a:lnTo>
                    <a:pt x="504" y="140"/>
                  </a:lnTo>
                  <a:lnTo>
                    <a:pt x="508" y="144"/>
                  </a:lnTo>
                  <a:lnTo>
                    <a:pt x="516" y="166"/>
                  </a:lnTo>
                  <a:lnTo>
                    <a:pt x="527" y="187"/>
                  </a:lnTo>
                  <a:lnTo>
                    <a:pt x="540" y="210"/>
                  </a:lnTo>
                  <a:lnTo>
                    <a:pt x="555" y="232"/>
                  </a:lnTo>
                  <a:lnTo>
                    <a:pt x="572" y="253"/>
                  </a:lnTo>
                  <a:lnTo>
                    <a:pt x="593" y="274"/>
                  </a:lnTo>
                  <a:lnTo>
                    <a:pt x="616" y="293"/>
                  </a:lnTo>
                  <a:lnTo>
                    <a:pt x="646" y="312"/>
                  </a:lnTo>
                  <a:lnTo>
                    <a:pt x="619" y="317"/>
                  </a:lnTo>
                  <a:lnTo>
                    <a:pt x="595" y="300"/>
                  </a:lnTo>
                  <a:lnTo>
                    <a:pt x="572" y="285"/>
                  </a:lnTo>
                  <a:lnTo>
                    <a:pt x="548" y="272"/>
                  </a:lnTo>
                  <a:lnTo>
                    <a:pt x="525" y="261"/>
                  </a:lnTo>
                  <a:lnTo>
                    <a:pt x="506" y="255"/>
                  </a:lnTo>
                  <a:lnTo>
                    <a:pt x="491" y="251"/>
                  </a:lnTo>
                  <a:lnTo>
                    <a:pt x="480" y="246"/>
                  </a:lnTo>
                  <a:lnTo>
                    <a:pt x="476" y="246"/>
                  </a:lnTo>
                  <a:lnTo>
                    <a:pt x="519" y="234"/>
                  </a:lnTo>
                  <a:lnTo>
                    <a:pt x="506" y="221"/>
                  </a:lnTo>
                  <a:lnTo>
                    <a:pt x="493" y="210"/>
                  </a:lnTo>
                  <a:lnTo>
                    <a:pt x="485" y="204"/>
                  </a:lnTo>
                  <a:lnTo>
                    <a:pt x="480" y="202"/>
                  </a:lnTo>
                  <a:lnTo>
                    <a:pt x="504" y="178"/>
                  </a:lnTo>
                  <a:lnTo>
                    <a:pt x="491" y="170"/>
                  </a:lnTo>
                  <a:lnTo>
                    <a:pt x="474" y="155"/>
                  </a:lnTo>
                  <a:lnTo>
                    <a:pt x="459" y="140"/>
                  </a:lnTo>
                  <a:lnTo>
                    <a:pt x="442" y="121"/>
                  </a:lnTo>
                  <a:lnTo>
                    <a:pt x="427" y="104"/>
                  </a:lnTo>
                  <a:lnTo>
                    <a:pt x="412" y="87"/>
                  </a:lnTo>
                  <a:lnTo>
                    <a:pt x="404" y="74"/>
                  </a:lnTo>
                  <a:lnTo>
                    <a:pt x="397" y="64"/>
                  </a:lnTo>
                  <a:lnTo>
                    <a:pt x="389" y="49"/>
                  </a:lnTo>
                  <a:lnTo>
                    <a:pt x="380" y="38"/>
                  </a:lnTo>
                  <a:lnTo>
                    <a:pt x="372" y="32"/>
                  </a:lnTo>
                  <a:lnTo>
                    <a:pt x="368" y="30"/>
                  </a:lnTo>
                  <a:lnTo>
                    <a:pt x="344" y="40"/>
                  </a:lnTo>
                  <a:lnTo>
                    <a:pt x="319" y="51"/>
                  </a:lnTo>
                  <a:lnTo>
                    <a:pt x="293" y="61"/>
                  </a:lnTo>
                  <a:lnTo>
                    <a:pt x="268" y="70"/>
                  </a:lnTo>
                  <a:lnTo>
                    <a:pt x="244" y="78"/>
                  </a:lnTo>
                  <a:lnTo>
                    <a:pt x="225" y="85"/>
                  </a:lnTo>
                  <a:lnTo>
                    <a:pt x="212" y="87"/>
                  </a:lnTo>
                  <a:lnTo>
                    <a:pt x="208" y="89"/>
                  </a:lnTo>
                  <a:lnTo>
                    <a:pt x="180" y="104"/>
                  </a:lnTo>
                  <a:lnTo>
                    <a:pt x="146" y="119"/>
                  </a:lnTo>
                  <a:lnTo>
                    <a:pt x="112" y="134"/>
                  </a:lnTo>
                  <a:lnTo>
                    <a:pt x="78" y="149"/>
                  </a:lnTo>
                  <a:lnTo>
                    <a:pt x="49" y="159"/>
                  </a:lnTo>
                  <a:lnTo>
                    <a:pt x="23" y="170"/>
                  </a:lnTo>
                  <a:lnTo>
                    <a:pt x="6" y="176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252520" y="5196960"/>
              <a:ext cx="242280" cy="73080"/>
            </a:xfrm>
            <a:custGeom>
              <a:avLst/>
              <a:gdLst/>
              <a:ahLst/>
              <a:rect l="l" t="t" r="r" b="b"/>
              <a:pathLst>
                <a:path w="274" h="89">
                  <a:moveTo>
                    <a:pt x="274" y="0"/>
                  </a:moveTo>
                  <a:lnTo>
                    <a:pt x="253" y="6"/>
                  </a:lnTo>
                  <a:lnTo>
                    <a:pt x="227" y="17"/>
                  </a:lnTo>
                  <a:lnTo>
                    <a:pt x="200" y="29"/>
                  </a:lnTo>
                  <a:lnTo>
                    <a:pt x="168" y="42"/>
                  </a:lnTo>
                  <a:lnTo>
                    <a:pt x="132" y="57"/>
                  </a:lnTo>
                  <a:lnTo>
                    <a:pt x="91" y="70"/>
                  </a:lnTo>
                  <a:lnTo>
                    <a:pt x="49" y="80"/>
                  </a:lnTo>
                  <a:lnTo>
                    <a:pt x="0" y="89"/>
                  </a:lnTo>
                  <a:lnTo>
                    <a:pt x="51" y="85"/>
                  </a:lnTo>
                  <a:lnTo>
                    <a:pt x="93" y="76"/>
                  </a:lnTo>
                  <a:lnTo>
                    <a:pt x="134" y="65"/>
                  </a:lnTo>
                  <a:lnTo>
                    <a:pt x="166" y="55"/>
                  </a:lnTo>
                  <a:lnTo>
                    <a:pt x="191" y="46"/>
                  </a:lnTo>
                  <a:lnTo>
                    <a:pt x="210" y="38"/>
                  </a:lnTo>
                  <a:lnTo>
                    <a:pt x="221" y="31"/>
                  </a:lnTo>
                  <a:lnTo>
                    <a:pt x="225" y="29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45520" y="5466600"/>
              <a:ext cx="337680" cy="120960"/>
            </a:xfrm>
            <a:custGeom>
              <a:avLst/>
              <a:gdLst/>
              <a:ahLst/>
              <a:rect l="l" t="t" r="r" b="b"/>
              <a:pathLst>
                <a:path w="382" h="147">
                  <a:moveTo>
                    <a:pt x="0" y="0"/>
                  </a:moveTo>
                  <a:lnTo>
                    <a:pt x="19" y="0"/>
                  </a:lnTo>
                  <a:lnTo>
                    <a:pt x="34" y="2"/>
                  </a:lnTo>
                  <a:lnTo>
                    <a:pt x="46" y="2"/>
                  </a:lnTo>
                  <a:lnTo>
                    <a:pt x="55" y="2"/>
                  </a:lnTo>
                  <a:lnTo>
                    <a:pt x="61" y="2"/>
                  </a:lnTo>
                  <a:lnTo>
                    <a:pt x="65" y="2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110" y="32"/>
                  </a:lnTo>
                  <a:lnTo>
                    <a:pt x="155" y="55"/>
                  </a:lnTo>
                  <a:lnTo>
                    <a:pt x="199" y="72"/>
                  </a:lnTo>
                  <a:lnTo>
                    <a:pt x="244" y="85"/>
                  </a:lnTo>
                  <a:lnTo>
                    <a:pt x="282" y="94"/>
                  </a:lnTo>
                  <a:lnTo>
                    <a:pt x="312" y="98"/>
                  </a:lnTo>
                  <a:lnTo>
                    <a:pt x="333" y="100"/>
                  </a:lnTo>
                  <a:lnTo>
                    <a:pt x="340" y="100"/>
                  </a:lnTo>
                  <a:lnTo>
                    <a:pt x="382" y="132"/>
                  </a:lnTo>
                  <a:lnTo>
                    <a:pt x="372" y="147"/>
                  </a:lnTo>
                  <a:lnTo>
                    <a:pt x="297" y="102"/>
                  </a:lnTo>
                  <a:lnTo>
                    <a:pt x="306" y="130"/>
                  </a:lnTo>
                  <a:lnTo>
                    <a:pt x="259" y="115"/>
                  </a:lnTo>
                  <a:lnTo>
                    <a:pt x="210" y="96"/>
                  </a:lnTo>
                  <a:lnTo>
                    <a:pt x="159" y="74"/>
                  </a:lnTo>
                  <a:lnTo>
                    <a:pt x="110" y="53"/>
                  </a:lnTo>
                  <a:lnTo>
                    <a:pt x="65" y="32"/>
                  </a:lnTo>
                  <a:lnTo>
                    <a:pt x="31" y="15"/>
                  </a:lnTo>
                  <a:lnTo>
                    <a:pt x="8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348000" y="5520960"/>
              <a:ext cx="66960" cy="6660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2" y="0"/>
                  </a:moveTo>
                  <a:lnTo>
                    <a:pt x="0" y="55"/>
                  </a:lnTo>
                  <a:lnTo>
                    <a:pt x="19" y="59"/>
                  </a:lnTo>
                  <a:lnTo>
                    <a:pt x="34" y="68"/>
                  </a:lnTo>
                  <a:lnTo>
                    <a:pt x="42" y="76"/>
                  </a:lnTo>
                  <a:lnTo>
                    <a:pt x="47" y="81"/>
                  </a:lnTo>
                  <a:lnTo>
                    <a:pt x="76" y="64"/>
                  </a:lnTo>
                  <a:lnTo>
                    <a:pt x="59" y="55"/>
                  </a:lnTo>
                  <a:lnTo>
                    <a:pt x="44" y="47"/>
                  </a:lnTo>
                  <a:lnTo>
                    <a:pt x="32" y="36"/>
                  </a:lnTo>
                  <a:lnTo>
                    <a:pt x="21" y="25"/>
                  </a:lnTo>
                  <a:lnTo>
                    <a:pt x="12" y="15"/>
                  </a:lnTo>
                  <a:lnTo>
                    <a:pt x="6" y="6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75400" y="5299920"/>
              <a:ext cx="250200" cy="287280"/>
            </a:xfrm>
            <a:custGeom>
              <a:avLst/>
              <a:gdLst/>
              <a:ahLst/>
              <a:rect l="l" t="t" r="r" b="b"/>
              <a:pathLst>
                <a:path w="283" h="349">
                  <a:moveTo>
                    <a:pt x="0" y="0"/>
                  </a:moveTo>
                  <a:lnTo>
                    <a:pt x="15" y="17"/>
                  </a:lnTo>
                  <a:lnTo>
                    <a:pt x="30" y="32"/>
                  </a:lnTo>
                  <a:lnTo>
                    <a:pt x="43" y="40"/>
                  </a:lnTo>
                  <a:lnTo>
                    <a:pt x="55" y="47"/>
                  </a:lnTo>
                  <a:lnTo>
                    <a:pt x="64" y="51"/>
                  </a:lnTo>
                  <a:lnTo>
                    <a:pt x="70" y="53"/>
                  </a:lnTo>
                  <a:lnTo>
                    <a:pt x="74" y="55"/>
                  </a:lnTo>
                  <a:lnTo>
                    <a:pt x="77" y="55"/>
                  </a:lnTo>
                  <a:lnTo>
                    <a:pt x="96" y="81"/>
                  </a:lnTo>
                  <a:lnTo>
                    <a:pt x="115" y="102"/>
                  </a:lnTo>
                  <a:lnTo>
                    <a:pt x="132" y="117"/>
                  </a:lnTo>
                  <a:lnTo>
                    <a:pt x="149" y="128"/>
                  </a:lnTo>
                  <a:lnTo>
                    <a:pt x="164" y="136"/>
                  </a:lnTo>
                  <a:lnTo>
                    <a:pt x="174" y="140"/>
                  </a:lnTo>
                  <a:lnTo>
                    <a:pt x="183" y="145"/>
                  </a:lnTo>
                  <a:lnTo>
                    <a:pt x="185" y="145"/>
                  </a:lnTo>
                  <a:lnTo>
                    <a:pt x="206" y="172"/>
                  </a:lnTo>
                  <a:lnTo>
                    <a:pt x="225" y="204"/>
                  </a:lnTo>
                  <a:lnTo>
                    <a:pt x="240" y="238"/>
                  </a:lnTo>
                  <a:lnTo>
                    <a:pt x="255" y="272"/>
                  </a:lnTo>
                  <a:lnTo>
                    <a:pt x="268" y="302"/>
                  </a:lnTo>
                  <a:lnTo>
                    <a:pt x="277" y="325"/>
                  </a:lnTo>
                  <a:lnTo>
                    <a:pt x="281" y="342"/>
                  </a:lnTo>
                  <a:lnTo>
                    <a:pt x="283" y="349"/>
                  </a:lnTo>
                  <a:lnTo>
                    <a:pt x="194" y="200"/>
                  </a:lnTo>
                  <a:lnTo>
                    <a:pt x="191" y="236"/>
                  </a:lnTo>
                  <a:lnTo>
                    <a:pt x="164" y="215"/>
                  </a:lnTo>
                  <a:lnTo>
                    <a:pt x="145" y="196"/>
                  </a:lnTo>
                  <a:lnTo>
                    <a:pt x="128" y="176"/>
                  </a:lnTo>
                  <a:lnTo>
                    <a:pt x="115" y="159"/>
                  </a:lnTo>
                  <a:lnTo>
                    <a:pt x="106" y="147"/>
                  </a:lnTo>
                  <a:lnTo>
                    <a:pt x="102" y="136"/>
                  </a:lnTo>
                  <a:lnTo>
                    <a:pt x="98" y="130"/>
                  </a:lnTo>
                  <a:lnTo>
                    <a:pt x="98" y="128"/>
                  </a:lnTo>
                  <a:lnTo>
                    <a:pt x="57" y="111"/>
                  </a:lnTo>
                  <a:lnTo>
                    <a:pt x="55" y="1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0" y="228600"/>
            <a:ext cx="883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ahoma"/>
              </a:rPr>
              <a:t>МЛЕКОПИТАЮЩИ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04920" y="4876920"/>
            <a:ext cx="1904760" cy="1747800"/>
            <a:chOff x="304920" y="4876920"/>
            <a:chExt cx="1904760" cy="1747800"/>
          </a:xfrm>
        </p:grpSpPr>
        <p:sp>
          <p:nvSpPr>
            <p:cNvPr id="416" name=""/>
            <p:cNvSpPr/>
            <p:nvPr/>
          </p:nvSpPr>
          <p:spPr>
            <a:xfrm>
              <a:off x="304920" y="4876920"/>
              <a:ext cx="1904760" cy="1747800"/>
            </a:xfrm>
            <a:custGeom>
              <a:avLst/>
              <a:gdLst/>
              <a:ahLst/>
              <a:rect l="l" t="t" r="r" b="b"/>
              <a:pathLst>
                <a:path w="3695" h="3213">
                  <a:moveTo>
                    <a:pt x="632" y="2047"/>
                  </a:moveTo>
                  <a:lnTo>
                    <a:pt x="608" y="2011"/>
                  </a:lnTo>
                  <a:lnTo>
                    <a:pt x="585" y="1974"/>
                  </a:lnTo>
                  <a:lnTo>
                    <a:pt x="551" y="1940"/>
                  </a:lnTo>
                  <a:lnTo>
                    <a:pt x="518" y="1907"/>
                  </a:lnTo>
                  <a:lnTo>
                    <a:pt x="478" y="1870"/>
                  </a:lnTo>
                  <a:lnTo>
                    <a:pt x="431" y="1837"/>
                  </a:lnTo>
                  <a:lnTo>
                    <a:pt x="381" y="1800"/>
                  </a:lnTo>
                  <a:lnTo>
                    <a:pt x="327" y="1760"/>
                  </a:lnTo>
                  <a:lnTo>
                    <a:pt x="281" y="1720"/>
                  </a:lnTo>
                  <a:lnTo>
                    <a:pt x="241" y="1673"/>
                  </a:lnTo>
                  <a:lnTo>
                    <a:pt x="211" y="1627"/>
                  </a:lnTo>
                  <a:lnTo>
                    <a:pt x="191" y="1576"/>
                  </a:lnTo>
                  <a:lnTo>
                    <a:pt x="174" y="1523"/>
                  </a:lnTo>
                  <a:lnTo>
                    <a:pt x="167" y="1473"/>
                  </a:lnTo>
                  <a:lnTo>
                    <a:pt x="160" y="1419"/>
                  </a:lnTo>
                  <a:lnTo>
                    <a:pt x="160" y="1369"/>
                  </a:lnTo>
                  <a:lnTo>
                    <a:pt x="160" y="1369"/>
                  </a:lnTo>
                  <a:lnTo>
                    <a:pt x="157" y="1359"/>
                  </a:lnTo>
                  <a:lnTo>
                    <a:pt x="140" y="1339"/>
                  </a:lnTo>
                  <a:lnTo>
                    <a:pt x="107" y="1296"/>
                  </a:lnTo>
                  <a:lnTo>
                    <a:pt x="84" y="1259"/>
                  </a:lnTo>
                  <a:lnTo>
                    <a:pt x="84" y="1246"/>
                  </a:lnTo>
                  <a:lnTo>
                    <a:pt x="80" y="1219"/>
                  </a:lnTo>
                  <a:lnTo>
                    <a:pt x="47" y="1149"/>
                  </a:lnTo>
                  <a:lnTo>
                    <a:pt x="10" y="1069"/>
                  </a:lnTo>
                  <a:lnTo>
                    <a:pt x="0" y="1025"/>
                  </a:lnTo>
                  <a:lnTo>
                    <a:pt x="13" y="1009"/>
                  </a:lnTo>
                  <a:lnTo>
                    <a:pt x="30" y="995"/>
                  </a:lnTo>
                  <a:lnTo>
                    <a:pt x="44" y="992"/>
                  </a:lnTo>
                  <a:lnTo>
                    <a:pt x="67" y="992"/>
                  </a:lnTo>
                  <a:lnTo>
                    <a:pt x="100" y="999"/>
                  </a:lnTo>
                  <a:lnTo>
                    <a:pt x="134" y="1009"/>
                  </a:lnTo>
                  <a:lnTo>
                    <a:pt x="170" y="1022"/>
                  </a:lnTo>
                  <a:lnTo>
                    <a:pt x="204" y="1035"/>
                  </a:lnTo>
                  <a:lnTo>
                    <a:pt x="237" y="1049"/>
                  </a:lnTo>
                  <a:lnTo>
                    <a:pt x="261" y="1066"/>
                  </a:lnTo>
                  <a:lnTo>
                    <a:pt x="277" y="1076"/>
                  </a:lnTo>
                  <a:lnTo>
                    <a:pt x="294" y="1086"/>
                  </a:lnTo>
                  <a:lnTo>
                    <a:pt x="304" y="1089"/>
                  </a:lnTo>
                  <a:lnTo>
                    <a:pt x="317" y="1086"/>
                  </a:lnTo>
                  <a:lnTo>
                    <a:pt x="327" y="1082"/>
                  </a:lnTo>
                  <a:lnTo>
                    <a:pt x="344" y="1079"/>
                  </a:lnTo>
                  <a:lnTo>
                    <a:pt x="361" y="1069"/>
                  </a:lnTo>
                  <a:lnTo>
                    <a:pt x="384" y="1059"/>
                  </a:lnTo>
                  <a:lnTo>
                    <a:pt x="411" y="1046"/>
                  </a:lnTo>
                  <a:lnTo>
                    <a:pt x="444" y="1035"/>
                  </a:lnTo>
                  <a:lnTo>
                    <a:pt x="481" y="1025"/>
                  </a:lnTo>
                  <a:lnTo>
                    <a:pt x="528" y="1019"/>
                  </a:lnTo>
                  <a:lnTo>
                    <a:pt x="578" y="1012"/>
                  </a:lnTo>
                  <a:lnTo>
                    <a:pt x="635" y="1009"/>
                  </a:lnTo>
                  <a:lnTo>
                    <a:pt x="698" y="1005"/>
                  </a:lnTo>
                  <a:lnTo>
                    <a:pt x="768" y="1009"/>
                  </a:lnTo>
                  <a:lnTo>
                    <a:pt x="802" y="1005"/>
                  </a:lnTo>
                  <a:lnTo>
                    <a:pt x="819" y="995"/>
                  </a:lnTo>
                  <a:lnTo>
                    <a:pt x="829" y="982"/>
                  </a:lnTo>
                  <a:lnTo>
                    <a:pt x="849" y="965"/>
                  </a:lnTo>
                  <a:lnTo>
                    <a:pt x="865" y="952"/>
                  </a:lnTo>
                  <a:lnTo>
                    <a:pt x="895" y="935"/>
                  </a:lnTo>
                  <a:lnTo>
                    <a:pt x="929" y="912"/>
                  </a:lnTo>
                  <a:lnTo>
                    <a:pt x="969" y="892"/>
                  </a:lnTo>
                  <a:lnTo>
                    <a:pt x="1006" y="872"/>
                  </a:lnTo>
                  <a:lnTo>
                    <a:pt x="1042" y="855"/>
                  </a:lnTo>
                  <a:lnTo>
                    <a:pt x="1073" y="848"/>
                  </a:lnTo>
                  <a:lnTo>
                    <a:pt x="1096" y="852"/>
                  </a:lnTo>
                  <a:lnTo>
                    <a:pt x="1106" y="879"/>
                  </a:lnTo>
                  <a:lnTo>
                    <a:pt x="1103" y="919"/>
                  </a:lnTo>
                  <a:lnTo>
                    <a:pt x="1089" y="962"/>
                  </a:lnTo>
                  <a:lnTo>
                    <a:pt x="1066" y="1012"/>
                  </a:lnTo>
                  <a:lnTo>
                    <a:pt x="1056" y="1049"/>
                  </a:lnTo>
                  <a:lnTo>
                    <a:pt x="1066" y="1076"/>
                  </a:lnTo>
                  <a:lnTo>
                    <a:pt x="1073" y="1106"/>
                  </a:lnTo>
                  <a:lnTo>
                    <a:pt x="1046" y="1162"/>
                  </a:lnTo>
                  <a:lnTo>
                    <a:pt x="1049" y="1162"/>
                  </a:lnTo>
                  <a:lnTo>
                    <a:pt x="1056" y="1159"/>
                  </a:lnTo>
                  <a:lnTo>
                    <a:pt x="1073" y="1159"/>
                  </a:lnTo>
                  <a:lnTo>
                    <a:pt x="1089" y="1156"/>
                  </a:lnTo>
                  <a:lnTo>
                    <a:pt x="1109" y="1152"/>
                  </a:lnTo>
                  <a:lnTo>
                    <a:pt x="1136" y="1152"/>
                  </a:lnTo>
                  <a:lnTo>
                    <a:pt x="1163" y="1149"/>
                  </a:lnTo>
                  <a:lnTo>
                    <a:pt x="1189" y="1149"/>
                  </a:lnTo>
                  <a:lnTo>
                    <a:pt x="1166" y="1179"/>
                  </a:lnTo>
                  <a:lnTo>
                    <a:pt x="1169" y="1179"/>
                  </a:lnTo>
                  <a:lnTo>
                    <a:pt x="1176" y="1176"/>
                  </a:lnTo>
                  <a:lnTo>
                    <a:pt x="1186" y="1176"/>
                  </a:lnTo>
                  <a:lnTo>
                    <a:pt x="1203" y="1176"/>
                  </a:lnTo>
                  <a:lnTo>
                    <a:pt x="1220" y="1172"/>
                  </a:lnTo>
                  <a:lnTo>
                    <a:pt x="1240" y="1176"/>
                  </a:lnTo>
                  <a:lnTo>
                    <a:pt x="1263" y="1179"/>
                  </a:lnTo>
                  <a:lnTo>
                    <a:pt x="1286" y="1182"/>
                  </a:lnTo>
                  <a:lnTo>
                    <a:pt x="1283" y="1186"/>
                  </a:lnTo>
                  <a:lnTo>
                    <a:pt x="1270" y="1192"/>
                  </a:lnTo>
                  <a:lnTo>
                    <a:pt x="1250" y="1206"/>
                  </a:lnTo>
                  <a:lnTo>
                    <a:pt x="1220" y="1226"/>
                  </a:lnTo>
                  <a:lnTo>
                    <a:pt x="1223" y="1226"/>
                  </a:lnTo>
                  <a:lnTo>
                    <a:pt x="1236" y="1222"/>
                  </a:lnTo>
                  <a:lnTo>
                    <a:pt x="1263" y="1219"/>
                  </a:lnTo>
                  <a:lnTo>
                    <a:pt x="1300" y="1212"/>
                  </a:lnTo>
                  <a:lnTo>
                    <a:pt x="1357" y="1202"/>
                  </a:lnTo>
                  <a:lnTo>
                    <a:pt x="1430" y="1186"/>
                  </a:lnTo>
                  <a:lnTo>
                    <a:pt x="1524" y="1166"/>
                  </a:lnTo>
                  <a:lnTo>
                    <a:pt x="1640" y="1139"/>
                  </a:lnTo>
                  <a:lnTo>
                    <a:pt x="1707" y="1126"/>
                  </a:lnTo>
                  <a:lnTo>
                    <a:pt x="1777" y="1116"/>
                  </a:lnTo>
                  <a:lnTo>
                    <a:pt x="1854" y="1109"/>
                  </a:lnTo>
                  <a:lnTo>
                    <a:pt x="1934" y="1102"/>
                  </a:lnTo>
                  <a:lnTo>
                    <a:pt x="2018" y="1099"/>
                  </a:lnTo>
                  <a:lnTo>
                    <a:pt x="2105" y="1096"/>
                  </a:lnTo>
                  <a:lnTo>
                    <a:pt x="2188" y="1096"/>
                  </a:lnTo>
                  <a:lnTo>
                    <a:pt x="2275" y="1096"/>
                  </a:lnTo>
                  <a:lnTo>
                    <a:pt x="2362" y="1099"/>
                  </a:lnTo>
                  <a:lnTo>
                    <a:pt x="2442" y="1106"/>
                  </a:lnTo>
                  <a:lnTo>
                    <a:pt x="2526" y="1109"/>
                  </a:lnTo>
                  <a:lnTo>
                    <a:pt x="2603" y="1116"/>
                  </a:lnTo>
                  <a:lnTo>
                    <a:pt x="2673" y="1122"/>
                  </a:lnTo>
                  <a:lnTo>
                    <a:pt x="2740" y="1129"/>
                  </a:lnTo>
                  <a:lnTo>
                    <a:pt x="2800" y="1139"/>
                  </a:lnTo>
                  <a:lnTo>
                    <a:pt x="2853" y="1146"/>
                  </a:lnTo>
                  <a:lnTo>
                    <a:pt x="2913" y="1149"/>
                  </a:lnTo>
                  <a:lnTo>
                    <a:pt x="2964" y="1146"/>
                  </a:lnTo>
                  <a:lnTo>
                    <a:pt x="3000" y="1129"/>
                  </a:lnTo>
                  <a:lnTo>
                    <a:pt x="3027" y="1109"/>
                  </a:lnTo>
                  <a:lnTo>
                    <a:pt x="3050" y="1082"/>
                  </a:lnTo>
                  <a:lnTo>
                    <a:pt x="3067" y="1049"/>
                  </a:lnTo>
                  <a:lnTo>
                    <a:pt x="3084" y="1012"/>
                  </a:lnTo>
                  <a:lnTo>
                    <a:pt x="3104" y="972"/>
                  </a:lnTo>
                  <a:lnTo>
                    <a:pt x="3127" y="929"/>
                  </a:lnTo>
                  <a:lnTo>
                    <a:pt x="3154" y="882"/>
                  </a:lnTo>
                  <a:lnTo>
                    <a:pt x="3187" y="832"/>
                  </a:lnTo>
                  <a:lnTo>
                    <a:pt x="3224" y="775"/>
                  </a:lnTo>
                  <a:lnTo>
                    <a:pt x="3268" y="715"/>
                  </a:lnTo>
                  <a:lnTo>
                    <a:pt x="3311" y="651"/>
                  </a:lnTo>
                  <a:lnTo>
                    <a:pt x="3354" y="581"/>
                  </a:lnTo>
                  <a:lnTo>
                    <a:pt x="3401" y="505"/>
                  </a:lnTo>
                  <a:lnTo>
                    <a:pt x="3435" y="431"/>
                  </a:lnTo>
                  <a:lnTo>
                    <a:pt x="3445" y="368"/>
                  </a:lnTo>
                  <a:lnTo>
                    <a:pt x="3435" y="314"/>
                  </a:lnTo>
                  <a:lnTo>
                    <a:pt x="3408" y="271"/>
                  </a:lnTo>
                  <a:lnTo>
                    <a:pt x="3371" y="241"/>
                  </a:lnTo>
                  <a:lnTo>
                    <a:pt x="3324" y="217"/>
                  </a:lnTo>
                  <a:lnTo>
                    <a:pt x="3278" y="207"/>
                  </a:lnTo>
                  <a:lnTo>
                    <a:pt x="3231" y="204"/>
                  </a:lnTo>
                  <a:lnTo>
                    <a:pt x="3187" y="207"/>
                  </a:lnTo>
                  <a:lnTo>
                    <a:pt x="3144" y="211"/>
                  </a:lnTo>
                  <a:lnTo>
                    <a:pt x="3104" y="214"/>
                  </a:lnTo>
                  <a:lnTo>
                    <a:pt x="3067" y="214"/>
                  </a:lnTo>
                  <a:lnTo>
                    <a:pt x="3037" y="207"/>
                  </a:lnTo>
                  <a:lnTo>
                    <a:pt x="3014" y="194"/>
                  </a:lnTo>
                  <a:lnTo>
                    <a:pt x="3000" y="174"/>
                  </a:lnTo>
                  <a:lnTo>
                    <a:pt x="2994" y="144"/>
                  </a:lnTo>
                  <a:lnTo>
                    <a:pt x="3004" y="101"/>
                  </a:lnTo>
                  <a:lnTo>
                    <a:pt x="3027" y="67"/>
                  </a:lnTo>
                  <a:lnTo>
                    <a:pt x="3064" y="44"/>
                  </a:lnTo>
                  <a:lnTo>
                    <a:pt x="3107" y="24"/>
                  </a:lnTo>
                  <a:lnTo>
                    <a:pt x="3157" y="14"/>
                  </a:lnTo>
                  <a:lnTo>
                    <a:pt x="3207" y="7"/>
                  </a:lnTo>
                  <a:lnTo>
                    <a:pt x="3258" y="4"/>
                  </a:lnTo>
                  <a:lnTo>
                    <a:pt x="3301" y="0"/>
                  </a:lnTo>
                  <a:lnTo>
                    <a:pt x="3338" y="0"/>
                  </a:lnTo>
                  <a:lnTo>
                    <a:pt x="3374" y="7"/>
                  </a:lnTo>
                  <a:lnTo>
                    <a:pt x="3418" y="17"/>
                  </a:lnTo>
                  <a:lnTo>
                    <a:pt x="3461" y="30"/>
                  </a:lnTo>
                  <a:lnTo>
                    <a:pt x="3501" y="47"/>
                  </a:lnTo>
                  <a:lnTo>
                    <a:pt x="3541" y="67"/>
                  </a:lnTo>
                  <a:lnTo>
                    <a:pt x="3575" y="87"/>
                  </a:lnTo>
                  <a:lnTo>
                    <a:pt x="3602" y="111"/>
                  </a:lnTo>
                  <a:lnTo>
                    <a:pt x="3635" y="154"/>
                  </a:lnTo>
                  <a:lnTo>
                    <a:pt x="3665" y="204"/>
                  </a:lnTo>
                  <a:lnTo>
                    <a:pt x="3685" y="264"/>
                  </a:lnTo>
                  <a:lnTo>
                    <a:pt x="3695" y="334"/>
                  </a:lnTo>
                  <a:lnTo>
                    <a:pt x="3688" y="418"/>
                  </a:lnTo>
                  <a:lnTo>
                    <a:pt x="3668" y="518"/>
                  </a:lnTo>
                  <a:lnTo>
                    <a:pt x="3628" y="631"/>
                  </a:lnTo>
                  <a:lnTo>
                    <a:pt x="3565" y="765"/>
                  </a:lnTo>
                  <a:lnTo>
                    <a:pt x="3505" y="885"/>
                  </a:lnTo>
                  <a:lnTo>
                    <a:pt x="3455" y="985"/>
                  </a:lnTo>
                  <a:lnTo>
                    <a:pt x="3418" y="1069"/>
                  </a:lnTo>
                  <a:lnTo>
                    <a:pt x="3388" y="1149"/>
                  </a:lnTo>
                  <a:lnTo>
                    <a:pt x="3361" y="1222"/>
                  </a:lnTo>
                  <a:lnTo>
                    <a:pt x="3341" y="1299"/>
                  </a:lnTo>
                  <a:lnTo>
                    <a:pt x="3321" y="1386"/>
                  </a:lnTo>
                  <a:lnTo>
                    <a:pt x="3301" y="1483"/>
                  </a:lnTo>
                  <a:lnTo>
                    <a:pt x="3298" y="1596"/>
                  </a:lnTo>
                  <a:lnTo>
                    <a:pt x="3291" y="1700"/>
                  </a:lnTo>
                  <a:lnTo>
                    <a:pt x="3264" y="1797"/>
                  </a:lnTo>
                  <a:lnTo>
                    <a:pt x="3217" y="1897"/>
                  </a:lnTo>
                  <a:lnTo>
                    <a:pt x="3187" y="1947"/>
                  </a:lnTo>
                  <a:lnTo>
                    <a:pt x="3157" y="1994"/>
                  </a:lnTo>
                  <a:lnTo>
                    <a:pt x="3131" y="2034"/>
                  </a:lnTo>
                  <a:lnTo>
                    <a:pt x="3104" y="2074"/>
                  </a:lnTo>
                  <a:lnTo>
                    <a:pt x="3080" y="2117"/>
                  </a:lnTo>
                  <a:lnTo>
                    <a:pt x="3057" y="2164"/>
                  </a:lnTo>
                  <a:lnTo>
                    <a:pt x="3037" y="2214"/>
                  </a:lnTo>
                  <a:lnTo>
                    <a:pt x="3017" y="2278"/>
                  </a:lnTo>
                  <a:lnTo>
                    <a:pt x="3007" y="2324"/>
                  </a:lnTo>
                  <a:lnTo>
                    <a:pt x="3010" y="2371"/>
                  </a:lnTo>
                  <a:lnTo>
                    <a:pt x="3020" y="2418"/>
                  </a:lnTo>
                  <a:lnTo>
                    <a:pt x="3034" y="2465"/>
                  </a:lnTo>
                  <a:lnTo>
                    <a:pt x="3054" y="2511"/>
                  </a:lnTo>
                  <a:lnTo>
                    <a:pt x="3070" y="2555"/>
                  </a:lnTo>
                  <a:lnTo>
                    <a:pt x="3084" y="2592"/>
                  </a:lnTo>
                  <a:lnTo>
                    <a:pt x="3090" y="2622"/>
                  </a:lnTo>
                  <a:lnTo>
                    <a:pt x="3094" y="2638"/>
                  </a:lnTo>
                  <a:lnTo>
                    <a:pt x="3097" y="2658"/>
                  </a:lnTo>
                  <a:lnTo>
                    <a:pt x="3100" y="2678"/>
                  </a:lnTo>
                  <a:lnTo>
                    <a:pt x="3100" y="2705"/>
                  </a:lnTo>
                  <a:lnTo>
                    <a:pt x="3090" y="2735"/>
                  </a:lnTo>
                  <a:lnTo>
                    <a:pt x="3070" y="2772"/>
                  </a:lnTo>
                  <a:lnTo>
                    <a:pt x="3037" y="2812"/>
                  </a:lnTo>
                  <a:lnTo>
                    <a:pt x="2987" y="2859"/>
                  </a:lnTo>
                  <a:lnTo>
                    <a:pt x="2923" y="2915"/>
                  </a:lnTo>
                  <a:lnTo>
                    <a:pt x="2873" y="2959"/>
                  </a:lnTo>
                  <a:lnTo>
                    <a:pt x="2833" y="2992"/>
                  </a:lnTo>
                  <a:lnTo>
                    <a:pt x="2803" y="3016"/>
                  </a:lnTo>
                  <a:lnTo>
                    <a:pt x="2776" y="3036"/>
                  </a:lnTo>
                  <a:lnTo>
                    <a:pt x="2760" y="3049"/>
                  </a:lnTo>
                  <a:lnTo>
                    <a:pt x="2743" y="3066"/>
                  </a:lnTo>
                  <a:lnTo>
                    <a:pt x="2726" y="3079"/>
                  </a:lnTo>
                  <a:lnTo>
                    <a:pt x="2710" y="3096"/>
                  </a:lnTo>
                  <a:lnTo>
                    <a:pt x="2690" y="3106"/>
                  </a:lnTo>
                  <a:lnTo>
                    <a:pt x="2666" y="3116"/>
                  </a:lnTo>
                  <a:lnTo>
                    <a:pt x="2639" y="3126"/>
                  </a:lnTo>
                  <a:lnTo>
                    <a:pt x="2613" y="3129"/>
                  </a:lnTo>
                  <a:lnTo>
                    <a:pt x="2583" y="3136"/>
                  </a:lnTo>
                  <a:lnTo>
                    <a:pt x="2549" y="3136"/>
                  </a:lnTo>
                  <a:lnTo>
                    <a:pt x="2512" y="3136"/>
                  </a:lnTo>
                  <a:lnTo>
                    <a:pt x="2509" y="3136"/>
                  </a:lnTo>
                  <a:lnTo>
                    <a:pt x="2499" y="3139"/>
                  </a:lnTo>
                  <a:lnTo>
                    <a:pt x="2482" y="3139"/>
                  </a:lnTo>
                  <a:lnTo>
                    <a:pt x="2462" y="3143"/>
                  </a:lnTo>
                  <a:lnTo>
                    <a:pt x="2439" y="3143"/>
                  </a:lnTo>
                  <a:lnTo>
                    <a:pt x="2419" y="3139"/>
                  </a:lnTo>
                  <a:lnTo>
                    <a:pt x="2396" y="3136"/>
                  </a:lnTo>
                  <a:lnTo>
                    <a:pt x="2379" y="3129"/>
                  </a:lnTo>
                  <a:lnTo>
                    <a:pt x="2365" y="3122"/>
                  </a:lnTo>
                  <a:lnTo>
                    <a:pt x="2342" y="3102"/>
                  </a:lnTo>
                  <a:lnTo>
                    <a:pt x="2322" y="3076"/>
                  </a:lnTo>
                  <a:lnTo>
                    <a:pt x="2322" y="3036"/>
                  </a:lnTo>
                  <a:lnTo>
                    <a:pt x="2309" y="3029"/>
                  </a:lnTo>
                  <a:lnTo>
                    <a:pt x="2285" y="3009"/>
                  </a:lnTo>
                  <a:lnTo>
                    <a:pt x="2259" y="2979"/>
                  </a:lnTo>
                  <a:lnTo>
                    <a:pt x="2249" y="2932"/>
                  </a:lnTo>
                  <a:lnTo>
                    <a:pt x="2255" y="2902"/>
                  </a:lnTo>
                  <a:lnTo>
                    <a:pt x="2275" y="2885"/>
                  </a:lnTo>
                  <a:lnTo>
                    <a:pt x="2302" y="2875"/>
                  </a:lnTo>
                  <a:lnTo>
                    <a:pt x="2335" y="2869"/>
                  </a:lnTo>
                  <a:lnTo>
                    <a:pt x="2372" y="2869"/>
                  </a:lnTo>
                  <a:lnTo>
                    <a:pt x="2409" y="2869"/>
                  </a:lnTo>
                  <a:lnTo>
                    <a:pt x="2446" y="2865"/>
                  </a:lnTo>
                  <a:lnTo>
                    <a:pt x="2476" y="2859"/>
                  </a:lnTo>
                  <a:lnTo>
                    <a:pt x="2499" y="2845"/>
                  </a:lnTo>
                  <a:lnTo>
                    <a:pt x="2523" y="2829"/>
                  </a:lnTo>
                  <a:lnTo>
                    <a:pt x="2543" y="2809"/>
                  </a:lnTo>
                  <a:lnTo>
                    <a:pt x="2556" y="2785"/>
                  </a:lnTo>
                  <a:lnTo>
                    <a:pt x="2569" y="2762"/>
                  </a:lnTo>
                  <a:lnTo>
                    <a:pt x="2583" y="2742"/>
                  </a:lnTo>
                  <a:lnTo>
                    <a:pt x="2589" y="2718"/>
                  </a:lnTo>
                  <a:lnTo>
                    <a:pt x="2596" y="2702"/>
                  </a:lnTo>
                  <a:lnTo>
                    <a:pt x="2599" y="2688"/>
                  </a:lnTo>
                  <a:lnTo>
                    <a:pt x="2599" y="2675"/>
                  </a:lnTo>
                  <a:lnTo>
                    <a:pt x="2593" y="2662"/>
                  </a:lnTo>
                  <a:lnTo>
                    <a:pt x="2583" y="2648"/>
                  </a:lnTo>
                  <a:lnTo>
                    <a:pt x="2566" y="2632"/>
                  </a:lnTo>
                  <a:lnTo>
                    <a:pt x="2546" y="2615"/>
                  </a:lnTo>
                  <a:lnTo>
                    <a:pt x="2519" y="2588"/>
                  </a:lnTo>
                  <a:lnTo>
                    <a:pt x="2486" y="2558"/>
                  </a:lnTo>
                  <a:lnTo>
                    <a:pt x="2452" y="2525"/>
                  </a:lnTo>
                  <a:lnTo>
                    <a:pt x="2422" y="2495"/>
                  </a:lnTo>
                  <a:lnTo>
                    <a:pt x="2399" y="2468"/>
                  </a:lnTo>
                  <a:lnTo>
                    <a:pt x="2375" y="2441"/>
                  </a:lnTo>
                  <a:lnTo>
                    <a:pt x="2359" y="2418"/>
                  </a:lnTo>
                  <a:lnTo>
                    <a:pt x="2345" y="2388"/>
                  </a:lnTo>
                  <a:lnTo>
                    <a:pt x="2335" y="2358"/>
                  </a:lnTo>
                  <a:lnTo>
                    <a:pt x="2332" y="2324"/>
                  </a:lnTo>
                  <a:lnTo>
                    <a:pt x="2325" y="2321"/>
                  </a:lnTo>
                  <a:lnTo>
                    <a:pt x="2312" y="2318"/>
                  </a:lnTo>
                  <a:lnTo>
                    <a:pt x="2289" y="2311"/>
                  </a:lnTo>
                  <a:lnTo>
                    <a:pt x="2255" y="2304"/>
                  </a:lnTo>
                  <a:lnTo>
                    <a:pt x="2218" y="2298"/>
                  </a:lnTo>
                  <a:lnTo>
                    <a:pt x="2178" y="2294"/>
                  </a:lnTo>
                  <a:lnTo>
                    <a:pt x="2135" y="2291"/>
                  </a:lnTo>
                  <a:lnTo>
                    <a:pt x="2088" y="2294"/>
                  </a:lnTo>
                  <a:lnTo>
                    <a:pt x="2038" y="2301"/>
                  </a:lnTo>
                  <a:lnTo>
                    <a:pt x="1985" y="2304"/>
                  </a:lnTo>
                  <a:lnTo>
                    <a:pt x="1928" y="2308"/>
                  </a:lnTo>
                  <a:lnTo>
                    <a:pt x="1868" y="2311"/>
                  </a:lnTo>
                  <a:lnTo>
                    <a:pt x="1804" y="2311"/>
                  </a:lnTo>
                  <a:lnTo>
                    <a:pt x="1741" y="2308"/>
                  </a:lnTo>
                  <a:lnTo>
                    <a:pt x="1674" y="2298"/>
                  </a:lnTo>
                  <a:lnTo>
                    <a:pt x="1607" y="2284"/>
                  </a:lnTo>
                  <a:lnTo>
                    <a:pt x="1604" y="2291"/>
                  </a:lnTo>
                  <a:lnTo>
                    <a:pt x="1594" y="2321"/>
                  </a:lnTo>
                  <a:lnTo>
                    <a:pt x="1564" y="2375"/>
                  </a:lnTo>
                  <a:lnTo>
                    <a:pt x="1517" y="2458"/>
                  </a:lnTo>
                  <a:lnTo>
                    <a:pt x="1524" y="2488"/>
                  </a:lnTo>
                  <a:lnTo>
                    <a:pt x="1544" y="2558"/>
                  </a:lnTo>
                  <a:lnTo>
                    <a:pt x="1567" y="2648"/>
                  </a:lnTo>
                  <a:lnTo>
                    <a:pt x="1587" y="2735"/>
                  </a:lnTo>
                  <a:lnTo>
                    <a:pt x="1587" y="2765"/>
                  </a:lnTo>
                  <a:lnTo>
                    <a:pt x="1580" y="2839"/>
                  </a:lnTo>
                  <a:lnTo>
                    <a:pt x="1560" y="2925"/>
                  </a:lnTo>
                  <a:lnTo>
                    <a:pt x="1520" y="2992"/>
                  </a:lnTo>
                  <a:lnTo>
                    <a:pt x="1517" y="2996"/>
                  </a:lnTo>
                  <a:lnTo>
                    <a:pt x="1504" y="2999"/>
                  </a:lnTo>
                  <a:lnTo>
                    <a:pt x="1483" y="3002"/>
                  </a:lnTo>
                  <a:lnTo>
                    <a:pt x="1460" y="3009"/>
                  </a:lnTo>
                  <a:lnTo>
                    <a:pt x="1430" y="3012"/>
                  </a:lnTo>
                  <a:lnTo>
                    <a:pt x="1403" y="3016"/>
                  </a:lnTo>
                  <a:lnTo>
                    <a:pt x="1373" y="3016"/>
                  </a:lnTo>
                  <a:lnTo>
                    <a:pt x="1343" y="3009"/>
                  </a:lnTo>
                  <a:lnTo>
                    <a:pt x="1336" y="3012"/>
                  </a:lnTo>
                  <a:lnTo>
                    <a:pt x="1316" y="3016"/>
                  </a:lnTo>
                  <a:lnTo>
                    <a:pt x="1286" y="3012"/>
                  </a:lnTo>
                  <a:lnTo>
                    <a:pt x="1253" y="2996"/>
                  </a:lnTo>
                  <a:lnTo>
                    <a:pt x="1230" y="2979"/>
                  </a:lnTo>
                  <a:lnTo>
                    <a:pt x="1220" y="2959"/>
                  </a:lnTo>
                  <a:lnTo>
                    <a:pt x="1220" y="2935"/>
                  </a:lnTo>
                  <a:lnTo>
                    <a:pt x="1226" y="2912"/>
                  </a:lnTo>
                  <a:lnTo>
                    <a:pt x="1240" y="2885"/>
                  </a:lnTo>
                  <a:lnTo>
                    <a:pt x="1253" y="2859"/>
                  </a:lnTo>
                  <a:lnTo>
                    <a:pt x="1270" y="2829"/>
                  </a:lnTo>
                  <a:lnTo>
                    <a:pt x="1286" y="2799"/>
                  </a:lnTo>
                  <a:lnTo>
                    <a:pt x="1273" y="2815"/>
                  </a:lnTo>
                  <a:lnTo>
                    <a:pt x="1240" y="2862"/>
                  </a:lnTo>
                  <a:lnTo>
                    <a:pt x="1186" y="2925"/>
                  </a:lnTo>
                  <a:lnTo>
                    <a:pt x="1123" y="2999"/>
                  </a:lnTo>
                  <a:lnTo>
                    <a:pt x="1056" y="3072"/>
                  </a:lnTo>
                  <a:lnTo>
                    <a:pt x="986" y="3139"/>
                  </a:lnTo>
                  <a:lnTo>
                    <a:pt x="922" y="3186"/>
                  </a:lnTo>
                  <a:lnTo>
                    <a:pt x="869" y="3209"/>
                  </a:lnTo>
                  <a:lnTo>
                    <a:pt x="865" y="3209"/>
                  </a:lnTo>
                  <a:lnTo>
                    <a:pt x="852" y="3213"/>
                  </a:lnTo>
                  <a:lnTo>
                    <a:pt x="839" y="3213"/>
                  </a:lnTo>
                  <a:lnTo>
                    <a:pt x="819" y="3213"/>
                  </a:lnTo>
                  <a:lnTo>
                    <a:pt x="795" y="3209"/>
                  </a:lnTo>
                  <a:lnTo>
                    <a:pt x="775" y="3203"/>
                  </a:lnTo>
                  <a:lnTo>
                    <a:pt x="755" y="3193"/>
                  </a:lnTo>
                  <a:lnTo>
                    <a:pt x="738" y="3179"/>
                  </a:lnTo>
                  <a:lnTo>
                    <a:pt x="732" y="3186"/>
                  </a:lnTo>
                  <a:lnTo>
                    <a:pt x="715" y="3193"/>
                  </a:lnTo>
                  <a:lnTo>
                    <a:pt x="695" y="3189"/>
                  </a:lnTo>
                  <a:lnTo>
                    <a:pt x="672" y="3153"/>
                  </a:lnTo>
                  <a:lnTo>
                    <a:pt x="668" y="3143"/>
                  </a:lnTo>
                  <a:lnTo>
                    <a:pt x="665" y="3126"/>
                  </a:lnTo>
                  <a:lnTo>
                    <a:pt x="658" y="3109"/>
                  </a:lnTo>
                  <a:lnTo>
                    <a:pt x="658" y="3089"/>
                  </a:lnTo>
                  <a:lnTo>
                    <a:pt x="662" y="3072"/>
                  </a:lnTo>
                  <a:lnTo>
                    <a:pt x="672" y="3056"/>
                  </a:lnTo>
                  <a:lnTo>
                    <a:pt x="685" y="3042"/>
                  </a:lnTo>
                  <a:lnTo>
                    <a:pt x="705" y="3029"/>
                  </a:lnTo>
                  <a:lnTo>
                    <a:pt x="728" y="3016"/>
                  </a:lnTo>
                  <a:lnTo>
                    <a:pt x="752" y="3002"/>
                  </a:lnTo>
                  <a:lnTo>
                    <a:pt x="779" y="2992"/>
                  </a:lnTo>
                  <a:lnTo>
                    <a:pt x="805" y="2982"/>
                  </a:lnTo>
                  <a:lnTo>
                    <a:pt x="832" y="2969"/>
                  </a:lnTo>
                  <a:lnTo>
                    <a:pt x="859" y="2946"/>
                  </a:lnTo>
                  <a:lnTo>
                    <a:pt x="882" y="2919"/>
                  </a:lnTo>
                  <a:lnTo>
                    <a:pt x="902" y="2889"/>
                  </a:lnTo>
                  <a:lnTo>
                    <a:pt x="922" y="2855"/>
                  </a:lnTo>
                  <a:lnTo>
                    <a:pt x="942" y="2819"/>
                  </a:lnTo>
                  <a:lnTo>
                    <a:pt x="962" y="2782"/>
                  </a:lnTo>
                  <a:lnTo>
                    <a:pt x="986" y="2742"/>
                  </a:lnTo>
                  <a:lnTo>
                    <a:pt x="1002" y="2708"/>
                  </a:lnTo>
                  <a:lnTo>
                    <a:pt x="1019" y="2678"/>
                  </a:lnTo>
                  <a:lnTo>
                    <a:pt x="1032" y="2645"/>
                  </a:lnTo>
                  <a:lnTo>
                    <a:pt x="1046" y="2608"/>
                  </a:lnTo>
                  <a:lnTo>
                    <a:pt x="1056" y="2572"/>
                  </a:lnTo>
                  <a:lnTo>
                    <a:pt x="1066" y="2531"/>
                  </a:lnTo>
                  <a:lnTo>
                    <a:pt x="1076" y="2488"/>
                  </a:lnTo>
                  <a:lnTo>
                    <a:pt x="1086" y="2438"/>
                  </a:lnTo>
                  <a:lnTo>
                    <a:pt x="1083" y="2435"/>
                  </a:lnTo>
                  <a:lnTo>
                    <a:pt x="1069" y="2431"/>
                  </a:lnTo>
                  <a:lnTo>
                    <a:pt x="1046" y="2421"/>
                  </a:lnTo>
                  <a:lnTo>
                    <a:pt x="1019" y="2408"/>
                  </a:lnTo>
                  <a:lnTo>
                    <a:pt x="989" y="2388"/>
                  </a:lnTo>
                  <a:lnTo>
                    <a:pt x="956" y="2364"/>
                  </a:lnTo>
                  <a:lnTo>
                    <a:pt x="919" y="2338"/>
                  </a:lnTo>
                  <a:lnTo>
                    <a:pt x="882" y="2308"/>
                  </a:lnTo>
                  <a:lnTo>
                    <a:pt x="632" y="20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18840" y="4893120"/>
              <a:ext cx="678600" cy="1685880"/>
            </a:xfrm>
            <a:custGeom>
              <a:avLst/>
              <a:gdLst/>
              <a:ahLst/>
              <a:rect l="l" t="t" r="r" b="b"/>
              <a:pathLst>
                <a:path w="1317" h="3099">
                  <a:moveTo>
                    <a:pt x="81" y="2228"/>
                  </a:moveTo>
                  <a:lnTo>
                    <a:pt x="97" y="2228"/>
                  </a:lnTo>
                  <a:lnTo>
                    <a:pt x="117" y="2234"/>
                  </a:lnTo>
                  <a:lnTo>
                    <a:pt x="134" y="2238"/>
                  </a:lnTo>
                  <a:lnTo>
                    <a:pt x="141" y="2241"/>
                  </a:lnTo>
                  <a:lnTo>
                    <a:pt x="151" y="2288"/>
                  </a:lnTo>
                  <a:lnTo>
                    <a:pt x="168" y="2338"/>
                  </a:lnTo>
                  <a:lnTo>
                    <a:pt x="194" y="2391"/>
                  </a:lnTo>
                  <a:lnTo>
                    <a:pt x="228" y="2445"/>
                  </a:lnTo>
                  <a:lnTo>
                    <a:pt x="241" y="2465"/>
                  </a:lnTo>
                  <a:lnTo>
                    <a:pt x="254" y="2481"/>
                  </a:lnTo>
                  <a:lnTo>
                    <a:pt x="268" y="2501"/>
                  </a:lnTo>
                  <a:lnTo>
                    <a:pt x="281" y="2518"/>
                  </a:lnTo>
                  <a:lnTo>
                    <a:pt x="294" y="2538"/>
                  </a:lnTo>
                  <a:lnTo>
                    <a:pt x="308" y="2555"/>
                  </a:lnTo>
                  <a:lnTo>
                    <a:pt x="321" y="2572"/>
                  </a:lnTo>
                  <a:lnTo>
                    <a:pt x="335" y="2588"/>
                  </a:lnTo>
                  <a:lnTo>
                    <a:pt x="358" y="2615"/>
                  </a:lnTo>
                  <a:lnTo>
                    <a:pt x="378" y="2638"/>
                  </a:lnTo>
                  <a:lnTo>
                    <a:pt x="395" y="2658"/>
                  </a:lnTo>
                  <a:lnTo>
                    <a:pt x="408" y="2672"/>
                  </a:lnTo>
                  <a:lnTo>
                    <a:pt x="411" y="2675"/>
                  </a:lnTo>
                  <a:lnTo>
                    <a:pt x="415" y="2678"/>
                  </a:lnTo>
                  <a:lnTo>
                    <a:pt x="418" y="2682"/>
                  </a:lnTo>
                  <a:lnTo>
                    <a:pt x="418" y="2682"/>
                  </a:lnTo>
                  <a:lnTo>
                    <a:pt x="398" y="2729"/>
                  </a:lnTo>
                  <a:lnTo>
                    <a:pt x="375" y="2769"/>
                  </a:lnTo>
                  <a:lnTo>
                    <a:pt x="351" y="2805"/>
                  </a:lnTo>
                  <a:lnTo>
                    <a:pt x="331" y="2835"/>
                  </a:lnTo>
                  <a:lnTo>
                    <a:pt x="308" y="2862"/>
                  </a:lnTo>
                  <a:lnTo>
                    <a:pt x="288" y="2882"/>
                  </a:lnTo>
                  <a:lnTo>
                    <a:pt x="268" y="2899"/>
                  </a:lnTo>
                  <a:lnTo>
                    <a:pt x="251" y="2909"/>
                  </a:lnTo>
                  <a:lnTo>
                    <a:pt x="231" y="2916"/>
                  </a:lnTo>
                  <a:lnTo>
                    <a:pt x="208" y="2922"/>
                  </a:lnTo>
                  <a:lnTo>
                    <a:pt x="178" y="2929"/>
                  </a:lnTo>
                  <a:lnTo>
                    <a:pt x="147" y="2936"/>
                  </a:lnTo>
                  <a:lnTo>
                    <a:pt x="111" y="2946"/>
                  </a:lnTo>
                  <a:lnTo>
                    <a:pt x="74" y="2959"/>
                  </a:lnTo>
                  <a:lnTo>
                    <a:pt x="37" y="2976"/>
                  </a:lnTo>
                  <a:lnTo>
                    <a:pt x="4" y="2999"/>
                  </a:lnTo>
                  <a:lnTo>
                    <a:pt x="4" y="3002"/>
                  </a:lnTo>
                  <a:lnTo>
                    <a:pt x="4" y="3002"/>
                  </a:lnTo>
                  <a:lnTo>
                    <a:pt x="4" y="3006"/>
                  </a:lnTo>
                  <a:lnTo>
                    <a:pt x="4" y="3006"/>
                  </a:lnTo>
                  <a:lnTo>
                    <a:pt x="0" y="3029"/>
                  </a:lnTo>
                  <a:lnTo>
                    <a:pt x="0" y="3049"/>
                  </a:lnTo>
                  <a:lnTo>
                    <a:pt x="10" y="3066"/>
                  </a:lnTo>
                  <a:lnTo>
                    <a:pt x="31" y="3079"/>
                  </a:lnTo>
                  <a:lnTo>
                    <a:pt x="27" y="3052"/>
                  </a:lnTo>
                  <a:lnTo>
                    <a:pt x="27" y="3029"/>
                  </a:lnTo>
                  <a:lnTo>
                    <a:pt x="37" y="3009"/>
                  </a:lnTo>
                  <a:lnTo>
                    <a:pt x="61" y="2992"/>
                  </a:lnTo>
                  <a:lnTo>
                    <a:pt x="47" y="3022"/>
                  </a:lnTo>
                  <a:lnTo>
                    <a:pt x="44" y="3052"/>
                  </a:lnTo>
                  <a:lnTo>
                    <a:pt x="44" y="3076"/>
                  </a:lnTo>
                  <a:lnTo>
                    <a:pt x="44" y="3086"/>
                  </a:lnTo>
                  <a:lnTo>
                    <a:pt x="54" y="3089"/>
                  </a:lnTo>
                  <a:lnTo>
                    <a:pt x="64" y="3096"/>
                  </a:lnTo>
                  <a:lnTo>
                    <a:pt x="74" y="3099"/>
                  </a:lnTo>
                  <a:lnTo>
                    <a:pt x="84" y="3099"/>
                  </a:lnTo>
                  <a:lnTo>
                    <a:pt x="94" y="3096"/>
                  </a:lnTo>
                  <a:lnTo>
                    <a:pt x="104" y="3096"/>
                  </a:lnTo>
                  <a:lnTo>
                    <a:pt x="114" y="3092"/>
                  </a:lnTo>
                  <a:lnTo>
                    <a:pt x="124" y="3092"/>
                  </a:lnTo>
                  <a:lnTo>
                    <a:pt x="117" y="3066"/>
                  </a:lnTo>
                  <a:lnTo>
                    <a:pt x="117" y="3042"/>
                  </a:lnTo>
                  <a:lnTo>
                    <a:pt x="127" y="3019"/>
                  </a:lnTo>
                  <a:lnTo>
                    <a:pt x="151" y="3002"/>
                  </a:lnTo>
                  <a:lnTo>
                    <a:pt x="141" y="3032"/>
                  </a:lnTo>
                  <a:lnTo>
                    <a:pt x="137" y="3059"/>
                  </a:lnTo>
                  <a:lnTo>
                    <a:pt x="137" y="3082"/>
                  </a:lnTo>
                  <a:lnTo>
                    <a:pt x="141" y="3089"/>
                  </a:lnTo>
                  <a:lnTo>
                    <a:pt x="157" y="3086"/>
                  </a:lnTo>
                  <a:lnTo>
                    <a:pt x="174" y="3082"/>
                  </a:lnTo>
                  <a:lnTo>
                    <a:pt x="188" y="3079"/>
                  </a:lnTo>
                  <a:lnTo>
                    <a:pt x="204" y="3076"/>
                  </a:lnTo>
                  <a:lnTo>
                    <a:pt x="218" y="3072"/>
                  </a:lnTo>
                  <a:lnTo>
                    <a:pt x="231" y="3069"/>
                  </a:lnTo>
                  <a:lnTo>
                    <a:pt x="241" y="3069"/>
                  </a:lnTo>
                  <a:lnTo>
                    <a:pt x="254" y="3069"/>
                  </a:lnTo>
                  <a:lnTo>
                    <a:pt x="268" y="3069"/>
                  </a:lnTo>
                  <a:lnTo>
                    <a:pt x="284" y="3069"/>
                  </a:lnTo>
                  <a:lnTo>
                    <a:pt x="298" y="3066"/>
                  </a:lnTo>
                  <a:lnTo>
                    <a:pt x="311" y="3062"/>
                  </a:lnTo>
                  <a:lnTo>
                    <a:pt x="325" y="3052"/>
                  </a:lnTo>
                  <a:lnTo>
                    <a:pt x="338" y="3042"/>
                  </a:lnTo>
                  <a:lnTo>
                    <a:pt x="351" y="3029"/>
                  </a:lnTo>
                  <a:lnTo>
                    <a:pt x="365" y="3012"/>
                  </a:lnTo>
                  <a:lnTo>
                    <a:pt x="378" y="2996"/>
                  </a:lnTo>
                  <a:lnTo>
                    <a:pt x="395" y="2979"/>
                  </a:lnTo>
                  <a:lnTo>
                    <a:pt x="411" y="2962"/>
                  </a:lnTo>
                  <a:lnTo>
                    <a:pt x="428" y="2949"/>
                  </a:lnTo>
                  <a:lnTo>
                    <a:pt x="445" y="2936"/>
                  </a:lnTo>
                  <a:lnTo>
                    <a:pt x="465" y="2919"/>
                  </a:lnTo>
                  <a:lnTo>
                    <a:pt x="482" y="2905"/>
                  </a:lnTo>
                  <a:lnTo>
                    <a:pt x="498" y="2892"/>
                  </a:lnTo>
                  <a:lnTo>
                    <a:pt x="518" y="2875"/>
                  </a:lnTo>
                  <a:lnTo>
                    <a:pt x="548" y="2852"/>
                  </a:lnTo>
                  <a:lnTo>
                    <a:pt x="582" y="2825"/>
                  </a:lnTo>
                  <a:lnTo>
                    <a:pt x="619" y="2795"/>
                  </a:lnTo>
                  <a:lnTo>
                    <a:pt x="652" y="2762"/>
                  </a:lnTo>
                  <a:lnTo>
                    <a:pt x="682" y="2732"/>
                  </a:lnTo>
                  <a:lnTo>
                    <a:pt x="702" y="2698"/>
                  </a:lnTo>
                  <a:lnTo>
                    <a:pt x="709" y="2672"/>
                  </a:lnTo>
                  <a:lnTo>
                    <a:pt x="709" y="2615"/>
                  </a:lnTo>
                  <a:lnTo>
                    <a:pt x="695" y="2565"/>
                  </a:lnTo>
                  <a:lnTo>
                    <a:pt x="679" y="2518"/>
                  </a:lnTo>
                  <a:lnTo>
                    <a:pt x="659" y="2471"/>
                  </a:lnTo>
                  <a:lnTo>
                    <a:pt x="645" y="2438"/>
                  </a:lnTo>
                  <a:lnTo>
                    <a:pt x="635" y="2405"/>
                  </a:lnTo>
                  <a:lnTo>
                    <a:pt x="629" y="2368"/>
                  </a:lnTo>
                  <a:lnTo>
                    <a:pt x="625" y="2331"/>
                  </a:lnTo>
                  <a:lnTo>
                    <a:pt x="629" y="2291"/>
                  </a:lnTo>
                  <a:lnTo>
                    <a:pt x="635" y="2254"/>
                  </a:lnTo>
                  <a:lnTo>
                    <a:pt x="642" y="2221"/>
                  </a:lnTo>
                  <a:lnTo>
                    <a:pt x="652" y="2188"/>
                  </a:lnTo>
                  <a:lnTo>
                    <a:pt x="662" y="2158"/>
                  </a:lnTo>
                  <a:lnTo>
                    <a:pt x="675" y="2127"/>
                  </a:lnTo>
                  <a:lnTo>
                    <a:pt x="689" y="2101"/>
                  </a:lnTo>
                  <a:lnTo>
                    <a:pt x="702" y="2074"/>
                  </a:lnTo>
                  <a:lnTo>
                    <a:pt x="719" y="2037"/>
                  </a:lnTo>
                  <a:lnTo>
                    <a:pt x="732" y="2001"/>
                  </a:lnTo>
                  <a:lnTo>
                    <a:pt x="749" y="1964"/>
                  </a:lnTo>
                  <a:lnTo>
                    <a:pt x="772" y="1930"/>
                  </a:lnTo>
                  <a:lnTo>
                    <a:pt x="802" y="1890"/>
                  </a:lnTo>
                  <a:lnTo>
                    <a:pt x="829" y="1850"/>
                  </a:lnTo>
                  <a:lnTo>
                    <a:pt x="852" y="1807"/>
                  </a:lnTo>
                  <a:lnTo>
                    <a:pt x="869" y="1760"/>
                  </a:lnTo>
                  <a:lnTo>
                    <a:pt x="879" y="1707"/>
                  </a:lnTo>
                  <a:lnTo>
                    <a:pt x="889" y="1650"/>
                  </a:lnTo>
                  <a:lnTo>
                    <a:pt x="892" y="1583"/>
                  </a:lnTo>
                  <a:lnTo>
                    <a:pt x="892" y="1506"/>
                  </a:lnTo>
                  <a:lnTo>
                    <a:pt x="903" y="1373"/>
                  </a:lnTo>
                  <a:lnTo>
                    <a:pt x="929" y="1279"/>
                  </a:lnTo>
                  <a:lnTo>
                    <a:pt x="956" y="1219"/>
                  </a:lnTo>
                  <a:lnTo>
                    <a:pt x="976" y="1176"/>
                  </a:lnTo>
                  <a:lnTo>
                    <a:pt x="986" y="1129"/>
                  </a:lnTo>
                  <a:lnTo>
                    <a:pt x="996" y="1082"/>
                  </a:lnTo>
                  <a:lnTo>
                    <a:pt x="1006" y="1032"/>
                  </a:lnTo>
                  <a:lnTo>
                    <a:pt x="1019" y="985"/>
                  </a:lnTo>
                  <a:lnTo>
                    <a:pt x="1039" y="942"/>
                  </a:lnTo>
                  <a:lnTo>
                    <a:pt x="1066" y="899"/>
                  </a:lnTo>
                  <a:lnTo>
                    <a:pt x="1090" y="855"/>
                  </a:lnTo>
                  <a:lnTo>
                    <a:pt x="1110" y="815"/>
                  </a:lnTo>
                  <a:lnTo>
                    <a:pt x="1130" y="772"/>
                  </a:lnTo>
                  <a:lnTo>
                    <a:pt x="1153" y="732"/>
                  </a:lnTo>
                  <a:lnTo>
                    <a:pt x="1176" y="698"/>
                  </a:lnTo>
                  <a:lnTo>
                    <a:pt x="1197" y="665"/>
                  </a:lnTo>
                  <a:lnTo>
                    <a:pt x="1203" y="648"/>
                  </a:lnTo>
                  <a:lnTo>
                    <a:pt x="1213" y="631"/>
                  </a:lnTo>
                  <a:lnTo>
                    <a:pt x="1220" y="618"/>
                  </a:lnTo>
                  <a:lnTo>
                    <a:pt x="1227" y="605"/>
                  </a:lnTo>
                  <a:lnTo>
                    <a:pt x="1247" y="565"/>
                  </a:lnTo>
                  <a:lnTo>
                    <a:pt x="1263" y="521"/>
                  </a:lnTo>
                  <a:lnTo>
                    <a:pt x="1280" y="471"/>
                  </a:lnTo>
                  <a:lnTo>
                    <a:pt x="1297" y="421"/>
                  </a:lnTo>
                  <a:lnTo>
                    <a:pt x="1307" y="374"/>
                  </a:lnTo>
                  <a:lnTo>
                    <a:pt x="1317" y="324"/>
                  </a:lnTo>
                  <a:lnTo>
                    <a:pt x="1317" y="281"/>
                  </a:lnTo>
                  <a:lnTo>
                    <a:pt x="1313" y="241"/>
                  </a:lnTo>
                  <a:lnTo>
                    <a:pt x="1307" y="217"/>
                  </a:lnTo>
                  <a:lnTo>
                    <a:pt x="1300" y="194"/>
                  </a:lnTo>
                  <a:lnTo>
                    <a:pt x="1287" y="171"/>
                  </a:lnTo>
                  <a:lnTo>
                    <a:pt x="1273" y="147"/>
                  </a:lnTo>
                  <a:lnTo>
                    <a:pt x="1260" y="127"/>
                  </a:lnTo>
                  <a:lnTo>
                    <a:pt x="1243" y="107"/>
                  </a:lnTo>
                  <a:lnTo>
                    <a:pt x="1223" y="87"/>
                  </a:lnTo>
                  <a:lnTo>
                    <a:pt x="1203" y="71"/>
                  </a:lnTo>
                  <a:lnTo>
                    <a:pt x="1190" y="60"/>
                  </a:lnTo>
                  <a:lnTo>
                    <a:pt x="1176" y="50"/>
                  </a:lnTo>
                  <a:lnTo>
                    <a:pt x="1163" y="44"/>
                  </a:lnTo>
                  <a:lnTo>
                    <a:pt x="1150" y="37"/>
                  </a:lnTo>
                  <a:lnTo>
                    <a:pt x="1133" y="30"/>
                  </a:lnTo>
                  <a:lnTo>
                    <a:pt x="1116" y="24"/>
                  </a:lnTo>
                  <a:lnTo>
                    <a:pt x="1100" y="17"/>
                  </a:lnTo>
                  <a:lnTo>
                    <a:pt x="1083" y="14"/>
                  </a:lnTo>
                  <a:lnTo>
                    <a:pt x="1039" y="4"/>
                  </a:lnTo>
                  <a:lnTo>
                    <a:pt x="993" y="0"/>
                  </a:lnTo>
                  <a:lnTo>
                    <a:pt x="939" y="0"/>
                  </a:lnTo>
                  <a:lnTo>
                    <a:pt x="889" y="7"/>
                  </a:lnTo>
                  <a:lnTo>
                    <a:pt x="842" y="14"/>
                  </a:lnTo>
                  <a:lnTo>
                    <a:pt x="799" y="24"/>
                  </a:lnTo>
                  <a:lnTo>
                    <a:pt x="766" y="30"/>
                  </a:lnTo>
                  <a:lnTo>
                    <a:pt x="742" y="40"/>
                  </a:lnTo>
                  <a:lnTo>
                    <a:pt x="719" y="54"/>
                  </a:lnTo>
                  <a:lnTo>
                    <a:pt x="702" y="71"/>
                  </a:lnTo>
                  <a:lnTo>
                    <a:pt x="689" y="91"/>
                  </a:lnTo>
                  <a:lnTo>
                    <a:pt x="682" y="111"/>
                  </a:lnTo>
                  <a:lnTo>
                    <a:pt x="682" y="127"/>
                  </a:lnTo>
                  <a:lnTo>
                    <a:pt x="695" y="144"/>
                  </a:lnTo>
                  <a:lnTo>
                    <a:pt x="719" y="154"/>
                  </a:lnTo>
                  <a:lnTo>
                    <a:pt x="756" y="154"/>
                  </a:lnTo>
                  <a:lnTo>
                    <a:pt x="816" y="144"/>
                  </a:lnTo>
                  <a:lnTo>
                    <a:pt x="879" y="144"/>
                  </a:lnTo>
                  <a:lnTo>
                    <a:pt x="946" y="151"/>
                  </a:lnTo>
                  <a:lnTo>
                    <a:pt x="1009" y="167"/>
                  </a:lnTo>
                  <a:lnTo>
                    <a:pt x="1063" y="201"/>
                  </a:lnTo>
                  <a:lnTo>
                    <a:pt x="1103" y="247"/>
                  </a:lnTo>
                  <a:lnTo>
                    <a:pt x="1123" y="314"/>
                  </a:lnTo>
                  <a:lnTo>
                    <a:pt x="1120" y="404"/>
                  </a:lnTo>
                  <a:lnTo>
                    <a:pt x="1116" y="408"/>
                  </a:lnTo>
                  <a:lnTo>
                    <a:pt x="1116" y="414"/>
                  </a:lnTo>
                  <a:lnTo>
                    <a:pt x="1116" y="418"/>
                  </a:lnTo>
                  <a:lnTo>
                    <a:pt x="1116" y="424"/>
                  </a:lnTo>
                  <a:lnTo>
                    <a:pt x="1100" y="451"/>
                  </a:lnTo>
                  <a:lnTo>
                    <a:pt x="1083" y="478"/>
                  </a:lnTo>
                  <a:lnTo>
                    <a:pt x="1066" y="508"/>
                  </a:lnTo>
                  <a:lnTo>
                    <a:pt x="1050" y="535"/>
                  </a:lnTo>
                  <a:lnTo>
                    <a:pt x="1036" y="558"/>
                  </a:lnTo>
                  <a:lnTo>
                    <a:pt x="1019" y="585"/>
                  </a:lnTo>
                  <a:lnTo>
                    <a:pt x="1006" y="608"/>
                  </a:lnTo>
                  <a:lnTo>
                    <a:pt x="989" y="631"/>
                  </a:lnTo>
                  <a:lnTo>
                    <a:pt x="976" y="655"/>
                  </a:lnTo>
                  <a:lnTo>
                    <a:pt x="959" y="678"/>
                  </a:lnTo>
                  <a:lnTo>
                    <a:pt x="946" y="702"/>
                  </a:lnTo>
                  <a:lnTo>
                    <a:pt x="933" y="722"/>
                  </a:lnTo>
                  <a:lnTo>
                    <a:pt x="916" y="748"/>
                  </a:lnTo>
                  <a:lnTo>
                    <a:pt x="896" y="772"/>
                  </a:lnTo>
                  <a:lnTo>
                    <a:pt x="882" y="795"/>
                  </a:lnTo>
                  <a:lnTo>
                    <a:pt x="869" y="815"/>
                  </a:lnTo>
                  <a:lnTo>
                    <a:pt x="856" y="835"/>
                  </a:lnTo>
                  <a:lnTo>
                    <a:pt x="846" y="849"/>
                  </a:lnTo>
                  <a:lnTo>
                    <a:pt x="839" y="862"/>
                  </a:lnTo>
                  <a:lnTo>
                    <a:pt x="832" y="869"/>
                  </a:lnTo>
                  <a:lnTo>
                    <a:pt x="819" y="892"/>
                  </a:lnTo>
                  <a:lnTo>
                    <a:pt x="802" y="925"/>
                  </a:lnTo>
                  <a:lnTo>
                    <a:pt x="782" y="965"/>
                  </a:lnTo>
                  <a:lnTo>
                    <a:pt x="762" y="1009"/>
                  </a:lnTo>
                  <a:lnTo>
                    <a:pt x="749" y="1042"/>
                  </a:lnTo>
                  <a:lnTo>
                    <a:pt x="739" y="1079"/>
                  </a:lnTo>
                  <a:lnTo>
                    <a:pt x="729" y="1109"/>
                  </a:lnTo>
                  <a:lnTo>
                    <a:pt x="719" y="1129"/>
                  </a:lnTo>
                  <a:lnTo>
                    <a:pt x="699" y="1142"/>
                  </a:lnTo>
                  <a:lnTo>
                    <a:pt x="665" y="1149"/>
                  </a:lnTo>
                  <a:lnTo>
                    <a:pt x="629" y="1149"/>
                  </a:lnTo>
                  <a:lnTo>
                    <a:pt x="588" y="1149"/>
                  </a:lnTo>
                  <a:lnTo>
                    <a:pt x="545" y="1146"/>
                  </a:lnTo>
                  <a:lnTo>
                    <a:pt x="502" y="1139"/>
                  </a:lnTo>
                  <a:lnTo>
                    <a:pt x="465" y="1136"/>
                  </a:lnTo>
                  <a:lnTo>
                    <a:pt x="435" y="1129"/>
                  </a:lnTo>
                  <a:lnTo>
                    <a:pt x="418" y="1126"/>
                  </a:lnTo>
                  <a:lnTo>
                    <a:pt x="401" y="1126"/>
                  </a:lnTo>
                  <a:lnTo>
                    <a:pt x="385" y="1126"/>
                  </a:lnTo>
                  <a:lnTo>
                    <a:pt x="368" y="1122"/>
                  </a:lnTo>
                  <a:lnTo>
                    <a:pt x="365" y="1142"/>
                  </a:lnTo>
                  <a:lnTo>
                    <a:pt x="365" y="1166"/>
                  </a:lnTo>
                  <a:lnTo>
                    <a:pt x="365" y="1189"/>
                  </a:lnTo>
                  <a:lnTo>
                    <a:pt x="371" y="1213"/>
                  </a:lnTo>
                  <a:lnTo>
                    <a:pt x="388" y="1249"/>
                  </a:lnTo>
                  <a:lnTo>
                    <a:pt x="411" y="1293"/>
                  </a:lnTo>
                  <a:lnTo>
                    <a:pt x="428" y="1339"/>
                  </a:lnTo>
                  <a:lnTo>
                    <a:pt x="435" y="1393"/>
                  </a:lnTo>
                  <a:lnTo>
                    <a:pt x="435" y="1440"/>
                  </a:lnTo>
                  <a:lnTo>
                    <a:pt x="445" y="1466"/>
                  </a:lnTo>
                  <a:lnTo>
                    <a:pt x="455" y="1486"/>
                  </a:lnTo>
                  <a:lnTo>
                    <a:pt x="468" y="1516"/>
                  </a:lnTo>
                  <a:lnTo>
                    <a:pt x="472" y="1536"/>
                  </a:lnTo>
                  <a:lnTo>
                    <a:pt x="468" y="1556"/>
                  </a:lnTo>
                  <a:lnTo>
                    <a:pt x="458" y="1580"/>
                  </a:lnTo>
                  <a:lnTo>
                    <a:pt x="445" y="1600"/>
                  </a:lnTo>
                  <a:lnTo>
                    <a:pt x="428" y="1623"/>
                  </a:lnTo>
                  <a:lnTo>
                    <a:pt x="408" y="1647"/>
                  </a:lnTo>
                  <a:lnTo>
                    <a:pt x="388" y="1667"/>
                  </a:lnTo>
                  <a:lnTo>
                    <a:pt x="365" y="1687"/>
                  </a:lnTo>
                  <a:lnTo>
                    <a:pt x="341" y="1707"/>
                  </a:lnTo>
                  <a:lnTo>
                    <a:pt x="325" y="1730"/>
                  </a:lnTo>
                  <a:lnTo>
                    <a:pt x="308" y="1757"/>
                  </a:lnTo>
                  <a:lnTo>
                    <a:pt x="298" y="1784"/>
                  </a:lnTo>
                  <a:lnTo>
                    <a:pt x="288" y="1814"/>
                  </a:lnTo>
                  <a:lnTo>
                    <a:pt x="278" y="1844"/>
                  </a:lnTo>
                  <a:lnTo>
                    <a:pt x="271" y="1874"/>
                  </a:lnTo>
                  <a:lnTo>
                    <a:pt x="264" y="1900"/>
                  </a:lnTo>
                  <a:lnTo>
                    <a:pt x="258" y="1924"/>
                  </a:lnTo>
                  <a:lnTo>
                    <a:pt x="251" y="1940"/>
                  </a:lnTo>
                  <a:lnTo>
                    <a:pt x="248" y="1957"/>
                  </a:lnTo>
                  <a:lnTo>
                    <a:pt x="238" y="1971"/>
                  </a:lnTo>
                  <a:lnTo>
                    <a:pt x="224" y="1984"/>
                  </a:lnTo>
                  <a:lnTo>
                    <a:pt x="208" y="2004"/>
                  </a:lnTo>
                  <a:lnTo>
                    <a:pt x="181" y="2031"/>
                  </a:lnTo>
                  <a:lnTo>
                    <a:pt x="144" y="2067"/>
                  </a:lnTo>
                  <a:lnTo>
                    <a:pt x="111" y="2107"/>
                  </a:lnTo>
                  <a:lnTo>
                    <a:pt x="91" y="2147"/>
                  </a:lnTo>
                  <a:lnTo>
                    <a:pt x="81" y="2188"/>
                  </a:lnTo>
                  <a:lnTo>
                    <a:pt x="81" y="2228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1840" y="5360400"/>
              <a:ext cx="875160" cy="1249560"/>
            </a:xfrm>
            <a:custGeom>
              <a:avLst/>
              <a:gdLst/>
              <a:ahLst/>
              <a:rect l="l" t="t" r="r" b="b"/>
              <a:pathLst>
                <a:path w="1698" h="2297">
                  <a:moveTo>
                    <a:pt x="465" y="925"/>
                  </a:moveTo>
                  <a:lnTo>
                    <a:pt x="475" y="935"/>
                  </a:lnTo>
                  <a:lnTo>
                    <a:pt x="492" y="951"/>
                  </a:lnTo>
                  <a:lnTo>
                    <a:pt x="508" y="965"/>
                  </a:lnTo>
                  <a:lnTo>
                    <a:pt x="528" y="978"/>
                  </a:lnTo>
                  <a:lnTo>
                    <a:pt x="552" y="991"/>
                  </a:lnTo>
                  <a:lnTo>
                    <a:pt x="575" y="1001"/>
                  </a:lnTo>
                  <a:lnTo>
                    <a:pt x="599" y="1008"/>
                  </a:lnTo>
                  <a:lnTo>
                    <a:pt x="625" y="1008"/>
                  </a:lnTo>
                  <a:lnTo>
                    <a:pt x="649" y="1001"/>
                  </a:lnTo>
                  <a:lnTo>
                    <a:pt x="672" y="991"/>
                  </a:lnTo>
                  <a:lnTo>
                    <a:pt x="692" y="978"/>
                  </a:lnTo>
                  <a:lnTo>
                    <a:pt x="712" y="961"/>
                  </a:lnTo>
                  <a:lnTo>
                    <a:pt x="729" y="945"/>
                  </a:lnTo>
                  <a:lnTo>
                    <a:pt x="746" y="928"/>
                  </a:lnTo>
                  <a:lnTo>
                    <a:pt x="759" y="911"/>
                  </a:lnTo>
                  <a:lnTo>
                    <a:pt x="772" y="894"/>
                  </a:lnTo>
                  <a:lnTo>
                    <a:pt x="786" y="884"/>
                  </a:lnTo>
                  <a:lnTo>
                    <a:pt x="806" y="874"/>
                  </a:lnTo>
                  <a:lnTo>
                    <a:pt x="826" y="864"/>
                  </a:lnTo>
                  <a:lnTo>
                    <a:pt x="842" y="851"/>
                  </a:lnTo>
                  <a:lnTo>
                    <a:pt x="876" y="824"/>
                  </a:lnTo>
                  <a:lnTo>
                    <a:pt x="906" y="798"/>
                  </a:lnTo>
                  <a:lnTo>
                    <a:pt x="929" y="771"/>
                  </a:lnTo>
                  <a:lnTo>
                    <a:pt x="949" y="741"/>
                  </a:lnTo>
                  <a:lnTo>
                    <a:pt x="966" y="714"/>
                  </a:lnTo>
                  <a:lnTo>
                    <a:pt x="983" y="687"/>
                  </a:lnTo>
                  <a:lnTo>
                    <a:pt x="996" y="664"/>
                  </a:lnTo>
                  <a:lnTo>
                    <a:pt x="1009" y="641"/>
                  </a:lnTo>
                  <a:lnTo>
                    <a:pt x="1023" y="584"/>
                  </a:lnTo>
                  <a:lnTo>
                    <a:pt x="1019" y="510"/>
                  </a:lnTo>
                  <a:lnTo>
                    <a:pt x="1009" y="440"/>
                  </a:lnTo>
                  <a:lnTo>
                    <a:pt x="1003" y="377"/>
                  </a:lnTo>
                  <a:lnTo>
                    <a:pt x="1006" y="370"/>
                  </a:lnTo>
                  <a:lnTo>
                    <a:pt x="1009" y="357"/>
                  </a:lnTo>
                  <a:lnTo>
                    <a:pt x="1019" y="347"/>
                  </a:lnTo>
                  <a:lnTo>
                    <a:pt x="1029" y="337"/>
                  </a:lnTo>
                  <a:lnTo>
                    <a:pt x="1103" y="317"/>
                  </a:lnTo>
                  <a:lnTo>
                    <a:pt x="1086" y="340"/>
                  </a:lnTo>
                  <a:lnTo>
                    <a:pt x="1093" y="337"/>
                  </a:lnTo>
                  <a:lnTo>
                    <a:pt x="1113" y="330"/>
                  </a:lnTo>
                  <a:lnTo>
                    <a:pt x="1143" y="327"/>
                  </a:lnTo>
                  <a:lnTo>
                    <a:pt x="1180" y="330"/>
                  </a:lnTo>
                  <a:lnTo>
                    <a:pt x="1173" y="333"/>
                  </a:lnTo>
                  <a:lnTo>
                    <a:pt x="1160" y="344"/>
                  </a:lnTo>
                  <a:lnTo>
                    <a:pt x="1146" y="354"/>
                  </a:lnTo>
                  <a:lnTo>
                    <a:pt x="1136" y="367"/>
                  </a:lnTo>
                  <a:lnTo>
                    <a:pt x="1143" y="367"/>
                  </a:lnTo>
                  <a:lnTo>
                    <a:pt x="1150" y="370"/>
                  </a:lnTo>
                  <a:lnTo>
                    <a:pt x="1156" y="374"/>
                  </a:lnTo>
                  <a:lnTo>
                    <a:pt x="1166" y="374"/>
                  </a:lnTo>
                  <a:lnTo>
                    <a:pt x="1176" y="374"/>
                  </a:lnTo>
                  <a:lnTo>
                    <a:pt x="1193" y="374"/>
                  </a:lnTo>
                  <a:lnTo>
                    <a:pt x="1213" y="370"/>
                  </a:lnTo>
                  <a:lnTo>
                    <a:pt x="1243" y="367"/>
                  </a:lnTo>
                  <a:lnTo>
                    <a:pt x="1263" y="367"/>
                  </a:lnTo>
                  <a:lnTo>
                    <a:pt x="1287" y="367"/>
                  </a:lnTo>
                  <a:lnTo>
                    <a:pt x="1317" y="364"/>
                  </a:lnTo>
                  <a:lnTo>
                    <a:pt x="1347" y="364"/>
                  </a:lnTo>
                  <a:lnTo>
                    <a:pt x="1374" y="360"/>
                  </a:lnTo>
                  <a:lnTo>
                    <a:pt x="1404" y="357"/>
                  </a:lnTo>
                  <a:lnTo>
                    <a:pt x="1430" y="354"/>
                  </a:lnTo>
                  <a:lnTo>
                    <a:pt x="1450" y="347"/>
                  </a:lnTo>
                  <a:lnTo>
                    <a:pt x="1471" y="390"/>
                  </a:lnTo>
                  <a:lnTo>
                    <a:pt x="1477" y="424"/>
                  </a:lnTo>
                  <a:lnTo>
                    <a:pt x="1481" y="454"/>
                  </a:lnTo>
                  <a:lnTo>
                    <a:pt x="1487" y="477"/>
                  </a:lnTo>
                  <a:lnTo>
                    <a:pt x="1507" y="497"/>
                  </a:lnTo>
                  <a:lnTo>
                    <a:pt x="1531" y="510"/>
                  </a:lnTo>
                  <a:lnTo>
                    <a:pt x="1547" y="524"/>
                  </a:lnTo>
                  <a:lnTo>
                    <a:pt x="1554" y="527"/>
                  </a:lnTo>
                  <a:lnTo>
                    <a:pt x="1531" y="541"/>
                  </a:lnTo>
                  <a:lnTo>
                    <a:pt x="1581" y="601"/>
                  </a:lnTo>
                  <a:lnTo>
                    <a:pt x="1567" y="594"/>
                  </a:lnTo>
                  <a:lnTo>
                    <a:pt x="1544" y="584"/>
                  </a:lnTo>
                  <a:lnTo>
                    <a:pt x="1534" y="587"/>
                  </a:lnTo>
                  <a:lnTo>
                    <a:pt x="1554" y="621"/>
                  </a:lnTo>
                  <a:lnTo>
                    <a:pt x="1584" y="667"/>
                  </a:lnTo>
                  <a:lnTo>
                    <a:pt x="1597" y="697"/>
                  </a:lnTo>
                  <a:lnTo>
                    <a:pt x="1597" y="714"/>
                  </a:lnTo>
                  <a:lnTo>
                    <a:pt x="1597" y="717"/>
                  </a:lnTo>
                  <a:lnTo>
                    <a:pt x="1591" y="711"/>
                  </a:lnTo>
                  <a:lnTo>
                    <a:pt x="1577" y="697"/>
                  </a:lnTo>
                  <a:lnTo>
                    <a:pt x="1571" y="697"/>
                  </a:lnTo>
                  <a:lnTo>
                    <a:pt x="1574" y="731"/>
                  </a:lnTo>
                  <a:lnTo>
                    <a:pt x="1597" y="778"/>
                  </a:lnTo>
                  <a:lnTo>
                    <a:pt x="1621" y="811"/>
                  </a:lnTo>
                  <a:lnTo>
                    <a:pt x="1634" y="844"/>
                  </a:lnTo>
                  <a:lnTo>
                    <a:pt x="1628" y="884"/>
                  </a:lnTo>
                  <a:lnTo>
                    <a:pt x="1611" y="935"/>
                  </a:lnTo>
                  <a:lnTo>
                    <a:pt x="1607" y="988"/>
                  </a:lnTo>
                  <a:lnTo>
                    <a:pt x="1618" y="1045"/>
                  </a:lnTo>
                  <a:lnTo>
                    <a:pt x="1641" y="1095"/>
                  </a:lnTo>
                  <a:lnTo>
                    <a:pt x="1668" y="1128"/>
                  </a:lnTo>
                  <a:lnTo>
                    <a:pt x="1684" y="1142"/>
                  </a:lnTo>
                  <a:lnTo>
                    <a:pt x="1694" y="1142"/>
                  </a:lnTo>
                  <a:lnTo>
                    <a:pt x="1698" y="1138"/>
                  </a:lnTo>
                  <a:lnTo>
                    <a:pt x="1691" y="1158"/>
                  </a:lnTo>
                  <a:lnTo>
                    <a:pt x="1671" y="1192"/>
                  </a:lnTo>
                  <a:lnTo>
                    <a:pt x="1651" y="1225"/>
                  </a:lnTo>
                  <a:lnTo>
                    <a:pt x="1644" y="1245"/>
                  </a:lnTo>
                  <a:lnTo>
                    <a:pt x="1641" y="1272"/>
                  </a:lnTo>
                  <a:lnTo>
                    <a:pt x="1631" y="1295"/>
                  </a:lnTo>
                  <a:lnTo>
                    <a:pt x="1611" y="1312"/>
                  </a:lnTo>
                  <a:lnTo>
                    <a:pt x="1591" y="1325"/>
                  </a:lnTo>
                  <a:lnTo>
                    <a:pt x="1567" y="1339"/>
                  </a:lnTo>
                  <a:lnTo>
                    <a:pt x="1551" y="1345"/>
                  </a:lnTo>
                  <a:lnTo>
                    <a:pt x="1537" y="1349"/>
                  </a:lnTo>
                  <a:lnTo>
                    <a:pt x="1531" y="1349"/>
                  </a:lnTo>
                  <a:lnTo>
                    <a:pt x="1527" y="1352"/>
                  </a:lnTo>
                  <a:lnTo>
                    <a:pt x="1527" y="1355"/>
                  </a:lnTo>
                  <a:lnTo>
                    <a:pt x="1524" y="1362"/>
                  </a:lnTo>
                  <a:lnTo>
                    <a:pt x="1521" y="1365"/>
                  </a:lnTo>
                  <a:lnTo>
                    <a:pt x="1501" y="1405"/>
                  </a:lnTo>
                  <a:lnTo>
                    <a:pt x="1487" y="1442"/>
                  </a:lnTo>
                  <a:lnTo>
                    <a:pt x="1474" y="1465"/>
                  </a:lnTo>
                  <a:lnTo>
                    <a:pt x="1457" y="1482"/>
                  </a:lnTo>
                  <a:lnTo>
                    <a:pt x="1447" y="1502"/>
                  </a:lnTo>
                  <a:lnTo>
                    <a:pt x="1440" y="1522"/>
                  </a:lnTo>
                  <a:lnTo>
                    <a:pt x="1434" y="1542"/>
                  </a:lnTo>
                  <a:lnTo>
                    <a:pt x="1424" y="1562"/>
                  </a:lnTo>
                  <a:lnTo>
                    <a:pt x="1410" y="1586"/>
                  </a:lnTo>
                  <a:lnTo>
                    <a:pt x="1400" y="1616"/>
                  </a:lnTo>
                  <a:lnTo>
                    <a:pt x="1390" y="1649"/>
                  </a:lnTo>
                  <a:lnTo>
                    <a:pt x="1374" y="1686"/>
                  </a:lnTo>
                  <a:lnTo>
                    <a:pt x="1357" y="1726"/>
                  </a:lnTo>
                  <a:lnTo>
                    <a:pt x="1337" y="1766"/>
                  </a:lnTo>
                  <a:lnTo>
                    <a:pt x="1307" y="1806"/>
                  </a:lnTo>
                  <a:lnTo>
                    <a:pt x="1273" y="1849"/>
                  </a:lnTo>
                  <a:lnTo>
                    <a:pt x="1233" y="1893"/>
                  </a:lnTo>
                  <a:lnTo>
                    <a:pt x="1193" y="1940"/>
                  </a:lnTo>
                  <a:lnTo>
                    <a:pt x="1150" y="1993"/>
                  </a:lnTo>
                  <a:lnTo>
                    <a:pt x="1103" y="2043"/>
                  </a:lnTo>
                  <a:lnTo>
                    <a:pt x="1053" y="2097"/>
                  </a:lnTo>
                  <a:lnTo>
                    <a:pt x="999" y="2150"/>
                  </a:lnTo>
                  <a:lnTo>
                    <a:pt x="943" y="2203"/>
                  </a:lnTo>
                  <a:lnTo>
                    <a:pt x="879" y="2254"/>
                  </a:lnTo>
                  <a:lnTo>
                    <a:pt x="856" y="2270"/>
                  </a:lnTo>
                  <a:lnTo>
                    <a:pt x="836" y="2280"/>
                  </a:lnTo>
                  <a:lnTo>
                    <a:pt x="816" y="2290"/>
                  </a:lnTo>
                  <a:lnTo>
                    <a:pt x="799" y="2294"/>
                  </a:lnTo>
                  <a:lnTo>
                    <a:pt x="782" y="2297"/>
                  </a:lnTo>
                  <a:lnTo>
                    <a:pt x="766" y="2297"/>
                  </a:lnTo>
                  <a:lnTo>
                    <a:pt x="746" y="2294"/>
                  </a:lnTo>
                  <a:lnTo>
                    <a:pt x="729" y="2287"/>
                  </a:lnTo>
                  <a:lnTo>
                    <a:pt x="725" y="2267"/>
                  </a:lnTo>
                  <a:lnTo>
                    <a:pt x="725" y="2247"/>
                  </a:lnTo>
                  <a:lnTo>
                    <a:pt x="729" y="2233"/>
                  </a:lnTo>
                  <a:lnTo>
                    <a:pt x="729" y="2227"/>
                  </a:lnTo>
                  <a:lnTo>
                    <a:pt x="715" y="2237"/>
                  </a:lnTo>
                  <a:lnTo>
                    <a:pt x="709" y="2247"/>
                  </a:lnTo>
                  <a:lnTo>
                    <a:pt x="705" y="2260"/>
                  </a:lnTo>
                  <a:lnTo>
                    <a:pt x="705" y="2284"/>
                  </a:lnTo>
                  <a:lnTo>
                    <a:pt x="699" y="2287"/>
                  </a:lnTo>
                  <a:lnTo>
                    <a:pt x="692" y="2284"/>
                  </a:lnTo>
                  <a:lnTo>
                    <a:pt x="685" y="2277"/>
                  </a:lnTo>
                  <a:lnTo>
                    <a:pt x="679" y="2274"/>
                  </a:lnTo>
                  <a:lnTo>
                    <a:pt x="669" y="2264"/>
                  </a:lnTo>
                  <a:lnTo>
                    <a:pt x="662" y="2240"/>
                  </a:lnTo>
                  <a:lnTo>
                    <a:pt x="659" y="2210"/>
                  </a:lnTo>
                  <a:lnTo>
                    <a:pt x="655" y="2183"/>
                  </a:lnTo>
                  <a:lnTo>
                    <a:pt x="659" y="2170"/>
                  </a:lnTo>
                  <a:lnTo>
                    <a:pt x="669" y="2160"/>
                  </a:lnTo>
                  <a:lnTo>
                    <a:pt x="685" y="2147"/>
                  </a:lnTo>
                  <a:lnTo>
                    <a:pt x="709" y="2137"/>
                  </a:lnTo>
                  <a:lnTo>
                    <a:pt x="735" y="2127"/>
                  </a:lnTo>
                  <a:lnTo>
                    <a:pt x="762" y="2117"/>
                  </a:lnTo>
                  <a:lnTo>
                    <a:pt x="792" y="2110"/>
                  </a:lnTo>
                  <a:lnTo>
                    <a:pt x="822" y="2103"/>
                  </a:lnTo>
                  <a:lnTo>
                    <a:pt x="836" y="2093"/>
                  </a:lnTo>
                  <a:lnTo>
                    <a:pt x="849" y="2080"/>
                  </a:lnTo>
                  <a:lnTo>
                    <a:pt x="866" y="2060"/>
                  </a:lnTo>
                  <a:lnTo>
                    <a:pt x="882" y="2040"/>
                  </a:lnTo>
                  <a:lnTo>
                    <a:pt x="893" y="2023"/>
                  </a:lnTo>
                  <a:lnTo>
                    <a:pt x="906" y="2006"/>
                  </a:lnTo>
                  <a:lnTo>
                    <a:pt x="916" y="1990"/>
                  </a:lnTo>
                  <a:lnTo>
                    <a:pt x="926" y="1973"/>
                  </a:lnTo>
                  <a:lnTo>
                    <a:pt x="943" y="1946"/>
                  </a:lnTo>
                  <a:lnTo>
                    <a:pt x="959" y="1920"/>
                  </a:lnTo>
                  <a:lnTo>
                    <a:pt x="976" y="1893"/>
                  </a:lnTo>
                  <a:lnTo>
                    <a:pt x="989" y="1866"/>
                  </a:lnTo>
                  <a:lnTo>
                    <a:pt x="996" y="1853"/>
                  </a:lnTo>
                  <a:lnTo>
                    <a:pt x="1003" y="1836"/>
                  </a:lnTo>
                  <a:lnTo>
                    <a:pt x="1009" y="1823"/>
                  </a:lnTo>
                  <a:lnTo>
                    <a:pt x="1016" y="1813"/>
                  </a:lnTo>
                  <a:lnTo>
                    <a:pt x="1023" y="1799"/>
                  </a:lnTo>
                  <a:lnTo>
                    <a:pt x="1026" y="1789"/>
                  </a:lnTo>
                  <a:lnTo>
                    <a:pt x="1029" y="1779"/>
                  </a:lnTo>
                  <a:lnTo>
                    <a:pt x="1033" y="1773"/>
                  </a:lnTo>
                  <a:lnTo>
                    <a:pt x="1033" y="1763"/>
                  </a:lnTo>
                  <a:lnTo>
                    <a:pt x="1036" y="1749"/>
                  </a:lnTo>
                  <a:lnTo>
                    <a:pt x="1043" y="1736"/>
                  </a:lnTo>
                  <a:lnTo>
                    <a:pt x="1046" y="1719"/>
                  </a:lnTo>
                  <a:lnTo>
                    <a:pt x="1053" y="1699"/>
                  </a:lnTo>
                  <a:lnTo>
                    <a:pt x="1063" y="1666"/>
                  </a:lnTo>
                  <a:lnTo>
                    <a:pt x="1076" y="1632"/>
                  </a:lnTo>
                  <a:lnTo>
                    <a:pt x="1083" y="1606"/>
                  </a:lnTo>
                  <a:lnTo>
                    <a:pt x="1086" y="1592"/>
                  </a:lnTo>
                  <a:lnTo>
                    <a:pt x="1090" y="1589"/>
                  </a:lnTo>
                  <a:lnTo>
                    <a:pt x="1090" y="1589"/>
                  </a:lnTo>
                  <a:lnTo>
                    <a:pt x="1093" y="1576"/>
                  </a:lnTo>
                  <a:lnTo>
                    <a:pt x="1096" y="1552"/>
                  </a:lnTo>
                  <a:lnTo>
                    <a:pt x="1103" y="1529"/>
                  </a:lnTo>
                  <a:lnTo>
                    <a:pt x="1106" y="1506"/>
                  </a:lnTo>
                  <a:lnTo>
                    <a:pt x="1110" y="1489"/>
                  </a:lnTo>
                  <a:lnTo>
                    <a:pt x="1090" y="1482"/>
                  </a:lnTo>
                  <a:lnTo>
                    <a:pt x="1070" y="1479"/>
                  </a:lnTo>
                  <a:lnTo>
                    <a:pt x="1050" y="1472"/>
                  </a:lnTo>
                  <a:lnTo>
                    <a:pt x="1033" y="1465"/>
                  </a:lnTo>
                  <a:lnTo>
                    <a:pt x="1013" y="1459"/>
                  </a:lnTo>
                  <a:lnTo>
                    <a:pt x="996" y="1449"/>
                  </a:lnTo>
                  <a:lnTo>
                    <a:pt x="976" y="1439"/>
                  </a:lnTo>
                  <a:lnTo>
                    <a:pt x="959" y="1429"/>
                  </a:lnTo>
                  <a:lnTo>
                    <a:pt x="939" y="1419"/>
                  </a:lnTo>
                  <a:lnTo>
                    <a:pt x="923" y="1405"/>
                  </a:lnTo>
                  <a:lnTo>
                    <a:pt x="906" y="1392"/>
                  </a:lnTo>
                  <a:lnTo>
                    <a:pt x="889" y="1379"/>
                  </a:lnTo>
                  <a:lnTo>
                    <a:pt x="876" y="1369"/>
                  </a:lnTo>
                  <a:lnTo>
                    <a:pt x="866" y="1355"/>
                  </a:lnTo>
                  <a:lnTo>
                    <a:pt x="856" y="1342"/>
                  </a:lnTo>
                  <a:lnTo>
                    <a:pt x="846" y="1332"/>
                  </a:lnTo>
                  <a:lnTo>
                    <a:pt x="826" y="1315"/>
                  </a:lnTo>
                  <a:lnTo>
                    <a:pt x="806" y="1299"/>
                  </a:lnTo>
                  <a:lnTo>
                    <a:pt x="786" y="1282"/>
                  </a:lnTo>
                  <a:lnTo>
                    <a:pt x="766" y="1262"/>
                  </a:lnTo>
                  <a:lnTo>
                    <a:pt x="746" y="1242"/>
                  </a:lnTo>
                  <a:lnTo>
                    <a:pt x="725" y="1222"/>
                  </a:lnTo>
                  <a:lnTo>
                    <a:pt x="705" y="1202"/>
                  </a:lnTo>
                  <a:lnTo>
                    <a:pt x="689" y="1182"/>
                  </a:lnTo>
                  <a:lnTo>
                    <a:pt x="682" y="1175"/>
                  </a:lnTo>
                  <a:lnTo>
                    <a:pt x="675" y="1165"/>
                  </a:lnTo>
                  <a:lnTo>
                    <a:pt x="669" y="1158"/>
                  </a:lnTo>
                  <a:lnTo>
                    <a:pt x="662" y="1152"/>
                  </a:lnTo>
                  <a:lnTo>
                    <a:pt x="639" y="1128"/>
                  </a:lnTo>
                  <a:lnTo>
                    <a:pt x="622" y="1108"/>
                  </a:lnTo>
                  <a:lnTo>
                    <a:pt x="609" y="1091"/>
                  </a:lnTo>
                  <a:lnTo>
                    <a:pt x="599" y="1081"/>
                  </a:lnTo>
                  <a:lnTo>
                    <a:pt x="595" y="1075"/>
                  </a:lnTo>
                  <a:lnTo>
                    <a:pt x="585" y="1068"/>
                  </a:lnTo>
                  <a:lnTo>
                    <a:pt x="575" y="1058"/>
                  </a:lnTo>
                  <a:lnTo>
                    <a:pt x="558" y="1045"/>
                  </a:lnTo>
                  <a:lnTo>
                    <a:pt x="528" y="1021"/>
                  </a:lnTo>
                  <a:lnTo>
                    <a:pt x="492" y="991"/>
                  </a:lnTo>
                  <a:lnTo>
                    <a:pt x="452" y="958"/>
                  </a:lnTo>
                  <a:lnTo>
                    <a:pt x="408" y="925"/>
                  </a:lnTo>
                  <a:lnTo>
                    <a:pt x="365" y="888"/>
                  </a:lnTo>
                  <a:lnTo>
                    <a:pt x="321" y="848"/>
                  </a:lnTo>
                  <a:lnTo>
                    <a:pt x="284" y="808"/>
                  </a:lnTo>
                  <a:lnTo>
                    <a:pt x="251" y="768"/>
                  </a:lnTo>
                  <a:lnTo>
                    <a:pt x="198" y="681"/>
                  </a:lnTo>
                  <a:lnTo>
                    <a:pt x="174" y="611"/>
                  </a:lnTo>
                  <a:lnTo>
                    <a:pt x="171" y="551"/>
                  </a:lnTo>
                  <a:lnTo>
                    <a:pt x="171" y="487"/>
                  </a:lnTo>
                  <a:lnTo>
                    <a:pt x="164" y="464"/>
                  </a:lnTo>
                  <a:lnTo>
                    <a:pt x="147" y="434"/>
                  </a:lnTo>
                  <a:lnTo>
                    <a:pt x="127" y="404"/>
                  </a:lnTo>
                  <a:lnTo>
                    <a:pt x="104" y="374"/>
                  </a:lnTo>
                  <a:lnTo>
                    <a:pt x="91" y="350"/>
                  </a:lnTo>
                  <a:lnTo>
                    <a:pt x="84" y="333"/>
                  </a:lnTo>
                  <a:lnTo>
                    <a:pt x="81" y="320"/>
                  </a:lnTo>
                  <a:lnTo>
                    <a:pt x="74" y="303"/>
                  </a:lnTo>
                  <a:lnTo>
                    <a:pt x="61" y="277"/>
                  </a:lnTo>
                  <a:lnTo>
                    <a:pt x="44" y="243"/>
                  </a:lnTo>
                  <a:lnTo>
                    <a:pt x="24" y="210"/>
                  </a:lnTo>
                  <a:lnTo>
                    <a:pt x="7" y="177"/>
                  </a:lnTo>
                  <a:lnTo>
                    <a:pt x="0" y="150"/>
                  </a:lnTo>
                  <a:lnTo>
                    <a:pt x="4" y="136"/>
                  </a:lnTo>
                  <a:lnTo>
                    <a:pt x="17" y="133"/>
                  </a:lnTo>
                  <a:lnTo>
                    <a:pt x="37" y="136"/>
                  </a:lnTo>
                  <a:lnTo>
                    <a:pt x="47" y="136"/>
                  </a:lnTo>
                  <a:lnTo>
                    <a:pt x="57" y="140"/>
                  </a:lnTo>
                  <a:lnTo>
                    <a:pt x="71" y="143"/>
                  </a:lnTo>
                  <a:lnTo>
                    <a:pt x="84" y="146"/>
                  </a:lnTo>
                  <a:lnTo>
                    <a:pt x="101" y="153"/>
                  </a:lnTo>
                  <a:lnTo>
                    <a:pt x="117" y="160"/>
                  </a:lnTo>
                  <a:lnTo>
                    <a:pt x="137" y="170"/>
                  </a:lnTo>
                  <a:lnTo>
                    <a:pt x="161" y="180"/>
                  </a:lnTo>
                  <a:lnTo>
                    <a:pt x="174" y="190"/>
                  </a:lnTo>
                  <a:lnTo>
                    <a:pt x="194" y="200"/>
                  </a:lnTo>
                  <a:lnTo>
                    <a:pt x="214" y="213"/>
                  </a:lnTo>
                  <a:lnTo>
                    <a:pt x="238" y="223"/>
                  </a:lnTo>
                  <a:lnTo>
                    <a:pt x="258" y="233"/>
                  </a:lnTo>
                  <a:lnTo>
                    <a:pt x="278" y="240"/>
                  </a:lnTo>
                  <a:lnTo>
                    <a:pt x="294" y="243"/>
                  </a:lnTo>
                  <a:lnTo>
                    <a:pt x="308" y="237"/>
                  </a:lnTo>
                  <a:lnTo>
                    <a:pt x="318" y="230"/>
                  </a:lnTo>
                  <a:lnTo>
                    <a:pt x="331" y="220"/>
                  </a:lnTo>
                  <a:lnTo>
                    <a:pt x="351" y="210"/>
                  </a:lnTo>
                  <a:lnTo>
                    <a:pt x="371" y="203"/>
                  </a:lnTo>
                  <a:lnTo>
                    <a:pt x="385" y="200"/>
                  </a:lnTo>
                  <a:lnTo>
                    <a:pt x="398" y="193"/>
                  </a:lnTo>
                  <a:lnTo>
                    <a:pt x="415" y="190"/>
                  </a:lnTo>
                  <a:lnTo>
                    <a:pt x="428" y="183"/>
                  </a:lnTo>
                  <a:lnTo>
                    <a:pt x="445" y="180"/>
                  </a:lnTo>
                  <a:lnTo>
                    <a:pt x="462" y="173"/>
                  </a:lnTo>
                  <a:lnTo>
                    <a:pt x="475" y="170"/>
                  </a:lnTo>
                  <a:lnTo>
                    <a:pt x="492" y="167"/>
                  </a:lnTo>
                  <a:lnTo>
                    <a:pt x="512" y="163"/>
                  </a:lnTo>
                  <a:lnTo>
                    <a:pt x="528" y="157"/>
                  </a:lnTo>
                  <a:lnTo>
                    <a:pt x="545" y="153"/>
                  </a:lnTo>
                  <a:lnTo>
                    <a:pt x="562" y="150"/>
                  </a:lnTo>
                  <a:lnTo>
                    <a:pt x="578" y="146"/>
                  </a:lnTo>
                  <a:lnTo>
                    <a:pt x="592" y="146"/>
                  </a:lnTo>
                  <a:lnTo>
                    <a:pt x="609" y="143"/>
                  </a:lnTo>
                  <a:lnTo>
                    <a:pt x="622" y="143"/>
                  </a:lnTo>
                  <a:lnTo>
                    <a:pt x="639" y="140"/>
                  </a:lnTo>
                  <a:lnTo>
                    <a:pt x="655" y="140"/>
                  </a:lnTo>
                  <a:lnTo>
                    <a:pt x="669" y="140"/>
                  </a:lnTo>
                  <a:lnTo>
                    <a:pt x="685" y="140"/>
                  </a:lnTo>
                  <a:lnTo>
                    <a:pt x="705" y="143"/>
                  </a:lnTo>
                  <a:lnTo>
                    <a:pt x="722" y="146"/>
                  </a:lnTo>
                  <a:lnTo>
                    <a:pt x="739" y="150"/>
                  </a:lnTo>
                  <a:lnTo>
                    <a:pt x="749" y="153"/>
                  </a:lnTo>
                  <a:lnTo>
                    <a:pt x="766" y="153"/>
                  </a:lnTo>
                  <a:lnTo>
                    <a:pt x="782" y="146"/>
                  </a:lnTo>
                  <a:lnTo>
                    <a:pt x="796" y="140"/>
                  </a:lnTo>
                  <a:lnTo>
                    <a:pt x="806" y="130"/>
                  </a:lnTo>
                  <a:lnTo>
                    <a:pt x="816" y="116"/>
                  </a:lnTo>
                  <a:lnTo>
                    <a:pt x="829" y="103"/>
                  </a:lnTo>
                  <a:lnTo>
                    <a:pt x="839" y="90"/>
                  </a:lnTo>
                  <a:lnTo>
                    <a:pt x="852" y="76"/>
                  </a:lnTo>
                  <a:lnTo>
                    <a:pt x="872" y="60"/>
                  </a:lnTo>
                  <a:lnTo>
                    <a:pt x="896" y="46"/>
                  </a:lnTo>
                  <a:lnTo>
                    <a:pt x="923" y="33"/>
                  </a:lnTo>
                  <a:lnTo>
                    <a:pt x="953" y="20"/>
                  </a:lnTo>
                  <a:lnTo>
                    <a:pt x="983" y="10"/>
                  </a:lnTo>
                  <a:lnTo>
                    <a:pt x="1009" y="3"/>
                  </a:lnTo>
                  <a:lnTo>
                    <a:pt x="1029" y="0"/>
                  </a:lnTo>
                  <a:lnTo>
                    <a:pt x="1046" y="0"/>
                  </a:lnTo>
                  <a:lnTo>
                    <a:pt x="1050" y="30"/>
                  </a:lnTo>
                  <a:lnTo>
                    <a:pt x="1033" y="76"/>
                  </a:lnTo>
                  <a:lnTo>
                    <a:pt x="1013" y="133"/>
                  </a:lnTo>
                  <a:lnTo>
                    <a:pt x="1009" y="177"/>
                  </a:lnTo>
                  <a:lnTo>
                    <a:pt x="1013" y="203"/>
                  </a:lnTo>
                  <a:lnTo>
                    <a:pt x="1016" y="223"/>
                  </a:lnTo>
                  <a:lnTo>
                    <a:pt x="1009" y="250"/>
                  </a:lnTo>
                  <a:lnTo>
                    <a:pt x="993" y="290"/>
                  </a:lnTo>
                  <a:lnTo>
                    <a:pt x="976" y="310"/>
                  </a:lnTo>
                  <a:lnTo>
                    <a:pt x="966" y="323"/>
                  </a:lnTo>
                  <a:lnTo>
                    <a:pt x="963" y="333"/>
                  </a:lnTo>
                  <a:lnTo>
                    <a:pt x="959" y="337"/>
                  </a:lnTo>
                  <a:lnTo>
                    <a:pt x="976" y="424"/>
                  </a:lnTo>
                  <a:lnTo>
                    <a:pt x="983" y="497"/>
                  </a:lnTo>
                  <a:lnTo>
                    <a:pt x="976" y="564"/>
                  </a:lnTo>
                  <a:lnTo>
                    <a:pt x="953" y="634"/>
                  </a:lnTo>
                  <a:lnTo>
                    <a:pt x="939" y="661"/>
                  </a:lnTo>
                  <a:lnTo>
                    <a:pt x="923" y="691"/>
                  </a:lnTo>
                  <a:lnTo>
                    <a:pt x="903" y="721"/>
                  </a:lnTo>
                  <a:lnTo>
                    <a:pt x="882" y="751"/>
                  </a:lnTo>
                  <a:lnTo>
                    <a:pt x="862" y="778"/>
                  </a:lnTo>
                  <a:lnTo>
                    <a:pt x="842" y="801"/>
                  </a:lnTo>
                  <a:lnTo>
                    <a:pt x="826" y="821"/>
                  </a:lnTo>
                  <a:lnTo>
                    <a:pt x="812" y="834"/>
                  </a:lnTo>
                  <a:lnTo>
                    <a:pt x="786" y="854"/>
                  </a:lnTo>
                  <a:lnTo>
                    <a:pt x="759" y="871"/>
                  </a:lnTo>
                  <a:lnTo>
                    <a:pt x="729" y="881"/>
                  </a:lnTo>
                  <a:lnTo>
                    <a:pt x="702" y="884"/>
                  </a:lnTo>
                  <a:lnTo>
                    <a:pt x="675" y="888"/>
                  </a:lnTo>
                  <a:lnTo>
                    <a:pt x="649" y="884"/>
                  </a:lnTo>
                  <a:lnTo>
                    <a:pt x="629" y="881"/>
                  </a:lnTo>
                  <a:lnTo>
                    <a:pt x="609" y="878"/>
                  </a:lnTo>
                  <a:lnTo>
                    <a:pt x="592" y="891"/>
                  </a:lnTo>
                  <a:lnTo>
                    <a:pt x="575" y="898"/>
                  </a:lnTo>
                  <a:lnTo>
                    <a:pt x="552" y="901"/>
                  </a:lnTo>
                  <a:lnTo>
                    <a:pt x="532" y="904"/>
                  </a:lnTo>
                  <a:lnTo>
                    <a:pt x="505" y="901"/>
                  </a:lnTo>
                  <a:lnTo>
                    <a:pt x="482" y="898"/>
                  </a:lnTo>
                  <a:lnTo>
                    <a:pt x="452" y="891"/>
                  </a:lnTo>
                  <a:lnTo>
                    <a:pt x="425" y="884"/>
                  </a:lnTo>
                  <a:lnTo>
                    <a:pt x="408" y="874"/>
                  </a:lnTo>
                  <a:lnTo>
                    <a:pt x="388" y="864"/>
                  </a:lnTo>
                  <a:lnTo>
                    <a:pt x="365" y="851"/>
                  </a:lnTo>
                  <a:lnTo>
                    <a:pt x="341" y="834"/>
                  </a:lnTo>
                  <a:lnTo>
                    <a:pt x="321" y="818"/>
                  </a:lnTo>
                  <a:lnTo>
                    <a:pt x="298" y="798"/>
                  </a:lnTo>
                  <a:lnTo>
                    <a:pt x="278" y="778"/>
                  </a:lnTo>
                  <a:lnTo>
                    <a:pt x="258" y="754"/>
                  </a:lnTo>
                  <a:lnTo>
                    <a:pt x="261" y="758"/>
                  </a:lnTo>
                  <a:lnTo>
                    <a:pt x="268" y="771"/>
                  </a:lnTo>
                  <a:lnTo>
                    <a:pt x="278" y="788"/>
                  </a:lnTo>
                  <a:lnTo>
                    <a:pt x="294" y="808"/>
                  </a:lnTo>
                  <a:lnTo>
                    <a:pt x="318" y="834"/>
                  </a:lnTo>
                  <a:lnTo>
                    <a:pt x="345" y="858"/>
                  </a:lnTo>
                  <a:lnTo>
                    <a:pt x="378" y="884"/>
                  </a:lnTo>
                  <a:lnTo>
                    <a:pt x="418" y="908"/>
                  </a:lnTo>
                  <a:lnTo>
                    <a:pt x="428" y="911"/>
                  </a:lnTo>
                  <a:lnTo>
                    <a:pt x="438" y="918"/>
                  </a:lnTo>
                  <a:lnTo>
                    <a:pt x="452" y="921"/>
                  </a:lnTo>
                  <a:lnTo>
                    <a:pt x="465" y="925"/>
                  </a:lnTo>
                  <a:close/>
                </a:path>
              </a:pathLst>
            </a:cu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82120" y="5850720"/>
              <a:ext cx="113400" cy="36360"/>
            </a:xfrm>
            <a:custGeom>
              <a:avLst/>
              <a:gdLst/>
              <a:ahLst/>
              <a:rect l="l" t="t" r="r" b="b"/>
              <a:pathLst>
                <a:path w="220" h="67">
                  <a:moveTo>
                    <a:pt x="0" y="27"/>
                  </a:moveTo>
                  <a:lnTo>
                    <a:pt x="17" y="27"/>
                  </a:lnTo>
                  <a:lnTo>
                    <a:pt x="33" y="27"/>
                  </a:lnTo>
                  <a:lnTo>
                    <a:pt x="47" y="24"/>
                  </a:lnTo>
                  <a:lnTo>
                    <a:pt x="63" y="17"/>
                  </a:lnTo>
                  <a:lnTo>
                    <a:pt x="80" y="10"/>
                  </a:lnTo>
                  <a:lnTo>
                    <a:pt x="97" y="7"/>
                  </a:lnTo>
                  <a:lnTo>
                    <a:pt x="114" y="7"/>
                  </a:lnTo>
                  <a:lnTo>
                    <a:pt x="130" y="7"/>
                  </a:lnTo>
                  <a:lnTo>
                    <a:pt x="140" y="7"/>
                  </a:lnTo>
                  <a:lnTo>
                    <a:pt x="147" y="7"/>
                  </a:lnTo>
                  <a:lnTo>
                    <a:pt x="167" y="3"/>
                  </a:lnTo>
                  <a:lnTo>
                    <a:pt x="210" y="3"/>
                  </a:lnTo>
                  <a:lnTo>
                    <a:pt x="214" y="3"/>
                  </a:lnTo>
                  <a:lnTo>
                    <a:pt x="217" y="3"/>
                  </a:lnTo>
                  <a:lnTo>
                    <a:pt x="217" y="3"/>
                  </a:lnTo>
                  <a:lnTo>
                    <a:pt x="220" y="0"/>
                  </a:lnTo>
                  <a:lnTo>
                    <a:pt x="214" y="10"/>
                  </a:lnTo>
                  <a:lnTo>
                    <a:pt x="194" y="30"/>
                  </a:lnTo>
                  <a:lnTo>
                    <a:pt x="167" y="50"/>
                  </a:lnTo>
                  <a:lnTo>
                    <a:pt x="130" y="64"/>
                  </a:lnTo>
                  <a:lnTo>
                    <a:pt x="114" y="67"/>
                  </a:lnTo>
                  <a:lnTo>
                    <a:pt x="97" y="67"/>
                  </a:lnTo>
                  <a:lnTo>
                    <a:pt x="80" y="67"/>
                  </a:lnTo>
                  <a:lnTo>
                    <a:pt x="67" y="64"/>
                  </a:lnTo>
                  <a:lnTo>
                    <a:pt x="50" y="57"/>
                  </a:lnTo>
                  <a:lnTo>
                    <a:pt x="33" y="50"/>
                  </a:lnTo>
                  <a:lnTo>
                    <a:pt x="17" y="40"/>
                  </a:lnTo>
                  <a:lnTo>
                    <a:pt x="0" y="27"/>
                  </a:lnTo>
                  <a:close/>
                </a:path>
              </a:pathLst>
            </a:cu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069200" y="5491080"/>
              <a:ext cx="692640" cy="626760"/>
            </a:xfrm>
            <a:custGeom>
              <a:avLst/>
              <a:gdLst/>
              <a:ahLst/>
              <a:rect l="l" t="t" r="r" b="b"/>
              <a:pathLst>
                <a:path w="1344" h="1152">
                  <a:moveTo>
                    <a:pt x="71" y="1125"/>
                  </a:moveTo>
                  <a:lnTo>
                    <a:pt x="117" y="1132"/>
                  </a:lnTo>
                  <a:lnTo>
                    <a:pt x="161" y="1139"/>
                  </a:lnTo>
                  <a:lnTo>
                    <a:pt x="208" y="1145"/>
                  </a:lnTo>
                  <a:lnTo>
                    <a:pt x="251" y="1149"/>
                  </a:lnTo>
                  <a:lnTo>
                    <a:pt x="294" y="1149"/>
                  </a:lnTo>
                  <a:lnTo>
                    <a:pt x="338" y="1152"/>
                  </a:lnTo>
                  <a:lnTo>
                    <a:pt x="381" y="1152"/>
                  </a:lnTo>
                  <a:lnTo>
                    <a:pt x="421" y="1149"/>
                  </a:lnTo>
                  <a:lnTo>
                    <a:pt x="462" y="1149"/>
                  </a:lnTo>
                  <a:lnTo>
                    <a:pt x="498" y="1145"/>
                  </a:lnTo>
                  <a:lnTo>
                    <a:pt x="535" y="1142"/>
                  </a:lnTo>
                  <a:lnTo>
                    <a:pt x="568" y="1139"/>
                  </a:lnTo>
                  <a:lnTo>
                    <a:pt x="598" y="1135"/>
                  </a:lnTo>
                  <a:lnTo>
                    <a:pt x="629" y="1132"/>
                  </a:lnTo>
                  <a:lnTo>
                    <a:pt x="652" y="1125"/>
                  </a:lnTo>
                  <a:lnTo>
                    <a:pt x="675" y="1122"/>
                  </a:lnTo>
                  <a:lnTo>
                    <a:pt x="719" y="1125"/>
                  </a:lnTo>
                  <a:lnTo>
                    <a:pt x="759" y="1129"/>
                  </a:lnTo>
                  <a:lnTo>
                    <a:pt x="796" y="1132"/>
                  </a:lnTo>
                  <a:lnTo>
                    <a:pt x="826" y="1135"/>
                  </a:lnTo>
                  <a:lnTo>
                    <a:pt x="849" y="1142"/>
                  </a:lnTo>
                  <a:lnTo>
                    <a:pt x="869" y="1142"/>
                  </a:lnTo>
                  <a:lnTo>
                    <a:pt x="886" y="1142"/>
                  </a:lnTo>
                  <a:lnTo>
                    <a:pt x="896" y="1142"/>
                  </a:lnTo>
                  <a:lnTo>
                    <a:pt x="919" y="1139"/>
                  </a:lnTo>
                  <a:lnTo>
                    <a:pt x="933" y="1135"/>
                  </a:lnTo>
                  <a:lnTo>
                    <a:pt x="943" y="1129"/>
                  </a:lnTo>
                  <a:lnTo>
                    <a:pt x="953" y="1129"/>
                  </a:lnTo>
                  <a:lnTo>
                    <a:pt x="953" y="1089"/>
                  </a:lnTo>
                  <a:lnTo>
                    <a:pt x="963" y="1048"/>
                  </a:lnTo>
                  <a:lnTo>
                    <a:pt x="983" y="1008"/>
                  </a:lnTo>
                  <a:lnTo>
                    <a:pt x="1016" y="968"/>
                  </a:lnTo>
                  <a:lnTo>
                    <a:pt x="1053" y="932"/>
                  </a:lnTo>
                  <a:lnTo>
                    <a:pt x="1080" y="905"/>
                  </a:lnTo>
                  <a:lnTo>
                    <a:pt x="1096" y="885"/>
                  </a:lnTo>
                  <a:lnTo>
                    <a:pt x="1110" y="872"/>
                  </a:lnTo>
                  <a:lnTo>
                    <a:pt x="1120" y="858"/>
                  </a:lnTo>
                  <a:lnTo>
                    <a:pt x="1123" y="841"/>
                  </a:lnTo>
                  <a:lnTo>
                    <a:pt x="1130" y="825"/>
                  </a:lnTo>
                  <a:lnTo>
                    <a:pt x="1136" y="801"/>
                  </a:lnTo>
                  <a:lnTo>
                    <a:pt x="1143" y="775"/>
                  </a:lnTo>
                  <a:lnTo>
                    <a:pt x="1150" y="745"/>
                  </a:lnTo>
                  <a:lnTo>
                    <a:pt x="1160" y="715"/>
                  </a:lnTo>
                  <a:lnTo>
                    <a:pt x="1170" y="685"/>
                  </a:lnTo>
                  <a:lnTo>
                    <a:pt x="1180" y="658"/>
                  </a:lnTo>
                  <a:lnTo>
                    <a:pt x="1197" y="631"/>
                  </a:lnTo>
                  <a:lnTo>
                    <a:pt x="1213" y="608"/>
                  </a:lnTo>
                  <a:lnTo>
                    <a:pt x="1237" y="588"/>
                  </a:lnTo>
                  <a:lnTo>
                    <a:pt x="1260" y="568"/>
                  </a:lnTo>
                  <a:lnTo>
                    <a:pt x="1280" y="548"/>
                  </a:lnTo>
                  <a:lnTo>
                    <a:pt x="1300" y="524"/>
                  </a:lnTo>
                  <a:lnTo>
                    <a:pt x="1317" y="501"/>
                  </a:lnTo>
                  <a:lnTo>
                    <a:pt x="1330" y="481"/>
                  </a:lnTo>
                  <a:lnTo>
                    <a:pt x="1340" y="457"/>
                  </a:lnTo>
                  <a:lnTo>
                    <a:pt x="1344" y="437"/>
                  </a:lnTo>
                  <a:lnTo>
                    <a:pt x="1340" y="417"/>
                  </a:lnTo>
                  <a:lnTo>
                    <a:pt x="1327" y="387"/>
                  </a:lnTo>
                  <a:lnTo>
                    <a:pt x="1317" y="367"/>
                  </a:lnTo>
                  <a:lnTo>
                    <a:pt x="1307" y="341"/>
                  </a:lnTo>
                  <a:lnTo>
                    <a:pt x="1307" y="294"/>
                  </a:lnTo>
                  <a:lnTo>
                    <a:pt x="1300" y="240"/>
                  </a:lnTo>
                  <a:lnTo>
                    <a:pt x="1283" y="194"/>
                  </a:lnTo>
                  <a:lnTo>
                    <a:pt x="1260" y="150"/>
                  </a:lnTo>
                  <a:lnTo>
                    <a:pt x="1243" y="114"/>
                  </a:lnTo>
                  <a:lnTo>
                    <a:pt x="1237" y="90"/>
                  </a:lnTo>
                  <a:lnTo>
                    <a:pt x="1237" y="67"/>
                  </a:lnTo>
                  <a:lnTo>
                    <a:pt x="1237" y="43"/>
                  </a:lnTo>
                  <a:lnTo>
                    <a:pt x="1240" y="23"/>
                  </a:lnTo>
                  <a:lnTo>
                    <a:pt x="1213" y="23"/>
                  </a:lnTo>
                  <a:lnTo>
                    <a:pt x="1187" y="20"/>
                  </a:lnTo>
                  <a:lnTo>
                    <a:pt x="1163" y="20"/>
                  </a:lnTo>
                  <a:lnTo>
                    <a:pt x="1140" y="17"/>
                  </a:lnTo>
                  <a:lnTo>
                    <a:pt x="1113" y="17"/>
                  </a:lnTo>
                  <a:lnTo>
                    <a:pt x="1090" y="17"/>
                  </a:lnTo>
                  <a:lnTo>
                    <a:pt x="1070" y="13"/>
                  </a:lnTo>
                  <a:lnTo>
                    <a:pt x="1046" y="13"/>
                  </a:lnTo>
                  <a:lnTo>
                    <a:pt x="1026" y="13"/>
                  </a:lnTo>
                  <a:lnTo>
                    <a:pt x="1006" y="10"/>
                  </a:lnTo>
                  <a:lnTo>
                    <a:pt x="986" y="10"/>
                  </a:lnTo>
                  <a:lnTo>
                    <a:pt x="969" y="7"/>
                  </a:lnTo>
                  <a:lnTo>
                    <a:pt x="949" y="7"/>
                  </a:lnTo>
                  <a:lnTo>
                    <a:pt x="933" y="7"/>
                  </a:lnTo>
                  <a:lnTo>
                    <a:pt x="916" y="3"/>
                  </a:lnTo>
                  <a:lnTo>
                    <a:pt x="899" y="3"/>
                  </a:lnTo>
                  <a:lnTo>
                    <a:pt x="866" y="3"/>
                  </a:lnTo>
                  <a:lnTo>
                    <a:pt x="836" y="0"/>
                  </a:lnTo>
                  <a:lnTo>
                    <a:pt x="806" y="0"/>
                  </a:lnTo>
                  <a:lnTo>
                    <a:pt x="779" y="0"/>
                  </a:lnTo>
                  <a:lnTo>
                    <a:pt x="756" y="0"/>
                  </a:lnTo>
                  <a:lnTo>
                    <a:pt x="729" y="0"/>
                  </a:lnTo>
                  <a:lnTo>
                    <a:pt x="709" y="0"/>
                  </a:lnTo>
                  <a:lnTo>
                    <a:pt x="685" y="0"/>
                  </a:lnTo>
                  <a:lnTo>
                    <a:pt x="652" y="0"/>
                  </a:lnTo>
                  <a:lnTo>
                    <a:pt x="625" y="0"/>
                  </a:lnTo>
                  <a:lnTo>
                    <a:pt x="598" y="0"/>
                  </a:lnTo>
                  <a:lnTo>
                    <a:pt x="578" y="0"/>
                  </a:lnTo>
                  <a:lnTo>
                    <a:pt x="558" y="0"/>
                  </a:lnTo>
                  <a:lnTo>
                    <a:pt x="542" y="0"/>
                  </a:lnTo>
                  <a:lnTo>
                    <a:pt x="528" y="0"/>
                  </a:lnTo>
                  <a:lnTo>
                    <a:pt x="515" y="0"/>
                  </a:lnTo>
                  <a:lnTo>
                    <a:pt x="512" y="0"/>
                  </a:lnTo>
                  <a:lnTo>
                    <a:pt x="512" y="0"/>
                  </a:lnTo>
                  <a:lnTo>
                    <a:pt x="508" y="0"/>
                  </a:lnTo>
                  <a:lnTo>
                    <a:pt x="505" y="0"/>
                  </a:lnTo>
                  <a:lnTo>
                    <a:pt x="472" y="0"/>
                  </a:lnTo>
                  <a:lnTo>
                    <a:pt x="448" y="0"/>
                  </a:lnTo>
                  <a:lnTo>
                    <a:pt x="431" y="0"/>
                  </a:lnTo>
                  <a:lnTo>
                    <a:pt x="421" y="0"/>
                  </a:lnTo>
                  <a:lnTo>
                    <a:pt x="408" y="0"/>
                  </a:lnTo>
                  <a:lnTo>
                    <a:pt x="398" y="3"/>
                  </a:lnTo>
                  <a:lnTo>
                    <a:pt x="381" y="3"/>
                  </a:lnTo>
                  <a:lnTo>
                    <a:pt x="358" y="10"/>
                  </a:lnTo>
                  <a:lnTo>
                    <a:pt x="338" y="13"/>
                  </a:lnTo>
                  <a:lnTo>
                    <a:pt x="311" y="20"/>
                  </a:lnTo>
                  <a:lnTo>
                    <a:pt x="281" y="27"/>
                  </a:lnTo>
                  <a:lnTo>
                    <a:pt x="248" y="33"/>
                  </a:lnTo>
                  <a:lnTo>
                    <a:pt x="214" y="40"/>
                  </a:lnTo>
                  <a:lnTo>
                    <a:pt x="184" y="47"/>
                  </a:lnTo>
                  <a:lnTo>
                    <a:pt x="161" y="53"/>
                  </a:lnTo>
                  <a:lnTo>
                    <a:pt x="144" y="57"/>
                  </a:lnTo>
                  <a:lnTo>
                    <a:pt x="117" y="67"/>
                  </a:lnTo>
                  <a:lnTo>
                    <a:pt x="91" y="73"/>
                  </a:lnTo>
                  <a:lnTo>
                    <a:pt x="71" y="80"/>
                  </a:lnTo>
                  <a:lnTo>
                    <a:pt x="51" y="87"/>
                  </a:lnTo>
                  <a:lnTo>
                    <a:pt x="37" y="93"/>
                  </a:lnTo>
                  <a:lnTo>
                    <a:pt x="24" y="97"/>
                  </a:lnTo>
                  <a:lnTo>
                    <a:pt x="14" y="100"/>
                  </a:lnTo>
                  <a:lnTo>
                    <a:pt x="7" y="104"/>
                  </a:lnTo>
                  <a:lnTo>
                    <a:pt x="4" y="107"/>
                  </a:lnTo>
                  <a:lnTo>
                    <a:pt x="4" y="107"/>
                  </a:lnTo>
                  <a:lnTo>
                    <a:pt x="4" y="107"/>
                  </a:lnTo>
                  <a:lnTo>
                    <a:pt x="0" y="107"/>
                  </a:lnTo>
                  <a:lnTo>
                    <a:pt x="21" y="150"/>
                  </a:lnTo>
                  <a:lnTo>
                    <a:pt x="27" y="184"/>
                  </a:lnTo>
                  <a:lnTo>
                    <a:pt x="31" y="214"/>
                  </a:lnTo>
                  <a:lnTo>
                    <a:pt x="37" y="237"/>
                  </a:lnTo>
                  <a:lnTo>
                    <a:pt x="57" y="257"/>
                  </a:lnTo>
                  <a:lnTo>
                    <a:pt x="81" y="270"/>
                  </a:lnTo>
                  <a:lnTo>
                    <a:pt x="97" y="284"/>
                  </a:lnTo>
                  <a:lnTo>
                    <a:pt x="104" y="287"/>
                  </a:lnTo>
                  <a:lnTo>
                    <a:pt x="81" y="301"/>
                  </a:lnTo>
                  <a:lnTo>
                    <a:pt x="131" y="361"/>
                  </a:lnTo>
                  <a:lnTo>
                    <a:pt x="117" y="354"/>
                  </a:lnTo>
                  <a:lnTo>
                    <a:pt x="94" y="344"/>
                  </a:lnTo>
                  <a:lnTo>
                    <a:pt x="84" y="347"/>
                  </a:lnTo>
                  <a:lnTo>
                    <a:pt x="104" y="381"/>
                  </a:lnTo>
                  <a:lnTo>
                    <a:pt x="134" y="427"/>
                  </a:lnTo>
                  <a:lnTo>
                    <a:pt x="147" y="457"/>
                  </a:lnTo>
                  <a:lnTo>
                    <a:pt x="147" y="474"/>
                  </a:lnTo>
                  <a:lnTo>
                    <a:pt x="147" y="477"/>
                  </a:lnTo>
                  <a:lnTo>
                    <a:pt x="141" y="471"/>
                  </a:lnTo>
                  <a:lnTo>
                    <a:pt x="127" y="457"/>
                  </a:lnTo>
                  <a:lnTo>
                    <a:pt x="121" y="457"/>
                  </a:lnTo>
                  <a:lnTo>
                    <a:pt x="124" y="491"/>
                  </a:lnTo>
                  <a:lnTo>
                    <a:pt x="147" y="538"/>
                  </a:lnTo>
                  <a:lnTo>
                    <a:pt x="171" y="571"/>
                  </a:lnTo>
                  <a:lnTo>
                    <a:pt x="184" y="604"/>
                  </a:lnTo>
                  <a:lnTo>
                    <a:pt x="178" y="644"/>
                  </a:lnTo>
                  <a:lnTo>
                    <a:pt x="161" y="695"/>
                  </a:lnTo>
                  <a:lnTo>
                    <a:pt x="157" y="748"/>
                  </a:lnTo>
                  <a:lnTo>
                    <a:pt x="168" y="805"/>
                  </a:lnTo>
                  <a:lnTo>
                    <a:pt x="191" y="855"/>
                  </a:lnTo>
                  <a:lnTo>
                    <a:pt x="218" y="888"/>
                  </a:lnTo>
                  <a:lnTo>
                    <a:pt x="234" y="902"/>
                  </a:lnTo>
                  <a:lnTo>
                    <a:pt x="244" y="902"/>
                  </a:lnTo>
                  <a:lnTo>
                    <a:pt x="248" y="898"/>
                  </a:lnTo>
                  <a:lnTo>
                    <a:pt x="241" y="918"/>
                  </a:lnTo>
                  <a:lnTo>
                    <a:pt x="221" y="952"/>
                  </a:lnTo>
                  <a:lnTo>
                    <a:pt x="201" y="985"/>
                  </a:lnTo>
                  <a:lnTo>
                    <a:pt x="194" y="1005"/>
                  </a:lnTo>
                  <a:lnTo>
                    <a:pt x="191" y="1032"/>
                  </a:lnTo>
                  <a:lnTo>
                    <a:pt x="181" y="1055"/>
                  </a:lnTo>
                  <a:lnTo>
                    <a:pt x="161" y="1072"/>
                  </a:lnTo>
                  <a:lnTo>
                    <a:pt x="141" y="1085"/>
                  </a:lnTo>
                  <a:lnTo>
                    <a:pt x="117" y="1099"/>
                  </a:lnTo>
                  <a:lnTo>
                    <a:pt x="101" y="1105"/>
                  </a:lnTo>
                  <a:lnTo>
                    <a:pt x="87" y="1109"/>
                  </a:lnTo>
                  <a:lnTo>
                    <a:pt x="81" y="1109"/>
                  </a:lnTo>
                  <a:lnTo>
                    <a:pt x="77" y="1112"/>
                  </a:lnTo>
                  <a:lnTo>
                    <a:pt x="77" y="1115"/>
                  </a:lnTo>
                  <a:lnTo>
                    <a:pt x="74" y="1122"/>
                  </a:lnTo>
                  <a:lnTo>
                    <a:pt x="71" y="1125"/>
                  </a:lnTo>
                  <a:close/>
                </a:path>
              </a:pathLst>
            </a:cu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76000" y="6146640"/>
              <a:ext cx="230760" cy="376200"/>
            </a:xfrm>
            <a:custGeom>
              <a:avLst/>
              <a:gdLst/>
              <a:ahLst/>
              <a:rect l="l" t="t" r="r" b="b"/>
              <a:pathLst>
                <a:path w="448" h="692">
                  <a:moveTo>
                    <a:pt x="134" y="0"/>
                  </a:moveTo>
                  <a:lnTo>
                    <a:pt x="134" y="27"/>
                  </a:lnTo>
                  <a:lnTo>
                    <a:pt x="140" y="51"/>
                  </a:lnTo>
                  <a:lnTo>
                    <a:pt x="150" y="77"/>
                  </a:lnTo>
                  <a:lnTo>
                    <a:pt x="170" y="111"/>
                  </a:lnTo>
                  <a:lnTo>
                    <a:pt x="197" y="147"/>
                  </a:lnTo>
                  <a:lnTo>
                    <a:pt x="240" y="194"/>
                  </a:lnTo>
                  <a:lnTo>
                    <a:pt x="294" y="254"/>
                  </a:lnTo>
                  <a:lnTo>
                    <a:pt x="367" y="324"/>
                  </a:lnTo>
                  <a:lnTo>
                    <a:pt x="371" y="354"/>
                  </a:lnTo>
                  <a:lnTo>
                    <a:pt x="367" y="384"/>
                  </a:lnTo>
                  <a:lnTo>
                    <a:pt x="354" y="418"/>
                  </a:lnTo>
                  <a:lnTo>
                    <a:pt x="334" y="451"/>
                  </a:lnTo>
                  <a:lnTo>
                    <a:pt x="307" y="485"/>
                  </a:lnTo>
                  <a:lnTo>
                    <a:pt x="271" y="518"/>
                  </a:lnTo>
                  <a:lnTo>
                    <a:pt x="230" y="548"/>
                  </a:lnTo>
                  <a:lnTo>
                    <a:pt x="180" y="571"/>
                  </a:lnTo>
                  <a:lnTo>
                    <a:pt x="150" y="571"/>
                  </a:lnTo>
                  <a:lnTo>
                    <a:pt x="117" y="571"/>
                  </a:lnTo>
                  <a:lnTo>
                    <a:pt x="87" y="571"/>
                  </a:lnTo>
                  <a:lnTo>
                    <a:pt x="60" y="575"/>
                  </a:lnTo>
                  <a:lnTo>
                    <a:pt x="33" y="578"/>
                  </a:lnTo>
                  <a:lnTo>
                    <a:pt x="17" y="585"/>
                  </a:lnTo>
                  <a:lnTo>
                    <a:pt x="3" y="595"/>
                  </a:lnTo>
                  <a:lnTo>
                    <a:pt x="0" y="608"/>
                  </a:lnTo>
                  <a:lnTo>
                    <a:pt x="3" y="635"/>
                  </a:lnTo>
                  <a:lnTo>
                    <a:pt x="10" y="658"/>
                  </a:lnTo>
                  <a:lnTo>
                    <a:pt x="27" y="678"/>
                  </a:lnTo>
                  <a:lnTo>
                    <a:pt x="50" y="692"/>
                  </a:lnTo>
                  <a:lnTo>
                    <a:pt x="47" y="665"/>
                  </a:lnTo>
                  <a:lnTo>
                    <a:pt x="47" y="635"/>
                  </a:lnTo>
                  <a:lnTo>
                    <a:pt x="53" y="612"/>
                  </a:lnTo>
                  <a:lnTo>
                    <a:pt x="77" y="591"/>
                  </a:lnTo>
                  <a:lnTo>
                    <a:pt x="67" y="615"/>
                  </a:lnTo>
                  <a:lnTo>
                    <a:pt x="63" y="635"/>
                  </a:lnTo>
                  <a:lnTo>
                    <a:pt x="60" y="655"/>
                  </a:lnTo>
                  <a:lnTo>
                    <a:pt x="60" y="668"/>
                  </a:lnTo>
                  <a:lnTo>
                    <a:pt x="90" y="648"/>
                  </a:lnTo>
                  <a:lnTo>
                    <a:pt x="120" y="632"/>
                  </a:lnTo>
                  <a:lnTo>
                    <a:pt x="150" y="625"/>
                  </a:lnTo>
                  <a:lnTo>
                    <a:pt x="184" y="618"/>
                  </a:lnTo>
                  <a:lnTo>
                    <a:pt x="214" y="612"/>
                  </a:lnTo>
                  <a:lnTo>
                    <a:pt x="244" y="608"/>
                  </a:lnTo>
                  <a:lnTo>
                    <a:pt x="271" y="601"/>
                  </a:lnTo>
                  <a:lnTo>
                    <a:pt x="294" y="591"/>
                  </a:lnTo>
                  <a:lnTo>
                    <a:pt x="321" y="571"/>
                  </a:lnTo>
                  <a:lnTo>
                    <a:pt x="347" y="545"/>
                  </a:lnTo>
                  <a:lnTo>
                    <a:pt x="371" y="508"/>
                  </a:lnTo>
                  <a:lnTo>
                    <a:pt x="398" y="471"/>
                  </a:lnTo>
                  <a:lnTo>
                    <a:pt x="418" y="438"/>
                  </a:lnTo>
                  <a:lnTo>
                    <a:pt x="434" y="408"/>
                  </a:lnTo>
                  <a:lnTo>
                    <a:pt x="444" y="388"/>
                  </a:lnTo>
                  <a:lnTo>
                    <a:pt x="448" y="381"/>
                  </a:lnTo>
                  <a:lnTo>
                    <a:pt x="408" y="338"/>
                  </a:lnTo>
                  <a:lnTo>
                    <a:pt x="361" y="288"/>
                  </a:lnTo>
                  <a:lnTo>
                    <a:pt x="311" y="238"/>
                  </a:lnTo>
                  <a:lnTo>
                    <a:pt x="267" y="187"/>
                  </a:lnTo>
                  <a:lnTo>
                    <a:pt x="224" y="137"/>
                  </a:lnTo>
                  <a:lnTo>
                    <a:pt x="194" y="91"/>
                  </a:lnTo>
                  <a:lnTo>
                    <a:pt x="174" y="47"/>
                  </a:lnTo>
                  <a:lnTo>
                    <a:pt x="167" y="10"/>
                  </a:lnTo>
                  <a:lnTo>
                    <a:pt x="154" y="7"/>
                  </a:lnTo>
                  <a:lnTo>
                    <a:pt x="144" y="4"/>
                  </a:lnTo>
                  <a:lnTo>
                    <a:pt x="137" y="0"/>
                  </a:lnTo>
                  <a:lnTo>
                    <a:pt x="134" y="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54360" y="6252120"/>
              <a:ext cx="151560" cy="250560"/>
            </a:xfrm>
            <a:custGeom>
              <a:avLst/>
              <a:gdLst/>
              <a:ahLst/>
              <a:rect l="l" t="t" r="r" b="b"/>
              <a:pathLst>
                <a:path w="294" h="461">
                  <a:moveTo>
                    <a:pt x="86" y="244"/>
                  </a:moveTo>
                  <a:lnTo>
                    <a:pt x="60" y="287"/>
                  </a:lnTo>
                  <a:lnTo>
                    <a:pt x="30" y="331"/>
                  </a:lnTo>
                  <a:lnTo>
                    <a:pt x="6" y="371"/>
                  </a:lnTo>
                  <a:lnTo>
                    <a:pt x="0" y="401"/>
                  </a:lnTo>
                  <a:lnTo>
                    <a:pt x="3" y="418"/>
                  </a:lnTo>
                  <a:lnTo>
                    <a:pt x="6" y="428"/>
                  </a:lnTo>
                  <a:lnTo>
                    <a:pt x="13" y="438"/>
                  </a:lnTo>
                  <a:lnTo>
                    <a:pt x="23" y="444"/>
                  </a:lnTo>
                  <a:lnTo>
                    <a:pt x="20" y="421"/>
                  </a:lnTo>
                  <a:lnTo>
                    <a:pt x="20" y="404"/>
                  </a:lnTo>
                  <a:lnTo>
                    <a:pt x="30" y="391"/>
                  </a:lnTo>
                  <a:lnTo>
                    <a:pt x="53" y="374"/>
                  </a:lnTo>
                  <a:lnTo>
                    <a:pt x="40" y="404"/>
                  </a:lnTo>
                  <a:lnTo>
                    <a:pt x="40" y="428"/>
                  </a:lnTo>
                  <a:lnTo>
                    <a:pt x="40" y="444"/>
                  </a:lnTo>
                  <a:lnTo>
                    <a:pt x="43" y="451"/>
                  </a:lnTo>
                  <a:lnTo>
                    <a:pt x="50" y="454"/>
                  </a:lnTo>
                  <a:lnTo>
                    <a:pt x="60" y="458"/>
                  </a:lnTo>
                  <a:lnTo>
                    <a:pt x="70" y="461"/>
                  </a:lnTo>
                  <a:lnTo>
                    <a:pt x="86" y="458"/>
                  </a:lnTo>
                  <a:lnTo>
                    <a:pt x="93" y="458"/>
                  </a:lnTo>
                  <a:lnTo>
                    <a:pt x="97" y="458"/>
                  </a:lnTo>
                  <a:lnTo>
                    <a:pt x="103" y="458"/>
                  </a:lnTo>
                  <a:lnTo>
                    <a:pt x="107" y="458"/>
                  </a:lnTo>
                  <a:lnTo>
                    <a:pt x="103" y="434"/>
                  </a:lnTo>
                  <a:lnTo>
                    <a:pt x="103" y="414"/>
                  </a:lnTo>
                  <a:lnTo>
                    <a:pt x="113" y="397"/>
                  </a:lnTo>
                  <a:lnTo>
                    <a:pt x="137" y="381"/>
                  </a:lnTo>
                  <a:lnTo>
                    <a:pt x="123" y="411"/>
                  </a:lnTo>
                  <a:lnTo>
                    <a:pt x="123" y="434"/>
                  </a:lnTo>
                  <a:lnTo>
                    <a:pt x="127" y="451"/>
                  </a:lnTo>
                  <a:lnTo>
                    <a:pt x="130" y="458"/>
                  </a:lnTo>
                  <a:lnTo>
                    <a:pt x="153" y="454"/>
                  </a:lnTo>
                  <a:lnTo>
                    <a:pt x="170" y="454"/>
                  </a:lnTo>
                  <a:lnTo>
                    <a:pt x="187" y="451"/>
                  </a:lnTo>
                  <a:lnTo>
                    <a:pt x="203" y="451"/>
                  </a:lnTo>
                  <a:lnTo>
                    <a:pt x="213" y="448"/>
                  </a:lnTo>
                  <a:lnTo>
                    <a:pt x="223" y="444"/>
                  </a:lnTo>
                  <a:lnTo>
                    <a:pt x="233" y="441"/>
                  </a:lnTo>
                  <a:lnTo>
                    <a:pt x="244" y="434"/>
                  </a:lnTo>
                  <a:lnTo>
                    <a:pt x="264" y="401"/>
                  </a:lnTo>
                  <a:lnTo>
                    <a:pt x="284" y="344"/>
                  </a:lnTo>
                  <a:lnTo>
                    <a:pt x="294" y="277"/>
                  </a:lnTo>
                  <a:lnTo>
                    <a:pt x="290" y="214"/>
                  </a:lnTo>
                  <a:lnTo>
                    <a:pt x="280" y="164"/>
                  </a:lnTo>
                  <a:lnTo>
                    <a:pt x="270" y="107"/>
                  </a:lnTo>
                  <a:lnTo>
                    <a:pt x="260" y="50"/>
                  </a:lnTo>
                  <a:lnTo>
                    <a:pt x="247" y="0"/>
                  </a:lnTo>
                  <a:lnTo>
                    <a:pt x="233" y="40"/>
                  </a:lnTo>
                  <a:lnTo>
                    <a:pt x="217" y="70"/>
                  </a:lnTo>
                  <a:lnTo>
                    <a:pt x="203" y="94"/>
                  </a:lnTo>
                  <a:lnTo>
                    <a:pt x="190" y="117"/>
                  </a:lnTo>
                  <a:lnTo>
                    <a:pt x="177" y="134"/>
                  </a:lnTo>
                  <a:lnTo>
                    <a:pt x="163" y="147"/>
                  </a:lnTo>
                  <a:lnTo>
                    <a:pt x="153" y="160"/>
                  </a:lnTo>
                  <a:lnTo>
                    <a:pt x="143" y="174"/>
                  </a:lnTo>
                  <a:lnTo>
                    <a:pt x="130" y="194"/>
                  </a:lnTo>
                  <a:lnTo>
                    <a:pt x="113" y="210"/>
                  </a:lnTo>
                  <a:lnTo>
                    <a:pt x="100" y="227"/>
                  </a:lnTo>
                  <a:lnTo>
                    <a:pt x="86" y="244"/>
                  </a:lnTo>
                  <a:close/>
                </a:path>
              </a:pathLst>
            </a:custGeom>
            <a:gradFill rotWithShape="0">
              <a:gsLst>
                <a:gs pos="0">
                  <a:srgbClr val="5e2f00"/>
                </a:gs>
                <a:gs pos="50000">
                  <a:srgbClr val="cc6600"/>
                </a:gs>
                <a:gs pos="100000">
                  <a:srgbClr val="5e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75560" y="5654880"/>
              <a:ext cx="97560" cy="70560"/>
            </a:xfrm>
            <a:custGeom>
              <a:avLst/>
              <a:gdLst/>
              <a:ahLst/>
              <a:rect l="l" t="t" r="r" b="b"/>
              <a:pathLst>
                <a:path w="190" h="130">
                  <a:moveTo>
                    <a:pt x="190" y="80"/>
                  </a:moveTo>
                  <a:lnTo>
                    <a:pt x="167" y="46"/>
                  </a:lnTo>
                  <a:lnTo>
                    <a:pt x="150" y="23"/>
                  </a:lnTo>
                  <a:lnTo>
                    <a:pt x="133" y="10"/>
                  </a:lnTo>
                  <a:lnTo>
                    <a:pt x="113" y="3"/>
                  </a:lnTo>
                  <a:lnTo>
                    <a:pt x="83" y="0"/>
                  </a:lnTo>
                  <a:lnTo>
                    <a:pt x="60" y="3"/>
                  </a:lnTo>
                  <a:lnTo>
                    <a:pt x="40" y="10"/>
                  </a:lnTo>
                  <a:lnTo>
                    <a:pt x="27" y="20"/>
                  </a:lnTo>
                  <a:lnTo>
                    <a:pt x="13" y="30"/>
                  </a:lnTo>
                  <a:lnTo>
                    <a:pt x="7" y="40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17" y="80"/>
                  </a:lnTo>
                  <a:lnTo>
                    <a:pt x="33" y="100"/>
                  </a:lnTo>
                  <a:lnTo>
                    <a:pt x="50" y="116"/>
                  </a:lnTo>
                  <a:lnTo>
                    <a:pt x="73" y="126"/>
                  </a:lnTo>
                  <a:lnTo>
                    <a:pt x="97" y="130"/>
                  </a:lnTo>
                  <a:lnTo>
                    <a:pt x="117" y="126"/>
                  </a:lnTo>
                  <a:lnTo>
                    <a:pt x="137" y="120"/>
                  </a:lnTo>
                  <a:lnTo>
                    <a:pt x="154" y="110"/>
                  </a:lnTo>
                  <a:lnTo>
                    <a:pt x="170" y="100"/>
                  </a:lnTo>
                  <a:lnTo>
                    <a:pt x="180" y="90"/>
                  </a:lnTo>
                  <a:lnTo>
                    <a:pt x="187" y="83"/>
                  </a:lnTo>
                  <a:lnTo>
                    <a:pt x="19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1760" y="5634720"/>
              <a:ext cx="94320" cy="72000"/>
            </a:xfrm>
            <a:custGeom>
              <a:avLst/>
              <a:gdLst/>
              <a:ahLst/>
              <a:rect l="l" t="t" r="r" b="b"/>
              <a:pathLst>
                <a:path w="183" h="133">
                  <a:moveTo>
                    <a:pt x="0" y="100"/>
                  </a:moveTo>
                  <a:lnTo>
                    <a:pt x="16" y="63"/>
                  </a:lnTo>
                  <a:lnTo>
                    <a:pt x="30" y="37"/>
                  </a:lnTo>
                  <a:lnTo>
                    <a:pt x="46" y="20"/>
                  </a:lnTo>
                  <a:lnTo>
                    <a:pt x="63" y="10"/>
                  </a:lnTo>
                  <a:lnTo>
                    <a:pt x="90" y="3"/>
                  </a:lnTo>
                  <a:lnTo>
                    <a:pt x="117" y="0"/>
                  </a:lnTo>
                  <a:lnTo>
                    <a:pt x="137" y="6"/>
                  </a:lnTo>
                  <a:lnTo>
                    <a:pt x="153" y="13"/>
                  </a:lnTo>
                  <a:lnTo>
                    <a:pt x="167" y="20"/>
                  </a:lnTo>
                  <a:lnTo>
                    <a:pt x="177" y="26"/>
                  </a:lnTo>
                  <a:lnTo>
                    <a:pt x="180" y="33"/>
                  </a:lnTo>
                  <a:lnTo>
                    <a:pt x="183" y="37"/>
                  </a:lnTo>
                  <a:lnTo>
                    <a:pt x="173" y="67"/>
                  </a:lnTo>
                  <a:lnTo>
                    <a:pt x="160" y="93"/>
                  </a:lnTo>
                  <a:lnTo>
                    <a:pt x="143" y="110"/>
                  </a:lnTo>
                  <a:lnTo>
                    <a:pt x="123" y="123"/>
                  </a:lnTo>
                  <a:lnTo>
                    <a:pt x="103" y="130"/>
                  </a:lnTo>
                  <a:lnTo>
                    <a:pt x="80" y="133"/>
                  </a:lnTo>
                  <a:lnTo>
                    <a:pt x="60" y="130"/>
                  </a:lnTo>
                  <a:lnTo>
                    <a:pt x="40" y="123"/>
                  </a:lnTo>
                  <a:lnTo>
                    <a:pt x="23" y="117"/>
                  </a:lnTo>
                  <a:lnTo>
                    <a:pt x="10" y="107"/>
                  </a:lnTo>
                  <a:lnTo>
                    <a:pt x="3" y="103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7080" y="5663520"/>
              <a:ext cx="75600" cy="52560"/>
            </a:xfrm>
            <a:custGeom>
              <a:avLst/>
              <a:gdLst/>
              <a:ahLst/>
              <a:rect l="l" t="t" r="r" b="b"/>
              <a:pathLst>
                <a:path w="147" h="97">
                  <a:moveTo>
                    <a:pt x="0" y="30"/>
                  </a:moveTo>
                  <a:lnTo>
                    <a:pt x="20" y="14"/>
                  </a:lnTo>
                  <a:lnTo>
                    <a:pt x="40" y="4"/>
                  </a:lnTo>
                  <a:lnTo>
                    <a:pt x="60" y="0"/>
                  </a:lnTo>
                  <a:lnTo>
                    <a:pt x="80" y="0"/>
                  </a:lnTo>
                  <a:lnTo>
                    <a:pt x="110" y="10"/>
                  </a:lnTo>
                  <a:lnTo>
                    <a:pt x="131" y="30"/>
                  </a:lnTo>
                  <a:lnTo>
                    <a:pt x="144" y="47"/>
                  </a:lnTo>
                  <a:lnTo>
                    <a:pt x="147" y="57"/>
                  </a:lnTo>
                  <a:lnTo>
                    <a:pt x="127" y="77"/>
                  </a:lnTo>
                  <a:lnTo>
                    <a:pt x="107" y="90"/>
                  </a:lnTo>
                  <a:lnTo>
                    <a:pt x="90" y="97"/>
                  </a:lnTo>
                  <a:lnTo>
                    <a:pt x="70" y="97"/>
                  </a:lnTo>
                  <a:lnTo>
                    <a:pt x="27" y="84"/>
                  </a:lnTo>
                  <a:lnTo>
                    <a:pt x="7" y="60"/>
                  </a:lnTo>
                  <a:lnTo>
                    <a:pt x="0" y="4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2200" y="5643360"/>
              <a:ext cx="70560" cy="56520"/>
            </a:xfrm>
            <a:custGeom>
              <a:avLst/>
              <a:gdLst/>
              <a:ahLst/>
              <a:rect l="l" t="t" r="r" b="b"/>
              <a:pathLst>
                <a:path w="137" h="104">
                  <a:moveTo>
                    <a:pt x="137" y="21"/>
                  </a:moveTo>
                  <a:lnTo>
                    <a:pt x="117" y="7"/>
                  </a:lnTo>
                  <a:lnTo>
                    <a:pt x="97" y="0"/>
                  </a:lnTo>
                  <a:lnTo>
                    <a:pt x="77" y="0"/>
                  </a:lnTo>
                  <a:lnTo>
                    <a:pt x="57" y="4"/>
                  </a:lnTo>
                  <a:lnTo>
                    <a:pt x="26" y="21"/>
                  </a:lnTo>
                  <a:lnTo>
                    <a:pt x="10" y="44"/>
                  </a:lnTo>
                  <a:lnTo>
                    <a:pt x="3" y="64"/>
                  </a:lnTo>
                  <a:lnTo>
                    <a:pt x="0" y="74"/>
                  </a:lnTo>
                  <a:lnTo>
                    <a:pt x="23" y="91"/>
                  </a:lnTo>
                  <a:lnTo>
                    <a:pt x="47" y="101"/>
                  </a:lnTo>
                  <a:lnTo>
                    <a:pt x="63" y="104"/>
                  </a:lnTo>
                  <a:lnTo>
                    <a:pt x="83" y="101"/>
                  </a:lnTo>
                  <a:lnTo>
                    <a:pt x="120" y="77"/>
                  </a:lnTo>
                  <a:lnTo>
                    <a:pt x="137" y="51"/>
                  </a:lnTo>
                  <a:lnTo>
                    <a:pt x="137" y="31"/>
                  </a:lnTo>
                  <a:lnTo>
                    <a:pt x="137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01120" y="5656320"/>
              <a:ext cx="53640" cy="50400"/>
            </a:xfrm>
            <a:custGeom>
              <a:avLst/>
              <a:gdLst/>
              <a:ahLst/>
              <a:rect l="l" t="t" r="r" b="b"/>
              <a:pathLst>
                <a:path w="104" h="93">
                  <a:moveTo>
                    <a:pt x="50" y="93"/>
                  </a:moveTo>
                  <a:lnTo>
                    <a:pt x="70" y="90"/>
                  </a:lnTo>
                  <a:lnTo>
                    <a:pt x="87" y="80"/>
                  </a:lnTo>
                  <a:lnTo>
                    <a:pt x="100" y="67"/>
                  </a:lnTo>
                  <a:lnTo>
                    <a:pt x="104" y="47"/>
                  </a:lnTo>
                  <a:lnTo>
                    <a:pt x="100" y="30"/>
                  </a:lnTo>
                  <a:lnTo>
                    <a:pt x="87" y="13"/>
                  </a:lnTo>
                  <a:lnTo>
                    <a:pt x="70" y="3"/>
                  </a:lnTo>
                  <a:lnTo>
                    <a:pt x="50" y="0"/>
                  </a:lnTo>
                  <a:lnTo>
                    <a:pt x="30" y="3"/>
                  </a:lnTo>
                  <a:lnTo>
                    <a:pt x="17" y="13"/>
                  </a:lnTo>
                  <a:lnTo>
                    <a:pt x="3" y="30"/>
                  </a:lnTo>
                  <a:lnTo>
                    <a:pt x="0" y="47"/>
                  </a:lnTo>
                  <a:lnTo>
                    <a:pt x="3" y="67"/>
                  </a:lnTo>
                  <a:lnTo>
                    <a:pt x="17" y="80"/>
                  </a:lnTo>
                  <a:lnTo>
                    <a:pt x="30" y="90"/>
                  </a:lnTo>
                  <a:lnTo>
                    <a:pt x="5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8680" y="5640120"/>
              <a:ext cx="51480" cy="4896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57" y="90"/>
                  </a:moveTo>
                  <a:lnTo>
                    <a:pt x="37" y="90"/>
                  </a:lnTo>
                  <a:lnTo>
                    <a:pt x="20" y="83"/>
                  </a:lnTo>
                  <a:lnTo>
                    <a:pt x="7" y="70"/>
                  </a:lnTo>
                  <a:lnTo>
                    <a:pt x="0" y="53"/>
                  </a:lnTo>
                  <a:lnTo>
                    <a:pt x="0" y="37"/>
                  </a:lnTo>
                  <a:lnTo>
                    <a:pt x="10" y="20"/>
                  </a:lnTo>
                  <a:lnTo>
                    <a:pt x="23" y="6"/>
                  </a:lnTo>
                  <a:lnTo>
                    <a:pt x="44" y="0"/>
                  </a:lnTo>
                  <a:lnTo>
                    <a:pt x="64" y="0"/>
                  </a:lnTo>
                  <a:lnTo>
                    <a:pt x="80" y="6"/>
                  </a:lnTo>
                  <a:lnTo>
                    <a:pt x="94" y="20"/>
                  </a:lnTo>
                  <a:lnTo>
                    <a:pt x="100" y="37"/>
                  </a:lnTo>
                  <a:lnTo>
                    <a:pt x="100" y="53"/>
                  </a:lnTo>
                  <a:lnTo>
                    <a:pt x="94" y="70"/>
                  </a:lnTo>
                  <a:lnTo>
                    <a:pt x="77" y="83"/>
                  </a:lnTo>
                  <a:lnTo>
                    <a:pt x="57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7040" y="5665680"/>
              <a:ext cx="16920" cy="180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7" y="33"/>
                  </a:moveTo>
                  <a:lnTo>
                    <a:pt x="23" y="33"/>
                  </a:lnTo>
                  <a:lnTo>
                    <a:pt x="30" y="30"/>
                  </a:lnTo>
                  <a:lnTo>
                    <a:pt x="33" y="23"/>
                  </a:lnTo>
                  <a:lnTo>
                    <a:pt x="33" y="16"/>
                  </a:lnTo>
                  <a:lnTo>
                    <a:pt x="33" y="10"/>
                  </a:lnTo>
                  <a:lnTo>
                    <a:pt x="30" y="3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3"/>
                  </a:lnTo>
                  <a:lnTo>
                    <a:pt x="3" y="10"/>
                  </a:lnTo>
                  <a:lnTo>
                    <a:pt x="0" y="16"/>
                  </a:lnTo>
                  <a:lnTo>
                    <a:pt x="3" y="23"/>
                  </a:lnTo>
                  <a:lnTo>
                    <a:pt x="7" y="30"/>
                  </a:lnTo>
                  <a:lnTo>
                    <a:pt x="10" y="33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7680" y="5650920"/>
              <a:ext cx="15120" cy="162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7" y="30"/>
                  </a:moveTo>
                  <a:lnTo>
                    <a:pt x="10" y="30"/>
                  </a:lnTo>
                  <a:lnTo>
                    <a:pt x="6" y="27"/>
                  </a:lnTo>
                  <a:lnTo>
                    <a:pt x="3" y="23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3" y="7"/>
                  </a:lnTo>
                  <a:lnTo>
                    <a:pt x="6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30" y="7"/>
                  </a:lnTo>
                  <a:lnTo>
                    <a:pt x="30" y="13"/>
                  </a:lnTo>
                  <a:lnTo>
                    <a:pt x="30" y="17"/>
                  </a:lnTo>
                  <a:lnTo>
                    <a:pt x="27" y="23"/>
                  </a:lnTo>
                  <a:lnTo>
                    <a:pt x="23" y="27"/>
                  </a:lnTo>
                  <a:lnTo>
                    <a:pt x="1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2640" y="5769000"/>
              <a:ext cx="61560" cy="5976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37" y="80"/>
                  </a:moveTo>
                  <a:lnTo>
                    <a:pt x="47" y="90"/>
                  </a:lnTo>
                  <a:lnTo>
                    <a:pt x="57" y="100"/>
                  </a:lnTo>
                  <a:lnTo>
                    <a:pt x="60" y="110"/>
                  </a:lnTo>
                  <a:lnTo>
                    <a:pt x="64" y="107"/>
                  </a:lnTo>
                  <a:lnTo>
                    <a:pt x="84" y="83"/>
                  </a:lnTo>
                  <a:lnTo>
                    <a:pt x="107" y="57"/>
                  </a:lnTo>
                  <a:lnTo>
                    <a:pt x="120" y="37"/>
                  </a:lnTo>
                  <a:lnTo>
                    <a:pt x="114" y="17"/>
                  </a:lnTo>
                  <a:lnTo>
                    <a:pt x="104" y="10"/>
                  </a:lnTo>
                  <a:lnTo>
                    <a:pt x="90" y="3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43" y="0"/>
                  </a:lnTo>
                  <a:lnTo>
                    <a:pt x="30" y="7"/>
                  </a:lnTo>
                  <a:lnTo>
                    <a:pt x="13" y="17"/>
                  </a:lnTo>
                  <a:lnTo>
                    <a:pt x="0" y="30"/>
                  </a:lnTo>
                  <a:lnTo>
                    <a:pt x="3" y="47"/>
                  </a:lnTo>
                  <a:lnTo>
                    <a:pt x="17" y="63"/>
                  </a:lnTo>
                  <a:lnTo>
                    <a:pt x="30" y="77"/>
                  </a:lnTo>
                  <a:lnTo>
                    <a:pt x="37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42320" y="5376600"/>
              <a:ext cx="102960" cy="106920"/>
            </a:xfrm>
            <a:custGeom>
              <a:avLst/>
              <a:gdLst/>
              <a:ahLst/>
              <a:rect l="l" t="t" r="r" b="b"/>
              <a:pathLst>
                <a:path w="200" h="197">
                  <a:moveTo>
                    <a:pt x="200" y="0"/>
                  </a:moveTo>
                  <a:lnTo>
                    <a:pt x="170" y="26"/>
                  </a:lnTo>
                  <a:lnTo>
                    <a:pt x="147" y="46"/>
                  </a:lnTo>
                  <a:lnTo>
                    <a:pt x="133" y="63"/>
                  </a:lnTo>
                  <a:lnTo>
                    <a:pt x="123" y="80"/>
                  </a:lnTo>
                  <a:lnTo>
                    <a:pt x="113" y="93"/>
                  </a:lnTo>
                  <a:lnTo>
                    <a:pt x="107" y="106"/>
                  </a:lnTo>
                  <a:lnTo>
                    <a:pt x="103" y="120"/>
                  </a:lnTo>
                  <a:lnTo>
                    <a:pt x="93" y="133"/>
                  </a:lnTo>
                  <a:lnTo>
                    <a:pt x="66" y="160"/>
                  </a:lnTo>
                  <a:lnTo>
                    <a:pt x="36" y="180"/>
                  </a:lnTo>
                  <a:lnTo>
                    <a:pt x="10" y="193"/>
                  </a:lnTo>
                  <a:lnTo>
                    <a:pt x="0" y="197"/>
                  </a:lnTo>
                  <a:lnTo>
                    <a:pt x="30" y="190"/>
                  </a:lnTo>
                  <a:lnTo>
                    <a:pt x="53" y="180"/>
                  </a:lnTo>
                  <a:lnTo>
                    <a:pt x="73" y="170"/>
                  </a:lnTo>
                  <a:lnTo>
                    <a:pt x="90" y="157"/>
                  </a:lnTo>
                  <a:lnTo>
                    <a:pt x="103" y="143"/>
                  </a:lnTo>
                  <a:lnTo>
                    <a:pt x="117" y="127"/>
                  </a:lnTo>
                  <a:lnTo>
                    <a:pt x="127" y="106"/>
                  </a:lnTo>
                  <a:lnTo>
                    <a:pt x="140" y="86"/>
                  </a:lnTo>
                  <a:lnTo>
                    <a:pt x="167" y="50"/>
                  </a:lnTo>
                  <a:lnTo>
                    <a:pt x="187" y="23"/>
                  </a:lnTo>
                  <a:lnTo>
                    <a:pt x="197" y="6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5560" y="5478480"/>
              <a:ext cx="68760" cy="666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7" y="70"/>
                  </a:moveTo>
                  <a:lnTo>
                    <a:pt x="20" y="56"/>
                  </a:lnTo>
                  <a:lnTo>
                    <a:pt x="34" y="43"/>
                  </a:lnTo>
                  <a:lnTo>
                    <a:pt x="47" y="33"/>
                  </a:lnTo>
                  <a:lnTo>
                    <a:pt x="60" y="23"/>
                  </a:lnTo>
                  <a:lnTo>
                    <a:pt x="77" y="13"/>
                  </a:lnTo>
                  <a:lnTo>
                    <a:pt x="94" y="6"/>
                  </a:lnTo>
                  <a:lnTo>
                    <a:pt x="114" y="0"/>
                  </a:lnTo>
                  <a:lnTo>
                    <a:pt x="134" y="0"/>
                  </a:lnTo>
                  <a:lnTo>
                    <a:pt x="107" y="6"/>
                  </a:lnTo>
                  <a:lnTo>
                    <a:pt x="84" y="16"/>
                  </a:lnTo>
                  <a:lnTo>
                    <a:pt x="67" y="26"/>
                  </a:lnTo>
                  <a:lnTo>
                    <a:pt x="50" y="36"/>
                  </a:lnTo>
                  <a:lnTo>
                    <a:pt x="40" y="46"/>
                  </a:lnTo>
                  <a:lnTo>
                    <a:pt x="34" y="56"/>
                  </a:lnTo>
                  <a:lnTo>
                    <a:pt x="27" y="60"/>
                  </a:lnTo>
                  <a:lnTo>
                    <a:pt x="27" y="63"/>
                  </a:lnTo>
                  <a:lnTo>
                    <a:pt x="67" y="46"/>
                  </a:lnTo>
                  <a:lnTo>
                    <a:pt x="97" y="43"/>
                  </a:lnTo>
                  <a:lnTo>
                    <a:pt x="117" y="46"/>
                  </a:lnTo>
                  <a:lnTo>
                    <a:pt x="124" y="50"/>
                  </a:lnTo>
                  <a:lnTo>
                    <a:pt x="101" y="53"/>
                  </a:lnTo>
                  <a:lnTo>
                    <a:pt x="77" y="56"/>
                  </a:lnTo>
                  <a:lnTo>
                    <a:pt x="57" y="63"/>
                  </a:lnTo>
                  <a:lnTo>
                    <a:pt x="44" y="70"/>
                  </a:lnTo>
                  <a:lnTo>
                    <a:pt x="30" y="76"/>
                  </a:lnTo>
                  <a:lnTo>
                    <a:pt x="17" y="86"/>
                  </a:lnTo>
                  <a:lnTo>
                    <a:pt x="10" y="100"/>
                  </a:lnTo>
                  <a:lnTo>
                    <a:pt x="4" y="113"/>
                  </a:lnTo>
                  <a:lnTo>
                    <a:pt x="0" y="123"/>
                  </a:lnTo>
                  <a:lnTo>
                    <a:pt x="0" y="106"/>
                  </a:lnTo>
                  <a:lnTo>
                    <a:pt x="4" y="83"/>
                  </a:lnTo>
                  <a:lnTo>
                    <a:pt x="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0560" y="5763600"/>
              <a:ext cx="134280" cy="23040"/>
            </a:xfrm>
            <a:custGeom>
              <a:avLst/>
              <a:gdLst/>
              <a:ahLst/>
              <a:rect l="l" t="t" r="r" b="b"/>
              <a:pathLst>
                <a:path w="261" h="43">
                  <a:moveTo>
                    <a:pt x="0" y="40"/>
                  </a:moveTo>
                  <a:lnTo>
                    <a:pt x="21" y="27"/>
                  </a:lnTo>
                  <a:lnTo>
                    <a:pt x="37" y="20"/>
                  </a:lnTo>
                  <a:lnTo>
                    <a:pt x="54" y="13"/>
                  </a:lnTo>
                  <a:lnTo>
                    <a:pt x="64" y="10"/>
                  </a:lnTo>
                  <a:lnTo>
                    <a:pt x="74" y="7"/>
                  </a:lnTo>
                  <a:lnTo>
                    <a:pt x="84" y="7"/>
                  </a:lnTo>
                  <a:lnTo>
                    <a:pt x="94" y="3"/>
                  </a:lnTo>
                  <a:lnTo>
                    <a:pt x="104" y="3"/>
                  </a:lnTo>
                  <a:lnTo>
                    <a:pt x="117" y="0"/>
                  </a:lnTo>
                  <a:lnTo>
                    <a:pt x="141" y="0"/>
                  </a:lnTo>
                  <a:lnTo>
                    <a:pt x="164" y="0"/>
                  </a:lnTo>
                  <a:lnTo>
                    <a:pt x="194" y="3"/>
                  </a:lnTo>
                  <a:lnTo>
                    <a:pt x="218" y="3"/>
                  </a:lnTo>
                  <a:lnTo>
                    <a:pt x="241" y="7"/>
                  </a:lnTo>
                  <a:lnTo>
                    <a:pt x="254" y="7"/>
                  </a:lnTo>
                  <a:lnTo>
                    <a:pt x="261" y="7"/>
                  </a:lnTo>
                  <a:lnTo>
                    <a:pt x="218" y="7"/>
                  </a:lnTo>
                  <a:lnTo>
                    <a:pt x="184" y="7"/>
                  </a:lnTo>
                  <a:lnTo>
                    <a:pt x="154" y="7"/>
                  </a:lnTo>
                  <a:lnTo>
                    <a:pt x="134" y="7"/>
                  </a:lnTo>
                  <a:lnTo>
                    <a:pt x="117" y="7"/>
                  </a:lnTo>
                  <a:lnTo>
                    <a:pt x="104" y="7"/>
                  </a:lnTo>
                  <a:lnTo>
                    <a:pt x="97" y="10"/>
                  </a:lnTo>
                  <a:lnTo>
                    <a:pt x="91" y="10"/>
                  </a:lnTo>
                  <a:lnTo>
                    <a:pt x="64" y="17"/>
                  </a:lnTo>
                  <a:lnTo>
                    <a:pt x="34" y="27"/>
                  </a:lnTo>
                  <a:lnTo>
                    <a:pt x="11" y="40"/>
                  </a:lnTo>
                  <a:lnTo>
                    <a:pt x="0" y="43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6320" y="5779800"/>
              <a:ext cx="163440" cy="21600"/>
            </a:xfrm>
            <a:custGeom>
              <a:avLst/>
              <a:gdLst/>
              <a:ahLst/>
              <a:rect l="l" t="t" r="r" b="b"/>
              <a:pathLst>
                <a:path w="317" h="40">
                  <a:moveTo>
                    <a:pt x="3" y="23"/>
                  </a:moveTo>
                  <a:lnTo>
                    <a:pt x="30" y="13"/>
                  </a:lnTo>
                  <a:lnTo>
                    <a:pt x="53" y="7"/>
                  </a:lnTo>
                  <a:lnTo>
                    <a:pt x="70" y="3"/>
                  </a:lnTo>
                  <a:lnTo>
                    <a:pt x="86" y="0"/>
                  </a:lnTo>
                  <a:lnTo>
                    <a:pt x="100" y="0"/>
                  </a:lnTo>
                  <a:lnTo>
                    <a:pt x="110" y="0"/>
                  </a:lnTo>
                  <a:lnTo>
                    <a:pt x="120" y="0"/>
                  </a:lnTo>
                  <a:lnTo>
                    <a:pt x="133" y="0"/>
                  </a:lnTo>
                  <a:lnTo>
                    <a:pt x="150" y="3"/>
                  </a:lnTo>
                  <a:lnTo>
                    <a:pt x="177" y="7"/>
                  </a:lnTo>
                  <a:lnTo>
                    <a:pt x="207" y="13"/>
                  </a:lnTo>
                  <a:lnTo>
                    <a:pt x="237" y="20"/>
                  </a:lnTo>
                  <a:lnTo>
                    <a:pt x="267" y="27"/>
                  </a:lnTo>
                  <a:lnTo>
                    <a:pt x="294" y="33"/>
                  </a:lnTo>
                  <a:lnTo>
                    <a:pt x="310" y="37"/>
                  </a:lnTo>
                  <a:lnTo>
                    <a:pt x="317" y="40"/>
                  </a:lnTo>
                  <a:lnTo>
                    <a:pt x="270" y="33"/>
                  </a:lnTo>
                  <a:lnTo>
                    <a:pt x="230" y="23"/>
                  </a:lnTo>
                  <a:lnTo>
                    <a:pt x="197" y="20"/>
                  </a:lnTo>
                  <a:lnTo>
                    <a:pt x="170" y="13"/>
                  </a:lnTo>
                  <a:lnTo>
                    <a:pt x="150" y="10"/>
                  </a:lnTo>
                  <a:lnTo>
                    <a:pt x="133" y="10"/>
                  </a:lnTo>
                  <a:lnTo>
                    <a:pt x="120" y="7"/>
                  </a:lnTo>
                  <a:lnTo>
                    <a:pt x="113" y="7"/>
                  </a:lnTo>
                  <a:lnTo>
                    <a:pt x="96" y="7"/>
                  </a:lnTo>
                  <a:lnTo>
                    <a:pt x="80" y="10"/>
                  </a:lnTo>
                  <a:lnTo>
                    <a:pt x="60" y="13"/>
                  </a:lnTo>
                  <a:lnTo>
                    <a:pt x="43" y="17"/>
                  </a:lnTo>
                  <a:lnTo>
                    <a:pt x="26" y="20"/>
                  </a:lnTo>
                  <a:lnTo>
                    <a:pt x="13" y="23"/>
                  </a:lnTo>
                  <a:lnTo>
                    <a:pt x="3" y="27"/>
                  </a:lnTo>
                  <a:lnTo>
                    <a:pt x="0" y="27"/>
                  </a:lnTo>
                  <a:lnTo>
                    <a:pt x="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18200" y="5797800"/>
              <a:ext cx="132120" cy="36360"/>
            </a:xfrm>
            <a:custGeom>
              <a:avLst/>
              <a:gdLst/>
              <a:ahLst/>
              <a:rect l="l" t="t" r="r" b="b"/>
              <a:pathLst>
                <a:path w="257" h="67">
                  <a:moveTo>
                    <a:pt x="0" y="7"/>
                  </a:moveTo>
                  <a:lnTo>
                    <a:pt x="23" y="4"/>
                  </a:lnTo>
                  <a:lnTo>
                    <a:pt x="43" y="0"/>
                  </a:lnTo>
                  <a:lnTo>
                    <a:pt x="60" y="0"/>
                  </a:lnTo>
                  <a:lnTo>
                    <a:pt x="73" y="0"/>
                  </a:lnTo>
                  <a:lnTo>
                    <a:pt x="83" y="4"/>
                  </a:lnTo>
                  <a:lnTo>
                    <a:pt x="93" y="4"/>
                  </a:lnTo>
                  <a:lnTo>
                    <a:pt x="103" y="7"/>
                  </a:lnTo>
                  <a:lnTo>
                    <a:pt x="113" y="7"/>
                  </a:lnTo>
                  <a:lnTo>
                    <a:pt x="127" y="10"/>
                  </a:lnTo>
                  <a:lnTo>
                    <a:pt x="147" y="20"/>
                  </a:lnTo>
                  <a:lnTo>
                    <a:pt x="170" y="30"/>
                  </a:lnTo>
                  <a:lnTo>
                    <a:pt x="197" y="40"/>
                  </a:lnTo>
                  <a:lnTo>
                    <a:pt x="220" y="50"/>
                  </a:lnTo>
                  <a:lnTo>
                    <a:pt x="237" y="57"/>
                  </a:lnTo>
                  <a:lnTo>
                    <a:pt x="250" y="64"/>
                  </a:lnTo>
                  <a:lnTo>
                    <a:pt x="257" y="67"/>
                  </a:lnTo>
                  <a:lnTo>
                    <a:pt x="217" y="54"/>
                  </a:lnTo>
                  <a:lnTo>
                    <a:pt x="187" y="40"/>
                  </a:lnTo>
                  <a:lnTo>
                    <a:pt x="160" y="30"/>
                  </a:lnTo>
                  <a:lnTo>
                    <a:pt x="140" y="24"/>
                  </a:lnTo>
                  <a:lnTo>
                    <a:pt x="124" y="17"/>
                  </a:lnTo>
                  <a:lnTo>
                    <a:pt x="110" y="14"/>
                  </a:lnTo>
                  <a:lnTo>
                    <a:pt x="103" y="10"/>
                  </a:lnTo>
                  <a:lnTo>
                    <a:pt x="97" y="10"/>
                  </a:lnTo>
                  <a:lnTo>
                    <a:pt x="70" y="7"/>
                  </a:lnTo>
                  <a:lnTo>
                    <a:pt x="37" y="7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44520" y="5454360"/>
              <a:ext cx="144720" cy="98280"/>
            </a:xfrm>
            <a:custGeom>
              <a:avLst/>
              <a:gdLst/>
              <a:ahLst/>
              <a:rect l="l" t="t" r="r" b="b"/>
              <a:pathLst>
                <a:path w="281" h="181">
                  <a:moveTo>
                    <a:pt x="0" y="0"/>
                  </a:moveTo>
                  <a:lnTo>
                    <a:pt x="33" y="7"/>
                  </a:lnTo>
                  <a:lnTo>
                    <a:pt x="73" y="17"/>
                  </a:lnTo>
                  <a:lnTo>
                    <a:pt x="114" y="30"/>
                  </a:lnTo>
                  <a:lnTo>
                    <a:pt x="154" y="47"/>
                  </a:lnTo>
                  <a:lnTo>
                    <a:pt x="190" y="70"/>
                  </a:lnTo>
                  <a:lnTo>
                    <a:pt x="227" y="100"/>
                  </a:lnTo>
                  <a:lnTo>
                    <a:pt x="257" y="130"/>
                  </a:lnTo>
                  <a:lnTo>
                    <a:pt x="281" y="167"/>
                  </a:lnTo>
                  <a:lnTo>
                    <a:pt x="247" y="154"/>
                  </a:lnTo>
                  <a:lnTo>
                    <a:pt x="250" y="181"/>
                  </a:lnTo>
                  <a:lnTo>
                    <a:pt x="230" y="167"/>
                  </a:lnTo>
                  <a:lnTo>
                    <a:pt x="207" y="154"/>
                  </a:lnTo>
                  <a:lnTo>
                    <a:pt x="187" y="144"/>
                  </a:lnTo>
                  <a:lnTo>
                    <a:pt x="170" y="134"/>
                  </a:lnTo>
                  <a:lnTo>
                    <a:pt x="150" y="127"/>
                  </a:lnTo>
                  <a:lnTo>
                    <a:pt x="140" y="120"/>
                  </a:lnTo>
                  <a:lnTo>
                    <a:pt x="130" y="117"/>
                  </a:lnTo>
                  <a:lnTo>
                    <a:pt x="127" y="117"/>
                  </a:lnTo>
                  <a:lnTo>
                    <a:pt x="147" y="117"/>
                  </a:lnTo>
                  <a:lnTo>
                    <a:pt x="167" y="120"/>
                  </a:lnTo>
                  <a:lnTo>
                    <a:pt x="177" y="127"/>
                  </a:lnTo>
                  <a:lnTo>
                    <a:pt x="184" y="127"/>
                  </a:lnTo>
                  <a:lnTo>
                    <a:pt x="157" y="97"/>
                  </a:lnTo>
                  <a:lnTo>
                    <a:pt x="170" y="104"/>
                  </a:lnTo>
                  <a:lnTo>
                    <a:pt x="177" y="107"/>
                  </a:lnTo>
                  <a:lnTo>
                    <a:pt x="180" y="110"/>
                  </a:lnTo>
                  <a:lnTo>
                    <a:pt x="180" y="110"/>
                  </a:lnTo>
                  <a:lnTo>
                    <a:pt x="210" y="120"/>
                  </a:lnTo>
                  <a:lnTo>
                    <a:pt x="184" y="90"/>
                  </a:lnTo>
                  <a:lnTo>
                    <a:pt x="150" y="64"/>
                  </a:lnTo>
                  <a:lnTo>
                    <a:pt x="117" y="44"/>
                  </a:lnTo>
                  <a:lnTo>
                    <a:pt x="80" y="27"/>
                  </a:lnTo>
                  <a:lnTo>
                    <a:pt x="50" y="14"/>
                  </a:lnTo>
                  <a:lnTo>
                    <a:pt x="23" y="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70080" y="5530680"/>
              <a:ext cx="68760" cy="65880"/>
            </a:xfrm>
            <a:custGeom>
              <a:avLst/>
              <a:gdLst/>
              <a:ahLst/>
              <a:rect l="l" t="t" r="r" b="b"/>
              <a:pathLst>
                <a:path w="134" h="121">
                  <a:moveTo>
                    <a:pt x="127" y="71"/>
                  </a:moveTo>
                  <a:lnTo>
                    <a:pt x="114" y="57"/>
                  </a:lnTo>
                  <a:lnTo>
                    <a:pt x="104" y="44"/>
                  </a:lnTo>
                  <a:lnTo>
                    <a:pt x="90" y="34"/>
                  </a:lnTo>
                  <a:lnTo>
                    <a:pt x="74" y="20"/>
                  </a:lnTo>
                  <a:lnTo>
                    <a:pt x="57" y="14"/>
                  </a:lnTo>
                  <a:lnTo>
                    <a:pt x="40" y="7"/>
                  </a:lnTo>
                  <a:lnTo>
                    <a:pt x="20" y="0"/>
                  </a:lnTo>
                  <a:lnTo>
                    <a:pt x="0" y="0"/>
                  </a:lnTo>
                  <a:lnTo>
                    <a:pt x="27" y="7"/>
                  </a:lnTo>
                  <a:lnTo>
                    <a:pt x="50" y="14"/>
                  </a:lnTo>
                  <a:lnTo>
                    <a:pt x="67" y="24"/>
                  </a:lnTo>
                  <a:lnTo>
                    <a:pt x="84" y="34"/>
                  </a:lnTo>
                  <a:lnTo>
                    <a:pt x="94" y="44"/>
                  </a:lnTo>
                  <a:lnTo>
                    <a:pt x="100" y="54"/>
                  </a:lnTo>
                  <a:lnTo>
                    <a:pt x="107" y="57"/>
                  </a:lnTo>
                  <a:lnTo>
                    <a:pt x="107" y="61"/>
                  </a:lnTo>
                  <a:lnTo>
                    <a:pt x="67" y="47"/>
                  </a:lnTo>
                  <a:lnTo>
                    <a:pt x="37" y="44"/>
                  </a:lnTo>
                  <a:lnTo>
                    <a:pt x="17" y="47"/>
                  </a:lnTo>
                  <a:lnTo>
                    <a:pt x="10" y="51"/>
                  </a:lnTo>
                  <a:lnTo>
                    <a:pt x="33" y="54"/>
                  </a:lnTo>
                  <a:lnTo>
                    <a:pt x="57" y="57"/>
                  </a:lnTo>
                  <a:lnTo>
                    <a:pt x="77" y="64"/>
                  </a:lnTo>
                  <a:lnTo>
                    <a:pt x="94" y="71"/>
                  </a:lnTo>
                  <a:lnTo>
                    <a:pt x="107" y="77"/>
                  </a:lnTo>
                  <a:lnTo>
                    <a:pt x="117" y="87"/>
                  </a:lnTo>
                  <a:lnTo>
                    <a:pt x="124" y="97"/>
                  </a:lnTo>
                  <a:lnTo>
                    <a:pt x="130" y="111"/>
                  </a:lnTo>
                  <a:lnTo>
                    <a:pt x="134" y="121"/>
                  </a:lnTo>
                  <a:lnTo>
                    <a:pt x="134" y="104"/>
                  </a:lnTo>
                  <a:lnTo>
                    <a:pt x="130" y="84"/>
                  </a:lnTo>
                  <a:lnTo>
                    <a:pt x="12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1960" y="5709240"/>
              <a:ext cx="82800" cy="55800"/>
            </a:xfrm>
            <a:custGeom>
              <a:avLst/>
              <a:gdLst/>
              <a:ahLst/>
              <a:rect l="l" t="t" r="r" b="b"/>
              <a:pathLst>
                <a:path w="161" h="103">
                  <a:moveTo>
                    <a:pt x="111" y="0"/>
                  </a:moveTo>
                  <a:lnTo>
                    <a:pt x="94" y="6"/>
                  </a:lnTo>
                  <a:lnTo>
                    <a:pt x="77" y="16"/>
                  </a:lnTo>
                  <a:lnTo>
                    <a:pt x="61" y="26"/>
                  </a:lnTo>
                  <a:lnTo>
                    <a:pt x="47" y="36"/>
                  </a:lnTo>
                  <a:lnTo>
                    <a:pt x="34" y="46"/>
                  </a:lnTo>
                  <a:lnTo>
                    <a:pt x="20" y="63"/>
                  </a:lnTo>
                  <a:lnTo>
                    <a:pt x="10" y="76"/>
                  </a:lnTo>
                  <a:lnTo>
                    <a:pt x="0" y="97"/>
                  </a:lnTo>
                  <a:lnTo>
                    <a:pt x="30" y="56"/>
                  </a:lnTo>
                  <a:lnTo>
                    <a:pt x="64" y="30"/>
                  </a:lnTo>
                  <a:lnTo>
                    <a:pt x="84" y="20"/>
                  </a:lnTo>
                  <a:lnTo>
                    <a:pt x="94" y="16"/>
                  </a:lnTo>
                  <a:lnTo>
                    <a:pt x="67" y="50"/>
                  </a:lnTo>
                  <a:lnTo>
                    <a:pt x="54" y="76"/>
                  </a:lnTo>
                  <a:lnTo>
                    <a:pt x="51" y="97"/>
                  </a:lnTo>
                  <a:lnTo>
                    <a:pt x="51" y="103"/>
                  </a:lnTo>
                  <a:lnTo>
                    <a:pt x="64" y="80"/>
                  </a:lnTo>
                  <a:lnTo>
                    <a:pt x="74" y="63"/>
                  </a:lnTo>
                  <a:lnTo>
                    <a:pt x="87" y="46"/>
                  </a:lnTo>
                  <a:lnTo>
                    <a:pt x="97" y="33"/>
                  </a:lnTo>
                  <a:lnTo>
                    <a:pt x="111" y="23"/>
                  </a:lnTo>
                  <a:lnTo>
                    <a:pt x="124" y="16"/>
                  </a:lnTo>
                  <a:lnTo>
                    <a:pt x="137" y="13"/>
                  </a:lnTo>
                  <a:lnTo>
                    <a:pt x="151" y="13"/>
                  </a:lnTo>
                  <a:lnTo>
                    <a:pt x="161" y="10"/>
                  </a:lnTo>
                  <a:lnTo>
                    <a:pt x="147" y="6"/>
                  </a:lnTo>
                  <a:lnTo>
                    <a:pt x="124" y="3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87320" y="5645520"/>
              <a:ext cx="92520" cy="34200"/>
            </a:xfrm>
            <a:custGeom>
              <a:avLst/>
              <a:gdLst/>
              <a:ahLst/>
              <a:rect l="l" t="t" r="r" b="b"/>
              <a:pathLst>
                <a:path w="180" h="63">
                  <a:moveTo>
                    <a:pt x="40" y="3"/>
                  </a:moveTo>
                  <a:lnTo>
                    <a:pt x="56" y="0"/>
                  </a:lnTo>
                  <a:lnTo>
                    <a:pt x="76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30" y="3"/>
                  </a:lnTo>
                  <a:lnTo>
                    <a:pt x="147" y="10"/>
                  </a:lnTo>
                  <a:lnTo>
                    <a:pt x="163" y="20"/>
                  </a:lnTo>
                  <a:lnTo>
                    <a:pt x="180" y="33"/>
                  </a:lnTo>
                  <a:lnTo>
                    <a:pt x="157" y="20"/>
                  </a:lnTo>
                  <a:lnTo>
                    <a:pt x="133" y="13"/>
                  </a:lnTo>
                  <a:lnTo>
                    <a:pt x="113" y="10"/>
                  </a:lnTo>
                  <a:lnTo>
                    <a:pt x="96" y="6"/>
                  </a:lnTo>
                  <a:lnTo>
                    <a:pt x="80" y="6"/>
                  </a:lnTo>
                  <a:lnTo>
                    <a:pt x="70" y="6"/>
                  </a:lnTo>
                  <a:lnTo>
                    <a:pt x="63" y="10"/>
                  </a:lnTo>
                  <a:lnTo>
                    <a:pt x="60" y="10"/>
                  </a:lnTo>
                  <a:lnTo>
                    <a:pt x="100" y="27"/>
                  </a:lnTo>
                  <a:lnTo>
                    <a:pt x="126" y="43"/>
                  </a:lnTo>
                  <a:lnTo>
                    <a:pt x="137" y="57"/>
                  </a:lnTo>
                  <a:lnTo>
                    <a:pt x="140" y="63"/>
                  </a:lnTo>
                  <a:lnTo>
                    <a:pt x="120" y="50"/>
                  </a:lnTo>
                  <a:lnTo>
                    <a:pt x="100" y="40"/>
                  </a:lnTo>
                  <a:lnTo>
                    <a:pt x="83" y="30"/>
                  </a:lnTo>
                  <a:lnTo>
                    <a:pt x="66" y="23"/>
                  </a:lnTo>
                  <a:lnTo>
                    <a:pt x="50" y="23"/>
                  </a:lnTo>
                  <a:lnTo>
                    <a:pt x="36" y="23"/>
                  </a:lnTo>
                  <a:lnTo>
                    <a:pt x="23" y="27"/>
                  </a:lnTo>
                  <a:lnTo>
                    <a:pt x="10" y="33"/>
                  </a:lnTo>
                  <a:lnTo>
                    <a:pt x="0" y="40"/>
                  </a:lnTo>
                  <a:lnTo>
                    <a:pt x="13" y="27"/>
                  </a:lnTo>
                  <a:lnTo>
                    <a:pt x="30" y="10"/>
                  </a:lnTo>
                  <a:lnTo>
                    <a:pt x="4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34160" y="5801760"/>
              <a:ext cx="136080" cy="18000"/>
            </a:xfrm>
            <a:custGeom>
              <a:avLst/>
              <a:gdLst/>
              <a:ahLst/>
              <a:rect l="l" t="t" r="r" b="b"/>
              <a:pathLst>
                <a:path w="264" h="33">
                  <a:moveTo>
                    <a:pt x="264" y="20"/>
                  </a:moveTo>
                  <a:lnTo>
                    <a:pt x="240" y="10"/>
                  </a:lnTo>
                  <a:lnTo>
                    <a:pt x="223" y="7"/>
                  </a:lnTo>
                  <a:lnTo>
                    <a:pt x="207" y="3"/>
                  </a:lnTo>
                  <a:lnTo>
                    <a:pt x="193" y="0"/>
                  </a:lnTo>
                  <a:lnTo>
                    <a:pt x="183" y="0"/>
                  </a:lnTo>
                  <a:lnTo>
                    <a:pt x="173" y="0"/>
                  </a:lnTo>
                  <a:lnTo>
                    <a:pt x="163" y="0"/>
                  </a:lnTo>
                  <a:lnTo>
                    <a:pt x="153" y="0"/>
                  </a:lnTo>
                  <a:lnTo>
                    <a:pt x="137" y="0"/>
                  </a:lnTo>
                  <a:lnTo>
                    <a:pt x="117" y="7"/>
                  </a:lnTo>
                  <a:lnTo>
                    <a:pt x="90" y="10"/>
                  </a:lnTo>
                  <a:lnTo>
                    <a:pt x="66" y="17"/>
                  </a:lnTo>
                  <a:lnTo>
                    <a:pt x="40" y="23"/>
                  </a:lnTo>
                  <a:lnTo>
                    <a:pt x="20" y="27"/>
                  </a:lnTo>
                  <a:lnTo>
                    <a:pt x="6" y="33"/>
                  </a:lnTo>
                  <a:lnTo>
                    <a:pt x="0" y="33"/>
                  </a:lnTo>
                  <a:lnTo>
                    <a:pt x="36" y="27"/>
                  </a:lnTo>
                  <a:lnTo>
                    <a:pt x="70" y="20"/>
                  </a:lnTo>
                  <a:lnTo>
                    <a:pt x="97" y="13"/>
                  </a:lnTo>
                  <a:lnTo>
                    <a:pt x="120" y="10"/>
                  </a:lnTo>
                  <a:lnTo>
                    <a:pt x="137" y="10"/>
                  </a:lnTo>
                  <a:lnTo>
                    <a:pt x="153" y="7"/>
                  </a:lnTo>
                  <a:lnTo>
                    <a:pt x="163" y="7"/>
                  </a:lnTo>
                  <a:lnTo>
                    <a:pt x="170" y="7"/>
                  </a:lnTo>
                  <a:lnTo>
                    <a:pt x="197" y="7"/>
                  </a:lnTo>
                  <a:lnTo>
                    <a:pt x="227" y="13"/>
                  </a:lnTo>
                  <a:lnTo>
                    <a:pt x="254" y="17"/>
                  </a:lnTo>
                  <a:lnTo>
                    <a:pt x="264" y="20"/>
                  </a:lnTo>
                  <a:lnTo>
                    <a:pt x="26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6440" y="5816520"/>
              <a:ext cx="158760" cy="43200"/>
            </a:xfrm>
            <a:custGeom>
              <a:avLst/>
              <a:gdLst/>
              <a:ahLst/>
              <a:rect l="l" t="t" r="r" b="b"/>
              <a:pathLst>
                <a:path w="308" h="80">
                  <a:moveTo>
                    <a:pt x="308" y="10"/>
                  </a:moveTo>
                  <a:lnTo>
                    <a:pt x="277" y="3"/>
                  </a:lnTo>
                  <a:lnTo>
                    <a:pt x="254" y="0"/>
                  </a:lnTo>
                  <a:lnTo>
                    <a:pt x="234" y="0"/>
                  </a:lnTo>
                  <a:lnTo>
                    <a:pt x="221" y="0"/>
                  </a:lnTo>
                  <a:lnTo>
                    <a:pt x="207" y="3"/>
                  </a:lnTo>
                  <a:lnTo>
                    <a:pt x="194" y="6"/>
                  </a:lnTo>
                  <a:lnTo>
                    <a:pt x="184" y="6"/>
                  </a:lnTo>
                  <a:lnTo>
                    <a:pt x="171" y="10"/>
                  </a:lnTo>
                  <a:lnTo>
                    <a:pt x="154" y="13"/>
                  </a:lnTo>
                  <a:lnTo>
                    <a:pt x="130" y="23"/>
                  </a:lnTo>
                  <a:lnTo>
                    <a:pt x="104" y="33"/>
                  </a:lnTo>
                  <a:lnTo>
                    <a:pt x="74" y="46"/>
                  </a:lnTo>
                  <a:lnTo>
                    <a:pt x="47" y="60"/>
                  </a:lnTo>
                  <a:lnTo>
                    <a:pt x="24" y="70"/>
                  </a:lnTo>
                  <a:lnTo>
                    <a:pt x="7" y="77"/>
                  </a:lnTo>
                  <a:lnTo>
                    <a:pt x="0" y="80"/>
                  </a:lnTo>
                  <a:lnTo>
                    <a:pt x="44" y="63"/>
                  </a:lnTo>
                  <a:lnTo>
                    <a:pt x="84" y="50"/>
                  </a:lnTo>
                  <a:lnTo>
                    <a:pt x="114" y="36"/>
                  </a:lnTo>
                  <a:lnTo>
                    <a:pt x="141" y="30"/>
                  </a:lnTo>
                  <a:lnTo>
                    <a:pt x="157" y="23"/>
                  </a:lnTo>
                  <a:lnTo>
                    <a:pt x="174" y="16"/>
                  </a:lnTo>
                  <a:lnTo>
                    <a:pt x="184" y="16"/>
                  </a:lnTo>
                  <a:lnTo>
                    <a:pt x="191" y="13"/>
                  </a:lnTo>
                  <a:lnTo>
                    <a:pt x="207" y="10"/>
                  </a:lnTo>
                  <a:lnTo>
                    <a:pt x="224" y="10"/>
                  </a:lnTo>
                  <a:lnTo>
                    <a:pt x="244" y="6"/>
                  </a:lnTo>
                  <a:lnTo>
                    <a:pt x="264" y="6"/>
                  </a:lnTo>
                  <a:lnTo>
                    <a:pt x="281" y="10"/>
                  </a:lnTo>
                  <a:lnTo>
                    <a:pt x="294" y="10"/>
                  </a:lnTo>
                  <a:lnTo>
                    <a:pt x="304" y="10"/>
                  </a:lnTo>
                  <a:lnTo>
                    <a:pt x="308" y="10"/>
                  </a:lnTo>
                  <a:lnTo>
                    <a:pt x="30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30560" y="5832720"/>
              <a:ext cx="124200" cy="52560"/>
            </a:xfrm>
            <a:custGeom>
              <a:avLst/>
              <a:gdLst/>
              <a:ahLst/>
              <a:rect l="l" t="t" r="r" b="b"/>
              <a:pathLst>
                <a:path w="241" h="97">
                  <a:moveTo>
                    <a:pt x="241" y="0"/>
                  </a:moveTo>
                  <a:lnTo>
                    <a:pt x="217" y="0"/>
                  </a:lnTo>
                  <a:lnTo>
                    <a:pt x="197" y="0"/>
                  </a:lnTo>
                  <a:lnTo>
                    <a:pt x="180" y="3"/>
                  </a:lnTo>
                  <a:lnTo>
                    <a:pt x="167" y="3"/>
                  </a:lnTo>
                  <a:lnTo>
                    <a:pt x="157" y="10"/>
                  </a:lnTo>
                  <a:lnTo>
                    <a:pt x="147" y="13"/>
                  </a:lnTo>
                  <a:lnTo>
                    <a:pt x="140" y="16"/>
                  </a:lnTo>
                  <a:lnTo>
                    <a:pt x="130" y="20"/>
                  </a:lnTo>
                  <a:lnTo>
                    <a:pt x="117" y="26"/>
                  </a:lnTo>
                  <a:lnTo>
                    <a:pt x="100" y="33"/>
                  </a:lnTo>
                  <a:lnTo>
                    <a:pt x="77" y="47"/>
                  </a:lnTo>
                  <a:lnTo>
                    <a:pt x="57" y="60"/>
                  </a:lnTo>
                  <a:lnTo>
                    <a:pt x="33" y="73"/>
                  </a:lnTo>
                  <a:lnTo>
                    <a:pt x="17" y="87"/>
                  </a:lnTo>
                  <a:lnTo>
                    <a:pt x="3" y="93"/>
                  </a:lnTo>
                  <a:lnTo>
                    <a:pt x="0" y="97"/>
                  </a:lnTo>
                  <a:lnTo>
                    <a:pt x="33" y="77"/>
                  </a:lnTo>
                  <a:lnTo>
                    <a:pt x="63" y="63"/>
                  </a:lnTo>
                  <a:lnTo>
                    <a:pt x="87" y="50"/>
                  </a:lnTo>
                  <a:lnTo>
                    <a:pt x="107" y="40"/>
                  </a:lnTo>
                  <a:lnTo>
                    <a:pt x="120" y="30"/>
                  </a:lnTo>
                  <a:lnTo>
                    <a:pt x="134" y="23"/>
                  </a:lnTo>
                  <a:lnTo>
                    <a:pt x="140" y="20"/>
                  </a:lnTo>
                  <a:lnTo>
                    <a:pt x="147" y="16"/>
                  </a:lnTo>
                  <a:lnTo>
                    <a:pt x="174" y="10"/>
                  </a:lnTo>
                  <a:lnTo>
                    <a:pt x="204" y="3"/>
                  </a:lnTo>
                  <a:lnTo>
                    <a:pt x="230" y="0"/>
                  </a:lnTo>
                  <a:lnTo>
                    <a:pt x="241" y="0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8080" y="5458320"/>
              <a:ext cx="53640" cy="114120"/>
            </a:xfrm>
            <a:custGeom>
              <a:avLst/>
              <a:gdLst/>
              <a:ahLst/>
              <a:rect l="l" t="t" r="r" b="b"/>
              <a:pathLst>
                <a:path w="104" h="210">
                  <a:moveTo>
                    <a:pt x="40" y="0"/>
                  </a:moveTo>
                  <a:lnTo>
                    <a:pt x="20" y="23"/>
                  </a:lnTo>
                  <a:lnTo>
                    <a:pt x="7" y="47"/>
                  </a:lnTo>
                  <a:lnTo>
                    <a:pt x="0" y="67"/>
                  </a:lnTo>
                  <a:lnTo>
                    <a:pt x="10" y="83"/>
                  </a:lnTo>
                  <a:lnTo>
                    <a:pt x="24" y="90"/>
                  </a:lnTo>
                  <a:lnTo>
                    <a:pt x="27" y="93"/>
                  </a:lnTo>
                  <a:lnTo>
                    <a:pt x="30" y="103"/>
                  </a:lnTo>
                  <a:lnTo>
                    <a:pt x="37" y="127"/>
                  </a:lnTo>
                  <a:lnTo>
                    <a:pt x="54" y="157"/>
                  </a:lnTo>
                  <a:lnTo>
                    <a:pt x="70" y="184"/>
                  </a:lnTo>
                  <a:lnTo>
                    <a:pt x="87" y="204"/>
                  </a:lnTo>
                  <a:lnTo>
                    <a:pt x="94" y="210"/>
                  </a:lnTo>
                  <a:lnTo>
                    <a:pt x="90" y="174"/>
                  </a:lnTo>
                  <a:lnTo>
                    <a:pt x="94" y="164"/>
                  </a:lnTo>
                  <a:lnTo>
                    <a:pt x="100" y="160"/>
                  </a:lnTo>
                  <a:lnTo>
                    <a:pt x="104" y="130"/>
                  </a:lnTo>
                  <a:lnTo>
                    <a:pt x="104" y="90"/>
                  </a:lnTo>
                  <a:lnTo>
                    <a:pt x="97" y="70"/>
                  </a:lnTo>
                  <a:lnTo>
                    <a:pt x="87" y="57"/>
                  </a:lnTo>
                  <a:lnTo>
                    <a:pt x="70" y="50"/>
                  </a:lnTo>
                  <a:lnTo>
                    <a:pt x="57" y="37"/>
                  </a:lnTo>
                  <a:lnTo>
                    <a:pt x="47" y="20"/>
                  </a:lnTo>
                  <a:lnTo>
                    <a:pt x="44" y="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3000" y="5451480"/>
              <a:ext cx="62280" cy="132120"/>
            </a:xfrm>
            <a:custGeom>
              <a:avLst/>
              <a:gdLst/>
              <a:ahLst/>
              <a:rect l="l" t="t" r="r" b="b"/>
              <a:pathLst>
                <a:path w="121" h="243">
                  <a:moveTo>
                    <a:pt x="121" y="0"/>
                  </a:moveTo>
                  <a:lnTo>
                    <a:pt x="104" y="3"/>
                  </a:lnTo>
                  <a:lnTo>
                    <a:pt x="91" y="6"/>
                  </a:lnTo>
                  <a:lnTo>
                    <a:pt x="74" y="13"/>
                  </a:lnTo>
                  <a:lnTo>
                    <a:pt x="57" y="16"/>
                  </a:lnTo>
                  <a:lnTo>
                    <a:pt x="44" y="23"/>
                  </a:lnTo>
                  <a:lnTo>
                    <a:pt x="27" y="26"/>
                  </a:lnTo>
                  <a:lnTo>
                    <a:pt x="14" y="33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4" y="63"/>
                  </a:lnTo>
                  <a:lnTo>
                    <a:pt x="17" y="76"/>
                  </a:lnTo>
                  <a:lnTo>
                    <a:pt x="34" y="90"/>
                  </a:lnTo>
                  <a:lnTo>
                    <a:pt x="54" y="106"/>
                  </a:lnTo>
                  <a:lnTo>
                    <a:pt x="60" y="120"/>
                  </a:lnTo>
                  <a:lnTo>
                    <a:pt x="64" y="133"/>
                  </a:lnTo>
                  <a:lnTo>
                    <a:pt x="60" y="153"/>
                  </a:lnTo>
                  <a:lnTo>
                    <a:pt x="60" y="173"/>
                  </a:lnTo>
                  <a:lnTo>
                    <a:pt x="67" y="190"/>
                  </a:lnTo>
                  <a:lnTo>
                    <a:pt x="84" y="213"/>
                  </a:lnTo>
                  <a:lnTo>
                    <a:pt x="117" y="243"/>
                  </a:lnTo>
                  <a:lnTo>
                    <a:pt x="114" y="240"/>
                  </a:lnTo>
                  <a:lnTo>
                    <a:pt x="111" y="230"/>
                  </a:lnTo>
                  <a:lnTo>
                    <a:pt x="104" y="217"/>
                  </a:lnTo>
                  <a:lnTo>
                    <a:pt x="97" y="193"/>
                  </a:lnTo>
                  <a:lnTo>
                    <a:pt x="97" y="170"/>
                  </a:lnTo>
                  <a:lnTo>
                    <a:pt x="97" y="153"/>
                  </a:lnTo>
                  <a:lnTo>
                    <a:pt x="94" y="136"/>
                  </a:lnTo>
                  <a:lnTo>
                    <a:pt x="81" y="113"/>
                  </a:lnTo>
                  <a:lnTo>
                    <a:pt x="67" y="86"/>
                  </a:lnTo>
                  <a:lnTo>
                    <a:pt x="64" y="70"/>
                  </a:lnTo>
                  <a:lnTo>
                    <a:pt x="74" y="50"/>
                  </a:lnTo>
                  <a:lnTo>
                    <a:pt x="97" y="26"/>
                  </a:lnTo>
                  <a:lnTo>
                    <a:pt x="107" y="20"/>
                  </a:lnTo>
                  <a:lnTo>
                    <a:pt x="114" y="13"/>
                  </a:lnTo>
                  <a:lnTo>
                    <a:pt x="117" y="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2240" y="5436720"/>
              <a:ext cx="44640" cy="135720"/>
            </a:xfrm>
            <a:custGeom>
              <a:avLst/>
              <a:gdLst/>
              <a:ahLst/>
              <a:rect l="l" t="t" r="r" b="b"/>
              <a:pathLst>
                <a:path w="87" h="250">
                  <a:moveTo>
                    <a:pt x="0" y="3"/>
                  </a:moveTo>
                  <a:lnTo>
                    <a:pt x="7" y="20"/>
                  </a:lnTo>
                  <a:lnTo>
                    <a:pt x="13" y="37"/>
                  </a:lnTo>
                  <a:lnTo>
                    <a:pt x="20" y="53"/>
                  </a:lnTo>
                  <a:lnTo>
                    <a:pt x="33" y="70"/>
                  </a:lnTo>
                  <a:lnTo>
                    <a:pt x="50" y="93"/>
                  </a:lnTo>
                  <a:lnTo>
                    <a:pt x="50" y="110"/>
                  </a:lnTo>
                  <a:lnTo>
                    <a:pt x="43" y="127"/>
                  </a:lnTo>
                  <a:lnTo>
                    <a:pt x="37" y="150"/>
                  </a:lnTo>
                  <a:lnTo>
                    <a:pt x="30" y="177"/>
                  </a:lnTo>
                  <a:lnTo>
                    <a:pt x="27" y="197"/>
                  </a:lnTo>
                  <a:lnTo>
                    <a:pt x="33" y="217"/>
                  </a:lnTo>
                  <a:lnTo>
                    <a:pt x="50" y="250"/>
                  </a:lnTo>
                  <a:lnTo>
                    <a:pt x="43" y="230"/>
                  </a:lnTo>
                  <a:lnTo>
                    <a:pt x="47" y="207"/>
                  </a:lnTo>
                  <a:lnTo>
                    <a:pt x="53" y="173"/>
                  </a:lnTo>
                  <a:lnTo>
                    <a:pt x="63" y="133"/>
                  </a:lnTo>
                  <a:lnTo>
                    <a:pt x="77" y="100"/>
                  </a:lnTo>
                  <a:lnTo>
                    <a:pt x="83" y="90"/>
                  </a:lnTo>
                  <a:lnTo>
                    <a:pt x="87" y="80"/>
                  </a:lnTo>
                  <a:lnTo>
                    <a:pt x="77" y="43"/>
                  </a:lnTo>
                  <a:lnTo>
                    <a:pt x="73" y="30"/>
                  </a:lnTo>
                  <a:lnTo>
                    <a:pt x="70" y="17"/>
                  </a:lnTo>
                  <a:lnTo>
                    <a:pt x="67" y="6"/>
                  </a:lnTo>
                  <a:lnTo>
                    <a:pt x="63" y="0"/>
                  </a:lnTo>
                  <a:lnTo>
                    <a:pt x="47" y="0"/>
                  </a:lnTo>
                  <a:lnTo>
                    <a:pt x="33" y="0"/>
                  </a:lnTo>
                  <a:lnTo>
                    <a:pt x="17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77160" y="5646960"/>
              <a:ext cx="333720" cy="490680"/>
            </a:xfrm>
            <a:custGeom>
              <a:avLst/>
              <a:gdLst/>
              <a:ahLst/>
              <a:rect l="l" t="t" r="r" b="b"/>
              <a:pathLst>
                <a:path w="648" h="902">
                  <a:moveTo>
                    <a:pt x="270" y="902"/>
                  </a:moveTo>
                  <a:lnTo>
                    <a:pt x="280" y="898"/>
                  </a:lnTo>
                  <a:lnTo>
                    <a:pt x="294" y="892"/>
                  </a:lnTo>
                  <a:lnTo>
                    <a:pt x="307" y="888"/>
                  </a:lnTo>
                  <a:lnTo>
                    <a:pt x="320" y="885"/>
                  </a:lnTo>
                  <a:lnTo>
                    <a:pt x="344" y="878"/>
                  </a:lnTo>
                  <a:lnTo>
                    <a:pt x="364" y="868"/>
                  </a:lnTo>
                  <a:lnTo>
                    <a:pt x="377" y="858"/>
                  </a:lnTo>
                  <a:lnTo>
                    <a:pt x="394" y="845"/>
                  </a:lnTo>
                  <a:lnTo>
                    <a:pt x="401" y="828"/>
                  </a:lnTo>
                  <a:lnTo>
                    <a:pt x="391" y="812"/>
                  </a:lnTo>
                  <a:lnTo>
                    <a:pt x="371" y="798"/>
                  </a:lnTo>
                  <a:lnTo>
                    <a:pt x="354" y="785"/>
                  </a:lnTo>
                  <a:lnTo>
                    <a:pt x="340" y="778"/>
                  </a:lnTo>
                  <a:lnTo>
                    <a:pt x="340" y="772"/>
                  </a:lnTo>
                  <a:lnTo>
                    <a:pt x="344" y="761"/>
                  </a:lnTo>
                  <a:lnTo>
                    <a:pt x="357" y="748"/>
                  </a:lnTo>
                  <a:lnTo>
                    <a:pt x="357" y="738"/>
                  </a:lnTo>
                  <a:lnTo>
                    <a:pt x="344" y="735"/>
                  </a:lnTo>
                  <a:lnTo>
                    <a:pt x="317" y="731"/>
                  </a:lnTo>
                  <a:lnTo>
                    <a:pt x="290" y="721"/>
                  </a:lnTo>
                  <a:lnTo>
                    <a:pt x="294" y="718"/>
                  </a:lnTo>
                  <a:lnTo>
                    <a:pt x="307" y="708"/>
                  </a:lnTo>
                  <a:lnTo>
                    <a:pt x="327" y="691"/>
                  </a:lnTo>
                  <a:lnTo>
                    <a:pt x="354" y="671"/>
                  </a:lnTo>
                  <a:lnTo>
                    <a:pt x="381" y="648"/>
                  </a:lnTo>
                  <a:lnTo>
                    <a:pt x="407" y="625"/>
                  </a:lnTo>
                  <a:lnTo>
                    <a:pt x="434" y="598"/>
                  </a:lnTo>
                  <a:lnTo>
                    <a:pt x="457" y="574"/>
                  </a:lnTo>
                  <a:lnTo>
                    <a:pt x="457" y="578"/>
                  </a:lnTo>
                  <a:lnTo>
                    <a:pt x="454" y="595"/>
                  </a:lnTo>
                  <a:lnTo>
                    <a:pt x="457" y="621"/>
                  </a:lnTo>
                  <a:lnTo>
                    <a:pt x="467" y="665"/>
                  </a:lnTo>
                  <a:lnTo>
                    <a:pt x="467" y="661"/>
                  </a:lnTo>
                  <a:lnTo>
                    <a:pt x="471" y="655"/>
                  </a:lnTo>
                  <a:lnTo>
                    <a:pt x="484" y="635"/>
                  </a:lnTo>
                  <a:lnTo>
                    <a:pt x="511" y="601"/>
                  </a:lnTo>
                  <a:lnTo>
                    <a:pt x="548" y="558"/>
                  </a:lnTo>
                  <a:lnTo>
                    <a:pt x="574" y="518"/>
                  </a:lnTo>
                  <a:lnTo>
                    <a:pt x="594" y="474"/>
                  </a:lnTo>
                  <a:lnTo>
                    <a:pt x="604" y="428"/>
                  </a:lnTo>
                  <a:lnTo>
                    <a:pt x="604" y="431"/>
                  </a:lnTo>
                  <a:lnTo>
                    <a:pt x="604" y="441"/>
                  </a:lnTo>
                  <a:lnTo>
                    <a:pt x="611" y="454"/>
                  </a:lnTo>
                  <a:lnTo>
                    <a:pt x="624" y="471"/>
                  </a:lnTo>
                  <a:lnTo>
                    <a:pt x="628" y="458"/>
                  </a:lnTo>
                  <a:lnTo>
                    <a:pt x="638" y="421"/>
                  </a:lnTo>
                  <a:lnTo>
                    <a:pt x="645" y="371"/>
                  </a:lnTo>
                  <a:lnTo>
                    <a:pt x="648" y="324"/>
                  </a:lnTo>
                  <a:lnTo>
                    <a:pt x="645" y="287"/>
                  </a:lnTo>
                  <a:lnTo>
                    <a:pt x="638" y="267"/>
                  </a:lnTo>
                  <a:lnTo>
                    <a:pt x="628" y="251"/>
                  </a:lnTo>
                  <a:lnTo>
                    <a:pt x="624" y="224"/>
                  </a:lnTo>
                  <a:lnTo>
                    <a:pt x="614" y="194"/>
                  </a:lnTo>
                  <a:lnTo>
                    <a:pt x="594" y="174"/>
                  </a:lnTo>
                  <a:lnTo>
                    <a:pt x="578" y="154"/>
                  </a:lnTo>
                  <a:lnTo>
                    <a:pt x="568" y="127"/>
                  </a:lnTo>
                  <a:lnTo>
                    <a:pt x="568" y="87"/>
                  </a:lnTo>
                  <a:lnTo>
                    <a:pt x="564" y="47"/>
                  </a:lnTo>
                  <a:lnTo>
                    <a:pt x="551" y="14"/>
                  </a:lnTo>
                  <a:lnTo>
                    <a:pt x="531" y="0"/>
                  </a:lnTo>
                  <a:lnTo>
                    <a:pt x="514" y="7"/>
                  </a:lnTo>
                  <a:lnTo>
                    <a:pt x="511" y="30"/>
                  </a:lnTo>
                  <a:lnTo>
                    <a:pt x="511" y="77"/>
                  </a:lnTo>
                  <a:lnTo>
                    <a:pt x="518" y="140"/>
                  </a:lnTo>
                  <a:lnTo>
                    <a:pt x="518" y="190"/>
                  </a:lnTo>
                  <a:lnTo>
                    <a:pt x="514" y="217"/>
                  </a:lnTo>
                  <a:lnTo>
                    <a:pt x="501" y="251"/>
                  </a:lnTo>
                  <a:lnTo>
                    <a:pt x="484" y="327"/>
                  </a:lnTo>
                  <a:lnTo>
                    <a:pt x="474" y="371"/>
                  </a:lnTo>
                  <a:lnTo>
                    <a:pt x="464" y="404"/>
                  </a:lnTo>
                  <a:lnTo>
                    <a:pt x="451" y="431"/>
                  </a:lnTo>
                  <a:lnTo>
                    <a:pt x="437" y="454"/>
                  </a:lnTo>
                  <a:lnTo>
                    <a:pt x="417" y="474"/>
                  </a:lnTo>
                  <a:lnTo>
                    <a:pt x="391" y="498"/>
                  </a:lnTo>
                  <a:lnTo>
                    <a:pt x="361" y="528"/>
                  </a:lnTo>
                  <a:lnTo>
                    <a:pt x="320" y="564"/>
                  </a:lnTo>
                  <a:lnTo>
                    <a:pt x="320" y="558"/>
                  </a:lnTo>
                  <a:lnTo>
                    <a:pt x="317" y="548"/>
                  </a:lnTo>
                  <a:lnTo>
                    <a:pt x="314" y="528"/>
                  </a:lnTo>
                  <a:lnTo>
                    <a:pt x="314" y="511"/>
                  </a:lnTo>
                  <a:lnTo>
                    <a:pt x="320" y="494"/>
                  </a:lnTo>
                  <a:lnTo>
                    <a:pt x="330" y="478"/>
                  </a:lnTo>
                  <a:lnTo>
                    <a:pt x="344" y="461"/>
                  </a:lnTo>
                  <a:lnTo>
                    <a:pt x="351" y="438"/>
                  </a:lnTo>
                  <a:lnTo>
                    <a:pt x="354" y="421"/>
                  </a:lnTo>
                  <a:lnTo>
                    <a:pt x="361" y="408"/>
                  </a:lnTo>
                  <a:lnTo>
                    <a:pt x="371" y="401"/>
                  </a:lnTo>
                  <a:lnTo>
                    <a:pt x="387" y="391"/>
                  </a:lnTo>
                  <a:lnTo>
                    <a:pt x="401" y="384"/>
                  </a:lnTo>
                  <a:lnTo>
                    <a:pt x="401" y="377"/>
                  </a:lnTo>
                  <a:lnTo>
                    <a:pt x="394" y="371"/>
                  </a:lnTo>
                  <a:lnTo>
                    <a:pt x="391" y="354"/>
                  </a:lnTo>
                  <a:lnTo>
                    <a:pt x="391" y="337"/>
                  </a:lnTo>
                  <a:lnTo>
                    <a:pt x="391" y="331"/>
                  </a:lnTo>
                  <a:lnTo>
                    <a:pt x="397" y="327"/>
                  </a:lnTo>
                  <a:lnTo>
                    <a:pt x="414" y="321"/>
                  </a:lnTo>
                  <a:lnTo>
                    <a:pt x="411" y="314"/>
                  </a:lnTo>
                  <a:lnTo>
                    <a:pt x="401" y="301"/>
                  </a:lnTo>
                  <a:lnTo>
                    <a:pt x="394" y="284"/>
                  </a:lnTo>
                  <a:lnTo>
                    <a:pt x="394" y="271"/>
                  </a:lnTo>
                  <a:lnTo>
                    <a:pt x="394" y="254"/>
                  </a:lnTo>
                  <a:lnTo>
                    <a:pt x="391" y="241"/>
                  </a:lnTo>
                  <a:lnTo>
                    <a:pt x="377" y="234"/>
                  </a:lnTo>
                  <a:lnTo>
                    <a:pt x="361" y="247"/>
                  </a:lnTo>
                  <a:lnTo>
                    <a:pt x="351" y="261"/>
                  </a:lnTo>
                  <a:lnTo>
                    <a:pt x="351" y="267"/>
                  </a:lnTo>
                  <a:lnTo>
                    <a:pt x="357" y="277"/>
                  </a:lnTo>
                  <a:lnTo>
                    <a:pt x="357" y="307"/>
                  </a:lnTo>
                  <a:lnTo>
                    <a:pt x="347" y="347"/>
                  </a:lnTo>
                  <a:lnTo>
                    <a:pt x="334" y="374"/>
                  </a:lnTo>
                  <a:lnTo>
                    <a:pt x="320" y="401"/>
                  </a:lnTo>
                  <a:lnTo>
                    <a:pt x="304" y="434"/>
                  </a:lnTo>
                  <a:lnTo>
                    <a:pt x="294" y="458"/>
                  </a:lnTo>
                  <a:lnTo>
                    <a:pt x="274" y="481"/>
                  </a:lnTo>
                  <a:lnTo>
                    <a:pt x="250" y="504"/>
                  </a:lnTo>
                  <a:lnTo>
                    <a:pt x="217" y="531"/>
                  </a:lnTo>
                  <a:lnTo>
                    <a:pt x="177" y="561"/>
                  </a:lnTo>
                  <a:lnTo>
                    <a:pt x="127" y="591"/>
                  </a:lnTo>
                  <a:lnTo>
                    <a:pt x="70" y="621"/>
                  </a:lnTo>
                  <a:lnTo>
                    <a:pt x="0" y="655"/>
                  </a:lnTo>
                  <a:lnTo>
                    <a:pt x="16" y="675"/>
                  </a:lnTo>
                  <a:lnTo>
                    <a:pt x="36" y="695"/>
                  </a:lnTo>
                  <a:lnTo>
                    <a:pt x="57" y="715"/>
                  </a:lnTo>
                  <a:lnTo>
                    <a:pt x="77" y="735"/>
                  </a:lnTo>
                  <a:lnTo>
                    <a:pt x="97" y="755"/>
                  </a:lnTo>
                  <a:lnTo>
                    <a:pt x="117" y="772"/>
                  </a:lnTo>
                  <a:lnTo>
                    <a:pt x="137" y="788"/>
                  </a:lnTo>
                  <a:lnTo>
                    <a:pt x="157" y="805"/>
                  </a:lnTo>
                  <a:lnTo>
                    <a:pt x="167" y="815"/>
                  </a:lnTo>
                  <a:lnTo>
                    <a:pt x="177" y="828"/>
                  </a:lnTo>
                  <a:lnTo>
                    <a:pt x="187" y="842"/>
                  </a:lnTo>
                  <a:lnTo>
                    <a:pt x="200" y="852"/>
                  </a:lnTo>
                  <a:lnTo>
                    <a:pt x="217" y="865"/>
                  </a:lnTo>
                  <a:lnTo>
                    <a:pt x="234" y="878"/>
                  </a:lnTo>
                  <a:lnTo>
                    <a:pt x="250" y="892"/>
                  </a:lnTo>
                  <a:lnTo>
                    <a:pt x="270" y="9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54280" y="5549040"/>
              <a:ext cx="342720" cy="668520"/>
            </a:xfrm>
            <a:custGeom>
              <a:avLst/>
              <a:gdLst/>
              <a:ahLst/>
              <a:rect l="l" t="t" r="r" b="b"/>
              <a:pathLst>
                <a:path w="665" h="1229">
                  <a:moveTo>
                    <a:pt x="210" y="20"/>
                  </a:moveTo>
                  <a:lnTo>
                    <a:pt x="220" y="40"/>
                  </a:lnTo>
                  <a:lnTo>
                    <a:pt x="237" y="63"/>
                  </a:lnTo>
                  <a:lnTo>
                    <a:pt x="250" y="93"/>
                  </a:lnTo>
                  <a:lnTo>
                    <a:pt x="254" y="127"/>
                  </a:lnTo>
                  <a:lnTo>
                    <a:pt x="254" y="153"/>
                  </a:lnTo>
                  <a:lnTo>
                    <a:pt x="257" y="170"/>
                  </a:lnTo>
                  <a:lnTo>
                    <a:pt x="267" y="183"/>
                  </a:lnTo>
                  <a:lnTo>
                    <a:pt x="280" y="190"/>
                  </a:lnTo>
                  <a:lnTo>
                    <a:pt x="294" y="200"/>
                  </a:lnTo>
                  <a:lnTo>
                    <a:pt x="311" y="210"/>
                  </a:lnTo>
                  <a:lnTo>
                    <a:pt x="331" y="230"/>
                  </a:lnTo>
                  <a:lnTo>
                    <a:pt x="347" y="257"/>
                  </a:lnTo>
                  <a:lnTo>
                    <a:pt x="367" y="307"/>
                  </a:lnTo>
                  <a:lnTo>
                    <a:pt x="374" y="337"/>
                  </a:lnTo>
                  <a:lnTo>
                    <a:pt x="371" y="360"/>
                  </a:lnTo>
                  <a:lnTo>
                    <a:pt x="367" y="397"/>
                  </a:lnTo>
                  <a:lnTo>
                    <a:pt x="374" y="447"/>
                  </a:lnTo>
                  <a:lnTo>
                    <a:pt x="391" y="497"/>
                  </a:lnTo>
                  <a:lnTo>
                    <a:pt x="414" y="537"/>
                  </a:lnTo>
                  <a:lnTo>
                    <a:pt x="431" y="568"/>
                  </a:lnTo>
                  <a:lnTo>
                    <a:pt x="444" y="591"/>
                  </a:lnTo>
                  <a:lnTo>
                    <a:pt x="451" y="621"/>
                  </a:lnTo>
                  <a:lnTo>
                    <a:pt x="454" y="668"/>
                  </a:lnTo>
                  <a:lnTo>
                    <a:pt x="454" y="738"/>
                  </a:lnTo>
                  <a:lnTo>
                    <a:pt x="478" y="775"/>
                  </a:lnTo>
                  <a:lnTo>
                    <a:pt x="478" y="788"/>
                  </a:lnTo>
                  <a:lnTo>
                    <a:pt x="471" y="818"/>
                  </a:lnTo>
                  <a:lnTo>
                    <a:pt x="468" y="855"/>
                  </a:lnTo>
                  <a:lnTo>
                    <a:pt x="461" y="888"/>
                  </a:lnTo>
                  <a:lnTo>
                    <a:pt x="454" y="901"/>
                  </a:lnTo>
                  <a:lnTo>
                    <a:pt x="441" y="911"/>
                  </a:lnTo>
                  <a:lnTo>
                    <a:pt x="421" y="921"/>
                  </a:lnTo>
                  <a:lnTo>
                    <a:pt x="397" y="928"/>
                  </a:lnTo>
                  <a:lnTo>
                    <a:pt x="371" y="931"/>
                  </a:lnTo>
                  <a:lnTo>
                    <a:pt x="344" y="931"/>
                  </a:lnTo>
                  <a:lnTo>
                    <a:pt x="321" y="928"/>
                  </a:lnTo>
                  <a:lnTo>
                    <a:pt x="301" y="918"/>
                  </a:lnTo>
                  <a:lnTo>
                    <a:pt x="277" y="905"/>
                  </a:lnTo>
                  <a:lnTo>
                    <a:pt x="264" y="898"/>
                  </a:lnTo>
                  <a:lnTo>
                    <a:pt x="257" y="898"/>
                  </a:lnTo>
                  <a:lnTo>
                    <a:pt x="250" y="905"/>
                  </a:lnTo>
                  <a:lnTo>
                    <a:pt x="247" y="915"/>
                  </a:lnTo>
                  <a:lnTo>
                    <a:pt x="240" y="928"/>
                  </a:lnTo>
                  <a:lnTo>
                    <a:pt x="224" y="938"/>
                  </a:lnTo>
                  <a:lnTo>
                    <a:pt x="200" y="948"/>
                  </a:lnTo>
                  <a:lnTo>
                    <a:pt x="177" y="955"/>
                  </a:lnTo>
                  <a:lnTo>
                    <a:pt x="174" y="958"/>
                  </a:lnTo>
                  <a:lnTo>
                    <a:pt x="177" y="958"/>
                  </a:lnTo>
                  <a:lnTo>
                    <a:pt x="184" y="962"/>
                  </a:lnTo>
                  <a:lnTo>
                    <a:pt x="190" y="965"/>
                  </a:lnTo>
                  <a:lnTo>
                    <a:pt x="194" y="972"/>
                  </a:lnTo>
                  <a:lnTo>
                    <a:pt x="180" y="982"/>
                  </a:lnTo>
                  <a:lnTo>
                    <a:pt x="154" y="998"/>
                  </a:lnTo>
                  <a:lnTo>
                    <a:pt x="123" y="1015"/>
                  </a:lnTo>
                  <a:lnTo>
                    <a:pt x="103" y="1032"/>
                  </a:lnTo>
                  <a:lnTo>
                    <a:pt x="87" y="1048"/>
                  </a:lnTo>
                  <a:lnTo>
                    <a:pt x="73" y="1065"/>
                  </a:lnTo>
                  <a:lnTo>
                    <a:pt x="63" y="1078"/>
                  </a:lnTo>
                  <a:lnTo>
                    <a:pt x="47" y="1095"/>
                  </a:lnTo>
                  <a:lnTo>
                    <a:pt x="27" y="1105"/>
                  </a:lnTo>
                  <a:lnTo>
                    <a:pt x="0" y="1118"/>
                  </a:lnTo>
                  <a:lnTo>
                    <a:pt x="17" y="1125"/>
                  </a:lnTo>
                  <a:lnTo>
                    <a:pt x="37" y="1132"/>
                  </a:lnTo>
                  <a:lnTo>
                    <a:pt x="57" y="1135"/>
                  </a:lnTo>
                  <a:lnTo>
                    <a:pt x="77" y="1142"/>
                  </a:lnTo>
                  <a:lnTo>
                    <a:pt x="73" y="1159"/>
                  </a:lnTo>
                  <a:lnTo>
                    <a:pt x="70" y="1182"/>
                  </a:lnTo>
                  <a:lnTo>
                    <a:pt x="63" y="1205"/>
                  </a:lnTo>
                  <a:lnTo>
                    <a:pt x="60" y="1229"/>
                  </a:lnTo>
                  <a:lnTo>
                    <a:pt x="77" y="1222"/>
                  </a:lnTo>
                  <a:lnTo>
                    <a:pt x="93" y="1212"/>
                  </a:lnTo>
                  <a:lnTo>
                    <a:pt x="113" y="1202"/>
                  </a:lnTo>
                  <a:lnTo>
                    <a:pt x="137" y="1189"/>
                  </a:lnTo>
                  <a:lnTo>
                    <a:pt x="157" y="1179"/>
                  </a:lnTo>
                  <a:lnTo>
                    <a:pt x="180" y="1169"/>
                  </a:lnTo>
                  <a:lnTo>
                    <a:pt x="200" y="1159"/>
                  </a:lnTo>
                  <a:lnTo>
                    <a:pt x="220" y="1152"/>
                  </a:lnTo>
                  <a:lnTo>
                    <a:pt x="240" y="1142"/>
                  </a:lnTo>
                  <a:lnTo>
                    <a:pt x="254" y="1128"/>
                  </a:lnTo>
                  <a:lnTo>
                    <a:pt x="260" y="1122"/>
                  </a:lnTo>
                  <a:lnTo>
                    <a:pt x="267" y="1112"/>
                  </a:lnTo>
                  <a:lnTo>
                    <a:pt x="280" y="1108"/>
                  </a:lnTo>
                  <a:lnTo>
                    <a:pt x="297" y="1108"/>
                  </a:lnTo>
                  <a:lnTo>
                    <a:pt x="327" y="1115"/>
                  </a:lnTo>
                  <a:lnTo>
                    <a:pt x="374" y="1125"/>
                  </a:lnTo>
                  <a:lnTo>
                    <a:pt x="394" y="1132"/>
                  </a:lnTo>
                  <a:lnTo>
                    <a:pt x="404" y="1135"/>
                  </a:lnTo>
                  <a:lnTo>
                    <a:pt x="414" y="1139"/>
                  </a:lnTo>
                  <a:lnTo>
                    <a:pt x="424" y="1135"/>
                  </a:lnTo>
                  <a:lnTo>
                    <a:pt x="441" y="1118"/>
                  </a:lnTo>
                  <a:lnTo>
                    <a:pt x="454" y="1095"/>
                  </a:lnTo>
                  <a:lnTo>
                    <a:pt x="468" y="1058"/>
                  </a:lnTo>
                  <a:lnTo>
                    <a:pt x="488" y="1018"/>
                  </a:lnTo>
                  <a:lnTo>
                    <a:pt x="491" y="1015"/>
                  </a:lnTo>
                  <a:lnTo>
                    <a:pt x="494" y="1008"/>
                  </a:lnTo>
                  <a:lnTo>
                    <a:pt x="494" y="1005"/>
                  </a:lnTo>
                  <a:lnTo>
                    <a:pt x="498" y="1002"/>
                  </a:lnTo>
                  <a:lnTo>
                    <a:pt x="504" y="1002"/>
                  </a:lnTo>
                  <a:lnTo>
                    <a:pt x="518" y="998"/>
                  </a:lnTo>
                  <a:lnTo>
                    <a:pt x="534" y="992"/>
                  </a:lnTo>
                  <a:lnTo>
                    <a:pt x="558" y="978"/>
                  </a:lnTo>
                  <a:lnTo>
                    <a:pt x="578" y="965"/>
                  </a:lnTo>
                  <a:lnTo>
                    <a:pt x="598" y="948"/>
                  </a:lnTo>
                  <a:lnTo>
                    <a:pt x="608" y="925"/>
                  </a:lnTo>
                  <a:lnTo>
                    <a:pt x="611" y="898"/>
                  </a:lnTo>
                  <a:lnTo>
                    <a:pt x="618" y="878"/>
                  </a:lnTo>
                  <a:lnTo>
                    <a:pt x="638" y="845"/>
                  </a:lnTo>
                  <a:lnTo>
                    <a:pt x="658" y="811"/>
                  </a:lnTo>
                  <a:lnTo>
                    <a:pt x="665" y="791"/>
                  </a:lnTo>
                  <a:lnTo>
                    <a:pt x="661" y="795"/>
                  </a:lnTo>
                  <a:lnTo>
                    <a:pt x="651" y="795"/>
                  </a:lnTo>
                  <a:lnTo>
                    <a:pt x="635" y="781"/>
                  </a:lnTo>
                  <a:lnTo>
                    <a:pt x="608" y="748"/>
                  </a:lnTo>
                  <a:lnTo>
                    <a:pt x="585" y="698"/>
                  </a:lnTo>
                  <a:lnTo>
                    <a:pt x="574" y="641"/>
                  </a:lnTo>
                  <a:lnTo>
                    <a:pt x="578" y="588"/>
                  </a:lnTo>
                  <a:lnTo>
                    <a:pt x="595" y="537"/>
                  </a:lnTo>
                  <a:lnTo>
                    <a:pt x="601" y="497"/>
                  </a:lnTo>
                  <a:lnTo>
                    <a:pt x="588" y="464"/>
                  </a:lnTo>
                  <a:lnTo>
                    <a:pt x="564" y="431"/>
                  </a:lnTo>
                  <a:lnTo>
                    <a:pt x="541" y="384"/>
                  </a:lnTo>
                  <a:lnTo>
                    <a:pt x="538" y="350"/>
                  </a:lnTo>
                  <a:lnTo>
                    <a:pt x="544" y="350"/>
                  </a:lnTo>
                  <a:lnTo>
                    <a:pt x="558" y="364"/>
                  </a:lnTo>
                  <a:lnTo>
                    <a:pt x="564" y="370"/>
                  </a:lnTo>
                  <a:lnTo>
                    <a:pt x="564" y="367"/>
                  </a:lnTo>
                  <a:lnTo>
                    <a:pt x="564" y="350"/>
                  </a:lnTo>
                  <a:lnTo>
                    <a:pt x="551" y="320"/>
                  </a:lnTo>
                  <a:lnTo>
                    <a:pt x="521" y="274"/>
                  </a:lnTo>
                  <a:lnTo>
                    <a:pt x="501" y="240"/>
                  </a:lnTo>
                  <a:lnTo>
                    <a:pt x="511" y="237"/>
                  </a:lnTo>
                  <a:lnTo>
                    <a:pt x="534" y="247"/>
                  </a:lnTo>
                  <a:lnTo>
                    <a:pt x="548" y="254"/>
                  </a:lnTo>
                  <a:lnTo>
                    <a:pt x="498" y="194"/>
                  </a:lnTo>
                  <a:lnTo>
                    <a:pt x="521" y="180"/>
                  </a:lnTo>
                  <a:lnTo>
                    <a:pt x="514" y="177"/>
                  </a:lnTo>
                  <a:lnTo>
                    <a:pt x="498" y="163"/>
                  </a:lnTo>
                  <a:lnTo>
                    <a:pt x="474" y="150"/>
                  </a:lnTo>
                  <a:lnTo>
                    <a:pt x="454" y="130"/>
                  </a:lnTo>
                  <a:lnTo>
                    <a:pt x="448" y="107"/>
                  </a:lnTo>
                  <a:lnTo>
                    <a:pt x="444" y="77"/>
                  </a:lnTo>
                  <a:lnTo>
                    <a:pt x="438" y="43"/>
                  </a:lnTo>
                  <a:lnTo>
                    <a:pt x="417" y="0"/>
                  </a:lnTo>
                  <a:lnTo>
                    <a:pt x="397" y="7"/>
                  </a:lnTo>
                  <a:lnTo>
                    <a:pt x="371" y="10"/>
                  </a:lnTo>
                  <a:lnTo>
                    <a:pt x="341" y="13"/>
                  </a:lnTo>
                  <a:lnTo>
                    <a:pt x="314" y="17"/>
                  </a:lnTo>
                  <a:lnTo>
                    <a:pt x="284" y="17"/>
                  </a:lnTo>
                  <a:lnTo>
                    <a:pt x="254" y="20"/>
                  </a:lnTo>
                  <a:lnTo>
                    <a:pt x="230" y="20"/>
                  </a:lnTo>
                  <a:lnTo>
                    <a:pt x="21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136880" y="5496480"/>
              <a:ext cx="203040" cy="462600"/>
            </a:xfrm>
            <a:custGeom>
              <a:avLst/>
              <a:gdLst/>
              <a:ahLst/>
              <a:rect l="l" t="t" r="r" b="b"/>
              <a:pathLst>
                <a:path w="394" h="851">
                  <a:moveTo>
                    <a:pt x="227" y="0"/>
                  </a:moveTo>
                  <a:lnTo>
                    <a:pt x="230" y="13"/>
                  </a:lnTo>
                  <a:lnTo>
                    <a:pt x="220" y="33"/>
                  </a:lnTo>
                  <a:lnTo>
                    <a:pt x="210" y="57"/>
                  </a:lnTo>
                  <a:lnTo>
                    <a:pt x="220" y="80"/>
                  </a:lnTo>
                  <a:lnTo>
                    <a:pt x="197" y="94"/>
                  </a:lnTo>
                  <a:lnTo>
                    <a:pt x="204" y="100"/>
                  </a:lnTo>
                  <a:lnTo>
                    <a:pt x="217" y="117"/>
                  </a:lnTo>
                  <a:lnTo>
                    <a:pt x="237" y="140"/>
                  </a:lnTo>
                  <a:lnTo>
                    <a:pt x="264" y="160"/>
                  </a:lnTo>
                  <a:lnTo>
                    <a:pt x="284" y="177"/>
                  </a:lnTo>
                  <a:lnTo>
                    <a:pt x="294" y="207"/>
                  </a:lnTo>
                  <a:lnTo>
                    <a:pt x="304" y="250"/>
                  </a:lnTo>
                  <a:lnTo>
                    <a:pt x="324" y="314"/>
                  </a:lnTo>
                  <a:lnTo>
                    <a:pt x="344" y="307"/>
                  </a:lnTo>
                  <a:lnTo>
                    <a:pt x="347" y="314"/>
                  </a:lnTo>
                  <a:lnTo>
                    <a:pt x="357" y="341"/>
                  </a:lnTo>
                  <a:lnTo>
                    <a:pt x="364" y="394"/>
                  </a:lnTo>
                  <a:lnTo>
                    <a:pt x="367" y="481"/>
                  </a:lnTo>
                  <a:lnTo>
                    <a:pt x="361" y="558"/>
                  </a:lnTo>
                  <a:lnTo>
                    <a:pt x="357" y="591"/>
                  </a:lnTo>
                  <a:lnTo>
                    <a:pt x="361" y="624"/>
                  </a:lnTo>
                  <a:lnTo>
                    <a:pt x="367" y="701"/>
                  </a:lnTo>
                  <a:lnTo>
                    <a:pt x="394" y="678"/>
                  </a:lnTo>
                  <a:lnTo>
                    <a:pt x="391" y="695"/>
                  </a:lnTo>
                  <a:lnTo>
                    <a:pt x="381" y="735"/>
                  </a:lnTo>
                  <a:lnTo>
                    <a:pt x="354" y="791"/>
                  </a:lnTo>
                  <a:lnTo>
                    <a:pt x="307" y="851"/>
                  </a:lnTo>
                  <a:lnTo>
                    <a:pt x="304" y="845"/>
                  </a:lnTo>
                  <a:lnTo>
                    <a:pt x="297" y="821"/>
                  </a:lnTo>
                  <a:lnTo>
                    <a:pt x="290" y="791"/>
                  </a:lnTo>
                  <a:lnTo>
                    <a:pt x="294" y="755"/>
                  </a:lnTo>
                  <a:lnTo>
                    <a:pt x="294" y="721"/>
                  </a:lnTo>
                  <a:lnTo>
                    <a:pt x="284" y="691"/>
                  </a:lnTo>
                  <a:lnTo>
                    <a:pt x="264" y="654"/>
                  </a:lnTo>
                  <a:lnTo>
                    <a:pt x="244" y="604"/>
                  </a:lnTo>
                  <a:lnTo>
                    <a:pt x="280" y="591"/>
                  </a:lnTo>
                  <a:lnTo>
                    <a:pt x="270" y="581"/>
                  </a:lnTo>
                  <a:lnTo>
                    <a:pt x="250" y="551"/>
                  </a:lnTo>
                  <a:lnTo>
                    <a:pt x="227" y="518"/>
                  </a:lnTo>
                  <a:lnTo>
                    <a:pt x="214" y="481"/>
                  </a:lnTo>
                  <a:lnTo>
                    <a:pt x="234" y="467"/>
                  </a:lnTo>
                  <a:lnTo>
                    <a:pt x="227" y="457"/>
                  </a:lnTo>
                  <a:lnTo>
                    <a:pt x="210" y="431"/>
                  </a:lnTo>
                  <a:lnTo>
                    <a:pt x="194" y="397"/>
                  </a:lnTo>
                  <a:lnTo>
                    <a:pt x="184" y="371"/>
                  </a:lnTo>
                  <a:lnTo>
                    <a:pt x="180" y="361"/>
                  </a:lnTo>
                  <a:lnTo>
                    <a:pt x="173" y="351"/>
                  </a:lnTo>
                  <a:lnTo>
                    <a:pt x="167" y="344"/>
                  </a:lnTo>
                  <a:lnTo>
                    <a:pt x="157" y="334"/>
                  </a:lnTo>
                  <a:lnTo>
                    <a:pt x="143" y="324"/>
                  </a:lnTo>
                  <a:lnTo>
                    <a:pt x="127" y="314"/>
                  </a:lnTo>
                  <a:lnTo>
                    <a:pt x="107" y="304"/>
                  </a:lnTo>
                  <a:lnTo>
                    <a:pt x="83" y="291"/>
                  </a:lnTo>
                  <a:lnTo>
                    <a:pt x="43" y="264"/>
                  </a:lnTo>
                  <a:lnTo>
                    <a:pt x="30" y="237"/>
                  </a:lnTo>
                  <a:lnTo>
                    <a:pt x="23" y="210"/>
                  </a:lnTo>
                  <a:lnTo>
                    <a:pt x="10" y="174"/>
                  </a:lnTo>
                  <a:lnTo>
                    <a:pt x="0" y="147"/>
                  </a:lnTo>
                  <a:lnTo>
                    <a:pt x="6" y="134"/>
                  </a:lnTo>
                  <a:lnTo>
                    <a:pt x="16" y="130"/>
                  </a:lnTo>
                  <a:lnTo>
                    <a:pt x="23" y="130"/>
                  </a:lnTo>
                  <a:lnTo>
                    <a:pt x="0" y="87"/>
                  </a:lnTo>
                  <a:lnTo>
                    <a:pt x="16" y="67"/>
                  </a:lnTo>
                  <a:lnTo>
                    <a:pt x="16" y="63"/>
                  </a:lnTo>
                  <a:lnTo>
                    <a:pt x="16" y="60"/>
                  </a:lnTo>
                  <a:lnTo>
                    <a:pt x="16" y="53"/>
                  </a:lnTo>
                  <a:lnTo>
                    <a:pt x="13" y="47"/>
                  </a:lnTo>
                  <a:lnTo>
                    <a:pt x="30" y="43"/>
                  </a:lnTo>
                  <a:lnTo>
                    <a:pt x="53" y="37"/>
                  </a:lnTo>
                  <a:lnTo>
                    <a:pt x="83" y="30"/>
                  </a:lnTo>
                  <a:lnTo>
                    <a:pt x="117" y="23"/>
                  </a:lnTo>
                  <a:lnTo>
                    <a:pt x="150" y="17"/>
                  </a:lnTo>
                  <a:lnTo>
                    <a:pt x="180" y="10"/>
                  </a:lnTo>
                  <a:lnTo>
                    <a:pt x="207" y="3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503360" y="5492520"/>
              <a:ext cx="179280" cy="502920"/>
            </a:xfrm>
            <a:custGeom>
              <a:avLst/>
              <a:gdLst/>
              <a:ahLst/>
              <a:rect l="l" t="t" r="r" b="b"/>
              <a:pathLst>
                <a:path w="348" h="925">
                  <a:moveTo>
                    <a:pt x="57" y="0"/>
                  </a:moveTo>
                  <a:lnTo>
                    <a:pt x="64" y="64"/>
                  </a:lnTo>
                  <a:lnTo>
                    <a:pt x="61" y="127"/>
                  </a:lnTo>
                  <a:lnTo>
                    <a:pt x="64" y="194"/>
                  </a:lnTo>
                  <a:lnTo>
                    <a:pt x="84" y="247"/>
                  </a:lnTo>
                  <a:lnTo>
                    <a:pt x="104" y="274"/>
                  </a:lnTo>
                  <a:lnTo>
                    <a:pt x="127" y="301"/>
                  </a:lnTo>
                  <a:lnTo>
                    <a:pt x="147" y="324"/>
                  </a:lnTo>
                  <a:lnTo>
                    <a:pt x="167" y="348"/>
                  </a:lnTo>
                  <a:lnTo>
                    <a:pt x="184" y="374"/>
                  </a:lnTo>
                  <a:lnTo>
                    <a:pt x="191" y="398"/>
                  </a:lnTo>
                  <a:lnTo>
                    <a:pt x="194" y="424"/>
                  </a:lnTo>
                  <a:lnTo>
                    <a:pt x="187" y="451"/>
                  </a:lnTo>
                  <a:lnTo>
                    <a:pt x="161" y="491"/>
                  </a:lnTo>
                  <a:lnTo>
                    <a:pt x="134" y="518"/>
                  </a:lnTo>
                  <a:lnTo>
                    <a:pt x="121" y="545"/>
                  </a:lnTo>
                  <a:lnTo>
                    <a:pt x="127" y="591"/>
                  </a:lnTo>
                  <a:lnTo>
                    <a:pt x="134" y="648"/>
                  </a:lnTo>
                  <a:lnTo>
                    <a:pt x="127" y="695"/>
                  </a:lnTo>
                  <a:lnTo>
                    <a:pt x="111" y="728"/>
                  </a:lnTo>
                  <a:lnTo>
                    <a:pt x="91" y="748"/>
                  </a:lnTo>
                  <a:lnTo>
                    <a:pt x="77" y="755"/>
                  </a:lnTo>
                  <a:lnTo>
                    <a:pt x="67" y="758"/>
                  </a:lnTo>
                  <a:lnTo>
                    <a:pt x="57" y="758"/>
                  </a:lnTo>
                  <a:lnTo>
                    <a:pt x="61" y="762"/>
                  </a:lnTo>
                  <a:lnTo>
                    <a:pt x="87" y="765"/>
                  </a:lnTo>
                  <a:lnTo>
                    <a:pt x="107" y="762"/>
                  </a:lnTo>
                  <a:lnTo>
                    <a:pt x="121" y="758"/>
                  </a:lnTo>
                  <a:lnTo>
                    <a:pt x="127" y="755"/>
                  </a:lnTo>
                  <a:lnTo>
                    <a:pt x="104" y="788"/>
                  </a:lnTo>
                  <a:lnTo>
                    <a:pt x="77" y="818"/>
                  </a:lnTo>
                  <a:lnTo>
                    <a:pt x="50" y="848"/>
                  </a:lnTo>
                  <a:lnTo>
                    <a:pt x="27" y="875"/>
                  </a:lnTo>
                  <a:lnTo>
                    <a:pt x="10" y="899"/>
                  </a:lnTo>
                  <a:lnTo>
                    <a:pt x="0" y="915"/>
                  </a:lnTo>
                  <a:lnTo>
                    <a:pt x="0" y="922"/>
                  </a:lnTo>
                  <a:lnTo>
                    <a:pt x="17" y="925"/>
                  </a:lnTo>
                  <a:lnTo>
                    <a:pt x="40" y="919"/>
                  </a:lnTo>
                  <a:lnTo>
                    <a:pt x="57" y="912"/>
                  </a:lnTo>
                  <a:lnTo>
                    <a:pt x="74" y="899"/>
                  </a:lnTo>
                  <a:lnTo>
                    <a:pt x="87" y="885"/>
                  </a:lnTo>
                  <a:lnTo>
                    <a:pt x="104" y="869"/>
                  </a:lnTo>
                  <a:lnTo>
                    <a:pt x="121" y="848"/>
                  </a:lnTo>
                  <a:lnTo>
                    <a:pt x="141" y="825"/>
                  </a:lnTo>
                  <a:lnTo>
                    <a:pt x="164" y="798"/>
                  </a:lnTo>
                  <a:lnTo>
                    <a:pt x="191" y="772"/>
                  </a:lnTo>
                  <a:lnTo>
                    <a:pt x="214" y="748"/>
                  </a:lnTo>
                  <a:lnTo>
                    <a:pt x="231" y="728"/>
                  </a:lnTo>
                  <a:lnTo>
                    <a:pt x="251" y="708"/>
                  </a:lnTo>
                  <a:lnTo>
                    <a:pt x="264" y="685"/>
                  </a:lnTo>
                  <a:lnTo>
                    <a:pt x="274" y="661"/>
                  </a:lnTo>
                  <a:lnTo>
                    <a:pt x="288" y="635"/>
                  </a:lnTo>
                  <a:lnTo>
                    <a:pt x="294" y="605"/>
                  </a:lnTo>
                  <a:lnTo>
                    <a:pt x="301" y="558"/>
                  </a:lnTo>
                  <a:lnTo>
                    <a:pt x="294" y="531"/>
                  </a:lnTo>
                  <a:lnTo>
                    <a:pt x="288" y="511"/>
                  </a:lnTo>
                  <a:lnTo>
                    <a:pt x="288" y="474"/>
                  </a:lnTo>
                  <a:lnTo>
                    <a:pt x="304" y="434"/>
                  </a:lnTo>
                  <a:lnTo>
                    <a:pt x="324" y="411"/>
                  </a:lnTo>
                  <a:lnTo>
                    <a:pt x="341" y="404"/>
                  </a:lnTo>
                  <a:lnTo>
                    <a:pt x="348" y="401"/>
                  </a:lnTo>
                  <a:lnTo>
                    <a:pt x="314" y="364"/>
                  </a:lnTo>
                  <a:lnTo>
                    <a:pt x="298" y="328"/>
                  </a:lnTo>
                  <a:lnTo>
                    <a:pt x="291" y="301"/>
                  </a:lnTo>
                  <a:lnTo>
                    <a:pt x="288" y="291"/>
                  </a:lnTo>
                  <a:lnTo>
                    <a:pt x="318" y="284"/>
                  </a:lnTo>
                  <a:lnTo>
                    <a:pt x="274" y="227"/>
                  </a:lnTo>
                  <a:lnTo>
                    <a:pt x="261" y="154"/>
                  </a:lnTo>
                  <a:lnTo>
                    <a:pt x="241" y="90"/>
                  </a:lnTo>
                  <a:lnTo>
                    <a:pt x="221" y="44"/>
                  </a:lnTo>
                  <a:lnTo>
                    <a:pt x="204" y="10"/>
                  </a:lnTo>
                  <a:lnTo>
                    <a:pt x="184" y="10"/>
                  </a:lnTo>
                  <a:lnTo>
                    <a:pt x="164" y="7"/>
                  </a:lnTo>
                  <a:lnTo>
                    <a:pt x="144" y="7"/>
                  </a:lnTo>
                  <a:lnTo>
                    <a:pt x="127" y="4"/>
                  </a:lnTo>
                  <a:lnTo>
                    <a:pt x="107" y="4"/>
                  </a:lnTo>
                  <a:lnTo>
                    <a:pt x="91" y="4"/>
                  </a:lnTo>
                  <a:lnTo>
                    <a:pt x="74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560600" y="5442120"/>
              <a:ext cx="411120" cy="904680"/>
            </a:xfrm>
            <a:custGeom>
              <a:avLst/>
              <a:gdLst/>
              <a:ahLst/>
              <a:rect l="l" t="t" r="r" b="b"/>
              <a:pathLst>
                <a:path w="798" h="1663">
                  <a:moveTo>
                    <a:pt x="681" y="0"/>
                  </a:moveTo>
                  <a:lnTo>
                    <a:pt x="685" y="10"/>
                  </a:lnTo>
                  <a:lnTo>
                    <a:pt x="688" y="20"/>
                  </a:lnTo>
                  <a:lnTo>
                    <a:pt x="691" y="30"/>
                  </a:lnTo>
                  <a:lnTo>
                    <a:pt x="711" y="40"/>
                  </a:lnTo>
                  <a:lnTo>
                    <a:pt x="738" y="60"/>
                  </a:lnTo>
                  <a:lnTo>
                    <a:pt x="755" y="80"/>
                  </a:lnTo>
                  <a:lnTo>
                    <a:pt x="765" y="103"/>
                  </a:lnTo>
                  <a:lnTo>
                    <a:pt x="775" y="137"/>
                  </a:lnTo>
                  <a:lnTo>
                    <a:pt x="781" y="177"/>
                  </a:lnTo>
                  <a:lnTo>
                    <a:pt x="775" y="214"/>
                  </a:lnTo>
                  <a:lnTo>
                    <a:pt x="765" y="244"/>
                  </a:lnTo>
                  <a:lnTo>
                    <a:pt x="761" y="254"/>
                  </a:lnTo>
                  <a:lnTo>
                    <a:pt x="771" y="287"/>
                  </a:lnTo>
                  <a:lnTo>
                    <a:pt x="775" y="304"/>
                  </a:lnTo>
                  <a:lnTo>
                    <a:pt x="775" y="320"/>
                  </a:lnTo>
                  <a:lnTo>
                    <a:pt x="781" y="340"/>
                  </a:lnTo>
                  <a:lnTo>
                    <a:pt x="791" y="367"/>
                  </a:lnTo>
                  <a:lnTo>
                    <a:pt x="798" y="391"/>
                  </a:lnTo>
                  <a:lnTo>
                    <a:pt x="788" y="407"/>
                  </a:lnTo>
                  <a:lnTo>
                    <a:pt x="761" y="421"/>
                  </a:lnTo>
                  <a:lnTo>
                    <a:pt x="745" y="427"/>
                  </a:lnTo>
                  <a:lnTo>
                    <a:pt x="728" y="437"/>
                  </a:lnTo>
                  <a:lnTo>
                    <a:pt x="711" y="447"/>
                  </a:lnTo>
                  <a:lnTo>
                    <a:pt x="698" y="454"/>
                  </a:lnTo>
                  <a:lnTo>
                    <a:pt x="681" y="457"/>
                  </a:lnTo>
                  <a:lnTo>
                    <a:pt x="668" y="454"/>
                  </a:lnTo>
                  <a:lnTo>
                    <a:pt x="651" y="444"/>
                  </a:lnTo>
                  <a:lnTo>
                    <a:pt x="631" y="421"/>
                  </a:lnTo>
                  <a:lnTo>
                    <a:pt x="611" y="397"/>
                  </a:lnTo>
                  <a:lnTo>
                    <a:pt x="594" y="384"/>
                  </a:lnTo>
                  <a:lnTo>
                    <a:pt x="578" y="377"/>
                  </a:lnTo>
                  <a:lnTo>
                    <a:pt x="561" y="377"/>
                  </a:lnTo>
                  <a:lnTo>
                    <a:pt x="548" y="380"/>
                  </a:lnTo>
                  <a:lnTo>
                    <a:pt x="531" y="380"/>
                  </a:lnTo>
                  <a:lnTo>
                    <a:pt x="517" y="384"/>
                  </a:lnTo>
                  <a:lnTo>
                    <a:pt x="501" y="384"/>
                  </a:lnTo>
                  <a:lnTo>
                    <a:pt x="467" y="384"/>
                  </a:lnTo>
                  <a:lnTo>
                    <a:pt x="441" y="397"/>
                  </a:lnTo>
                  <a:lnTo>
                    <a:pt x="431" y="414"/>
                  </a:lnTo>
                  <a:lnTo>
                    <a:pt x="447" y="437"/>
                  </a:lnTo>
                  <a:lnTo>
                    <a:pt x="471" y="457"/>
                  </a:lnTo>
                  <a:lnTo>
                    <a:pt x="487" y="474"/>
                  </a:lnTo>
                  <a:lnTo>
                    <a:pt x="504" y="487"/>
                  </a:lnTo>
                  <a:lnTo>
                    <a:pt x="528" y="494"/>
                  </a:lnTo>
                  <a:lnTo>
                    <a:pt x="541" y="494"/>
                  </a:lnTo>
                  <a:lnTo>
                    <a:pt x="558" y="494"/>
                  </a:lnTo>
                  <a:lnTo>
                    <a:pt x="571" y="494"/>
                  </a:lnTo>
                  <a:lnTo>
                    <a:pt x="588" y="491"/>
                  </a:lnTo>
                  <a:lnTo>
                    <a:pt x="604" y="494"/>
                  </a:lnTo>
                  <a:lnTo>
                    <a:pt x="624" y="501"/>
                  </a:lnTo>
                  <a:lnTo>
                    <a:pt x="641" y="511"/>
                  </a:lnTo>
                  <a:lnTo>
                    <a:pt x="658" y="531"/>
                  </a:lnTo>
                  <a:lnTo>
                    <a:pt x="675" y="554"/>
                  </a:lnTo>
                  <a:lnTo>
                    <a:pt x="695" y="581"/>
                  </a:lnTo>
                  <a:lnTo>
                    <a:pt x="711" y="608"/>
                  </a:lnTo>
                  <a:lnTo>
                    <a:pt x="728" y="631"/>
                  </a:lnTo>
                  <a:lnTo>
                    <a:pt x="741" y="654"/>
                  </a:lnTo>
                  <a:lnTo>
                    <a:pt x="751" y="674"/>
                  </a:lnTo>
                  <a:lnTo>
                    <a:pt x="758" y="688"/>
                  </a:lnTo>
                  <a:lnTo>
                    <a:pt x="761" y="691"/>
                  </a:lnTo>
                  <a:lnTo>
                    <a:pt x="735" y="674"/>
                  </a:lnTo>
                  <a:lnTo>
                    <a:pt x="718" y="661"/>
                  </a:lnTo>
                  <a:lnTo>
                    <a:pt x="705" y="654"/>
                  </a:lnTo>
                  <a:lnTo>
                    <a:pt x="701" y="654"/>
                  </a:lnTo>
                  <a:lnTo>
                    <a:pt x="695" y="654"/>
                  </a:lnTo>
                  <a:lnTo>
                    <a:pt x="688" y="658"/>
                  </a:lnTo>
                  <a:lnTo>
                    <a:pt x="675" y="664"/>
                  </a:lnTo>
                  <a:lnTo>
                    <a:pt x="651" y="671"/>
                  </a:lnTo>
                  <a:lnTo>
                    <a:pt x="624" y="674"/>
                  </a:lnTo>
                  <a:lnTo>
                    <a:pt x="604" y="674"/>
                  </a:lnTo>
                  <a:lnTo>
                    <a:pt x="588" y="674"/>
                  </a:lnTo>
                  <a:lnTo>
                    <a:pt x="571" y="674"/>
                  </a:lnTo>
                  <a:lnTo>
                    <a:pt x="558" y="674"/>
                  </a:lnTo>
                  <a:lnTo>
                    <a:pt x="548" y="674"/>
                  </a:lnTo>
                  <a:lnTo>
                    <a:pt x="534" y="678"/>
                  </a:lnTo>
                  <a:lnTo>
                    <a:pt x="521" y="684"/>
                  </a:lnTo>
                  <a:lnTo>
                    <a:pt x="494" y="704"/>
                  </a:lnTo>
                  <a:lnTo>
                    <a:pt x="477" y="738"/>
                  </a:lnTo>
                  <a:lnTo>
                    <a:pt x="467" y="785"/>
                  </a:lnTo>
                  <a:lnTo>
                    <a:pt x="461" y="841"/>
                  </a:lnTo>
                  <a:lnTo>
                    <a:pt x="457" y="871"/>
                  </a:lnTo>
                  <a:lnTo>
                    <a:pt x="447" y="901"/>
                  </a:lnTo>
                  <a:lnTo>
                    <a:pt x="434" y="928"/>
                  </a:lnTo>
                  <a:lnTo>
                    <a:pt x="417" y="955"/>
                  </a:lnTo>
                  <a:lnTo>
                    <a:pt x="401" y="982"/>
                  </a:lnTo>
                  <a:lnTo>
                    <a:pt x="381" y="1008"/>
                  </a:lnTo>
                  <a:lnTo>
                    <a:pt x="360" y="1038"/>
                  </a:lnTo>
                  <a:lnTo>
                    <a:pt x="340" y="1068"/>
                  </a:lnTo>
                  <a:lnTo>
                    <a:pt x="324" y="1098"/>
                  </a:lnTo>
                  <a:lnTo>
                    <a:pt x="307" y="1122"/>
                  </a:lnTo>
                  <a:lnTo>
                    <a:pt x="297" y="1145"/>
                  </a:lnTo>
                  <a:lnTo>
                    <a:pt x="284" y="1162"/>
                  </a:lnTo>
                  <a:lnTo>
                    <a:pt x="270" y="1182"/>
                  </a:lnTo>
                  <a:lnTo>
                    <a:pt x="257" y="1199"/>
                  </a:lnTo>
                  <a:lnTo>
                    <a:pt x="240" y="1215"/>
                  </a:lnTo>
                  <a:lnTo>
                    <a:pt x="223" y="1235"/>
                  </a:lnTo>
                  <a:lnTo>
                    <a:pt x="207" y="1255"/>
                  </a:lnTo>
                  <a:lnTo>
                    <a:pt x="200" y="1275"/>
                  </a:lnTo>
                  <a:lnTo>
                    <a:pt x="200" y="1292"/>
                  </a:lnTo>
                  <a:lnTo>
                    <a:pt x="207" y="1305"/>
                  </a:lnTo>
                  <a:lnTo>
                    <a:pt x="217" y="1312"/>
                  </a:lnTo>
                  <a:lnTo>
                    <a:pt x="234" y="1312"/>
                  </a:lnTo>
                  <a:lnTo>
                    <a:pt x="254" y="1309"/>
                  </a:lnTo>
                  <a:lnTo>
                    <a:pt x="277" y="1295"/>
                  </a:lnTo>
                  <a:lnTo>
                    <a:pt x="314" y="1255"/>
                  </a:lnTo>
                  <a:lnTo>
                    <a:pt x="330" y="1212"/>
                  </a:lnTo>
                  <a:lnTo>
                    <a:pt x="347" y="1169"/>
                  </a:lnTo>
                  <a:lnTo>
                    <a:pt x="374" y="1135"/>
                  </a:lnTo>
                  <a:lnTo>
                    <a:pt x="401" y="1118"/>
                  </a:lnTo>
                  <a:lnTo>
                    <a:pt x="417" y="1112"/>
                  </a:lnTo>
                  <a:lnTo>
                    <a:pt x="431" y="1112"/>
                  </a:lnTo>
                  <a:lnTo>
                    <a:pt x="454" y="1098"/>
                  </a:lnTo>
                  <a:lnTo>
                    <a:pt x="477" y="1075"/>
                  </a:lnTo>
                  <a:lnTo>
                    <a:pt x="491" y="1048"/>
                  </a:lnTo>
                  <a:lnTo>
                    <a:pt x="504" y="1035"/>
                  </a:lnTo>
                  <a:lnTo>
                    <a:pt x="528" y="1038"/>
                  </a:lnTo>
                  <a:lnTo>
                    <a:pt x="558" y="1052"/>
                  </a:lnTo>
                  <a:lnTo>
                    <a:pt x="588" y="1062"/>
                  </a:lnTo>
                  <a:lnTo>
                    <a:pt x="611" y="1065"/>
                  </a:lnTo>
                  <a:lnTo>
                    <a:pt x="621" y="1065"/>
                  </a:lnTo>
                  <a:lnTo>
                    <a:pt x="608" y="1092"/>
                  </a:lnTo>
                  <a:lnTo>
                    <a:pt x="594" y="1118"/>
                  </a:lnTo>
                  <a:lnTo>
                    <a:pt x="581" y="1149"/>
                  </a:lnTo>
                  <a:lnTo>
                    <a:pt x="571" y="1179"/>
                  </a:lnTo>
                  <a:lnTo>
                    <a:pt x="538" y="1179"/>
                  </a:lnTo>
                  <a:lnTo>
                    <a:pt x="517" y="1179"/>
                  </a:lnTo>
                  <a:lnTo>
                    <a:pt x="507" y="1182"/>
                  </a:lnTo>
                  <a:lnTo>
                    <a:pt x="501" y="1185"/>
                  </a:lnTo>
                  <a:lnTo>
                    <a:pt x="497" y="1189"/>
                  </a:lnTo>
                  <a:lnTo>
                    <a:pt x="497" y="1195"/>
                  </a:lnTo>
                  <a:lnTo>
                    <a:pt x="491" y="1209"/>
                  </a:lnTo>
                  <a:lnTo>
                    <a:pt x="481" y="1222"/>
                  </a:lnTo>
                  <a:lnTo>
                    <a:pt x="464" y="1235"/>
                  </a:lnTo>
                  <a:lnTo>
                    <a:pt x="447" y="1245"/>
                  </a:lnTo>
                  <a:lnTo>
                    <a:pt x="431" y="1255"/>
                  </a:lnTo>
                  <a:lnTo>
                    <a:pt x="414" y="1262"/>
                  </a:lnTo>
                  <a:lnTo>
                    <a:pt x="401" y="1269"/>
                  </a:lnTo>
                  <a:lnTo>
                    <a:pt x="391" y="1279"/>
                  </a:lnTo>
                  <a:lnTo>
                    <a:pt x="387" y="1289"/>
                  </a:lnTo>
                  <a:lnTo>
                    <a:pt x="387" y="1302"/>
                  </a:lnTo>
                  <a:lnTo>
                    <a:pt x="397" y="1315"/>
                  </a:lnTo>
                  <a:lnTo>
                    <a:pt x="417" y="1322"/>
                  </a:lnTo>
                  <a:lnTo>
                    <a:pt x="444" y="1329"/>
                  </a:lnTo>
                  <a:lnTo>
                    <a:pt x="471" y="1329"/>
                  </a:lnTo>
                  <a:lnTo>
                    <a:pt x="497" y="1329"/>
                  </a:lnTo>
                  <a:lnTo>
                    <a:pt x="521" y="1325"/>
                  </a:lnTo>
                  <a:lnTo>
                    <a:pt x="538" y="1322"/>
                  </a:lnTo>
                  <a:lnTo>
                    <a:pt x="544" y="1322"/>
                  </a:lnTo>
                  <a:lnTo>
                    <a:pt x="548" y="1359"/>
                  </a:lnTo>
                  <a:lnTo>
                    <a:pt x="554" y="1396"/>
                  </a:lnTo>
                  <a:lnTo>
                    <a:pt x="564" y="1429"/>
                  </a:lnTo>
                  <a:lnTo>
                    <a:pt x="578" y="1462"/>
                  </a:lnTo>
                  <a:lnTo>
                    <a:pt x="554" y="1506"/>
                  </a:lnTo>
                  <a:lnTo>
                    <a:pt x="521" y="1546"/>
                  </a:lnTo>
                  <a:lnTo>
                    <a:pt x="481" y="1579"/>
                  </a:lnTo>
                  <a:lnTo>
                    <a:pt x="437" y="1609"/>
                  </a:lnTo>
                  <a:lnTo>
                    <a:pt x="394" y="1633"/>
                  </a:lnTo>
                  <a:lnTo>
                    <a:pt x="360" y="1649"/>
                  </a:lnTo>
                  <a:lnTo>
                    <a:pt x="337" y="1659"/>
                  </a:lnTo>
                  <a:lnTo>
                    <a:pt x="327" y="1663"/>
                  </a:lnTo>
                  <a:lnTo>
                    <a:pt x="314" y="1649"/>
                  </a:lnTo>
                  <a:lnTo>
                    <a:pt x="297" y="1629"/>
                  </a:lnTo>
                  <a:lnTo>
                    <a:pt x="277" y="1606"/>
                  </a:lnTo>
                  <a:lnTo>
                    <a:pt x="254" y="1579"/>
                  </a:lnTo>
                  <a:lnTo>
                    <a:pt x="284" y="1569"/>
                  </a:lnTo>
                  <a:lnTo>
                    <a:pt x="307" y="1563"/>
                  </a:lnTo>
                  <a:lnTo>
                    <a:pt x="327" y="1563"/>
                  </a:lnTo>
                  <a:lnTo>
                    <a:pt x="340" y="1563"/>
                  </a:lnTo>
                  <a:lnTo>
                    <a:pt x="354" y="1563"/>
                  </a:lnTo>
                  <a:lnTo>
                    <a:pt x="367" y="1559"/>
                  </a:lnTo>
                  <a:lnTo>
                    <a:pt x="381" y="1549"/>
                  </a:lnTo>
                  <a:lnTo>
                    <a:pt x="394" y="1536"/>
                  </a:lnTo>
                  <a:lnTo>
                    <a:pt x="421" y="1502"/>
                  </a:lnTo>
                  <a:lnTo>
                    <a:pt x="437" y="1479"/>
                  </a:lnTo>
                  <a:lnTo>
                    <a:pt x="434" y="1462"/>
                  </a:lnTo>
                  <a:lnTo>
                    <a:pt x="401" y="1456"/>
                  </a:lnTo>
                  <a:lnTo>
                    <a:pt x="374" y="1452"/>
                  </a:lnTo>
                  <a:lnTo>
                    <a:pt x="347" y="1452"/>
                  </a:lnTo>
                  <a:lnTo>
                    <a:pt x="320" y="1452"/>
                  </a:lnTo>
                  <a:lnTo>
                    <a:pt x="294" y="1449"/>
                  </a:lnTo>
                  <a:lnTo>
                    <a:pt x="270" y="1449"/>
                  </a:lnTo>
                  <a:lnTo>
                    <a:pt x="254" y="1446"/>
                  </a:lnTo>
                  <a:lnTo>
                    <a:pt x="240" y="1439"/>
                  </a:lnTo>
                  <a:lnTo>
                    <a:pt x="237" y="1432"/>
                  </a:lnTo>
                  <a:lnTo>
                    <a:pt x="244" y="1416"/>
                  </a:lnTo>
                  <a:lnTo>
                    <a:pt x="257" y="1402"/>
                  </a:lnTo>
                  <a:lnTo>
                    <a:pt x="257" y="1399"/>
                  </a:lnTo>
                  <a:lnTo>
                    <a:pt x="230" y="1412"/>
                  </a:lnTo>
                  <a:lnTo>
                    <a:pt x="203" y="1422"/>
                  </a:lnTo>
                  <a:lnTo>
                    <a:pt x="183" y="1432"/>
                  </a:lnTo>
                  <a:lnTo>
                    <a:pt x="163" y="1436"/>
                  </a:lnTo>
                  <a:lnTo>
                    <a:pt x="147" y="1436"/>
                  </a:lnTo>
                  <a:lnTo>
                    <a:pt x="113" y="1382"/>
                  </a:lnTo>
                  <a:lnTo>
                    <a:pt x="87" y="1329"/>
                  </a:lnTo>
                  <a:lnTo>
                    <a:pt x="70" y="1279"/>
                  </a:lnTo>
                  <a:lnTo>
                    <a:pt x="60" y="1232"/>
                  </a:lnTo>
                  <a:lnTo>
                    <a:pt x="53" y="1229"/>
                  </a:lnTo>
                  <a:lnTo>
                    <a:pt x="36" y="1225"/>
                  </a:lnTo>
                  <a:lnTo>
                    <a:pt x="16" y="1219"/>
                  </a:lnTo>
                  <a:lnTo>
                    <a:pt x="0" y="1219"/>
                  </a:lnTo>
                  <a:lnTo>
                    <a:pt x="0" y="1179"/>
                  </a:lnTo>
                  <a:lnTo>
                    <a:pt x="10" y="1138"/>
                  </a:lnTo>
                  <a:lnTo>
                    <a:pt x="30" y="1098"/>
                  </a:lnTo>
                  <a:lnTo>
                    <a:pt x="63" y="1058"/>
                  </a:lnTo>
                  <a:lnTo>
                    <a:pt x="100" y="1022"/>
                  </a:lnTo>
                  <a:lnTo>
                    <a:pt x="127" y="995"/>
                  </a:lnTo>
                  <a:lnTo>
                    <a:pt x="143" y="975"/>
                  </a:lnTo>
                  <a:lnTo>
                    <a:pt x="157" y="962"/>
                  </a:lnTo>
                  <a:lnTo>
                    <a:pt x="167" y="948"/>
                  </a:lnTo>
                  <a:lnTo>
                    <a:pt x="170" y="931"/>
                  </a:lnTo>
                  <a:lnTo>
                    <a:pt x="177" y="915"/>
                  </a:lnTo>
                  <a:lnTo>
                    <a:pt x="183" y="891"/>
                  </a:lnTo>
                  <a:lnTo>
                    <a:pt x="190" y="865"/>
                  </a:lnTo>
                  <a:lnTo>
                    <a:pt x="197" y="835"/>
                  </a:lnTo>
                  <a:lnTo>
                    <a:pt x="207" y="805"/>
                  </a:lnTo>
                  <a:lnTo>
                    <a:pt x="217" y="775"/>
                  </a:lnTo>
                  <a:lnTo>
                    <a:pt x="227" y="748"/>
                  </a:lnTo>
                  <a:lnTo>
                    <a:pt x="244" y="721"/>
                  </a:lnTo>
                  <a:lnTo>
                    <a:pt x="260" y="698"/>
                  </a:lnTo>
                  <a:lnTo>
                    <a:pt x="284" y="678"/>
                  </a:lnTo>
                  <a:lnTo>
                    <a:pt x="307" y="658"/>
                  </a:lnTo>
                  <a:lnTo>
                    <a:pt x="327" y="638"/>
                  </a:lnTo>
                  <a:lnTo>
                    <a:pt x="347" y="614"/>
                  </a:lnTo>
                  <a:lnTo>
                    <a:pt x="364" y="591"/>
                  </a:lnTo>
                  <a:lnTo>
                    <a:pt x="377" y="571"/>
                  </a:lnTo>
                  <a:lnTo>
                    <a:pt x="387" y="547"/>
                  </a:lnTo>
                  <a:lnTo>
                    <a:pt x="391" y="527"/>
                  </a:lnTo>
                  <a:lnTo>
                    <a:pt x="387" y="507"/>
                  </a:lnTo>
                  <a:lnTo>
                    <a:pt x="374" y="477"/>
                  </a:lnTo>
                  <a:lnTo>
                    <a:pt x="364" y="457"/>
                  </a:lnTo>
                  <a:lnTo>
                    <a:pt x="354" y="431"/>
                  </a:lnTo>
                  <a:lnTo>
                    <a:pt x="354" y="384"/>
                  </a:lnTo>
                  <a:lnTo>
                    <a:pt x="347" y="330"/>
                  </a:lnTo>
                  <a:lnTo>
                    <a:pt x="330" y="284"/>
                  </a:lnTo>
                  <a:lnTo>
                    <a:pt x="307" y="240"/>
                  </a:lnTo>
                  <a:lnTo>
                    <a:pt x="290" y="204"/>
                  </a:lnTo>
                  <a:lnTo>
                    <a:pt x="284" y="180"/>
                  </a:lnTo>
                  <a:lnTo>
                    <a:pt x="284" y="157"/>
                  </a:lnTo>
                  <a:lnTo>
                    <a:pt x="284" y="133"/>
                  </a:lnTo>
                  <a:lnTo>
                    <a:pt x="287" y="113"/>
                  </a:lnTo>
                  <a:lnTo>
                    <a:pt x="304" y="117"/>
                  </a:lnTo>
                  <a:lnTo>
                    <a:pt x="320" y="117"/>
                  </a:lnTo>
                  <a:lnTo>
                    <a:pt x="337" y="117"/>
                  </a:lnTo>
                  <a:lnTo>
                    <a:pt x="354" y="120"/>
                  </a:lnTo>
                  <a:lnTo>
                    <a:pt x="384" y="127"/>
                  </a:lnTo>
                  <a:lnTo>
                    <a:pt x="421" y="130"/>
                  </a:lnTo>
                  <a:lnTo>
                    <a:pt x="464" y="137"/>
                  </a:lnTo>
                  <a:lnTo>
                    <a:pt x="507" y="140"/>
                  </a:lnTo>
                  <a:lnTo>
                    <a:pt x="548" y="140"/>
                  </a:lnTo>
                  <a:lnTo>
                    <a:pt x="584" y="140"/>
                  </a:lnTo>
                  <a:lnTo>
                    <a:pt x="618" y="133"/>
                  </a:lnTo>
                  <a:lnTo>
                    <a:pt x="638" y="120"/>
                  </a:lnTo>
                  <a:lnTo>
                    <a:pt x="648" y="100"/>
                  </a:lnTo>
                  <a:lnTo>
                    <a:pt x="658" y="70"/>
                  </a:lnTo>
                  <a:lnTo>
                    <a:pt x="668" y="33"/>
                  </a:lnTo>
                  <a:lnTo>
                    <a:pt x="6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47960" y="5285880"/>
              <a:ext cx="143280" cy="142920"/>
            </a:xfrm>
            <a:custGeom>
              <a:avLst/>
              <a:gdLst/>
              <a:ahLst/>
              <a:rect l="l" t="t" r="r" b="b"/>
              <a:pathLst>
                <a:path w="278" h="263">
                  <a:moveTo>
                    <a:pt x="0" y="147"/>
                  </a:moveTo>
                  <a:lnTo>
                    <a:pt x="34" y="163"/>
                  </a:lnTo>
                  <a:lnTo>
                    <a:pt x="54" y="183"/>
                  </a:lnTo>
                  <a:lnTo>
                    <a:pt x="67" y="203"/>
                  </a:lnTo>
                  <a:lnTo>
                    <a:pt x="71" y="210"/>
                  </a:lnTo>
                  <a:lnTo>
                    <a:pt x="94" y="217"/>
                  </a:lnTo>
                  <a:lnTo>
                    <a:pt x="114" y="220"/>
                  </a:lnTo>
                  <a:lnTo>
                    <a:pt x="131" y="230"/>
                  </a:lnTo>
                  <a:lnTo>
                    <a:pt x="144" y="237"/>
                  </a:lnTo>
                  <a:lnTo>
                    <a:pt x="157" y="243"/>
                  </a:lnTo>
                  <a:lnTo>
                    <a:pt x="167" y="250"/>
                  </a:lnTo>
                  <a:lnTo>
                    <a:pt x="177" y="257"/>
                  </a:lnTo>
                  <a:lnTo>
                    <a:pt x="187" y="263"/>
                  </a:lnTo>
                  <a:lnTo>
                    <a:pt x="207" y="220"/>
                  </a:lnTo>
                  <a:lnTo>
                    <a:pt x="234" y="177"/>
                  </a:lnTo>
                  <a:lnTo>
                    <a:pt x="258" y="133"/>
                  </a:lnTo>
                  <a:lnTo>
                    <a:pt x="278" y="93"/>
                  </a:lnTo>
                  <a:lnTo>
                    <a:pt x="261" y="50"/>
                  </a:lnTo>
                  <a:lnTo>
                    <a:pt x="251" y="23"/>
                  </a:lnTo>
                  <a:lnTo>
                    <a:pt x="234" y="10"/>
                  </a:lnTo>
                  <a:lnTo>
                    <a:pt x="194" y="6"/>
                  </a:lnTo>
                  <a:lnTo>
                    <a:pt x="164" y="6"/>
                  </a:lnTo>
                  <a:lnTo>
                    <a:pt x="137" y="3"/>
                  </a:lnTo>
                  <a:lnTo>
                    <a:pt x="117" y="3"/>
                  </a:lnTo>
                  <a:lnTo>
                    <a:pt x="101" y="0"/>
                  </a:lnTo>
                  <a:lnTo>
                    <a:pt x="84" y="26"/>
                  </a:lnTo>
                  <a:lnTo>
                    <a:pt x="64" y="50"/>
                  </a:lnTo>
                  <a:lnTo>
                    <a:pt x="50" y="73"/>
                  </a:lnTo>
                  <a:lnTo>
                    <a:pt x="37" y="93"/>
                  </a:lnTo>
                  <a:lnTo>
                    <a:pt x="24" y="113"/>
                  </a:lnTo>
                  <a:lnTo>
                    <a:pt x="14" y="127"/>
                  </a:lnTo>
                  <a:lnTo>
                    <a:pt x="7" y="140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60280" y="4931640"/>
              <a:ext cx="137520" cy="322920"/>
            </a:xfrm>
            <a:custGeom>
              <a:avLst/>
              <a:gdLst/>
              <a:ahLst/>
              <a:rect l="l" t="t" r="r" b="b"/>
              <a:pathLst>
                <a:path w="267" h="594">
                  <a:moveTo>
                    <a:pt x="0" y="464"/>
                  </a:moveTo>
                  <a:lnTo>
                    <a:pt x="3" y="464"/>
                  </a:lnTo>
                  <a:lnTo>
                    <a:pt x="13" y="467"/>
                  </a:lnTo>
                  <a:lnTo>
                    <a:pt x="26" y="474"/>
                  </a:lnTo>
                  <a:lnTo>
                    <a:pt x="33" y="484"/>
                  </a:lnTo>
                  <a:lnTo>
                    <a:pt x="50" y="494"/>
                  </a:lnTo>
                  <a:lnTo>
                    <a:pt x="66" y="497"/>
                  </a:lnTo>
                  <a:lnTo>
                    <a:pt x="90" y="497"/>
                  </a:lnTo>
                  <a:lnTo>
                    <a:pt x="123" y="510"/>
                  </a:lnTo>
                  <a:lnTo>
                    <a:pt x="123" y="510"/>
                  </a:lnTo>
                  <a:lnTo>
                    <a:pt x="126" y="520"/>
                  </a:lnTo>
                  <a:lnTo>
                    <a:pt x="133" y="544"/>
                  </a:lnTo>
                  <a:lnTo>
                    <a:pt x="147" y="594"/>
                  </a:lnTo>
                  <a:lnTo>
                    <a:pt x="153" y="577"/>
                  </a:lnTo>
                  <a:lnTo>
                    <a:pt x="163" y="560"/>
                  </a:lnTo>
                  <a:lnTo>
                    <a:pt x="170" y="547"/>
                  </a:lnTo>
                  <a:lnTo>
                    <a:pt x="177" y="534"/>
                  </a:lnTo>
                  <a:lnTo>
                    <a:pt x="197" y="494"/>
                  </a:lnTo>
                  <a:lnTo>
                    <a:pt x="213" y="450"/>
                  </a:lnTo>
                  <a:lnTo>
                    <a:pt x="230" y="400"/>
                  </a:lnTo>
                  <a:lnTo>
                    <a:pt x="247" y="350"/>
                  </a:lnTo>
                  <a:lnTo>
                    <a:pt x="257" y="303"/>
                  </a:lnTo>
                  <a:lnTo>
                    <a:pt x="267" y="253"/>
                  </a:lnTo>
                  <a:lnTo>
                    <a:pt x="267" y="210"/>
                  </a:lnTo>
                  <a:lnTo>
                    <a:pt x="263" y="170"/>
                  </a:lnTo>
                  <a:lnTo>
                    <a:pt x="257" y="146"/>
                  </a:lnTo>
                  <a:lnTo>
                    <a:pt x="250" y="123"/>
                  </a:lnTo>
                  <a:lnTo>
                    <a:pt x="237" y="100"/>
                  </a:lnTo>
                  <a:lnTo>
                    <a:pt x="223" y="76"/>
                  </a:lnTo>
                  <a:lnTo>
                    <a:pt x="210" y="56"/>
                  </a:lnTo>
                  <a:lnTo>
                    <a:pt x="193" y="36"/>
                  </a:lnTo>
                  <a:lnTo>
                    <a:pt x="173" y="16"/>
                  </a:lnTo>
                  <a:lnTo>
                    <a:pt x="153" y="0"/>
                  </a:lnTo>
                  <a:lnTo>
                    <a:pt x="167" y="30"/>
                  </a:lnTo>
                  <a:lnTo>
                    <a:pt x="113" y="23"/>
                  </a:lnTo>
                  <a:lnTo>
                    <a:pt x="116" y="30"/>
                  </a:lnTo>
                  <a:lnTo>
                    <a:pt x="130" y="50"/>
                  </a:lnTo>
                  <a:lnTo>
                    <a:pt x="140" y="73"/>
                  </a:lnTo>
                  <a:lnTo>
                    <a:pt x="150" y="96"/>
                  </a:lnTo>
                  <a:lnTo>
                    <a:pt x="157" y="100"/>
                  </a:lnTo>
                  <a:lnTo>
                    <a:pt x="173" y="116"/>
                  </a:lnTo>
                  <a:lnTo>
                    <a:pt x="193" y="140"/>
                  </a:lnTo>
                  <a:lnTo>
                    <a:pt x="210" y="176"/>
                  </a:lnTo>
                  <a:lnTo>
                    <a:pt x="213" y="217"/>
                  </a:lnTo>
                  <a:lnTo>
                    <a:pt x="210" y="263"/>
                  </a:lnTo>
                  <a:lnTo>
                    <a:pt x="197" y="307"/>
                  </a:lnTo>
                  <a:lnTo>
                    <a:pt x="180" y="343"/>
                  </a:lnTo>
                  <a:lnTo>
                    <a:pt x="167" y="360"/>
                  </a:lnTo>
                  <a:lnTo>
                    <a:pt x="150" y="357"/>
                  </a:lnTo>
                  <a:lnTo>
                    <a:pt x="130" y="357"/>
                  </a:lnTo>
                  <a:lnTo>
                    <a:pt x="100" y="374"/>
                  </a:lnTo>
                  <a:lnTo>
                    <a:pt x="100" y="370"/>
                  </a:lnTo>
                  <a:lnTo>
                    <a:pt x="103" y="357"/>
                  </a:lnTo>
                  <a:lnTo>
                    <a:pt x="106" y="337"/>
                  </a:lnTo>
                  <a:lnTo>
                    <a:pt x="106" y="300"/>
                  </a:lnTo>
                  <a:lnTo>
                    <a:pt x="106" y="303"/>
                  </a:lnTo>
                  <a:lnTo>
                    <a:pt x="100" y="310"/>
                  </a:lnTo>
                  <a:lnTo>
                    <a:pt x="90" y="320"/>
                  </a:lnTo>
                  <a:lnTo>
                    <a:pt x="70" y="333"/>
                  </a:lnTo>
                  <a:lnTo>
                    <a:pt x="66" y="337"/>
                  </a:lnTo>
                  <a:lnTo>
                    <a:pt x="66" y="343"/>
                  </a:lnTo>
                  <a:lnTo>
                    <a:pt x="66" y="347"/>
                  </a:lnTo>
                  <a:lnTo>
                    <a:pt x="66" y="353"/>
                  </a:lnTo>
                  <a:lnTo>
                    <a:pt x="50" y="380"/>
                  </a:lnTo>
                  <a:lnTo>
                    <a:pt x="33" y="407"/>
                  </a:lnTo>
                  <a:lnTo>
                    <a:pt x="16" y="437"/>
                  </a:lnTo>
                  <a:lnTo>
                    <a:pt x="0" y="4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61120" y="6195960"/>
              <a:ext cx="148320" cy="142920"/>
            </a:xfrm>
            <a:custGeom>
              <a:avLst/>
              <a:gdLst/>
              <a:ahLst/>
              <a:rect l="l" t="t" r="r" b="b"/>
              <a:pathLst>
                <a:path w="288" h="263">
                  <a:moveTo>
                    <a:pt x="37" y="70"/>
                  </a:moveTo>
                  <a:lnTo>
                    <a:pt x="40" y="66"/>
                  </a:lnTo>
                  <a:lnTo>
                    <a:pt x="44" y="66"/>
                  </a:lnTo>
                  <a:lnTo>
                    <a:pt x="44" y="63"/>
                  </a:lnTo>
                  <a:lnTo>
                    <a:pt x="47" y="63"/>
                  </a:lnTo>
                  <a:lnTo>
                    <a:pt x="84" y="40"/>
                  </a:lnTo>
                  <a:lnTo>
                    <a:pt x="120" y="20"/>
                  </a:lnTo>
                  <a:lnTo>
                    <a:pt x="154" y="10"/>
                  </a:lnTo>
                  <a:lnTo>
                    <a:pt x="187" y="3"/>
                  </a:lnTo>
                  <a:lnTo>
                    <a:pt x="217" y="0"/>
                  </a:lnTo>
                  <a:lnTo>
                    <a:pt x="244" y="3"/>
                  </a:lnTo>
                  <a:lnTo>
                    <a:pt x="267" y="6"/>
                  </a:lnTo>
                  <a:lnTo>
                    <a:pt x="288" y="16"/>
                  </a:lnTo>
                  <a:lnTo>
                    <a:pt x="274" y="70"/>
                  </a:lnTo>
                  <a:lnTo>
                    <a:pt x="251" y="103"/>
                  </a:lnTo>
                  <a:lnTo>
                    <a:pt x="224" y="137"/>
                  </a:lnTo>
                  <a:lnTo>
                    <a:pt x="197" y="193"/>
                  </a:lnTo>
                  <a:lnTo>
                    <a:pt x="244" y="207"/>
                  </a:lnTo>
                  <a:lnTo>
                    <a:pt x="241" y="213"/>
                  </a:lnTo>
                  <a:lnTo>
                    <a:pt x="227" y="223"/>
                  </a:lnTo>
                  <a:lnTo>
                    <a:pt x="201" y="233"/>
                  </a:lnTo>
                  <a:lnTo>
                    <a:pt x="157" y="233"/>
                  </a:lnTo>
                  <a:lnTo>
                    <a:pt x="161" y="240"/>
                  </a:lnTo>
                  <a:lnTo>
                    <a:pt x="157" y="250"/>
                  </a:lnTo>
                  <a:lnTo>
                    <a:pt x="134" y="260"/>
                  </a:lnTo>
                  <a:lnTo>
                    <a:pt x="84" y="263"/>
                  </a:lnTo>
                  <a:lnTo>
                    <a:pt x="34" y="257"/>
                  </a:lnTo>
                  <a:lnTo>
                    <a:pt x="10" y="240"/>
                  </a:lnTo>
                  <a:lnTo>
                    <a:pt x="7" y="223"/>
                  </a:lnTo>
                  <a:lnTo>
                    <a:pt x="7" y="200"/>
                  </a:lnTo>
                  <a:lnTo>
                    <a:pt x="7" y="197"/>
                  </a:lnTo>
                  <a:lnTo>
                    <a:pt x="4" y="190"/>
                  </a:lnTo>
                  <a:lnTo>
                    <a:pt x="4" y="187"/>
                  </a:lnTo>
                  <a:lnTo>
                    <a:pt x="0" y="183"/>
                  </a:lnTo>
                  <a:lnTo>
                    <a:pt x="7" y="163"/>
                  </a:lnTo>
                  <a:lnTo>
                    <a:pt x="17" y="130"/>
                  </a:lnTo>
                  <a:lnTo>
                    <a:pt x="30" y="96"/>
                  </a:lnTo>
                  <a:lnTo>
                    <a:pt x="3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31600" y="6346800"/>
              <a:ext cx="79200" cy="77760"/>
            </a:xfrm>
            <a:custGeom>
              <a:avLst/>
              <a:gdLst/>
              <a:ahLst/>
              <a:rect l="l" t="t" r="r" b="b"/>
              <a:pathLst>
                <a:path w="154" h="143">
                  <a:moveTo>
                    <a:pt x="27" y="0"/>
                  </a:moveTo>
                  <a:lnTo>
                    <a:pt x="44" y="6"/>
                  </a:lnTo>
                  <a:lnTo>
                    <a:pt x="67" y="20"/>
                  </a:lnTo>
                  <a:lnTo>
                    <a:pt x="91" y="33"/>
                  </a:lnTo>
                  <a:lnTo>
                    <a:pt x="111" y="46"/>
                  </a:lnTo>
                  <a:lnTo>
                    <a:pt x="131" y="60"/>
                  </a:lnTo>
                  <a:lnTo>
                    <a:pt x="147" y="67"/>
                  </a:lnTo>
                  <a:lnTo>
                    <a:pt x="154" y="77"/>
                  </a:lnTo>
                  <a:lnTo>
                    <a:pt x="154" y="90"/>
                  </a:lnTo>
                  <a:lnTo>
                    <a:pt x="147" y="107"/>
                  </a:lnTo>
                  <a:lnTo>
                    <a:pt x="141" y="117"/>
                  </a:lnTo>
                  <a:lnTo>
                    <a:pt x="131" y="127"/>
                  </a:lnTo>
                  <a:lnTo>
                    <a:pt x="117" y="137"/>
                  </a:lnTo>
                  <a:lnTo>
                    <a:pt x="107" y="140"/>
                  </a:lnTo>
                  <a:lnTo>
                    <a:pt x="97" y="143"/>
                  </a:lnTo>
                  <a:lnTo>
                    <a:pt x="84" y="143"/>
                  </a:lnTo>
                  <a:lnTo>
                    <a:pt x="71" y="140"/>
                  </a:lnTo>
                  <a:lnTo>
                    <a:pt x="54" y="137"/>
                  </a:lnTo>
                  <a:lnTo>
                    <a:pt x="40" y="130"/>
                  </a:lnTo>
                  <a:lnTo>
                    <a:pt x="27" y="120"/>
                  </a:lnTo>
                  <a:lnTo>
                    <a:pt x="17" y="107"/>
                  </a:lnTo>
                  <a:lnTo>
                    <a:pt x="7" y="93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0" y="53"/>
                  </a:lnTo>
                  <a:lnTo>
                    <a:pt x="7" y="40"/>
                  </a:lnTo>
                  <a:lnTo>
                    <a:pt x="14" y="23"/>
                  </a:lnTo>
                  <a:lnTo>
                    <a:pt x="20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520" y="6433920"/>
              <a:ext cx="63720" cy="45360"/>
            </a:xfrm>
            <a:custGeom>
              <a:avLst/>
              <a:gdLst/>
              <a:ahLst/>
              <a:rect l="l" t="t" r="r" b="b"/>
              <a:pathLst>
                <a:path w="124" h="84">
                  <a:moveTo>
                    <a:pt x="44" y="0"/>
                  </a:moveTo>
                  <a:lnTo>
                    <a:pt x="77" y="10"/>
                  </a:lnTo>
                  <a:lnTo>
                    <a:pt x="104" y="23"/>
                  </a:lnTo>
                  <a:lnTo>
                    <a:pt x="117" y="37"/>
                  </a:lnTo>
                  <a:lnTo>
                    <a:pt x="124" y="40"/>
                  </a:lnTo>
                  <a:lnTo>
                    <a:pt x="104" y="67"/>
                  </a:lnTo>
                  <a:lnTo>
                    <a:pt x="97" y="77"/>
                  </a:lnTo>
                  <a:lnTo>
                    <a:pt x="87" y="84"/>
                  </a:lnTo>
                  <a:lnTo>
                    <a:pt x="64" y="84"/>
                  </a:lnTo>
                  <a:lnTo>
                    <a:pt x="47" y="84"/>
                  </a:lnTo>
                  <a:lnTo>
                    <a:pt x="31" y="80"/>
                  </a:lnTo>
                  <a:lnTo>
                    <a:pt x="14" y="73"/>
                  </a:lnTo>
                  <a:lnTo>
                    <a:pt x="0" y="67"/>
                  </a:lnTo>
                  <a:lnTo>
                    <a:pt x="11" y="50"/>
                  </a:lnTo>
                  <a:lnTo>
                    <a:pt x="24" y="33"/>
                  </a:lnTo>
                  <a:lnTo>
                    <a:pt x="34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34880" y="5491080"/>
              <a:ext cx="142560" cy="326880"/>
            </a:xfrm>
            <a:custGeom>
              <a:avLst/>
              <a:gdLst/>
              <a:ahLst/>
              <a:rect l="l" t="t" r="r" b="b"/>
              <a:pathLst>
                <a:path w="277" h="601">
                  <a:moveTo>
                    <a:pt x="170" y="0"/>
                  </a:moveTo>
                  <a:lnTo>
                    <a:pt x="200" y="37"/>
                  </a:lnTo>
                  <a:lnTo>
                    <a:pt x="224" y="70"/>
                  </a:lnTo>
                  <a:lnTo>
                    <a:pt x="241" y="100"/>
                  </a:lnTo>
                  <a:lnTo>
                    <a:pt x="254" y="127"/>
                  </a:lnTo>
                  <a:lnTo>
                    <a:pt x="261" y="154"/>
                  </a:lnTo>
                  <a:lnTo>
                    <a:pt x="264" y="180"/>
                  </a:lnTo>
                  <a:lnTo>
                    <a:pt x="264" y="207"/>
                  </a:lnTo>
                  <a:lnTo>
                    <a:pt x="264" y="237"/>
                  </a:lnTo>
                  <a:lnTo>
                    <a:pt x="264" y="307"/>
                  </a:lnTo>
                  <a:lnTo>
                    <a:pt x="271" y="371"/>
                  </a:lnTo>
                  <a:lnTo>
                    <a:pt x="277" y="431"/>
                  </a:lnTo>
                  <a:lnTo>
                    <a:pt x="271" y="484"/>
                  </a:lnTo>
                  <a:lnTo>
                    <a:pt x="257" y="534"/>
                  </a:lnTo>
                  <a:lnTo>
                    <a:pt x="237" y="581"/>
                  </a:lnTo>
                  <a:lnTo>
                    <a:pt x="217" y="601"/>
                  </a:lnTo>
                  <a:lnTo>
                    <a:pt x="207" y="588"/>
                  </a:lnTo>
                  <a:lnTo>
                    <a:pt x="194" y="554"/>
                  </a:lnTo>
                  <a:lnTo>
                    <a:pt x="170" y="524"/>
                  </a:lnTo>
                  <a:lnTo>
                    <a:pt x="154" y="494"/>
                  </a:lnTo>
                  <a:lnTo>
                    <a:pt x="154" y="454"/>
                  </a:lnTo>
                  <a:lnTo>
                    <a:pt x="164" y="414"/>
                  </a:lnTo>
                  <a:lnTo>
                    <a:pt x="170" y="384"/>
                  </a:lnTo>
                  <a:lnTo>
                    <a:pt x="164" y="354"/>
                  </a:lnTo>
                  <a:lnTo>
                    <a:pt x="140" y="317"/>
                  </a:lnTo>
                  <a:lnTo>
                    <a:pt x="117" y="277"/>
                  </a:lnTo>
                  <a:lnTo>
                    <a:pt x="107" y="244"/>
                  </a:lnTo>
                  <a:lnTo>
                    <a:pt x="104" y="220"/>
                  </a:lnTo>
                  <a:lnTo>
                    <a:pt x="104" y="214"/>
                  </a:lnTo>
                  <a:lnTo>
                    <a:pt x="73" y="190"/>
                  </a:lnTo>
                  <a:lnTo>
                    <a:pt x="47" y="174"/>
                  </a:lnTo>
                  <a:lnTo>
                    <a:pt x="30" y="164"/>
                  </a:lnTo>
                  <a:lnTo>
                    <a:pt x="17" y="154"/>
                  </a:lnTo>
                  <a:lnTo>
                    <a:pt x="10" y="147"/>
                  </a:lnTo>
                  <a:lnTo>
                    <a:pt x="10" y="137"/>
                  </a:lnTo>
                  <a:lnTo>
                    <a:pt x="13" y="120"/>
                  </a:lnTo>
                  <a:lnTo>
                    <a:pt x="23" y="97"/>
                  </a:lnTo>
                  <a:lnTo>
                    <a:pt x="27" y="73"/>
                  </a:lnTo>
                  <a:lnTo>
                    <a:pt x="23" y="47"/>
                  </a:lnTo>
                  <a:lnTo>
                    <a:pt x="13" y="2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43" y="0"/>
                  </a:lnTo>
                  <a:lnTo>
                    <a:pt x="63" y="0"/>
                  </a:lnTo>
                  <a:lnTo>
                    <a:pt x="83" y="0"/>
                  </a:lnTo>
                  <a:lnTo>
                    <a:pt x="110" y="0"/>
                  </a:lnTo>
                  <a:lnTo>
                    <a:pt x="137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760040" y="6315840"/>
              <a:ext cx="110160" cy="72720"/>
            </a:xfrm>
            <a:custGeom>
              <a:avLst/>
              <a:gdLst/>
              <a:ahLst/>
              <a:rect l="l" t="t" r="r" b="b"/>
              <a:pathLst>
                <a:path w="214" h="134">
                  <a:moveTo>
                    <a:pt x="0" y="83"/>
                  </a:moveTo>
                  <a:lnTo>
                    <a:pt x="7" y="97"/>
                  </a:lnTo>
                  <a:lnTo>
                    <a:pt x="17" y="107"/>
                  </a:lnTo>
                  <a:lnTo>
                    <a:pt x="27" y="117"/>
                  </a:lnTo>
                  <a:lnTo>
                    <a:pt x="44" y="124"/>
                  </a:lnTo>
                  <a:lnTo>
                    <a:pt x="57" y="127"/>
                  </a:lnTo>
                  <a:lnTo>
                    <a:pt x="74" y="130"/>
                  </a:lnTo>
                  <a:lnTo>
                    <a:pt x="87" y="134"/>
                  </a:lnTo>
                  <a:lnTo>
                    <a:pt x="104" y="134"/>
                  </a:lnTo>
                  <a:lnTo>
                    <a:pt x="134" y="130"/>
                  </a:lnTo>
                  <a:lnTo>
                    <a:pt x="161" y="120"/>
                  </a:lnTo>
                  <a:lnTo>
                    <a:pt x="181" y="103"/>
                  </a:lnTo>
                  <a:lnTo>
                    <a:pt x="187" y="87"/>
                  </a:lnTo>
                  <a:lnTo>
                    <a:pt x="197" y="67"/>
                  </a:lnTo>
                  <a:lnTo>
                    <a:pt x="207" y="47"/>
                  </a:lnTo>
                  <a:lnTo>
                    <a:pt x="214" y="27"/>
                  </a:lnTo>
                  <a:lnTo>
                    <a:pt x="211" y="7"/>
                  </a:lnTo>
                  <a:lnTo>
                    <a:pt x="201" y="0"/>
                  </a:lnTo>
                  <a:lnTo>
                    <a:pt x="187" y="10"/>
                  </a:lnTo>
                  <a:lnTo>
                    <a:pt x="171" y="23"/>
                  </a:lnTo>
                  <a:lnTo>
                    <a:pt x="147" y="33"/>
                  </a:lnTo>
                  <a:lnTo>
                    <a:pt x="130" y="37"/>
                  </a:lnTo>
                  <a:lnTo>
                    <a:pt x="110" y="43"/>
                  </a:lnTo>
                  <a:lnTo>
                    <a:pt x="87" y="50"/>
                  </a:lnTo>
                  <a:lnTo>
                    <a:pt x="60" y="60"/>
                  </a:lnTo>
                  <a:lnTo>
                    <a:pt x="37" y="70"/>
                  </a:lnTo>
                  <a:lnTo>
                    <a:pt x="17" y="77"/>
                  </a:lnTo>
                  <a:lnTo>
                    <a:pt x="4" y="8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9480" y="5861520"/>
              <a:ext cx="174240" cy="128880"/>
            </a:xfrm>
            <a:custGeom>
              <a:avLst/>
              <a:gdLst/>
              <a:ahLst/>
              <a:rect l="l" t="t" r="r" b="b"/>
              <a:pathLst>
                <a:path w="338" h="237">
                  <a:moveTo>
                    <a:pt x="0" y="124"/>
                  </a:moveTo>
                  <a:lnTo>
                    <a:pt x="4" y="124"/>
                  </a:lnTo>
                  <a:lnTo>
                    <a:pt x="14" y="127"/>
                  </a:lnTo>
                  <a:lnTo>
                    <a:pt x="27" y="127"/>
                  </a:lnTo>
                  <a:lnTo>
                    <a:pt x="47" y="130"/>
                  </a:lnTo>
                  <a:lnTo>
                    <a:pt x="64" y="130"/>
                  </a:lnTo>
                  <a:lnTo>
                    <a:pt x="81" y="134"/>
                  </a:lnTo>
                  <a:lnTo>
                    <a:pt x="97" y="130"/>
                  </a:lnTo>
                  <a:lnTo>
                    <a:pt x="111" y="130"/>
                  </a:lnTo>
                  <a:lnTo>
                    <a:pt x="127" y="127"/>
                  </a:lnTo>
                  <a:lnTo>
                    <a:pt x="137" y="127"/>
                  </a:lnTo>
                  <a:lnTo>
                    <a:pt x="147" y="124"/>
                  </a:lnTo>
                  <a:lnTo>
                    <a:pt x="164" y="110"/>
                  </a:lnTo>
                  <a:lnTo>
                    <a:pt x="184" y="94"/>
                  </a:lnTo>
                  <a:lnTo>
                    <a:pt x="208" y="84"/>
                  </a:lnTo>
                  <a:lnTo>
                    <a:pt x="231" y="74"/>
                  </a:lnTo>
                  <a:lnTo>
                    <a:pt x="254" y="64"/>
                  </a:lnTo>
                  <a:lnTo>
                    <a:pt x="281" y="47"/>
                  </a:lnTo>
                  <a:lnTo>
                    <a:pt x="311" y="17"/>
                  </a:lnTo>
                  <a:lnTo>
                    <a:pt x="335" y="0"/>
                  </a:lnTo>
                  <a:lnTo>
                    <a:pt x="338" y="7"/>
                  </a:lnTo>
                  <a:lnTo>
                    <a:pt x="328" y="20"/>
                  </a:lnTo>
                  <a:lnTo>
                    <a:pt x="314" y="37"/>
                  </a:lnTo>
                  <a:lnTo>
                    <a:pt x="298" y="60"/>
                  </a:lnTo>
                  <a:lnTo>
                    <a:pt x="274" y="80"/>
                  </a:lnTo>
                  <a:lnTo>
                    <a:pt x="254" y="100"/>
                  </a:lnTo>
                  <a:lnTo>
                    <a:pt x="231" y="120"/>
                  </a:lnTo>
                  <a:lnTo>
                    <a:pt x="214" y="134"/>
                  </a:lnTo>
                  <a:lnTo>
                    <a:pt x="198" y="144"/>
                  </a:lnTo>
                  <a:lnTo>
                    <a:pt x="184" y="154"/>
                  </a:lnTo>
                  <a:lnTo>
                    <a:pt x="181" y="157"/>
                  </a:lnTo>
                  <a:lnTo>
                    <a:pt x="188" y="164"/>
                  </a:lnTo>
                  <a:lnTo>
                    <a:pt x="201" y="174"/>
                  </a:lnTo>
                  <a:lnTo>
                    <a:pt x="208" y="180"/>
                  </a:lnTo>
                  <a:lnTo>
                    <a:pt x="204" y="191"/>
                  </a:lnTo>
                  <a:lnTo>
                    <a:pt x="188" y="197"/>
                  </a:lnTo>
                  <a:lnTo>
                    <a:pt x="164" y="207"/>
                  </a:lnTo>
                  <a:lnTo>
                    <a:pt x="141" y="217"/>
                  </a:lnTo>
                  <a:lnTo>
                    <a:pt x="124" y="231"/>
                  </a:lnTo>
                  <a:lnTo>
                    <a:pt x="111" y="237"/>
                  </a:lnTo>
                  <a:lnTo>
                    <a:pt x="104" y="231"/>
                  </a:lnTo>
                  <a:lnTo>
                    <a:pt x="81" y="207"/>
                  </a:lnTo>
                  <a:lnTo>
                    <a:pt x="64" y="187"/>
                  </a:lnTo>
                  <a:lnTo>
                    <a:pt x="51" y="170"/>
                  </a:lnTo>
                  <a:lnTo>
                    <a:pt x="41" y="160"/>
                  </a:lnTo>
                  <a:lnTo>
                    <a:pt x="37" y="154"/>
                  </a:lnTo>
                  <a:lnTo>
                    <a:pt x="27" y="147"/>
                  </a:lnTo>
                  <a:lnTo>
                    <a:pt x="17" y="137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666880" y="5562720"/>
            <a:ext cx="1676520" cy="990360"/>
            <a:chOff x="2666880" y="5562720"/>
            <a:chExt cx="1676520" cy="990360"/>
          </a:xfrm>
        </p:grpSpPr>
        <p:sp>
          <p:nvSpPr>
            <p:cNvPr id="461" name=""/>
            <p:cNvSpPr/>
            <p:nvPr/>
          </p:nvSpPr>
          <p:spPr>
            <a:xfrm>
              <a:off x="2666880" y="5562720"/>
              <a:ext cx="1676520" cy="990360"/>
            </a:xfrm>
            <a:custGeom>
              <a:avLst/>
              <a:gdLst/>
              <a:ahLst/>
              <a:rect l="l" t="t" r="r" b="b"/>
              <a:pathLst>
                <a:path w="2672" h="1590">
                  <a:moveTo>
                    <a:pt x="52" y="775"/>
                  </a:moveTo>
                  <a:lnTo>
                    <a:pt x="257" y="852"/>
                  </a:lnTo>
                  <a:lnTo>
                    <a:pt x="272" y="828"/>
                  </a:lnTo>
                  <a:lnTo>
                    <a:pt x="289" y="801"/>
                  </a:lnTo>
                  <a:lnTo>
                    <a:pt x="310" y="770"/>
                  </a:lnTo>
                  <a:lnTo>
                    <a:pt x="331" y="738"/>
                  </a:lnTo>
                  <a:lnTo>
                    <a:pt x="353" y="709"/>
                  </a:lnTo>
                  <a:lnTo>
                    <a:pt x="375" y="683"/>
                  </a:lnTo>
                  <a:lnTo>
                    <a:pt x="395" y="663"/>
                  </a:lnTo>
                  <a:lnTo>
                    <a:pt x="414" y="649"/>
                  </a:lnTo>
                  <a:lnTo>
                    <a:pt x="433" y="641"/>
                  </a:lnTo>
                  <a:lnTo>
                    <a:pt x="455" y="632"/>
                  </a:lnTo>
                  <a:lnTo>
                    <a:pt x="477" y="623"/>
                  </a:lnTo>
                  <a:lnTo>
                    <a:pt x="500" y="615"/>
                  </a:lnTo>
                  <a:lnTo>
                    <a:pt x="520" y="607"/>
                  </a:lnTo>
                  <a:lnTo>
                    <a:pt x="541" y="600"/>
                  </a:lnTo>
                  <a:lnTo>
                    <a:pt x="558" y="593"/>
                  </a:lnTo>
                  <a:lnTo>
                    <a:pt x="571" y="588"/>
                  </a:lnTo>
                  <a:lnTo>
                    <a:pt x="583" y="584"/>
                  </a:lnTo>
                  <a:lnTo>
                    <a:pt x="593" y="578"/>
                  </a:lnTo>
                  <a:lnTo>
                    <a:pt x="603" y="572"/>
                  </a:lnTo>
                  <a:lnTo>
                    <a:pt x="612" y="565"/>
                  </a:lnTo>
                  <a:lnTo>
                    <a:pt x="618" y="556"/>
                  </a:lnTo>
                  <a:lnTo>
                    <a:pt x="622" y="546"/>
                  </a:lnTo>
                  <a:lnTo>
                    <a:pt x="623" y="533"/>
                  </a:lnTo>
                  <a:lnTo>
                    <a:pt x="622" y="517"/>
                  </a:lnTo>
                  <a:lnTo>
                    <a:pt x="607" y="501"/>
                  </a:lnTo>
                  <a:lnTo>
                    <a:pt x="588" y="482"/>
                  </a:lnTo>
                  <a:lnTo>
                    <a:pt x="568" y="462"/>
                  </a:lnTo>
                  <a:lnTo>
                    <a:pt x="548" y="442"/>
                  </a:lnTo>
                  <a:lnTo>
                    <a:pt x="529" y="420"/>
                  </a:lnTo>
                  <a:lnTo>
                    <a:pt x="511" y="399"/>
                  </a:lnTo>
                  <a:lnTo>
                    <a:pt x="498" y="382"/>
                  </a:lnTo>
                  <a:lnTo>
                    <a:pt x="491" y="366"/>
                  </a:lnTo>
                  <a:lnTo>
                    <a:pt x="482" y="338"/>
                  </a:lnTo>
                  <a:lnTo>
                    <a:pt x="472" y="314"/>
                  </a:lnTo>
                  <a:lnTo>
                    <a:pt x="461" y="292"/>
                  </a:lnTo>
                  <a:lnTo>
                    <a:pt x="449" y="274"/>
                  </a:lnTo>
                  <a:lnTo>
                    <a:pt x="440" y="264"/>
                  </a:lnTo>
                  <a:lnTo>
                    <a:pt x="429" y="250"/>
                  </a:lnTo>
                  <a:lnTo>
                    <a:pt x="414" y="234"/>
                  </a:lnTo>
                  <a:lnTo>
                    <a:pt x="398" y="215"/>
                  </a:lnTo>
                  <a:lnTo>
                    <a:pt x="384" y="197"/>
                  </a:lnTo>
                  <a:lnTo>
                    <a:pt x="371" y="178"/>
                  </a:lnTo>
                  <a:lnTo>
                    <a:pt x="362" y="164"/>
                  </a:lnTo>
                  <a:lnTo>
                    <a:pt x="356" y="151"/>
                  </a:lnTo>
                  <a:lnTo>
                    <a:pt x="350" y="127"/>
                  </a:lnTo>
                  <a:lnTo>
                    <a:pt x="346" y="103"/>
                  </a:lnTo>
                  <a:lnTo>
                    <a:pt x="346" y="84"/>
                  </a:lnTo>
                  <a:lnTo>
                    <a:pt x="353" y="74"/>
                  </a:lnTo>
                  <a:lnTo>
                    <a:pt x="371" y="74"/>
                  </a:lnTo>
                  <a:lnTo>
                    <a:pt x="391" y="78"/>
                  </a:lnTo>
                  <a:lnTo>
                    <a:pt x="411" y="85"/>
                  </a:lnTo>
                  <a:lnTo>
                    <a:pt x="430" y="96"/>
                  </a:lnTo>
                  <a:lnTo>
                    <a:pt x="449" y="106"/>
                  </a:lnTo>
                  <a:lnTo>
                    <a:pt x="465" y="116"/>
                  </a:lnTo>
                  <a:lnTo>
                    <a:pt x="478" y="123"/>
                  </a:lnTo>
                  <a:lnTo>
                    <a:pt x="487" y="127"/>
                  </a:lnTo>
                  <a:lnTo>
                    <a:pt x="495" y="129"/>
                  </a:lnTo>
                  <a:lnTo>
                    <a:pt x="507" y="132"/>
                  </a:lnTo>
                  <a:lnTo>
                    <a:pt x="520" y="136"/>
                  </a:lnTo>
                  <a:lnTo>
                    <a:pt x="536" y="141"/>
                  </a:lnTo>
                  <a:lnTo>
                    <a:pt x="551" y="145"/>
                  </a:lnTo>
                  <a:lnTo>
                    <a:pt x="565" y="151"/>
                  </a:lnTo>
                  <a:lnTo>
                    <a:pt x="578" y="155"/>
                  </a:lnTo>
                  <a:lnTo>
                    <a:pt x="590" y="161"/>
                  </a:lnTo>
                  <a:lnTo>
                    <a:pt x="602" y="168"/>
                  </a:lnTo>
                  <a:lnTo>
                    <a:pt x="618" y="178"/>
                  </a:lnTo>
                  <a:lnTo>
                    <a:pt x="636" y="191"/>
                  </a:lnTo>
                  <a:lnTo>
                    <a:pt x="657" y="207"/>
                  </a:lnTo>
                  <a:lnTo>
                    <a:pt x="679" y="226"/>
                  </a:lnTo>
                  <a:lnTo>
                    <a:pt x="702" y="250"/>
                  </a:lnTo>
                  <a:lnTo>
                    <a:pt x="725" y="276"/>
                  </a:lnTo>
                  <a:lnTo>
                    <a:pt x="747" y="305"/>
                  </a:lnTo>
                  <a:lnTo>
                    <a:pt x="756" y="285"/>
                  </a:lnTo>
                  <a:lnTo>
                    <a:pt x="770" y="261"/>
                  </a:lnTo>
                  <a:lnTo>
                    <a:pt x="789" y="237"/>
                  </a:lnTo>
                  <a:lnTo>
                    <a:pt x="814" y="210"/>
                  </a:lnTo>
                  <a:lnTo>
                    <a:pt x="841" y="184"/>
                  </a:lnTo>
                  <a:lnTo>
                    <a:pt x="870" y="157"/>
                  </a:lnTo>
                  <a:lnTo>
                    <a:pt x="902" y="129"/>
                  </a:lnTo>
                  <a:lnTo>
                    <a:pt x="936" y="103"/>
                  </a:lnTo>
                  <a:lnTo>
                    <a:pt x="969" y="80"/>
                  </a:lnTo>
                  <a:lnTo>
                    <a:pt x="1003" y="58"/>
                  </a:lnTo>
                  <a:lnTo>
                    <a:pt x="1035" y="37"/>
                  </a:lnTo>
                  <a:lnTo>
                    <a:pt x="1065" y="21"/>
                  </a:lnTo>
                  <a:lnTo>
                    <a:pt x="1093" y="10"/>
                  </a:lnTo>
                  <a:lnTo>
                    <a:pt x="1116" y="2"/>
                  </a:lnTo>
                  <a:lnTo>
                    <a:pt x="1135" y="0"/>
                  </a:lnTo>
                  <a:lnTo>
                    <a:pt x="1149" y="2"/>
                  </a:lnTo>
                  <a:lnTo>
                    <a:pt x="1162" y="29"/>
                  </a:lnTo>
                  <a:lnTo>
                    <a:pt x="1165" y="81"/>
                  </a:lnTo>
                  <a:lnTo>
                    <a:pt x="1160" y="151"/>
                  </a:lnTo>
                  <a:lnTo>
                    <a:pt x="1145" y="232"/>
                  </a:lnTo>
                  <a:lnTo>
                    <a:pt x="1123" y="314"/>
                  </a:lnTo>
                  <a:lnTo>
                    <a:pt x="1096" y="389"/>
                  </a:lnTo>
                  <a:lnTo>
                    <a:pt x="1062" y="449"/>
                  </a:lnTo>
                  <a:lnTo>
                    <a:pt x="1026" y="485"/>
                  </a:lnTo>
                  <a:lnTo>
                    <a:pt x="1016" y="491"/>
                  </a:lnTo>
                  <a:lnTo>
                    <a:pt x="1001" y="497"/>
                  </a:lnTo>
                  <a:lnTo>
                    <a:pt x="984" y="507"/>
                  </a:lnTo>
                  <a:lnTo>
                    <a:pt x="966" y="517"/>
                  </a:lnTo>
                  <a:lnTo>
                    <a:pt x="950" y="530"/>
                  </a:lnTo>
                  <a:lnTo>
                    <a:pt x="937" y="546"/>
                  </a:lnTo>
                  <a:lnTo>
                    <a:pt x="927" y="565"/>
                  </a:lnTo>
                  <a:lnTo>
                    <a:pt x="924" y="586"/>
                  </a:lnTo>
                  <a:lnTo>
                    <a:pt x="933" y="594"/>
                  </a:lnTo>
                  <a:lnTo>
                    <a:pt x="943" y="603"/>
                  </a:lnTo>
                  <a:lnTo>
                    <a:pt x="955" y="613"/>
                  </a:lnTo>
                  <a:lnTo>
                    <a:pt x="968" y="622"/>
                  </a:lnTo>
                  <a:lnTo>
                    <a:pt x="981" y="628"/>
                  </a:lnTo>
                  <a:lnTo>
                    <a:pt x="994" y="631"/>
                  </a:lnTo>
                  <a:lnTo>
                    <a:pt x="1007" y="629"/>
                  </a:lnTo>
                  <a:lnTo>
                    <a:pt x="1019" y="622"/>
                  </a:lnTo>
                  <a:lnTo>
                    <a:pt x="1030" y="612"/>
                  </a:lnTo>
                  <a:lnTo>
                    <a:pt x="1040" y="604"/>
                  </a:lnTo>
                  <a:lnTo>
                    <a:pt x="1049" y="597"/>
                  </a:lnTo>
                  <a:lnTo>
                    <a:pt x="1058" y="591"/>
                  </a:lnTo>
                  <a:lnTo>
                    <a:pt x="1065" y="586"/>
                  </a:lnTo>
                  <a:lnTo>
                    <a:pt x="1074" y="581"/>
                  </a:lnTo>
                  <a:lnTo>
                    <a:pt x="1081" y="578"/>
                  </a:lnTo>
                  <a:lnTo>
                    <a:pt x="1090" y="575"/>
                  </a:lnTo>
                  <a:lnTo>
                    <a:pt x="1103" y="588"/>
                  </a:lnTo>
                  <a:lnTo>
                    <a:pt x="1110" y="583"/>
                  </a:lnTo>
                  <a:lnTo>
                    <a:pt x="1119" y="578"/>
                  </a:lnTo>
                  <a:lnTo>
                    <a:pt x="1126" y="574"/>
                  </a:lnTo>
                  <a:lnTo>
                    <a:pt x="1133" y="570"/>
                  </a:lnTo>
                  <a:lnTo>
                    <a:pt x="1141" y="565"/>
                  </a:lnTo>
                  <a:lnTo>
                    <a:pt x="1148" y="561"/>
                  </a:lnTo>
                  <a:lnTo>
                    <a:pt x="1154" y="558"/>
                  </a:lnTo>
                  <a:lnTo>
                    <a:pt x="1160" y="555"/>
                  </a:lnTo>
                  <a:lnTo>
                    <a:pt x="1174" y="568"/>
                  </a:lnTo>
                  <a:lnTo>
                    <a:pt x="1189" y="564"/>
                  </a:lnTo>
                  <a:lnTo>
                    <a:pt x="1205" y="562"/>
                  </a:lnTo>
                  <a:lnTo>
                    <a:pt x="1221" y="561"/>
                  </a:lnTo>
                  <a:lnTo>
                    <a:pt x="1235" y="562"/>
                  </a:lnTo>
                  <a:lnTo>
                    <a:pt x="1250" y="564"/>
                  </a:lnTo>
                  <a:lnTo>
                    <a:pt x="1261" y="567"/>
                  </a:lnTo>
                  <a:lnTo>
                    <a:pt x="1273" y="570"/>
                  </a:lnTo>
                  <a:lnTo>
                    <a:pt x="1282" y="574"/>
                  </a:lnTo>
                  <a:lnTo>
                    <a:pt x="1290" y="578"/>
                  </a:lnTo>
                  <a:lnTo>
                    <a:pt x="1299" y="584"/>
                  </a:lnTo>
                  <a:lnTo>
                    <a:pt x="1308" y="588"/>
                  </a:lnTo>
                  <a:lnTo>
                    <a:pt x="1319" y="593"/>
                  </a:lnTo>
                  <a:lnTo>
                    <a:pt x="1330" y="597"/>
                  </a:lnTo>
                  <a:lnTo>
                    <a:pt x="1341" y="597"/>
                  </a:lnTo>
                  <a:lnTo>
                    <a:pt x="1353" y="596"/>
                  </a:lnTo>
                  <a:lnTo>
                    <a:pt x="1364" y="591"/>
                  </a:lnTo>
                  <a:lnTo>
                    <a:pt x="1376" y="584"/>
                  </a:lnTo>
                  <a:lnTo>
                    <a:pt x="1389" y="577"/>
                  </a:lnTo>
                  <a:lnTo>
                    <a:pt x="1402" y="570"/>
                  </a:lnTo>
                  <a:lnTo>
                    <a:pt x="1417" y="561"/>
                  </a:lnTo>
                  <a:lnTo>
                    <a:pt x="1430" y="555"/>
                  </a:lnTo>
                  <a:lnTo>
                    <a:pt x="1444" y="549"/>
                  </a:lnTo>
                  <a:lnTo>
                    <a:pt x="1459" y="546"/>
                  </a:lnTo>
                  <a:lnTo>
                    <a:pt x="1473" y="545"/>
                  </a:lnTo>
                  <a:lnTo>
                    <a:pt x="1485" y="533"/>
                  </a:lnTo>
                  <a:lnTo>
                    <a:pt x="1498" y="524"/>
                  </a:lnTo>
                  <a:lnTo>
                    <a:pt x="1511" y="514"/>
                  </a:lnTo>
                  <a:lnTo>
                    <a:pt x="1524" y="507"/>
                  </a:lnTo>
                  <a:lnTo>
                    <a:pt x="1537" y="501"/>
                  </a:lnTo>
                  <a:lnTo>
                    <a:pt x="1549" y="497"/>
                  </a:lnTo>
                  <a:lnTo>
                    <a:pt x="1561" y="494"/>
                  </a:lnTo>
                  <a:lnTo>
                    <a:pt x="1569" y="492"/>
                  </a:lnTo>
                  <a:lnTo>
                    <a:pt x="1577" y="492"/>
                  </a:lnTo>
                  <a:lnTo>
                    <a:pt x="1585" y="491"/>
                  </a:lnTo>
                  <a:lnTo>
                    <a:pt x="1593" y="491"/>
                  </a:lnTo>
                  <a:lnTo>
                    <a:pt x="1600" y="488"/>
                  </a:lnTo>
                  <a:lnTo>
                    <a:pt x="1607" y="487"/>
                  </a:lnTo>
                  <a:lnTo>
                    <a:pt x="1613" y="482"/>
                  </a:lnTo>
                  <a:lnTo>
                    <a:pt x="1620" y="478"/>
                  </a:lnTo>
                  <a:lnTo>
                    <a:pt x="1627" y="474"/>
                  </a:lnTo>
                  <a:lnTo>
                    <a:pt x="1638" y="466"/>
                  </a:lnTo>
                  <a:lnTo>
                    <a:pt x="1654" y="455"/>
                  </a:lnTo>
                  <a:lnTo>
                    <a:pt x="1675" y="442"/>
                  </a:lnTo>
                  <a:lnTo>
                    <a:pt x="1700" y="427"/>
                  </a:lnTo>
                  <a:lnTo>
                    <a:pt x="1728" y="412"/>
                  </a:lnTo>
                  <a:lnTo>
                    <a:pt x="1758" y="399"/>
                  </a:lnTo>
                  <a:lnTo>
                    <a:pt x="1792" y="391"/>
                  </a:lnTo>
                  <a:lnTo>
                    <a:pt x="1824" y="385"/>
                  </a:lnTo>
                  <a:lnTo>
                    <a:pt x="1822" y="396"/>
                  </a:lnTo>
                  <a:lnTo>
                    <a:pt x="1840" y="394"/>
                  </a:lnTo>
                  <a:lnTo>
                    <a:pt x="1858" y="392"/>
                  </a:lnTo>
                  <a:lnTo>
                    <a:pt x="1876" y="391"/>
                  </a:lnTo>
                  <a:lnTo>
                    <a:pt x="1893" y="389"/>
                  </a:lnTo>
                  <a:lnTo>
                    <a:pt x="1911" y="389"/>
                  </a:lnTo>
                  <a:lnTo>
                    <a:pt x="1928" y="389"/>
                  </a:lnTo>
                  <a:lnTo>
                    <a:pt x="1944" y="391"/>
                  </a:lnTo>
                  <a:lnTo>
                    <a:pt x="1959" y="392"/>
                  </a:lnTo>
                  <a:lnTo>
                    <a:pt x="1957" y="402"/>
                  </a:lnTo>
                  <a:lnTo>
                    <a:pt x="1976" y="404"/>
                  </a:lnTo>
                  <a:lnTo>
                    <a:pt x="1998" y="407"/>
                  </a:lnTo>
                  <a:lnTo>
                    <a:pt x="2020" y="412"/>
                  </a:lnTo>
                  <a:lnTo>
                    <a:pt x="2043" y="418"/>
                  </a:lnTo>
                  <a:lnTo>
                    <a:pt x="2066" y="426"/>
                  </a:lnTo>
                  <a:lnTo>
                    <a:pt x="2090" y="436"/>
                  </a:lnTo>
                  <a:lnTo>
                    <a:pt x="2114" y="446"/>
                  </a:lnTo>
                  <a:lnTo>
                    <a:pt x="2139" y="459"/>
                  </a:lnTo>
                  <a:lnTo>
                    <a:pt x="2162" y="472"/>
                  </a:lnTo>
                  <a:lnTo>
                    <a:pt x="2187" y="487"/>
                  </a:lnTo>
                  <a:lnTo>
                    <a:pt x="2209" y="503"/>
                  </a:lnTo>
                  <a:lnTo>
                    <a:pt x="2230" y="520"/>
                  </a:lnTo>
                  <a:lnTo>
                    <a:pt x="2251" y="539"/>
                  </a:lnTo>
                  <a:lnTo>
                    <a:pt x="2270" y="559"/>
                  </a:lnTo>
                  <a:lnTo>
                    <a:pt x="2287" y="581"/>
                  </a:lnTo>
                  <a:lnTo>
                    <a:pt x="2302" y="603"/>
                  </a:lnTo>
                  <a:lnTo>
                    <a:pt x="2286" y="616"/>
                  </a:lnTo>
                  <a:lnTo>
                    <a:pt x="2294" y="626"/>
                  </a:lnTo>
                  <a:lnTo>
                    <a:pt x="2306" y="639"/>
                  </a:lnTo>
                  <a:lnTo>
                    <a:pt x="2316" y="654"/>
                  </a:lnTo>
                  <a:lnTo>
                    <a:pt x="2328" y="670"/>
                  </a:lnTo>
                  <a:lnTo>
                    <a:pt x="2338" y="686"/>
                  </a:lnTo>
                  <a:lnTo>
                    <a:pt x="2348" y="702"/>
                  </a:lnTo>
                  <a:lnTo>
                    <a:pt x="2354" y="718"/>
                  </a:lnTo>
                  <a:lnTo>
                    <a:pt x="2358" y="732"/>
                  </a:lnTo>
                  <a:lnTo>
                    <a:pt x="2348" y="748"/>
                  </a:lnTo>
                  <a:lnTo>
                    <a:pt x="2355" y="767"/>
                  </a:lnTo>
                  <a:lnTo>
                    <a:pt x="2366" y="788"/>
                  </a:lnTo>
                  <a:lnTo>
                    <a:pt x="2374" y="809"/>
                  </a:lnTo>
                  <a:lnTo>
                    <a:pt x="2383" y="833"/>
                  </a:lnTo>
                  <a:lnTo>
                    <a:pt x="2390" y="857"/>
                  </a:lnTo>
                  <a:lnTo>
                    <a:pt x="2395" y="884"/>
                  </a:lnTo>
                  <a:lnTo>
                    <a:pt x="2393" y="911"/>
                  </a:lnTo>
                  <a:lnTo>
                    <a:pt x="2387" y="939"/>
                  </a:lnTo>
                  <a:lnTo>
                    <a:pt x="2393" y="936"/>
                  </a:lnTo>
                  <a:lnTo>
                    <a:pt x="2399" y="933"/>
                  </a:lnTo>
                  <a:lnTo>
                    <a:pt x="2405" y="930"/>
                  </a:lnTo>
                  <a:lnTo>
                    <a:pt x="2411" y="927"/>
                  </a:lnTo>
                  <a:lnTo>
                    <a:pt x="2418" y="926"/>
                  </a:lnTo>
                  <a:lnTo>
                    <a:pt x="2424" y="926"/>
                  </a:lnTo>
                  <a:lnTo>
                    <a:pt x="2431" y="926"/>
                  </a:lnTo>
                  <a:lnTo>
                    <a:pt x="2438" y="926"/>
                  </a:lnTo>
                  <a:lnTo>
                    <a:pt x="2443" y="910"/>
                  </a:lnTo>
                  <a:lnTo>
                    <a:pt x="2454" y="898"/>
                  </a:lnTo>
                  <a:lnTo>
                    <a:pt x="2469" y="891"/>
                  </a:lnTo>
                  <a:lnTo>
                    <a:pt x="2486" y="889"/>
                  </a:lnTo>
                  <a:lnTo>
                    <a:pt x="2504" y="892"/>
                  </a:lnTo>
                  <a:lnTo>
                    <a:pt x="2521" y="901"/>
                  </a:lnTo>
                  <a:lnTo>
                    <a:pt x="2533" y="917"/>
                  </a:lnTo>
                  <a:lnTo>
                    <a:pt x="2540" y="937"/>
                  </a:lnTo>
                  <a:lnTo>
                    <a:pt x="2550" y="934"/>
                  </a:lnTo>
                  <a:lnTo>
                    <a:pt x="2560" y="934"/>
                  </a:lnTo>
                  <a:lnTo>
                    <a:pt x="2570" y="936"/>
                  </a:lnTo>
                  <a:lnTo>
                    <a:pt x="2581" y="940"/>
                  </a:lnTo>
                  <a:lnTo>
                    <a:pt x="2588" y="945"/>
                  </a:lnTo>
                  <a:lnTo>
                    <a:pt x="2595" y="952"/>
                  </a:lnTo>
                  <a:lnTo>
                    <a:pt x="2600" y="961"/>
                  </a:lnTo>
                  <a:lnTo>
                    <a:pt x="2601" y="969"/>
                  </a:lnTo>
                  <a:lnTo>
                    <a:pt x="2620" y="968"/>
                  </a:lnTo>
                  <a:lnTo>
                    <a:pt x="2636" y="971"/>
                  </a:lnTo>
                  <a:lnTo>
                    <a:pt x="2650" y="978"/>
                  </a:lnTo>
                  <a:lnTo>
                    <a:pt x="2662" y="988"/>
                  </a:lnTo>
                  <a:lnTo>
                    <a:pt x="2668" y="1000"/>
                  </a:lnTo>
                  <a:lnTo>
                    <a:pt x="2669" y="1012"/>
                  </a:lnTo>
                  <a:lnTo>
                    <a:pt x="2665" y="1023"/>
                  </a:lnTo>
                  <a:lnTo>
                    <a:pt x="2653" y="1032"/>
                  </a:lnTo>
                  <a:lnTo>
                    <a:pt x="2662" y="1046"/>
                  </a:lnTo>
                  <a:lnTo>
                    <a:pt x="2669" y="1064"/>
                  </a:lnTo>
                  <a:lnTo>
                    <a:pt x="2672" y="1083"/>
                  </a:lnTo>
                  <a:lnTo>
                    <a:pt x="2672" y="1102"/>
                  </a:lnTo>
                  <a:lnTo>
                    <a:pt x="2668" y="1121"/>
                  </a:lnTo>
                  <a:lnTo>
                    <a:pt x="2658" y="1137"/>
                  </a:lnTo>
                  <a:lnTo>
                    <a:pt x="2642" y="1150"/>
                  </a:lnTo>
                  <a:lnTo>
                    <a:pt x="2618" y="1160"/>
                  </a:lnTo>
                  <a:lnTo>
                    <a:pt x="2613" y="1174"/>
                  </a:lnTo>
                  <a:lnTo>
                    <a:pt x="2600" y="1188"/>
                  </a:lnTo>
                  <a:lnTo>
                    <a:pt x="2584" y="1199"/>
                  </a:lnTo>
                  <a:lnTo>
                    <a:pt x="2563" y="1208"/>
                  </a:lnTo>
                  <a:lnTo>
                    <a:pt x="2541" y="1212"/>
                  </a:lnTo>
                  <a:lnTo>
                    <a:pt x="2521" y="1211"/>
                  </a:lnTo>
                  <a:lnTo>
                    <a:pt x="2502" y="1205"/>
                  </a:lnTo>
                  <a:lnTo>
                    <a:pt x="2486" y="1192"/>
                  </a:lnTo>
                  <a:lnTo>
                    <a:pt x="2469" y="1203"/>
                  </a:lnTo>
                  <a:lnTo>
                    <a:pt x="2448" y="1211"/>
                  </a:lnTo>
                  <a:lnTo>
                    <a:pt x="2427" y="1215"/>
                  </a:lnTo>
                  <a:lnTo>
                    <a:pt x="2405" y="1215"/>
                  </a:lnTo>
                  <a:lnTo>
                    <a:pt x="2386" y="1211"/>
                  </a:lnTo>
                  <a:lnTo>
                    <a:pt x="2369" y="1203"/>
                  </a:lnTo>
                  <a:lnTo>
                    <a:pt x="2358" y="1190"/>
                  </a:lnTo>
                  <a:lnTo>
                    <a:pt x="2354" y="1174"/>
                  </a:lnTo>
                  <a:lnTo>
                    <a:pt x="2345" y="1179"/>
                  </a:lnTo>
                  <a:lnTo>
                    <a:pt x="2337" y="1183"/>
                  </a:lnTo>
                  <a:lnTo>
                    <a:pt x="2331" y="1192"/>
                  </a:lnTo>
                  <a:lnTo>
                    <a:pt x="2329" y="1203"/>
                  </a:lnTo>
                  <a:lnTo>
                    <a:pt x="2322" y="1201"/>
                  </a:lnTo>
                  <a:lnTo>
                    <a:pt x="2315" y="1199"/>
                  </a:lnTo>
                  <a:lnTo>
                    <a:pt x="2306" y="1196"/>
                  </a:lnTo>
                  <a:lnTo>
                    <a:pt x="2299" y="1193"/>
                  </a:lnTo>
                  <a:lnTo>
                    <a:pt x="2290" y="1192"/>
                  </a:lnTo>
                  <a:lnTo>
                    <a:pt x="2283" y="1190"/>
                  </a:lnTo>
                  <a:lnTo>
                    <a:pt x="2277" y="1189"/>
                  </a:lnTo>
                  <a:lnTo>
                    <a:pt x="2273" y="1188"/>
                  </a:lnTo>
                  <a:lnTo>
                    <a:pt x="2276" y="1195"/>
                  </a:lnTo>
                  <a:lnTo>
                    <a:pt x="2278" y="1201"/>
                  </a:lnTo>
                  <a:lnTo>
                    <a:pt x="2283" y="1208"/>
                  </a:lnTo>
                  <a:lnTo>
                    <a:pt x="2290" y="1215"/>
                  </a:lnTo>
                  <a:lnTo>
                    <a:pt x="2280" y="1215"/>
                  </a:lnTo>
                  <a:lnTo>
                    <a:pt x="2268" y="1217"/>
                  </a:lnTo>
                  <a:lnTo>
                    <a:pt x="2258" y="1219"/>
                  </a:lnTo>
                  <a:lnTo>
                    <a:pt x="2246" y="1221"/>
                  </a:lnTo>
                  <a:lnTo>
                    <a:pt x="2235" y="1224"/>
                  </a:lnTo>
                  <a:lnTo>
                    <a:pt x="2223" y="1225"/>
                  </a:lnTo>
                  <a:lnTo>
                    <a:pt x="2213" y="1225"/>
                  </a:lnTo>
                  <a:lnTo>
                    <a:pt x="2204" y="1224"/>
                  </a:lnTo>
                  <a:lnTo>
                    <a:pt x="2204" y="1230"/>
                  </a:lnTo>
                  <a:lnTo>
                    <a:pt x="2204" y="1237"/>
                  </a:lnTo>
                  <a:lnTo>
                    <a:pt x="2209" y="1243"/>
                  </a:lnTo>
                  <a:lnTo>
                    <a:pt x="2219" y="1249"/>
                  </a:lnTo>
                  <a:lnTo>
                    <a:pt x="2212" y="1249"/>
                  </a:lnTo>
                  <a:lnTo>
                    <a:pt x="2203" y="1249"/>
                  </a:lnTo>
                  <a:lnTo>
                    <a:pt x="2196" y="1247"/>
                  </a:lnTo>
                  <a:lnTo>
                    <a:pt x="2188" y="1247"/>
                  </a:lnTo>
                  <a:lnTo>
                    <a:pt x="2181" y="1246"/>
                  </a:lnTo>
                  <a:lnTo>
                    <a:pt x="2175" y="1244"/>
                  </a:lnTo>
                  <a:lnTo>
                    <a:pt x="2169" y="1243"/>
                  </a:lnTo>
                  <a:lnTo>
                    <a:pt x="2164" y="1241"/>
                  </a:lnTo>
                  <a:lnTo>
                    <a:pt x="2162" y="1249"/>
                  </a:lnTo>
                  <a:lnTo>
                    <a:pt x="2161" y="1257"/>
                  </a:lnTo>
                  <a:lnTo>
                    <a:pt x="2161" y="1266"/>
                  </a:lnTo>
                  <a:lnTo>
                    <a:pt x="2165" y="1273"/>
                  </a:lnTo>
                  <a:lnTo>
                    <a:pt x="2169" y="1276"/>
                  </a:lnTo>
                  <a:lnTo>
                    <a:pt x="2177" y="1282"/>
                  </a:lnTo>
                  <a:lnTo>
                    <a:pt x="2184" y="1288"/>
                  </a:lnTo>
                  <a:lnTo>
                    <a:pt x="2193" y="1297"/>
                  </a:lnTo>
                  <a:lnTo>
                    <a:pt x="2200" y="1305"/>
                  </a:lnTo>
                  <a:lnTo>
                    <a:pt x="2207" y="1315"/>
                  </a:lnTo>
                  <a:lnTo>
                    <a:pt x="2212" y="1326"/>
                  </a:lnTo>
                  <a:lnTo>
                    <a:pt x="2214" y="1336"/>
                  </a:lnTo>
                  <a:lnTo>
                    <a:pt x="2214" y="1347"/>
                  </a:lnTo>
                  <a:lnTo>
                    <a:pt x="2212" y="1362"/>
                  </a:lnTo>
                  <a:lnTo>
                    <a:pt x="2204" y="1377"/>
                  </a:lnTo>
                  <a:lnTo>
                    <a:pt x="2194" y="1393"/>
                  </a:lnTo>
                  <a:lnTo>
                    <a:pt x="2178" y="1409"/>
                  </a:lnTo>
                  <a:lnTo>
                    <a:pt x="2155" y="1425"/>
                  </a:lnTo>
                  <a:lnTo>
                    <a:pt x="2124" y="1439"/>
                  </a:lnTo>
                  <a:lnTo>
                    <a:pt x="2085" y="1452"/>
                  </a:lnTo>
                  <a:lnTo>
                    <a:pt x="2063" y="1458"/>
                  </a:lnTo>
                  <a:lnTo>
                    <a:pt x="2042" y="1464"/>
                  </a:lnTo>
                  <a:lnTo>
                    <a:pt x="2021" y="1470"/>
                  </a:lnTo>
                  <a:lnTo>
                    <a:pt x="1999" y="1475"/>
                  </a:lnTo>
                  <a:lnTo>
                    <a:pt x="1979" y="1480"/>
                  </a:lnTo>
                  <a:lnTo>
                    <a:pt x="1960" y="1486"/>
                  </a:lnTo>
                  <a:lnTo>
                    <a:pt x="1941" y="1491"/>
                  </a:lnTo>
                  <a:lnTo>
                    <a:pt x="1922" y="1496"/>
                  </a:lnTo>
                  <a:lnTo>
                    <a:pt x="1905" y="1500"/>
                  </a:lnTo>
                  <a:lnTo>
                    <a:pt x="1889" y="1506"/>
                  </a:lnTo>
                  <a:lnTo>
                    <a:pt x="1874" y="1510"/>
                  </a:lnTo>
                  <a:lnTo>
                    <a:pt x="1861" y="1515"/>
                  </a:lnTo>
                  <a:lnTo>
                    <a:pt x="1850" y="1518"/>
                  </a:lnTo>
                  <a:lnTo>
                    <a:pt x="1841" y="1522"/>
                  </a:lnTo>
                  <a:lnTo>
                    <a:pt x="1832" y="1525"/>
                  </a:lnTo>
                  <a:lnTo>
                    <a:pt x="1827" y="1528"/>
                  </a:lnTo>
                  <a:lnTo>
                    <a:pt x="1816" y="1534"/>
                  </a:lnTo>
                  <a:lnTo>
                    <a:pt x="1808" y="1542"/>
                  </a:lnTo>
                  <a:lnTo>
                    <a:pt x="1797" y="1550"/>
                  </a:lnTo>
                  <a:lnTo>
                    <a:pt x="1787" y="1557"/>
                  </a:lnTo>
                  <a:lnTo>
                    <a:pt x="1776" y="1564"/>
                  </a:lnTo>
                  <a:lnTo>
                    <a:pt x="1763" y="1568"/>
                  </a:lnTo>
                  <a:lnTo>
                    <a:pt x="1747" y="1570"/>
                  </a:lnTo>
                  <a:lnTo>
                    <a:pt x="1729" y="1568"/>
                  </a:lnTo>
                  <a:lnTo>
                    <a:pt x="1722" y="1576"/>
                  </a:lnTo>
                  <a:lnTo>
                    <a:pt x="1713" y="1582"/>
                  </a:lnTo>
                  <a:lnTo>
                    <a:pt x="1706" y="1586"/>
                  </a:lnTo>
                  <a:lnTo>
                    <a:pt x="1697" y="1589"/>
                  </a:lnTo>
                  <a:lnTo>
                    <a:pt x="1687" y="1589"/>
                  </a:lnTo>
                  <a:lnTo>
                    <a:pt x="1678" y="1589"/>
                  </a:lnTo>
                  <a:lnTo>
                    <a:pt x="1668" y="1584"/>
                  </a:lnTo>
                  <a:lnTo>
                    <a:pt x="1659" y="1579"/>
                  </a:lnTo>
                  <a:lnTo>
                    <a:pt x="1648" y="1586"/>
                  </a:lnTo>
                  <a:lnTo>
                    <a:pt x="1633" y="1589"/>
                  </a:lnTo>
                  <a:lnTo>
                    <a:pt x="1619" y="1590"/>
                  </a:lnTo>
                  <a:lnTo>
                    <a:pt x="1603" y="1589"/>
                  </a:lnTo>
                  <a:lnTo>
                    <a:pt x="1587" y="1584"/>
                  </a:lnTo>
                  <a:lnTo>
                    <a:pt x="1572" y="1576"/>
                  </a:lnTo>
                  <a:lnTo>
                    <a:pt x="1559" y="1563"/>
                  </a:lnTo>
                  <a:lnTo>
                    <a:pt x="1550" y="1545"/>
                  </a:lnTo>
                  <a:lnTo>
                    <a:pt x="1536" y="1542"/>
                  </a:lnTo>
                  <a:lnTo>
                    <a:pt x="1521" y="1535"/>
                  </a:lnTo>
                  <a:lnTo>
                    <a:pt x="1510" y="1528"/>
                  </a:lnTo>
                  <a:lnTo>
                    <a:pt x="1500" y="1518"/>
                  </a:lnTo>
                  <a:lnTo>
                    <a:pt x="1492" y="1507"/>
                  </a:lnTo>
                  <a:lnTo>
                    <a:pt x="1486" y="1494"/>
                  </a:lnTo>
                  <a:lnTo>
                    <a:pt x="1484" y="1483"/>
                  </a:lnTo>
                  <a:lnTo>
                    <a:pt x="1485" y="1470"/>
                  </a:lnTo>
                  <a:lnTo>
                    <a:pt x="1491" y="1446"/>
                  </a:lnTo>
                  <a:lnTo>
                    <a:pt x="1502" y="1423"/>
                  </a:lnTo>
                  <a:lnTo>
                    <a:pt x="1516" y="1400"/>
                  </a:lnTo>
                  <a:lnTo>
                    <a:pt x="1533" y="1378"/>
                  </a:lnTo>
                  <a:lnTo>
                    <a:pt x="1550" y="1359"/>
                  </a:lnTo>
                  <a:lnTo>
                    <a:pt x="1568" y="1343"/>
                  </a:lnTo>
                  <a:lnTo>
                    <a:pt x="1584" y="1333"/>
                  </a:lnTo>
                  <a:lnTo>
                    <a:pt x="1598" y="1329"/>
                  </a:lnTo>
                  <a:lnTo>
                    <a:pt x="1611" y="1329"/>
                  </a:lnTo>
                  <a:lnTo>
                    <a:pt x="1622" y="1327"/>
                  </a:lnTo>
                  <a:lnTo>
                    <a:pt x="1633" y="1327"/>
                  </a:lnTo>
                  <a:lnTo>
                    <a:pt x="1643" y="1329"/>
                  </a:lnTo>
                  <a:lnTo>
                    <a:pt x="1655" y="1330"/>
                  </a:lnTo>
                  <a:lnTo>
                    <a:pt x="1667" y="1331"/>
                  </a:lnTo>
                  <a:lnTo>
                    <a:pt x="1680" y="1334"/>
                  </a:lnTo>
                  <a:lnTo>
                    <a:pt x="1694" y="1339"/>
                  </a:lnTo>
                  <a:lnTo>
                    <a:pt x="1709" y="1320"/>
                  </a:lnTo>
                  <a:lnTo>
                    <a:pt x="1703" y="1320"/>
                  </a:lnTo>
                  <a:lnTo>
                    <a:pt x="1697" y="1320"/>
                  </a:lnTo>
                  <a:lnTo>
                    <a:pt x="1690" y="1318"/>
                  </a:lnTo>
                  <a:lnTo>
                    <a:pt x="1684" y="1315"/>
                  </a:lnTo>
                  <a:lnTo>
                    <a:pt x="1677" y="1313"/>
                  </a:lnTo>
                  <a:lnTo>
                    <a:pt x="1670" y="1310"/>
                  </a:lnTo>
                  <a:lnTo>
                    <a:pt x="1662" y="1304"/>
                  </a:lnTo>
                  <a:lnTo>
                    <a:pt x="1655" y="1298"/>
                  </a:lnTo>
                  <a:lnTo>
                    <a:pt x="1643" y="1302"/>
                  </a:lnTo>
                  <a:lnTo>
                    <a:pt x="1630" y="1305"/>
                  </a:lnTo>
                  <a:lnTo>
                    <a:pt x="1619" y="1310"/>
                  </a:lnTo>
                  <a:lnTo>
                    <a:pt x="1606" y="1311"/>
                  </a:lnTo>
                  <a:lnTo>
                    <a:pt x="1593" y="1313"/>
                  </a:lnTo>
                  <a:lnTo>
                    <a:pt x="1581" y="1313"/>
                  </a:lnTo>
                  <a:lnTo>
                    <a:pt x="1569" y="1311"/>
                  </a:lnTo>
                  <a:lnTo>
                    <a:pt x="1558" y="1308"/>
                  </a:lnTo>
                  <a:lnTo>
                    <a:pt x="1564" y="1307"/>
                  </a:lnTo>
                  <a:lnTo>
                    <a:pt x="1569" y="1305"/>
                  </a:lnTo>
                  <a:lnTo>
                    <a:pt x="1574" y="1304"/>
                  </a:lnTo>
                  <a:lnTo>
                    <a:pt x="1578" y="1301"/>
                  </a:lnTo>
                  <a:lnTo>
                    <a:pt x="1555" y="1304"/>
                  </a:lnTo>
                  <a:lnTo>
                    <a:pt x="1524" y="1305"/>
                  </a:lnTo>
                  <a:lnTo>
                    <a:pt x="1492" y="1307"/>
                  </a:lnTo>
                  <a:lnTo>
                    <a:pt x="1459" y="1308"/>
                  </a:lnTo>
                  <a:lnTo>
                    <a:pt x="1425" y="1311"/>
                  </a:lnTo>
                  <a:lnTo>
                    <a:pt x="1396" y="1315"/>
                  </a:lnTo>
                  <a:lnTo>
                    <a:pt x="1373" y="1323"/>
                  </a:lnTo>
                  <a:lnTo>
                    <a:pt x="1359" y="1333"/>
                  </a:lnTo>
                  <a:lnTo>
                    <a:pt x="1348" y="1346"/>
                  </a:lnTo>
                  <a:lnTo>
                    <a:pt x="1340" y="1362"/>
                  </a:lnTo>
                  <a:lnTo>
                    <a:pt x="1331" y="1378"/>
                  </a:lnTo>
                  <a:lnTo>
                    <a:pt x="1324" y="1393"/>
                  </a:lnTo>
                  <a:lnTo>
                    <a:pt x="1318" y="1407"/>
                  </a:lnTo>
                  <a:lnTo>
                    <a:pt x="1312" y="1419"/>
                  </a:lnTo>
                  <a:lnTo>
                    <a:pt x="1308" y="1427"/>
                  </a:lnTo>
                  <a:lnTo>
                    <a:pt x="1305" y="1432"/>
                  </a:lnTo>
                  <a:lnTo>
                    <a:pt x="1298" y="1435"/>
                  </a:lnTo>
                  <a:lnTo>
                    <a:pt x="1287" y="1435"/>
                  </a:lnTo>
                  <a:lnTo>
                    <a:pt x="1276" y="1435"/>
                  </a:lnTo>
                  <a:lnTo>
                    <a:pt x="1267" y="1433"/>
                  </a:lnTo>
                  <a:lnTo>
                    <a:pt x="1260" y="1442"/>
                  </a:lnTo>
                  <a:lnTo>
                    <a:pt x="1253" y="1449"/>
                  </a:lnTo>
                  <a:lnTo>
                    <a:pt x="1244" y="1457"/>
                  </a:lnTo>
                  <a:lnTo>
                    <a:pt x="1235" y="1462"/>
                  </a:lnTo>
                  <a:lnTo>
                    <a:pt x="1226" y="1467"/>
                  </a:lnTo>
                  <a:lnTo>
                    <a:pt x="1216" y="1471"/>
                  </a:lnTo>
                  <a:lnTo>
                    <a:pt x="1203" y="1472"/>
                  </a:lnTo>
                  <a:lnTo>
                    <a:pt x="1190" y="1474"/>
                  </a:lnTo>
                  <a:lnTo>
                    <a:pt x="1176" y="1474"/>
                  </a:lnTo>
                  <a:lnTo>
                    <a:pt x="1161" y="1475"/>
                  </a:lnTo>
                  <a:lnTo>
                    <a:pt x="1146" y="1478"/>
                  </a:lnTo>
                  <a:lnTo>
                    <a:pt x="1132" y="1481"/>
                  </a:lnTo>
                  <a:lnTo>
                    <a:pt x="1119" y="1484"/>
                  </a:lnTo>
                  <a:lnTo>
                    <a:pt x="1107" y="1488"/>
                  </a:lnTo>
                  <a:lnTo>
                    <a:pt x="1097" y="1491"/>
                  </a:lnTo>
                  <a:lnTo>
                    <a:pt x="1088" y="1496"/>
                  </a:lnTo>
                  <a:lnTo>
                    <a:pt x="1080" y="1500"/>
                  </a:lnTo>
                  <a:lnTo>
                    <a:pt x="1071" y="1503"/>
                  </a:lnTo>
                  <a:lnTo>
                    <a:pt x="1062" y="1507"/>
                  </a:lnTo>
                  <a:lnTo>
                    <a:pt x="1052" y="1512"/>
                  </a:lnTo>
                  <a:lnTo>
                    <a:pt x="1043" y="1515"/>
                  </a:lnTo>
                  <a:lnTo>
                    <a:pt x="1035" y="1516"/>
                  </a:lnTo>
                  <a:lnTo>
                    <a:pt x="1027" y="1519"/>
                  </a:lnTo>
                  <a:lnTo>
                    <a:pt x="1020" y="1519"/>
                  </a:lnTo>
                  <a:lnTo>
                    <a:pt x="1014" y="1519"/>
                  </a:lnTo>
                  <a:lnTo>
                    <a:pt x="1007" y="1518"/>
                  </a:lnTo>
                  <a:lnTo>
                    <a:pt x="1000" y="1516"/>
                  </a:lnTo>
                  <a:lnTo>
                    <a:pt x="991" y="1513"/>
                  </a:lnTo>
                  <a:lnTo>
                    <a:pt x="984" y="1510"/>
                  </a:lnTo>
                  <a:lnTo>
                    <a:pt x="976" y="1507"/>
                  </a:lnTo>
                  <a:lnTo>
                    <a:pt x="971" y="1506"/>
                  </a:lnTo>
                  <a:lnTo>
                    <a:pt x="965" y="1503"/>
                  </a:lnTo>
                  <a:lnTo>
                    <a:pt x="959" y="1507"/>
                  </a:lnTo>
                  <a:lnTo>
                    <a:pt x="952" y="1510"/>
                  </a:lnTo>
                  <a:lnTo>
                    <a:pt x="944" y="1513"/>
                  </a:lnTo>
                  <a:lnTo>
                    <a:pt x="937" y="1515"/>
                  </a:lnTo>
                  <a:lnTo>
                    <a:pt x="930" y="1518"/>
                  </a:lnTo>
                  <a:lnTo>
                    <a:pt x="924" y="1518"/>
                  </a:lnTo>
                  <a:lnTo>
                    <a:pt x="918" y="1516"/>
                  </a:lnTo>
                  <a:lnTo>
                    <a:pt x="914" y="1515"/>
                  </a:lnTo>
                  <a:lnTo>
                    <a:pt x="905" y="1507"/>
                  </a:lnTo>
                  <a:lnTo>
                    <a:pt x="894" y="1497"/>
                  </a:lnTo>
                  <a:lnTo>
                    <a:pt x="882" y="1487"/>
                  </a:lnTo>
                  <a:lnTo>
                    <a:pt x="872" y="1477"/>
                  </a:lnTo>
                  <a:lnTo>
                    <a:pt x="863" y="1475"/>
                  </a:lnTo>
                  <a:lnTo>
                    <a:pt x="854" y="1472"/>
                  </a:lnTo>
                  <a:lnTo>
                    <a:pt x="844" y="1471"/>
                  </a:lnTo>
                  <a:lnTo>
                    <a:pt x="836" y="1468"/>
                  </a:lnTo>
                  <a:lnTo>
                    <a:pt x="825" y="1467"/>
                  </a:lnTo>
                  <a:lnTo>
                    <a:pt x="818" y="1464"/>
                  </a:lnTo>
                  <a:lnTo>
                    <a:pt x="812" y="1461"/>
                  </a:lnTo>
                  <a:lnTo>
                    <a:pt x="808" y="1458"/>
                  </a:lnTo>
                  <a:lnTo>
                    <a:pt x="812" y="1448"/>
                  </a:lnTo>
                  <a:lnTo>
                    <a:pt x="820" y="1435"/>
                  </a:lnTo>
                  <a:lnTo>
                    <a:pt x="828" y="1420"/>
                  </a:lnTo>
                  <a:lnTo>
                    <a:pt x="838" y="1407"/>
                  </a:lnTo>
                  <a:lnTo>
                    <a:pt x="847" y="1394"/>
                  </a:lnTo>
                  <a:lnTo>
                    <a:pt x="856" y="1382"/>
                  </a:lnTo>
                  <a:lnTo>
                    <a:pt x="863" y="1375"/>
                  </a:lnTo>
                  <a:lnTo>
                    <a:pt x="867" y="1371"/>
                  </a:lnTo>
                  <a:lnTo>
                    <a:pt x="872" y="1368"/>
                  </a:lnTo>
                  <a:lnTo>
                    <a:pt x="879" y="1365"/>
                  </a:lnTo>
                  <a:lnTo>
                    <a:pt x="885" y="1361"/>
                  </a:lnTo>
                  <a:lnTo>
                    <a:pt x="889" y="1355"/>
                  </a:lnTo>
                  <a:lnTo>
                    <a:pt x="892" y="1350"/>
                  </a:lnTo>
                  <a:lnTo>
                    <a:pt x="897" y="1343"/>
                  </a:lnTo>
                  <a:lnTo>
                    <a:pt x="902" y="1336"/>
                  </a:lnTo>
                  <a:lnTo>
                    <a:pt x="910" y="1327"/>
                  </a:lnTo>
                  <a:lnTo>
                    <a:pt x="918" y="1320"/>
                  </a:lnTo>
                  <a:lnTo>
                    <a:pt x="929" y="1314"/>
                  </a:lnTo>
                  <a:lnTo>
                    <a:pt x="940" y="1311"/>
                  </a:lnTo>
                  <a:lnTo>
                    <a:pt x="952" y="1311"/>
                  </a:lnTo>
                  <a:lnTo>
                    <a:pt x="963" y="1313"/>
                  </a:lnTo>
                  <a:lnTo>
                    <a:pt x="975" y="1315"/>
                  </a:lnTo>
                  <a:lnTo>
                    <a:pt x="984" y="1317"/>
                  </a:lnTo>
                  <a:lnTo>
                    <a:pt x="992" y="1318"/>
                  </a:lnTo>
                  <a:lnTo>
                    <a:pt x="1000" y="1320"/>
                  </a:lnTo>
                  <a:lnTo>
                    <a:pt x="1006" y="1321"/>
                  </a:lnTo>
                  <a:lnTo>
                    <a:pt x="1011" y="1323"/>
                  </a:lnTo>
                  <a:lnTo>
                    <a:pt x="1017" y="1324"/>
                  </a:lnTo>
                  <a:lnTo>
                    <a:pt x="1026" y="1317"/>
                  </a:lnTo>
                  <a:lnTo>
                    <a:pt x="1033" y="1308"/>
                  </a:lnTo>
                  <a:lnTo>
                    <a:pt x="1040" y="1301"/>
                  </a:lnTo>
                  <a:lnTo>
                    <a:pt x="1046" y="1295"/>
                  </a:lnTo>
                  <a:lnTo>
                    <a:pt x="1036" y="1294"/>
                  </a:lnTo>
                  <a:lnTo>
                    <a:pt x="1027" y="1291"/>
                  </a:lnTo>
                  <a:lnTo>
                    <a:pt x="1020" y="1289"/>
                  </a:lnTo>
                  <a:lnTo>
                    <a:pt x="1013" y="1288"/>
                  </a:lnTo>
                  <a:lnTo>
                    <a:pt x="994" y="1295"/>
                  </a:lnTo>
                  <a:lnTo>
                    <a:pt x="974" y="1301"/>
                  </a:lnTo>
                  <a:lnTo>
                    <a:pt x="952" y="1307"/>
                  </a:lnTo>
                  <a:lnTo>
                    <a:pt x="929" y="1313"/>
                  </a:lnTo>
                  <a:lnTo>
                    <a:pt x="907" y="1317"/>
                  </a:lnTo>
                  <a:lnTo>
                    <a:pt x="886" y="1320"/>
                  </a:lnTo>
                  <a:lnTo>
                    <a:pt x="870" y="1324"/>
                  </a:lnTo>
                  <a:lnTo>
                    <a:pt x="857" y="1326"/>
                  </a:lnTo>
                  <a:lnTo>
                    <a:pt x="852" y="1327"/>
                  </a:lnTo>
                  <a:lnTo>
                    <a:pt x="843" y="1329"/>
                  </a:lnTo>
                  <a:lnTo>
                    <a:pt x="833" y="1331"/>
                  </a:lnTo>
                  <a:lnTo>
                    <a:pt x="820" y="1334"/>
                  </a:lnTo>
                  <a:lnTo>
                    <a:pt x="806" y="1336"/>
                  </a:lnTo>
                  <a:lnTo>
                    <a:pt x="790" y="1339"/>
                  </a:lnTo>
                  <a:lnTo>
                    <a:pt x="774" y="1342"/>
                  </a:lnTo>
                  <a:lnTo>
                    <a:pt x="757" y="1343"/>
                  </a:lnTo>
                  <a:lnTo>
                    <a:pt x="740" y="1345"/>
                  </a:lnTo>
                  <a:lnTo>
                    <a:pt x="722" y="1346"/>
                  </a:lnTo>
                  <a:lnTo>
                    <a:pt x="703" y="1345"/>
                  </a:lnTo>
                  <a:lnTo>
                    <a:pt x="686" y="1343"/>
                  </a:lnTo>
                  <a:lnTo>
                    <a:pt x="667" y="1340"/>
                  </a:lnTo>
                  <a:lnTo>
                    <a:pt x="650" y="1336"/>
                  </a:lnTo>
                  <a:lnTo>
                    <a:pt x="634" y="1330"/>
                  </a:lnTo>
                  <a:lnTo>
                    <a:pt x="618" y="1321"/>
                  </a:lnTo>
                  <a:lnTo>
                    <a:pt x="622" y="1307"/>
                  </a:lnTo>
                  <a:lnTo>
                    <a:pt x="629" y="1294"/>
                  </a:lnTo>
                  <a:lnTo>
                    <a:pt x="636" y="1281"/>
                  </a:lnTo>
                  <a:lnTo>
                    <a:pt x="645" y="1269"/>
                  </a:lnTo>
                  <a:lnTo>
                    <a:pt x="655" y="1260"/>
                  </a:lnTo>
                  <a:lnTo>
                    <a:pt x="666" y="1251"/>
                  </a:lnTo>
                  <a:lnTo>
                    <a:pt x="677" y="1246"/>
                  </a:lnTo>
                  <a:lnTo>
                    <a:pt x="690" y="1243"/>
                  </a:lnTo>
                  <a:lnTo>
                    <a:pt x="705" y="1240"/>
                  </a:lnTo>
                  <a:lnTo>
                    <a:pt x="721" y="1237"/>
                  </a:lnTo>
                  <a:lnTo>
                    <a:pt x="738" y="1233"/>
                  </a:lnTo>
                  <a:lnTo>
                    <a:pt x="756" y="1228"/>
                  </a:lnTo>
                  <a:lnTo>
                    <a:pt x="772" y="1222"/>
                  </a:lnTo>
                  <a:lnTo>
                    <a:pt x="786" y="1218"/>
                  </a:lnTo>
                  <a:lnTo>
                    <a:pt x="798" y="1212"/>
                  </a:lnTo>
                  <a:lnTo>
                    <a:pt x="806" y="1208"/>
                  </a:lnTo>
                  <a:lnTo>
                    <a:pt x="799" y="1193"/>
                  </a:lnTo>
                  <a:lnTo>
                    <a:pt x="789" y="1182"/>
                  </a:lnTo>
                  <a:lnTo>
                    <a:pt x="777" y="1174"/>
                  </a:lnTo>
                  <a:lnTo>
                    <a:pt x="766" y="1172"/>
                  </a:lnTo>
                  <a:lnTo>
                    <a:pt x="766" y="1156"/>
                  </a:lnTo>
                  <a:lnTo>
                    <a:pt x="756" y="1142"/>
                  </a:lnTo>
                  <a:lnTo>
                    <a:pt x="745" y="1129"/>
                  </a:lnTo>
                  <a:lnTo>
                    <a:pt x="738" y="1118"/>
                  </a:lnTo>
                  <a:lnTo>
                    <a:pt x="732" y="1110"/>
                  </a:lnTo>
                  <a:lnTo>
                    <a:pt x="731" y="1108"/>
                  </a:lnTo>
                  <a:lnTo>
                    <a:pt x="728" y="1105"/>
                  </a:lnTo>
                  <a:lnTo>
                    <a:pt x="725" y="1102"/>
                  </a:lnTo>
                  <a:lnTo>
                    <a:pt x="721" y="1097"/>
                  </a:lnTo>
                  <a:lnTo>
                    <a:pt x="715" y="1094"/>
                  </a:lnTo>
                  <a:lnTo>
                    <a:pt x="709" y="1092"/>
                  </a:lnTo>
                  <a:lnTo>
                    <a:pt x="699" y="1089"/>
                  </a:lnTo>
                  <a:lnTo>
                    <a:pt x="689" y="1087"/>
                  </a:lnTo>
                  <a:lnTo>
                    <a:pt x="676" y="1086"/>
                  </a:lnTo>
                  <a:lnTo>
                    <a:pt x="661" y="1084"/>
                  </a:lnTo>
                  <a:lnTo>
                    <a:pt x="647" y="1083"/>
                  </a:lnTo>
                  <a:lnTo>
                    <a:pt x="631" y="1081"/>
                  </a:lnTo>
                  <a:lnTo>
                    <a:pt x="616" y="1080"/>
                  </a:lnTo>
                  <a:lnTo>
                    <a:pt x="604" y="1080"/>
                  </a:lnTo>
                  <a:lnTo>
                    <a:pt x="593" y="1078"/>
                  </a:lnTo>
                  <a:lnTo>
                    <a:pt x="586" y="1078"/>
                  </a:lnTo>
                  <a:lnTo>
                    <a:pt x="574" y="1077"/>
                  </a:lnTo>
                  <a:lnTo>
                    <a:pt x="561" y="1074"/>
                  </a:lnTo>
                  <a:lnTo>
                    <a:pt x="552" y="1070"/>
                  </a:lnTo>
                  <a:lnTo>
                    <a:pt x="545" y="1065"/>
                  </a:lnTo>
                  <a:lnTo>
                    <a:pt x="538" y="1065"/>
                  </a:lnTo>
                  <a:lnTo>
                    <a:pt x="532" y="1065"/>
                  </a:lnTo>
                  <a:lnTo>
                    <a:pt x="525" y="1065"/>
                  </a:lnTo>
                  <a:lnTo>
                    <a:pt x="519" y="1064"/>
                  </a:lnTo>
                  <a:lnTo>
                    <a:pt x="513" y="1064"/>
                  </a:lnTo>
                  <a:lnTo>
                    <a:pt x="507" y="1062"/>
                  </a:lnTo>
                  <a:lnTo>
                    <a:pt x="501" y="1060"/>
                  </a:lnTo>
                  <a:lnTo>
                    <a:pt x="497" y="1058"/>
                  </a:lnTo>
                  <a:lnTo>
                    <a:pt x="488" y="1054"/>
                  </a:lnTo>
                  <a:lnTo>
                    <a:pt x="480" y="1048"/>
                  </a:lnTo>
                  <a:lnTo>
                    <a:pt x="471" y="1045"/>
                  </a:lnTo>
                  <a:lnTo>
                    <a:pt x="462" y="1042"/>
                  </a:lnTo>
                  <a:lnTo>
                    <a:pt x="455" y="1042"/>
                  </a:lnTo>
                  <a:lnTo>
                    <a:pt x="440" y="1042"/>
                  </a:lnTo>
                  <a:lnTo>
                    <a:pt x="421" y="1044"/>
                  </a:lnTo>
                  <a:lnTo>
                    <a:pt x="400" y="1044"/>
                  </a:lnTo>
                  <a:lnTo>
                    <a:pt x="379" y="1044"/>
                  </a:lnTo>
                  <a:lnTo>
                    <a:pt x="359" y="1044"/>
                  </a:lnTo>
                  <a:lnTo>
                    <a:pt x="343" y="1041"/>
                  </a:lnTo>
                  <a:lnTo>
                    <a:pt x="333" y="1038"/>
                  </a:lnTo>
                  <a:lnTo>
                    <a:pt x="325" y="1032"/>
                  </a:lnTo>
                  <a:lnTo>
                    <a:pt x="317" y="1025"/>
                  </a:lnTo>
                  <a:lnTo>
                    <a:pt x="308" y="1016"/>
                  </a:lnTo>
                  <a:lnTo>
                    <a:pt x="298" y="1007"/>
                  </a:lnTo>
                  <a:lnTo>
                    <a:pt x="289" y="997"/>
                  </a:lnTo>
                  <a:lnTo>
                    <a:pt x="279" y="988"/>
                  </a:lnTo>
                  <a:lnTo>
                    <a:pt x="272" y="981"/>
                  </a:lnTo>
                  <a:lnTo>
                    <a:pt x="264" y="977"/>
                  </a:lnTo>
                  <a:lnTo>
                    <a:pt x="257" y="972"/>
                  </a:lnTo>
                  <a:lnTo>
                    <a:pt x="247" y="965"/>
                  </a:lnTo>
                  <a:lnTo>
                    <a:pt x="237" y="958"/>
                  </a:lnTo>
                  <a:lnTo>
                    <a:pt x="228" y="949"/>
                  </a:lnTo>
                  <a:lnTo>
                    <a:pt x="219" y="940"/>
                  </a:lnTo>
                  <a:lnTo>
                    <a:pt x="215" y="930"/>
                  </a:lnTo>
                  <a:lnTo>
                    <a:pt x="215" y="920"/>
                  </a:lnTo>
                  <a:lnTo>
                    <a:pt x="221" y="910"/>
                  </a:lnTo>
                  <a:lnTo>
                    <a:pt x="108" y="881"/>
                  </a:lnTo>
                  <a:lnTo>
                    <a:pt x="228" y="897"/>
                  </a:lnTo>
                  <a:lnTo>
                    <a:pt x="235" y="887"/>
                  </a:lnTo>
                  <a:lnTo>
                    <a:pt x="0" y="805"/>
                  </a:lnTo>
                  <a:lnTo>
                    <a:pt x="241" y="878"/>
                  </a:lnTo>
                  <a:lnTo>
                    <a:pt x="253" y="863"/>
                  </a:lnTo>
                  <a:lnTo>
                    <a:pt x="52" y="7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05920" y="5633640"/>
              <a:ext cx="217800" cy="249120"/>
            </a:xfrm>
            <a:custGeom>
              <a:avLst/>
              <a:gdLst/>
              <a:ahLst/>
              <a:rect l="l" t="t" r="r" b="b"/>
              <a:pathLst>
                <a:path w="347" h="400">
                  <a:moveTo>
                    <a:pt x="0" y="0"/>
                  </a:moveTo>
                  <a:lnTo>
                    <a:pt x="16" y="11"/>
                  </a:lnTo>
                  <a:lnTo>
                    <a:pt x="32" y="21"/>
                  </a:lnTo>
                  <a:lnTo>
                    <a:pt x="49" y="29"/>
                  </a:lnTo>
                  <a:lnTo>
                    <a:pt x="68" y="37"/>
                  </a:lnTo>
                  <a:lnTo>
                    <a:pt x="85" y="44"/>
                  </a:lnTo>
                  <a:lnTo>
                    <a:pt x="103" y="50"/>
                  </a:lnTo>
                  <a:lnTo>
                    <a:pt x="120" y="56"/>
                  </a:lnTo>
                  <a:lnTo>
                    <a:pt x="135" y="60"/>
                  </a:lnTo>
                  <a:lnTo>
                    <a:pt x="151" y="66"/>
                  </a:lnTo>
                  <a:lnTo>
                    <a:pt x="171" y="75"/>
                  </a:lnTo>
                  <a:lnTo>
                    <a:pt x="193" y="88"/>
                  </a:lnTo>
                  <a:lnTo>
                    <a:pt x="219" y="107"/>
                  </a:lnTo>
                  <a:lnTo>
                    <a:pt x="248" y="133"/>
                  </a:lnTo>
                  <a:lnTo>
                    <a:pt x="279" y="169"/>
                  </a:lnTo>
                  <a:lnTo>
                    <a:pt x="312" y="214"/>
                  </a:lnTo>
                  <a:lnTo>
                    <a:pt x="347" y="271"/>
                  </a:lnTo>
                  <a:lnTo>
                    <a:pt x="341" y="285"/>
                  </a:lnTo>
                  <a:lnTo>
                    <a:pt x="334" y="301"/>
                  </a:lnTo>
                  <a:lnTo>
                    <a:pt x="328" y="320"/>
                  </a:lnTo>
                  <a:lnTo>
                    <a:pt x="321" y="339"/>
                  </a:lnTo>
                  <a:lnTo>
                    <a:pt x="314" y="358"/>
                  </a:lnTo>
                  <a:lnTo>
                    <a:pt x="308" y="376"/>
                  </a:lnTo>
                  <a:lnTo>
                    <a:pt x="300" y="390"/>
                  </a:lnTo>
                  <a:lnTo>
                    <a:pt x="295" y="400"/>
                  </a:lnTo>
                  <a:lnTo>
                    <a:pt x="267" y="377"/>
                  </a:lnTo>
                  <a:lnTo>
                    <a:pt x="241" y="351"/>
                  </a:lnTo>
                  <a:lnTo>
                    <a:pt x="215" y="322"/>
                  </a:lnTo>
                  <a:lnTo>
                    <a:pt x="190" y="293"/>
                  </a:lnTo>
                  <a:lnTo>
                    <a:pt x="167" y="264"/>
                  </a:lnTo>
                  <a:lnTo>
                    <a:pt x="145" y="235"/>
                  </a:lnTo>
                  <a:lnTo>
                    <a:pt x="126" y="205"/>
                  </a:lnTo>
                  <a:lnTo>
                    <a:pt x="109" y="178"/>
                  </a:lnTo>
                  <a:lnTo>
                    <a:pt x="94" y="153"/>
                  </a:lnTo>
                  <a:lnTo>
                    <a:pt x="77" y="127"/>
                  </a:lnTo>
                  <a:lnTo>
                    <a:pt x="58" y="99"/>
                  </a:lnTo>
                  <a:lnTo>
                    <a:pt x="40" y="73"/>
                  </a:lnTo>
                  <a:lnTo>
                    <a:pt x="24" y="48"/>
                  </a:lnTo>
                  <a:lnTo>
                    <a:pt x="11" y="27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28160" y="5578920"/>
              <a:ext cx="1315080" cy="953640"/>
            </a:xfrm>
            <a:custGeom>
              <a:avLst/>
              <a:gdLst/>
              <a:ahLst/>
              <a:rect l="l" t="t" r="r" b="b"/>
              <a:pathLst>
                <a:path w="2096" h="1531">
                  <a:moveTo>
                    <a:pt x="881" y="49"/>
                  </a:moveTo>
                  <a:lnTo>
                    <a:pt x="875" y="43"/>
                  </a:lnTo>
                  <a:lnTo>
                    <a:pt x="869" y="40"/>
                  </a:lnTo>
                  <a:lnTo>
                    <a:pt x="862" y="38"/>
                  </a:lnTo>
                  <a:lnTo>
                    <a:pt x="853" y="38"/>
                  </a:lnTo>
                  <a:lnTo>
                    <a:pt x="844" y="39"/>
                  </a:lnTo>
                  <a:lnTo>
                    <a:pt x="836" y="40"/>
                  </a:lnTo>
                  <a:lnTo>
                    <a:pt x="826" y="45"/>
                  </a:lnTo>
                  <a:lnTo>
                    <a:pt x="817" y="51"/>
                  </a:lnTo>
                  <a:lnTo>
                    <a:pt x="799" y="64"/>
                  </a:lnTo>
                  <a:lnTo>
                    <a:pt x="770" y="84"/>
                  </a:lnTo>
                  <a:lnTo>
                    <a:pt x="737" y="110"/>
                  </a:lnTo>
                  <a:lnTo>
                    <a:pt x="699" y="141"/>
                  </a:lnTo>
                  <a:lnTo>
                    <a:pt x="663" y="173"/>
                  </a:lnTo>
                  <a:lnTo>
                    <a:pt x="631" y="206"/>
                  </a:lnTo>
                  <a:lnTo>
                    <a:pt x="608" y="238"/>
                  </a:lnTo>
                  <a:lnTo>
                    <a:pt x="597" y="267"/>
                  </a:lnTo>
                  <a:lnTo>
                    <a:pt x="595" y="301"/>
                  </a:lnTo>
                  <a:lnTo>
                    <a:pt x="592" y="330"/>
                  </a:lnTo>
                  <a:lnTo>
                    <a:pt x="589" y="354"/>
                  </a:lnTo>
                  <a:lnTo>
                    <a:pt x="581" y="375"/>
                  </a:lnTo>
                  <a:lnTo>
                    <a:pt x="570" y="400"/>
                  </a:lnTo>
                  <a:lnTo>
                    <a:pt x="557" y="433"/>
                  </a:lnTo>
                  <a:lnTo>
                    <a:pt x="548" y="471"/>
                  </a:lnTo>
                  <a:lnTo>
                    <a:pt x="549" y="504"/>
                  </a:lnTo>
                  <a:lnTo>
                    <a:pt x="563" y="501"/>
                  </a:lnTo>
                  <a:lnTo>
                    <a:pt x="577" y="491"/>
                  </a:lnTo>
                  <a:lnTo>
                    <a:pt x="596" y="475"/>
                  </a:lnTo>
                  <a:lnTo>
                    <a:pt x="613" y="456"/>
                  </a:lnTo>
                  <a:lnTo>
                    <a:pt x="631" y="439"/>
                  </a:lnTo>
                  <a:lnTo>
                    <a:pt x="645" y="423"/>
                  </a:lnTo>
                  <a:lnTo>
                    <a:pt x="657" y="413"/>
                  </a:lnTo>
                  <a:lnTo>
                    <a:pt x="664" y="410"/>
                  </a:lnTo>
                  <a:lnTo>
                    <a:pt x="669" y="413"/>
                  </a:lnTo>
                  <a:lnTo>
                    <a:pt x="676" y="416"/>
                  </a:lnTo>
                  <a:lnTo>
                    <a:pt x="683" y="420"/>
                  </a:lnTo>
                  <a:lnTo>
                    <a:pt x="695" y="423"/>
                  </a:lnTo>
                  <a:lnTo>
                    <a:pt x="706" y="423"/>
                  </a:lnTo>
                  <a:lnTo>
                    <a:pt x="721" y="421"/>
                  </a:lnTo>
                  <a:lnTo>
                    <a:pt x="738" y="417"/>
                  </a:lnTo>
                  <a:lnTo>
                    <a:pt x="759" y="407"/>
                  </a:lnTo>
                  <a:lnTo>
                    <a:pt x="751" y="416"/>
                  </a:lnTo>
                  <a:lnTo>
                    <a:pt x="743" y="423"/>
                  </a:lnTo>
                  <a:lnTo>
                    <a:pt x="733" y="430"/>
                  </a:lnTo>
                  <a:lnTo>
                    <a:pt x="721" y="437"/>
                  </a:lnTo>
                  <a:lnTo>
                    <a:pt x="709" y="443"/>
                  </a:lnTo>
                  <a:lnTo>
                    <a:pt x="699" y="449"/>
                  </a:lnTo>
                  <a:lnTo>
                    <a:pt x="689" y="456"/>
                  </a:lnTo>
                  <a:lnTo>
                    <a:pt x="680" y="464"/>
                  </a:lnTo>
                  <a:lnTo>
                    <a:pt x="672" y="472"/>
                  </a:lnTo>
                  <a:lnTo>
                    <a:pt x="663" y="482"/>
                  </a:lnTo>
                  <a:lnTo>
                    <a:pt x="653" y="494"/>
                  </a:lnTo>
                  <a:lnTo>
                    <a:pt x="644" y="506"/>
                  </a:lnTo>
                  <a:lnTo>
                    <a:pt x="635" y="520"/>
                  </a:lnTo>
                  <a:lnTo>
                    <a:pt x="629" y="535"/>
                  </a:lnTo>
                  <a:lnTo>
                    <a:pt x="626" y="551"/>
                  </a:lnTo>
                  <a:lnTo>
                    <a:pt x="628" y="567"/>
                  </a:lnTo>
                  <a:lnTo>
                    <a:pt x="637" y="605"/>
                  </a:lnTo>
                  <a:lnTo>
                    <a:pt x="645" y="645"/>
                  </a:lnTo>
                  <a:lnTo>
                    <a:pt x="644" y="680"/>
                  </a:lnTo>
                  <a:lnTo>
                    <a:pt x="626" y="699"/>
                  </a:lnTo>
                  <a:lnTo>
                    <a:pt x="619" y="701"/>
                  </a:lnTo>
                  <a:lnTo>
                    <a:pt x="610" y="702"/>
                  </a:lnTo>
                  <a:lnTo>
                    <a:pt x="605" y="703"/>
                  </a:lnTo>
                  <a:lnTo>
                    <a:pt x="597" y="705"/>
                  </a:lnTo>
                  <a:lnTo>
                    <a:pt x="593" y="708"/>
                  </a:lnTo>
                  <a:lnTo>
                    <a:pt x="589" y="712"/>
                  </a:lnTo>
                  <a:lnTo>
                    <a:pt x="587" y="717"/>
                  </a:lnTo>
                  <a:lnTo>
                    <a:pt x="587" y="724"/>
                  </a:lnTo>
                  <a:lnTo>
                    <a:pt x="595" y="735"/>
                  </a:lnTo>
                  <a:lnTo>
                    <a:pt x="606" y="737"/>
                  </a:lnTo>
                  <a:lnTo>
                    <a:pt x="619" y="731"/>
                  </a:lnTo>
                  <a:lnTo>
                    <a:pt x="629" y="722"/>
                  </a:lnTo>
                  <a:lnTo>
                    <a:pt x="635" y="717"/>
                  </a:lnTo>
                  <a:lnTo>
                    <a:pt x="641" y="711"/>
                  </a:lnTo>
                  <a:lnTo>
                    <a:pt x="648" y="703"/>
                  </a:lnTo>
                  <a:lnTo>
                    <a:pt x="657" y="696"/>
                  </a:lnTo>
                  <a:lnTo>
                    <a:pt x="666" y="690"/>
                  </a:lnTo>
                  <a:lnTo>
                    <a:pt x="674" y="686"/>
                  </a:lnTo>
                  <a:lnTo>
                    <a:pt x="682" y="682"/>
                  </a:lnTo>
                  <a:lnTo>
                    <a:pt x="689" y="680"/>
                  </a:lnTo>
                  <a:lnTo>
                    <a:pt x="696" y="679"/>
                  </a:lnTo>
                  <a:lnTo>
                    <a:pt x="703" y="676"/>
                  </a:lnTo>
                  <a:lnTo>
                    <a:pt x="714" y="671"/>
                  </a:lnTo>
                  <a:lnTo>
                    <a:pt x="724" y="667"/>
                  </a:lnTo>
                  <a:lnTo>
                    <a:pt x="733" y="661"/>
                  </a:lnTo>
                  <a:lnTo>
                    <a:pt x="743" y="655"/>
                  </a:lnTo>
                  <a:lnTo>
                    <a:pt x="751" y="648"/>
                  </a:lnTo>
                  <a:lnTo>
                    <a:pt x="759" y="642"/>
                  </a:lnTo>
                  <a:lnTo>
                    <a:pt x="767" y="635"/>
                  </a:lnTo>
                  <a:lnTo>
                    <a:pt x="778" y="626"/>
                  </a:lnTo>
                  <a:lnTo>
                    <a:pt x="792" y="616"/>
                  </a:lnTo>
                  <a:lnTo>
                    <a:pt x="810" y="606"/>
                  </a:lnTo>
                  <a:lnTo>
                    <a:pt x="828" y="597"/>
                  </a:lnTo>
                  <a:lnTo>
                    <a:pt x="849" y="590"/>
                  </a:lnTo>
                  <a:lnTo>
                    <a:pt x="872" y="586"/>
                  </a:lnTo>
                  <a:lnTo>
                    <a:pt x="895" y="583"/>
                  </a:lnTo>
                  <a:lnTo>
                    <a:pt x="920" y="583"/>
                  </a:lnTo>
                  <a:lnTo>
                    <a:pt x="943" y="584"/>
                  </a:lnTo>
                  <a:lnTo>
                    <a:pt x="965" y="587"/>
                  </a:lnTo>
                  <a:lnTo>
                    <a:pt x="987" y="590"/>
                  </a:lnTo>
                  <a:lnTo>
                    <a:pt x="1009" y="596"/>
                  </a:lnTo>
                  <a:lnTo>
                    <a:pt x="1029" y="603"/>
                  </a:lnTo>
                  <a:lnTo>
                    <a:pt x="1049" y="610"/>
                  </a:lnTo>
                  <a:lnTo>
                    <a:pt x="1068" y="621"/>
                  </a:lnTo>
                  <a:lnTo>
                    <a:pt x="1097" y="606"/>
                  </a:lnTo>
                  <a:lnTo>
                    <a:pt x="1128" y="590"/>
                  </a:lnTo>
                  <a:lnTo>
                    <a:pt x="1160" y="573"/>
                  </a:lnTo>
                  <a:lnTo>
                    <a:pt x="1192" y="557"/>
                  </a:lnTo>
                  <a:lnTo>
                    <a:pt x="1222" y="542"/>
                  </a:lnTo>
                  <a:lnTo>
                    <a:pt x="1250" y="528"/>
                  </a:lnTo>
                  <a:lnTo>
                    <a:pt x="1276" y="516"/>
                  </a:lnTo>
                  <a:lnTo>
                    <a:pt x="1299" y="507"/>
                  </a:lnTo>
                  <a:lnTo>
                    <a:pt x="1311" y="503"/>
                  </a:lnTo>
                  <a:lnTo>
                    <a:pt x="1324" y="497"/>
                  </a:lnTo>
                  <a:lnTo>
                    <a:pt x="1340" y="490"/>
                  </a:lnTo>
                  <a:lnTo>
                    <a:pt x="1357" y="482"/>
                  </a:lnTo>
                  <a:lnTo>
                    <a:pt x="1378" y="474"/>
                  </a:lnTo>
                  <a:lnTo>
                    <a:pt x="1398" y="465"/>
                  </a:lnTo>
                  <a:lnTo>
                    <a:pt x="1418" y="456"/>
                  </a:lnTo>
                  <a:lnTo>
                    <a:pt x="1442" y="448"/>
                  </a:lnTo>
                  <a:lnTo>
                    <a:pt x="1463" y="439"/>
                  </a:lnTo>
                  <a:lnTo>
                    <a:pt x="1487" y="430"/>
                  </a:lnTo>
                  <a:lnTo>
                    <a:pt x="1510" y="423"/>
                  </a:lnTo>
                  <a:lnTo>
                    <a:pt x="1533" y="417"/>
                  </a:lnTo>
                  <a:lnTo>
                    <a:pt x="1556" y="411"/>
                  </a:lnTo>
                  <a:lnTo>
                    <a:pt x="1578" y="408"/>
                  </a:lnTo>
                  <a:lnTo>
                    <a:pt x="1600" y="405"/>
                  </a:lnTo>
                  <a:lnTo>
                    <a:pt x="1620" y="405"/>
                  </a:lnTo>
                  <a:lnTo>
                    <a:pt x="1651" y="408"/>
                  </a:lnTo>
                  <a:lnTo>
                    <a:pt x="1681" y="413"/>
                  </a:lnTo>
                  <a:lnTo>
                    <a:pt x="1710" y="418"/>
                  </a:lnTo>
                  <a:lnTo>
                    <a:pt x="1741" y="426"/>
                  </a:lnTo>
                  <a:lnTo>
                    <a:pt x="1769" y="436"/>
                  </a:lnTo>
                  <a:lnTo>
                    <a:pt x="1798" y="446"/>
                  </a:lnTo>
                  <a:lnTo>
                    <a:pt x="1824" y="459"/>
                  </a:lnTo>
                  <a:lnTo>
                    <a:pt x="1850" y="472"/>
                  </a:lnTo>
                  <a:lnTo>
                    <a:pt x="1875" y="485"/>
                  </a:lnTo>
                  <a:lnTo>
                    <a:pt x="1898" y="501"/>
                  </a:lnTo>
                  <a:lnTo>
                    <a:pt x="1920" y="516"/>
                  </a:lnTo>
                  <a:lnTo>
                    <a:pt x="1940" y="532"/>
                  </a:lnTo>
                  <a:lnTo>
                    <a:pt x="1959" y="548"/>
                  </a:lnTo>
                  <a:lnTo>
                    <a:pt x="1976" y="565"/>
                  </a:lnTo>
                  <a:lnTo>
                    <a:pt x="1991" y="581"/>
                  </a:lnTo>
                  <a:lnTo>
                    <a:pt x="2003" y="597"/>
                  </a:lnTo>
                  <a:lnTo>
                    <a:pt x="2016" y="618"/>
                  </a:lnTo>
                  <a:lnTo>
                    <a:pt x="2027" y="639"/>
                  </a:lnTo>
                  <a:lnTo>
                    <a:pt x="2034" y="663"/>
                  </a:lnTo>
                  <a:lnTo>
                    <a:pt x="2039" y="686"/>
                  </a:lnTo>
                  <a:lnTo>
                    <a:pt x="2042" y="709"/>
                  </a:lnTo>
                  <a:lnTo>
                    <a:pt x="2046" y="734"/>
                  </a:lnTo>
                  <a:lnTo>
                    <a:pt x="2055" y="759"/>
                  </a:lnTo>
                  <a:lnTo>
                    <a:pt x="2065" y="783"/>
                  </a:lnTo>
                  <a:lnTo>
                    <a:pt x="2081" y="817"/>
                  </a:lnTo>
                  <a:lnTo>
                    <a:pt x="2091" y="849"/>
                  </a:lnTo>
                  <a:lnTo>
                    <a:pt x="2096" y="881"/>
                  </a:lnTo>
                  <a:lnTo>
                    <a:pt x="2091" y="916"/>
                  </a:lnTo>
                  <a:lnTo>
                    <a:pt x="2088" y="932"/>
                  </a:lnTo>
                  <a:lnTo>
                    <a:pt x="2088" y="951"/>
                  </a:lnTo>
                  <a:lnTo>
                    <a:pt x="2088" y="968"/>
                  </a:lnTo>
                  <a:lnTo>
                    <a:pt x="2090" y="981"/>
                  </a:lnTo>
                  <a:lnTo>
                    <a:pt x="2091" y="994"/>
                  </a:lnTo>
                  <a:lnTo>
                    <a:pt x="2088" y="1010"/>
                  </a:lnTo>
                  <a:lnTo>
                    <a:pt x="2081" y="1025"/>
                  </a:lnTo>
                  <a:lnTo>
                    <a:pt x="2066" y="1031"/>
                  </a:lnTo>
                  <a:lnTo>
                    <a:pt x="2061" y="1044"/>
                  </a:lnTo>
                  <a:lnTo>
                    <a:pt x="2052" y="1057"/>
                  </a:lnTo>
                  <a:lnTo>
                    <a:pt x="2043" y="1068"/>
                  </a:lnTo>
                  <a:lnTo>
                    <a:pt x="2033" y="1077"/>
                  </a:lnTo>
                  <a:lnTo>
                    <a:pt x="2023" y="1082"/>
                  </a:lnTo>
                  <a:lnTo>
                    <a:pt x="2013" y="1079"/>
                  </a:lnTo>
                  <a:lnTo>
                    <a:pt x="2003" y="1067"/>
                  </a:lnTo>
                  <a:lnTo>
                    <a:pt x="1995" y="1047"/>
                  </a:lnTo>
                  <a:lnTo>
                    <a:pt x="1991" y="1052"/>
                  </a:lnTo>
                  <a:lnTo>
                    <a:pt x="1987" y="1058"/>
                  </a:lnTo>
                  <a:lnTo>
                    <a:pt x="1981" y="1061"/>
                  </a:lnTo>
                  <a:lnTo>
                    <a:pt x="1976" y="1064"/>
                  </a:lnTo>
                  <a:lnTo>
                    <a:pt x="1969" y="1066"/>
                  </a:lnTo>
                  <a:lnTo>
                    <a:pt x="1960" y="1066"/>
                  </a:lnTo>
                  <a:lnTo>
                    <a:pt x="1949" y="1064"/>
                  </a:lnTo>
                  <a:lnTo>
                    <a:pt x="1933" y="1061"/>
                  </a:lnTo>
                  <a:lnTo>
                    <a:pt x="1931" y="1070"/>
                  </a:lnTo>
                  <a:lnTo>
                    <a:pt x="1937" y="1077"/>
                  </a:lnTo>
                  <a:lnTo>
                    <a:pt x="1944" y="1084"/>
                  </a:lnTo>
                  <a:lnTo>
                    <a:pt x="1953" y="1089"/>
                  </a:lnTo>
                  <a:lnTo>
                    <a:pt x="1936" y="1090"/>
                  </a:lnTo>
                  <a:lnTo>
                    <a:pt x="1917" y="1092"/>
                  </a:lnTo>
                  <a:lnTo>
                    <a:pt x="1898" y="1095"/>
                  </a:lnTo>
                  <a:lnTo>
                    <a:pt x="1880" y="1099"/>
                  </a:lnTo>
                  <a:lnTo>
                    <a:pt x="1866" y="1105"/>
                  </a:lnTo>
                  <a:lnTo>
                    <a:pt x="1854" y="1112"/>
                  </a:lnTo>
                  <a:lnTo>
                    <a:pt x="1847" y="1122"/>
                  </a:lnTo>
                  <a:lnTo>
                    <a:pt x="1846" y="1134"/>
                  </a:lnTo>
                  <a:lnTo>
                    <a:pt x="1850" y="1163"/>
                  </a:lnTo>
                  <a:lnTo>
                    <a:pt x="1856" y="1193"/>
                  </a:lnTo>
                  <a:lnTo>
                    <a:pt x="1864" y="1224"/>
                  </a:lnTo>
                  <a:lnTo>
                    <a:pt x="1875" y="1249"/>
                  </a:lnTo>
                  <a:lnTo>
                    <a:pt x="1869" y="1249"/>
                  </a:lnTo>
                  <a:lnTo>
                    <a:pt x="1863" y="1249"/>
                  </a:lnTo>
                  <a:lnTo>
                    <a:pt x="1857" y="1250"/>
                  </a:lnTo>
                  <a:lnTo>
                    <a:pt x="1850" y="1250"/>
                  </a:lnTo>
                  <a:lnTo>
                    <a:pt x="1844" y="1252"/>
                  </a:lnTo>
                  <a:lnTo>
                    <a:pt x="1838" y="1252"/>
                  </a:lnTo>
                  <a:lnTo>
                    <a:pt x="1833" y="1252"/>
                  </a:lnTo>
                  <a:lnTo>
                    <a:pt x="1827" y="1250"/>
                  </a:lnTo>
                  <a:lnTo>
                    <a:pt x="1828" y="1255"/>
                  </a:lnTo>
                  <a:lnTo>
                    <a:pt x="1831" y="1259"/>
                  </a:lnTo>
                  <a:lnTo>
                    <a:pt x="1835" y="1262"/>
                  </a:lnTo>
                  <a:lnTo>
                    <a:pt x="1841" y="1265"/>
                  </a:lnTo>
                  <a:lnTo>
                    <a:pt x="1849" y="1268"/>
                  </a:lnTo>
                  <a:lnTo>
                    <a:pt x="1856" y="1269"/>
                  </a:lnTo>
                  <a:lnTo>
                    <a:pt x="1863" y="1271"/>
                  </a:lnTo>
                  <a:lnTo>
                    <a:pt x="1869" y="1272"/>
                  </a:lnTo>
                  <a:lnTo>
                    <a:pt x="1876" y="1273"/>
                  </a:lnTo>
                  <a:lnTo>
                    <a:pt x="1885" y="1276"/>
                  </a:lnTo>
                  <a:lnTo>
                    <a:pt x="1895" y="1279"/>
                  </a:lnTo>
                  <a:lnTo>
                    <a:pt x="1905" y="1284"/>
                  </a:lnTo>
                  <a:lnTo>
                    <a:pt x="1914" y="1289"/>
                  </a:lnTo>
                  <a:lnTo>
                    <a:pt x="1921" y="1295"/>
                  </a:lnTo>
                  <a:lnTo>
                    <a:pt x="1927" y="1304"/>
                  </a:lnTo>
                  <a:lnTo>
                    <a:pt x="1928" y="1313"/>
                  </a:lnTo>
                  <a:lnTo>
                    <a:pt x="1920" y="1317"/>
                  </a:lnTo>
                  <a:lnTo>
                    <a:pt x="1912" y="1323"/>
                  </a:lnTo>
                  <a:lnTo>
                    <a:pt x="1905" y="1327"/>
                  </a:lnTo>
                  <a:lnTo>
                    <a:pt x="1898" y="1333"/>
                  </a:lnTo>
                  <a:lnTo>
                    <a:pt x="1892" y="1340"/>
                  </a:lnTo>
                  <a:lnTo>
                    <a:pt x="1885" y="1348"/>
                  </a:lnTo>
                  <a:lnTo>
                    <a:pt x="1880" y="1355"/>
                  </a:lnTo>
                  <a:lnTo>
                    <a:pt x="1875" y="1365"/>
                  </a:lnTo>
                  <a:lnTo>
                    <a:pt x="1840" y="1367"/>
                  </a:lnTo>
                  <a:lnTo>
                    <a:pt x="1808" y="1371"/>
                  </a:lnTo>
                  <a:lnTo>
                    <a:pt x="1779" y="1378"/>
                  </a:lnTo>
                  <a:lnTo>
                    <a:pt x="1750" y="1387"/>
                  </a:lnTo>
                  <a:lnTo>
                    <a:pt x="1724" y="1396"/>
                  </a:lnTo>
                  <a:lnTo>
                    <a:pt x="1700" y="1406"/>
                  </a:lnTo>
                  <a:lnTo>
                    <a:pt x="1678" y="1416"/>
                  </a:lnTo>
                  <a:lnTo>
                    <a:pt x="1658" y="1423"/>
                  </a:lnTo>
                  <a:lnTo>
                    <a:pt x="1623" y="1438"/>
                  </a:lnTo>
                  <a:lnTo>
                    <a:pt x="1597" y="1452"/>
                  </a:lnTo>
                  <a:lnTo>
                    <a:pt x="1575" y="1467"/>
                  </a:lnTo>
                  <a:lnTo>
                    <a:pt x="1559" y="1480"/>
                  </a:lnTo>
                  <a:lnTo>
                    <a:pt x="1543" y="1492"/>
                  </a:lnTo>
                  <a:lnTo>
                    <a:pt x="1527" y="1499"/>
                  </a:lnTo>
                  <a:lnTo>
                    <a:pt x="1508" y="1502"/>
                  </a:lnTo>
                  <a:lnTo>
                    <a:pt x="1485" y="1500"/>
                  </a:lnTo>
                  <a:lnTo>
                    <a:pt x="1494" y="1493"/>
                  </a:lnTo>
                  <a:lnTo>
                    <a:pt x="1500" y="1487"/>
                  </a:lnTo>
                  <a:lnTo>
                    <a:pt x="1503" y="1480"/>
                  </a:lnTo>
                  <a:lnTo>
                    <a:pt x="1498" y="1476"/>
                  </a:lnTo>
                  <a:lnTo>
                    <a:pt x="1491" y="1476"/>
                  </a:lnTo>
                  <a:lnTo>
                    <a:pt x="1484" y="1480"/>
                  </a:lnTo>
                  <a:lnTo>
                    <a:pt x="1477" y="1489"/>
                  </a:lnTo>
                  <a:lnTo>
                    <a:pt x="1469" y="1499"/>
                  </a:lnTo>
                  <a:lnTo>
                    <a:pt x="1463" y="1510"/>
                  </a:lnTo>
                  <a:lnTo>
                    <a:pt x="1458" y="1521"/>
                  </a:lnTo>
                  <a:lnTo>
                    <a:pt x="1452" y="1528"/>
                  </a:lnTo>
                  <a:lnTo>
                    <a:pt x="1449" y="1531"/>
                  </a:lnTo>
                  <a:lnTo>
                    <a:pt x="1442" y="1531"/>
                  </a:lnTo>
                  <a:lnTo>
                    <a:pt x="1431" y="1531"/>
                  </a:lnTo>
                  <a:lnTo>
                    <a:pt x="1423" y="1531"/>
                  </a:lnTo>
                  <a:lnTo>
                    <a:pt x="1414" y="1531"/>
                  </a:lnTo>
                  <a:lnTo>
                    <a:pt x="1424" y="1515"/>
                  </a:lnTo>
                  <a:lnTo>
                    <a:pt x="1433" y="1496"/>
                  </a:lnTo>
                  <a:lnTo>
                    <a:pt x="1442" y="1478"/>
                  </a:lnTo>
                  <a:lnTo>
                    <a:pt x="1452" y="1465"/>
                  </a:lnTo>
                  <a:lnTo>
                    <a:pt x="1446" y="1465"/>
                  </a:lnTo>
                  <a:lnTo>
                    <a:pt x="1440" y="1470"/>
                  </a:lnTo>
                  <a:lnTo>
                    <a:pt x="1431" y="1478"/>
                  </a:lnTo>
                  <a:lnTo>
                    <a:pt x="1423" y="1490"/>
                  </a:lnTo>
                  <a:lnTo>
                    <a:pt x="1414" y="1503"/>
                  </a:lnTo>
                  <a:lnTo>
                    <a:pt x="1405" y="1515"/>
                  </a:lnTo>
                  <a:lnTo>
                    <a:pt x="1397" y="1524"/>
                  </a:lnTo>
                  <a:lnTo>
                    <a:pt x="1391" y="1526"/>
                  </a:lnTo>
                  <a:lnTo>
                    <a:pt x="1386" y="1526"/>
                  </a:lnTo>
                  <a:lnTo>
                    <a:pt x="1381" y="1525"/>
                  </a:lnTo>
                  <a:lnTo>
                    <a:pt x="1373" y="1524"/>
                  </a:lnTo>
                  <a:lnTo>
                    <a:pt x="1365" y="1522"/>
                  </a:lnTo>
                  <a:lnTo>
                    <a:pt x="1356" y="1519"/>
                  </a:lnTo>
                  <a:lnTo>
                    <a:pt x="1349" y="1516"/>
                  </a:lnTo>
                  <a:lnTo>
                    <a:pt x="1344" y="1512"/>
                  </a:lnTo>
                  <a:lnTo>
                    <a:pt x="1341" y="1508"/>
                  </a:lnTo>
                  <a:lnTo>
                    <a:pt x="1341" y="1500"/>
                  </a:lnTo>
                  <a:lnTo>
                    <a:pt x="1341" y="1490"/>
                  </a:lnTo>
                  <a:lnTo>
                    <a:pt x="1344" y="1477"/>
                  </a:lnTo>
                  <a:lnTo>
                    <a:pt x="1349" y="1464"/>
                  </a:lnTo>
                  <a:lnTo>
                    <a:pt x="1354" y="1448"/>
                  </a:lnTo>
                  <a:lnTo>
                    <a:pt x="1363" y="1433"/>
                  </a:lnTo>
                  <a:lnTo>
                    <a:pt x="1375" y="1419"/>
                  </a:lnTo>
                  <a:lnTo>
                    <a:pt x="1389" y="1404"/>
                  </a:lnTo>
                  <a:lnTo>
                    <a:pt x="1375" y="1409"/>
                  </a:lnTo>
                  <a:lnTo>
                    <a:pt x="1362" y="1417"/>
                  </a:lnTo>
                  <a:lnTo>
                    <a:pt x="1350" y="1426"/>
                  </a:lnTo>
                  <a:lnTo>
                    <a:pt x="1340" y="1438"/>
                  </a:lnTo>
                  <a:lnTo>
                    <a:pt x="1331" y="1451"/>
                  </a:lnTo>
                  <a:lnTo>
                    <a:pt x="1322" y="1464"/>
                  </a:lnTo>
                  <a:lnTo>
                    <a:pt x="1317" y="1480"/>
                  </a:lnTo>
                  <a:lnTo>
                    <a:pt x="1311" y="1496"/>
                  </a:lnTo>
                  <a:lnTo>
                    <a:pt x="1302" y="1492"/>
                  </a:lnTo>
                  <a:lnTo>
                    <a:pt x="1292" y="1484"/>
                  </a:lnTo>
                  <a:lnTo>
                    <a:pt x="1283" y="1477"/>
                  </a:lnTo>
                  <a:lnTo>
                    <a:pt x="1276" y="1468"/>
                  </a:lnTo>
                  <a:lnTo>
                    <a:pt x="1269" y="1460"/>
                  </a:lnTo>
                  <a:lnTo>
                    <a:pt x="1264" y="1449"/>
                  </a:lnTo>
                  <a:lnTo>
                    <a:pt x="1261" y="1439"/>
                  </a:lnTo>
                  <a:lnTo>
                    <a:pt x="1263" y="1429"/>
                  </a:lnTo>
                  <a:lnTo>
                    <a:pt x="1272" y="1409"/>
                  </a:lnTo>
                  <a:lnTo>
                    <a:pt x="1285" y="1388"/>
                  </a:lnTo>
                  <a:lnTo>
                    <a:pt x="1299" y="1369"/>
                  </a:lnTo>
                  <a:lnTo>
                    <a:pt x="1318" y="1352"/>
                  </a:lnTo>
                  <a:lnTo>
                    <a:pt x="1336" y="1339"/>
                  </a:lnTo>
                  <a:lnTo>
                    <a:pt x="1353" y="1329"/>
                  </a:lnTo>
                  <a:lnTo>
                    <a:pt x="1369" y="1321"/>
                  </a:lnTo>
                  <a:lnTo>
                    <a:pt x="1381" y="1320"/>
                  </a:lnTo>
                  <a:lnTo>
                    <a:pt x="1397" y="1324"/>
                  </a:lnTo>
                  <a:lnTo>
                    <a:pt x="1413" y="1330"/>
                  </a:lnTo>
                  <a:lnTo>
                    <a:pt x="1426" y="1339"/>
                  </a:lnTo>
                  <a:lnTo>
                    <a:pt x="1439" y="1348"/>
                  </a:lnTo>
                  <a:lnTo>
                    <a:pt x="1452" y="1355"/>
                  </a:lnTo>
                  <a:lnTo>
                    <a:pt x="1466" y="1362"/>
                  </a:lnTo>
                  <a:lnTo>
                    <a:pt x="1479" y="1365"/>
                  </a:lnTo>
                  <a:lnTo>
                    <a:pt x="1495" y="1365"/>
                  </a:lnTo>
                  <a:lnTo>
                    <a:pt x="1513" y="1361"/>
                  </a:lnTo>
                  <a:lnTo>
                    <a:pt x="1527" y="1355"/>
                  </a:lnTo>
                  <a:lnTo>
                    <a:pt x="1539" y="1349"/>
                  </a:lnTo>
                  <a:lnTo>
                    <a:pt x="1551" y="1342"/>
                  </a:lnTo>
                  <a:lnTo>
                    <a:pt x="1564" y="1335"/>
                  </a:lnTo>
                  <a:lnTo>
                    <a:pt x="1577" y="1327"/>
                  </a:lnTo>
                  <a:lnTo>
                    <a:pt x="1593" y="1320"/>
                  </a:lnTo>
                  <a:lnTo>
                    <a:pt x="1613" y="1314"/>
                  </a:lnTo>
                  <a:lnTo>
                    <a:pt x="1613" y="1304"/>
                  </a:lnTo>
                  <a:lnTo>
                    <a:pt x="1609" y="1297"/>
                  </a:lnTo>
                  <a:lnTo>
                    <a:pt x="1600" y="1294"/>
                  </a:lnTo>
                  <a:lnTo>
                    <a:pt x="1590" y="1291"/>
                  </a:lnTo>
                  <a:lnTo>
                    <a:pt x="1578" y="1291"/>
                  </a:lnTo>
                  <a:lnTo>
                    <a:pt x="1568" y="1291"/>
                  </a:lnTo>
                  <a:lnTo>
                    <a:pt x="1559" y="1289"/>
                  </a:lnTo>
                  <a:lnTo>
                    <a:pt x="1556" y="1288"/>
                  </a:lnTo>
                  <a:lnTo>
                    <a:pt x="1551" y="1263"/>
                  </a:lnTo>
                  <a:lnTo>
                    <a:pt x="1545" y="1227"/>
                  </a:lnTo>
                  <a:lnTo>
                    <a:pt x="1540" y="1192"/>
                  </a:lnTo>
                  <a:lnTo>
                    <a:pt x="1538" y="1173"/>
                  </a:lnTo>
                  <a:lnTo>
                    <a:pt x="1533" y="1164"/>
                  </a:lnTo>
                  <a:lnTo>
                    <a:pt x="1527" y="1153"/>
                  </a:lnTo>
                  <a:lnTo>
                    <a:pt x="1519" y="1147"/>
                  </a:lnTo>
                  <a:lnTo>
                    <a:pt x="1511" y="1147"/>
                  </a:lnTo>
                  <a:lnTo>
                    <a:pt x="1503" y="1153"/>
                  </a:lnTo>
                  <a:lnTo>
                    <a:pt x="1490" y="1157"/>
                  </a:lnTo>
                  <a:lnTo>
                    <a:pt x="1474" y="1162"/>
                  </a:lnTo>
                  <a:lnTo>
                    <a:pt x="1456" y="1166"/>
                  </a:lnTo>
                  <a:lnTo>
                    <a:pt x="1440" y="1169"/>
                  </a:lnTo>
                  <a:lnTo>
                    <a:pt x="1424" y="1172"/>
                  </a:lnTo>
                  <a:lnTo>
                    <a:pt x="1413" y="1175"/>
                  </a:lnTo>
                  <a:lnTo>
                    <a:pt x="1407" y="1177"/>
                  </a:lnTo>
                  <a:lnTo>
                    <a:pt x="1401" y="1183"/>
                  </a:lnTo>
                  <a:lnTo>
                    <a:pt x="1395" y="1188"/>
                  </a:lnTo>
                  <a:lnTo>
                    <a:pt x="1391" y="1192"/>
                  </a:lnTo>
                  <a:lnTo>
                    <a:pt x="1385" y="1195"/>
                  </a:lnTo>
                  <a:lnTo>
                    <a:pt x="1378" y="1199"/>
                  </a:lnTo>
                  <a:lnTo>
                    <a:pt x="1372" y="1201"/>
                  </a:lnTo>
                  <a:lnTo>
                    <a:pt x="1363" y="1204"/>
                  </a:lnTo>
                  <a:lnTo>
                    <a:pt x="1354" y="1205"/>
                  </a:lnTo>
                  <a:lnTo>
                    <a:pt x="1341" y="1207"/>
                  </a:lnTo>
                  <a:lnTo>
                    <a:pt x="1325" y="1208"/>
                  </a:lnTo>
                  <a:lnTo>
                    <a:pt x="1307" y="1209"/>
                  </a:lnTo>
                  <a:lnTo>
                    <a:pt x="1285" y="1211"/>
                  </a:lnTo>
                  <a:lnTo>
                    <a:pt x="1264" y="1211"/>
                  </a:lnTo>
                  <a:lnTo>
                    <a:pt x="1244" y="1211"/>
                  </a:lnTo>
                  <a:lnTo>
                    <a:pt x="1228" y="1209"/>
                  </a:lnTo>
                  <a:lnTo>
                    <a:pt x="1215" y="1208"/>
                  </a:lnTo>
                  <a:lnTo>
                    <a:pt x="1234" y="1176"/>
                  </a:lnTo>
                  <a:lnTo>
                    <a:pt x="1240" y="1143"/>
                  </a:lnTo>
                  <a:lnTo>
                    <a:pt x="1235" y="1118"/>
                  </a:lnTo>
                  <a:lnTo>
                    <a:pt x="1229" y="1108"/>
                  </a:lnTo>
                  <a:lnTo>
                    <a:pt x="1225" y="1111"/>
                  </a:lnTo>
                  <a:lnTo>
                    <a:pt x="1224" y="1116"/>
                  </a:lnTo>
                  <a:lnTo>
                    <a:pt x="1225" y="1124"/>
                  </a:lnTo>
                  <a:lnTo>
                    <a:pt x="1227" y="1132"/>
                  </a:lnTo>
                  <a:lnTo>
                    <a:pt x="1227" y="1143"/>
                  </a:lnTo>
                  <a:lnTo>
                    <a:pt x="1224" y="1150"/>
                  </a:lnTo>
                  <a:lnTo>
                    <a:pt x="1216" y="1157"/>
                  </a:lnTo>
                  <a:lnTo>
                    <a:pt x="1202" y="1160"/>
                  </a:lnTo>
                  <a:lnTo>
                    <a:pt x="1202" y="1146"/>
                  </a:lnTo>
                  <a:lnTo>
                    <a:pt x="1202" y="1131"/>
                  </a:lnTo>
                  <a:lnTo>
                    <a:pt x="1200" y="1119"/>
                  </a:lnTo>
                  <a:lnTo>
                    <a:pt x="1196" y="1115"/>
                  </a:lnTo>
                  <a:lnTo>
                    <a:pt x="1190" y="1118"/>
                  </a:lnTo>
                  <a:lnTo>
                    <a:pt x="1186" y="1124"/>
                  </a:lnTo>
                  <a:lnTo>
                    <a:pt x="1183" y="1132"/>
                  </a:lnTo>
                  <a:lnTo>
                    <a:pt x="1182" y="1144"/>
                  </a:lnTo>
                  <a:lnTo>
                    <a:pt x="1179" y="1157"/>
                  </a:lnTo>
                  <a:lnTo>
                    <a:pt x="1173" y="1170"/>
                  </a:lnTo>
                  <a:lnTo>
                    <a:pt x="1164" y="1182"/>
                  </a:lnTo>
                  <a:lnTo>
                    <a:pt x="1152" y="1192"/>
                  </a:lnTo>
                  <a:lnTo>
                    <a:pt x="1144" y="1198"/>
                  </a:lnTo>
                  <a:lnTo>
                    <a:pt x="1129" y="1208"/>
                  </a:lnTo>
                  <a:lnTo>
                    <a:pt x="1113" y="1221"/>
                  </a:lnTo>
                  <a:lnTo>
                    <a:pt x="1094" y="1234"/>
                  </a:lnTo>
                  <a:lnTo>
                    <a:pt x="1075" y="1250"/>
                  </a:lnTo>
                  <a:lnTo>
                    <a:pt x="1059" y="1266"/>
                  </a:lnTo>
                  <a:lnTo>
                    <a:pt x="1046" y="1281"/>
                  </a:lnTo>
                  <a:lnTo>
                    <a:pt x="1041" y="1295"/>
                  </a:lnTo>
                  <a:lnTo>
                    <a:pt x="1036" y="1320"/>
                  </a:lnTo>
                  <a:lnTo>
                    <a:pt x="1033" y="1339"/>
                  </a:lnTo>
                  <a:lnTo>
                    <a:pt x="1028" y="1353"/>
                  </a:lnTo>
                  <a:lnTo>
                    <a:pt x="1017" y="1359"/>
                  </a:lnTo>
                  <a:lnTo>
                    <a:pt x="1004" y="1359"/>
                  </a:lnTo>
                  <a:lnTo>
                    <a:pt x="996" y="1356"/>
                  </a:lnTo>
                  <a:lnTo>
                    <a:pt x="987" y="1352"/>
                  </a:lnTo>
                  <a:lnTo>
                    <a:pt x="981" y="1348"/>
                  </a:lnTo>
                  <a:lnTo>
                    <a:pt x="969" y="1361"/>
                  </a:lnTo>
                  <a:lnTo>
                    <a:pt x="958" y="1374"/>
                  </a:lnTo>
                  <a:lnTo>
                    <a:pt x="946" y="1387"/>
                  </a:lnTo>
                  <a:lnTo>
                    <a:pt x="933" y="1399"/>
                  </a:lnTo>
                  <a:lnTo>
                    <a:pt x="921" y="1410"/>
                  </a:lnTo>
                  <a:lnTo>
                    <a:pt x="910" y="1419"/>
                  </a:lnTo>
                  <a:lnTo>
                    <a:pt x="900" y="1425"/>
                  </a:lnTo>
                  <a:lnTo>
                    <a:pt x="889" y="1428"/>
                  </a:lnTo>
                  <a:lnTo>
                    <a:pt x="878" y="1431"/>
                  </a:lnTo>
                  <a:lnTo>
                    <a:pt x="860" y="1433"/>
                  </a:lnTo>
                  <a:lnTo>
                    <a:pt x="842" y="1438"/>
                  </a:lnTo>
                  <a:lnTo>
                    <a:pt x="820" y="1442"/>
                  </a:lnTo>
                  <a:lnTo>
                    <a:pt x="796" y="1446"/>
                  </a:lnTo>
                  <a:lnTo>
                    <a:pt x="773" y="1448"/>
                  </a:lnTo>
                  <a:lnTo>
                    <a:pt x="750" y="1449"/>
                  </a:lnTo>
                  <a:lnTo>
                    <a:pt x="731" y="1448"/>
                  </a:lnTo>
                  <a:lnTo>
                    <a:pt x="733" y="1436"/>
                  </a:lnTo>
                  <a:lnTo>
                    <a:pt x="735" y="1428"/>
                  </a:lnTo>
                  <a:lnTo>
                    <a:pt x="738" y="1419"/>
                  </a:lnTo>
                  <a:lnTo>
                    <a:pt x="744" y="1413"/>
                  </a:lnTo>
                  <a:lnTo>
                    <a:pt x="751" y="1406"/>
                  </a:lnTo>
                  <a:lnTo>
                    <a:pt x="759" y="1394"/>
                  </a:lnTo>
                  <a:lnTo>
                    <a:pt x="762" y="1385"/>
                  </a:lnTo>
                  <a:lnTo>
                    <a:pt x="756" y="1381"/>
                  </a:lnTo>
                  <a:lnTo>
                    <a:pt x="746" y="1384"/>
                  </a:lnTo>
                  <a:lnTo>
                    <a:pt x="740" y="1390"/>
                  </a:lnTo>
                  <a:lnTo>
                    <a:pt x="737" y="1399"/>
                  </a:lnTo>
                  <a:lnTo>
                    <a:pt x="737" y="1406"/>
                  </a:lnTo>
                  <a:lnTo>
                    <a:pt x="734" y="1413"/>
                  </a:lnTo>
                  <a:lnTo>
                    <a:pt x="725" y="1422"/>
                  </a:lnTo>
                  <a:lnTo>
                    <a:pt x="717" y="1432"/>
                  </a:lnTo>
                  <a:lnTo>
                    <a:pt x="709" y="1442"/>
                  </a:lnTo>
                  <a:lnTo>
                    <a:pt x="702" y="1442"/>
                  </a:lnTo>
                  <a:lnTo>
                    <a:pt x="695" y="1441"/>
                  </a:lnTo>
                  <a:lnTo>
                    <a:pt x="686" y="1438"/>
                  </a:lnTo>
                  <a:lnTo>
                    <a:pt x="679" y="1435"/>
                  </a:lnTo>
                  <a:lnTo>
                    <a:pt x="672" y="1431"/>
                  </a:lnTo>
                  <a:lnTo>
                    <a:pt x="666" y="1428"/>
                  </a:lnTo>
                  <a:lnTo>
                    <a:pt x="663" y="1423"/>
                  </a:lnTo>
                  <a:lnTo>
                    <a:pt x="664" y="1419"/>
                  </a:lnTo>
                  <a:lnTo>
                    <a:pt x="669" y="1410"/>
                  </a:lnTo>
                  <a:lnTo>
                    <a:pt x="674" y="1400"/>
                  </a:lnTo>
                  <a:lnTo>
                    <a:pt x="679" y="1390"/>
                  </a:lnTo>
                  <a:lnTo>
                    <a:pt x="686" y="1380"/>
                  </a:lnTo>
                  <a:lnTo>
                    <a:pt x="685" y="1372"/>
                  </a:lnTo>
                  <a:lnTo>
                    <a:pt x="679" y="1369"/>
                  </a:lnTo>
                  <a:lnTo>
                    <a:pt x="672" y="1371"/>
                  </a:lnTo>
                  <a:lnTo>
                    <a:pt x="664" y="1377"/>
                  </a:lnTo>
                  <a:lnTo>
                    <a:pt x="657" y="1385"/>
                  </a:lnTo>
                  <a:lnTo>
                    <a:pt x="651" y="1397"/>
                  </a:lnTo>
                  <a:lnTo>
                    <a:pt x="644" y="1407"/>
                  </a:lnTo>
                  <a:lnTo>
                    <a:pt x="637" y="1417"/>
                  </a:lnTo>
                  <a:lnTo>
                    <a:pt x="631" y="1412"/>
                  </a:lnTo>
                  <a:lnTo>
                    <a:pt x="624" y="1406"/>
                  </a:lnTo>
                  <a:lnTo>
                    <a:pt x="615" y="1401"/>
                  </a:lnTo>
                  <a:lnTo>
                    <a:pt x="606" y="1400"/>
                  </a:lnTo>
                  <a:lnTo>
                    <a:pt x="613" y="1390"/>
                  </a:lnTo>
                  <a:lnTo>
                    <a:pt x="621" y="1381"/>
                  </a:lnTo>
                  <a:lnTo>
                    <a:pt x="628" y="1371"/>
                  </a:lnTo>
                  <a:lnTo>
                    <a:pt x="634" y="1364"/>
                  </a:lnTo>
                  <a:lnTo>
                    <a:pt x="640" y="1355"/>
                  </a:lnTo>
                  <a:lnTo>
                    <a:pt x="645" y="1349"/>
                  </a:lnTo>
                  <a:lnTo>
                    <a:pt x="653" y="1343"/>
                  </a:lnTo>
                  <a:lnTo>
                    <a:pt x="658" y="1340"/>
                  </a:lnTo>
                  <a:lnTo>
                    <a:pt x="664" y="1337"/>
                  </a:lnTo>
                  <a:lnTo>
                    <a:pt x="672" y="1333"/>
                  </a:lnTo>
                  <a:lnTo>
                    <a:pt x="677" y="1327"/>
                  </a:lnTo>
                  <a:lnTo>
                    <a:pt x="685" y="1323"/>
                  </a:lnTo>
                  <a:lnTo>
                    <a:pt x="690" y="1319"/>
                  </a:lnTo>
                  <a:lnTo>
                    <a:pt x="698" y="1316"/>
                  </a:lnTo>
                  <a:lnTo>
                    <a:pt x="703" y="1314"/>
                  </a:lnTo>
                  <a:lnTo>
                    <a:pt x="709" y="1314"/>
                  </a:lnTo>
                  <a:lnTo>
                    <a:pt x="717" y="1316"/>
                  </a:lnTo>
                  <a:lnTo>
                    <a:pt x="727" y="1319"/>
                  </a:lnTo>
                  <a:lnTo>
                    <a:pt x="738" y="1321"/>
                  </a:lnTo>
                  <a:lnTo>
                    <a:pt x="751" y="1324"/>
                  </a:lnTo>
                  <a:lnTo>
                    <a:pt x="765" y="1326"/>
                  </a:lnTo>
                  <a:lnTo>
                    <a:pt x="778" y="1326"/>
                  </a:lnTo>
                  <a:lnTo>
                    <a:pt x="789" y="1324"/>
                  </a:lnTo>
                  <a:lnTo>
                    <a:pt x="799" y="1320"/>
                  </a:lnTo>
                  <a:lnTo>
                    <a:pt x="808" y="1314"/>
                  </a:lnTo>
                  <a:lnTo>
                    <a:pt x="817" y="1307"/>
                  </a:lnTo>
                  <a:lnTo>
                    <a:pt x="823" y="1300"/>
                  </a:lnTo>
                  <a:lnTo>
                    <a:pt x="830" y="1292"/>
                  </a:lnTo>
                  <a:lnTo>
                    <a:pt x="834" y="1284"/>
                  </a:lnTo>
                  <a:lnTo>
                    <a:pt x="839" y="1276"/>
                  </a:lnTo>
                  <a:lnTo>
                    <a:pt x="843" y="1269"/>
                  </a:lnTo>
                  <a:lnTo>
                    <a:pt x="844" y="1262"/>
                  </a:lnTo>
                  <a:lnTo>
                    <a:pt x="846" y="1255"/>
                  </a:lnTo>
                  <a:lnTo>
                    <a:pt x="850" y="1246"/>
                  </a:lnTo>
                  <a:lnTo>
                    <a:pt x="853" y="1237"/>
                  </a:lnTo>
                  <a:lnTo>
                    <a:pt x="859" y="1228"/>
                  </a:lnTo>
                  <a:lnTo>
                    <a:pt x="865" y="1220"/>
                  </a:lnTo>
                  <a:lnTo>
                    <a:pt x="872" y="1212"/>
                  </a:lnTo>
                  <a:lnTo>
                    <a:pt x="881" y="1205"/>
                  </a:lnTo>
                  <a:lnTo>
                    <a:pt x="889" y="1201"/>
                  </a:lnTo>
                  <a:lnTo>
                    <a:pt x="900" y="1198"/>
                  </a:lnTo>
                  <a:lnTo>
                    <a:pt x="910" y="1195"/>
                  </a:lnTo>
                  <a:lnTo>
                    <a:pt x="920" y="1192"/>
                  </a:lnTo>
                  <a:lnTo>
                    <a:pt x="929" y="1191"/>
                  </a:lnTo>
                  <a:lnTo>
                    <a:pt x="939" y="1189"/>
                  </a:lnTo>
                  <a:lnTo>
                    <a:pt x="946" y="1188"/>
                  </a:lnTo>
                  <a:lnTo>
                    <a:pt x="953" y="1188"/>
                  </a:lnTo>
                  <a:lnTo>
                    <a:pt x="959" y="1188"/>
                  </a:lnTo>
                  <a:lnTo>
                    <a:pt x="968" y="1183"/>
                  </a:lnTo>
                  <a:lnTo>
                    <a:pt x="974" y="1175"/>
                  </a:lnTo>
                  <a:lnTo>
                    <a:pt x="974" y="1167"/>
                  </a:lnTo>
                  <a:lnTo>
                    <a:pt x="965" y="1163"/>
                  </a:lnTo>
                  <a:lnTo>
                    <a:pt x="958" y="1163"/>
                  </a:lnTo>
                  <a:lnTo>
                    <a:pt x="949" y="1163"/>
                  </a:lnTo>
                  <a:lnTo>
                    <a:pt x="942" y="1163"/>
                  </a:lnTo>
                  <a:lnTo>
                    <a:pt x="933" y="1162"/>
                  </a:lnTo>
                  <a:lnTo>
                    <a:pt x="923" y="1159"/>
                  </a:lnTo>
                  <a:lnTo>
                    <a:pt x="914" y="1153"/>
                  </a:lnTo>
                  <a:lnTo>
                    <a:pt x="904" y="1144"/>
                  </a:lnTo>
                  <a:lnTo>
                    <a:pt x="895" y="1132"/>
                  </a:lnTo>
                  <a:lnTo>
                    <a:pt x="887" y="1140"/>
                  </a:lnTo>
                  <a:lnTo>
                    <a:pt x="875" y="1147"/>
                  </a:lnTo>
                  <a:lnTo>
                    <a:pt x="862" y="1154"/>
                  </a:lnTo>
                  <a:lnTo>
                    <a:pt x="847" y="1160"/>
                  </a:lnTo>
                  <a:lnTo>
                    <a:pt x="831" y="1164"/>
                  </a:lnTo>
                  <a:lnTo>
                    <a:pt x="817" y="1169"/>
                  </a:lnTo>
                  <a:lnTo>
                    <a:pt x="802" y="1172"/>
                  </a:lnTo>
                  <a:lnTo>
                    <a:pt x="789" y="1172"/>
                  </a:lnTo>
                  <a:lnTo>
                    <a:pt x="776" y="1170"/>
                  </a:lnTo>
                  <a:lnTo>
                    <a:pt x="763" y="1169"/>
                  </a:lnTo>
                  <a:lnTo>
                    <a:pt x="750" y="1166"/>
                  </a:lnTo>
                  <a:lnTo>
                    <a:pt x="737" y="1162"/>
                  </a:lnTo>
                  <a:lnTo>
                    <a:pt x="724" y="1156"/>
                  </a:lnTo>
                  <a:lnTo>
                    <a:pt x="711" y="1147"/>
                  </a:lnTo>
                  <a:lnTo>
                    <a:pt x="701" y="1138"/>
                  </a:lnTo>
                  <a:lnTo>
                    <a:pt x="692" y="1125"/>
                  </a:lnTo>
                  <a:lnTo>
                    <a:pt x="685" y="1125"/>
                  </a:lnTo>
                  <a:lnTo>
                    <a:pt x="677" y="1125"/>
                  </a:lnTo>
                  <a:lnTo>
                    <a:pt x="667" y="1125"/>
                  </a:lnTo>
                  <a:lnTo>
                    <a:pt x="658" y="1124"/>
                  </a:lnTo>
                  <a:lnTo>
                    <a:pt x="650" y="1124"/>
                  </a:lnTo>
                  <a:lnTo>
                    <a:pt x="641" y="1121"/>
                  </a:lnTo>
                  <a:lnTo>
                    <a:pt x="635" y="1119"/>
                  </a:lnTo>
                  <a:lnTo>
                    <a:pt x="631" y="1115"/>
                  </a:lnTo>
                  <a:lnTo>
                    <a:pt x="626" y="1109"/>
                  </a:lnTo>
                  <a:lnTo>
                    <a:pt x="621" y="1100"/>
                  </a:lnTo>
                  <a:lnTo>
                    <a:pt x="613" y="1089"/>
                  </a:lnTo>
                  <a:lnTo>
                    <a:pt x="606" y="1076"/>
                  </a:lnTo>
                  <a:lnTo>
                    <a:pt x="596" y="1063"/>
                  </a:lnTo>
                  <a:lnTo>
                    <a:pt x="587" y="1051"/>
                  </a:lnTo>
                  <a:lnTo>
                    <a:pt x="577" y="1039"/>
                  </a:lnTo>
                  <a:lnTo>
                    <a:pt x="568" y="1031"/>
                  </a:lnTo>
                  <a:lnTo>
                    <a:pt x="558" y="1023"/>
                  </a:lnTo>
                  <a:lnTo>
                    <a:pt x="548" y="1015"/>
                  </a:lnTo>
                  <a:lnTo>
                    <a:pt x="536" y="1007"/>
                  </a:lnTo>
                  <a:lnTo>
                    <a:pt x="525" y="999"/>
                  </a:lnTo>
                  <a:lnTo>
                    <a:pt x="513" y="991"/>
                  </a:lnTo>
                  <a:lnTo>
                    <a:pt x="504" y="984"/>
                  </a:lnTo>
                  <a:lnTo>
                    <a:pt x="497" y="978"/>
                  </a:lnTo>
                  <a:lnTo>
                    <a:pt x="494" y="972"/>
                  </a:lnTo>
                  <a:lnTo>
                    <a:pt x="491" y="962"/>
                  </a:lnTo>
                  <a:lnTo>
                    <a:pt x="490" y="954"/>
                  </a:lnTo>
                  <a:lnTo>
                    <a:pt x="490" y="943"/>
                  </a:lnTo>
                  <a:lnTo>
                    <a:pt x="493" y="933"/>
                  </a:lnTo>
                  <a:lnTo>
                    <a:pt x="496" y="923"/>
                  </a:lnTo>
                  <a:lnTo>
                    <a:pt x="499" y="913"/>
                  </a:lnTo>
                  <a:lnTo>
                    <a:pt x="502" y="904"/>
                  </a:lnTo>
                  <a:lnTo>
                    <a:pt x="506" y="895"/>
                  </a:lnTo>
                  <a:lnTo>
                    <a:pt x="502" y="888"/>
                  </a:lnTo>
                  <a:lnTo>
                    <a:pt x="493" y="884"/>
                  </a:lnTo>
                  <a:lnTo>
                    <a:pt x="484" y="884"/>
                  </a:lnTo>
                  <a:lnTo>
                    <a:pt x="478" y="894"/>
                  </a:lnTo>
                  <a:lnTo>
                    <a:pt x="475" y="908"/>
                  </a:lnTo>
                  <a:lnTo>
                    <a:pt x="475" y="920"/>
                  </a:lnTo>
                  <a:lnTo>
                    <a:pt x="472" y="930"/>
                  </a:lnTo>
                  <a:lnTo>
                    <a:pt x="467" y="935"/>
                  </a:lnTo>
                  <a:lnTo>
                    <a:pt x="462" y="936"/>
                  </a:lnTo>
                  <a:lnTo>
                    <a:pt x="456" y="938"/>
                  </a:lnTo>
                  <a:lnTo>
                    <a:pt x="451" y="939"/>
                  </a:lnTo>
                  <a:lnTo>
                    <a:pt x="445" y="940"/>
                  </a:lnTo>
                  <a:lnTo>
                    <a:pt x="438" y="943"/>
                  </a:lnTo>
                  <a:lnTo>
                    <a:pt x="430" y="946"/>
                  </a:lnTo>
                  <a:lnTo>
                    <a:pt x="424" y="949"/>
                  </a:lnTo>
                  <a:lnTo>
                    <a:pt x="419" y="954"/>
                  </a:lnTo>
                  <a:lnTo>
                    <a:pt x="409" y="961"/>
                  </a:lnTo>
                  <a:lnTo>
                    <a:pt x="397" y="964"/>
                  </a:lnTo>
                  <a:lnTo>
                    <a:pt x="387" y="965"/>
                  </a:lnTo>
                  <a:lnTo>
                    <a:pt x="378" y="965"/>
                  </a:lnTo>
                  <a:lnTo>
                    <a:pt x="369" y="965"/>
                  </a:lnTo>
                  <a:lnTo>
                    <a:pt x="359" y="967"/>
                  </a:lnTo>
                  <a:lnTo>
                    <a:pt x="349" y="971"/>
                  </a:lnTo>
                  <a:lnTo>
                    <a:pt x="340" y="977"/>
                  </a:lnTo>
                  <a:lnTo>
                    <a:pt x="334" y="980"/>
                  </a:lnTo>
                  <a:lnTo>
                    <a:pt x="329" y="983"/>
                  </a:lnTo>
                  <a:lnTo>
                    <a:pt x="321" y="986"/>
                  </a:lnTo>
                  <a:lnTo>
                    <a:pt x="313" y="987"/>
                  </a:lnTo>
                  <a:lnTo>
                    <a:pt x="304" y="987"/>
                  </a:lnTo>
                  <a:lnTo>
                    <a:pt x="295" y="987"/>
                  </a:lnTo>
                  <a:lnTo>
                    <a:pt x="286" y="986"/>
                  </a:lnTo>
                  <a:lnTo>
                    <a:pt x="278" y="984"/>
                  </a:lnTo>
                  <a:lnTo>
                    <a:pt x="269" y="981"/>
                  </a:lnTo>
                  <a:lnTo>
                    <a:pt x="262" y="980"/>
                  </a:lnTo>
                  <a:lnTo>
                    <a:pt x="253" y="977"/>
                  </a:lnTo>
                  <a:lnTo>
                    <a:pt x="244" y="974"/>
                  </a:lnTo>
                  <a:lnTo>
                    <a:pt x="236" y="971"/>
                  </a:lnTo>
                  <a:lnTo>
                    <a:pt x="227" y="967"/>
                  </a:lnTo>
                  <a:lnTo>
                    <a:pt x="220" y="961"/>
                  </a:lnTo>
                  <a:lnTo>
                    <a:pt x="211" y="955"/>
                  </a:lnTo>
                  <a:lnTo>
                    <a:pt x="196" y="961"/>
                  </a:lnTo>
                  <a:lnTo>
                    <a:pt x="179" y="967"/>
                  </a:lnTo>
                  <a:lnTo>
                    <a:pt x="159" y="971"/>
                  </a:lnTo>
                  <a:lnTo>
                    <a:pt x="138" y="975"/>
                  </a:lnTo>
                  <a:lnTo>
                    <a:pt x="115" y="975"/>
                  </a:lnTo>
                  <a:lnTo>
                    <a:pt x="95" y="971"/>
                  </a:lnTo>
                  <a:lnTo>
                    <a:pt x="74" y="962"/>
                  </a:lnTo>
                  <a:lnTo>
                    <a:pt x="57" y="948"/>
                  </a:lnTo>
                  <a:lnTo>
                    <a:pt x="60" y="943"/>
                  </a:lnTo>
                  <a:lnTo>
                    <a:pt x="64" y="939"/>
                  </a:lnTo>
                  <a:lnTo>
                    <a:pt x="70" y="935"/>
                  </a:lnTo>
                  <a:lnTo>
                    <a:pt x="76" y="932"/>
                  </a:lnTo>
                  <a:lnTo>
                    <a:pt x="70" y="927"/>
                  </a:lnTo>
                  <a:lnTo>
                    <a:pt x="64" y="923"/>
                  </a:lnTo>
                  <a:lnTo>
                    <a:pt x="58" y="920"/>
                  </a:lnTo>
                  <a:lnTo>
                    <a:pt x="53" y="917"/>
                  </a:lnTo>
                  <a:lnTo>
                    <a:pt x="57" y="913"/>
                  </a:lnTo>
                  <a:lnTo>
                    <a:pt x="60" y="908"/>
                  </a:lnTo>
                  <a:lnTo>
                    <a:pt x="61" y="907"/>
                  </a:lnTo>
                  <a:lnTo>
                    <a:pt x="66" y="904"/>
                  </a:lnTo>
                  <a:lnTo>
                    <a:pt x="68" y="901"/>
                  </a:lnTo>
                  <a:lnTo>
                    <a:pt x="68" y="895"/>
                  </a:lnTo>
                  <a:lnTo>
                    <a:pt x="66" y="891"/>
                  </a:lnTo>
                  <a:lnTo>
                    <a:pt x="61" y="888"/>
                  </a:lnTo>
                  <a:lnTo>
                    <a:pt x="55" y="891"/>
                  </a:lnTo>
                  <a:lnTo>
                    <a:pt x="48" y="894"/>
                  </a:lnTo>
                  <a:lnTo>
                    <a:pt x="41" y="897"/>
                  </a:lnTo>
                  <a:lnTo>
                    <a:pt x="34" y="898"/>
                  </a:lnTo>
                  <a:lnTo>
                    <a:pt x="26" y="900"/>
                  </a:lnTo>
                  <a:lnTo>
                    <a:pt x="19" y="901"/>
                  </a:lnTo>
                  <a:lnTo>
                    <a:pt x="15" y="901"/>
                  </a:lnTo>
                  <a:lnTo>
                    <a:pt x="10" y="900"/>
                  </a:lnTo>
                  <a:lnTo>
                    <a:pt x="5" y="895"/>
                  </a:lnTo>
                  <a:lnTo>
                    <a:pt x="0" y="890"/>
                  </a:lnTo>
                  <a:lnTo>
                    <a:pt x="0" y="885"/>
                  </a:lnTo>
                  <a:lnTo>
                    <a:pt x="5" y="881"/>
                  </a:lnTo>
                  <a:lnTo>
                    <a:pt x="12" y="878"/>
                  </a:lnTo>
                  <a:lnTo>
                    <a:pt x="18" y="874"/>
                  </a:lnTo>
                  <a:lnTo>
                    <a:pt x="22" y="872"/>
                  </a:lnTo>
                  <a:lnTo>
                    <a:pt x="26" y="871"/>
                  </a:lnTo>
                  <a:lnTo>
                    <a:pt x="32" y="853"/>
                  </a:lnTo>
                  <a:lnTo>
                    <a:pt x="38" y="836"/>
                  </a:lnTo>
                  <a:lnTo>
                    <a:pt x="44" y="820"/>
                  </a:lnTo>
                  <a:lnTo>
                    <a:pt x="50" y="805"/>
                  </a:lnTo>
                  <a:lnTo>
                    <a:pt x="55" y="791"/>
                  </a:lnTo>
                  <a:lnTo>
                    <a:pt x="63" y="776"/>
                  </a:lnTo>
                  <a:lnTo>
                    <a:pt x="68" y="765"/>
                  </a:lnTo>
                  <a:lnTo>
                    <a:pt x="76" y="753"/>
                  </a:lnTo>
                  <a:lnTo>
                    <a:pt x="84" y="740"/>
                  </a:lnTo>
                  <a:lnTo>
                    <a:pt x="95" y="724"/>
                  </a:lnTo>
                  <a:lnTo>
                    <a:pt x="106" y="706"/>
                  </a:lnTo>
                  <a:lnTo>
                    <a:pt x="121" y="689"/>
                  </a:lnTo>
                  <a:lnTo>
                    <a:pt x="135" y="671"/>
                  </a:lnTo>
                  <a:lnTo>
                    <a:pt x="150" y="655"/>
                  </a:lnTo>
                  <a:lnTo>
                    <a:pt x="166" y="644"/>
                  </a:lnTo>
                  <a:lnTo>
                    <a:pt x="180" y="635"/>
                  </a:lnTo>
                  <a:lnTo>
                    <a:pt x="199" y="628"/>
                  </a:lnTo>
                  <a:lnTo>
                    <a:pt x="227" y="618"/>
                  </a:lnTo>
                  <a:lnTo>
                    <a:pt x="260" y="608"/>
                  </a:lnTo>
                  <a:lnTo>
                    <a:pt x="295" y="596"/>
                  </a:lnTo>
                  <a:lnTo>
                    <a:pt x="330" y="584"/>
                  </a:lnTo>
                  <a:lnTo>
                    <a:pt x="362" y="574"/>
                  </a:lnTo>
                  <a:lnTo>
                    <a:pt x="388" y="567"/>
                  </a:lnTo>
                  <a:lnTo>
                    <a:pt x="407" y="561"/>
                  </a:lnTo>
                  <a:lnTo>
                    <a:pt x="398" y="573"/>
                  </a:lnTo>
                  <a:lnTo>
                    <a:pt x="391" y="584"/>
                  </a:lnTo>
                  <a:lnTo>
                    <a:pt x="385" y="597"/>
                  </a:lnTo>
                  <a:lnTo>
                    <a:pt x="379" y="613"/>
                  </a:lnTo>
                  <a:lnTo>
                    <a:pt x="388" y="612"/>
                  </a:lnTo>
                  <a:lnTo>
                    <a:pt x="398" y="610"/>
                  </a:lnTo>
                  <a:lnTo>
                    <a:pt x="407" y="608"/>
                  </a:lnTo>
                  <a:lnTo>
                    <a:pt x="417" y="603"/>
                  </a:lnTo>
                  <a:lnTo>
                    <a:pt x="427" y="600"/>
                  </a:lnTo>
                  <a:lnTo>
                    <a:pt x="435" y="596"/>
                  </a:lnTo>
                  <a:lnTo>
                    <a:pt x="442" y="590"/>
                  </a:lnTo>
                  <a:lnTo>
                    <a:pt x="448" y="586"/>
                  </a:lnTo>
                  <a:lnTo>
                    <a:pt x="452" y="546"/>
                  </a:lnTo>
                  <a:lnTo>
                    <a:pt x="458" y="504"/>
                  </a:lnTo>
                  <a:lnTo>
                    <a:pt x="464" y="459"/>
                  </a:lnTo>
                  <a:lnTo>
                    <a:pt x="472" y="416"/>
                  </a:lnTo>
                  <a:lnTo>
                    <a:pt x="483" y="372"/>
                  </a:lnTo>
                  <a:lnTo>
                    <a:pt x="496" y="331"/>
                  </a:lnTo>
                  <a:lnTo>
                    <a:pt x="512" y="295"/>
                  </a:lnTo>
                  <a:lnTo>
                    <a:pt x="532" y="264"/>
                  </a:lnTo>
                  <a:lnTo>
                    <a:pt x="554" y="238"/>
                  </a:lnTo>
                  <a:lnTo>
                    <a:pt x="577" y="212"/>
                  </a:lnTo>
                  <a:lnTo>
                    <a:pt x="600" y="189"/>
                  </a:lnTo>
                  <a:lnTo>
                    <a:pt x="622" y="167"/>
                  </a:lnTo>
                  <a:lnTo>
                    <a:pt x="644" y="147"/>
                  </a:lnTo>
                  <a:lnTo>
                    <a:pt x="666" y="129"/>
                  </a:lnTo>
                  <a:lnTo>
                    <a:pt x="686" y="115"/>
                  </a:lnTo>
                  <a:lnTo>
                    <a:pt x="705" y="101"/>
                  </a:lnTo>
                  <a:lnTo>
                    <a:pt x="725" y="88"/>
                  </a:lnTo>
                  <a:lnTo>
                    <a:pt x="746" y="75"/>
                  </a:lnTo>
                  <a:lnTo>
                    <a:pt x="765" y="64"/>
                  </a:lnTo>
                  <a:lnTo>
                    <a:pt x="785" y="51"/>
                  </a:lnTo>
                  <a:lnTo>
                    <a:pt x="802" y="39"/>
                  </a:lnTo>
                  <a:lnTo>
                    <a:pt x="817" y="29"/>
                  </a:lnTo>
                  <a:lnTo>
                    <a:pt x="828" y="22"/>
                  </a:lnTo>
                  <a:lnTo>
                    <a:pt x="836" y="16"/>
                  </a:lnTo>
                  <a:lnTo>
                    <a:pt x="843" y="11"/>
                  </a:lnTo>
                  <a:lnTo>
                    <a:pt x="852" y="6"/>
                  </a:lnTo>
                  <a:lnTo>
                    <a:pt x="862" y="1"/>
                  </a:lnTo>
                  <a:lnTo>
                    <a:pt x="872" y="0"/>
                  </a:lnTo>
                  <a:lnTo>
                    <a:pt x="881" y="3"/>
                  </a:lnTo>
                  <a:lnTo>
                    <a:pt x="885" y="10"/>
                  </a:lnTo>
                  <a:lnTo>
                    <a:pt x="887" y="26"/>
                  </a:lnTo>
                  <a:lnTo>
                    <a:pt x="881" y="49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272760" y="5648400"/>
              <a:ext cx="100440" cy="169200"/>
            </a:xfrm>
            <a:custGeom>
              <a:avLst/>
              <a:gdLst/>
              <a:ahLst/>
              <a:rect l="l" t="t" r="r" b="b"/>
              <a:pathLst>
                <a:path w="160" h="272">
                  <a:moveTo>
                    <a:pt x="160" y="0"/>
                  </a:moveTo>
                  <a:lnTo>
                    <a:pt x="146" y="4"/>
                  </a:lnTo>
                  <a:lnTo>
                    <a:pt x="133" y="8"/>
                  </a:lnTo>
                  <a:lnTo>
                    <a:pt x="119" y="16"/>
                  </a:lnTo>
                  <a:lnTo>
                    <a:pt x="109" y="23"/>
                  </a:lnTo>
                  <a:lnTo>
                    <a:pt x="99" y="30"/>
                  </a:lnTo>
                  <a:lnTo>
                    <a:pt x="90" y="39"/>
                  </a:lnTo>
                  <a:lnTo>
                    <a:pt x="82" y="48"/>
                  </a:lnTo>
                  <a:lnTo>
                    <a:pt x="74" y="56"/>
                  </a:lnTo>
                  <a:lnTo>
                    <a:pt x="92" y="74"/>
                  </a:lnTo>
                  <a:lnTo>
                    <a:pt x="77" y="88"/>
                  </a:lnTo>
                  <a:lnTo>
                    <a:pt x="66" y="103"/>
                  </a:lnTo>
                  <a:lnTo>
                    <a:pt x="57" y="116"/>
                  </a:lnTo>
                  <a:lnTo>
                    <a:pt x="51" y="126"/>
                  </a:lnTo>
                  <a:lnTo>
                    <a:pt x="74" y="129"/>
                  </a:lnTo>
                  <a:lnTo>
                    <a:pt x="67" y="139"/>
                  </a:lnTo>
                  <a:lnTo>
                    <a:pt x="58" y="151"/>
                  </a:lnTo>
                  <a:lnTo>
                    <a:pt x="50" y="161"/>
                  </a:lnTo>
                  <a:lnTo>
                    <a:pt x="41" y="173"/>
                  </a:lnTo>
                  <a:lnTo>
                    <a:pt x="31" y="183"/>
                  </a:lnTo>
                  <a:lnTo>
                    <a:pt x="22" y="193"/>
                  </a:lnTo>
                  <a:lnTo>
                    <a:pt x="10" y="202"/>
                  </a:lnTo>
                  <a:lnTo>
                    <a:pt x="0" y="212"/>
                  </a:lnTo>
                  <a:lnTo>
                    <a:pt x="22" y="235"/>
                  </a:lnTo>
                  <a:lnTo>
                    <a:pt x="8" y="254"/>
                  </a:lnTo>
                  <a:lnTo>
                    <a:pt x="15" y="256"/>
                  </a:lnTo>
                  <a:lnTo>
                    <a:pt x="25" y="257"/>
                  </a:lnTo>
                  <a:lnTo>
                    <a:pt x="35" y="257"/>
                  </a:lnTo>
                  <a:lnTo>
                    <a:pt x="44" y="256"/>
                  </a:lnTo>
                  <a:lnTo>
                    <a:pt x="37" y="272"/>
                  </a:lnTo>
                  <a:lnTo>
                    <a:pt x="42" y="270"/>
                  </a:lnTo>
                  <a:lnTo>
                    <a:pt x="50" y="266"/>
                  </a:lnTo>
                  <a:lnTo>
                    <a:pt x="58" y="260"/>
                  </a:lnTo>
                  <a:lnTo>
                    <a:pt x="69" y="253"/>
                  </a:lnTo>
                  <a:lnTo>
                    <a:pt x="77" y="245"/>
                  </a:lnTo>
                  <a:lnTo>
                    <a:pt x="85" y="238"/>
                  </a:lnTo>
                  <a:lnTo>
                    <a:pt x="90" y="231"/>
                  </a:lnTo>
                  <a:lnTo>
                    <a:pt x="95" y="225"/>
                  </a:lnTo>
                  <a:lnTo>
                    <a:pt x="101" y="209"/>
                  </a:lnTo>
                  <a:lnTo>
                    <a:pt x="106" y="186"/>
                  </a:lnTo>
                  <a:lnTo>
                    <a:pt x="114" y="160"/>
                  </a:lnTo>
                  <a:lnTo>
                    <a:pt x="119" y="135"/>
                  </a:lnTo>
                  <a:lnTo>
                    <a:pt x="130" y="104"/>
                  </a:lnTo>
                  <a:lnTo>
                    <a:pt x="143" y="65"/>
                  </a:lnTo>
                  <a:lnTo>
                    <a:pt x="154" y="26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144680" y="6139440"/>
              <a:ext cx="160560" cy="158040"/>
            </a:xfrm>
            <a:custGeom>
              <a:avLst/>
              <a:gdLst/>
              <a:ahLst/>
              <a:rect l="l" t="t" r="r" b="b"/>
              <a:pathLst>
                <a:path w="256" h="254">
                  <a:moveTo>
                    <a:pt x="96" y="36"/>
                  </a:moveTo>
                  <a:lnTo>
                    <a:pt x="96" y="19"/>
                  </a:lnTo>
                  <a:lnTo>
                    <a:pt x="105" y="7"/>
                  </a:lnTo>
                  <a:lnTo>
                    <a:pt x="118" y="0"/>
                  </a:lnTo>
                  <a:lnTo>
                    <a:pt x="133" y="0"/>
                  </a:lnTo>
                  <a:lnTo>
                    <a:pt x="147" y="4"/>
                  </a:lnTo>
                  <a:lnTo>
                    <a:pt x="159" y="14"/>
                  </a:lnTo>
                  <a:lnTo>
                    <a:pt x="163" y="30"/>
                  </a:lnTo>
                  <a:lnTo>
                    <a:pt x="157" y="51"/>
                  </a:lnTo>
                  <a:lnTo>
                    <a:pt x="162" y="54"/>
                  </a:lnTo>
                  <a:lnTo>
                    <a:pt x="169" y="55"/>
                  </a:lnTo>
                  <a:lnTo>
                    <a:pt x="175" y="56"/>
                  </a:lnTo>
                  <a:lnTo>
                    <a:pt x="181" y="55"/>
                  </a:lnTo>
                  <a:lnTo>
                    <a:pt x="186" y="52"/>
                  </a:lnTo>
                  <a:lnTo>
                    <a:pt x="195" y="51"/>
                  </a:lnTo>
                  <a:lnTo>
                    <a:pt x="205" y="54"/>
                  </a:lnTo>
                  <a:lnTo>
                    <a:pt x="218" y="62"/>
                  </a:lnTo>
                  <a:lnTo>
                    <a:pt x="226" y="70"/>
                  </a:lnTo>
                  <a:lnTo>
                    <a:pt x="234" y="77"/>
                  </a:lnTo>
                  <a:lnTo>
                    <a:pt x="243" y="87"/>
                  </a:lnTo>
                  <a:lnTo>
                    <a:pt x="250" y="96"/>
                  </a:lnTo>
                  <a:lnTo>
                    <a:pt x="255" y="106"/>
                  </a:lnTo>
                  <a:lnTo>
                    <a:pt x="256" y="116"/>
                  </a:lnTo>
                  <a:lnTo>
                    <a:pt x="253" y="125"/>
                  </a:lnTo>
                  <a:lnTo>
                    <a:pt x="246" y="135"/>
                  </a:lnTo>
                  <a:lnTo>
                    <a:pt x="253" y="145"/>
                  </a:lnTo>
                  <a:lnTo>
                    <a:pt x="253" y="160"/>
                  </a:lnTo>
                  <a:lnTo>
                    <a:pt x="245" y="176"/>
                  </a:lnTo>
                  <a:lnTo>
                    <a:pt x="227" y="182"/>
                  </a:lnTo>
                  <a:lnTo>
                    <a:pt x="230" y="189"/>
                  </a:lnTo>
                  <a:lnTo>
                    <a:pt x="231" y="198"/>
                  </a:lnTo>
                  <a:lnTo>
                    <a:pt x="227" y="208"/>
                  </a:lnTo>
                  <a:lnTo>
                    <a:pt x="221" y="216"/>
                  </a:lnTo>
                  <a:lnTo>
                    <a:pt x="214" y="224"/>
                  </a:lnTo>
                  <a:lnTo>
                    <a:pt x="202" y="228"/>
                  </a:lnTo>
                  <a:lnTo>
                    <a:pt x="191" y="231"/>
                  </a:lnTo>
                  <a:lnTo>
                    <a:pt x="176" y="230"/>
                  </a:lnTo>
                  <a:lnTo>
                    <a:pt x="176" y="240"/>
                  </a:lnTo>
                  <a:lnTo>
                    <a:pt x="170" y="247"/>
                  </a:lnTo>
                  <a:lnTo>
                    <a:pt x="163" y="251"/>
                  </a:lnTo>
                  <a:lnTo>
                    <a:pt x="152" y="254"/>
                  </a:lnTo>
                  <a:lnTo>
                    <a:pt x="138" y="253"/>
                  </a:lnTo>
                  <a:lnTo>
                    <a:pt x="125" y="248"/>
                  </a:lnTo>
                  <a:lnTo>
                    <a:pt x="112" y="241"/>
                  </a:lnTo>
                  <a:lnTo>
                    <a:pt x="101" y="228"/>
                  </a:lnTo>
                  <a:lnTo>
                    <a:pt x="89" y="234"/>
                  </a:lnTo>
                  <a:lnTo>
                    <a:pt x="76" y="234"/>
                  </a:lnTo>
                  <a:lnTo>
                    <a:pt x="63" y="231"/>
                  </a:lnTo>
                  <a:lnTo>
                    <a:pt x="51" y="225"/>
                  </a:lnTo>
                  <a:lnTo>
                    <a:pt x="41" y="218"/>
                  </a:lnTo>
                  <a:lnTo>
                    <a:pt x="35" y="209"/>
                  </a:lnTo>
                  <a:lnTo>
                    <a:pt x="35" y="202"/>
                  </a:lnTo>
                  <a:lnTo>
                    <a:pt x="41" y="195"/>
                  </a:lnTo>
                  <a:lnTo>
                    <a:pt x="56" y="183"/>
                  </a:lnTo>
                  <a:lnTo>
                    <a:pt x="63" y="171"/>
                  </a:lnTo>
                  <a:lnTo>
                    <a:pt x="60" y="161"/>
                  </a:lnTo>
                  <a:lnTo>
                    <a:pt x="50" y="155"/>
                  </a:lnTo>
                  <a:lnTo>
                    <a:pt x="43" y="158"/>
                  </a:lnTo>
                  <a:lnTo>
                    <a:pt x="37" y="160"/>
                  </a:lnTo>
                  <a:lnTo>
                    <a:pt x="29" y="161"/>
                  </a:lnTo>
                  <a:lnTo>
                    <a:pt x="24" y="163"/>
                  </a:lnTo>
                  <a:lnTo>
                    <a:pt x="18" y="161"/>
                  </a:lnTo>
                  <a:lnTo>
                    <a:pt x="12" y="158"/>
                  </a:lnTo>
                  <a:lnTo>
                    <a:pt x="6" y="154"/>
                  </a:lnTo>
                  <a:lnTo>
                    <a:pt x="2" y="148"/>
                  </a:lnTo>
                  <a:lnTo>
                    <a:pt x="0" y="139"/>
                  </a:lnTo>
                  <a:lnTo>
                    <a:pt x="3" y="131"/>
                  </a:lnTo>
                  <a:lnTo>
                    <a:pt x="11" y="122"/>
                  </a:lnTo>
                  <a:lnTo>
                    <a:pt x="21" y="113"/>
                  </a:lnTo>
                  <a:lnTo>
                    <a:pt x="32" y="103"/>
                  </a:lnTo>
                  <a:lnTo>
                    <a:pt x="44" y="94"/>
                  </a:lnTo>
                  <a:lnTo>
                    <a:pt x="54" y="86"/>
                  </a:lnTo>
                  <a:lnTo>
                    <a:pt x="63" y="78"/>
                  </a:lnTo>
                  <a:lnTo>
                    <a:pt x="50" y="67"/>
                  </a:lnTo>
                  <a:lnTo>
                    <a:pt x="48" y="59"/>
                  </a:lnTo>
                  <a:lnTo>
                    <a:pt x="51" y="52"/>
                  </a:lnTo>
                  <a:lnTo>
                    <a:pt x="56" y="46"/>
                  </a:lnTo>
                  <a:lnTo>
                    <a:pt x="61" y="39"/>
                  </a:lnTo>
                  <a:lnTo>
                    <a:pt x="72" y="35"/>
                  </a:lnTo>
                  <a:lnTo>
                    <a:pt x="83" y="33"/>
                  </a:lnTo>
                  <a:lnTo>
                    <a:pt x="96" y="36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26760" y="6211800"/>
              <a:ext cx="53640" cy="536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0" y="47"/>
                  </a:moveTo>
                  <a:lnTo>
                    <a:pt x="3" y="44"/>
                  </a:lnTo>
                  <a:lnTo>
                    <a:pt x="7" y="42"/>
                  </a:lnTo>
                  <a:lnTo>
                    <a:pt x="15" y="41"/>
                  </a:lnTo>
                  <a:lnTo>
                    <a:pt x="23" y="41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5" y="38"/>
                  </a:lnTo>
                  <a:lnTo>
                    <a:pt x="48" y="35"/>
                  </a:lnTo>
                  <a:lnTo>
                    <a:pt x="54" y="26"/>
                  </a:lnTo>
                  <a:lnTo>
                    <a:pt x="60" y="13"/>
                  </a:lnTo>
                  <a:lnTo>
                    <a:pt x="69" y="3"/>
                  </a:lnTo>
                  <a:lnTo>
                    <a:pt x="80" y="0"/>
                  </a:lnTo>
                  <a:lnTo>
                    <a:pt x="84" y="4"/>
                  </a:lnTo>
                  <a:lnTo>
                    <a:pt x="86" y="13"/>
                  </a:lnTo>
                  <a:lnTo>
                    <a:pt x="83" y="28"/>
                  </a:lnTo>
                  <a:lnTo>
                    <a:pt x="79" y="42"/>
                  </a:lnTo>
                  <a:lnTo>
                    <a:pt x="71" y="58"/>
                  </a:lnTo>
                  <a:lnTo>
                    <a:pt x="63" y="71"/>
                  </a:lnTo>
                  <a:lnTo>
                    <a:pt x="53" y="82"/>
                  </a:lnTo>
                  <a:lnTo>
                    <a:pt x="41" y="86"/>
                  </a:lnTo>
                  <a:lnTo>
                    <a:pt x="47" y="76"/>
                  </a:lnTo>
                  <a:lnTo>
                    <a:pt x="51" y="64"/>
                  </a:lnTo>
                  <a:lnTo>
                    <a:pt x="53" y="55"/>
                  </a:lnTo>
                  <a:lnTo>
                    <a:pt x="53" y="48"/>
                  </a:lnTo>
                  <a:lnTo>
                    <a:pt x="45" y="51"/>
                  </a:lnTo>
                  <a:lnTo>
                    <a:pt x="37" y="52"/>
                  </a:lnTo>
                  <a:lnTo>
                    <a:pt x="28" y="54"/>
                  </a:lnTo>
                  <a:lnTo>
                    <a:pt x="18" y="55"/>
                  </a:lnTo>
                  <a:lnTo>
                    <a:pt x="10" y="54"/>
                  </a:lnTo>
                  <a:lnTo>
                    <a:pt x="5" y="52"/>
                  </a:lnTo>
                  <a:lnTo>
                    <a:pt x="0" y="51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65480" y="6064200"/>
              <a:ext cx="25560" cy="55440"/>
            </a:xfrm>
            <a:custGeom>
              <a:avLst/>
              <a:gdLst/>
              <a:ahLst/>
              <a:rect l="l" t="t" r="r" b="b"/>
              <a:pathLst>
                <a:path w="41" h="89">
                  <a:moveTo>
                    <a:pt x="10" y="0"/>
                  </a:moveTo>
                  <a:lnTo>
                    <a:pt x="31" y="12"/>
                  </a:lnTo>
                  <a:lnTo>
                    <a:pt x="41" y="51"/>
                  </a:lnTo>
                  <a:lnTo>
                    <a:pt x="41" y="87"/>
                  </a:lnTo>
                  <a:lnTo>
                    <a:pt x="35" y="89"/>
                  </a:lnTo>
                  <a:lnTo>
                    <a:pt x="29" y="74"/>
                  </a:lnTo>
                  <a:lnTo>
                    <a:pt x="22" y="60"/>
                  </a:lnTo>
                  <a:lnTo>
                    <a:pt x="13" y="47"/>
                  </a:lnTo>
                  <a:lnTo>
                    <a:pt x="6" y="34"/>
                  </a:lnTo>
                  <a:lnTo>
                    <a:pt x="1" y="23"/>
                  </a:lnTo>
                  <a:lnTo>
                    <a:pt x="0" y="13"/>
                  </a:lnTo>
                  <a:lnTo>
                    <a:pt x="1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45880" y="6282720"/>
              <a:ext cx="34920" cy="52200"/>
            </a:xfrm>
            <a:custGeom>
              <a:avLst/>
              <a:gdLst/>
              <a:ahLst/>
              <a:rect l="l" t="t" r="r" b="b"/>
              <a:pathLst>
                <a:path w="56" h="84">
                  <a:moveTo>
                    <a:pt x="0" y="0"/>
                  </a:moveTo>
                  <a:lnTo>
                    <a:pt x="7" y="5"/>
                  </a:lnTo>
                  <a:lnTo>
                    <a:pt x="17" y="13"/>
                  </a:lnTo>
                  <a:lnTo>
                    <a:pt x="29" y="20"/>
                  </a:lnTo>
                  <a:lnTo>
                    <a:pt x="39" y="27"/>
                  </a:lnTo>
                  <a:lnTo>
                    <a:pt x="48" y="34"/>
                  </a:lnTo>
                  <a:lnTo>
                    <a:pt x="55" y="40"/>
                  </a:lnTo>
                  <a:lnTo>
                    <a:pt x="56" y="45"/>
                  </a:lnTo>
                  <a:lnTo>
                    <a:pt x="54" y="46"/>
                  </a:lnTo>
                  <a:lnTo>
                    <a:pt x="42" y="45"/>
                  </a:lnTo>
                  <a:lnTo>
                    <a:pt x="33" y="43"/>
                  </a:lnTo>
                  <a:lnTo>
                    <a:pt x="26" y="42"/>
                  </a:lnTo>
                  <a:lnTo>
                    <a:pt x="22" y="42"/>
                  </a:lnTo>
                  <a:lnTo>
                    <a:pt x="22" y="47"/>
                  </a:lnTo>
                  <a:lnTo>
                    <a:pt x="25" y="61"/>
                  </a:lnTo>
                  <a:lnTo>
                    <a:pt x="33" y="74"/>
                  </a:lnTo>
                  <a:lnTo>
                    <a:pt x="43" y="84"/>
                  </a:lnTo>
                  <a:lnTo>
                    <a:pt x="33" y="82"/>
                  </a:lnTo>
                  <a:lnTo>
                    <a:pt x="25" y="78"/>
                  </a:lnTo>
                  <a:lnTo>
                    <a:pt x="17" y="71"/>
                  </a:lnTo>
                  <a:lnTo>
                    <a:pt x="11" y="62"/>
                  </a:lnTo>
                  <a:lnTo>
                    <a:pt x="6" y="50"/>
                  </a:lnTo>
                  <a:lnTo>
                    <a:pt x="3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91240" y="6416640"/>
              <a:ext cx="39240" cy="216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0" y="35"/>
                  </a:moveTo>
                  <a:lnTo>
                    <a:pt x="2" y="23"/>
                  </a:lnTo>
                  <a:lnTo>
                    <a:pt x="8" y="14"/>
                  </a:lnTo>
                  <a:lnTo>
                    <a:pt x="16" y="7"/>
                  </a:lnTo>
                  <a:lnTo>
                    <a:pt x="28" y="3"/>
                  </a:lnTo>
                  <a:lnTo>
                    <a:pt x="38" y="0"/>
                  </a:lnTo>
                  <a:lnTo>
                    <a:pt x="48" y="1"/>
                  </a:lnTo>
                  <a:lnTo>
                    <a:pt x="57" y="4"/>
                  </a:lnTo>
                  <a:lnTo>
                    <a:pt x="63" y="11"/>
                  </a:lnTo>
                  <a:lnTo>
                    <a:pt x="57" y="14"/>
                  </a:lnTo>
                  <a:lnTo>
                    <a:pt x="48" y="17"/>
                  </a:lnTo>
                  <a:lnTo>
                    <a:pt x="41" y="20"/>
                  </a:lnTo>
                  <a:lnTo>
                    <a:pt x="32" y="23"/>
                  </a:lnTo>
                  <a:lnTo>
                    <a:pt x="22" y="27"/>
                  </a:lnTo>
                  <a:lnTo>
                    <a:pt x="15" y="30"/>
                  </a:lnTo>
                  <a:lnTo>
                    <a:pt x="6" y="33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37720" y="6161400"/>
              <a:ext cx="38160" cy="62280"/>
            </a:xfrm>
            <a:custGeom>
              <a:avLst/>
              <a:gdLst/>
              <a:ahLst/>
              <a:rect l="l" t="t" r="r" b="b"/>
              <a:pathLst>
                <a:path w="61" h="100">
                  <a:moveTo>
                    <a:pt x="0" y="0"/>
                  </a:moveTo>
                  <a:lnTo>
                    <a:pt x="7" y="8"/>
                  </a:lnTo>
                  <a:lnTo>
                    <a:pt x="16" y="21"/>
                  </a:lnTo>
                  <a:lnTo>
                    <a:pt x="26" y="36"/>
                  </a:lnTo>
                  <a:lnTo>
                    <a:pt x="37" y="51"/>
                  </a:lnTo>
                  <a:lnTo>
                    <a:pt x="46" y="65"/>
                  </a:lnTo>
                  <a:lnTo>
                    <a:pt x="53" y="80"/>
                  </a:lnTo>
                  <a:lnTo>
                    <a:pt x="59" y="91"/>
                  </a:lnTo>
                  <a:lnTo>
                    <a:pt x="61" y="100"/>
                  </a:lnTo>
                  <a:lnTo>
                    <a:pt x="52" y="97"/>
                  </a:lnTo>
                  <a:lnTo>
                    <a:pt x="45" y="96"/>
                  </a:lnTo>
                  <a:lnTo>
                    <a:pt x="36" y="96"/>
                  </a:lnTo>
                  <a:lnTo>
                    <a:pt x="27" y="96"/>
                  </a:lnTo>
                  <a:lnTo>
                    <a:pt x="27" y="72"/>
                  </a:lnTo>
                  <a:lnTo>
                    <a:pt x="17" y="45"/>
                  </a:lnTo>
                  <a:lnTo>
                    <a:pt x="5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392640" y="6410880"/>
              <a:ext cx="34920" cy="21600"/>
            </a:xfrm>
            <a:custGeom>
              <a:avLst/>
              <a:gdLst/>
              <a:ahLst/>
              <a:rect l="l" t="t" r="r" b="b"/>
              <a:pathLst>
                <a:path w="56" h="35">
                  <a:moveTo>
                    <a:pt x="56" y="0"/>
                  </a:moveTo>
                  <a:lnTo>
                    <a:pt x="52" y="0"/>
                  </a:lnTo>
                  <a:lnTo>
                    <a:pt x="46" y="1"/>
                  </a:lnTo>
                  <a:lnTo>
                    <a:pt x="39" y="4"/>
                  </a:lnTo>
                  <a:lnTo>
                    <a:pt x="30" y="10"/>
                  </a:lnTo>
                  <a:lnTo>
                    <a:pt x="23" y="16"/>
                  </a:lnTo>
                  <a:lnTo>
                    <a:pt x="14" y="22"/>
                  </a:lnTo>
                  <a:lnTo>
                    <a:pt x="7" y="28"/>
                  </a:lnTo>
                  <a:lnTo>
                    <a:pt x="0" y="33"/>
                  </a:lnTo>
                  <a:lnTo>
                    <a:pt x="5" y="35"/>
                  </a:lnTo>
                  <a:lnTo>
                    <a:pt x="8" y="35"/>
                  </a:lnTo>
                  <a:lnTo>
                    <a:pt x="11" y="35"/>
                  </a:lnTo>
                  <a:lnTo>
                    <a:pt x="13" y="35"/>
                  </a:lnTo>
                  <a:lnTo>
                    <a:pt x="19" y="31"/>
                  </a:lnTo>
                  <a:lnTo>
                    <a:pt x="26" y="25"/>
                  </a:lnTo>
                  <a:lnTo>
                    <a:pt x="33" y="20"/>
                  </a:lnTo>
                  <a:lnTo>
                    <a:pt x="39" y="15"/>
                  </a:lnTo>
                  <a:lnTo>
                    <a:pt x="46" y="10"/>
                  </a:lnTo>
                  <a:lnTo>
                    <a:pt x="51" y="7"/>
                  </a:lnTo>
                  <a:lnTo>
                    <a:pt x="55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89960" y="6143760"/>
              <a:ext cx="16200" cy="54000"/>
            </a:xfrm>
            <a:custGeom>
              <a:avLst/>
              <a:gdLst/>
              <a:ahLst/>
              <a:rect l="l" t="t" r="r" b="b"/>
              <a:pathLst>
                <a:path w="26" h="87">
                  <a:moveTo>
                    <a:pt x="20" y="0"/>
                  </a:moveTo>
                  <a:lnTo>
                    <a:pt x="9" y="20"/>
                  </a:lnTo>
                  <a:lnTo>
                    <a:pt x="0" y="52"/>
                  </a:lnTo>
                  <a:lnTo>
                    <a:pt x="2" y="79"/>
                  </a:lnTo>
                  <a:lnTo>
                    <a:pt x="13" y="87"/>
                  </a:lnTo>
                  <a:lnTo>
                    <a:pt x="18" y="77"/>
                  </a:lnTo>
                  <a:lnTo>
                    <a:pt x="19" y="55"/>
                  </a:lnTo>
                  <a:lnTo>
                    <a:pt x="19" y="33"/>
                  </a:lnTo>
                  <a:lnTo>
                    <a:pt x="22" y="19"/>
                  </a:lnTo>
                  <a:lnTo>
                    <a:pt x="25" y="12"/>
                  </a:lnTo>
                  <a:lnTo>
                    <a:pt x="26" y="7"/>
                  </a:lnTo>
                  <a:lnTo>
                    <a:pt x="23" y="3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922120" y="6077880"/>
              <a:ext cx="207720" cy="58320"/>
            </a:xfrm>
            <a:custGeom>
              <a:avLst/>
              <a:gdLst/>
              <a:ahLst/>
              <a:rect l="l" t="t" r="r" b="b"/>
              <a:pathLst>
                <a:path w="331" h="94">
                  <a:moveTo>
                    <a:pt x="0" y="87"/>
                  </a:moveTo>
                  <a:lnTo>
                    <a:pt x="3" y="86"/>
                  </a:lnTo>
                  <a:lnTo>
                    <a:pt x="11" y="84"/>
                  </a:lnTo>
                  <a:lnTo>
                    <a:pt x="23" y="80"/>
                  </a:lnTo>
                  <a:lnTo>
                    <a:pt x="41" y="74"/>
                  </a:lnTo>
                  <a:lnTo>
                    <a:pt x="61" y="68"/>
                  </a:lnTo>
                  <a:lnTo>
                    <a:pt x="84" y="61"/>
                  </a:lnTo>
                  <a:lnTo>
                    <a:pt x="109" y="54"/>
                  </a:lnTo>
                  <a:lnTo>
                    <a:pt x="135" y="45"/>
                  </a:lnTo>
                  <a:lnTo>
                    <a:pt x="163" y="38"/>
                  </a:lnTo>
                  <a:lnTo>
                    <a:pt x="192" y="30"/>
                  </a:lnTo>
                  <a:lnTo>
                    <a:pt x="219" y="23"/>
                  </a:lnTo>
                  <a:lnTo>
                    <a:pt x="245" y="16"/>
                  </a:lnTo>
                  <a:lnTo>
                    <a:pt x="272" y="10"/>
                  </a:lnTo>
                  <a:lnTo>
                    <a:pt x="293" y="6"/>
                  </a:lnTo>
                  <a:lnTo>
                    <a:pt x="314" y="1"/>
                  </a:lnTo>
                  <a:lnTo>
                    <a:pt x="331" y="0"/>
                  </a:lnTo>
                  <a:lnTo>
                    <a:pt x="324" y="9"/>
                  </a:lnTo>
                  <a:lnTo>
                    <a:pt x="0" y="94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943000" y="6108120"/>
              <a:ext cx="228960" cy="37080"/>
            </a:xfrm>
            <a:custGeom>
              <a:avLst/>
              <a:gdLst/>
              <a:ahLst/>
              <a:rect l="l" t="t" r="r" b="b"/>
              <a:pathLst>
                <a:path w="365" h="60">
                  <a:moveTo>
                    <a:pt x="0" y="54"/>
                  </a:moveTo>
                  <a:lnTo>
                    <a:pt x="5" y="54"/>
                  </a:lnTo>
                  <a:lnTo>
                    <a:pt x="15" y="51"/>
                  </a:lnTo>
                  <a:lnTo>
                    <a:pt x="31" y="50"/>
                  </a:lnTo>
                  <a:lnTo>
                    <a:pt x="51" y="45"/>
                  </a:lnTo>
                  <a:lnTo>
                    <a:pt x="77" y="43"/>
                  </a:lnTo>
                  <a:lnTo>
                    <a:pt x="105" y="38"/>
                  </a:lnTo>
                  <a:lnTo>
                    <a:pt x="135" y="32"/>
                  </a:lnTo>
                  <a:lnTo>
                    <a:pt x="167" y="28"/>
                  </a:lnTo>
                  <a:lnTo>
                    <a:pt x="199" y="22"/>
                  </a:lnTo>
                  <a:lnTo>
                    <a:pt x="231" y="18"/>
                  </a:lnTo>
                  <a:lnTo>
                    <a:pt x="262" y="13"/>
                  </a:lnTo>
                  <a:lnTo>
                    <a:pt x="291" y="9"/>
                  </a:lnTo>
                  <a:lnTo>
                    <a:pt x="316" y="6"/>
                  </a:lnTo>
                  <a:lnTo>
                    <a:pt x="337" y="3"/>
                  </a:lnTo>
                  <a:lnTo>
                    <a:pt x="355" y="2"/>
                  </a:lnTo>
                  <a:lnTo>
                    <a:pt x="365" y="0"/>
                  </a:lnTo>
                  <a:lnTo>
                    <a:pt x="356" y="9"/>
                  </a:lnTo>
                  <a:lnTo>
                    <a:pt x="346" y="11"/>
                  </a:lnTo>
                  <a:lnTo>
                    <a:pt x="330" y="12"/>
                  </a:lnTo>
                  <a:lnTo>
                    <a:pt x="310" y="15"/>
                  </a:lnTo>
                  <a:lnTo>
                    <a:pt x="285" y="18"/>
                  </a:lnTo>
                  <a:lnTo>
                    <a:pt x="257" y="22"/>
                  </a:lnTo>
                  <a:lnTo>
                    <a:pt x="228" y="27"/>
                  </a:lnTo>
                  <a:lnTo>
                    <a:pt x="198" y="31"/>
                  </a:lnTo>
                  <a:lnTo>
                    <a:pt x="167" y="35"/>
                  </a:lnTo>
                  <a:lnTo>
                    <a:pt x="137" y="40"/>
                  </a:lnTo>
                  <a:lnTo>
                    <a:pt x="108" y="44"/>
                  </a:lnTo>
                  <a:lnTo>
                    <a:pt x="82" y="48"/>
                  </a:lnTo>
                  <a:lnTo>
                    <a:pt x="57" y="53"/>
                  </a:lnTo>
                  <a:lnTo>
                    <a:pt x="38" y="56"/>
                  </a:lnTo>
                  <a:lnTo>
                    <a:pt x="22" y="58"/>
                  </a:lnTo>
                  <a:lnTo>
                    <a:pt x="12" y="60"/>
                  </a:lnTo>
                  <a:lnTo>
                    <a:pt x="9" y="6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992320" y="6139440"/>
              <a:ext cx="65160" cy="11520"/>
            </a:xfrm>
            <a:custGeom>
              <a:avLst/>
              <a:gdLst/>
              <a:ahLst/>
              <a:rect l="l" t="t" r="r" b="b"/>
              <a:pathLst>
                <a:path w="104" h="19">
                  <a:moveTo>
                    <a:pt x="14" y="0"/>
                  </a:moveTo>
                  <a:lnTo>
                    <a:pt x="104" y="19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78640" y="6005520"/>
              <a:ext cx="85680" cy="45720"/>
            </a:xfrm>
            <a:custGeom>
              <a:avLst/>
              <a:gdLst/>
              <a:ahLst/>
              <a:rect l="l" t="t" r="r" b="b"/>
              <a:pathLst>
                <a:path w="137" h="74">
                  <a:moveTo>
                    <a:pt x="9" y="74"/>
                  </a:moveTo>
                  <a:lnTo>
                    <a:pt x="3" y="68"/>
                  </a:lnTo>
                  <a:lnTo>
                    <a:pt x="0" y="59"/>
                  </a:lnTo>
                  <a:lnTo>
                    <a:pt x="1" y="49"/>
                  </a:lnTo>
                  <a:lnTo>
                    <a:pt x="7" y="39"/>
                  </a:lnTo>
                  <a:lnTo>
                    <a:pt x="12" y="33"/>
                  </a:lnTo>
                  <a:lnTo>
                    <a:pt x="16" y="26"/>
                  </a:lnTo>
                  <a:lnTo>
                    <a:pt x="22" y="18"/>
                  </a:lnTo>
                  <a:lnTo>
                    <a:pt x="30" y="11"/>
                  </a:lnTo>
                  <a:lnTo>
                    <a:pt x="41" y="5"/>
                  </a:lnTo>
                  <a:lnTo>
                    <a:pt x="54" y="2"/>
                  </a:lnTo>
                  <a:lnTo>
                    <a:pt x="71" y="1"/>
                  </a:lnTo>
                  <a:lnTo>
                    <a:pt x="91" y="4"/>
                  </a:lnTo>
                  <a:lnTo>
                    <a:pt x="86" y="7"/>
                  </a:lnTo>
                  <a:lnTo>
                    <a:pt x="80" y="11"/>
                  </a:lnTo>
                  <a:lnTo>
                    <a:pt x="76" y="17"/>
                  </a:lnTo>
                  <a:lnTo>
                    <a:pt x="71" y="24"/>
                  </a:lnTo>
                  <a:lnTo>
                    <a:pt x="77" y="24"/>
                  </a:lnTo>
                  <a:lnTo>
                    <a:pt x="84" y="23"/>
                  </a:lnTo>
                  <a:lnTo>
                    <a:pt x="91" y="21"/>
                  </a:lnTo>
                  <a:lnTo>
                    <a:pt x="100" y="18"/>
                  </a:lnTo>
                  <a:lnTo>
                    <a:pt x="107" y="14"/>
                  </a:lnTo>
                  <a:lnTo>
                    <a:pt x="113" y="10"/>
                  </a:lnTo>
                  <a:lnTo>
                    <a:pt x="121" y="5"/>
                  </a:lnTo>
                  <a:lnTo>
                    <a:pt x="125" y="0"/>
                  </a:lnTo>
                  <a:lnTo>
                    <a:pt x="134" y="5"/>
                  </a:lnTo>
                  <a:lnTo>
                    <a:pt x="137" y="14"/>
                  </a:lnTo>
                  <a:lnTo>
                    <a:pt x="135" y="23"/>
                  </a:lnTo>
                  <a:lnTo>
                    <a:pt x="131" y="32"/>
                  </a:lnTo>
                  <a:lnTo>
                    <a:pt x="128" y="36"/>
                  </a:lnTo>
                  <a:lnTo>
                    <a:pt x="123" y="42"/>
                  </a:lnTo>
                  <a:lnTo>
                    <a:pt x="118" y="48"/>
                  </a:lnTo>
                  <a:lnTo>
                    <a:pt x="112" y="53"/>
                  </a:lnTo>
                  <a:lnTo>
                    <a:pt x="105" y="59"/>
                  </a:lnTo>
                  <a:lnTo>
                    <a:pt x="97" y="64"/>
                  </a:lnTo>
                  <a:lnTo>
                    <a:pt x="89" y="66"/>
                  </a:lnTo>
                  <a:lnTo>
                    <a:pt x="80" y="68"/>
                  </a:lnTo>
                  <a:lnTo>
                    <a:pt x="70" y="66"/>
                  </a:lnTo>
                  <a:lnTo>
                    <a:pt x="60" y="64"/>
                  </a:lnTo>
                  <a:lnTo>
                    <a:pt x="49" y="59"/>
                  </a:lnTo>
                  <a:lnTo>
                    <a:pt x="41" y="55"/>
                  </a:lnTo>
                  <a:lnTo>
                    <a:pt x="30" y="53"/>
                  </a:lnTo>
                  <a:lnTo>
                    <a:pt x="22" y="56"/>
                  </a:lnTo>
                  <a:lnTo>
                    <a:pt x="14" y="62"/>
                  </a:lnTo>
                  <a:lnTo>
                    <a:pt x="9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5181480" y="4495680"/>
            <a:ext cx="3486240" cy="1981440"/>
            <a:chOff x="5181480" y="4495680"/>
            <a:chExt cx="3486240" cy="1981440"/>
          </a:xfrm>
        </p:grpSpPr>
        <p:sp>
          <p:nvSpPr>
            <p:cNvPr id="478" name=""/>
            <p:cNvSpPr/>
            <p:nvPr/>
          </p:nvSpPr>
          <p:spPr>
            <a:xfrm>
              <a:off x="5181480" y="4495680"/>
              <a:ext cx="3480120" cy="1981440"/>
            </a:xfrm>
            <a:custGeom>
              <a:avLst/>
              <a:gdLst/>
              <a:ahLst/>
              <a:rect l="l" t="t" r="r" b="b"/>
              <a:pathLst>
                <a:path w="4692" h="2400">
                  <a:moveTo>
                    <a:pt x="12" y="2184"/>
                  </a:moveTo>
                  <a:lnTo>
                    <a:pt x="0" y="2124"/>
                  </a:lnTo>
                  <a:lnTo>
                    <a:pt x="36" y="2040"/>
                  </a:lnTo>
                  <a:lnTo>
                    <a:pt x="120" y="1920"/>
                  </a:lnTo>
                  <a:lnTo>
                    <a:pt x="156" y="1788"/>
                  </a:lnTo>
                  <a:lnTo>
                    <a:pt x="180" y="1680"/>
                  </a:lnTo>
                  <a:lnTo>
                    <a:pt x="228" y="1404"/>
                  </a:lnTo>
                  <a:lnTo>
                    <a:pt x="252" y="1212"/>
                  </a:lnTo>
                  <a:lnTo>
                    <a:pt x="252" y="1080"/>
                  </a:lnTo>
                  <a:lnTo>
                    <a:pt x="228" y="960"/>
                  </a:lnTo>
                  <a:lnTo>
                    <a:pt x="204" y="804"/>
                  </a:lnTo>
                  <a:lnTo>
                    <a:pt x="246" y="609"/>
                  </a:lnTo>
                  <a:lnTo>
                    <a:pt x="306" y="489"/>
                  </a:lnTo>
                  <a:lnTo>
                    <a:pt x="363" y="429"/>
                  </a:lnTo>
                  <a:lnTo>
                    <a:pt x="576" y="276"/>
                  </a:lnTo>
                  <a:lnTo>
                    <a:pt x="912" y="96"/>
                  </a:lnTo>
                  <a:lnTo>
                    <a:pt x="1149" y="21"/>
                  </a:lnTo>
                  <a:lnTo>
                    <a:pt x="1338" y="6"/>
                  </a:lnTo>
                  <a:lnTo>
                    <a:pt x="1500" y="0"/>
                  </a:lnTo>
                  <a:lnTo>
                    <a:pt x="1644" y="48"/>
                  </a:lnTo>
                  <a:lnTo>
                    <a:pt x="1746" y="69"/>
                  </a:lnTo>
                  <a:lnTo>
                    <a:pt x="1866" y="102"/>
                  </a:lnTo>
                  <a:lnTo>
                    <a:pt x="2040" y="144"/>
                  </a:lnTo>
                  <a:lnTo>
                    <a:pt x="2280" y="144"/>
                  </a:lnTo>
                  <a:lnTo>
                    <a:pt x="2496" y="120"/>
                  </a:lnTo>
                  <a:lnTo>
                    <a:pt x="2676" y="72"/>
                  </a:lnTo>
                  <a:lnTo>
                    <a:pt x="2832" y="60"/>
                  </a:lnTo>
                  <a:lnTo>
                    <a:pt x="3204" y="144"/>
                  </a:lnTo>
                  <a:lnTo>
                    <a:pt x="3528" y="240"/>
                  </a:lnTo>
                  <a:lnTo>
                    <a:pt x="4128" y="408"/>
                  </a:lnTo>
                  <a:lnTo>
                    <a:pt x="4320" y="486"/>
                  </a:lnTo>
                  <a:lnTo>
                    <a:pt x="4452" y="606"/>
                  </a:lnTo>
                  <a:lnTo>
                    <a:pt x="4560" y="804"/>
                  </a:lnTo>
                  <a:lnTo>
                    <a:pt x="4656" y="972"/>
                  </a:lnTo>
                  <a:lnTo>
                    <a:pt x="4692" y="1032"/>
                  </a:lnTo>
                  <a:lnTo>
                    <a:pt x="4671" y="1068"/>
                  </a:lnTo>
                  <a:lnTo>
                    <a:pt x="4638" y="1095"/>
                  </a:lnTo>
                  <a:lnTo>
                    <a:pt x="4596" y="1113"/>
                  </a:lnTo>
                  <a:lnTo>
                    <a:pt x="4554" y="1125"/>
                  </a:lnTo>
                  <a:lnTo>
                    <a:pt x="4512" y="1128"/>
                  </a:lnTo>
                  <a:lnTo>
                    <a:pt x="4461" y="1113"/>
                  </a:lnTo>
                  <a:lnTo>
                    <a:pt x="4413" y="1113"/>
                  </a:lnTo>
                  <a:lnTo>
                    <a:pt x="4350" y="1122"/>
                  </a:lnTo>
                  <a:lnTo>
                    <a:pt x="4410" y="1128"/>
                  </a:lnTo>
                  <a:lnTo>
                    <a:pt x="4449" y="1131"/>
                  </a:lnTo>
                  <a:lnTo>
                    <a:pt x="4542" y="1152"/>
                  </a:lnTo>
                  <a:lnTo>
                    <a:pt x="4539" y="1182"/>
                  </a:lnTo>
                  <a:lnTo>
                    <a:pt x="4488" y="1182"/>
                  </a:lnTo>
                  <a:lnTo>
                    <a:pt x="4407" y="1185"/>
                  </a:lnTo>
                  <a:lnTo>
                    <a:pt x="4323" y="1182"/>
                  </a:lnTo>
                  <a:lnTo>
                    <a:pt x="4248" y="1185"/>
                  </a:lnTo>
                  <a:lnTo>
                    <a:pt x="4158" y="1188"/>
                  </a:lnTo>
                  <a:lnTo>
                    <a:pt x="4008" y="1167"/>
                  </a:lnTo>
                  <a:lnTo>
                    <a:pt x="3828" y="1116"/>
                  </a:lnTo>
                  <a:lnTo>
                    <a:pt x="3768" y="1116"/>
                  </a:lnTo>
                  <a:lnTo>
                    <a:pt x="3636" y="1140"/>
                  </a:lnTo>
                  <a:lnTo>
                    <a:pt x="3588" y="1158"/>
                  </a:lnTo>
                  <a:lnTo>
                    <a:pt x="3528" y="1164"/>
                  </a:lnTo>
                  <a:lnTo>
                    <a:pt x="3480" y="1152"/>
                  </a:lnTo>
                  <a:lnTo>
                    <a:pt x="3444" y="1140"/>
                  </a:lnTo>
                  <a:lnTo>
                    <a:pt x="3420" y="1140"/>
                  </a:lnTo>
                  <a:lnTo>
                    <a:pt x="3372" y="1176"/>
                  </a:lnTo>
                  <a:lnTo>
                    <a:pt x="3360" y="1224"/>
                  </a:lnTo>
                  <a:lnTo>
                    <a:pt x="3360" y="1332"/>
                  </a:lnTo>
                  <a:lnTo>
                    <a:pt x="3384" y="1440"/>
                  </a:lnTo>
                  <a:lnTo>
                    <a:pt x="3414" y="1596"/>
                  </a:lnTo>
                  <a:lnTo>
                    <a:pt x="3438" y="1680"/>
                  </a:lnTo>
                  <a:lnTo>
                    <a:pt x="3486" y="1746"/>
                  </a:lnTo>
                  <a:lnTo>
                    <a:pt x="3552" y="1764"/>
                  </a:lnTo>
                  <a:lnTo>
                    <a:pt x="3636" y="1788"/>
                  </a:lnTo>
                  <a:lnTo>
                    <a:pt x="3720" y="1824"/>
                  </a:lnTo>
                  <a:lnTo>
                    <a:pt x="3762" y="1872"/>
                  </a:lnTo>
                  <a:lnTo>
                    <a:pt x="3756" y="1932"/>
                  </a:lnTo>
                  <a:lnTo>
                    <a:pt x="3672" y="1956"/>
                  </a:lnTo>
                  <a:lnTo>
                    <a:pt x="3588" y="1968"/>
                  </a:lnTo>
                  <a:lnTo>
                    <a:pt x="3372" y="1980"/>
                  </a:lnTo>
                  <a:lnTo>
                    <a:pt x="3264" y="1968"/>
                  </a:lnTo>
                  <a:lnTo>
                    <a:pt x="3168" y="1932"/>
                  </a:lnTo>
                  <a:lnTo>
                    <a:pt x="3072" y="1836"/>
                  </a:lnTo>
                  <a:lnTo>
                    <a:pt x="3018" y="1758"/>
                  </a:lnTo>
                  <a:lnTo>
                    <a:pt x="2976" y="1674"/>
                  </a:lnTo>
                  <a:lnTo>
                    <a:pt x="2940" y="1620"/>
                  </a:lnTo>
                  <a:lnTo>
                    <a:pt x="2928" y="1608"/>
                  </a:lnTo>
                  <a:lnTo>
                    <a:pt x="2892" y="1716"/>
                  </a:lnTo>
                  <a:lnTo>
                    <a:pt x="2880" y="1848"/>
                  </a:lnTo>
                  <a:lnTo>
                    <a:pt x="2916" y="1980"/>
                  </a:lnTo>
                  <a:lnTo>
                    <a:pt x="2976" y="2052"/>
                  </a:lnTo>
                  <a:lnTo>
                    <a:pt x="3072" y="2100"/>
                  </a:lnTo>
                  <a:lnTo>
                    <a:pt x="3156" y="2100"/>
                  </a:lnTo>
                  <a:lnTo>
                    <a:pt x="3216" y="2136"/>
                  </a:lnTo>
                  <a:lnTo>
                    <a:pt x="3252" y="2178"/>
                  </a:lnTo>
                  <a:lnTo>
                    <a:pt x="3234" y="2256"/>
                  </a:lnTo>
                  <a:lnTo>
                    <a:pt x="3168" y="2280"/>
                  </a:lnTo>
                  <a:lnTo>
                    <a:pt x="2892" y="2292"/>
                  </a:lnTo>
                  <a:lnTo>
                    <a:pt x="2748" y="2280"/>
                  </a:lnTo>
                  <a:lnTo>
                    <a:pt x="2664" y="2256"/>
                  </a:lnTo>
                  <a:lnTo>
                    <a:pt x="2562" y="2184"/>
                  </a:lnTo>
                  <a:lnTo>
                    <a:pt x="2460" y="2076"/>
                  </a:lnTo>
                  <a:lnTo>
                    <a:pt x="2376" y="2004"/>
                  </a:lnTo>
                  <a:lnTo>
                    <a:pt x="2256" y="1818"/>
                  </a:lnTo>
                  <a:lnTo>
                    <a:pt x="2166" y="1650"/>
                  </a:lnTo>
                  <a:lnTo>
                    <a:pt x="2124" y="1512"/>
                  </a:lnTo>
                  <a:lnTo>
                    <a:pt x="2064" y="1524"/>
                  </a:lnTo>
                  <a:lnTo>
                    <a:pt x="1968" y="1512"/>
                  </a:lnTo>
                  <a:lnTo>
                    <a:pt x="1848" y="1536"/>
                  </a:lnTo>
                  <a:lnTo>
                    <a:pt x="1692" y="1548"/>
                  </a:lnTo>
                  <a:lnTo>
                    <a:pt x="1644" y="1524"/>
                  </a:lnTo>
                  <a:lnTo>
                    <a:pt x="1488" y="1596"/>
                  </a:lnTo>
                  <a:lnTo>
                    <a:pt x="1380" y="1596"/>
                  </a:lnTo>
                  <a:lnTo>
                    <a:pt x="1344" y="1620"/>
                  </a:lnTo>
                  <a:lnTo>
                    <a:pt x="1296" y="1680"/>
                  </a:lnTo>
                  <a:lnTo>
                    <a:pt x="1260" y="1764"/>
                  </a:lnTo>
                  <a:lnTo>
                    <a:pt x="1224" y="1848"/>
                  </a:lnTo>
                  <a:lnTo>
                    <a:pt x="1212" y="1872"/>
                  </a:lnTo>
                  <a:lnTo>
                    <a:pt x="1212" y="1908"/>
                  </a:lnTo>
                  <a:lnTo>
                    <a:pt x="1260" y="1944"/>
                  </a:lnTo>
                  <a:lnTo>
                    <a:pt x="1344" y="1956"/>
                  </a:lnTo>
                  <a:lnTo>
                    <a:pt x="1404" y="2010"/>
                  </a:lnTo>
                  <a:lnTo>
                    <a:pt x="1386" y="2082"/>
                  </a:lnTo>
                  <a:lnTo>
                    <a:pt x="1296" y="2124"/>
                  </a:lnTo>
                  <a:lnTo>
                    <a:pt x="1104" y="2088"/>
                  </a:lnTo>
                  <a:lnTo>
                    <a:pt x="864" y="2052"/>
                  </a:lnTo>
                  <a:lnTo>
                    <a:pt x="756" y="2016"/>
                  </a:lnTo>
                  <a:lnTo>
                    <a:pt x="750" y="1944"/>
                  </a:lnTo>
                  <a:lnTo>
                    <a:pt x="816" y="1836"/>
                  </a:lnTo>
                  <a:lnTo>
                    <a:pt x="780" y="1764"/>
                  </a:lnTo>
                  <a:lnTo>
                    <a:pt x="768" y="1740"/>
                  </a:lnTo>
                  <a:lnTo>
                    <a:pt x="696" y="1836"/>
                  </a:lnTo>
                  <a:lnTo>
                    <a:pt x="600" y="1908"/>
                  </a:lnTo>
                  <a:lnTo>
                    <a:pt x="540" y="1992"/>
                  </a:lnTo>
                  <a:lnTo>
                    <a:pt x="468" y="2076"/>
                  </a:lnTo>
                  <a:lnTo>
                    <a:pt x="468" y="2148"/>
                  </a:lnTo>
                  <a:lnTo>
                    <a:pt x="528" y="2196"/>
                  </a:lnTo>
                  <a:lnTo>
                    <a:pt x="600" y="2220"/>
                  </a:lnTo>
                  <a:lnTo>
                    <a:pt x="636" y="2280"/>
                  </a:lnTo>
                  <a:lnTo>
                    <a:pt x="636" y="2328"/>
                  </a:lnTo>
                  <a:lnTo>
                    <a:pt x="624" y="2364"/>
                  </a:lnTo>
                  <a:lnTo>
                    <a:pt x="552" y="2400"/>
                  </a:lnTo>
                  <a:lnTo>
                    <a:pt x="432" y="2388"/>
                  </a:lnTo>
                  <a:lnTo>
                    <a:pt x="312" y="2352"/>
                  </a:lnTo>
                  <a:lnTo>
                    <a:pt x="180" y="2304"/>
                  </a:lnTo>
                  <a:lnTo>
                    <a:pt x="12" y="2184"/>
                  </a:lnTo>
                  <a:close/>
                </a:path>
              </a:pathLst>
            </a:custGeom>
            <a:gradFill rotWithShape="0">
              <a:gsLst>
                <a:gs pos="0">
                  <a:srgbClr val="f4fafe"/>
                </a:gs>
                <a:gs pos="100000">
                  <a:srgbClr val="ccecf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748840" y="5590440"/>
              <a:ext cx="66600" cy="349200"/>
            </a:xfrm>
            <a:custGeom>
              <a:avLst/>
              <a:gdLst/>
              <a:ahLst/>
              <a:rect l="l" t="t" r="r" b="b"/>
              <a:pathLst>
                <a:path w="90" h="423">
                  <a:moveTo>
                    <a:pt x="0" y="423"/>
                  </a:moveTo>
                  <a:lnTo>
                    <a:pt x="54" y="297"/>
                  </a:lnTo>
                  <a:lnTo>
                    <a:pt x="90" y="171"/>
                  </a:lnTo>
                  <a:lnTo>
                    <a:pt x="9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68640" y="5813280"/>
              <a:ext cx="426960" cy="81360"/>
            </a:xfrm>
            <a:custGeom>
              <a:avLst/>
              <a:gdLst/>
              <a:ahLst/>
              <a:rect l="l" t="t" r="r" b="b"/>
              <a:pathLst>
                <a:path w="576" h="99">
                  <a:moveTo>
                    <a:pt x="576" y="0"/>
                  </a:moveTo>
                  <a:lnTo>
                    <a:pt x="504" y="45"/>
                  </a:lnTo>
                  <a:lnTo>
                    <a:pt x="477" y="63"/>
                  </a:lnTo>
                  <a:lnTo>
                    <a:pt x="387" y="81"/>
                  </a:lnTo>
                  <a:lnTo>
                    <a:pt x="279" y="99"/>
                  </a:lnTo>
                  <a:lnTo>
                    <a:pt x="189" y="99"/>
                  </a:lnTo>
                  <a:lnTo>
                    <a:pt x="108" y="99"/>
                  </a:lnTo>
                  <a:lnTo>
                    <a:pt x="0" y="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750000" y="5434200"/>
              <a:ext cx="13320" cy="319320"/>
            </a:xfrm>
            <a:custGeom>
              <a:avLst/>
              <a:gdLst/>
              <a:ahLst/>
              <a:rect l="l" t="t" r="r" b="b"/>
              <a:pathLst>
                <a:path w="18" h="387">
                  <a:moveTo>
                    <a:pt x="18" y="387"/>
                  </a:moveTo>
                  <a:lnTo>
                    <a:pt x="9" y="315"/>
                  </a:lnTo>
                  <a:lnTo>
                    <a:pt x="0" y="135"/>
                  </a:lnTo>
                  <a:lnTo>
                    <a:pt x="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350840" y="5427000"/>
              <a:ext cx="380520" cy="393480"/>
            </a:xfrm>
            <a:custGeom>
              <a:avLst/>
              <a:gdLst/>
              <a:ahLst/>
              <a:rect l="l" t="t" r="r" b="b"/>
              <a:pathLst>
                <a:path w="513" h="477">
                  <a:moveTo>
                    <a:pt x="0" y="477"/>
                  </a:moveTo>
                  <a:lnTo>
                    <a:pt x="27" y="369"/>
                  </a:lnTo>
                  <a:lnTo>
                    <a:pt x="36" y="252"/>
                  </a:lnTo>
                  <a:lnTo>
                    <a:pt x="99" y="117"/>
                  </a:lnTo>
                  <a:lnTo>
                    <a:pt x="171" y="63"/>
                  </a:lnTo>
                  <a:lnTo>
                    <a:pt x="324" y="9"/>
                  </a:lnTo>
                  <a:lnTo>
                    <a:pt x="423" y="0"/>
                  </a:lnTo>
                  <a:lnTo>
                    <a:pt x="477" y="0"/>
                  </a:lnTo>
                  <a:lnTo>
                    <a:pt x="513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7931880" y="4876920"/>
              <a:ext cx="735840" cy="506160"/>
              <a:chOff x="7931880" y="4876920"/>
              <a:chExt cx="735840" cy="506160"/>
            </a:xfrm>
          </p:grpSpPr>
          <p:sp>
            <p:nvSpPr>
              <p:cNvPr id="484" name=""/>
              <p:cNvSpPr/>
              <p:nvPr/>
            </p:nvSpPr>
            <p:spPr>
              <a:xfrm>
                <a:off x="8407800" y="5117040"/>
                <a:ext cx="63720" cy="65880"/>
              </a:xfrm>
              <a:custGeom>
                <a:avLst/>
                <a:gdLst/>
                <a:ahLst/>
                <a:rect l="l" t="t" r="r" b="b"/>
                <a:pathLst>
                  <a:path w="86" h="80">
                    <a:moveTo>
                      <a:pt x="66" y="0"/>
                    </a:moveTo>
                    <a:lnTo>
                      <a:pt x="33" y="5"/>
                    </a:lnTo>
                    <a:lnTo>
                      <a:pt x="8" y="14"/>
                    </a:lnTo>
                    <a:lnTo>
                      <a:pt x="0" y="38"/>
                    </a:lnTo>
                    <a:lnTo>
                      <a:pt x="4" y="61"/>
                    </a:lnTo>
                    <a:lnTo>
                      <a:pt x="20" y="80"/>
                    </a:lnTo>
                    <a:lnTo>
                      <a:pt x="43" y="80"/>
                    </a:lnTo>
                    <a:lnTo>
                      <a:pt x="59" y="71"/>
                    </a:lnTo>
                    <a:lnTo>
                      <a:pt x="78" y="52"/>
                    </a:lnTo>
                    <a:lnTo>
                      <a:pt x="86" y="31"/>
                    </a:lnTo>
                    <a:lnTo>
                      <a:pt x="82" y="7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fff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425800" y="5139000"/>
                <a:ext cx="37800" cy="27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595000" y="5280120"/>
                <a:ext cx="72720" cy="102960"/>
              </a:xfrm>
              <a:custGeom>
                <a:avLst/>
                <a:gdLst/>
                <a:ahLst/>
                <a:rect l="l" t="t" r="r" b="b"/>
                <a:pathLst>
                  <a:path w="98" h="125">
                    <a:moveTo>
                      <a:pt x="42" y="0"/>
                    </a:moveTo>
                    <a:lnTo>
                      <a:pt x="10" y="48"/>
                    </a:lnTo>
                    <a:lnTo>
                      <a:pt x="3" y="61"/>
                    </a:lnTo>
                    <a:lnTo>
                      <a:pt x="0" y="74"/>
                    </a:lnTo>
                    <a:lnTo>
                      <a:pt x="0" y="83"/>
                    </a:lnTo>
                    <a:lnTo>
                      <a:pt x="0" y="87"/>
                    </a:lnTo>
                    <a:lnTo>
                      <a:pt x="13" y="112"/>
                    </a:lnTo>
                    <a:lnTo>
                      <a:pt x="39" y="125"/>
                    </a:lnTo>
                    <a:lnTo>
                      <a:pt x="65" y="122"/>
                    </a:lnTo>
                    <a:lnTo>
                      <a:pt x="82" y="106"/>
                    </a:lnTo>
                    <a:lnTo>
                      <a:pt x="91" y="96"/>
                    </a:lnTo>
                    <a:lnTo>
                      <a:pt x="98" y="8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7931880" y="4876920"/>
                <a:ext cx="151200" cy="153360"/>
                <a:chOff x="7931880" y="4876920"/>
                <a:chExt cx="151200" cy="15336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7931880" y="4876920"/>
                  <a:ext cx="151200" cy="153360"/>
                </a:xfrm>
                <a:custGeom>
                  <a:avLst/>
                  <a:gdLst/>
                  <a:ahLst/>
                  <a:rect l="l" t="t" r="r" b="b"/>
                  <a:pathLst>
                    <a:path w="204" h="186">
                      <a:moveTo>
                        <a:pt x="204" y="90"/>
                      </a:moveTo>
                      <a:lnTo>
                        <a:pt x="180" y="36"/>
                      </a:lnTo>
                      <a:lnTo>
                        <a:pt x="138" y="12"/>
                      </a:lnTo>
                      <a:lnTo>
                        <a:pt x="96" y="0"/>
                      </a:lnTo>
                      <a:lnTo>
                        <a:pt x="54" y="12"/>
                      </a:lnTo>
                      <a:lnTo>
                        <a:pt x="18" y="42"/>
                      </a:lnTo>
                      <a:lnTo>
                        <a:pt x="0" y="90"/>
                      </a:lnTo>
                      <a:lnTo>
                        <a:pt x="18" y="150"/>
                      </a:lnTo>
                      <a:lnTo>
                        <a:pt x="78" y="186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971840" y="4913640"/>
                  <a:ext cx="81360" cy="90720"/>
                </a:xfrm>
                <a:custGeom>
                  <a:avLst/>
                  <a:gdLst/>
                  <a:ahLst/>
                  <a:rect l="l" t="t" r="r" b="b"/>
                  <a:pathLst>
                    <a:path w="110" h="110">
                      <a:moveTo>
                        <a:pt x="110" y="68"/>
                      </a:moveTo>
                      <a:lnTo>
                        <a:pt x="104" y="36"/>
                      </a:lnTo>
                      <a:lnTo>
                        <a:pt x="74" y="6"/>
                      </a:lnTo>
                      <a:lnTo>
                        <a:pt x="45" y="0"/>
                      </a:lnTo>
                      <a:lnTo>
                        <a:pt x="23" y="6"/>
                      </a:lnTo>
                      <a:lnTo>
                        <a:pt x="0" y="26"/>
                      </a:lnTo>
                      <a:lnTo>
                        <a:pt x="0" y="49"/>
                      </a:lnTo>
                      <a:lnTo>
                        <a:pt x="3" y="68"/>
                      </a:lnTo>
                      <a:lnTo>
                        <a:pt x="10" y="91"/>
                      </a:lnTo>
                      <a:lnTo>
                        <a:pt x="29" y="104"/>
                      </a:lnTo>
                      <a:lnTo>
                        <a:pt x="68" y="110"/>
                      </a:lnTo>
                      <a:lnTo>
                        <a:pt x="11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0" name=""/>
            <p:cNvSpPr/>
            <p:nvPr/>
          </p:nvSpPr>
          <p:spPr>
            <a:xfrm>
              <a:off x="5501880" y="6390360"/>
              <a:ext cx="57600" cy="56880"/>
            </a:xfrm>
            <a:custGeom>
              <a:avLst/>
              <a:gdLst/>
              <a:ahLst/>
              <a:rect l="l" t="t" r="r" b="b"/>
              <a:pathLst>
                <a:path w="78" h="69">
                  <a:moveTo>
                    <a:pt x="0" y="0"/>
                  </a:moveTo>
                  <a:lnTo>
                    <a:pt x="42" y="9"/>
                  </a:lnTo>
                  <a:lnTo>
                    <a:pt x="66" y="33"/>
                  </a:lnTo>
                  <a:lnTo>
                    <a:pt x="78" y="6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544000" y="6368040"/>
              <a:ext cx="55440" cy="66600"/>
            </a:xfrm>
            <a:custGeom>
              <a:avLst/>
              <a:gdLst/>
              <a:ahLst/>
              <a:rect l="l" t="t" r="r" b="b"/>
              <a:pathLst>
                <a:path w="75" h="81">
                  <a:moveTo>
                    <a:pt x="0" y="0"/>
                  </a:moveTo>
                  <a:lnTo>
                    <a:pt x="39" y="15"/>
                  </a:lnTo>
                  <a:lnTo>
                    <a:pt x="60" y="33"/>
                  </a:lnTo>
                  <a:lnTo>
                    <a:pt x="75" y="8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592960" y="6355800"/>
              <a:ext cx="35640" cy="61560"/>
            </a:xfrm>
            <a:custGeom>
              <a:avLst/>
              <a:gdLst/>
              <a:ahLst/>
              <a:rect l="l" t="t" r="r" b="b"/>
              <a:pathLst>
                <a:path w="48" h="75">
                  <a:moveTo>
                    <a:pt x="0" y="0"/>
                  </a:moveTo>
                  <a:lnTo>
                    <a:pt x="36" y="21"/>
                  </a:lnTo>
                  <a:lnTo>
                    <a:pt x="48" y="57"/>
                  </a:lnTo>
                  <a:lnTo>
                    <a:pt x="48" y="7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75720" y="6187320"/>
              <a:ext cx="64440" cy="39600"/>
            </a:xfrm>
            <a:custGeom>
              <a:avLst/>
              <a:gdLst/>
              <a:ahLst/>
              <a:rect l="l" t="t" r="r" b="b"/>
              <a:pathLst>
                <a:path w="87" h="48">
                  <a:moveTo>
                    <a:pt x="0" y="0"/>
                  </a:moveTo>
                  <a:lnTo>
                    <a:pt x="54" y="9"/>
                  </a:lnTo>
                  <a:lnTo>
                    <a:pt x="87" y="4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098040" y="6152760"/>
              <a:ext cx="75600" cy="54360"/>
            </a:xfrm>
            <a:custGeom>
              <a:avLst/>
              <a:gdLst/>
              <a:ahLst/>
              <a:rect l="l" t="t" r="r" b="b"/>
              <a:pathLst>
                <a:path w="102" h="66">
                  <a:moveTo>
                    <a:pt x="0" y="0"/>
                  </a:moveTo>
                  <a:lnTo>
                    <a:pt x="45" y="6"/>
                  </a:lnTo>
                  <a:lnTo>
                    <a:pt x="78" y="24"/>
                  </a:lnTo>
                  <a:lnTo>
                    <a:pt x="102" y="6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142680" y="6132600"/>
              <a:ext cx="57600" cy="46800"/>
            </a:xfrm>
            <a:custGeom>
              <a:avLst/>
              <a:gdLst/>
              <a:ahLst/>
              <a:rect l="l" t="t" r="r" b="b"/>
              <a:pathLst>
                <a:path w="78" h="57">
                  <a:moveTo>
                    <a:pt x="0" y="0"/>
                  </a:moveTo>
                  <a:lnTo>
                    <a:pt x="51" y="15"/>
                  </a:lnTo>
                  <a:lnTo>
                    <a:pt x="78" y="5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413480" y="6316200"/>
              <a:ext cx="102240" cy="44280"/>
            </a:xfrm>
            <a:custGeom>
              <a:avLst/>
              <a:gdLst/>
              <a:ahLst/>
              <a:rect l="l" t="t" r="r" b="b"/>
              <a:pathLst>
                <a:path w="138" h="54">
                  <a:moveTo>
                    <a:pt x="0" y="0"/>
                  </a:moveTo>
                  <a:lnTo>
                    <a:pt x="84" y="6"/>
                  </a:lnTo>
                  <a:lnTo>
                    <a:pt x="114" y="30"/>
                  </a:lnTo>
                  <a:lnTo>
                    <a:pt x="138" y="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453440" y="6281280"/>
              <a:ext cx="88920" cy="49320"/>
            </a:xfrm>
            <a:custGeom>
              <a:avLst/>
              <a:gdLst/>
              <a:ahLst/>
              <a:rect l="l" t="t" r="r" b="b"/>
              <a:pathLst>
                <a:path w="120" h="60">
                  <a:moveTo>
                    <a:pt x="0" y="0"/>
                  </a:moveTo>
                  <a:lnTo>
                    <a:pt x="51" y="3"/>
                  </a:lnTo>
                  <a:lnTo>
                    <a:pt x="96" y="21"/>
                  </a:lnTo>
                  <a:lnTo>
                    <a:pt x="120" y="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504560" y="6254280"/>
              <a:ext cx="68760" cy="56880"/>
            </a:xfrm>
            <a:custGeom>
              <a:avLst/>
              <a:gdLst/>
              <a:ahLst/>
              <a:rect l="l" t="t" r="r" b="b"/>
              <a:pathLst>
                <a:path w="93" h="69">
                  <a:moveTo>
                    <a:pt x="0" y="0"/>
                  </a:moveTo>
                  <a:lnTo>
                    <a:pt x="48" y="12"/>
                  </a:lnTo>
                  <a:lnTo>
                    <a:pt x="75" y="39"/>
                  </a:lnTo>
                  <a:lnTo>
                    <a:pt x="93" y="6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22800" y="6043680"/>
              <a:ext cx="77760" cy="44280"/>
            </a:xfrm>
            <a:custGeom>
              <a:avLst/>
              <a:gdLst/>
              <a:ahLst/>
              <a:rect l="l" t="t" r="r" b="b"/>
              <a:pathLst>
                <a:path w="105" h="54">
                  <a:moveTo>
                    <a:pt x="0" y="0"/>
                  </a:moveTo>
                  <a:lnTo>
                    <a:pt x="60" y="18"/>
                  </a:lnTo>
                  <a:lnTo>
                    <a:pt x="105" y="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840440" y="6018840"/>
              <a:ext cx="97560" cy="59040"/>
            </a:xfrm>
            <a:custGeom>
              <a:avLst/>
              <a:gdLst/>
              <a:ahLst/>
              <a:rect l="l" t="t" r="r" b="b"/>
              <a:pathLst>
                <a:path w="132" h="72">
                  <a:moveTo>
                    <a:pt x="0" y="0"/>
                  </a:moveTo>
                  <a:lnTo>
                    <a:pt x="54" y="12"/>
                  </a:lnTo>
                  <a:lnTo>
                    <a:pt x="108" y="42"/>
                  </a:lnTo>
                  <a:lnTo>
                    <a:pt x="132" y="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878600" y="5999040"/>
              <a:ext cx="77760" cy="5688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0" y="0"/>
                  </a:moveTo>
                  <a:lnTo>
                    <a:pt x="45" y="15"/>
                  </a:lnTo>
                  <a:lnTo>
                    <a:pt x="84" y="42"/>
                  </a:lnTo>
                  <a:lnTo>
                    <a:pt x="105" y="6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2" name="MOUSE1" descr=""/>
          <p:cNvPicPr/>
          <p:nvPr/>
        </p:nvPicPr>
        <p:blipFill>
          <a:blip r:embed="rId1"/>
          <a:stretch/>
        </p:blipFill>
        <p:spPr>
          <a:xfrm flipH="1" rot="10800000">
            <a:off x="6324480" y="5866920"/>
            <a:ext cx="4287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457200"/>
            <a:ext cx="8001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ahoma"/>
              </a:rPr>
              <a:t>СОБАКА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85880" y="1981080"/>
            <a:ext cx="5724720" cy="4594320"/>
            <a:chOff x="1685880" y="1981080"/>
            <a:chExt cx="5724720" cy="4594320"/>
          </a:xfrm>
        </p:grpSpPr>
        <p:sp>
          <p:nvSpPr>
            <p:cNvPr id="89" name=""/>
            <p:cNvSpPr/>
            <p:nvPr/>
          </p:nvSpPr>
          <p:spPr>
            <a:xfrm>
              <a:off x="1685880" y="1981080"/>
              <a:ext cx="2459160" cy="4594320"/>
            </a:xfrm>
            <a:custGeom>
              <a:avLst/>
              <a:gdLst/>
              <a:ahLst/>
              <a:rect l="l" t="t" r="r" b="b"/>
              <a:pathLst>
                <a:path w="1549" h="2894">
                  <a:moveTo>
                    <a:pt x="1392" y="1965"/>
                  </a:moveTo>
                  <a:lnTo>
                    <a:pt x="1377" y="2035"/>
                  </a:lnTo>
                  <a:lnTo>
                    <a:pt x="1394" y="2043"/>
                  </a:lnTo>
                  <a:lnTo>
                    <a:pt x="1379" y="2146"/>
                  </a:lnTo>
                  <a:lnTo>
                    <a:pt x="1392" y="2154"/>
                  </a:lnTo>
                  <a:lnTo>
                    <a:pt x="1400" y="2260"/>
                  </a:lnTo>
                  <a:lnTo>
                    <a:pt x="1409" y="2369"/>
                  </a:lnTo>
                  <a:lnTo>
                    <a:pt x="1413" y="2388"/>
                  </a:lnTo>
                  <a:lnTo>
                    <a:pt x="1419" y="2439"/>
                  </a:lnTo>
                  <a:lnTo>
                    <a:pt x="1426" y="2501"/>
                  </a:lnTo>
                  <a:lnTo>
                    <a:pt x="1426" y="2562"/>
                  </a:lnTo>
                  <a:lnTo>
                    <a:pt x="1421" y="2571"/>
                  </a:lnTo>
                  <a:lnTo>
                    <a:pt x="1413" y="2592"/>
                  </a:lnTo>
                  <a:lnTo>
                    <a:pt x="1400" y="2622"/>
                  </a:lnTo>
                  <a:lnTo>
                    <a:pt x="1383" y="2658"/>
                  </a:lnTo>
                  <a:lnTo>
                    <a:pt x="1368" y="2698"/>
                  </a:lnTo>
                  <a:lnTo>
                    <a:pt x="1351" y="2737"/>
                  </a:lnTo>
                  <a:lnTo>
                    <a:pt x="1338" y="2769"/>
                  </a:lnTo>
                  <a:lnTo>
                    <a:pt x="1328" y="2794"/>
                  </a:lnTo>
                  <a:lnTo>
                    <a:pt x="1321" y="2813"/>
                  </a:lnTo>
                  <a:lnTo>
                    <a:pt x="1315" y="2828"/>
                  </a:lnTo>
                  <a:lnTo>
                    <a:pt x="1311" y="2843"/>
                  </a:lnTo>
                  <a:lnTo>
                    <a:pt x="1300" y="2854"/>
                  </a:lnTo>
                  <a:lnTo>
                    <a:pt x="1287" y="2864"/>
                  </a:lnTo>
                  <a:lnTo>
                    <a:pt x="1270" y="2873"/>
                  </a:lnTo>
                  <a:lnTo>
                    <a:pt x="1243" y="2879"/>
                  </a:lnTo>
                  <a:lnTo>
                    <a:pt x="1209" y="2883"/>
                  </a:lnTo>
                  <a:lnTo>
                    <a:pt x="1189" y="2894"/>
                  </a:lnTo>
                  <a:lnTo>
                    <a:pt x="1175" y="2873"/>
                  </a:lnTo>
                  <a:lnTo>
                    <a:pt x="1170" y="2873"/>
                  </a:lnTo>
                  <a:lnTo>
                    <a:pt x="1162" y="2875"/>
                  </a:lnTo>
                  <a:lnTo>
                    <a:pt x="1147" y="2875"/>
                  </a:lnTo>
                  <a:lnTo>
                    <a:pt x="1132" y="2875"/>
                  </a:lnTo>
                  <a:lnTo>
                    <a:pt x="1115" y="2873"/>
                  </a:lnTo>
                  <a:lnTo>
                    <a:pt x="1100" y="2868"/>
                  </a:lnTo>
                  <a:lnTo>
                    <a:pt x="1087" y="2862"/>
                  </a:lnTo>
                  <a:lnTo>
                    <a:pt x="1081" y="2851"/>
                  </a:lnTo>
                  <a:lnTo>
                    <a:pt x="1077" y="2854"/>
                  </a:lnTo>
                  <a:lnTo>
                    <a:pt x="1068" y="2860"/>
                  </a:lnTo>
                  <a:lnTo>
                    <a:pt x="1058" y="2862"/>
                  </a:lnTo>
                  <a:lnTo>
                    <a:pt x="1043" y="2858"/>
                  </a:lnTo>
                  <a:lnTo>
                    <a:pt x="1038" y="2854"/>
                  </a:lnTo>
                  <a:lnTo>
                    <a:pt x="1036" y="2847"/>
                  </a:lnTo>
                  <a:lnTo>
                    <a:pt x="1034" y="2843"/>
                  </a:lnTo>
                  <a:lnTo>
                    <a:pt x="1032" y="2839"/>
                  </a:lnTo>
                  <a:lnTo>
                    <a:pt x="1038" y="2822"/>
                  </a:lnTo>
                  <a:lnTo>
                    <a:pt x="1049" y="2805"/>
                  </a:lnTo>
                  <a:lnTo>
                    <a:pt x="1066" y="2792"/>
                  </a:lnTo>
                  <a:lnTo>
                    <a:pt x="1085" y="2779"/>
                  </a:lnTo>
                  <a:lnTo>
                    <a:pt x="1109" y="2766"/>
                  </a:lnTo>
                  <a:lnTo>
                    <a:pt x="1136" y="2758"/>
                  </a:lnTo>
                  <a:lnTo>
                    <a:pt x="1164" y="2749"/>
                  </a:lnTo>
                  <a:lnTo>
                    <a:pt x="1192" y="2741"/>
                  </a:lnTo>
                  <a:lnTo>
                    <a:pt x="1194" y="2737"/>
                  </a:lnTo>
                  <a:lnTo>
                    <a:pt x="1200" y="2722"/>
                  </a:lnTo>
                  <a:lnTo>
                    <a:pt x="1209" y="2700"/>
                  </a:lnTo>
                  <a:lnTo>
                    <a:pt x="1219" y="2675"/>
                  </a:lnTo>
                  <a:lnTo>
                    <a:pt x="1230" y="2645"/>
                  </a:lnTo>
                  <a:lnTo>
                    <a:pt x="1243" y="2615"/>
                  </a:lnTo>
                  <a:lnTo>
                    <a:pt x="1253" y="2586"/>
                  </a:lnTo>
                  <a:lnTo>
                    <a:pt x="1264" y="2558"/>
                  </a:lnTo>
                  <a:lnTo>
                    <a:pt x="1268" y="2533"/>
                  </a:lnTo>
                  <a:lnTo>
                    <a:pt x="1266" y="2505"/>
                  </a:lnTo>
                  <a:lnTo>
                    <a:pt x="1255" y="2475"/>
                  </a:lnTo>
                  <a:lnTo>
                    <a:pt x="1243" y="2443"/>
                  </a:lnTo>
                  <a:lnTo>
                    <a:pt x="1226" y="2409"/>
                  </a:lnTo>
                  <a:lnTo>
                    <a:pt x="1211" y="2373"/>
                  </a:lnTo>
                  <a:lnTo>
                    <a:pt x="1194" y="2335"/>
                  </a:lnTo>
                  <a:lnTo>
                    <a:pt x="1181" y="2292"/>
                  </a:lnTo>
                  <a:lnTo>
                    <a:pt x="1177" y="2307"/>
                  </a:lnTo>
                  <a:lnTo>
                    <a:pt x="1164" y="2348"/>
                  </a:lnTo>
                  <a:lnTo>
                    <a:pt x="1149" y="2401"/>
                  </a:lnTo>
                  <a:lnTo>
                    <a:pt x="1136" y="2452"/>
                  </a:lnTo>
                  <a:lnTo>
                    <a:pt x="1149" y="2564"/>
                  </a:lnTo>
                  <a:lnTo>
                    <a:pt x="1145" y="2569"/>
                  </a:lnTo>
                  <a:lnTo>
                    <a:pt x="1136" y="2584"/>
                  </a:lnTo>
                  <a:lnTo>
                    <a:pt x="1121" y="2605"/>
                  </a:lnTo>
                  <a:lnTo>
                    <a:pt x="1104" y="2630"/>
                  </a:lnTo>
                  <a:lnTo>
                    <a:pt x="1085" y="2658"/>
                  </a:lnTo>
                  <a:lnTo>
                    <a:pt x="1066" y="2683"/>
                  </a:lnTo>
                  <a:lnTo>
                    <a:pt x="1049" y="2707"/>
                  </a:lnTo>
                  <a:lnTo>
                    <a:pt x="1036" y="2726"/>
                  </a:lnTo>
                  <a:lnTo>
                    <a:pt x="1021" y="2752"/>
                  </a:lnTo>
                  <a:lnTo>
                    <a:pt x="1013" y="2769"/>
                  </a:lnTo>
                  <a:lnTo>
                    <a:pt x="1007" y="2781"/>
                  </a:lnTo>
                  <a:lnTo>
                    <a:pt x="994" y="2794"/>
                  </a:lnTo>
                  <a:lnTo>
                    <a:pt x="983" y="2798"/>
                  </a:lnTo>
                  <a:lnTo>
                    <a:pt x="972" y="2800"/>
                  </a:lnTo>
                  <a:lnTo>
                    <a:pt x="962" y="2803"/>
                  </a:lnTo>
                  <a:lnTo>
                    <a:pt x="953" y="2803"/>
                  </a:lnTo>
                  <a:lnTo>
                    <a:pt x="943" y="2800"/>
                  </a:lnTo>
                  <a:lnTo>
                    <a:pt x="936" y="2800"/>
                  </a:lnTo>
                  <a:lnTo>
                    <a:pt x="932" y="2798"/>
                  </a:lnTo>
                  <a:lnTo>
                    <a:pt x="930" y="2798"/>
                  </a:lnTo>
                  <a:lnTo>
                    <a:pt x="930" y="2798"/>
                  </a:lnTo>
                  <a:lnTo>
                    <a:pt x="926" y="2803"/>
                  </a:lnTo>
                  <a:lnTo>
                    <a:pt x="921" y="2807"/>
                  </a:lnTo>
                  <a:lnTo>
                    <a:pt x="915" y="2811"/>
                  </a:lnTo>
                  <a:lnTo>
                    <a:pt x="907" y="2815"/>
                  </a:lnTo>
                  <a:lnTo>
                    <a:pt x="896" y="2822"/>
                  </a:lnTo>
                  <a:lnTo>
                    <a:pt x="881" y="2826"/>
                  </a:lnTo>
                  <a:lnTo>
                    <a:pt x="864" y="2828"/>
                  </a:lnTo>
                  <a:lnTo>
                    <a:pt x="847" y="2805"/>
                  </a:lnTo>
                  <a:lnTo>
                    <a:pt x="775" y="2803"/>
                  </a:lnTo>
                  <a:lnTo>
                    <a:pt x="768" y="2779"/>
                  </a:lnTo>
                  <a:lnTo>
                    <a:pt x="766" y="2783"/>
                  </a:lnTo>
                  <a:lnTo>
                    <a:pt x="762" y="2790"/>
                  </a:lnTo>
                  <a:lnTo>
                    <a:pt x="758" y="2790"/>
                  </a:lnTo>
                  <a:lnTo>
                    <a:pt x="758" y="2779"/>
                  </a:lnTo>
                  <a:lnTo>
                    <a:pt x="760" y="2769"/>
                  </a:lnTo>
                  <a:lnTo>
                    <a:pt x="766" y="2754"/>
                  </a:lnTo>
                  <a:lnTo>
                    <a:pt x="777" y="2741"/>
                  </a:lnTo>
                  <a:lnTo>
                    <a:pt x="790" y="2726"/>
                  </a:lnTo>
                  <a:lnTo>
                    <a:pt x="809" y="2713"/>
                  </a:lnTo>
                  <a:lnTo>
                    <a:pt x="830" y="2703"/>
                  </a:lnTo>
                  <a:lnTo>
                    <a:pt x="858" y="2694"/>
                  </a:lnTo>
                  <a:lnTo>
                    <a:pt x="890" y="2690"/>
                  </a:lnTo>
                  <a:lnTo>
                    <a:pt x="894" y="2686"/>
                  </a:lnTo>
                  <a:lnTo>
                    <a:pt x="907" y="2675"/>
                  </a:lnTo>
                  <a:lnTo>
                    <a:pt x="926" y="2660"/>
                  </a:lnTo>
                  <a:lnTo>
                    <a:pt x="947" y="2641"/>
                  </a:lnTo>
                  <a:lnTo>
                    <a:pt x="968" y="2618"/>
                  </a:lnTo>
                  <a:lnTo>
                    <a:pt x="987" y="2594"/>
                  </a:lnTo>
                  <a:lnTo>
                    <a:pt x="1004" y="2569"/>
                  </a:lnTo>
                  <a:lnTo>
                    <a:pt x="1013" y="2545"/>
                  </a:lnTo>
                  <a:lnTo>
                    <a:pt x="1007" y="2530"/>
                  </a:lnTo>
                  <a:lnTo>
                    <a:pt x="996" y="2490"/>
                  </a:lnTo>
                  <a:lnTo>
                    <a:pt x="983" y="2435"/>
                  </a:lnTo>
                  <a:lnTo>
                    <a:pt x="979" y="2377"/>
                  </a:lnTo>
                  <a:lnTo>
                    <a:pt x="962" y="2384"/>
                  </a:lnTo>
                  <a:lnTo>
                    <a:pt x="960" y="2371"/>
                  </a:lnTo>
                  <a:lnTo>
                    <a:pt x="958" y="2337"/>
                  </a:lnTo>
                  <a:lnTo>
                    <a:pt x="955" y="2290"/>
                  </a:lnTo>
                  <a:lnTo>
                    <a:pt x="958" y="2239"/>
                  </a:lnTo>
                  <a:lnTo>
                    <a:pt x="947" y="2250"/>
                  </a:lnTo>
                  <a:lnTo>
                    <a:pt x="958" y="2133"/>
                  </a:lnTo>
                  <a:lnTo>
                    <a:pt x="913" y="2126"/>
                  </a:lnTo>
                  <a:lnTo>
                    <a:pt x="892" y="2033"/>
                  </a:lnTo>
                  <a:lnTo>
                    <a:pt x="881" y="2043"/>
                  </a:lnTo>
                  <a:lnTo>
                    <a:pt x="879" y="2029"/>
                  </a:lnTo>
                  <a:lnTo>
                    <a:pt x="872" y="1992"/>
                  </a:lnTo>
                  <a:lnTo>
                    <a:pt x="868" y="1944"/>
                  </a:lnTo>
                  <a:lnTo>
                    <a:pt x="866" y="1895"/>
                  </a:lnTo>
                  <a:lnTo>
                    <a:pt x="862" y="1890"/>
                  </a:lnTo>
                  <a:lnTo>
                    <a:pt x="851" y="1882"/>
                  </a:lnTo>
                  <a:lnTo>
                    <a:pt x="834" y="1865"/>
                  </a:lnTo>
                  <a:lnTo>
                    <a:pt x="815" y="1839"/>
                  </a:lnTo>
                  <a:lnTo>
                    <a:pt x="794" y="1810"/>
                  </a:lnTo>
                  <a:lnTo>
                    <a:pt x="770" y="1771"/>
                  </a:lnTo>
                  <a:lnTo>
                    <a:pt x="749" y="1727"/>
                  </a:lnTo>
                  <a:lnTo>
                    <a:pt x="732" y="1676"/>
                  </a:lnTo>
                  <a:lnTo>
                    <a:pt x="726" y="1667"/>
                  </a:lnTo>
                  <a:lnTo>
                    <a:pt x="713" y="1644"/>
                  </a:lnTo>
                  <a:lnTo>
                    <a:pt x="694" y="1612"/>
                  </a:lnTo>
                  <a:lnTo>
                    <a:pt x="679" y="1576"/>
                  </a:lnTo>
                  <a:lnTo>
                    <a:pt x="675" y="1571"/>
                  </a:lnTo>
                  <a:lnTo>
                    <a:pt x="664" y="1559"/>
                  </a:lnTo>
                  <a:lnTo>
                    <a:pt x="651" y="1537"/>
                  </a:lnTo>
                  <a:lnTo>
                    <a:pt x="636" y="1508"/>
                  </a:lnTo>
                  <a:lnTo>
                    <a:pt x="626" y="1514"/>
                  </a:lnTo>
                  <a:lnTo>
                    <a:pt x="615" y="1431"/>
                  </a:lnTo>
                  <a:lnTo>
                    <a:pt x="602" y="1406"/>
                  </a:lnTo>
                  <a:lnTo>
                    <a:pt x="617" y="1389"/>
                  </a:lnTo>
                  <a:lnTo>
                    <a:pt x="626" y="1331"/>
                  </a:lnTo>
                  <a:lnTo>
                    <a:pt x="624" y="1329"/>
                  </a:lnTo>
                  <a:lnTo>
                    <a:pt x="619" y="1325"/>
                  </a:lnTo>
                  <a:lnTo>
                    <a:pt x="611" y="1316"/>
                  </a:lnTo>
                  <a:lnTo>
                    <a:pt x="602" y="1308"/>
                  </a:lnTo>
                  <a:lnTo>
                    <a:pt x="592" y="1295"/>
                  </a:lnTo>
                  <a:lnTo>
                    <a:pt x="581" y="1280"/>
                  </a:lnTo>
                  <a:lnTo>
                    <a:pt x="570" y="1263"/>
                  </a:lnTo>
                  <a:lnTo>
                    <a:pt x="562" y="1246"/>
                  </a:lnTo>
                  <a:lnTo>
                    <a:pt x="551" y="1259"/>
                  </a:lnTo>
                  <a:lnTo>
                    <a:pt x="547" y="1248"/>
                  </a:lnTo>
                  <a:lnTo>
                    <a:pt x="536" y="1216"/>
                  </a:lnTo>
                  <a:lnTo>
                    <a:pt x="524" y="1170"/>
                  </a:lnTo>
                  <a:lnTo>
                    <a:pt x="509" y="1112"/>
                  </a:lnTo>
                  <a:lnTo>
                    <a:pt x="492" y="1106"/>
                  </a:lnTo>
                  <a:lnTo>
                    <a:pt x="483" y="1125"/>
                  </a:lnTo>
                  <a:lnTo>
                    <a:pt x="470" y="1076"/>
                  </a:lnTo>
                  <a:lnTo>
                    <a:pt x="462" y="1010"/>
                  </a:lnTo>
                  <a:lnTo>
                    <a:pt x="460" y="940"/>
                  </a:lnTo>
                  <a:lnTo>
                    <a:pt x="462" y="882"/>
                  </a:lnTo>
                  <a:lnTo>
                    <a:pt x="460" y="882"/>
                  </a:lnTo>
                  <a:lnTo>
                    <a:pt x="456" y="882"/>
                  </a:lnTo>
                  <a:lnTo>
                    <a:pt x="447" y="880"/>
                  </a:lnTo>
                  <a:lnTo>
                    <a:pt x="436" y="882"/>
                  </a:lnTo>
                  <a:lnTo>
                    <a:pt x="424" y="885"/>
                  </a:lnTo>
                  <a:lnTo>
                    <a:pt x="411" y="889"/>
                  </a:lnTo>
                  <a:lnTo>
                    <a:pt x="398" y="895"/>
                  </a:lnTo>
                  <a:lnTo>
                    <a:pt x="385" y="904"/>
                  </a:lnTo>
                  <a:lnTo>
                    <a:pt x="370" y="914"/>
                  </a:lnTo>
                  <a:lnTo>
                    <a:pt x="356" y="925"/>
                  </a:lnTo>
                  <a:lnTo>
                    <a:pt x="336" y="933"/>
                  </a:lnTo>
                  <a:lnTo>
                    <a:pt x="317" y="940"/>
                  </a:lnTo>
                  <a:lnTo>
                    <a:pt x="296" y="946"/>
                  </a:lnTo>
                  <a:lnTo>
                    <a:pt x="273" y="950"/>
                  </a:lnTo>
                  <a:lnTo>
                    <a:pt x="247" y="953"/>
                  </a:lnTo>
                  <a:lnTo>
                    <a:pt x="219" y="953"/>
                  </a:lnTo>
                  <a:lnTo>
                    <a:pt x="217" y="957"/>
                  </a:lnTo>
                  <a:lnTo>
                    <a:pt x="213" y="968"/>
                  </a:lnTo>
                  <a:lnTo>
                    <a:pt x="207" y="980"/>
                  </a:lnTo>
                  <a:lnTo>
                    <a:pt x="196" y="995"/>
                  </a:lnTo>
                  <a:lnTo>
                    <a:pt x="183" y="1010"/>
                  </a:lnTo>
                  <a:lnTo>
                    <a:pt x="168" y="1021"/>
                  </a:lnTo>
                  <a:lnTo>
                    <a:pt x="154" y="1025"/>
                  </a:lnTo>
                  <a:lnTo>
                    <a:pt x="134" y="1021"/>
                  </a:lnTo>
                  <a:lnTo>
                    <a:pt x="119" y="1014"/>
                  </a:lnTo>
                  <a:lnTo>
                    <a:pt x="124" y="1014"/>
                  </a:lnTo>
                  <a:lnTo>
                    <a:pt x="134" y="1010"/>
                  </a:lnTo>
                  <a:lnTo>
                    <a:pt x="147" y="995"/>
                  </a:lnTo>
                  <a:lnTo>
                    <a:pt x="154" y="963"/>
                  </a:lnTo>
                  <a:lnTo>
                    <a:pt x="156" y="925"/>
                  </a:lnTo>
                  <a:lnTo>
                    <a:pt x="162" y="893"/>
                  </a:lnTo>
                  <a:lnTo>
                    <a:pt x="171" y="878"/>
                  </a:lnTo>
                  <a:lnTo>
                    <a:pt x="179" y="876"/>
                  </a:lnTo>
                  <a:lnTo>
                    <a:pt x="192" y="872"/>
                  </a:lnTo>
                  <a:lnTo>
                    <a:pt x="205" y="863"/>
                  </a:lnTo>
                  <a:lnTo>
                    <a:pt x="222" y="855"/>
                  </a:lnTo>
                  <a:lnTo>
                    <a:pt x="234" y="846"/>
                  </a:lnTo>
                  <a:lnTo>
                    <a:pt x="249" y="836"/>
                  </a:lnTo>
                  <a:lnTo>
                    <a:pt x="258" y="825"/>
                  </a:lnTo>
                  <a:lnTo>
                    <a:pt x="264" y="817"/>
                  </a:lnTo>
                  <a:lnTo>
                    <a:pt x="256" y="817"/>
                  </a:lnTo>
                  <a:lnTo>
                    <a:pt x="232" y="817"/>
                  </a:lnTo>
                  <a:lnTo>
                    <a:pt x="198" y="812"/>
                  </a:lnTo>
                  <a:lnTo>
                    <a:pt x="158" y="808"/>
                  </a:lnTo>
                  <a:lnTo>
                    <a:pt x="119" y="800"/>
                  </a:lnTo>
                  <a:lnTo>
                    <a:pt x="83" y="789"/>
                  </a:lnTo>
                  <a:lnTo>
                    <a:pt x="58" y="772"/>
                  </a:lnTo>
                  <a:lnTo>
                    <a:pt x="45" y="751"/>
                  </a:lnTo>
                  <a:lnTo>
                    <a:pt x="15" y="725"/>
                  </a:lnTo>
                  <a:lnTo>
                    <a:pt x="3" y="700"/>
                  </a:lnTo>
                  <a:lnTo>
                    <a:pt x="0" y="676"/>
                  </a:lnTo>
                  <a:lnTo>
                    <a:pt x="9" y="655"/>
                  </a:lnTo>
                  <a:lnTo>
                    <a:pt x="11" y="655"/>
                  </a:lnTo>
                  <a:lnTo>
                    <a:pt x="17" y="651"/>
                  </a:lnTo>
                  <a:lnTo>
                    <a:pt x="26" y="649"/>
                  </a:lnTo>
                  <a:lnTo>
                    <a:pt x="37" y="642"/>
                  </a:lnTo>
                  <a:lnTo>
                    <a:pt x="51" y="638"/>
                  </a:lnTo>
                  <a:lnTo>
                    <a:pt x="66" y="632"/>
                  </a:lnTo>
                  <a:lnTo>
                    <a:pt x="81" y="625"/>
                  </a:lnTo>
                  <a:lnTo>
                    <a:pt x="96" y="621"/>
                  </a:lnTo>
                  <a:lnTo>
                    <a:pt x="115" y="615"/>
                  </a:lnTo>
                  <a:lnTo>
                    <a:pt x="141" y="604"/>
                  </a:lnTo>
                  <a:lnTo>
                    <a:pt x="171" y="589"/>
                  </a:lnTo>
                  <a:lnTo>
                    <a:pt x="202" y="574"/>
                  </a:lnTo>
                  <a:lnTo>
                    <a:pt x="234" y="559"/>
                  </a:lnTo>
                  <a:lnTo>
                    <a:pt x="264" y="542"/>
                  </a:lnTo>
                  <a:lnTo>
                    <a:pt x="292" y="529"/>
                  </a:lnTo>
                  <a:lnTo>
                    <a:pt x="311" y="521"/>
                  </a:lnTo>
                  <a:lnTo>
                    <a:pt x="336" y="504"/>
                  </a:lnTo>
                  <a:lnTo>
                    <a:pt x="353" y="485"/>
                  </a:lnTo>
                  <a:lnTo>
                    <a:pt x="362" y="466"/>
                  </a:lnTo>
                  <a:lnTo>
                    <a:pt x="366" y="444"/>
                  </a:lnTo>
                  <a:lnTo>
                    <a:pt x="370" y="434"/>
                  </a:lnTo>
                  <a:lnTo>
                    <a:pt x="379" y="421"/>
                  </a:lnTo>
                  <a:lnTo>
                    <a:pt x="394" y="408"/>
                  </a:lnTo>
                  <a:lnTo>
                    <a:pt x="413" y="393"/>
                  </a:lnTo>
                  <a:lnTo>
                    <a:pt x="432" y="378"/>
                  </a:lnTo>
                  <a:lnTo>
                    <a:pt x="453" y="364"/>
                  </a:lnTo>
                  <a:lnTo>
                    <a:pt x="473" y="349"/>
                  </a:lnTo>
                  <a:lnTo>
                    <a:pt x="492" y="334"/>
                  </a:lnTo>
                  <a:lnTo>
                    <a:pt x="490" y="327"/>
                  </a:lnTo>
                  <a:lnTo>
                    <a:pt x="483" y="308"/>
                  </a:lnTo>
                  <a:lnTo>
                    <a:pt x="475" y="287"/>
                  </a:lnTo>
                  <a:lnTo>
                    <a:pt x="468" y="268"/>
                  </a:lnTo>
                  <a:lnTo>
                    <a:pt x="468" y="251"/>
                  </a:lnTo>
                  <a:lnTo>
                    <a:pt x="470" y="228"/>
                  </a:lnTo>
                  <a:lnTo>
                    <a:pt x="470" y="202"/>
                  </a:lnTo>
                  <a:lnTo>
                    <a:pt x="462" y="174"/>
                  </a:lnTo>
                  <a:lnTo>
                    <a:pt x="451" y="138"/>
                  </a:lnTo>
                  <a:lnTo>
                    <a:pt x="449" y="94"/>
                  </a:lnTo>
                  <a:lnTo>
                    <a:pt x="451" y="47"/>
                  </a:lnTo>
                  <a:lnTo>
                    <a:pt x="453" y="0"/>
                  </a:lnTo>
                  <a:lnTo>
                    <a:pt x="458" y="6"/>
                  </a:lnTo>
                  <a:lnTo>
                    <a:pt x="468" y="26"/>
                  </a:lnTo>
                  <a:lnTo>
                    <a:pt x="479" y="51"/>
                  </a:lnTo>
                  <a:lnTo>
                    <a:pt x="485" y="81"/>
                  </a:lnTo>
                  <a:lnTo>
                    <a:pt x="490" y="98"/>
                  </a:lnTo>
                  <a:lnTo>
                    <a:pt x="500" y="115"/>
                  </a:lnTo>
                  <a:lnTo>
                    <a:pt x="511" y="134"/>
                  </a:lnTo>
                  <a:lnTo>
                    <a:pt x="526" y="153"/>
                  </a:lnTo>
                  <a:lnTo>
                    <a:pt x="539" y="172"/>
                  </a:lnTo>
                  <a:lnTo>
                    <a:pt x="549" y="187"/>
                  </a:lnTo>
                  <a:lnTo>
                    <a:pt x="560" y="202"/>
                  </a:lnTo>
                  <a:lnTo>
                    <a:pt x="564" y="215"/>
                  </a:lnTo>
                  <a:lnTo>
                    <a:pt x="570" y="234"/>
                  </a:lnTo>
                  <a:lnTo>
                    <a:pt x="581" y="255"/>
                  </a:lnTo>
                  <a:lnTo>
                    <a:pt x="596" y="276"/>
                  </a:lnTo>
                  <a:lnTo>
                    <a:pt x="613" y="304"/>
                  </a:lnTo>
                  <a:lnTo>
                    <a:pt x="619" y="296"/>
                  </a:lnTo>
                  <a:lnTo>
                    <a:pt x="634" y="276"/>
                  </a:lnTo>
                  <a:lnTo>
                    <a:pt x="653" y="249"/>
                  </a:lnTo>
                  <a:lnTo>
                    <a:pt x="668" y="219"/>
                  </a:lnTo>
                  <a:lnTo>
                    <a:pt x="668" y="200"/>
                  </a:lnTo>
                  <a:lnTo>
                    <a:pt x="670" y="151"/>
                  </a:lnTo>
                  <a:lnTo>
                    <a:pt x="683" y="87"/>
                  </a:lnTo>
                  <a:lnTo>
                    <a:pt x="715" y="28"/>
                  </a:lnTo>
                  <a:lnTo>
                    <a:pt x="717" y="36"/>
                  </a:lnTo>
                  <a:lnTo>
                    <a:pt x="721" y="60"/>
                  </a:lnTo>
                  <a:lnTo>
                    <a:pt x="730" y="94"/>
                  </a:lnTo>
                  <a:lnTo>
                    <a:pt x="741" y="132"/>
                  </a:lnTo>
                  <a:lnTo>
                    <a:pt x="753" y="174"/>
                  </a:lnTo>
                  <a:lnTo>
                    <a:pt x="766" y="213"/>
                  </a:lnTo>
                  <a:lnTo>
                    <a:pt x="779" y="245"/>
                  </a:lnTo>
                  <a:lnTo>
                    <a:pt x="792" y="264"/>
                  </a:lnTo>
                  <a:lnTo>
                    <a:pt x="804" y="281"/>
                  </a:lnTo>
                  <a:lnTo>
                    <a:pt x="817" y="300"/>
                  </a:lnTo>
                  <a:lnTo>
                    <a:pt x="828" y="325"/>
                  </a:lnTo>
                  <a:lnTo>
                    <a:pt x="838" y="353"/>
                  </a:lnTo>
                  <a:lnTo>
                    <a:pt x="849" y="383"/>
                  </a:lnTo>
                  <a:lnTo>
                    <a:pt x="858" y="415"/>
                  </a:lnTo>
                  <a:lnTo>
                    <a:pt x="864" y="449"/>
                  </a:lnTo>
                  <a:lnTo>
                    <a:pt x="866" y="483"/>
                  </a:lnTo>
                  <a:lnTo>
                    <a:pt x="870" y="487"/>
                  </a:lnTo>
                  <a:lnTo>
                    <a:pt x="879" y="495"/>
                  </a:lnTo>
                  <a:lnTo>
                    <a:pt x="892" y="508"/>
                  </a:lnTo>
                  <a:lnTo>
                    <a:pt x="907" y="525"/>
                  </a:lnTo>
                  <a:lnTo>
                    <a:pt x="924" y="544"/>
                  </a:lnTo>
                  <a:lnTo>
                    <a:pt x="941" y="566"/>
                  </a:lnTo>
                  <a:lnTo>
                    <a:pt x="955" y="585"/>
                  </a:lnTo>
                  <a:lnTo>
                    <a:pt x="966" y="602"/>
                  </a:lnTo>
                  <a:lnTo>
                    <a:pt x="975" y="617"/>
                  </a:lnTo>
                  <a:lnTo>
                    <a:pt x="983" y="632"/>
                  </a:lnTo>
                  <a:lnTo>
                    <a:pt x="992" y="644"/>
                  </a:lnTo>
                  <a:lnTo>
                    <a:pt x="1002" y="657"/>
                  </a:lnTo>
                  <a:lnTo>
                    <a:pt x="1015" y="670"/>
                  </a:lnTo>
                  <a:lnTo>
                    <a:pt x="1028" y="687"/>
                  </a:lnTo>
                  <a:lnTo>
                    <a:pt x="1045" y="704"/>
                  </a:lnTo>
                  <a:lnTo>
                    <a:pt x="1066" y="723"/>
                  </a:lnTo>
                  <a:lnTo>
                    <a:pt x="1087" y="742"/>
                  </a:lnTo>
                  <a:lnTo>
                    <a:pt x="1102" y="757"/>
                  </a:lnTo>
                  <a:lnTo>
                    <a:pt x="1115" y="770"/>
                  </a:lnTo>
                  <a:lnTo>
                    <a:pt x="1126" y="778"/>
                  </a:lnTo>
                  <a:lnTo>
                    <a:pt x="1132" y="783"/>
                  </a:lnTo>
                  <a:lnTo>
                    <a:pt x="1136" y="787"/>
                  </a:lnTo>
                  <a:lnTo>
                    <a:pt x="1138" y="789"/>
                  </a:lnTo>
                  <a:lnTo>
                    <a:pt x="1138" y="789"/>
                  </a:lnTo>
                  <a:lnTo>
                    <a:pt x="1117" y="802"/>
                  </a:lnTo>
                  <a:lnTo>
                    <a:pt x="1213" y="889"/>
                  </a:lnTo>
                  <a:lnTo>
                    <a:pt x="1221" y="891"/>
                  </a:lnTo>
                  <a:lnTo>
                    <a:pt x="1240" y="899"/>
                  </a:lnTo>
                  <a:lnTo>
                    <a:pt x="1272" y="912"/>
                  </a:lnTo>
                  <a:lnTo>
                    <a:pt x="1309" y="927"/>
                  </a:lnTo>
                  <a:lnTo>
                    <a:pt x="1347" y="942"/>
                  </a:lnTo>
                  <a:lnTo>
                    <a:pt x="1385" y="959"/>
                  </a:lnTo>
                  <a:lnTo>
                    <a:pt x="1417" y="974"/>
                  </a:lnTo>
                  <a:lnTo>
                    <a:pt x="1443" y="987"/>
                  </a:lnTo>
                  <a:lnTo>
                    <a:pt x="1453" y="1006"/>
                  </a:lnTo>
                  <a:lnTo>
                    <a:pt x="1466" y="1031"/>
                  </a:lnTo>
                  <a:lnTo>
                    <a:pt x="1479" y="1061"/>
                  </a:lnTo>
                  <a:lnTo>
                    <a:pt x="1489" y="1095"/>
                  </a:lnTo>
                  <a:lnTo>
                    <a:pt x="1498" y="1131"/>
                  </a:lnTo>
                  <a:lnTo>
                    <a:pt x="1502" y="1170"/>
                  </a:lnTo>
                  <a:lnTo>
                    <a:pt x="1502" y="1206"/>
                  </a:lnTo>
                  <a:lnTo>
                    <a:pt x="1498" y="1242"/>
                  </a:lnTo>
                  <a:lnTo>
                    <a:pt x="1474" y="1267"/>
                  </a:lnTo>
                  <a:lnTo>
                    <a:pt x="1487" y="1278"/>
                  </a:lnTo>
                  <a:lnTo>
                    <a:pt x="1500" y="1289"/>
                  </a:lnTo>
                  <a:lnTo>
                    <a:pt x="1513" y="1299"/>
                  </a:lnTo>
                  <a:lnTo>
                    <a:pt x="1523" y="1310"/>
                  </a:lnTo>
                  <a:lnTo>
                    <a:pt x="1534" y="1320"/>
                  </a:lnTo>
                  <a:lnTo>
                    <a:pt x="1543" y="1329"/>
                  </a:lnTo>
                  <a:lnTo>
                    <a:pt x="1547" y="1333"/>
                  </a:lnTo>
                  <a:lnTo>
                    <a:pt x="1549" y="1335"/>
                  </a:lnTo>
                  <a:lnTo>
                    <a:pt x="1491" y="1363"/>
                  </a:lnTo>
                  <a:lnTo>
                    <a:pt x="1528" y="1399"/>
                  </a:lnTo>
                  <a:lnTo>
                    <a:pt x="1489" y="1389"/>
                  </a:lnTo>
                  <a:lnTo>
                    <a:pt x="1494" y="1463"/>
                  </a:lnTo>
                  <a:lnTo>
                    <a:pt x="1483" y="1548"/>
                  </a:lnTo>
                  <a:lnTo>
                    <a:pt x="1468" y="1616"/>
                  </a:lnTo>
                  <a:lnTo>
                    <a:pt x="1462" y="1644"/>
                  </a:lnTo>
                  <a:lnTo>
                    <a:pt x="1457" y="1680"/>
                  </a:lnTo>
                  <a:lnTo>
                    <a:pt x="1453" y="1722"/>
                  </a:lnTo>
                  <a:lnTo>
                    <a:pt x="1443" y="1767"/>
                  </a:lnTo>
                  <a:lnTo>
                    <a:pt x="1434" y="1814"/>
                  </a:lnTo>
                  <a:lnTo>
                    <a:pt x="1421" y="1858"/>
                  </a:lnTo>
                  <a:lnTo>
                    <a:pt x="1411" y="1895"/>
                  </a:lnTo>
                  <a:lnTo>
                    <a:pt x="1398" y="1924"/>
                  </a:lnTo>
                  <a:lnTo>
                    <a:pt x="1387" y="1941"/>
                  </a:lnTo>
                  <a:lnTo>
                    <a:pt x="1392" y="1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87640" y="3548160"/>
              <a:ext cx="3522960" cy="2874960"/>
            </a:xfrm>
            <a:custGeom>
              <a:avLst/>
              <a:gdLst/>
              <a:ahLst/>
              <a:rect l="l" t="t" r="r" b="b"/>
              <a:pathLst>
                <a:path w="2219" h="1811">
                  <a:moveTo>
                    <a:pt x="111" y="255"/>
                  </a:moveTo>
                  <a:lnTo>
                    <a:pt x="87" y="280"/>
                  </a:lnTo>
                  <a:lnTo>
                    <a:pt x="100" y="291"/>
                  </a:lnTo>
                  <a:lnTo>
                    <a:pt x="113" y="302"/>
                  </a:lnTo>
                  <a:lnTo>
                    <a:pt x="126" y="312"/>
                  </a:lnTo>
                  <a:lnTo>
                    <a:pt x="136" y="323"/>
                  </a:lnTo>
                  <a:lnTo>
                    <a:pt x="147" y="333"/>
                  </a:lnTo>
                  <a:lnTo>
                    <a:pt x="156" y="342"/>
                  </a:lnTo>
                  <a:lnTo>
                    <a:pt x="160" y="346"/>
                  </a:lnTo>
                  <a:lnTo>
                    <a:pt x="162" y="348"/>
                  </a:lnTo>
                  <a:lnTo>
                    <a:pt x="104" y="376"/>
                  </a:lnTo>
                  <a:lnTo>
                    <a:pt x="141" y="412"/>
                  </a:lnTo>
                  <a:lnTo>
                    <a:pt x="102" y="402"/>
                  </a:lnTo>
                  <a:lnTo>
                    <a:pt x="107" y="476"/>
                  </a:lnTo>
                  <a:lnTo>
                    <a:pt x="96" y="561"/>
                  </a:lnTo>
                  <a:lnTo>
                    <a:pt x="81" y="629"/>
                  </a:lnTo>
                  <a:lnTo>
                    <a:pt x="75" y="657"/>
                  </a:lnTo>
                  <a:lnTo>
                    <a:pt x="70" y="693"/>
                  </a:lnTo>
                  <a:lnTo>
                    <a:pt x="66" y="735"/>
                  </a:lnTo>
                  <a:lnTo>
                    <a:pt x="56" y="780"/>
                  </a:lnTo>
                  <a:lnTo>
                    <a:pt x="47" y="827"/>
                  </a:lnTo>
                  <a:lnTo>
                    <a:pt x="34" y="871"/>
                  </a:lnTo>
                  <a:lnTo>
                    <a:pt x="24" y="908"/>
                  </a:lnTo>
                  <a:lnTo>
                    <a:pt x="11" y="937"/>
                  </a:lnTo>
                  <a:lnTo>
                    <a:pt x="0" y="954"/>
                  </a:lnTo>
                  <a:lnTo>
                    <a:pt x="5" y="978"/>
                  </a:lnTo>
                  <a:lnTo>
                    <a:pt x="39" y="1005"/>
                  </a:lnTo>
                  <a:lnTo>
                    <a:pt x="41" y="978"/>
                  </a:lnTo>
                  <a:lnTo>
                    <a:pt x="64" y="995"/>
                  </a:lnTo>
                  <a:lnTo>
                    <a:pt x="83" y="1003"/>
                  </a:lnTo>
                  <a:lnTo>
                    <a:pt x="96" y="1003"/>
                  </a:lnTo>
                  <a:lnTo>
                    <a:pt x="100" y="1003"/>
                  </a:lnTo>
                  <a:lnTo>
                    <a:pt x="85" y="976"/>
                  </a:lnTo>
                  <a:lnTo>
                    <a:pt x="139" y="1001"/>
                  </a:lnTo>
                  <a:lnTo>
                    <a:pt x="136" y="978"/>
                  </a:lnTo>
                  <a:lnTo>
                    <a:pt x="164" y="976"/>
                  </a:lnTo>
                  <a:lnTo>
                    <a:pt x="194" y="971"/>
                  </a:lnTo>
                  <a:lnTo>
                    <a:pt x="224" y="965"/>
                  </a:lnTo>
                  <a:lnTo>
                    <a:pt x="251" y="957"/>
                  </a:lnTo>
                  <a:lnTo>
                    <a:pt x="275" y="948"/>
                  </a:lnTo>
                  <a:lnTo>
                    <a:pt x="294" y="942"/>
                  </a:lnTo>
                  <a:lnTo>
                    <a:pt x="307" y="937"/>
                  </a:lnTo>
                  <a:lnTo>
                    <a:pt x="311" y="935"/>
                  </a:lnTo>
                  <a:lnTo>
                    <a:pt x="317" y="950"/>
                  </a:lnTo>
                  <a:lnTo>
                    <a:pt x="355" y="922"/>
                  </a:lnTo>
                  <a:lnTo>
                    <a:pt x="355" y="933"/>
                  </a:lnTo>
                  <a:lnTo>
                    <a:pt x="404" y="912"/>
                  </a:lnTo>
                  <a:lnTo>
                    <a:pt x="409" y="929"/>
                  </a:lnTo>
                  <a:lnTo>
                    <a:pt x="475" y="888"/>
                  </a:lnTo>
                  <a:lnTo>
                    <a:pt x="494" y="884"/>
                  </a:lnTo>
                  <a:lnTo>
                    <a:pt x="511" y="876"/>
                  </a:lnTo>
                  <a:lnTo>
                    <a:pt x="528" y="869"/>
                  </a:lnTo>
                  <a:lnTo>
                    <a:pt x="543" y="861"/>
                  </a:lnTo>
                  <a:lnTo>
                    <a:pt x="555" y="854"/>
                  </a:lnTo>
                  <a:lnTo>
                    <a:pt x="564" y="848"/>
                  </a:lnTo>
                  <a:lnTo>
                    <a:pt x="570" y="844"/>
                  </a:lnTo>
                  <a:lnTo>
                    <a:pt x="572" y="842"/>
                  </a:lnTo>
                  <a:lnTo>
                    <a:pt x="579" y="899"/>
                  </a:lnTo>
                  <a:lnTo>
                    <a:pt x="596" y="901"/>
                  </a:lnTo>
                  <a:lnTo>
                    <a:pt x="611" y="903"/>
                  </a:lnTo>
                  <a:lnTo>
                    <a:pt x="628" y="903"/>
                  </a:lnTo>
                  <a:lnTo>
                    <a:pt x="643" y="901"/>
                  </a:lnTo>
                  <a:lnTo>
                    <a:pt x="653" y="901"/>
                  </a:lnTo>
                  <a:lnTo>
                    <a:pt x="664" y="901"/>
                  </a:lnTo>
                  <a:lnTo>
                    <a:pt x="670" y="899"/>
                  </a:lnTo>
                  <a:lnTo>
                    <a:pt x="672" y="899"/>
                  </a:lnTo>
                  <a:lnTo>
                    <a:pt x="692" y="933"/>
                  </a:lnTo>
                  <a:lnTo>
                    <a:pt x="711" y="963"/>
                  </a:lnTo>
                  <a:lnTo>
                    <a:pt x="730" y="988"/>
                  </a:lnTo>
                  <a:lnTo>
                    <a:pt x="751" y="1010"/>
                  </a:lnTo>
                  <a:lnTo>
                    <a:pt x="772" y="1029"/>
                  </a:lnTo>
                  <a:lnTo>
                    <a:pt x="794" y="1048"/>
                  </a:lnTo>
                  <a:lnTo>
                    <a:pt x="815" y="1063"/>
                  </a:lnTo>
                  <a:lnTo>
                    <a:pt x="836" y="1078"/>
                  </a:lnTo>
                  <a:lnTo>
                    <a:pt x="855" y="1093"/>
                  </a:lnTo>
                  <a:lnTo>
                    <a:pt x="875" y="1110"/>
                  </a:lnTo>
                  <a:lnTo>
                    <a:pt x="889" y="1129"/>
                  </a:lnTo>
                  <a:lnTo>
                    <a:pt x="904" y="1146"/>
                  </a:lnTo>
                  <a:lnTo>
                    <a:pt x="917" y="1163"/>
                  </a:lnTo>
                  <a:lnTo>
                    <a:pt x="930" y="1180"/>
                  </a:lnTo>
                  <a:lnTo>
                    <a:pt x="943" y="1195"/>
                  </a:lnTo>
                  <a:lnTo>
                    <a:pt x="957" y="1207"/>
                  </a:lnTo>
                  <a:lnTo>
                    <a:pt x="972" y="1218"/>
                  </a:lnTo>
                  <a:lnTo>
                    <a:pt x="989" y="1224"/>
                  </a:lnTo>
                  <a:lnTo>
                    <a:pt x="1006" y="1231"/>
                  </a:lnTo>
                  <a:lnTo>
                    <a:pt x="1023" y="1235"/>
                  </a:lnTo>
                  <a:lnTo>
                    <a:pt x="1038" y="1237"/>
                  </a:lnTo>
                  <a:lnTo>
                    <a:pt x="1053" y="1241"/>
                  </a:lnTo>
                  <a:lnTo>
                    <a:pt x="1066" y="1248"/>
                  </a:lnTo>
                  <a:lnTo>
                    <a:pt x="1077" y="1256"/>
                  </a:lnTo>
                  <a:lnTo>
                    <a:pt x="1089" y="1271"/>
                  </a:lnTo>
                  <a:lnTo>
                    <a:pt x="1104" y="1292"/>
                  </a:lnTo>
                  <a:lnTo>
                    <a:pt x="1123" y="1320"/>
                  </a:lnTo>
                  <a:lnTo>
                    <a:pt x="1145" y="1348"/>
                  </a:lnTo>
                  <a:lnTo>
                    <a:pt x="1162" y="1375"/>
                  </a:lnTo>
                  <a:lnTo>
                    <a:pt x="1179" y="1399"/>
                  </a:lnTo>
                  <a:lnTo>
                    <a:pt x="1189" y="1416"/>
                  </a:lnTo>
                  <a:lnTo>
                    <a:pt x="1194" y="1422"/>
                  </a:lnTo>
                  <a:lnTo>
                    <a:pt x="1043" y="1628"/>
                  </a:lnTo>
                  <a:lnTo>
                    <a:pt x="1019" y="1624"/>
                  </a:lnTo>
                  <a:lnTo>
                    <a:pt x="1009" y="1626"/>
                  </a:lnTo>
                  <a:lnTo>
                    <a:pt x="1000" y="1631"/>
                  </a:lnTo>
                  <a:lnTo>
                    <a:pt x="983" y="1631"/>
                  </a:lnTo>
                  <a:lnTo>
                    <a:pt x="970" y="1628"/>
                  </a:lnTo>
                  <a:lnTo>
                    <a:pt x="957" y="1628"/>
                  </a:lnTo>
                  <a:lnTo>
                    <a:pt x="945" y="1633"/>
                  </a:lnTo>
                  <a:lnTo>
                    <a:pt x="932" y="1637"/>
                  </a:lnTo>
                  <a:lnTo>
                    <a:pt x="919" y="1643"/>
                  </a:lnTo>
                  <a:lnTo>
                    <a:pt x="911" y="1650"/>
                  </a:lnTo>
                  <a:lnTo>
                    <a:pt x="902" y="1658"/>
                  </a:lnTo>
                  <a:lnTo>
                    <a:pt x="898" y="1669"/>
                  </a:lnTo>
                  <a:lnTo>
                    <a:pt x="894" y="1688"/>
                  </a:lnTo>
                  <a:lnTo>
                    <a:pt x="885" y="1701"/>
                  </a:lnTo>
                  <a:lnTo>
                    <a:pt x="879" y="1711"/>
                  </a:lnTo>
                  <a:lnTo>
                    <a:pt x="877" y="1713"/>
                  </a:lnTo>
                  <a:lnTo>
                    <a:pt x="913" y="1748"/>
                  </a:lnTo>
                  <a:lnTo>
                    <a:pt x="913" y="1762"/>
                  </a:lnTo>
                  <a:lnTo>
                    <a:pt x="1019" y="1762"/>
                  </a:lnTo>
                  <a:lnTo>
                    <a:pt x="1043" y="1758"/>
                  </a:lnTo>
                  <a:lnTo>
                    <a:pt x="1060" y="1752"/>
                  </a:lnTo>
                  <a:lnTo>
                    <a:pt x="1074" y="1748"/>
                  </a:lnTo>
                  <a:lnTo>
                    <a:pt x="1087" y="1741"/>
                  </a:lnTo>
                  <a:lnTo>
                    <a:pt x="1098" y="1735"/>
                  </a:lnTo>
                  <a:lnTo>
                    <a:pt x="1108" y="1724"/>
                  </a:lnTo>
                  <a:lnTo>
                    <a:pt x="1121" y="1711"/>
                  </a:lnTo>
                  <a:lnTo>
                    <a:pt x="1136" y="1696"/>
                  </a:lnTo>
                  <a:lnTo>
                    <a:pt x="1160" y="1671"/>
                  </a:lnTo>
                  <a:lnTo>
                    <a:pt x="1194" y="1635"/>
                  </a:lnTo>
                  <a:lnTo>
                    <a:pt x="1232" y="1592"/>
                  </a:lnTo>
                  <a:lnTo>
                    <a:pt x="1272" y="1548"/>
                  </a:lnTo>
                  <a:lnTo>
                    <a:pt x="1311" y="1503"/>
                  </a:lnTo>
                  <a:lnTo>
                    <a:pt x="1345" y="1467"/>
                  </a:lnTo>
                  <a:lnTo>
                    <a:pt x="1366" y="1441"/>
                  </a:lnTo>
                  <a:lnTo>
                    <a:pt x="1374" y="1433"/>
                  </a:lnTo>
                  <a:lnTo>
                    <a:pt x="1408" y="1412"/>
                  </a:lnTo>
                  <a:lnTo>
                    <a:pt x="1425" y="1388"/>
                  </a:lnTo>
                  <a:lnTo>
                    <a:pt x="1434" y="1371"/>
                  </a:lnTo>
                  <a:lnTo>
                    <a:pt x="1436" y="1363"/>
                  </a:lnTo>
                  <a:lnTo>
                    <a:pt x="1398" y="1326"/>
                  </a:lnTo>
                  <a:lnTo>
                    <a:pt x="1362" y="1295"/>
                  </a:lnTo>
                  <a:lnTo>
                    <a:pt x="1328" y="1263"/>
                  </a:lnTo>
                  <a:lnTo>
                    <a:pt x="1296" y="1231"/>
                  </a:lnTo>
                  <a:lnTo>
                    <a:pt x="1270" y="1203"/>
                  </a:lnTo>
                  <a:lnTo>
                    <a:pt x="1251" y="1176"/>
                  </a:lnTo>
                  <a:lnTo>
                    <a:pt x="1236" y="1148"/>
                  </a:lnTo>
                  <a:lnTo>
                    <a:pt x="1232" y="1120"/>
                  </a:lnTo>
                  <a:lnTo>
                    <a:pt x="1236" y="1071"/>
                  </a:lnTo>
                  <a:lnTo>
                    <a:pt x="1247" y="1037"/>
                  </a:lnTo>
                  <a:lnTo>
                    <a:pt x="1257" y="1014"/>
                  </a:lnTo>
                  <a:lnTo>
                    <a:pt x="1262" y="1008"/>
                  </a:lnTo>
                  <a:lnTo>
                    <a:pt x="1289" y="1044"/>
                  </a:lnTo>
                  <a:lnTo>
                    <a:pt x="1325" y="1071"/>
                  </a:lnTo>
                  <a:lnTo>
                    <a:pt x="1366" y="1093"/>
                  </a:lnTo>
                  <a:lnTo>
                    <a:pt x="1406" y="1110"/>
                  </a:lnTo>
                  <a:lnTo>
                    <a:pt x="1445" y="1122"/>
                  </a:lnTo>
                  <a:lnTo>
                    <a:pt x="1476" y="1135"/>
                  </a:lnTo>
                  <a:lnTo>
                    <a:pt x="1500" y="1148"/>
                  </a:lnTo>
                  <a:lnTo>
                    <a:pt x="1511" y="1161"/>
                  </a:lnTo>
                  <a:lnTo>
                    <a:pt x="1519" y="1190"/>
                  </a:lnTo>
                  <a:lnTo>
                    <a:pt x="1525" y="1222"/>
                  </a:lnTo>
                  <a:lnTo>
                    <a:pt x="1528" y="1246"/>
                  </a:lnTo>
                  <a:lnTo>
                    <a:pt x="1530" y="1254"/>
                  </a:lnTo>
                  <a:lnTo>
                    <a:pt x="1542" y="1248"/>
                  </a:lnTo>
                  <a:lnTo>
                    <a:pt x="1551" y="1284"/>
                  </a:lnTo>
                  <a:lnTo>
                    <a:pt x="1559" y="1312"/>
                  </a:lnTo>
                  <a:lnTo>
                    <a:pt x="1566" y="1326"/>
                  </a:lnTo>
                  <a:lnTo>
                    <a:pt x="1568" y="1333"/>
                  </a:lnTo>
                  <a:lnTo>
                    <a:pt x="1579" y="1329"/>
                  </a:lnTo>
                  <a:lnTo>
                    <a:pt x="1587" y="1354"/>
                  </a:lnTo>
                  <a:lnTo>
                    <a:pt x="1598" y="1380"/>
                  </a:lnTo>
                  <a:lnTo>
                    <a:pt x="1610" y="1401"/>
                  </a:lnTo>
                  <a:lnTo>
                    <a:pt x="1625" y="1422"/>
                  </a:lnTo>
                  <a:lnTo>
                    <a:pt x="1638" y="1439"/>
                  </a:lnTo>
                  <a:lnTo>
                    <a:pt x="1649" y="1452"/>
                  </a:lnTo>
                  <a:lnTo>
                    <a:pt x="1657" y="1460"/>
                  </a:lnTo>
                  <a:lnTo>
                    <a:pt x="1659" y="1463"/>
                  </a:lnTo>
                  <a:lnTo>
                    <a:pt x="1674" y="1439"/>
                  </a:lnTo>
                  <a:lnTo>
                    <a:pt x="1700" y="1486"/>
                  </a:lnTo>
                  <a:lnTo>
                    <a:pt x="1717" y="1509"/>
                  </a:lnTo>
                  <a:lnTo>
                    <a:pt x="1730" y="1518"/>
                  </a:lnTo>
                  <a:lnTo>
                    <a:pt x="1734" y="1518"/>
                  </a:lnTo>
                  <a:lnTo>
                    <a:pt x="1742" y="1501"/>
                  </a:lnTo>
                  <a:lnTo>
                    <a:pt x="1774" y="1537"/>
                  </a:lnTo>
                  <a:lnTo>
                    <a:pt x="1785" y="1522"/>
                  </a:lnTo>
                  <a:lnTo>
                    <a:pt x="1813" y="1543"/>
                  </a:lnTo>
                  <a:lnTo>
                    <a:pt x="1836" y="1556"/>
                  </a:lnTo>
                  <a:lnTo>
                    <a:pt x="1855" y="1565"/>
                  </a:lnTo>
                  <a:lnTo>
                    <a:pt x="1872" y="1567"/>
                  </a:lnTo>
                  <a:lnTo>
                    <a:pt x="1885" y="1565"/>
                  </a:lnTo>
                  <a:lnTo>
                    <a:pt x="1896" y="1563"/>
                  </a:lnTo>
                  <a:lnTo>
                    <a:pt x="1904" y="1556"/>
                  </a:lnTo>
                  <a:lnTo>
                    <a:pt x="1910" y="1552"/>
                  </a:lnTo>
                  <a:lnTo>
                    <a:pt x="1896" y="1533"/>
                  </a:lnTo>
                  <a:lnTo>
                    <a:pt x="1883" y="1516"/>
                  </a:lnTo>
                  <a:lnTo>
                    <a:pt x="1872" y="1499"/>
                  </a:lnTo>
                  <a:lnTo>
                    <a:pt x="1866" y="1482"/>
                  </a:lnTo>
                  <a:lnTo>
                    <a:pt x="1859" y="1465"/>
                  </a:lnTo>
                  <a:lnTo>
                    <a:pt x="1857" y="1446"/>
                  </a:lnTo>
                  <a:lnTo>
                    <a:pt x="1857" y="1426"/>
                  </a:lnTo>
                  <a:lnTo>
                    <a:pt x="1859" y="1407"/>
                  </a:lnTo>
                  <a:lnTo>
                    <a:pt x="1861" y="1367"/>
                  </a:lnTo>
                  <a:lnTo>
                    <a:pt x="1853" y="1329"/>
                  </a:lnTo>
                  <a:lnTo>
                    <a:pt x="1842" y="1301"/>
                  </a:lnTo>
                  <a:lnTo>
                    <a:pt x="1838" y="1290"/>
                  </a:lnTo>
                  <a:lnTo>
                    <a:pt x="2008" y="1414"/>
                  </a:lnTo>
                  <a:lnTo>
                    <a:pt x="2036" y="1460"/>
                  </a:lnTo>
                  <a:lnTo>
                    <a:pt x="2051" y="1507"/>
                  </a:lnTo>
                  <a:lnTo>
                    <a:pt x="2057" y="1548"/>
                  </a:lnTo>
                  <a:lnTo>
                    <a:pt x="2059" y="1584"/>
                  </a:lnTo>
                  <a:lnTo>
                    <a:pt x="2055" y="1614"/>
                  </a:lnTo>
                  <a:lnTo>
                    <a:pt x="2051" y="1637"/>
                  </a:lnTo>
                  <a:lnTo>
                    <a:pt x="2047" y="1652"/>
                  </a:lnTo>
                  <a:lnTo>
                    <a:pt x="2044" y="1656"/>
                  </a:lnTo>
                  <a:lnTo>
                    <a:pt x="2017" y="1667"/>
                  </a:lnTo>
                  <a:lnTo>
                    <a:pt x="1995" y="1682"/>
                  </a:lnTo>
                  <a:lnTo>
                    <a:pt x="1978" y="1699"/>
                  </a:lnTo>
                  <a:lnTo>
                    <a:pt x="1968" y="1718"/>
                  </a:lnTo>
                  <a:lnTo>
                    <a:pt x="1959" y="1737"/>
                  </a:lnTo>
                  <a:lnTo>
                    <a:pt x="1955" y="1752"/>
                  </a:lnTo>
                  <a:lnTo>
                    <a:pt x="1951" y="1762"/>
                  </a:lnTo>
                  <a:lnTo>
                    <a:pt x="1951" y="1767"/>
                  </a:lnTo>
                  <a:lnTo>
                    <a:pt x="1968" y="1771"/>
                  </a:lnTo>
                  <a:lnTo>
                    <a:pt x="1983" y="1775"/>
                  </a:lnTo>
                  <a:lnTo>
                    <a:pt x="1995" y="1775"/>
                  </a:lnTo>
                  <a:lnTo>
                    <a:pt x="2006" y="1775"/>
                  </a:lnTo>
                  <a:lnTo>
                    <a:pt x="2015" y="1773"/>
                  </a:lnTo>
                  <a:lnTo>
                    <a:pt x="2021" y="1773"/>
                  </a:lnTo>
                  <a:lnTo>
                    <a:pt x="2023" y="1771"/>
                  </a:lnTo>
                  <a:lnTo>
                    <a:pt x="2025" y="1771"/>
                  </a:lnTo>
                  <a:lnTo>
                    <a:pt x="2044" y="1773"/>
                  </a:lnTo>
                  <a:lnTo>
                    <a:pt x="2051" y="1788"/>
                  </a:lnTo>
                  <a:lnTo>
                    <a:pt x="2057" y="1796"/>
                  </a:lnTo>
                  <a:lnTo>
                    <a:pt x="2068" y="1805"/>
                  </a:lnTo>
                  <a:lnTo>
                    <a:pt x="2076" y="1809"/>
                  </a:lnTo>
                  <a:lnTo>
                    <a:pt x="2087" y="1811"/>
                  </a:lnTo>
                  <a:lnTo>
                    <a:pt x="2098" y="1811"/>
                  </a:lnTo>
                  <a:lnTo>
                    <a:pt x="2106" y="1809"/>
                  </a:lnTo>
                  <a:lnTo>
                    <a:pt x="2115" y="1807"/>
                  </a:lnTo>
                  <a:lnTo>
                    <a:pt x="2127" y="1803"/>
                  </a:lnTo>
                  <a:lnTo>
                    <a:pt x="2140" y="1801"/>
                  </a:lnTo>
                  <a:lnTo>
                    <a:pt x="2149" y="1799"/>
                  </a:lnTo>
                  <a:lnTo>
                    <a:pt x="2153" y="1799"/>
                  </a:lnTo>
                  <a:lnTo>
                    <a:pt x="2178" y="1743"/>
                  </a:lnTo>
                  <a:lnTo>
                    <a:pt x="2202" y="1716"/>
                  </a:lnTo>
                  <a:lnTo>
                    <a:pt x="2215" y="1688"/>
                  </a:lnTo>
                  <a:lnTo>
                    <a:pt x="2219" y="1658"/>
                  </a:lnTo>
                  <a:lnTo>
                    <a:pt x="2217" y="1631"/>
                  </a:lnTo>
                  <a:lnTo>
                    <a:pt x="2212" y="1603"/>
                  </a:lnTo>
                  <a:lnTo>
                    <a:pt x="2204" y="1577"/>
                  </a:lnTo>
                  <a:lnTo>
                    <a:pt x="2198" y="1552"/>
                  </a:lnTo>
                  <a:lnTo>
                    <a:pt x="2193" y="1531"/>
                  </a:lnTo>
                  <a:lnTo>
                    <a:pt x="2187" y="1507"/>
                  </a:lnTo>
                  <a:lnTo>
                    <a:pt x="2176" y="1477"/>
                  </a:lnTo>
                  <a:lnTo>
                    <a:pt x="2159" y="1443"/>
                  </a:lnTo>
                  <a:lnTo>
                    <a:pt x="2140" y="1407"/>
                  </a:lnTo>
                  <a:lnTo>
                    <a:pt x="2123" y="1375"/>
                  </a:lnTo>
                  <a:lnTo>
                    <a:pt x="2106" y="1344"/>
                  </a:lnTo>
                  <a:lnTo>
                    <a:pt x="2093" y="1318"/>
                  </a:lnTo>
                  <a:lnTo>
                    <a:pt x="2087" y="1299"/>
                  </a:lnTo>
                  <a:lnTo>
                    <a:pt x="2083" y="1265"/>
                  </a:lnTo>
                  <a:lnTo>
                    <a:pt x="2078" y="1229"/>
                  </a:lnTo>
                  <a:lnTo>
                    <a:pt x="2076" y="1201"/>
                  </a:lnTo>
                  <a:lnTo>
                    <a:pt x="2074" y="1188"/>
                  </a:lnTo>
                  <a:lnTo>
                    <a:pt x="2015" y="1122"/>
                  </a:lnTo>
                  <a:lnTo>
                    <a:pt x="1953" y="1114"/>
                  </a:lnTo>
                  <a:lnTo>
                    <a:pt x="1921" y="1095"/>
                  </a:lnTo>
                  <a:lnTo>
                    <a:pt x="1893" y="1076"/>
                  </a:lnTo>
                  <a:lnTo>
                    <a:pt x="1870" y="1059"/>
                  </a:lnTo>
                  <a:lnTo>
                    <a:pt x="1851" y="1042"/>
                  </a:lnTo>
                  <a:lnTo>
                    <a:pt x="1834" y="1029"/>
                  </a:lnTo>
                  <a:lnTo>
                    <a:pt x="1823" y="1018"/>
                  </a:lnTo>
                  <a:lnTo>
                    <a:pt x="1817" y="1012"/>
                  </a:lnTo>
                  <a:lnTo>
                    <a:pt x="1815" y="1010"/>
                  </a:lnTo>
                  <a:lnTo>
                    <a:pt x="1804" y="957"/>
                  </a:lnTo>
                  <a:lnTo>
                    <a:pt x="1793" y="908"/>
                  </a:lnTo>
                  <a:lnTo>
                    <a:pt x="1783" y="861"/>
                  </a:lnTo>
                  <a:lnTo>
                    <a:pt x="1770" y="818"/>
                  </a:lnTo>
                  <a:lnTo>
                    <a:pt x="1762" y="784"/>
                  </a:lnTo>
                  <a:lnTo>
                    <a:pt x="1753" y="757"/>
                  </a:lnTo>
                  <a:lnTo>
                    <a:pt x="1747" y="740"/>
                  </a:lnTo>
                  <a:lnTo>
                    <a:pt x="1744" y="733"/>
                  </a:lnTo>
                  <a:lnTo>
                    <a:pt x="1706" y="621"/>
                  </a:lnTo>
                  <a:lnTo>
                    <a:pt x="1727" y="614"/>
                  </a:lnTo>
                  <a:lnTo>
                    <a:pt x="1655" y="491"/>
                  </a:lnTo>
                  <a:lnTo>
                    <a:pt x="1653" y="487"/>
                  </a:lnTo>
                  <a:lnTo>
                    <a:pt x="1649" y="474"/>
                  </a:lnTo>
                  <a:lnTo>
                    <a:pt x="1640" y="455"/>
                  </a:lnTo>
                  <a:lnTo>
                    <a:pt x="1623" y="427"/>
                  </a:lnTo>
                  <a:lnTo>
                    <a:pt x="1589" y="376"/>
                  </a:lnTo>
                  <a:lnTo>
                    <a:pt x="1555" y="325"/>
                  </a:lnTo>
                  <a:lnTo>
                    <a:pt x="1519" y="278"/>
                  </a:lnTo>
                  <a:lnTo>
                    <a:pt x="1483" y="238"/>
                  </a:lnTo>
                  <a:lnTo>
                    <a:pt x="1442" y="202"/>
                  </a:lnTo>
                  <a:lnTo>
                    <a:pt x="1400" y="176"/>
                  </a:lnTo>
                  <a:lnTo>
                    <a:pt x="1355" y="159"/>
                  </a:lnTo>
                  <a:lnTo>
                    <a:pt x="1308" y="153"/>
                  </a:lnTo>
                  <a:lnTo>
                    <a:pt x="1287" y="144"/>
                  </a:lnTo>
                  <a:lnTo>
                    <a:pt x="1264" y="136"/>
                  </a:lnTo>
                  <a:lnTo>
                    <a:pt x="1240" y="129"/>
                  </a:lnTo>
                  <a:lnTo>
                    <a:pt x="1215" y="121"/>
                  </a:lnTo>
                  <a:lnTo>
                    <a:pt x="1189" y="114"/>
                  </a:lnTo>
                  <a:lnTo>
                    <a:pt x="1164" y="108"/>
                  </a:lnTo>
                  <a:lnTo>
                    <a:pt x="1138" y="102"/>
                  </a:lnTo>
                  <a:lnTo>
                    <a:pt x="1113" y="97"/>
                  </a:lnTo>
                  <a:lnTo>
                    <a:pt x="1087" y="93"/>
                  </a:lnTo>
                  <a:lnTo>
                    <a:pt x="1062" y="89"/>
                  </a:lnTo>
                  <a:lnTo>
                    <a:pt x="1040" y="85"/>
                  </a:lnTo>
                  <a:lnTo>
                    <a:pt x="1017" y="83"/>
                  </a:lnTo>
                  <a:lnTo>
                    <a:pt x="998" y="80"/>
                  </a:lnTo>
                  <a:lnTo>
                    <a:pt x="979" y="78"/>
                  </a:lnTo>
                  <a:lnTo>
                    <a:pt x="964" y="78"/>
                  </a:lnTo>
                  <a:lnTo>
                    <a:pt x="951" y="78"/>
                  </a:lnTo>
                  <a:lnTo>
                    <a:pt x="926" y="78"/>
                  </a:lnTo>
                  <a:lnTo>
                    <a:pt x="896" y="76"/>
                  </a:lnTo>
                  <a:lnTo>
                    <a:pt x="864" y="74"/>
                  </a:lnTo>
                  <a:lnTo>
                    <a:pt x="834" y="70"/>
                  </a:lnTo>
                  <a:lnTo>
                    <a:pt x="806" y="66"/>
                  </a:lnTo>
                  <a:lnTo>
                    <a:pt x="785" y="63"/>
                  </a:lnTo>
                  <a:lnTo>
                    <a:pt x="770" y="59"/>
                  </a:lnTo>
                  <a:lnTo>
                    <a:pt x="764" y="59"/>
                  </a:lnTo>
                  <a:lnTo>
                    <a:pt x="702" y="63"/>
                  </a:lnTo>
                  <a:lnTo>
                    <a:pt x="711" y="42"/>
                  </a:lnTo>
                  <a:lnTo>
                    <a:pt x="592" y="53"/>
                  </a:lnTo>
                  <a:lnTo>
                    <a:pt x="464" y="49"/>
                  </a:lnTo>
                  <a:lnTo>
                    <a:pt x="485" y="34"/>
                  </a:lnTo>
                  <a:lnTo>
                    <a:pt x="366" y="38"/>
                  </a:lnTo>
                  <a:lnTo>
                    <a:pt x="321" y="32"/>
                  </a:lnTo>
                  <a:lnTo>
                    <a:pt x="277" y="27"/>
                  </a:lnTo>
                  <a:lnTo>
                    <a:pt x="230" y="25"/>
                  </a:lnTo>
                  <a:lnTo>
                    <a:pt x="187" y="23"/>
                  </a:lnTo>
                  <a:lnTo>
                    <a:pt x="147" y="19"/>
                  </a:lnTo>
                  <a:lnTo>
                    <a:pt x="111" y="15"/>
                  </a:lnTo>
                  <a:lnTo>
                    <a:pt x="79" y="8"/>
                  </a:lnTo>
                  <a:lnTo>
                    <a:pt x="56" y="0"/>
                  </a:lnTo>
                  <a:lnTo>
                    <a:pt x="66" y="19"/>
                  </a:lnTo>
                  <a:lnTo>
                    <a:pt x="79" y="44"/>
                  </a:lnTo>
                  <a:lnTo>
                    <a:pt x="92" y="74"/>
                  </a:lnTo>
                  <a:lnTo>
                    <a:pt x="102" y="108"/>
                  </a:lnTo>
                  <a:lnTo>
                    <a:pt x="111" y="144"/>
                  </a:lnTo>
                  <a:lnTo>
                    <a:pt x="115" y="183"/>
                  </a:lnTo>
                  <a:lnTo>
                    <a:pt x="115" y="219"/>
                  </a:lnTo>
                  <a:lnTo>
                    <a:pt x="111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65200" y="2760840"/>
              <a:ext cx="84240" cy="7776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30" y="15"/>
                  </a:moveTo>
                  <a:lnTo>
                    <a:pt x="25" y="13"/>
                  </a:lnTo>
                  <a:lnTo>
                    <a:pt x="17" y="9"/>
                  </a:lnTo>
                  <a:lnTo>
                    <a:pt x="8" y="4"/>
                  </a:lnTo>
                  <a:lnTo>
                    <a:pt x="6" y="0"/>
                  </a:lnTo>
                  <a:lnTo>
                    <a:pt x="0" y="13"/>
                  </a:lnTo>
                  <a:lnTo>
                    <a:pt x="2" y="30"/>
                  </a:lnTo>
                  <a:lnTo>
                    <a:pt x="8" y="43"/>
                  </a:lnTo>
                  <a:lnTo>
                    <a:pt x="11" y="49"/>
                  </a:lnTo>
                  <a:lnTo>
                    <a:pt x="53" y="36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03520" y="3027240"/>
              <a:ext cx="101520" cy="141480"/>
            </a:xfrm>
            <a:custGeom>
              <a:avLst/>
              <a:gdLst/>
              <a:ahLst/>
              <a:rect l="l" t="t" r="r" b="b"/>
              <a:pathLst>
                <a:path w="64" h="89">
                  <a:moveTo>
                    <a:pt x="9" y="2"/>
                  </a:moveTo>
                  <a:lnTo>
                    <a:pt x="30" y="0"/>
                  </a:lnTo>
                  <a:lnTo>
                    <a:pt x="47" y="2"/>
                  </a:lnTo>
                  <a:lnTo>
                    <a:pt x="60" y="4"/>
                  </a:lnTo>
                  <a:lnTo>
                    <a:pt x="64" y="7"/>
                  </a:lnTo>
                  <a:lnTo>
                    <a:pt x="62" y="24"/>
                  </a:lnTo>
                  <a:lnTo>
                    <a:pt x="55" y="41"/>
                  </a:lnTo>
                  <a:lnTo>
                    <a:pt x="49" y="58"/>
                  </a:lnTo>
                  <a:lnTo>
                    <a:pt x="45" y="72"/>
                  </a:lnTo>
                  <a:lnTo>
                    <a:pt x="49" y="83"/>
                  </a:lnTo>
                  <a:lnTo>
                    <a:pt x="55" y="87"/>
                  </a:lnTo>
                  <a:lnTo>
                    <a:pt x="55" y="89"/>
                  </a:lnTo>
                  <a:lnTo>
                    <a:pt x="45" y="85"/>
                  </a:lnTo>
                  <a:lnTo>
                    <a:pt x="28" y="79"/>
                  </a:lnTo>
                  <a:lnTo>
                    <a:pt x="13" y="68"/>
                  </a:lnTo>
                  <a:lnTo>
                    <a:pt x="4" y="55"/>
                  </a:lnTo>
                  <a:lnTo>
                    <a:pt x="0" y="38"/>
                  </a:lnTo>
                  <a:lnTo>
                    <a:pt x="0" y="24"/>
                  </a:lnTo>
                  <a:lnTo>
                    <a:pt x="4" y="11"/>
                  </a:lnTo>
                  <a:lnTo>
                    <a:pt x="6" y="4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13040" y="3182760"/>
              <a:ext cx="506160" cy="408240"/>
            </a:xfrm>
            <a:custGeom>
              <a:avLst/>
              <a:gdLst/>
              <a:ahLst/>
              <a:rect l="l" t="t" r="r" b="b"/>
              <a:pathLst>
                <a:path w="319" h="257">
                  <a:moveTo>
                    <a:pt x="138" y="64"/>
                  </a:moveTo>
                  <a:lnTo>
                    <a:pt x="147" y="62"/>
                  </a:lnTo>
                  <a:lnTo>
                    <a:pt x="155" y="60"/>
                  </a:lnTo>
                  <a:lnTo>
                    <a:pt x="166" y="57"/>
                  </a:lnTo>
                  <a:lnTo>
                    <a:pt x="176" y="53"/>
                  </a:lnTo>
                  <a:lnTo>
                    <a:pt x="187" y="49"/>
                  </a:lnTo>
                  <a:lnTo>
                    <a:pt x="198" y="43"/>
                  </a:lnTo>
                  <a:lnTo>
                    <a:pt x="208" y="36"/>
                  </a:lnTo>
                  <a:lnTo>
                    <a:pt x="221" y="28"/>
                  </a:lnTo>
                  <a:lnTo>
                    <a:pt x="236" y="19"/>
                  </a:lnTo>
                  <a:lnTo>
                    <a:pt x="249" y="13"/>
                  </a:lnTo>
                  <a:lnTo>
                    <a:pt x="262" y="8"/>
                  </a:lnTo>
                  <a:lnTo>
                    <a:pt x="274" y="4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5" y="6"/>
                  </a:lnTo>
                  <a:lnTo>
                    <a:pt x="319" y="15"/>
                  </a:lnTo>
                  <a:lnTo>
                    <a:pt x="317" y="23"/>
                  </a:lnTo>
                  <a:lnTo>
                    <a:pt x="302" y="28"/>
                  </a:lnTo>
                  <a:lnTo>
                    <a:pt x="289" y="30"/>
                  </a:lnTo>
                  <a:lnTo>
                    <a:pt x="274" y="36"/>
                  </a:lnTo>
                  <a:lnTo>
                    <a:pt x="257" y="47"/>
                  </a:lnTo>
                  <a:lnTo>
                    <a:pt x="238" y="57"/>
                  </a:lnTo>
                  <a:lnTo>
                    <a:pt x="219" y="70"/>
                  </a:lnTo>
                  <a:lnTo>
                    <a:pt x="202" y="85"/>
                  </a:lnTo>
                  <a:lnTo>
                    <a:pt x="187" y="98"/>
                  </a:lnTo>
                  <a:lnTo>
                    <a:pt x="174" y="113"/>
                  </a:lnTo>
                  <a:lnTo>
                    <a:pt x="164" y="123"/>
                  </a:lnTo>
                  <a:lnTo>
                    <a:pt x="151" y="132"/>
                  </a:lnTo>
                  <a:lnTo>
                    <a:pt x="136" y="138"/>
                  </a:lnTo>
                  <a:lnTo>
                    <a:pt x="121" y="142"/>
                  </a:lnTo>
                  <a:lnTo>
                    <a:pt x="106" y="145"/>
                  </a:lnTo>
                  <a:lnTo>
                    <a:pt x="93" y="147"/>
                  </a:lnTo>
                  <a:lnTo>
                    <a:pt x="85" y="149"/>
                  </a:lnTo>
                  <a:lnTo>
                    <a:pt x="83" y="149"/>
                  </a:lnTo>
                  <a:lnTo>
                    <a:pt x="68" y="179"/>
                  </a:lnTo>
                  <a:lnTo>
                    <a:pt x="51" y="213"/>
                  </a:lnTo>
                  <a:lnTo>
                    <a:pt x="36" y="242"/>
                  </a:lnTo>
                  <a:lnTo>
                    <a:pt x="23" y="253"/>
                  </a:lnTo>
                  <a:lnTo>
                    <a:pt x="13" y="255"/>
                  </a:lnTo>
                  <a:lnTo>
                    <a:pt x="4" y="257"/>
                  </a:lnTo>
                  <a:lnTo>
                    <a:pt x="0" y="257"/>
                  </a:lnTo>
                  <a:lnTo>
                    <a:pt x="6" y="247"/>
                  </a:lnTo>
                  <a:lnTo>
                    <a:pt x="28" y="206"/>
                  </a:lnTo>
                  <a:lnTo>
                    <a:pt x="32" y="172"/>
                  </a:lnTo>
                  <a:lnTo>
                    <a:pt x="32" y="149"/>
                  </a:lnTo>
                  <a:lnTo>
                    <a:pt x="38" y="136"/>
                  </a:lnTo>
                  <a:lnTo>
                    <a:pt x="49" y="132"/>
                  </a:lnTo>
                  <a:lnTo>
                    <a:pt x="64" y="121"/>
                  </a:lnTo>
                  <a:lnTo>
                    <a:pt x="79" y="111"/>
                  </a:lnTo>
                  <a:lnTo>
                    <a:pt x="96" y="98"/>
                  </a:lnTo>
                  <a:lnTo>
                    <a:pt x="113" y="85"/>
                  </a:lnTo>
                  <a:lnTo>
                    <a:pt x="125" y="74"/>
                  </a:lnTo>
                  <a:lnTo>
                    <a:pt x="134" y="66"/>
                  </a:lnTo>
                  <a:lnTo>
                    <a:pt x="138" y="64"/>
                  </a:lnTo>
                  <a:close/>
                </a:path>
              </a:pathLst>
            </a:custGeom>
            <a:gradFill rotWithShape="0">
              <a:gsLst>
                <a:gs pos="0">
                  <a:srgbClr val="fef4f4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47920" y="2595600"/>
              <a:ext cx="227160" cy="218880"/>
            </a:xfrm>
            <a:custGeom>
              <a:avLst/>
              <a:gdLst/>
              <a:ahLst/>
              <a:rect l="l" t="t" r="r" b="b"/>
              <a:pathLst>
                <a:path w="143" h="138">
                  <a:moveTo>
                    <a:pt x="70" y="2"/>
                  </a:moveTo>
                  <a:lnTo>
                    <a:pt x="34" y="0"/>
                  </a:lnTo>
                  <a:lnTo>
                    <a:pt x="0" y="36"/>
                  </a:lnTo>
                  <a:lnTo>
                    <a:pt x="53" y="57"/>
                  </a:lnTo>
                  <a:lnTo>
                    <a:pt x="39" y="62"/>
                  </a:lnTo>
                  <a:lnTo>
                    <a:pt x="66" y="79"/>
                  </a:lnTo>
                  <a:lnTo>
                    <a:pt x="53" y="91"/>
                  </a:lnTo>
                  <a:lnTo>
                    <a:pt x="83" y="136"/>
                  </a:lnTo>
                  <a:lnTo>
                    <a:pt x="143" y="138"/>
                  </a:lnTo>
                  <a:lnTo>
                    <a:pt x="124" y="106"/>
                  </a:lnTo>
                  <a:lnTo>
                    <a:pt x="113" y="79"/>
                  </a:lnTo>
                  <a:lnTo>
                    <a:pt x="109" y="57"/>
                  </a:lnTo>
                  <a:lnTo>
                    <a:pt x="107" y="51"/>
                  </a:lnTo>
                  <a:lnTo>
                    <a:pt x="79" y="38"/>
                  </a:lnTo>
                  <a:lnTo>
                    <a:pt x="88" y="4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75040" y="2733840"/>
              <a:ext cx="968040" cy="547560"/>
            </a:xfrm>
            <a:custGeom>
              <a:avLst/>
              <a:gdLst/>
              <a:ahLst/>
              <a:rect l="l" t="t" r="r" b="b"/>
              <a:pathLst>
                <a:path w="610" h="345">
                  <a:moveTo>
                    <a:pt x="157" y="60"/>
                  </a:moveTo>
                  <a:lnTo>
                    <a:pt x="143" y="70"/>
                  </a:lnTo>
                  <a:lnTo>
                    <a:pt x="121" y="83"/>
                  </a:lnTo>
                  <a:lnTo>
                    <a:pt x="96" y="94"/>
                  </a:lnTo>
                  <a:lnTo>
                    <a:pt x="68" y="104"/>
                  </a:lnTo>
                  <a:lnTo>
                    <a:pt x="43" y="115"/>
                  </a:lnTo>
                  <a:lnTo>
                    <a:pt x="21" y="124"/>
                  </a:lnTo>
                  <a:lnTo>
                    <a:pt x="6" y="128"/>
                  </a:lnTo>
                  <a:lnTo>
                    <a:pt x="0" y="130"/>
                  </a:lnTo>
                  <a:lnTo>
                    <a:pt x="0" y="136"/>
                  </a:lnTo>
                  <a:lnTo>
                    <a:pt x="4" y="151"/>
                  </a:lnTo>
                  <a:lnTo>
                    <a:pt x="11" y="170"/>
                  </a:lnTo>
                  <a:lnTo>
                    <a:pt x="26" y="181"/>
                  </a:lnTo>
                  <a:lnTo>
                    <a:pt x="36" y="187"/>
                  </a:lnTo>
                  <a:lnTo>
                    <a:pt x="53" y="196"/>
                  </a:lnTo>
                  <a:lnTo>
                    <a:pt x="72" y="204"/>
                  </a:lnTo>
                  <a:lnTo>
                    <a:pt x="91" y="215"/>
                  </a:lnTo>
                  <a:lnTo>
                    <a:pt x="111" y="226"/>
                  </a:lnTo>
                  <a:lnTo>
                    <a:pt x="128" y="234"/>
                  </a:lnTo>
                  <a:lnTo>
                    <a:pt x="143" y="240"/>
                  </a:lnTo>
                  <a:lnTo>
                    <a:pt x="149" y="243"/>
                  </a:lnTo>
                  <a:lnTo>
                    <a:pt x="162" y="243"/>
                  </a:lnTo>
                  <a:lnTo>
                    <a:pt x="183" y="240"/>
                  </a:lnTo>
                  <a:lnTo>
                    <a:pt x="200" y="238"/>
                  </a:lnTo>
                  <a:lnTo>
                    <a:pt x="208" y="236"/>
                  </a:lnTo>
                  <a:lnTo>
                    <a:pt x="268" y="200"/>
                  </a:lnTo>
                  <a:lnTo>
                    <a:pt x="281" y="206"/>
                  </a:lnTo>
                  <a:lnTo>
                    <a:pt x="294" y="213"/>
                  </a:lnTo>
                  <a:lnTo>
                    <a:pt x="308" y="219"/>
                  </a:lnTo>
                  <a:lnTo>
                    <a:pt x="323" y="223"/>
                  </a:lnTo>
                  <a:lnTo>
                    <a:pt x="336" y="228"/>
                  </a:lnTo>
                  <a:lnTo>
                    <a:pt x="347" y="232"/>
                  </a:lnTo>
                  <a:lnTo>
                    <a:pt x="353" y="234"/>
                  </a:lnTo>
                  <a:lnTo>
                    <a:pt x="355" y="234"/>
                  </a:lnTo>
                  <a:lnTo>
                    <a:pt x="330" y="338"/>
                  </a:lnTo>
                  <a:lnTo>
                    <a:pt x="347" y="330"/>
                  </a:lnTo>
                  <a:lnTo>
                    <a:pt x="374" y="328"/>
                  </a:lnTo>
                  <a:lnTo>
                    <a:pt x="404" y="328"/>
                  </a:lnTo>
                  <a:lnTo>
                    <a:pt x="438" y="332"/>
                  </a:lnTo>
                  <a:lnTo>
                    <a:pt x="468" y="336"/>
                  </a:lnTo>
                  <a:lnTo>
                    <a:pt x="493" y="340"/>
                  </a:lnTo>
                  <a:lnTo>
                    <a:pt x="513" y="343"/>
                  </a:lnTo>
                  <a:lnTo>
                    <a:pt x="519" y="345"/>
                  </a:lnTo>
                  <a:lnTo>
                    <a:pt x="523" y="319"/>
                  </a:lnTo>
                  <a:lnTo>
                    <a:pt x="521" y="296"/>
                  </a:lnTo>
                  <a:lnTo>
                    <a:pt x="519" y="277"/>
                  </a:lnTo>
                  <a:lnTo>
                    <a:pt x="517" y="268"/>
                  </a:lnTo>
                  <a:lnTo>
                    <a:pt x="530" y="266"/>
                  </a:lnTo>
                  <a:lnTo>
                    <a:pt x="540" y="266"/>
                  </a:lnTo>
                  <a:lnTo>
                    <a:pt x="551" y="268"/>
                  </a:lnTo>
                  <a:lnTo>
                    <a:pt x="562" y="268"/>
                  </a:lnTo>
                  <a:lnTo>
                    <a:pt x="570" y="270"/>
                  </a:lnTo>
                  <a:lnTo>
                    <a:pt x="576" y="272"/>
                  </a:lnTo>
                  <a:lnTo>
                    <a:pt x="581" y="274"/>
                  </a:lnTo>
                  <a:lnTo>
                    <a:pt x="583" y="274"/>
                  </a:lnTo>
                  <a:lnTo>
                    <a:pt x="562" y="257"/>
                  </a:lnTo>
                  <a:lnTo>
                    <a:pt x="545" y="247"/>
                  </a:lnTo>
                  <a:lnTo>
                    <a:pt x="532" y="243"/>
                  </a:lnTo>
                  <a:lnTo>
                    <a:pt x="528" y="240"/>
                  </a:lnTo>
                  <a:lnTo>
                    <a:pt x="542" y="238"/>
                  </a:lnTo>
                  <a:lnTo>
                    <a:pt x="555" y="236"/>
                  </a:lnTo>
                  <a:lnTo>
                    <a:pt x="570" y="238"/>
                  </a:lnTo>
                  <a:lnTo>
                    <a:pt x="583" y="238"/>
                  </a:lnTo>
                  <a:lnTo>
                    <a:pt x="593" y="240"/>
                  </a:lnTo>
                  <a:lnTo>
                    <a:pt x="602" y="240"/>
                  </a:lnTo>
                  <a:lnTo>
                    <a:pt x="608" y="243"/>
                  </a:lnTo>
                  <a:lnTo>
                    <a:pt x="610" y="243"/>
                  </a:lnTo>
                  <a:lnTo>
                    <a:pt x="602" y="236"/>
                  </a:lnTo>
                  <a:lnTo>
                    <a:pt x="591" y="228"/>
                  </a:lnTo>
                  <a:lnTo>
                    <a:pt x="581" y="221"/>
                  </a:lnTo>
                  <a:lnTo>
                    <a:pt x="570" y="215"/>
                  </a:lnTo>
                  <a:lnTo>
                    <a:pt x="559" y="211"/>
                  </a:lnTo>
                  <a:lnTo>
                    <a:pt x="553" y="206"/>
                  </a:lnTo>
                  <a:lnTo>
                    <a:pt x="547" y="202"/>
                  </a:lnTo>
                  <a:lnTo>
                    <a:pt x="545" y="202"/>
                  </a:lnTo>
                  <a:lnTo>
                    <a:pt x="566" y="198"/>
                  </a:lnTo>
                  <a:lnTo>
                    <a:pt x="583" y="200"/>
                  </a:lnTo>
                  <a:lnTo>
                    <a:pt x="593" y="202"/>
                  </a:lnTo>
                  <a:lnTo>
                    <a:pt x="598" y="204"/>
                  </a:lnTo>
                  <a:lnTo>
                    <a:pt x="549" y="166"/>
                  </a:lnTo>
                  <a:lnTo>
                    <a:pt x="496" y="151"/>
                  </a:lnTo>
                  <a:lnTo>
                    <a:pt x="521" y="145"/>
                  </a:lnTo>
                  <a:lnTo>
                    <a:pt x="538" y="143"/>
                  </a:lnTo>
                  <a:lnTo>
                    <a:pt x="551" y="145"/>
                  </a:lnTo>
                  <a:lnTo>
                    <a:pt x="555" y="147"/>
                  </a:lnTo>
                  <a:lnTo>
                    <a:pt x="532" y="124"/>
                  </a:lnTo>
                  <a:lnTo>
                    <a:pt x="513" y="111"/>
                  </a:lnTo>
                  <a:lnTo>
                    <a:pt x="498" y="104"/>
                  </a:lnTo>
                  <a:lnTo>
                    <a:pt x="493" y="102"/>
                  </a:lnTo>
                  <a:lnTo>
                    <a:pt x="485" y="81"/>
                  </a:lnTo>
                  <a:lnTo>
                    <a:pt x="472" y="60"/>
                  </a:lnTo>
                  <a:lnTo>
                    <a:pt x="457" y="43"/>
                  </a:lnTo>
                  <a:lnTo>
                    <a:pt x="442" y="28"/>
                  </a:lnTo>
                  <a:lnTo>
                    <a:pt x="430" y="17"/>
                  </a:lnTo>
                  <a:lnTo>
                    <a:pt x="417" y="7"/>
                  </a:lnTo>
                  <a:lnTo>
                    <a:pt x="408" y="2"/>
                  </a:lnTo>
                  <a:lnTo>
                    <a:pt x="406" y="0"/>
                  </a:lnTo>
                  <a:lnTo>
                    <a:pt x="402" y="32"/>
                  </a:lnTo>
                  <a:lnTo>
                    <a:pt x="396" y="60"/>
                  </a:lnTo>
                  <a:lnTo>
                    <a:pt x="389" y="81"/>
                  </a:lnTo>
                  <a:lnTo>
                    <a:pt x="387" y="87"/>
                  </a:lnTo>
                  <a:lnTo>
                    <a:pt x="387" y="89"/>
                  </a:lnTo>
                  <a:lnTo>
                    <a:pt x="389" y="92"/>
                  </a:lnTo>
                  <a:lnTo>
                    <a:pt x="385" y="92"/>
                  </a:lnTo>
                  <a:lnTo>
                    <a:pt x="376" y="87"/>
                  </a:lnTo>
                  <a:lnTo>
                    <a:pt x="366" y="83"/>
                  </a:lnTo>
                  <a:lnTo>
                    <a:pt x="359" y="87"/>
                  </a:lnTo>
                  <a:lnTo>
                    <a:pt x="357" y="94"/>
                  </a:lnTo>
                  <a:lnTo>
                    <a:pt x="355" y="98"/>
                  </a:lnTo>
                  <a:lnTo>
                    <a:pt x="332" y="96"/>
                  </a:lnTo>
                  <a:lnTo>
                    <a:pt x="308" y="96"/>
                  </a:lnTo>
                  <a:lnTo>
                    <a:pt x="287" y="94"/>
                  </a:lnTo>
                  <a:lnTo>
                    <a:pt x="270" y="94"/>
                  </a:lnTo>
                  <a:lnTo>
                    <a:pt x="255" y="92"/>
                  </a:lnTo>
                  <a:lnTo>
                    <a:pt x="245" y="92"/>
                  </a:lnTo>
                  <a:lnTo>
                    <a:pt x="236" y="92"/>
                  </a:lnTo>
                  <a:lnTo>
                    <a:pt x="234" y="92"/>
                  </a:lnTo>
                  <a:lnTo>
                    <a:pt x="221" y="87"/>
                  </a:lnTo>
                  <a:lnTo>
                    <a:pt x="208" y="83"/>
                  </a:lnTo>
                  <a:lnTo>
                    <a:pt x="196" y="79"/>
                  </a:lnTo>
                  <a:lnTo>
                    <a:pt x="183" y="72"/>
                  </a:lnTo>
                  <a:lnTo>
                    <a:pt x="172" y="68"/>
                  </a:lnTo>
                  <a:lnTo>
                    <a:pt x="166" y="64"/>
                  </a:lnTo>
                  <a:lnTo>
                    <a:pt x="160" y="62"/>
                  </a:lnTo>
                  <a:lnTo>
                    <a:pt x="157" y="60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76440" y="3287880"/>
              <a:ext cx="1668600" cy="3251160"/>
            </a:xfrm>
            <a:custGeom>
              <a:avLst/>
              <a:gdLst/>
              <a:ahLst/>
              <a:rect l="l" t="t" r="r" b="b"/>
              <a:pathLst>
                <a:path w="1051" h="2048">
                  <a:moveTo>
                    <a:pt x="889" y="1118"/>
                  </a:moveTo>
                  <a:lnTo>
                    <a:pt x="847" y="1201"/>
                  </a:lnTo>
                  <a:lnTo>
                    <a:pt x="879" y="1237"/>
                  </a:lnTo>
                  <a:lnTo>
                    <a:pt x="866" y="1295"/>
                  </a:lnTo>
                  <a:lnTo>
                    <a:pt x="868" y="1344"/>
                  </a:lnTo>
                  <a:lnTo>
                    <a:pt x="887" y="1448"/>
                  </a:lnTo>
                  <a:lnTo>
                    <a:pt x="902" y="1580"/>
                  </a:lnTo>
                  <a:lnTo>
                    <a:pt x="904" y="1595"/>
                  </a:lnTo>
                  <a:lnTo>
                    <a:pt x="908" y="1631"/>
                  </a:lnTo>
                  <a:lnTo>
                    <a:pt x="913" y="1684"/>
                  </a:lnTo>
                  <a:lnTo>
                    <a:pt x="913" y="1739"/>
                  </a:lnTo>
                  <a:lnTo>
                    <a:pt x="908" y="1748"/>
                  </a:lnTo>
                  <a:lnTo>
                    <a:pt x="900" y="1769"/>
                  </a:lnTo>
                  <a:lnTo>
                    <a:pt x="887" y="1799"/>
                  </a:lnTo>
                  <a:lnTo>
                    <a:pt x="872" y="1837"/>
                  </a:lnTo>
                  <a:lnTo>
                    <a:pt x="855" y="1875"/>
                  </a:lnTo>
                  <a:lnTo>
                    <a:pt x="840" y="1914"/>
                  </a:lnTo>
                  <a:lnTo>
                    <a:pt x="828" y="1948"/>
                  </a:lnTo>
                  <a:lnTo>
                    <a:pt x="819" y="1971"/>
                  </a:lnTo>
                  <a:lnTo>
                    <a:pt x="813" y="1986"/>
                  </a:lnTo>
                  <a:lnTo>
                    <a:pt x="808" y="1999"/>
                  </a:lnTo>
                  <a:lnTo>
                    <a:pt x="802" y="2011"/>
                  </a:lnTo>
                  <a:lnTo>
                    <a:pt x="794" y="2024"/>
                  </a:lnTo>
                  <a:lnTo>
                    <a:pt x="783" y="2033"/>
                  </a:lnTo>
                  <a:lnTo>
                    <a:pt x="768" y="2037"/>
                  </a:lnTo>
                  <a:lnTo>
                    <a:pt x="751" y="2035"/>
                  </a:lnTo>
                  <a:lnTo>
                    <a:pt x="728" y="2028"/>
                  </a:lnTo>
                  <a:lnTo>
                    <a:pt x="702" y="2048"/>
                  </a:lnTo>
                  <a:lnTo>
                    <a:pt x="679" y="2033"/>
                  </a:lnTo>
                  <a:lnTo>
                    <a:pt x="670" y="2035"/>
                  </a:lnTo>
                  <a:lnTo>
                    <a:pt x="653" y="2037"/>
                  </a:lnTo>
                  <a:lnTo>
                    <a:pt x="632" y="2033"/>
                  </a:lnTo>
                  <a:lnTo>
                    <a:pt x="619" y="2018"/>
                  </a:lnTo>
                  <a:lnTo>
                    <a:pt x="613" y="2020"/>
                  </a:lnTo>
                  <a:lnTo>
                    <a:pt x="596" y="2026"/>
                  </a:lnTo>
                  <a:lnTo>
                    <a:pt x="574" y="2028"/>
                  </a:lnTo>
                  <a:lnTo>
                    <a:pt x="557" y="2022"/>
                  </a:lnTo>
                  <a:lnTo>
                    <a:pt x="547" y="2011"/>
                  </a:lnTo>
                  <a:lnTo>
                    <a:pt x="545" y="2005"/>
                  </a:lnTo>
                  <a:lnTo>
                    <a:pt x="553" y="1997"/>
                  </a:lnTo>
                  <a:lnTo>
                    <a:pt x="577" y="1984"/>
                  </a:lnTo>
                  <a:lnTo>
                    <a:pt x="591" y="1975"/>
                  </a:lnTo>
                  <a:lnTo>
                    <a:pt x="604" y="1969"/>
                  </a:lnTo>
                  <a:lnTo>
                    <a:pt x="617" y="1960"/>
                  </a:lnTo>
                  <a:lnTo>
                    <a:pt x="630" y="1952"/>
                  </a:lnTo>
                  <a:lnTo>
                    <a:pt x="645" y="1946"/>
                  </a:lnTo>
                  <a:lnTo>
                    <a:pt x="662" y="1937"/>
                  </a:lnTo>
                  <a:lnTo>
                    <a:pt x="681" y="1931"/>
                  </a:lnTo>
                  <a:lnTo>
                    <a:pt x="706" y="1924"/>
                  </a:lnTo>
                  <a:lnTo>
                    <a:pt x="708" y="1918"/>
                  </a:lnTo>
                  <a:lnTo>
                    <a:pt x="717" y="1901"/>
                  </a:lnTo>
                  <a:lnTo>
                    <a:pt x="728" y="1877"/>
                  </a:lnTo>
                  <a:lnTo>
                    <a:pt x="740" y="1848"/>
                  </a:lnTo>
                  <a:lnTo>
                    <a:pt x="753" y="1814"/>
                  </a:lnTo>
                  <a:lnTo>
                    <a:pt x="768" y="1780"/>
                  </a:lnTo>
                  <a:lnTo>
                    <a:pt x="779" y="1750"/>
                  </a:lnTo>
                  <a:lnTo>
                    <a:pt x="789" y="1722"/>
                  </a:lnTo>
                  <a:lnTo>
                    <a:pt x="791" y="1695"/>
                  </a:lnTo>
                  <a:lnTo>
                    <a:pt x="785" y="1663"/>
                  </a:lnTo>
                  <a:lnTo>
                    <a:pt x="772" y="1627"/>
                  </a:lnTo>
                  <a:lnTo>
                    <a:pt x="753" y="1588"/>
                  </a:lnTo>
                  <a:lnTo>
                    <a:pt x="734" y="1548"/>
                  </a:lnTo>
                  <a:lnTo>
                    <a:pt x="713" y="1505"/>
                  </a:lnTo>
                  <a:lnTo>
                    <a:pt x="694" y="1463"/>
                  </a:lnTo>
                  <a:lnTo>
                    <a:pt x="679" y="1420"/>
                  </a:lnTo>
                  <a:lnTo>
                    <a:pt x="672" y="1444"/>
                  </a:lnTo>
                  <a:lnTo>
                    <a:pt x="657" y="1501"/>
                  </a:lnTo>
                  <a:lnTo>
                    <a:pt x="640" y="1571"/>
                  </a:lnTo>
                  <a:lnTo>
                    <a:pt x="628" y="1631"/>
                  </a:lnTo>
                  <a:lnTo>
                    <a:pt x="632" y="1737"/>
                  </a:lnTo>
                  <a:lnTo>
                    <a:pt x="630" y="1741"/>
                  </a:lnTo>
                  <a:lnTo>
                    <a:pt x="623" y="1752"/>
                  </a:lnTo>
                  <a:lnTo>
                    <a:pt x="615" y="1769"/>
                  </a:lnTo>
                  <a:lnTo>
                    <a:pt x="604" y="1788"/>
                  </a:lnTo>
                  <a:lnTo>
                    <a:pt x="591" y="1809"/>
                  </a:lnTo>
                  <a:lnTo>
                    <a:pt x="581" y="1831"/>
                  </a:lnTo>
                  <a:lnTo>
                    <a:pt x="570" y="1848"/>
                  </a:lnTo>
                  <a:lnTo>
                    <a:pt x="562" y="1860"/>
                  </a:lnTo>
                  <a:lnTo>
                    <a:pt x="553" y="1873"/>
                  </a:lnTo>
                  <a:lnTo>
                    <a:pt x="543" y="1886"/>
                  </a:lnTo>
                  <a:lnTo>
                    <a:pt x="530" y="1903"/>
                  </a:lnTo>
                  <a:lnTo>
                    <a:pt x="519" y="1918"/>
                  </a:lnTo>
                  <a:lnTo>
                    <a:pt x="509" y="1931"/>
                  </a:lnTo>
                  <a:lnTo>
                    <a:pt x="500" y="1943"/>
                  </a:lnTo>
                  <a:lnTo>
                    <a:pt x="494" y="1950"/>
                  </a:lnTo>
                  <a:lnTo>
                    <a:pt x="494" y="1952"/>
                  </a:lnTo>
                  <a:lnTo>
                    <a:pt x="474" y="1965"/>
                  </a:lnTo>
                  <a:lnTo>
                    <a:pt x="460" y="1965"/>
                  </a:lnTo>
                  <a:lnTo>
                    <a:pt x="451" y="1963"/>
                  </a:lnTo>
                  <a:lnTo>
                    <a:pt x="449" y="1960"/>
                  </a:lnTo>
                  <a:lnTo>
                    <a:pt x="449" y="1960"/>
                  </a:lnTo>
                  <a:lnTo>
                    <a:pt x="445" y="1963"/>
                  </a:lnTo>
                  <a:lnTo>
                    <a:pt x="440" y="1965"/>
                  </a:lnTo>
                  <a:lnTo>
                    <a:pt x="432" y="1969"/>
                  </a:lnTo>
                  <a:lnTo>
                    <a:pt x="423" y="1973"/>
                  </a:lnTo>
                  <a:lnTo>
                    <a:pt x="411" y="1975"/>
                  </a:lnTo>
                  <a:lnTo>
                    <a:pt x="398" y="1980"/>
                  </a:lnTo>
                  <a:lnTo>
                    <a:pt x="381" y="1982"/>
                  </a:lnTo>
                  <a:lnTo>
                    <a:pt x="362" y="1960"/>
                  </a:lnTo>
                  <a:lnTo>
                    <a:pt x="304" y="1967"/>
                  </a:lnTo>
                  <a:lnTo>
                    <a:pt x="298" y="1943"/>
                  </a:lnTo>
                  <a:lnTo>
                    <a:pt x="296" y="1946"/>
                  </a:lnTo>
                  <a:lnTo>
                    <a:pt x="292" y="1950"/>
                  </a:lnTo>
                  <a:lnTo>
                    <a:pt x="289" y="1948"/>
                  </a:lnTo>
                  <a:lnTo>
                    <a:pt x="289" y="1935"/>
                  </a:lnTo>
                  <a:lnTo>
                    <a:pt x="292" y="1924"/>
                  </a:lnTo>
                  <a:lnTo>
                    <a:pt x="298" y="1916"/>
                  </a:lnTo>
                  <a:lnTo>
                    <a:pt x="309" y="1907"/>
                  </a:lnTo>
                  <a:lnTo>
                    <a:pt x="323" y="1899"/>
                  </a:lnTo>
                  <a:lnTo>
                    <a:pt x="340" y="1892"/>
                  </a:lnTo>
                  <a:lnTo>
                    <a:pt x="362" y="1886"/>
                  </a:lnTo>
                  <a:lnTo>
                    <a:pt x="387" y="1882"/>
                  </a:lnTo>
                  <a:lnTo>
                    <a:pt x="419" y="1880"/>
                  </a:lnTo>
                  <a:lnTo>
                    <a:pt x="423" y="1875"/>
                  </a:lnTo>
                  <a:lnTo>
                    <a:pt x="436" y="1865"/>
                  </a:lnTo>
                  <a:lnTo>
                    <a:pt x="451" y="1850"/>
                  </a:lnTo>
                  <a:lnTo>
                    <a:pt x="472" y="1829"/>
                  </a:lnTo>
                  <a:lnTo>
                    <a:pt x="491" y="1805"/>
                  </a:lnTo>
                  <a:lnTo>
                    <a:pt x="511" y="1782"/>
                  </a:lnTo>
                  <a:lnTo>
                    <a:pt x="523" y="1756"/>
                  </a:lnTo>
                  <a:lnTo>
                    <a:pt x="532" y="1733"/>
                  </a:lnTo>
                  <a:lnTo>
                    <a:pt x="528" y="1710"/>
                  </a:lnTo>
                  <a:lnTo>
                    <a:pt x="519" y="1656"/>
                  </a:lnTo>
                  <a:lnTo>
                    <a:pt x="509" y="1588"/>
                  </a:lnTo>
                  <a:lnTo>
                    <a:pt x="506" y="1527"/>
                  </a:lnTo>
                  <a:lnTo>
                    <a:pt x="489" y="1533"/>
                  </a:lnTo>
                  <a:lnTo>
                    <a:pt x="487" y="1520"/>
                  </a:lnTo>
                  <a:lnTo>
                    <a:pt x="485" y="1488"/>
                  </a:lnTo>
                  <a:lnTo>
                    <a:pt x="483" y="1444"/>
                  </a:lnTo>
                  <a:lnTo>
                    <a:pt x="483" y="1393"/>
                  </a:lnTo>
                  <a:lnTo>
                    <a:pt x="472" y="1403"/>
                  </a:lnTo>
                  <a:lnTo>
                    <a:pt x="483" y="1291"/>
                  </a:lnTo>
                  <a:lnTo>
                    <a:pt x="440" y="1286"/>
                  </a:lnTo>
                  <a:lnTo>
                    <a:pt x="419" y="1195"/>
                  </a:lnTo>
                  <a:lnTo>
                    <a:pt x="409" y="1206"/>
                  </a:lnTo>
                  <a:lnTo>
                    <a:pt x="406" y="1191"/>
                  </a:lnTo>
                  <a:lnTo>
                    <a:pt x="400" y="1155"/>
                  </a:lnTo>
                  <a:lnTo>
                    <a:pt x="396" y="1108"/>
                  </a:lnTo>
                  <a:lnTo>
                    <a:pt x="394" y="1061"/>
                  </a:lnTo>
                  <a:lnTo>
                    <a:pt x="389" y="1057"/>
                  </a:lnTo>
                  <a:lnTo>
                    <a:pt x="379" y="1048"/>
                  </a:lnTo>
                  <a:lnTo>
                    <a:pt x="364" y="1031"/>
                  </a:lnTo>
                  <a:lnTo>
                    <a:pt x="345" y="1010"/>
                  </a:lnTo>
                  <a:lnTo>
                    <a:pt x="323" y="980"/>
                  </a:lnTo>
                  <a:lnTo>
                    <a:pt x="302" y="944"/>
                  </a:lnTo>
                  <a:lnTo>
                    <a:pt x="281" y="899"/>
                  </a:lnTo>
                  <a:lnTo>
                    <a:pt x="264" y="850"/>
                  </a:lnTo>
                  <a:lnTo>
                    <a:pt x="258" y="842"/>
                  </a:lnTo>
                  <a:lnTo>
                    <a:pt x="245" y="821"/>
                  </a:lnTo>
                  <a:lnTo>
                    <a:pt x="228" y="791"/>
                  </a:lnTo>
                  <a:lnTo>
                    <a:pt x="213" y="755"/>
                  </a:lnTo>
                  <a:lnTo>
                    <a:pt x="209" y="751"/>
                  </a:lnTo>
                  <a:lnTo>
                    <a:pt x="200" y="738"/>
                  </a:lnTo>
                  <a:lnTo>
                    <a:pt x="187" y="719"/>
                  </a:lnTo>
                  <a:lnTo>
                    <a:pt x="172" y="691"/>
                  </a:lnTo>
                  <a:lnTo>
                    <a:pt x="162" y="697"/>
                  </a:lnTo>
                  <a:lnTo>
                    <a:pt x="151" y="617"/>
                  </a:lnTo>
                  <a:lnTo>
                    <a:pt x="138" y="593"/>
                  </a:lnTo>
                  <a:lnTo>
                    <a:pt x="153" y="576"/>
                  </a:lnTo>
                  <a:lnTo>
                    <a:pt x="162" y="521"/>
                  </a:lnTo>
                  <a:lnTo>
                    <a:pt x="155" y="514"/>
                  </a:lnTo>
                  <a:lnTo>
                    <a:pt x="138" y="497"/>
                  </a:lnTo>
                  <a:lnTo>
                    <a:pt x="119" y="472"/>
                  </a:lnTo>
                  <a:lnTo>
                    <a:pt x="100" y="438"/>
                  </a:lnTo>
                  <a:lnTo>
                    <a:pt x="89" y="451"/>
                  </a:lnTo>
                  <a:lnTo>
                    <a:pt x="85" y="440"/>
                  </a:lnTo>
                  <a:lnTo>
                    <a:pt x="75" y="410"/>
                  </a:lnTo>
                  <a:lnTo>
                    <a:pt x="62" y="366"/>
                  </a:lnTo>
                  <a:lnTo>
                    <a:pt x="47" y="310"/>
                  </a:lnTo>
                  <a:lnTo>
                    <a:pt x="32" y="304"/>
                  </a:lnTo>
                  <a:lnTo>
                    <a:pt x="24" y="323"/>
                  </a:lnTo>
                  <a:lnTo>
                    <a:pt x="15" y="300"/>
                  </a:lnTo>
                  <a:lnTo>
                    <a:pt x="9" y="268"/>
                  </a:lnTo>
                  <a:lnTo>
                    <a:pt x="4" y="234"/>
                  </a:lnTo>
                  <a:lnTo>
                    <a:pt x="0" y="196"/>
                  </a:lnTo>
                  <a:lnTo>
                    <a:pt x="15" y="234"/>
                  </a:lnTo>
                  <a:lnTo>
                    <a:pt x="34" y="257"/>
                  </a:lnTo>
                  <a:lnTo>
                    <a:pt x="51" y="270"/>
                  </a:lnTo>
                  <a:lnTo>
                    <a:pt x="58" y="274"/>
                  </a:lnTo>
                  <a:lnTo>
                    <a:pt x="75" y="310"/>
                  </a:lnTo>
                  <a:lnTo>
                    <a:pt x="102" y="340"/>
                  </a:lnTo>
                  <a:lnTo>
                    <a:pt x="134" y="361"/>
                  </a:lnTo>
                  <a:lnTo>
                    <a:pt x="170" y="376"/>
                  </a:lnTo>
                  <a:lnTo>
                    <a:pt x="204" y="387"/>
                  </a:lnTo>
                  <a:lnTo>
                    <a:pt x="232" y="391"/>
                  </a:lnTo>
                  <a:lnTo>
                    <a:pt x="251" y="395"/>
                  </a:lnTo>
                  <a:lnTo>
                    <a:pt x="260" y="395"/>
                  </a:lnTo>
                  <a:lnTo>
                    <a:pt x="245" y="347"/>
                  </a:lnTo>
                  <a:lnTo>
                    <a:pt x="221" y="315"/>
                  </a:lnTo>
                  <a:lnTo>
                    <a:pt x="204" y="287"/>
                  </a:lnTo>
                  <a:lnTo>
                    <a:pt x="192" y="264"/>
                  </a:lnTo>
                  <a:lnTo>
                    <a:pt x="183" y="244"/>
                  </a:lnTo>
                  <a:lnTo>
                    <a:pt x="177" y="230"/>
                  </a:lnTo>
                  <a:lnTo>
                    <a:pt x="175" y="221"/>
                  </a:lnTo>
                  <a:lnTo>
                    <a:pt x="172" y="215"/>
                  </a:lnTo>
                  <a:lnTo>
                    <a:pt x="172" y="213"/>
                  </a:lnTo>
                  <a:lnTo>
                    <a:pt x="213" y="202"/>
                  </a:lnTo>
                  <a:lnTo>
                    <a:pt x="247" y="185"/>
                  </a:lnTo>
                  <a:lnTo>
                    <a:pt x="270" y="166"/>
                  </a:lnTo>
                  <a:lnTo>
                    <a:pt x="289" y="145"/>
                  </a:lnTo>
                  <a:lnTo>
                    <a:pt x="300" y="125"/>
                  </a:lnTo>
                  <a:lnTo>
                    <a:pt x="309" y="108"/>
                  </a:lnTo>
                  <a:lnTo>
                    <a:pt x="313" y="98"/>
                  </a:lnTo>
                  <a:lnTo>
                    <a:pt x="313" y="93"/>
                  </a:lnTo>
                  <a:lnTo>
                    <a:pt x="323" y="96"/>
                  </a:lnTo>
                  <a:lnTo>
                    <a:pt x="336" y="96"/>
                  </a:lnTo>
                  <a:lnTo>
                    <a:pt x="353" y="98"/>
                  </a:lnTo>
                  <a:lnTo>
                    <a:pt x="370" y="100"/>
                  </a:lnTo>
                  <a:lnTo>
                    <a:pt x="387" y="102"/>
                  </a:lnTo>
                  <a:lnTo>
                    <a:pt x="400" y="102"/>
                  </a:lnTo>
                  <a:lnTo>
                    <a:pt x="409" y="104"/>
                  </a:lnTo>
                  <a:lnTo>
                    <a:pt x="413" y="104"/>
                  </a:lnTo>
                  <a:lnTo>
                    <a:pt x="377" y="53"/>
                  </a:lnTo>
                  <a:lnTo>
                    <a:pt x="451" y="55"/>
                  </a:lnTo>
                  <a:lnTo>
                    <a:pt x="443" y="0"/>
                  </a:lnTo>
                  <a:lnTo>
                    <a:pt x="462" y="4"/>
                  </a:lnTo>
                  <a:lnTo>
                    <a:pt x="481" y="13"/>
                  </a:lnTo>
                  <a:lnTo>
                    <a:pt x="500" y="21"/>
                  </a:lnTo>
                  <a:lnTo>
                    <a:pt x="519" y="32"/>
                  </a:lnTo>
                  <a:lnTo>
                    <a:pt x="534" y="42"/>
                  </a:lnTo>
                  <a:lnTo>
                    <a:pt x="549" y="51"/>
                  </a:lnTo>
                  <a:lnTo>
                    <a:pt x="557" y="57"/>
                  </a:lnTo>
                  <a:lnTo>
                    <a:pt x="560" y="59"/>
                  </a:lnTo>
                  <a:lnTo>
                    <a:pt x="511" y="62"/>
                  </a:lnTo>
                  <a:lnTo>
                    <a:pt x="547" y="113"/>
                  </a:lnTo>
                  <a:lnTo>
                    <a:pt x="491" y="119"/>
                  </a:lnTo>
                  <a:lnTo>
                    <a:pt x="560" y="181"/>
                  </a:lnTo>
                  <a:lnTo>
                    <a:pt x="474" y="164"/>
                  </a:lnTo>
                  <a:lnTo>
                    <a:pt x="457" y="189"/>
                  </a:lnTo>
                  <a:lnTo>
                    <a:pt x="474" y="210"/>
                  </a:lnTo>
                  <a:lnTo>
                    <a:pt x="404" y="238"/>
                  </a:lnTo>
                  <a:lnTo>
                    <a:pt x="349" y="319"/>
                  </a:lnTo>
                  <a:lnTo>
                    <a:pt x="389" y="304"/>
                  </a:lnTo>
                  <a:lnTo>
                    <a:pt x="432" y="281"/>
                  </a:lnTo>
                  <a:lnTo>
                    <a:pt x="474" y="251"/>
                  </a:lnTo>
                  <a:lnTo>
                    <a:pt x="513" y="219"/>
                  </a:lnTo>
                  <a:lnTo>
                    <a:pt x="547" y="189"/>
                  </a:lnTo>
                  <a:lnTo>
                    <a:pt x="574" y="164"/>
                  </a:lnTo>
                  <a:lnTo>
                    <a:pt x="591" y="145"/>
                  </a:lnTo>
                  <a:lnTo>
                    <a:pt x="598" y="138"/>
                  </a:lnTo>
                  <a:lnTo>
                    <a:pt x="634" y="181"/>
                  </a:lnTo>
                  <a:lnTo>
                    <a:pt x="591" y="189"/>
                  </a:lnTo>
                  <a:lnTo>
                    <a:pt x="596" y="223"/>
                  </a:lnTo>
                  <a:lnTo>
                    <a:pt x="530" y="329"/>
                  </a:lnTo>
                  <a:lnTo>
                    <a:pt x="574" y="302"/>
                  </a:lnTo>
                  <a:lnTo>
                    <a:pt x="611" y="276"/>
                  </a:lnTo>
                  <a:lnTo>
                    <a:pt x="638" y="253"/>
                  </a:lnTo>
                  <a:lnTo>
                    <a:pt x="660" y="232"/>
                  </a:lnTo>
                  <a:lnTo>
                    <a:pt x="677" y="213"/>
                  </a:lnTo>
                  <a:lnTo>
                    <a:pt x="687" y="200"/>
                  </a:lnTo>
                  <a:lnTo>
                    <a:pt x="691" y="189"/>
                  </a:lnTo>
                  <a:lnTo>
                    <a:pt x="694" y="187"/>
                  </a:lnTo>
                  <a:lnTo>
                    <a:pt x="719" y="213"/>
                  </a:lnTo>
                  <a:lnTo>
                    <a:pt x="736" y="234"/>
                  </a:lnTo>
                  <a:lnTo>
                    <a:pt x="745" y="249"/>
                  </a:lnTo>
                  <a:lnTo>
                    <a:pt x="747" y="253"/>
                  </a:lnTo>
                  <a:lnTo>
                    <a:pt x="768" y="253"/>
                  </a:lnTo>
                  <a:lnTo>
                    <a:pt x="787" y="255"/>
                  </a:lnTo>
                  <a:lnTo>
                    <a:pt x="806" y="257"/>
                  </a:lnTo>
                  <a:lnTo>
                    <a:pt x="823" y="264"/>
                  </a:lnTo>
                  <a:lnTo>
                    <a:pt x="838" y="268"/>
                  </a:lnTo>
                  <a:lnTo>
                    <a:pt x="849" y="274"/>
                  </a:lnTo>
                  <a:lnTo>
                    <a:pt x="857" y="276"/>
                  </a:lnTo>
                  <a:lnTo>
                    <a:pt x="859" y="278"/>
                  </a:lnTo>
                  <a:lnTo>
                    <a:pt x="811" y="293"/>
                  </a:lnTo>
                  <a:lnTo>
                    <a:pt x="830" y="357"/>
                  </a:lnTo>
                  <a:lnTo>
                    <a:pt x="845" y="415"/>
                  </a:lnTo>
                  <a:lnTo>
                    <a:pt x="855" y="455"/>
                  </a:lnTo>
                  <a:lnTo>
                    <a:pt x="859" y="472"/>
                  </a:lnTo>
                  <a:lnTo>
                    <a:pt x="842" y="497"/>
                  </a:lnTo>
                  <a:lnTo>
                    <a:pt x="866" y="606"/>
                  </a:lnTo>
                  <a:lnTo>
                    <a:pt x="887" y="563"/>
                  </a:lnTo>
                  <a:lnTo>
                    <a:pt x="904" y="523"/>
                  </a:lnTo>
                  <a:lnTo>
                    <a:pt x="915" y="487"/>
                  </a:lnTo>
                  <a:lnTo>
                    <a:pt x="923" y="453"/>
                  </a:lnTo>
                  <a:lnTo>
                    <a:pt x="928" y="425"/>
                  </a:lnTo>
                  <a:lnTo>
                    <a:pt x="930" y="404"/>
                  </a:lnTo>
                  <a:lnTo>
                    <a:pt x="930" y="389"/>
                  </a:lnTo>
                  <a:lnTo>
                    <a:pt x="930" y="385"/>
                  </a:lnTo>
                  <a:lnTo>
                    <a:pt x="945" y="387"/>
                  </a:lnTo>
                  <a:lnTo>
                    <a:pt x="957" y="391"/>
                  </a:lnTo>
                  <a:lnTo>
                    <a:pt x="970" y="398"/>
                  </a:lnTo>
                  <a:lnTo>
                    <a:pt x="981" y="404"/>
                  </a:lnTo>
                  <a:lnTo>
                    <a:pt x="989" y="408"/>
                  </a:lnTo>
                  <a:lnTo>
                    <a:pt x="996" y="415"/>
                  </a:lnTo>
                  <a:lnTo>
                    <a:pt x="998" y="417"/>
                  </a:lnTo>
                  <a:lnTo>
                    <a:pt x="1000" y="419"/>
                  </a:lnTo>
                  <a:lnTo>
                    <a:pt x="976" y="444"/>
                  </a:lnTo>
                  <a:lnTo>
                    <a:pt x="989" y="455"/>
                  </a:lnTo>
                  <a:lnTo>
                    <a:pt x="1002" y="466"/>
                  </a:lnTo>
                  <a:lnTo>
                    <a:pt x="1015" y="476"/>
                  </a:lnTo>
                  <a:lnTo>
                    <a:pt x="1025" y="487"/>
                  </a:lnTo>
                  <a:lnTo>
                    <a:pt x="1036" y="497"/>
                  </a:lnTo>
                  <a:lnTo>
                    <a:pt x="1045" y="506"/>
                  </a:lnTo>
                  <a:lnTo>
                    <a:pt x="1049" y="510"/>
                  </a:lnTo>
                  <a:lnTo>
                    <a:pt x="1051" y="512"/>
                  </a:lnTo>
                  <a:lnTo>
                    <a:pt x="993" y="540"/>
                  </a:lnTo>
                  <a:lnTo>
                    <a:pt x="1030" y="576"/>
                  </a:lnTo>
                  <a:lnTo>
                    <a:pt x="991" y="566"/>
                  </a:lnTo>
                  <a:lnTo>
                    <a:pt x="996" y="640"/>
                  </a:lnTo>
                  <a:lnTo>
                    <a:pt x="985" y="725"/>
                  </a:lnTo>
                  <a:lnTo>
                    <a:pt x="970" y="793"/>
                  </a:lnTo>
                  <a:lnTo>
                    <a:pt x="964" y="821"/>
                  </a:lnTo>
                  <a:lnTo>
                    <a:pt x="959" y="857"/>
                  </a:lnTo>
                  <a:lnTo>
                    <a:pt x="955" y="899"/>
                  </a:lnTo>
                  <a:lnTo>
                    <a:pt x="945" y="944"/>
                  </a:lnTo>
                  <a:lnTo>
                    <a:pt x="936" y="991"/>
                  </a:lnTo>
                  <a:lnTo>
                    <a:pt x="923" y="1035"/>
                  </a:lnTo>
                  <a:lnTo>
                    <a:pt x="913" y="1072"/>
                  </a:lnTo>
                  <a:lnTo>
                    <a:pt x="900" y="1101"/>
                  </a:lnTo>
                  <a:lnTo>
                    <a:pt x="889" y="1118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87640" y="4289400"/>
              <a:ext cx="3495960" cy="2103480"/>
            </a:xfrm>
            <a:custGeom>
              <a:avLst/>
              <a:gdLst/>
              <a:ahLst/>
              <a:rect l="l" t="t" r="r" b="b"/>
              <a:pathLst>
                <a:path w="2202" h="1325">
                  <a:moveTo>
                    <a:pt x="0" y="487"/>
                  </a:moveTo>
                  <a:lnTo>
                    <a:pt x="36" y="500"/>
                  </a:lnTo>
                  <a:lnTo>
                    <a:pt x="45" y="485"/>
                  </a:lnTo>
                  <a:lnTo>
                    <a:pt x="62" y="502"/>
                  </a:lnTo>
                  <a:lnTo>
                    <a:pt x="70" y="502"/>
                  </a:lnTo>
                  <a:lnTo>
                    <a:pt x="75" y="498"/>
                  </a:lnTo>
                  <a:lnTo>
                    <a:pt x="77" y="494"/>
                  </a:lnTo>
                  <a:lnTo>
                    <a:pt x="94" y="498"/>
                  </a:lnTo>
                  <a:lnTo>
                    <a:pt x="124" y="507"/>
                  </a:lnTo>
                  <a:lnTo>
                    <a:pt x="143" y="500"/>
                  </a:lnTo>
                  <a:lnTo>
                    <a:pt x="168" y="498"/>
                  </a:lnTo>
                  <a:lnTo>
                    <a:pt x="198" y="492"/>
                  </a:lnTo>
                  <a:lnTo>
                    <a:pt x="228" y="483"/>
                  </a:lnTo>
                  <a:lnTo>
                    <a:pt x="256" y="472"/>
                  </a:lnTo>
                  <a:lnTo>
                    <a:pt x="281" y="464"/>
                  </a:lnTo>
                  <a:lnTo>
                    <a:pt x="302" y="455"/>
                  </a:lnTo>
                  <a:lnTo>
                    <a:pt x="317" y="449"/>
                  </a:lnTo>
                  <a:lnTo>
                    <a:pt x="321" y="447"/>
                  </a:lnTo>
                  <a:lnTo>
                    <a:pt x="332" y="453"/>
                  </a:lnTo>
                  <a:lnTo>
                    <a:pt x="370" y="428"/>
                  </a:lnTo>
                  <a:lnTo>
                    <a:pt x="366" y="441"/>
                  </a:lnTo>
                  <a:lnTo>
                    <a:pt x="413" y="419"/>
                  </a:lnTo>
                  <a:lnTo>
                    <a:pt x="428" y="428"/>
                  </a:lnTo>
                  <a:lnTo>
                    <a:pt x="492" y="390"/>
                  </a:lnTo>
                  <a:lnTo>
                    <a:pt x="504" y="392"/>
                  </a:lnTo>
                  <a:lnTo>
                    <a:pt x="517" y="392"/>
                  </a:lnTo>
                  <a:lnTo>
                    <a:pt x="532" y="387"/>
                  </a:lnTo>
                  <a:lnTo>
                    <a:pt x="547" y="383"/>
                  </a:lnTo>
                  <a:lnTo>
                    <a:pt x="560" y="377"/>
                  </a:lnTo>
                  <a:lnTo>
                    <a:pt x="570" y="370"/>
                  </a:lnTo>
                  <a:lnTo>
                    <a:pt x="579" y="366"/>
                  </a:lnTo>
                  <a:lnTo>
                    <a:pt x="581" y="364"/>
                  </a:lnTo>
                  <a:lnTo>
                    <a:pt x="592" y="419"/>
                  </a:lnTo>
                  <a:lnTo>
                    <a:pt x="615" y="424"/>
                  </a:lnTo>
                  <a:lnTo>
                    <a:pt x="636" y="424"/>
                  </a:lnTo>
                  <a:lnTo>
                    <a:pt x="655" y="421"/>
                  </a:lnTo>
                  <a:lnTo>
                    <a:pt x="670" y="419"/>
                  </a:lnTo>
                  <a:lnTo>
                    <a:pt x="685" y="415"/>
                  </a:lnTo>
                  <a:lnTo>
                    <a:pt x="696" y="413"/>
                  </a:lnTo>
                  <a:lnTo>
                    <a:pt x="702" y="409"/>
                  </a:lnTo>
                  <a:lnTo>
                    <a:pt x="704" y="409"/>
                  </a:lnTo>
                  <a:lnTo>
                    <a:pt x="717" y="447"/>
                  </a:lnTo>
                  <a:lnTo>
                    <a:pt x="734" y="481"/>
                  </a:lnTo>
                  <a:lnTo>
                    <a:pt x="753" y="511"/>
                  </a:lnTo>
                  <a:lnTo>
                    <a:pt x="772" y="534"/>
                  </a:lnTo>
                  <a:lnTo>
                    <a:pt x="792" y="553"/>
                  </a:lnTo>
                  <a:lnTo>
                    <a:pt x="811" y="568"/>
                  </a:lnTo>
                  <a:lnTo>
                    <a:pt x="823" y="579"/>
                  </a:lnTo>
                  <a:lnTo>
                    <a:pt x="834" y="585"/>
                  </a:lnTo>
                  <a:lnTo>
                    <a:pt x="853" y="600"/>
                  </a:lnTo>
                  <a:lnTo>
                    <a:pt x="872" y="617"/>
                  </a:lnTo>
                  <a:lnTo>
                    <a:pt x="889" y="632"/>
                  </a:lnTo>
                  <a:lnTo>
                    <a:pt x="904" y="649"/>
                  </a:lnTo>
                  <a:lnTo>
                    <a:pt x="919" y="666"/>
                  </a:lnTo>
                  <a:lnTo>
                    <a:pt x="934" y="681"/>
                  </a:lnTo>
                  <a:lnTo>
                    <a:pt x="949" y="696"/>
                  </a:lnTo>
                  <a:lnTo>
                    <a:pt x="962" y="709"/>
                  </a:lnTo>
                  <a:lnTo>
                    <a:pt x="977" y="723"/>
                  </a:lnTo>
                  <a:lnTo>
                    <a:pt x="994" y="734"/>
                  </a:lnTo>
                  <a:lnTo>
                    <a:pt x="1011" y="745"/>
                  </a:lnTo>
                  <a:lnTo>
                    <a:pt x="1030" y="751"/>
                  </a:lnTo>
                  <a:lnTo>
                    <a:pt x="1045" y="760"/>
                  </a:lnTo>
                  <a:lnTo>
                    <a:pt x="1060" y="768"/>
                  </a:lnTo>
                  <a:lnTo>
                    <a:pt x="1072" y="774"/>
                  </a:lnTo>
                  <a:lnTo>
                    <a:pt x="1083" y="783"/>
                  </a:lnTo>
                  <a:lnTo>
                    <a:pt x="1096" y="798"/>
                  </a:lnTo>
                  <a:lnTo>
                    <a:pt x="1113" y="819"/>
                  </a:lnTo>
                  <a:lnTo>
                    <a:pt x="1134" y="847"/>
                  </a:lnTo>
                  <a:lnTo>
                    <a:pt x="1157" y="877"/>
                  </a:lnTo>
                  <a:lnTo>
                    <a:pt x="1179" y="904"/>
                  </a:lnTo>
                  <a:lnTo>
                    <a:pt x="1198" y="928"/>
                  </a:lnTo>
                  <a:lnTo>
                    <a:pt x="1211" y="945"/>
                  </a:lnTo>
                  <a:lnTo>
                    <a:pt x="1215" y="951"/>
                  </a:lnTo>
                  <a:lnTo>
                    <a:pt x="1047" y="1170"/>
                  </a:lnTo>
                  <a:lnTo>
                    <a:pt x="1032" y="1168"/>
                  </a:lnTo>
                  <a:lnTo>
                    <a:pt x="1021" y="1166"/>
                  </a:lnTo>
                  <a:lnTo>
                    <a:pt x="1011" y="1168"/>
                  </a:lnTo>
                  <a:lnTo>
                    <a:pt x="1004" y="1170"/>
                  </a:lnTo>
                  <a:lnTo>
                    <a:pt x="998" y="1174"/>
                  </a:lnTo>
                  <a:lnTo>
                    <a:pt x="989" y="1176"/>
                  </a:lnTo>
                  <a:lnTo>
                    <a:pt x="983" y="1176"/>
                  </a:lnTo>
                  <a:lnTo>
                    <a:pt x="972" y="1174"/>
                  </a:lnTo>
                  <a:lnTo>
                    <a:pt x="962" y="1172"/>
                  </a:lnTo>
                  <a:lnTo>
                    <a:pt x="951" y="1174"/>
                  </a:lnTo>
                  <a:lnTo>
                    <a:pt x="940" y="1176"/>
                  </a:lnTo>
                  <a:lnTo>
                    <a:pt x="932" y="1178"/>
                  </a:lnTo>
                  <a:lnTo>
                    <a:pt x="923" y="1185"/>
                  </a:lnTo>
                  <a:lnTo>
                    <a:pt x="917" y="1191"/>
                  </a:lnTo>
                  <a:lnTo>
                    <a:pt x="911" y="1200"/>
                  </a:lnTo>
                  <a:lnTo>
                    <a:pt x="909" y="1210"/>
                  </a:lnTo>
                  <a:lnTo>
                    <a:pt x="904" y="1227"/>
                  </a:lnTo>
                  <a:lnTo>
                    <a:pt x="900" y="1238"/>
                  </a:lnTo>
                  <a:lnTo>
                    <a:pt x="896" y="1244"/>
                  </a:lnTo>
                  <a:lnTo>
                    <a:pt x="894" y="1246"/>
                  </a:lnTo>
                  <a:lnTo>
                    <a:pt x="902" y="1253"/>
                  </a:lnTo>
                  <a:lnTo>
                    <a:pt x="938" y="1287"/>
                  </a:lnTo>
                  <a:lnTo>
                    <a:pt x="1009" y="1278"/>
                  </a:lnTo>
                  <a:lnTo>
                    <a:pt x="1032" y="1274"/>
                  </a:lnTo>
                  <a:lnTo>
                    <a:pt x="1049" y="1270"/>
                  </a:lnTo>
                  <a:lnTo>
                    <a:pt x="1064" y="1266"/>
                  </a:lnTo>
                  <a:lnTo>
                    <a:pt x="1077" y="1261"/>
                  </a:lnTo>
                  <a:lnTo>
                    <a:pt x="1087" y="1255"/>
                  </a:lnTo>
                  <a:lnTo>
                    <a:pt x="1098" y="1246"/>
                  </a:lnTo>
                  <a:lnTo>
                    <a:pt x="1111" y="1236"/>
                  </a:lnTo>
                  <a:lnTo>
                    <a:pt x="1126" y="1221"/>
                  </a:lnTo>
                  <a:lnTo>
                    <a:pt x="1149" y="1198"/>
                  </a:lnTo>
                  <a:lnTo>
                    <a:pt x="1179" y="1161"/>
                  </a:lnTo>
                  <a:lnTo>
                    <a:pt x="1215" y="1119"/>
                  </a:lnTo>
                  <a:lnTo>
                    <a:pt x="1253" y="1074"/>
                  </a:lnTo>
                  <a:lnTo>
                    <a:pt x="1289" y="1030"/>
                  </a:lnTo>
                  <a:lnTo>
                    <a:pt x="1321" y="993"/>
                  </a:lnTo>
                  <a:lnTo>
                    <a:pt x="1340" y="968"/>
                  </a:lnTo>
                  <a:lnTo>
                    <a:pt x="1349" y="959"/>
                  </a:lnTo>
                  <a:lnTo>
                    <a:pt x="1368" y="951"/>
                  </a:lnTo>
                  <a:lnTo>
                    <a:pt x="1383" y="942"/>
                  </a:lnTo>
                  <a:lnTo>
                    <a:pt x="1396" y="936"/>
                  </a:lnTo>
                  <a:lnTo>
                    <a:pt x="1406" y="928"/>
                  </a:lnTo>
                  <a:lnTo>
                    <a:pt x="1413" y="921"/>
                  </a:lnTo>
                  <a:lnTo>
                    <a:pt x="1417" y="917"/>
                  </a:lnTo>
                  <a:lnTo>
                    <a:pt x="1421" y="915"/>
                  </a:lnTo>
                  <a:lnTo>
                    <a:pt x="1421" y="913"/>
                  </a:lnTo>
                  <a:lnTo>
                    <a:pt x="1383" y="877"/>
                  </a:lnTo>
                  <a:lnTo>
                    <a:pt x="1347" y="840"/>
                  </a:lnTo>
                  <a:lnTo>
                    <a:pt x="1311" y="804"/>
                  </a:lnTo>
                  <a:lnTo>
                    <a:pt x="1279" y="766"/>
                  </a:lnTo>
                  <a:lnTo>
                    <a:pt x="1249" y="730"/>
                  </a:lnTo>
                  <a:lnTo>
                    <a:pt x="1228" y="696"/>
                  </a:lnTo>
                  <a:lnTo>
                    <a:pt x="1213" y="664"/>
                  </a:lnTo>
                  <a:lnTo>
                    <a:pt x="1206" y="636"/>
                  </a:lnTo>
                  <a:lnTo>
                    <a:pt x="1213" y="587"/>
                  </a:lnTo>
                  <a:lnTo>
                    <a:pt x="1225" y="547"/>
                  </a:lnTo>
                  <a:lnTo>
                    <a:pt x="1236" y="519"/>
                  </a:lnTo>
                  <a:lnTo>
                    <a:pt x="1242" y="509"/>
                  </a:lnTo>
                  <a:lnTo>
                    <a:pt x="1268" y="541"/>
                  </a:lnTo>
                  <a:lnTo>
                    <a:pt x="1300" y="566"/>
                  </a:lnTo>
                  <a:lnTo>
                    <a:pt x="1336" y="587"/>
                  </a:lnTo>
                  <a:lnTo>
                    <a:pt x="1377" y="606"/>
                  </a:lnTo>
                  <a:lnTo>
                    <a:pt x="1413" y="621"/>
                  </a:lnTo>
                  <a:lnTo>
                    <a:pt x="1449" y="634"/>
                  </a:lnTo>
                  <a:lnTo>
                    <a:pt x="1479" y="643"/>
                  </a:lnTo>
                  <a:lnTo>
                    <a:pt x="1502" y="651"/>
                  </a:lnTo>
                  <a:lnTo>
                    <a:pt x="1515" y="670"/>
                  </a:lnTo>
                  <a:lnTo>
                    <a:pt x="1528" y="700"/>
                  </a:lnTo>
                  <a:lnTo>
                    <a:pt x="1534" y="732"/>
                  </a:lnTo>
                  <a:lnTo>
                    <a:pt x="1538" y="745"/>
                  </a:lnTo>
                  <a:lnTo>
                    <a:pt x="1555" y="779"/>
                  </a:lnTo>
                  <a:lnTo>
                    <a:pt x="1566" y="811"/>
                  </a:lnTo>
                  <a:lnTo>
                    <a:pt x="1579" y="830"/>
                  </a:lnTo>
                  <a:lnTo>
                    <a:pt x="1591" y="838"/>
                  </a:lnTo>
                  <a:lnTo>
                    <a:pt x="1596" y="840"/>
                  </a:lnTo>
                  <a:lnTo>
                    <a:pt x="1589" y="857"/>
                  </a:lnTo>
                  <a:lnTo>
                    <a:pt x="1604" y="896"/>
                  </a:lnTo>
                  <a:lnTo>
                    <a:pt x="1621" y="915"/>
                  </a:lnTo>
                  <a:lnTo>
                    <a:pt x="1634" y="921"/>
                  </a:lnTo>
                  <a:lnTo>
                    <a:pt x="1640" y="921"/>
                  </a:lnTo>
                  <a:lnTo>
                    <a:pt x="1659" y="934"/>
                  </a:lnTo>
                  <a:lnTo>
                    <a:pt x="1681" y="972"/>
                  </a:lnTo>
                  <a:lnTo>
                    <a:pt x="1693" y="979"/>
                  </a:lnTo>
                  <a:lnTo>
                    <a:pt x="1698" y="972"/>
                  </a:lnTo>
                  <a:lnTo>
                    <a:pt x="1700" y="966"/>
                  </a:lnTo>
                  <a:lnTo>
                    <a:pt x="1719" y="979"/>
                  </a:lnTo>
                  <a:lnTo>
                    <a:pt x="1734" y="1021"/>
                  </a:lnTo>
                  <a:lnTo>
                    <a:pt x="1768" y="1006"/>
                  </a:lnTo>
                  <a:lnTo>
                    <a:pt x="1783" y="1025"/>
                  </a:lnTo>
                  <a:lnTo>
                    <a:pt x="1800" y="1042"/>
                  </a:lnTo>
                  <a:lnTo>
                    <a:pt x="1817" y="1053"/>
                  </a:lnTo>
                  <a:lnTo>
                    <a:pt x="1834" y="1062"/>
                  </a:lnTo>
                  <a:lnTo>
                    <a:pt x="1849" y="1068"/>
                  </a:lnTo>
                  <a:lnTo>
                    <a:pt x="1861" y="1070"/>
                  </a:lnTo>
                  <a:lnTo>
                    <a:pt x="1872" y="1070"/>
                  </a:lnTo>
                  <a:lnTo>
                    <a:pt x="1881" y="1066"/>
                  </a:lnTo>
                  <a:lnTo>
                    <a:pt x="1855" y="1032"/>
                  </a:lnTo>
                  <a:lnTo>
                    <a:pt x="1838" y="1000"/>
                  </a:lnTo>
                  <a:lnTo>
                    <a:pt x="1830" y="966"/>
                  </a:lnTo>
                  <a:lnTo>
                    <a:pt x="1834" y="928"/>
                  </a:lnTo>
                  <a:lnTo>
                    <a:pt x="1836" y="885"/>
                  </a:lnTo>
                  <a:lnTo>
                    <a:pt x="1830" y="845"/>
                  </a:lnTo>
                  <a:lnTo>
                    <a:pt x="1823" y="813"/>
                  </a:lnTo>
                  <a:lnTo>
                    <a:pt x="1819" y="800"/>
                  </a:lnTo>
                  <a:lnTo>
                    <a:pt x="2008" y="928"/>
                  </a:lnTo>
                  <a:lnTo>
                    <a:pt x="2042" y="981"/>
                  </a:lnTo>
                  <a:lnTo>
                    <a:pt x="2064" y="1030"/>
                  </a:lnTo>
                  <a:lnTo>
                    <a:pt x="2072" y="1074"/>
                  </a:lnTo>
                  <a:lnTo>
                    <a:pt x="2074" y="1115"/>
                  </a:lnTo>
                  <a:lnTo>
                    <a:pt x="2070" y="1147"/>
                  </a:lnTo>
                  <a:lnTo>
                    <a:pt x="2064" y="1172"/>
                  </a:lnTo>
                  <a:lnTo>
                    <a:pt x="2057" y="1187"/>
                  </a:lnTo>
                  <a:lnTo>
                    <a:pt x="2055" y="1193"/>
                  </a:lnTo>
                  <a:lnTo>
                    <a:pt x="2027" y="1206"/>
                  </a:lnTo>
                  <a:lnTo>
                    <a:pt x="2004" y="1221"/>
                  </a:lnTo>
                  <a:lnTo>
                    <a:pt x="1989" y="1236"/>
                  </a:lnTo>
                  <a:lnTo>
                    <a:pt x="1976" y="1253"/>
                  </a:lnTo>
                  <a:lnTo>
                    <a:pt x="1968" y="1268"/>
                  </a:lnTo>
                  <a:lnTo>
                    <a:pt x="1964" y="1281"/>
                  </a:lnTo>
                  <a:lnTo>
                    <a:pt x="1961" y="1289"/>
                  </a:lnTo>
                  <a:lnTo>
                    <a:pt x="1961" y="1291"/>
                  </a:lnTo>
                  <a:lnTo>
                    <a:pt x="1989" y="1295"/>
                  </a:lnTo>
                  <a:lnTo>
                    <a:pt x="2006" y="1293"/>
                  </a:lnTo>
                  <a:lnTo>
                    <a:pt x="2013" y="1287"/>
                  </a:lnTo>
                  <a:lnTo>
                    <a:pt x="2015" y="1285"/>
                  </a:lnTo>
                  <a:lnTo>
                    <a:pt x="2038" y="1285"/>
                  </a:lnTo>
                  <a:lnTo>
                    <a:pt x="2055" y="1306"/>
                  </a:lnTo>
                  <a:lnTo>
                    <a:pt x="2072" y="1319"/>
                  </a:lnTo>
                  <a:lnTo>
                    <a:pt x="2087" y="1325"/>
                  </a:lnTo>
                  <a:lnTo>
                    <a:pt x="2100" y="1323"/>
                  </a:lnTo>
                  <a:lnTo>
                    <a:pt x="2112" y="1321"/>
                  </a:lnTo>
                  <a:lnTo>
                    <a:pt x="2123" y="1319"/>
                  </a:lnTo>
                  <a:lnTo>
                    <a:pt x="2130" y="1321"/>
                  </a:lnTo>
                  <a:lnTo>
                    <a:pt x="2132" y="1321"/>
                  </a:lnTo>
                  <a:lnTo>
                    <a:pt x="2166" y="1264"/>
                  </a:lnTo>
                  <a:lnTo>
                    <a:pt x="2187" y="1236"/>
                  </a:lnTo>
                  <a:lnTo>
                    <a:pt x="2200" y="1210"/>
                  </a:lnTo>
                  <a:lnTo>
                    <a:pt x="2202" y="1183"/>
                  </a:lnTo>
                  <a:lnTo>
                    <a:pt x="2202" y="1155"/>
                  </a:lnTo>
                  <a:lnTo>
                    <a:pt x="2195" y="1130"/>
                  </a:lnTo>
                  <a:lnTo>
                    <a:pt x="2189" y="1106"/>
                  </a:lnTo>
                  <a:lnTo>
                    <a:pt x="2183" y="1083"/>
                  </a:lnTo>
                  <a:lnTo>
                    <a:pt x="2178" y="1062"/>
                  </a:lnTo>
                  <a:lnTo>
                    <a:pt x="2172" y="1038"/>
                  </a:lnTo>
                  <a:lnTo>
                    <a:pt x="2161" y="1006"/>
                  </a:lnTo>
                  <a:lnTo>
                    <a:pt x="2144" y="972"/>
                  </a:lnTo>
                  <a:lnTo>
                    <a:pt x="2125" y="934"/>
                  </a:lnTo>
                  <a:lnTo>
                    <a:pt x="2106" y="898"/>
                  </a:lnTo>
                  <a:lnTo>
                    <a:pt x="2089" y="866"/>
                  </a:lnTo>
                  <a:lnTo>
                    <a:pt x="2076" y="838"/>
                  </a:lnTo>
                  <a:lnTo>
                    <a:pt x="2070" y="819"/>
                  </a:lnTo>
                  <a:lnTo>
                    <a:pt x="2068" y="789"/>
                  </a:lnTo>
                  <a:lnTo>
                    <a:pt x="2064" y="762"/>
                  </a:lnTo>
                  <a:lnTo>
                    <a:pt x="2061" y="738"/>
                  </a:lnTo>
                  <a:lnTo>
                    <a:pt x="2061" y="730"/>
                  </a:lnTo>
                  <a:lnTo>
                    <a:pt x="2008" y="668"/>
                  </a:lnTo>
                  <a:lnTo>
                    <a:pt x="1944" y="660"/>
                  </a:lnTo>
                  <a:lnTo>
                    <a:pt x="1913" y="640"/>
                  </a:lnTo>
                  <a:lnTo>
                    <a:pt x="1885" y="619"/>
                  </a:lnTo>
                  <a:lnTo>
                    <a:pt x="1859" y="598"/>
                  </a:lnTo>
                  <a:lnTo>
                    <a:pt x="1838" y="577"/>
                  </a:lnTo>
                  <a:lnTo>
                    <a:pt x="1819" y="560"/>
                  </a:lnTo>
                  <a:lnTo>
                    <a:pt x="1804" y="547"/>
                  </a:lnTo>
                  <a:lnTo>
                    <a:pt x="1796" y="538"/>
                  </a:lnTo>
                  <a:lnTo>
                    <a:pt x="1793" y="534"/>
                  </a:lnTo>
                  <a:lnTo>
                    <a:pt x="1789" y="485"/>
                  </a:lnTo>
                  <a:lnTo>
                    <a:pt x="1781" y="438"/>
                  </a:lnTo>
                  <a:lnTo>
                    <a:pt x="1770" y="394"/>
                  </a:lnTo>
                  <a:lnTo>
                    <a:pt x="1757" y="353"/>
                  </a:lnTo>
                  <a:lnTo>
                    <a:pt x="1744" y="319"/>
                  </a:lnTo>
                  <a:lnTo>
                    <a:pt x="1736" y="294"/>
                  </a:lnTo>
                  <a:lnTo>
                    <a:pt x="1727" y="277"/>
                  </a:lnTo>
                  <a:lnTo>
                    <a:pt x="1725" y="270"/>
                  </a:lnTo>
                  <a:lnTo>
                    <a:pt x="1668" y="139"/>
                  </a:lnTo>
                  <a:lnTo>
                    <a:pt x="1583" y="71"/>
                  </a:lnTo>
                  <a:lnTo>
                    <a:pt x="1617" y="141"/>
                  </a:lnTo>
                  <a:lnTo>
                    <a:pt x="1596" y="149"/>
                  </a:lnTo>
                  <a:lnTo>
                    <a:pt x="1628" y="219"/>
                  </a:lnTo>
                  <a:lnTo>
                    <a:pt x="1600" y="224"/>
                  </a:lnTo>
                  <a:lnTo>
                    <a:pt x="1606" y="243"/>
                  </a:lnTo>
                  <a:lnTo>
                    <a:pt x="1623" y="288"/>
                  </a:lnTo>
                  <a:lnTo>
                    <a:pt x="1640" y="345"/>
                  </a:lnTo>
                  <a:lnTo>
                    <a:pt x="1655" y="402"/>
                  </a:lnTo>
                  <a:lnTo>
                    <a:pt x="1655" y="430"/>
                  </a:lnTo>
                  <a:lnTo>
                    <a:pt x="1640" y="426"/>
                  </a:lnTo>
                  <a:lnTo>
                    <a:pt x="1623" y="409"/>
                  </a:lnTo>
                  <a:lnTo>
                    <a:pt x="1615" y="398"/>
                  </a:lnTo>
                  <a:lnTo>
                    <a:pt x="1625" y="421"/>
                  </a:lnTo>
                  <a:lnTo>
                    <a:pt x="1630" y="438"/>
                  </a:lnTo>
                  <a:lnTo>
                    <a:pt x="1625" y="451"/>
                  </a:lnTo>
                  <a:lnTo>
                    <a:pt x="1617" y="460"/>
                  </a:lnTo>
                  <a:lnTo>
                    <a:pt x="1602" y="462"/>
                  </a:lnTo>
                  <a:lnTo>
                    <a:pt x="1583" y="458"/>
                  </a:lnTo>
                  <a:lnTo>
                    <a:pt x="1559" y="447"/>
                  </a:lnTo>
                  <a:lnTo>
                    <a:pt x="1532" y="430"/>
                  </a:lnTo>
                  <a:lnTo>
                    <a:pt x="1445" y="415"/>
                  </a:lnTo>
                  <a:lnTo>
                    <a:pt x="1447" y="421"/>
                  </a:lnTo>
                  <a:lnTo>
                    <a:pt x="1449" y="434"/>
                  </a:lnTo>
                  <a:lnTo>
                    <a:pt x="1438" y="443"/>
                  </a:lnTo>
                  <a:lnTo>
                    <a:pt x="1408" y="436"/>
                  </a:lnTo>
                  <a:lnTo>
                    <a:pt x="1383" y="424"/>
                  </a:lnTo>
                  <a:lnTo>
                    <a:pt x="1351" y="404"/>
                  </a:lnTo>
                  <a:lnTo>
                    <a:pt x="1313" y="377"/>
                  </a:lnTo>
                  <a:lnTo>
                    <a:pt x="1272" y="343"/>
                  </a:lnTo>
                  <a:lnTo>
                    <a:pt x="1232" y="305"/>
                  </a:lnTo>
                  <a:lnTo>
                    <a:pt x="1196" y="264"/>
                  </a:lnTo>
                  <a:lnTo>
                    <a:pt x="1162" y="219"/>
                  </a:lnTo>
                  <a:lnTo>
                    <a:pt x="1134" y="175"/>
                  </a:lnTo>
                  <a:lnTo>
                    <a:pt x="1145" y="124"/>
                  </a:lnTo>
                  <a:lnTo>
                    <a:pt x="1091" y="60"/>
                  </a:lnTo>
                  <a:lnTo>
                    <a:pt x="1134" y="49"/>
                  </a:lnTo>
                  <a:lnTo>
                    <a:pt x="1040" y="26"/>
                  </a:lnTo>
                  <a:lnTo>
                    <a:pt x="1064" y="9"/>
                  </a:lnTo>
                  <a:lnTo>
                    <a:pt x="923" y="0"/>
                  </a:lnTo>
                  <a:lnTo>
                    <a:pt x="872" y="22"/>
                  </a:lnTo>
                  <a:lnTo>
                    <a:pt x="919" y="41"/>
                  </a:lnTo>
                  <a:lnTo>
                    <a:pt x="915" y="41"/>
                  </a:lnTo>
                  <a:lnTo>
                    <a:pt x="904" y="43"/>
                  </a:lnTo>
                  <a:lnTo>
                    <a:pt x="885" y="47"/>
                  </a:lnTo>
                  <a:lnTo>
                    <a:pt x="860" y="54"/>
                  </a:lnTo>
                  <a:lnTo>
                    <a:pt x="830" y="60"/>
                  </a:lnTo>
                  <a:lnTo>
                    <a:pt x="796" y="66"/>
                  </a:lnTo>
                  <a:lnTo>
                    <a:pt x="758" y="75"/>
                  </a:lnTo>
                  <a:lnTo>
                    <a:pt x="717" y="85"/>
                  </a:lnTo>
                  <a:lnTo>
                    <a:pt x="713" y="90"/>
                  </a:lnTo>
                  <a:lnTo>
                    <a:pt x="702" y="100"/>
                  </a:lnTo>
                  <a:lnTo>
                    <a:pt x="685" y="115"/>
                  </a:lnTo>
                  <a:lnTo>
                    <a:pt x="664" y="134"/>
                  </a:lnTo>
                  <a:lnTo>
                    <a:pt x="638" y="156"/>
                  </a:lnTo>
                  <a:lnTo>
                    <a:pt x="609" y="179"/>
                  </a:lnTo>
                  <a:lnTo>
                    <a:pt x="575" y="202"/>
                  </a:lnTo>
                  <a:lnTo>
                    <a:pt x="541" y="226"/>
                  </a:lnTo>
                  <a:lnTo>
                    <a:pt x="551" y="188"/>
                  </a:lnTo>
                  <a:lnTo>
                    <a:pt x="543" y="192"/>
                  </a:lnTo>
                  <a:lnTo>
                    <a:pt x="521" y="202"/>
                  </a:lnTo>
                  <a:lnTo>
                    <a:pt x="489" y="215"/>
                  </a:lnTo>
                  <a:lnTo>
                    <a:pt x="447" y="230"/>
                  </a:lnTo>
                  <a:lnTo>
                    <a:pt x="400" y="245"/>
                  </a:lnTo>
                  <a:lnTo>
                    <a:pt x="347" y="256"/>
                  </a:lnTo>
                  <a:lnTo>
                    <a:pt x="294" y="258"/>
                  </a:lnTo>
                  <a:lnTo>
                    <a:pt x="243" y="253"/>
                  </a:lnTo>
                  <a:lnTo>
                    <a:pt x="238" y="253"/>
                  </a:lnTo>
                  <a:lnTo>
                    <a:pt x="226" y="253"/>
                  </a:lnTo>
                  <a:lnTo>
                    <a:pt x="207" y="251"/>
                  </a:lnTo>
                  <a:lnTo>
                    <a:pt x="181" y="247"/>
                  </a:lnTo>
                  <a:lnTo>
                    <a:pt x="156" y="239"/>
                  </a:lnTo>
                  <a:lnTo>
                    <a:pt x="128" y="228"/>
                  </a:lnTo>
                  <a:lnTo>
                    <a:pt x="100" y="211"/>
                  </a:lnTo>
                  <a:lnTo>
                    <a:pt x="75" y="190"/>
                  </a:lnTo>
                  <a:lnTo>
                    <a:pt x="70" y="226"/>
                  </a:lnTo>
                  <a:lnTo>
                    <a:pt x="66" y="268"/>
                  </a:lnTo>
                  <a:lnTo>
                    <a:pt x="56" y="313"/>
                  </a:lnTo>
                  <a:lnTo>
                    <a:pt x="47" y="360"/>
                  </a:lnTo>
                  <a:lnTo>
                    <a:pt x="34" y="404"/>
                  </a:lnTo>
                  <a:lnTo>
                    <a:pt x="24" y="441"/>
                  </a:lnTo>
                  <a:lnTo>
                    <a:pt x="11" y="470"/>
                  </a:lnTo>
                  <a:lnTo>
                    <a:pt x="0" y="487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00600" y="4567320"/>
              <a:ext cx="1025640" cy="503280"/>
            </a:xfrm>
            <a:custGeom>
              <a:avLst/>
              <a:gdLst/>
              <a:ahLst/>
              <a:rect l="l" t="t" r="r" b="b"/>
              <a:pathLst>
                <a:path w="646" h="317">
                  <a:moveTo>
                    <a:pt x="0" y="178"/>
                  </a:moveTo>
                  <a:lnTo>
                    <a:pt x="23" y="168"/>
                  </a:lnTo>
                  <a:lnTo>
                    <a:pt x="51" y="153"/>
                  </a:lnTo>
                  <a:lnTo>
                    <a:pt x="76" y="138"/>
                  </a:lnTo>
                  <a:lnTo>
                    <a:pt x="104" y="125"/>
                  </a:lnTo>
                  <a:lnTo>
                    <a:pt x="125" y="113"/>
                  </a:lnTo>
                  <a:lnTo>
                    <a:pt x="144" y="102"/>
                  </a:lnTo>
                  <a:lnTo>
                    <a:pt x="157" y="93"/>
                  </a:lnTo>
                  <a:lnTo>
                    <a:pt x="161" y="91"/>
                  </a:lnTo>
                  <a:lnTo>
                    <a:pt x="178" y="85"/>
                  </a:lnTo>
                  <a:lnTo>
                    <a:pt x="193" y="81"/>
                  </a:lnTo>
                  <a:lnTo>
                    <a:pt x="206" y="74"/>
                  </a:lnTo>
                  <a:lnTo>
                    <a:pt x="217" y="70"/>
                  </a:lnTo>
                  <a:lnTo>
                    <a:pt x="225" y="68"/>
                  </a:lnTo>
                  <a:lnTo>
                    <a:pt x="231" y="64"/>
                  </a:lnTo>
                  <a:lnTo>
                    <a:pt x="234" y="61"/>
                  </a:lnTo>
                  <a:lnTo>
                    <a:pt x="236" y="61"/>
                  </a:lnTo>
                  <a:lnTo>
                    <a:pt x="265" y="51"/>
                  </a:lnTo>
                  <a:lnTo>
                    <a:pt x="295" y="40"/>
                  </a:lnTo>
                  <a:lnTo>
                    <a:pt x="319" y="30"/>
                  </a:lnTo>
                  <a:lnTo>
                    <a:pt x="340" y="19"/>
                  </a:lnTo>
                  <a:lnTo>
                    <a:pt x="357" y="10"/>
                  </a:lnTo>
                  <a:lnTo>
                    <a:pt x="370" y="6"/>
                  </a:lnTo>
                  <a:lnTo>
                    <a:pt x="378" y="2"/>
                  </a:lnTo>
                  <a:lnTo>
                    <a:pt x="380" y="0"/>
                  </a:lnTo>
                  <a:lnTo>
                    <a:pt x="414" y="13"/>
                  </a:lnTo>
                  <a:lnTo>
                    <a:pt x="423" y="34"/>
                  </a:lnTo>
                  <a:lnTo>
                    <a:pt x="436" y="57"/>
                  </a:lnTo>
                  <a:lnTo>
                    <a:pt x="451" y="78"/>
                  </a:lnTo>
                  <a:lnTo>
                    <a:pt x="468" y="100"/>
                  </a:lnTo>
                  <a:lnTo>
                    <a:pt x="482" y="119"/>
                  </a:lnTo>
                  <a:lnTo>
                    <a:pt x="495" y="132"/>
                  </a:lnTo>
                  <a:lnTo>
                    <a:pt x="504" y="140"/>
                  </a:lnTo>
                  <a:lnTo>
                    <a:pt x="508" y="144"/>
                  </a:lnTo>
                  <a:lnTo>
                    <a:pt x="516" y="166"/>
                  </a:lnTo>
                  <a:lnTo>
                    <a:pt x="527" y="187"/>
                  </a:lnTo>
                  <a:lnTo>
                    <a:pt x="540" y="210"/>
                  </a:lnTo>
                  <a:lnTo>
                    <a:pt x="555" y="232"/>
                  </a:lnTo>
                  <a:lnTo>
                    <a:pt x="572" y="253"/>
                  </a:lnTo>
                  <a:lnTo>
                    <a:pt x="593" y="274"/>
                  </a:lnTo>
                  <a:lnTo>
                    <a:pt x="616" y="293"/>
                  </a:lnTo>
                  <a:lnTo>
                    <a:pt x="646" y="312"/>
                  </a:lnTo>
                  <a:lnTo>
                    <a:pt x="619" y="317"/>
                  </a:lnTo>
                  <a:lnTo>
                    <a:pt x="595" y="300"/>
                  </a:lnTo>
                  <a:lnTo>
                    <a:pt x="572" y="285"/>
                  </a:lnTo>
                  <a:lnTo>
                    <a:pt x="548" y="272"/>
                  </a:lnTo>
                  <a:lnTo>
                    <a:pt x="525" y="261"/>
                  </a:lnTo>
                  <a:lnTo>
                    <a:pt x="506" y="255"/>
                  </a:lnTo>
                  <a:lnTo>
                    <a:pt x="491" y="251"/>
                  </a:lnTo>
                  <a:lnTo>
                    <a:pt x="480" y="246"/>
                  </a:lnTo>
                  <a:lnTo>
                    <a:pt x="476" y="246"/>
                  </a:lnTo>
                  <a:lnTo>
                    <a:pt x="519" y="234"/>
                  </a:lnTo>
                  <a:lnTo>
                    <a:pt x="506" y="221"/>
                  </a:lnTo>
                  <a:lnTo>
                    <a:pt x="493" y="210"/>
                  </a:lnTo>
                  <a:lnTo>
                    <a:pt x="485" y="204"/>
                  </a:lnTo>
                  <a:lnTo>
                    <a:pt x="480" y="202"/>
                  </a:lnTo>
                  <a:lnTo>
                    <a:pt x="504" y="178"/>
                  </a:lnTo>
                  <a:lnTo>
                    <a:pt x="491" y="170"/>
                  </a:lnTo>
                  <a:lnTo>
                    <a:pt x="474" y="155"/>
                  </a:lnTo>
                  <a:lnTo>
                    <a:pt x="459" y="140"/>
                  </a:lnTo>
                  <a:lnTo>
                    <a:pt x="442" y="121"/>
                  </a:lnTo>
                  <a:lnTo>
                    <a:pt x="427" y="104"/>
                  </a:lnTo>
                  <a:lnTo>
                    <a:pt x="412" y="87"/>
                  </a:lnTo>
                  <a:lnTo>
                    <a:pt x="404" y="74"/>
                  </a:lnTo>
                  <a:lnTo>
                    <a:pt x="397" y="64"/>
                  </a:lnTo>
                  <a:lnTo>
                    <a:pt x="389" y="49"/>
                  </a:lnTo>
                  <a:lnTo>
                    <a:pt x="380" y="38"/>
                  </a:lnTo>
                  <a:lnTo>
                    <a:pt x="372" y="32"/>
                  </a:lnTo>
                  <a:lnTo>
                    <a:pt x="368" y="30"/>
                  </a:lnTo>
                  <a:lnTo>
                    <a:pt x="344" y="40"/>
                  </a:lnTo>
                  <a:lnTo>
                    <a:pt x="319" y="51"/>
                  </a:lnTo>
                  <a:lnTo>
                    <a:pt x="293" y="61"/>
                  </a:lnTo>
                  <a:lnTo>
                    <a:pt x="268" y="70"/>
                  </a:lnTo>
                  <a:lnTo>
                    <a:pt x="244" y="78"/>
                  </a:lnTo>
                  <a:lnTo>
                    <a:pt x="225" y="85"/>
                  </a:lnTo>
                  <a:lnTo>
                    <a:pt x="212" y="87"/>
                  </a:lnTo>
                  <a:lnTo>
                    <a:pt x="208" y="89"/>
                  </a:lnTo>
                  <a:lnTo>
                    <a:pt x="180" y="104"/>
                  </a:lnTo>
                  <a:lnTo>
                    <a:pt x="146" y="119"/>
                  </a:lnTo>
                  <a:lnTo>
                    <a:pt x="112" y="134"/>
                  </a:lnTo>
                  <a:lnTo>
                    <a:pt x="78" y="149"/>
                  </a:lnTo>
                  <a:lnTo>
                    <a:pt x="49" y="159"/>
                  </a:lnTo>
                  <a:lnTo>
                    <a:pt x="23" y="170"/>
                  </a:lnTo>
                  <a:lnTo>
                    <a:pt x="6" y="176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43600" y="4800600"/>
              <a:ext cx="434880" cy="141120"/>
            </a:xfrm>
            <a:custGeom>
              <a:avLst/>
              <a:gdLst/>
              <a:ahLst/>
              <a:rect l="l" t="t" r="r" b="b"/>
              <a:pathLst>
                <a:path w="274" h="89">
                  <a:moveTo>
                    <a:pt x="274" y="0"/>
                  </a:moveTo>
                  <a:lnTo>
                    <a:pt x="253" y="6"/>
                  </a:lnTo>
                  <a:lnTo>
                    <a:pt x="227" y="17"/>
                  </a:lnTo>
                  <a:lnTo>
                    <a:pt x="200" y="29"/>
                  </a:lnTo>
                  <a:lnTo>
                    <a:pt x="168" y="42"/>
                  </a:lnTo>
                  <a:lnTo>
                    <a:pt x="132" y="57"/>
                  </a:lnTo>
                  <a:lnTo>
                    <a:pt x="91" y="70"/>
                  </a:lnTo>
                  <a:lnTo>
                    <a:pt x="49" y="80"/>
                  </a:lnTo>
                  <a:lnTo>
                    <a:pt x="0" y="89"/>
                  </a:lnTo>
                  <a:lnTo>
                    <a:pt x="51" y="85"/>
                  </a:lnTo>
                  <a:lnTo>
                    <a:pt x="93" y="76"/>
                  </a:lnTo>
                  <a:lnTo>
                    <a:pt x="134" y="65"/>
                  </a:lnTo>
                  <a:lnTo>
                    <a:pt x="166" y="55"/>
                  </a:lnTo>
                  <a:lnTo>
                    <a:pt x="191" y="46"/>
                  </a:lnTo>
                  <a:lnTo>
                    <a:pt x="210" y="38"/>
                  </a:lnTo>
                  <a:lnTo>
                    <a:pt x="221" y="31"/>
                  </a:lnTo>
                  <a:lnTo>
                    <a:pt x="225" y="29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86680" y="5319720"/>
              <a:ext cx="606240" cy="233280"/>
            </a:xfrm>
            <a:custGeom>
              <a:avLst/>
              <a:gdLst/>
              <a:ahLst/>
              <a:rect l="l" t="t" r="r" b="b"/>
              <a:pathLst>
                <a:path w="382" h="147">
                  <a:moveTo>
                    <a:pt x="0" y="0"/>
                  </a:moveTo>
                  <a:lnTo>
                    <a:pt x="19" y="0"/>
                  </a:lnTo>
                  <a:lnTo>
                    <a:pt x="34" y="2"/>
                  </a:lnTo>
                  <a:lnTo>
                    <a:pt x="46" y="2"/>
                  </a:lnTo>
                  <a:lnTo>
                    <a:pt x="55" y="2"/>
                  </a:lnTo>
                  <a:lnTo>
                    <a:pt x="61" y="2"/>
                  </a:lnTo>
                  <a:lnTo>
                    <a:pt x="65" y="2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110" y="32"/>
                  </a:lnTo>
                  <a:lnTo>
                    <a:pt x="155" y="55"/>
                  </a:lnTo>
                  <a:lnTo>
                    <a:pt x="199" y="72"/>
                  </a:lnTo>
                  <a:lnTo>
                    <a:pt x="244" y="85"/>
                  </a:lnTo>
                  <a:lnTo>
                    <a:pt x="282" y="94"/>
                  </a:lnTo>
                  <a:lnTo>
                    <a:pt x="312" y="98"/>
                  </a:lnTo>
                  <a:lnTo>
                    <a:pt x="333" y="100"/>
                  </a:lnTo>
                  <a:lnTo>
                    <a:pt x="340" y="100"/>
                  </a:lnTo>
                  <a:lnTo>
                    <a:pt x="382" y="132"/>
                  </a:lnTo>
                  <a:lnTo>
                    <a:pt x="372" y="147"/>
                  </a:lnTo>
                  <a:lnTo>
                    <a:pt x="297" y="102"/>
                  </a:lnTo>
                  <a:lnTo>
                    <a:pt x="306" y="130"/>
                  </a:lnTo>
                  <a:lnTo>
                    <a:pt x="259" y="115"/>
                  </a:lnTo>
                  <a:lnTo>
                    <a:pt x="210" y="96"/>
                  </a:lnTo>
                  <a:lnTo>
                    <a:pt x="159" y="74"/>
                  </a:lnTo>
                  <a:lnTo>
                    <a:pt x="110" y="53"/>
                  </a:lnTo>
                  <a:lnTo>
                    <a:pt x="65" y="32"/>
                  </a:lnTo>
                  <a:lnTo>
                    <a:pt x="31" y="15"/>
                  </a:lnTo>
                  <a:lnTo>
                    <a:pt x="8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08840" y="5424480"/>
              <a:ext cx="120600" cy="12852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2" y="0"/>
                  </a:moveTo>
                  <a:lnTo>
                    <a:pt x="0" y="55"/>
                  </a:lnTo>
                  <a:lnTo>
                    <a:pt x="19" y="59"/>
                  </a:lnTo>
                  <a:lnTo>
                    <a:pt x="34" y="68"/>
                  </a:lnTo>
                  <a:lnTo>
                    <a:pt x="42" y="76"/>
                  </a:lnTo>
                  <a:lnTo>
                    <a:pt x="47" y="81"/>
                  </a:lnTo>
                  <a:lnTo>
                    <a:pt x="76" y="64"/>
                  </a:lnTo>
                  <a:lnTo>
                    <a:pt x="59" y="55"/>
                  </a:lnTo>
                  <a:lnTo>
                    <a:pt x="44" y="47"/>
                  </a:lnTo>
                  <a:lnTo>
                    <a:pt x="32" y="36"/>
                  </a:lnTo>
                  <a:lnTo>
                    <a:pt x="21" y="25"/>
                  </a:lnTo>
                  <a:lnTo>
                    <a:pt x="12" y="15"/>
                  </a:lnTo>
                  <a:lnTo>
                    <a:pt x="6" y="6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11480" y="4998960"/>
              <a:ext cx="449280" cy="554040"/>
            </a:xfrm>
            <a:custGeom>
              <a:avLst/>
              <a:gdLst/>
              <a:ahLst/>
              <a:rect l="l" t="t" r="r" b="b"/>
              <a:pathLst>
                <a:path w="283" h="349">
                  <a:moveTo>
                    <a:pt x="0" y="0"/>
                  </a:moveTo>
                  <a:lnTo>
                    <a:pt x="15" y="17"/>
                  </a:lnTo>
                  <a:lnTo>
                    <a:pt x="30" y="32"/>
                  </a:lnTo>
                  <a:lnTo>
                    <a:pt x="43" y="40"/>
                  </a:lnTo>
                  <a:lnTo>
                    <a:pt x="55" y="47"/>
                  </a:lnTo>
                  <a:lnTo>
                    <a:pt x="64" y="51"/>
                  </a:lnTo>
                  <a:lnTo>
                    <a:pt x="70" y="53"/>
                  </a:lnTo>
                  <a:lnTo>
                    <a:pt x="74" y="55"/>
                  </a:lnTo>
                  <a:lnTo>
                    <a:pt x="77" y="55"/>
                  </a:lnTo>
                  <a:lnTo>
                    <a:pt x="96" y="81"/>
                  </a:lnTo>
                  <a:lnTo>
                    <a:pt x="115" y="102"/>
                  </a:lnTo>
                  <a:lnTo>
                    <a:pt x="132" y="117"/>
                  </a:lnTo>
                  <a:lnTo>
                    <a:pt x="149" y="128"/>
                  </a:lnTo>
                  <a:lnTo>
                    <a:pt x="164" y="136"/>
                  </a:lnTo>
                  <a:lnTo>
                    <a:pt x="174" y="140"/>
                  </a:lnTo>
                  <a:lnTo>
                    <a:pt x="183" y="145"/>
                  </a:lnTo>
                  <a:lnTo>
                    <a:pt x="185" y="145"/>
                  </a:lnTo>
                  <a:lnTo>
                    <a:pt x="206" y="172"/>
                  </a:lnTo>
                  <a:lnTo>
                    <a:pt x="225" y="204"/>
                  </a:lnTo>
                  <a:lnTo>
                    <a:pt x="240" y="238"/>
                  </a:lnTo>
                  <a:lnTo>
                    <a:pt x="255" y="272"/>
                  </a:lnTo>
                  <a:lnTo>
                    <a:pt x="268" y="302"/>
                  </a:lnTo>
                  <a:lnTo>
                    <a:pt x="277" y="325"/>
                  </a:lnTo>
                  <a:lnTo>
                    <a:pt x="281" y="342"/>
                  </a:lnTo>
                  <a:lnTo>
                    <a:pt x="283" y="349"/>
                  </a:lnTo>
                  <a:lnTo>
                    <a:pt x="194" y="200"/>
                  </a:lnTo>
                  <a:lnTo>
                    <a:pt x="191" y="236"/>
                  </a:lnTo>
                  <a:lnTo>
                    <a:pt x="164" y="215"/>
                  </a:lnTo>
                  <a:lnTo>
                    <a:pt x="145" y="196"/>
                  </a:lnTo>
                  <a:lnTo>
                    <a:pt x="128" y="176"/>
                  </a:lnTo>
                  <a:lnTo>
                    <a:pt x="115" y="159"/>
                  </a:lnTo>
                  <a:lnTo>
                    <a:pt x="106" y="147"/>
                  </a:lnTo>
                  <a:lnTo>
                    <a:pt x="102" y="136"/>
                  </a:lnTo>
                  <a:lnTo>
                    <a:pt x="98" y="130"/>
                  </a:lnTo>
                  <a:lnTo>
                    <a:pt x="98" y="128"/>
                  </a:lnTo>
                  <a:lnTo>
                    <a:pt x="57" y="111"/>
                  </a:lnTo>
                  <a:lnTo>
                    <a:pt x="55" y="1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457200"/>
            <a:ext cx="8001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ahoma"/>
              </a:rPr>
              <a:t>КРОЛИК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676520" y="2971800"/>
            <a:ext cx="5409720" cy="3487320"/>
            <a:chOff x="1676520" y="2971800"/>
            <a:chExt cx="5409720" cy="3487320"/>
          </a:xfrm>
        </p:grpSpPr>
        <p:sp>
          <p:nvSpPr>
            <p:cNvPr id="105" name=""/>
            <p:cNvSpPr/>
            <p:nvPr/>
          </p:nvSpPr>
          <p:spPr>
            <a:xfrm>
              <a:off x="1676520" y="2971800"/>
              <a:ext cx="5409720" cy="3487320"/>
            </a:xfrm>
            <a:custGeom>
              <a:avLst/>
              <a:gdLst/>
              <a:ahLst/>
              <a:rect l="l" t="t" r="r" b="b"/>
              <a:pathLst>
                <a:path w="2672" h="1590">
                  <a:moveTo>
                    <a:pt x="52" y="775"/>
                  </a:moveTo>
                  <a:lnTo>
                    <a:pt x="257" y="852"/>
                  </a:lnTo>
                  <a:lnTo>
                    <a:pt x="272" y="828"/>
                  </a:lnTo>
                  <a:lnTo>
                    <a:pt x="289" y="801"/>
                  </a:lnTo>
                  <a:lnTo>
                    <a:pt x="310" y="770"/>
                  </a:lnTo>
                  <a:lnTo>
                    <a:pt x="331" y="738"/>
                  </a:lnTo>
                  <a:lnTo>
                    <a:pt x="353" y="709"/>
                  </a:lnTo>
                  <a:lnTo>
                    <a:pt x="375" y="683"/>
                  </a:lnTo>
                  <a:lnTo>
                    <a:pt x="395" y="663"/>
                  </a:lnTo>
                  <a:lnTo>
                    <a:pt x="414" y="649"/>
                  </a:lnTo>
                  <a:lnTo>
                    <a:pt x="433" y="641"/>
                  </a:lnTo>
                  <a:lnTo>
                    <a:pt x="455" y="632"/>
                  </a:lnTo>
                  <a:lnTo>
                    <a:pt x="477" y="623"/>
                  </a:lnTo>
                  <a:lnTo>
                    <a:pt x="500" y="615"/>
                  </a:lnTo>
                  <a:lnTo>
                    <a:pt x="520" y="607"/>
                  </a:lnTo>
                  <a:lnTo>
                    <a:pt x="541" y="600"/>
                  </a:lnTo>
                  <a:lnTo>
                    <a:pt x="558" y="593"/>
                  </a:lnTo>
                  <a:lnTo>
                    <a:pt x="571" y="588"/>
                  </a:lnTo>
                  <a:lnTo>
                    <a:pt x="583" y="584"/>
                  </a:lnTo>
                  <a:lnTo>
                    <a:pt x="593" y="578"/>
                  </a:lnTo>
                  <a:lnTo>
                    <a:pt x="603" y="572"/>
                  </a:lnTo>
                  <a:lnTo>
                    <a:pt x="612" y="565"/>
                  </a:lnTo>
                  <a:lnTo>
                    <a:pt x="618" y="556"/>
                  </a:lnTo>
                  <a:lnTo>
                    <a:pt x="622" y="546"/>
                  </a:lnTo>
                  <a:lnTo>
                    <a:pt x="623" y="533"/>
                  </a:lnTo>
                  <a:lnTo>
                    <a:pt x="622" y="517"/>
                  </a:lnTo>
                  <a:lnTo>
                    <a:pt x="607" y="501"/>
                  </a:lnTo>
                  <a:lnTo>
                    <a:pt x="588" y="482"/>
                  </a:lnTo>
                  <a:lnTo>
                    <a:pt x="568" y="462"/>
                  </a:lnTo>
                  <a:lnTo>
                    <a:pt x="548" y="442"/>
                  </a:lnTo>
                  <a:lnTo>
                    <a:pt x="529" y="420"/>
                  </a:lnTo>
                  <a:lnTo>
                    <a:pt x="511" y="399"/>
                  </a:lnTo>
                  <a:lnTo>
                    <a:pt x="498" y="382"/>
                  </a:lnTo>
                  <a:lnTo>
                    <a:pt x="491" y="366"/>
                  </a:lnTo>
                  <a:lnTo>
                    <a:pt x="482" y="338"/>
                  </a:lnTo>
                  <a:lnTo>
                    <a:pt x="472" y="314"/>
                  </a:lnTo>
                  <a:lnTo>
                    <a:pt x="461" y="292"/>
                  </a:lnTo>
                  <a:lnTo>
                    <a:pt x="449" y="274"/>
                  </a:lnTo>
                  <a:lnTo>
                    <a:pt x="440" y="264"/>
                  </a:lnTo>
                  <a:lnTo>
                    <a:pt x="429" y="250"/>
                  </a:lnTo>
                  <a:lnTo>
                    <a:pt x="414" y="234"/>
                  </a:lnTo>
                  <a:lnTo>
                    <a:pt x="398" y="215"/>
                  </a:lnTo>
                  <a:lnTo>
                    <a:pt x="384" y="197"/>
                  </a:lnTo>
                  <a:lnTo>
                    <a:pt x="371" y="178"/>
                  </a:lnTo>
                  <a:lnTo>
                    <a:pt x="362" y="164"/>
                  </a:lnTo>
                  <a:lnTo>
                    <a:pt x="356" y="151"/>
                  </a:lnTo>
                  <a:lnTo>
                    <a:pt x="350" y="127"/>
                  </a:lnTo>
                  <a:lnTo>
                    <a:pt x="346" y="103"/>
                  </a:lnTo>
                  <a:lnTo>
                    <a:pt x="346" y="84"/>
                  </a:lnTo>
                  <a:lnTo>
                    <a:pt x="353" y="74"/>
                  </a:lnTo>
                  <a:lnTo>
                    <a:pt x="371" y="74"/>
                  </a:lnTo>
                  <a:lnTo>
                    <a:pt x="391" y="78"/>
                  </a:lnTo>
                  <a:lnTo>
                    <a:pt x="411" y="85"/>
                  </a:lnTo>
                  <a:lnTo>
                    <a:pt x="430" y="96"/>
                  </a:lnTo>
                  <a:lnTo>
                    <a:pt x="449" y="106"/>
                  </a:lnTo>
                  <a:lnTo>
                    <a:pt x="465" y="116"/>
                  </a:lnTo>
                  <a:lnTo>
                    <a:pt x="478" y="123"/>
                  </a:lnTo>
                  <a:lnTo>
                    <a:pt x="487" y="127"/>
                  </a:lnTo>
                  <a:lnTo>
                    <a:pt x="495" y="129"/>
                  </a:lnTo>
                  <a:lnTo>
                    <a:pt x="507" y="132"/>
                  </a:lnTo>
                  <a:lnTo>
                    <a:pt x="520" y="136"/>
                  </a:lnTo>
                  <a:lnTo>
                    <a:pt x="536" y="141"/>
                  </a:lnTo>
                  <a:lnTo>
                    <a:pt x="551" y="145"/>
                  </a:lnTo>
                  <a:lnTo>
                    <a:pt x="565" y="151"/>
                  </a:lnTo>
                  <a:lnTo>
                    <a:pt x="578" y="155"/>
                  </a:lnTo>
                  <a:lnTo>
                    <a:pt x="590" y="161"/>
                  </a:lnTo>
                  <a:lnTo>
                    <a:pt x="602" y="168"/>
                  </a:lnTo>
                  <a:lnTo>
                    <a:pt x="618" y="178"/>
                  </a:lnTo>
                  <a:lnTo>
                    <a:pt x="636" y="191"/>
                  </a:lnTo>
                  <a:lnTo>
                    <a:pt x="657" y="207"/>
                  </a:lnTo>
                  <a:lnTo>
                    <a:pt x="679" y="226"/>
                  </a:lnTo>
                  <a:lnTo>
                    <a:pt x="702" y="250"/>
                  </a:lnTo>
                  <a:lnTo>
                    <a:pt x="725" y="276"/>
                  </a:lnTo>
                  <a:lnTo>
                    <a:pt x="747" y="305"/>
                  </a:lnTo>
                  <a:lnTo>
                    <a:pt x="756" y="285"/>
                  </a:lnTo>
                  <a:lnTo>
                    <a:pt x="770" y="261"/>
                  </a:lnTo>
                  <a:lnTo>
                    <a:pt x="789" y="237"/>
                  </a:lnTo>
                  <a:lnTo>
                    <a:pt x="814" y="210"/>
                  </a:lnTo>
                  <a:lnTo>
                    <a:pt x="841" y="184"/>
                  </a:lnTo>
                  <a:lnTo>
                    <a:pt x="870" y="157"/>
                  </a:lnTo>
                  <a:lnTo>
                    <a:pt x="902" y="129"/>
                  </a:lnTo>
                  <a:lnTo>
                    <a:pt x="936" y="103"/>
                  </a:lnTo>
                  <a:lnTo>
                    <a:pt x="969" y="80"/>
                  </a:lnTo>
                  <a:lnTo>
                    <a:pt x="1003" y="58"/>
                  </a:lnTo>
                  <a:lnTo>
                    <a:pt x="1035" y="37"/>
                  </a:lnTo>
                  <a:lnTo>
                    <a:pt x="1065" y="21"/>
                  </a:lnTo>
                  <a:lnTo>
                    <a:pt x="1093" y="10"/>
                  </a:lnTo>
                  <a:lnTo>
                    <a:pt x="1116" y="2"/>
                  </a:lnTo>
                  <a:lnTo>
                    <a:pt x="1135" y="0"/>
                  </a:lnTo>
                  <a:lnTo>
                    <a:pt x="1149" y="2"/>
                  </a:lnTo>
                  <a:lnTo>
                    <a:pt x="1162" y="29"/>
                  </a:lnTo>
                  <a:lnTo>
                    <a:pt x="1165" y="81"/>
                  </a:lnTo>
                  <a:lnTo>
                    <a:pt x="1160" y="151"/>
                  </a:lnTo>
                  <a:lnTo>
                    <a:pt x="1145" y="232"/>
                  </a:lnTo>
                  <a:lnTo>
                    <a:pt x="1123" y="314"/>
                  </a:lnTo>
                  <a:lnTo>
                    <a:pt x="1096" y="389"/>
                  </a:lnTo>
                  <a:lnTo>
                    <a:pt x="1062" y="449"/>
                  </a:lnTo>
                  <a:lnTo>
                    <a:pt x="1026" y="485"/>
                  </a:lnTo>
                  <a:lnTo>
                    <a:pt x="1016" y="491"/>
                  </a:lnTo>
                  <a:lnTo>
                    <a:pt x="1001" y="497"/>
                  </a:lnTo>
                  <a:lnTo>
                    <a:pt x="984" y="507"/>
                  </a:lnTo>
                  <a:lnTo>
                    <a:pt x="966" y="517"/>
                  </a:lnTo>
                  <a:lnTo>
                    <a:pt x="950" y="530"/>
                  </a:lnTo>
                  <a:lnTo>
                    <a:pt x="937" y="546"/>
                  </a:lnTo>
                  <a:lnTo>
                    <a:pt x="927" y="565"/>
                  </a:lnTo>
                  <a:lnTo>
                    <a:pt x="924" y="586"/>
                  </a:lnTo>
                  <a:lnTo>
                    <a:pt x="933" y="594"/>
                  </a:lnTo>
                  <a:lnTo>
                    <a:pt x="943" y="603"/>
                  </a:lnTo>
                  <a:lnTo>
                    <a:pt x="955" y="613"/>
                  </a:lnTo>
                  <a:lnTo>
                    <a:pt x="968" y="622"/>
                  </a:lnTo>
                  <a:lnTo>
                    <a:pt x="981" y="628"/>
                  </a:lnTo>
                  <a:lnTo>
                    <a:pt x="994" y="631"/>
                  </a:lnTo>
                  <a:lnTo>
                    <a:pt x="1007" y="629"/>
                  </a:lnTo>
                  <a:lnTo>
                    <a:pt x="1019" y="622"/>
                  </a:lnTo>
                  <a:lnTo>
                    <a:pt x="1030" y="612"/>
                  </a:lnTo>
                  <a:lnTo>
                    <a:pt x="1040" y="604"/>
                  </a:lnTo>
                  <a:lnTo>
                    <a:pt x="1049" y="597"/>
                  </a:lnTo>
                  <a:lnTo>
                    <a:pt x="1058" y="591"/>
                  </a:lnTo>
                  <a:lnTo>
                    <a:pt x="1065" y="586"/>
                  </a:lnTo>
                  <a:lnTo>
                    <a:pt x="1074" y="581"/>
                  </a:lnTo>
                  <a:lnTo>
                    <a:pt x="1081" y="578"/>
                  </a:lnTo>
                  <a:lnTo>
                    <a:pt x="1090" y="575"/>
                  </a:lnTo>
                  <a:lnTo>
                    <a:pt x="1103" y="588"/>
                  </a:lnTo>
                  <a:lnTo>
                    <a:pt x="1110" y="583"/>
                  </a:lnTo>
                  <a:lnTo>
                    <a:pt x="1119" y="578"/>
                  </a:lnTo>
                  <a:lnTo>
                    <a:pt x="1126" y="574"/>
                  </a:lnTo>
                  <a:lnTo>
                    <a:pt x="1133" y="570"/>
                  </a:lnTo>
                  <a:lnTo>
                    <a:pt x="1141" y="565"/>
                  </a:lnTo>
                  <a:lnTo>
                    <a:pt x="1148" y="561"/>
                  </a:lnTo>
                  <a:lnTo>
                    <a:pt x="1154" y="558"/>
                  </a:lnTo>
                  <a:lnTo>
                    <a:pt x="1160" y="555"/>
                  </a:lnTo>
                  <a:lnTo>
                    <a:pt x="1174" y="568"/>
                  </a:lnTo>
                  <a:lnTo>
                    <a:pt x="1189" y="564"/>
                  </a:lnTo>
                  <a:lnTo>
                    <a:pt x="1205" y="562"/>
                  </a:lnTo>
                  <a:lnTo>
                    <a:pt x="1221" y="561"/>
                  </a:lnTo>
                  <a:lnTo>
                    <a:pt x="1235" y="562"/>
                  </a:lnTo>
                  <a:lnTo>
                    <a:pt x="1250" y="564"/>
                  </a:lnTo>
                  <a:lnTo>
                    <a:pt x="1261" y="567"/>
                  </a:lnTo>
                  <a:lnTo>
                    <a:pt x="1273" y="570"/>
                  </a:lnTo>
                  <a:lnTo>
                    <a:pt x="1282" y="574"/>
                  </a:lnTo>
                  <a:lnTo>
                    <a:pt x="1290" y="578"/>
                  </a:lnTo>
                  <a:lnTo>
                    <a:pt x="1299" y="584"/>
                  </a:lnTo>
                  <a:lnTo>
                    <a:pt x="1308" y="588"/>
                  </a:lnTo>
                  <a:lnTo>
                    <a:pt x="1319" y="593"/>
                  </a:lnTo>
                  <a:lnTo>
                    <a:pt x="1330" y="597"/>
                  </a:lnTo>
                  <a:lnTo>
                    <a:pt x="1341" y="597"/>
                  </a:lnTo>
                  <a:lnTo>
                    <a:pt x="1353" y="596"/>
                  </a:lnTo>
                  <a:lnTo>
                    <a:pt x="1364" y="591"/>
                  </a:lnTo>
                  <a:lnTo>
                    <a:pt x="1376" y="584"/>
                  </a:lnTo>
                  <a:lnTo>
                    <a:pt x="1389" y="577"/>
                  </a:lnTo>
                  <a:lnTo>
                    <a:pt x="1402" y="570"/>
                  </a:lnTo>
                  <a:lnTo>
                    <a:pt x="1417" y="561"/>
                  </a:lnTo>
                  <a:lnTo>
                    <a:pt x="1430" y="555"/>
                  </a:lnTo>
                  <a:lnTo>
                    <a:pt x="1444" y="549"/>
                  </a:lnTo>
                  <a:lnTo>
                    <a:pt x="1459" y="546"/>
                  </a:lnTo>
                  <a:lnTo>
                    <a:pt x="1473" y="545"/>
                  </a:lnTo>
                  <a:lnTo>
                    <a:pt x="1485" y="533"/>
                  </a:lnTo>
                  <a:lnTo>
                    <a:pt x="1498" y="524"/>
                  </a:lnTo>
                  <a:lnTo>
                    <a:pt x="1511" y="514"/>
                  </a:lnTo>
                  <a:lnTo>
                    <a:pt x="1524" y="507"/>
                  </a:lnTo>
                  <a:lnTo>
                    <a:pt x="1537" y="501"/>
                  </a:lnTo>
                  <a:lnTo>
                    <a:pt x="1549" y="497"/>
                  </a:lnTo>
                  <a:lnTo>
                    <a:pt x="1561" y="494"/>
                  </a:lnTo>
                  <a:lnTo>
                    <a:pt x="1569" y="492"/>
                  </a:lnTo>
                  <a:lnTo>
                    <a:pt x="1577" y="492"/>
                  </a:lnTo>
                  <a:lnTo>
                    <a:pt x="1585" y="491"/>
                  </a:lnTo>
                  <a:lnTo>
                    <a:pt x="1593" y="491"/>
                  </a:lnTo>
                  <a:lnTo>
                    <a:pt x="1600" y="488"/>
                  </a:lnTo>
                  <a:lnTo>
                    <a:pt x="1607" y="487"/>
                  </a:lnTo>
                  <a:lnTo>
                    <a:pt x="1613" y="482"/>
                  </a:lnTo>
                  <a:lnTo>
                    <a:pt x="1620" y="478"/>
                  </a:lnTo>
                  <a:lnTo>
                    <a:pt x="1627" y="474"/>
                  </a:lnTo>
                  <a:lnTo>
                    <a:pt x="1638" y="466"/>
                  </a:lnTo>
                  <a:lnTo>
                    <a:pt x="1654" y="455"/>
                  </a:lnTo>
                  <a:lnTo>
                    <a:pt x="1675" y="442"/>
                  </a:lnTo>
                  <a:lnTo>
                    <a:pt x="1700" y="427"/>
                  </a:lnTo>
                  <a:lnTo>
                    <a:pt x="1728" y="412"/>
                  </a:lnTo>
                  <a:lnTo>
                    <a:pt x="1758" y="399"/>
                  </a:lnTo>
                  <a:lnTo>
                    <a:pt x="1792" y="391"/>
                  </a:lnTo>
                  <a:lnTo>
                    <a:pt x="1824" y="385"/>
                  </a:lnTo>
                  <a:lnTo>
                    <a:pt x="1822" y="396"/>
                  </a:lnTo>
                  <a:lnTo>
                    <a:pt x="1840" y="394"/>
                  </a:lnTo>
                  <a:lnTo>
                    <a:pt x="1858" y="392"/>
                  </a:lnTo>
                  <a:lnTo>
                    <a:pt x="1876" y="391"/>
                  </a:lnTo>
                  <a:lnTo>
                    <a:pt x="1893" y="389"/>
                  </a:lnTo>
                  <a:lnTo>
                    <a:pt x="1911" y="389"/>
                  </a:lnTo>
                  <a:lnTo>
                    <a:pt x="1928" y="389"/>
                  </a:lnTo>
                  <a:lnTo>
                    <a:pt x="1944" y="391"/>
                  </a:lnTo>
                  <a:lnTo>
                    <a:pt x="1959" y="392"/>
                  </a:lnTo>
                  <a:lnTo>
                    <a:pt x="1957" y="402"/>
                  </a:lnTo>
                  <a:lnTo>
                    <a:pt x="1976" y="404"/>
                  </a:lnTo>
                  <a:lnTo>
                    <a:pt x="1998" y="407"/>
                  </a:lnTo>
                  <a:lnTo>
                    <a:pt x="2020" y="412"/>
                  </a:lnTo>
                  <a:lnTo>
                    <a:pt x="2043" y="418"/>
                  </a:lnTo>
                  <a:lnTo>
                    <a:pt x="2066" y="426"/>
                  </a:lnTo>
                  <a:lnTo>
                    <a:pt x="2090" y="436"/>
                  </a:lnTo>
                  <a:lnTo>
                    <a:pt x="2114" y="446"/>
                  </a:lnTo>
                  <a:lnTo>
                    <a:pt x="2139" y="459"/>
                  </a:lnTo>
                  <a:lnTo>
                    <a:pt x="2162" y="472"/>
                  </a:lnTo>
                  <a:lnTo>
                    <a:pt x="2187" y="487"/>
                  </a:lnTo>
                  <a:lnTo>
                    <a:pt x="2209" y="503"/>
                  </a:lnTo>
                  <a:lnTo>
                    <a:pt x="2230" y="520"/>
                  </a:lnTo>
                  <a:lnTo>
                    <a:pt x="2251" y="539"/>
                  </a:lnTo>
                  <a:lnTo>
                    <a:pt x="2270" y="559"/>
                  </a:lnTo>
                  <a:lnTo>
                    <a:pt x="2287" y="581"/>
                  </a:lnTo>
                  <a:lnTo>
                    <a:pt x="2302" y="603"/>
                  </a:lnTo>
                  <a:lnTo>
                    <a:pt x="2286" y="616"/>
                  </a:lnTo>
                  <a:lnTo>
                    <a:pt x="2294" y="626"/>
                  </a:lnTo>
                  <a:lnTo>
                    <a:pt x="2306" y="639"/>
                  </a:lnTo>
                  <a:lnTo>
                    <a:pt x="2316" y="654"/>
                  </a:lnTo>
                  <a:lnTo>
                    <a:pt x="2328" y="670"/>
                  </a:lnTo>
                  <a:lnTo>
                    <a:pt x="2338" y="686"/>
                  </a:lnTo>
                  <a:lnTo>
                    <a:pt x="2348" y="702"/>
                  </a:lnTo>
                  <a:lnTo>
                    <a:pt x="2354" y="718"/>
                  </a:lnTo>
                  <a:lnTo>
                    <a:pt x="2358" y="732"/>
                  </a:lnTo>
                  <a:lnTo>
                    <a:pt x="2348" y="748"/>
                  </a:lnTo>
                  <a:lnTo>
                    <a:pt x="2355" y="767"/>
                  </a:lnTo>
                  <a:lnTo>
                    <a:pt x="2366" y="788"/>
                  </a:lnTo>
                  <a:lnTo>
                    <a:pt x="2374" y="809"/>
                  </a:lnTo>
                  <a:lnTo>
                    <a:pt x="2383" y="833"/>
                  </a:lnTo>
                  <a:lnTo>
                    <a:pt x="2390" y="857"/>
                  </a:lnTo>
                  <a:lnTo>
                    <a:pt x="2395" y="884"/>
                  </a:lnTo>
                  <a:lnTo>
                    <a:pt x="2393" y="911"/>
                  </a:lnTo>
                  <a:lnTo>
                    <a:pt x="2387" y="939"/>
                  </a:lnTo>
                  <a:lnTo>
                    <a:pt x="2393" y="936"/>
                  </a:lnTo>
                  <a:lnTo>
                    <a:pt x="2399" y="933"/>
                  </a:lnTo>
                  <a:lnTo>
                    <a:pt x="2405" y="930"/>
                  </a:lnTo>
                  <a:lnTo>
                    <a:pt x="2411" y="927"/>
                  </a:lnTo>
                  <a:lnTo>
                    <a:pt x="2418" y="926"/>
                  </a:lnTo>
                  <a:lnTo>
                    <a:pt x="2424" y="926"/>
                  </a:lnTo>
                  <a:lnTo>
                    <a:pt x="2431" y="926"/>
                  </a:lnTo>
                  <a:lnTo>
                    <a:pt x="2438" y="926"/>
                  </a:lnTo>
                  <a:lnTo>
                    <a:pt x="2443" y="910"/>
                  </a:lnTo>
                  <a:lnTo>
                    <a:pt x="2454" y="898"/>
                  </a:lnTo>
                  <a:lnTo>
                    <a:pt x="2469" y="891"/>
                  </a:lnTo>
                  <a:lnTo>
                    <a:pt x="2486" y="889"/>
                  </a:lnTo>
                  <a:lnTo>
                    <a:pt x="2504" y="892"/>
                  </a:lnTo>
                  <a:lnTo>
                    <a:pt x="2521" y="901"/>
                  </a:lnTo>
                  <a:lnTo>
                    <a:pt x="2533" y="917"/>
                  </a:lnTo>
                  <a:lnTo>
                    <a:pt x="2540" y="937"/>
                  </a:lnTo>
                  <a:lnTo>
                    <a:pt x="2550" y="934"/>
                  </a:lnTo>
                  <a:lnTo>
                    <a:pt x="2560" y="934"/>
                  </a:lnTo>
                  <a:lnTo>
                    <a:pt x="2570" y="936"/>
                  </a:lnTo>
                  <a:lnTo>
                    <a:pt x="2581" y="940"/>
                  </a:lnTo>
                  <a:lnTo>
                    <a:pt x="2588" y="945"/>
                  </a:lnTo>
                  <a:lnTo>
                    <a:pt x="2595" y="952"/>
                  </a:lnTo>
                  <a:lnTo>
                    <a:pt x="2600" y="961"/>
                  </a:lnTo>
                  <a:lnTo>
                    <a:pt x="2601" y="969"/>
                  </a:lnTo>
                  <a:lnTo>
                    <a:pt x="2620" y="968"/>
                  </a:lnTo>
                  <a:lnTo>
                    <a:pt x="2636" y="971"/>
                  </a:lnTo>
                  <a:lnTo>
                    <a:pt x="2650" y="978"/>
                  </a:lnTo>
                  <a:lnTo>
                    <a:pt x="2662" y="988"/>
                  </a:lnTo>
                  <a:lnTo>
                    <a:pt x="2668" y="1000"/>
                  </a:lnTo>
                  <a:lnTo>
                    <a:pt x="2669" y="1012"/>
                  </a:lnTo>
                  <a:lnTo>
                    <a:pt x="2665" y="1023"/>
                  </a:lnTo>
                  <a:lnTo>
                    <a:pt x="2653" y="1032"/>
                  </a:lnTo>
                  <a:lnTo>
                    <a:pt x="2662" y="1046"/>
                  </a:lnTo>
                  <a:lnTo>
                    <a:pt x="2669" y="1064"/>
                  </a:lnTo>
                  <a:lnTo>
                    <a:pt x="2672" y="1083"/>
                  </a:lnTo>
                  <a:lnTo>
                    <a:pt x="2672" y="1102"/>
                  </a:lnTo>
                  <a:lnTo>
                    <a:pt x="2668" y="1121"/>
                  </a:lnTo>
                  <a:lnTo>
                    <a:pt x="2658" y="1137"/>
                  </a:lnTo>
                  <a:lnTo>
                    <a:pt x="2642" y="1150"/>
                  </a:lnTo>
                  <a:lnTo>
                    <a:pt x="2618" y="1160"/>
                  </a:lnTo>
                  <a:lnTo>
                    <a:pt x="2613" y="1174"/>
                  </a:lnTo>
                  <a:lnTo>
                    <a:pt x="2600" y="1188"/>
                  </a:lnTo>
                  <a:lnTo>
                    <a:pt x="2584" y="1199"/>
                  </a:lnTo>
                  <a:lnTo>
                    <a:pt x="2563" y="1208"/>
                  </a:lnTo>
                  <a:lnTo>
                    <a:pt x="2541" y="1212"/>
                  </a:lnTo>
                  <a:lnTo>
                    <a:pt x="2521" y="1211"/>
                  </a:lnTo>
                  <a:lnTo>
                    <a:pt x="2502" y="1205"/>
                  </a:lnTo>
                  <a:lnTo>
                    <a:pt x="2486" y="1192"/>
                  </a:lnTo>
                  <a:lnTo>
                    <a:pt x="2469" y="1203"/>
                  </a:lnTo>
                  <a:lnTo>
                    <a:pt x="2448" y="1211"/>
                  </a:lnTo>
                  <a:lnTo>
                    <a:pt x="2427" y="1215"/>
                  </a:lnTo>
                  <a:lnTo>
                    <a:pt x="2405" y="1215"/>
                  </a:lnTo>
                  <a:lnTo>
                    <a:pt x="2386" y="1211"/>
                  </a:lnTo>
                  <a:lnTo>
                    <a:pt x="2369" y="1203"/>
                  </a:lnTo>
                  <a:lnTo>
                    <a:pt x="2358" y="1190"/>
                  </a:lnTo>
                  <a:lnTo>
                    <a:pt x="2354" y="1174"/>
                  </a:lnTo>
                  <a:lnTo>
                    <a:pt x="2345" y="1179"/>
                  </a:lnTo>
                  <a:lnTo>
                    <a:pt x="2337" y="1183"/>
                  </a:lnTo>
                  <a:lnTo>
                    <a:pt x="2331" y="1192"/>
                  </a:lnTo>
                  <a:lnTo>
                    <a:pt x="2329" y="1203"/>
                  </a:lnTo>
                  <a:lnTo>
                    <a:pt x="2322" y="1201"/>
                  </a:lnTo>
                  <a:lnTo>
                    <a:pt x="2315" y="1199"/>
                  </a:lnTo>
                  <a:lnTo>
                    <a:pt x="2306" y="1196"/>
                  </a:lnTo>
                  <a:lnTo>
                    <a:pt x="2299" y="1193"/>
                  </a:lnTo>
                  <a:lnTo>
                    <a:pt x="2290" y="1192"/>
                  </a:lnTo>
                  <a:lnTo>
                    <a:pt x="2283" y="1190"/>
                  </a:lnTo>
                  <a:lnTo>
                    <a:pt x="2277" y="1189"/>
                  </a:lnTo>
                  <a:lnTo>
                    <a:pt x="2273" y="1188"/>
                  </a:lnTo>
                  <a:lnTo>
                    <a:pt x="2276" y="1195"/>
                  </a:lnTo>
                  <a:lnTo>
                    <a:pt x="2278" y="1201"/>
                  </a:lnTo>
                  <a:lnTo>
                    <a:pt x="2283" y="1208"/>
                  </a:lnTo>
                  <a:lnTo>
                    <a:pt x="2290" y="1215"/>
                  </a:lnTo>
                  <a:lnTo>
                    <a:pt x="2280" y="1215"/>
                  </a:lnTo>
                  <a:lnTo>
                    <a:pt x="2268" y="1217"/>
                  </a:lnTo>
                  <a:lnTo>
                    <a:pt x="2258" y="1219"/>
                  </a:lnTo>
                  <a:lnTo>
                    <a:pt x="2246" y="1221"/>
                  </a:lnTo>
                  <a:lnTo>
                    <a:pt x="2235" y="1224"/>
                  </a:lnTo>
                  <a:lnTo>
                    <a:pt x="2223" y="1225"/>
                  </a:lnTo>
                  <a:lnTo>
                    <a:pt x="2213" y="1225"/>
                  </a:lnTo>
                  <a:lnTo>
                    <a:pt x="2204" y="1224"/>
                  </a:lnTo>
                  <a:lnTo>
                    <a:pt x="2204" y="1230"/>
                  </a:lnTo>
                  <a:lnTo>
                    <a:pt x="2204" y="1237"/>
                  </a:lnTo>
                  <a:lnTo>
                    <a:pt x="2209" y="1243"/>
                  </a:lnTo>
                  <a:lnTo>
                    <a:pt x="2219" y="1249"/>
                  </a:lnTo>
                  <a:lnTo>
                    <a:pt x="2212" y="1249"/>
                  </a:lnTo>
                  <a:lnTo>
                    <a:pt x="2203" y="1249"/>
                  </a:lnTo>
                  <a:lnTo>
                    <a:pt x="2196" y="1247"/>
                  </a:lnTo>
                  <a:lnTo>
                    <a:pt x="2188" y="1247"/>
                  </a:lnTo>
                  <a:lnTo>
                    <a:pt x="2181" y="1246"/>
                  </a:lnTo>
                  <a:lnTo>
                    <a:pt x="2175" y="1244"/>
                  </a:lnTo>
                  <a:lnTo>
                    <a:pt x="2169" y="1243"/>
                  </a:lnTo>
                  <a:lnTo>
                    <a:pt x="2164" y="1241"/>
                  </a:lnTo>
                  <a:lnTo>
                    <a:pt x="2162" y="1249"/>
                  </a:lnTo>
                  <a:lnTo>
                    <a:pt x="2161" y="1257"/>
                  </a:lnTo>
                  <a:lnTo>
                    <a:pt x="2161" y="1266"/>
                  </a:lnTo>
                  <a:lnTo>
                    <a:pt x="2165" y="1273"/>
                  </a:lnTo>
                  <a:lnTo>
                    <a:pt x="2169" y="1276"/>
                  </a:lnTo>
                  <a:lnTo>
                    <a:pt x="2177" y="1282"/>
                  </a:lnTo>
                  <a:lnTo>
                    <a:pt x="2184" y="1288"/>
                  </a:lnTo>
                  <a:lnTo>
                    <a:pt x="2193" y="1297"/>
                  </a:lnTo>
                  <a:lnTo>
                    <a:pt x="2200" y="1305"/>
                  </a:lnTo>
                  <a:lnTo>
                    <a:pt x="2207" y="1315"/>
                  </a:lnTo>
                  <a:lnTo>
                    <a:pt x="2212" y="1326"/>
                  </a:lnTo>
                  <a:lnTo>
                    <a:pt x="2214" y="1336"/>
                  </a:lnTo>
                  <a:lnTo>
                    <a:pt x="2214" y="1347"/>
                  </a:lnTo>
                  <a:lnTo>
                    <a:pt x="2212" y="1362"/>
                  </a:lnTo>
                  <a:lnTo>
                    <a:pt x="2204" y="1377"/>
                  </a:lnTo>
                  <a:lnTo>
                    <a:pt x="2194" y="1393"/>
                  </a:lnTo>
                  <a:lnTo>
                    <a:pt x="2178" y="1409"/>
                  </a:lnTo>
                  <a:lnTo>
                    <a:pt x="2155" y="1425"/>
                  </a:lnTo>
                  <a:lnTo>
                    <a:pt x="2124" y="1439"/>
                  </a:lnTo>
                  <a:lnTo>
                    <a:pt x="2085" y="1452"/>
                  </a:lnTo>
                  <a:lnTo>
                    <a:pt x="2063" y="1458"/>
                  </a:lnTo>
                  <a:lnTo>
                    <a:pt x="2042" y="1464"/>
                  </a:lnTo>
                  <a:lnTo>
                    <a:pt x="2021" y="1470"/>
                  </a:lnTo>
                  <a:lnTo>
                    <a:pt x="1999" y="1475"/>
                  </a:lnTo>
                  <a:lnTo>
                    <a:pt x="1979" y="1480"/>
                  </a:lnTo>
                  <a:lnTo>
                    <a:pt x="1960" y="1486"/>
                  </a:lnTo>
                  <a:lnTo>
                    <a:pt x="1941" y="1491"/>
                  </a:lnTo>
                  <a:lnTo>
                    <a:pt x="1922" y="1496"/>
                  </a:lnTo>
                  <a:lnTo>
                    <a:pt x="1905" y="1500"/>
                  </a:lnTo>
                  <a:lnTo>
                    <a:pt x="1889" y="1506"/>
                  </a:lnTo>
                  <a:lnTo>
                    <a:pt x="1874" y="1510"/>
                  </a:lnTo>
                  <a:lnTo>
                    <a:pt x="1861" y="1515"/>
                  </a:lnTo>
                  <a:lnTo>
                    <a:pt x="1850" y="1518"/>
                  </a:lnTo>
                  <a:lnTo>
                    <a:pt x="1841" y="1522"/>
                  </a:lnTo>
                  <a:lnTo>
                    <a:pt x="1832" y="1525"/>
                  </a:lnTo>
                  <a:lnTo>
                    <a:pt x="1827" y="1528"/>
                  </a:lnTo>
                  <a:lnTo>
                    <a:pt x="1816" y="1534"/>
                  </a:lnTo>
                  <a:lnTo>
                    <a:pt x="1808" y="1542"/>
                  </a:lnTo>
                  <a:lnTo>
                    <a:pt x="1797" y="1550"/>
                  </a:lnTo>
                  <a:lnTo>
                    <a:pt x="1787" y="1557"/>
                  </a:lnTo>
                  <a:lnTo>
                    <a:pt x="1776" y="1564"/>
                  </a:lnTo>
                  <a:lnTo>
                    <a:pt x="1763" y="1568"/>
                  </a:lnTo>
                  <a:lnTo>
                    <a:pt x="1747" y="1570"/>
                  </a:lnTo>
                  <a:lnTo>
                    <a:pt x="1729" y="1568"/>
                  </a:lnTo>
                  <a:lnTo>
                    <a:pt x="1722" y="1576"/>
                  </a:lnTo>
                  <a:lnTo>
                    <a:pt x="1713" y="1582"/>
                  </a:lnTo>
                  <a:lnTo>
                    <a:pt x="1706" y="1586"/>
                  </a:lnTo>
                  <a:lnTo>
                    <a:pt x="1697" y="1589"/>
                  </a:lnTo>
                  <a:lnTo>
                    <a:pt x="1687" y="1589"/>
                  </a:lnTo>
                  <a:lnTo>
                    <a:pt x="1678" y="1589"/>
                  </a:lnTo>
                  <a:lnTo>
                    <a:pt x="1668" y="1584"/>
                  </a:lnTo>
                  <a:lnTo>
                    <a:pt x="1659" y="1579"/>
                  </a:lnTo>
                  <a:lnTo>
                    <a:pt x="1648" y="1586"/>
                  </a:lnTo>
                  <a:lnTo>
                    <a:pt x="1633" y="1589"/>
                  </a:lnTo>
                  <a:lnTo>
                    <a:pt x="1619" y="1590"/>
                  </a:lnTo>
                  <a:lnTo>
                    <a:pt x="1603" y="1589"/>
                  </a:lnTo>
                  <a:lnTo>
                    <a:pt x="1587" y="1584"/>
                  </a:lnTo>
                  <a:lnTo>
                    <a:pt x="1572" y="1576"/>
                  </a:lnTo>
                  <a:lnTo>
                    <a:pt x="1559" y="1563"/>
                  </a:lnTo>
                  <a:lnTo>
                    <a:pt x="1550" y="1545"/>
                  </a:lnTo>
                  <a:lnTo>
                    <a:pt x="1536" y="1542"/>
                  </a:lnTo>
                  <a:lnTo>
                    <a:pt x="1521" y="1535"/>
                  </a:lnTo>
                  <a:lnTo>
                    <a:pt x="1510" y="1528"/>
                  </a:lnTo>
                  <a:lnTo>
                    <a:pt x="1500" y="1518"/>
                  </a:lnTo>
                  <a:lnTo>
                    <a:pt x="1492" y="1507"/>
                  </a:lnTo>
                  <a:lnTo>
                    <a:pt x="1486" y="1494"/>
                  </a:lnTo>
                  <a:lnTo>
                    <a:pt x="1484" y="1483"/>
                  </a:lnTo>
                  <a:lnTo>
                    <a:pt x="1485" y="1470"/>
                  </a:lnTo>
                  <a:lnTo>
                    <a:pt x="1491" y="1446"/>
                  </a:lnTo>
                  <a:lnTo>
                    <a:pt x="1502" y="1423"/>
                  </a:lnTo>
                  <a:lnTo>
                    <a:pt x="1516" y="1400"/>
                  </a:lnTo>
                  <a:lnTo>
                    <a:pt x="1533" y="1378"/>
                  </a:lnTo>
                  <a:lnTo>
                    <a:pt x="1550" y="1359"/>
                  </a:lnTo>
                  <a:lnTo>
                    <a:pt x="1568" y="1343"/>
                  </a:lnTo>
                  <a:lnTo>
                    <a:pt x="1584" y="1333"/>
                  </a:lnTo>
                  <a:lnTo>
                    <a:pt x="1598" y="1329"/>
                  </a:lnTo>
                  <a:lnTo>
                    <a:pt x="1611" y="1329"/>
                  </a:lnTo>
                  <a:lnTo>
                    <a:pt x="1622" y="1327"/>
                  </a:lnTo>
                  <a:lnTo>
                    <a:pt x="1633" y="1327"/>
                  </a:lnTo>
                  <a:lnTo>
                    <a:pt x="1643" y="1329"/>
                  </a:lnTo>
                  <a:lnTo>
                    <a:pt x="1655" y="1330"/>
                  </a:lnTo>
                  <a:lnTo>
                    <a:pt x="1667" y="1331"/>
                  </a:lnTo>
                  <a:lnTo>
                    <a:pt x="1680" y="1334"/>
                  </a:lnTo>
                  <a:lnTo>
                    <a:pt x="1694" y="1339"/>
                  </a:lnTo>
                  <a:lnTo>
                    <a:pt x="1709" y="1320"/>
                  </a:lnTo>
                  <a:lnTo>
                    <a:pt x="1703" y="1320"/>
                  </a:lnTo>
                  <a:lnTo>
                    <a:pt x="1697" y="1320"/>
                  </a:lnTo>
                  <a:lnTo>
                    <a:pt x="1690" y="1318"/>
                  </a:lnTo>
                  <a:lnTo>
                    <a:pt x="1684" y="1315"/>
                  </a:lnTo>
                  <a:lnTo>
                    <a:pt x="1677" y="1313"/>
                  </a:lnTo>
                  <a:lnTo>
                    <a:pt x="1670" y="1310"/>
                  </a:lnTo>
                  <a:lnTo>
                    <a:pt x="1662" y="1304"/>
                  </a:lnTo>
                  <a:lnTo>
                    <a:pt x="1655" y="1298"/>
                  </a:lnTo>
                  <a:lnTo>
                    <a:pt x="1643" y="1302"/>
                  </a:lnTo>
                  <a:lnTo>
                    <a:pt x="1630" y="1305"/>
                  </a:lnTo>
                  <a:lnTo>
                    <a:pt x="1619" y="1310"/>
                  </a:lnTo>
                  <a:lnTo>
                    <a:pt x="1606" y="1311"/>
                  </a:lnTo>
                  <a:lnTo>
                    <a:pt x="1593" y="1313"/>
                  </a:lnTo>
                  <a:lnTo>
                    <a:pt x="1581" y="1313"/>
                  </a:lnTo>
                  <a:lnTo>
                    <a:pt x="1569" y="1311"/>
                  </a:lnTo>
                  <a:lnTo>
                    <a:pt x="1558" y="1308"/>
                  </a:lnTo>
                  <a:lnTo>
                    <a:pt x="1564" y="1307"/>
                  </a:lnTo>
                  <a:lnTo>
                    <a:pt x="1569" y="1305"/>
                  </a:lnTo>
                  <a:lnTo>
                    <a:pt x="1574" y="1304"/>
                  </a:lnTo>
                  <a:lnTo>
                    <a:pt x="1578" y="1301"/>
                  </a:lnTo>
                  <a:lnTo>
                    <a:pt x="1555" y="1304"/>
                  </a:lnTo>
                  <a:lnTo>
                    <a:pt x="1524" y="1305"/>
                  </a:lnTo>
                  <a:lnTo>
                    <a:pt x="1492" y="1307"/>
                  </a:lnTo>
                  <a:lnTo>
                    <a:pt x="1459" y="1308"/>
                  </a:lnTo>
                  <a:lnTo>
                    <a:pt x="1425" y="1311"/>
                  </a:lnTo>
                  <a:lnTo>
                    <a:pt x="1396" y="1315"/>
                  </a:lnTo>
                  <a:lnTo>
                    <a:pt x="1373" y="1323"/>
                  </a:lnTo>
                  <a:lnTo>
                    <a:pt x="1359" y="1333"/>
                  </a:lnTo>
                  <a:lnTo>
                    <a:pt x="1348" y="1346"/>
                  </a:lnTo>
                  <a:lnTo>
                    <a:pt x="1340" y="1362"/>
                  </a:lnTo>
                  <a:lnTo>
                    <a:pt x="1331" y="1378"/>
                  </a:lnTo>
                  <a:lnTo>
                    <a:pt x="1324" y="1393"/>
                  </a:lnTo>
                  <a:lnTo>
                    <a:pt x="1318" y="1407"/>
                  </a:lnTo>
                  <a:lnTo>
                    <a:pt x="1312" y="1419"/>
                  </a:lnTo>
                  <a:lnTo>
                    <a:pt x="1308" y="1427"/>
                  </a:lnTo>
                  <a:lnTo>
                    <a:pt x="1305" y="1432"/>
                  </a:lnTo>
                  <a:lnTo>
                    <a:pt x="1298" y="1435"/>
                  </a:lnTo>
                  <a:lnTo>
                    <a:pt x="1287" y="1435"/>
                  </a:lnTo>
                  <a:lnTo>
                    <a:pt x="1276" y="1435"/>
                  </a:lnTo>
                  <a:lnTo>
                    <a:pt x="1267" y="1433"/>
                  </a:lnTo>
                  <a:lnTo>
                    <a:pt x="1260" y="1442"/>
                  </a:lnTo>
                  <a:lnTo>
                    <a:pt x="1253" y="1449"/>
                  </a:lnTo>
                  <a:lnTo>
                    <a:pt x="1244" y="1457"/>
                  </a:lnTo>
                  <a:lnTo>
                    <a:pt x="1235" y="1462"/>
                  </a:lnTo>
                  <a:lnTo>
                    <a:pt x="1226" y="1467"/>
                  </a:lnTo>
                  <a:lnTo>
                    <a:pt x="1216" y="1471"/>
                  </a:lnTo>
                  <a:lnTo>
                    <a:pt x="1203" y="1472"/>
                  </a:lnTo>
                  <a:lnTo>
                    <a:pt x="1190" y="1474"/>
                  </a:lnTo>
                  <a:lnTo>
                    <a:pt x="1176" y="1474"/>
                  </a:lnTo>
                  <a:lnTo>
                    <a:pt x="1161" y="1475"/>
                  </a:lnTo>
                  <a:lnTo>
                    <a:pt x="1146" y="1478"/>
                  </a:lnTo>
                  <a:lnTo>
                    <a:pt x="1132" y="1481"/>
                  </a:lnTo>
                  <a:lnTo>
                    <a:pt x="1119" y="1484"/>
                  </a:lnTo>
                  <a:lnTo>
                    <a:pt x="1107" y="1488"/>
                  </a:lnTo>
                  <a:lnTo>
                    <a:pt x="1097" y="1491"/>
                  </a:lnTo>
                  <a:lnTo>
                    <a:pt x="1088" y="1496"/>
                  </a:lnTo>
                  <a:lnTo>
                    <a:pt x="1080" y="1500"/>
                  </a:lnTo>
                  <a:lnTo>
                    <a:pt x="1071" y="1503"/>
                  </a:lnTo>
                  <a:lnTo>
                    <a:pt x="1062" y="1507"/>
                  </a:lnTo>
                  <a:lnTo>
                    <a:pt x="1052" y="1512"/>
                  </a:lnTo>
                  <a:lnTo>
                    <a:pt x="1043" y="1515"/>
                  </a:lnTo>
                  <a:lnTo>
                    <a:pt x="1035" y="1516"/>
                  </a:lnTo>
                  <a:lnTo>
                    <a:pt x="1027" y="1519"/>
                  </a:lnTo>
                  <a:lnTo>
                    <a:pt x="1020" y="1519"/>
                  </a:lnTo>
                  <a:lnTo>
                    <a:pt x="1014" y="1519"/>
                  </a:lnTo>
                  <a:lnTo>
                    <a:pt x="1007" y="1518"/>
                  </a:lnTo>
                  <a:lnTo>
                    <a:pt x="1000" y="1516"/>
                  </a:lnTo>
                  <a:lnTo>
                    <a:pt x="991" y="1513"/>
                  </a:lnTo>
                  <a:lnTo>
                    <a:pt x="984" y="1510"/>
                  </a:lnTo>
                  <a:lnTo>
                    <a:pt x="976" y="1507"/>
                  </a:lnTo>
                  <a:lnTo>
                    <a:pt x="971" y="1506"/>
                  </a:lnTo>
                  <a:lnTo>
                    <a:pt x="965" y="1503"/>
                  </a:lnTo>
                  <a:lnTo>
                    <a:pt x="959" y="1507"/>
                  </a:lnTo>
                  <a:lnTo>
                    <a:pt x="952" y="1510"/>
                  </a:lnTo>
                  <a:lnTo>
                    <a:pt x="944" y="1513"/>
                  </a:lnTo>
                  <a:lnTo>
                    <a:pt x="937" y="1515"/>
                  </a:lnTo>
                  <a:lnTo>
                    <a:pt x="930" y="1518"/>
                  </a:lnTo>
                  <a:lnTo>
                    <a:pt x="924" y="1518"/>
                  </a:lnTo>
                  <a:lnTo>
                    <a:pt x="918" y="1516"/>
                  </a:lnTo>
                  <a:lnTo>
                    <a:pt x="914" y="1515"/>
                  </a:lnTo>
                  <a:lnTo>
                    <a:pt x="905" y="1507"/>
                  </a:lnTo>
                  <a:lnTo>
                    <a:pt x="894" y="1497"/>
                  </a:lnTo>
                  <a:lnTo>
                    <a:pt x="882" y="1487"/>
                  </a:lnTo>
                  <a:lnTo>
                    <a:pt x="872" y="1477"/>
                  </a:lnTo>
                  <a:lnTo>
                    <a:pt x="863" y="1475"/>
                  </a:lnTo>
                  <a:lnTo>
                    <a:pt x="854" y="1472"/>
                  </a:lnTo>
                  <a:lnTo>
                    <a:pt x="844" y="1471"/>
                  </a:lnTo>
                  <a:lnTo>
                    <a:pt x="836" y="1468"/>
                  </a:lnTo>
                  <a:lnTo>
                    <a:pt x="825" y="1467"/>
                  </a:lnTo>
                  <a:lnTo>
                    <a:pt x="818" y="1464"/>
                  </a:lnTo>
                  <a:lnTo>
                    <a:pt x="812" y="1461"/>
                  </a:lnTo>
                  <a:lnTo>
                    <a:pt x="808" y="1458"/>
                  </a:lnTo>
                  <a:lnTo>
                    <a:pt x="812" y="1448"/>
                  </a:lnTo>
                  <a:lnTo>
                    <a:pt x="820" y="1435"/>
                  </a:lnTo>
                  <a:lnTo>
                    <a:pt x="828" y="1420"/>
                  </a:lnTo>
                  <a:lnTo>
                    <a:pt x="838" y="1407"/>
                  </a:lnTo>
                  <a:lnTo>
                    <a:pt x="847" y="1394"/>
                  </a:lnTo>
                  <a:lnTo>
                    <a:pt x="856" y="1382"/>
                  </a:lnTo>
                  <a:lnTo>
                    <a:pt x="863" y="1375"/>
                  </a:lnTo>
                  <a:lnTo>
                    <a:pt x="867" y="1371"/>
                  </a:lnTo>
                  <a:lnTo>
                    <a:pt x="872" y="1368"/>
                  </a:lnTo>
                  <a:lnTo>
                    <a:pt x="879" y="1365"/>
                  </a:lnTo>
                  <a:lnTo>
                    <a:pt x="885" y="1361"/>
                  </a:lnTo>
                  <a:lnTo>
                    <a:pt x="889" y="1355"/>
                  </a:lnTo>
                  <a:lnTo>
                    <a:pt x="892" y="1350"/>
                  </a:lnTo>
                  <a:lnTo>
                    <a:pt x="897" y="1343"/>
                  </a:lnTo>
                  <a:lnTo>
                    <a:pt x="902" y="1336"/>
                  </a:lnTo>
                  <a:lnTo>
                    <a:pt x="910" y="1327"/>
                  </a:lnTo>
                  <a:lnTo>
                    <a:pt x="918" y="1320"/>
                  </a:lnTo>
                  <a:lnTo>
                    <a:pt x="929" y="1314"/>
                  </a:lnTo>
                  <a:lnTo>
                    <a:pt x="940" y="1311"/>
                  </a:lnTo>
                  <a:lnTo>
                    <a:pt x="952" y="1311"/>
                  </a:lnTo>
                  <a:lnTo>
                    <a:pt x="963" y="1313"/>
                  </a:lnTo>
                  <a:lnTo>
                    <a:pt x="975" y="1315"/>
                  </a:lnTo>
                  <a:lnTo>
                    <a:pt x="984" y="1317"/>
                  </a:lnTo>
                  <a:lnTo>
                    <a:pt x="992" y="1318"/>
                  </a:lnTo>
                  <a:lnTo>
                    <a:pt x="1000" y="1320"/>
                  </a:lnTo>
                  <a:lnTo>
                    <a:pt x="1006" y="1321"/>
                  </a:lnTo>
                  <a:lnTo>
                    <a:pt x="1011" y="1323"/>
                  </a:lnTo>
                  <a:lnTo>
                    <a:pt x="1017" y="1324"/>
                  </a:lnTo>
                  <a:lnTo>
                    <a:pt x="1026" y="1317"/>
                  </a:lnTo>
                  <a:lnTo>
                    <a:pt x="1033" y="1308"/>
                  </a:lnTo>
                  <a:lnTo>
                    <a:pt x="1040" y="1301"/>
                  </a:lnTo>
                  <a:lnTo>
                    <a:pt x="1046" y="1295"/>
                  </a:lnTo>
                  <a:lnTo>
                    <a:pt x="1036" y="1294"/>
                  </a:lnTo>
                  <a:lnTo>
                    <a:pt x="1027" y="1291"/>
                  </a:lnTo>
                  <a:lnTo>
                    <a:pt x="1020" y="1289"/>
                  </a:lnTo>
                  <a:lnTo>
                    <a:pt x="1013" y="1288"/>
                  </a:lnTo>
                  <a:lnTo>
                    <a:pt x="994" y="1295"/>
                  </a:lnTo>
                  <a:lnTo>
                    <a:pt x="974" y="1301"/>
                  </a:lnTo>
                  <a:lnTo>
                    <a:pt x="952" y="1307"/>
                  </a:lnTo>
                  <a:lnTo>
                    <a:pt x="929" y="1313"/>
                  </a:lnTo>
                  <a:lnTo>
                    <a:pt x="907" y="1317"/>
                  </a:lnTo>
                  <a:lnTo>
                    <a:pt x="886" y="1320"/>
                  </a:lnTo>
                  <a:lnTo>
                    <a:pt x="870" y="1324"/>
                  </a:lnTo>
                  <a:lnTo>
                    <a:pt x="857" y="1326"/>
                  </a:lnTo>
                  <a:lnTo>
                    <a:pt x="852" y="1327"/>
                  </a:lnTo>
                  <a:lnTo>
                    <a:pt x="843" y="1329"/>
                  </a:lnTo>
                  <a:lnTo>
                    <a:pt x="833" y="1331"/>
                  </a:lnTo>
                  <a:lnTo>
                    <a:pt x="820" y="1334"/>
                  </a:lnTo>
                  <a:lnTo>
                    <a:pt x="806" y="1336"/>
                  </a:lnTo>
                  <a:lnTo>
                    <a:pt x="790" y="1339"/>
                  </a:lnTo>
                  <a:lnTo>
                    <a:pt x="774" y="1342"/>
                  </a:lnTo>
                  <a:lnTo>
                    <a:pt x="757" y="1343"/>
                  </a:lnTo>
                  <a:lnTo>
                    <a:pt x="740" y="1345"/>
                  </a:lnTo>
                  <a:lnTo>
                    <a:pt x="722" y="1346"/>
                  </a:lnTo>
                  <a:lnTo>
                    <a:pt x="703" y="1345"/>
                  </a:lnTo>
                  <a:lnTo>
                    <a:pt x="686" y="1343"/>
                  </a:lnTo>
                  <a:lnTo>
                    <a:pt x="667" y="1340"/>
                  </a:lnTo>
                  <a:lnTo>
                    <a:pt x="650" y="1336"/>
                  </a:lnTo>
                  <a:lnTo>
                    <a:pt x="634" y="1330"/>
                  </a:lnTo>
                  <a:lnTo>
                    <a:pt x="618" y="1321"/>
                  </a:lnTo>
                  <a:lnTo>
                    <a:pt x="622" y="1307"/>
                  </a:lnTo>
                  <a:lnTo>
                    <a:pt x="629" y="1294"/>
                  </a:lnTo>
                  <a:lnTo>
                    <a:pt x="636" y="1281"/>
                  </a:lnTo>
                  <a:lnTo>
                    <a:pt x="645" y="1269"/>
                  </a:lnTo>
                  <a:lnTo>
                    <a:pt x="655" y="1260"/>
                  </a:lnTo>
                  <a:lnTo>
                    <a:pt x="666" y="1251"/>
                  </a:lnTo>
                  <a:lnTo>
                    <a:pt x="677" y="1246"/>
                  </a:lnTo>
                  <a:lnTo>
                    <a:pt x="690" y="1243"/>
                  </a:lnTo>
                  <a:lnTo>
                    <a:pt x="705" y="1240"/>
                  </a:lnTo>
                  <a:lnTo>
                    <a:pt x="721" y="1237"/>
                  </a:lnTo>
                  <a:lnTo>
                    <a:pt x="738" y="1233"/>
                  </a:lnTo>
                  <a:lnTo>
                    <a:pt x="756" y="1228"/>
                  </a:lnTo>
                  <a:lnTo>
                    <a:pt x="772" y="1222"/>
                  </a:lnTo>
                  <a:lnTo>
                    <a:pt x="786" y="1218"/>
                  </a:lnTo>
                  <a:lnTo>
                    <a:pt x="798" y="1212"/>
                  </a:lnTo>
                  <a:lnTo>
                    <a:pt x="806" y="1208"/>
                  </a:lnTo>
                  <a:lnTo>
                    <a:pt x="799" y="1193"/>
                  </a:lnTo>
                  <a:lnTo>
                    <a:pt x="789" y="1182"/>
                  </a:lnTo>
                  <a:lnTo>
                    <a:pt x="777" y="1174"/>
                  </a:lnTo>
                  <a:lnTo>
                    <a:pt x="766" y="1172"/>
                  </a:lnTo>
                  <a:lnTo>
                    <a:pt x="766" y="1156"/>
                  </a:lnTo>
                  <a:lnTo>
                    <a:pt x="756" y="1142"/>
                  </a:lnTo>
                  <a:lnTo>
                    <a:pt x="745" y="1129"/>
                  </a:lnTo>
                  <a:lnTo>
                    <a:pt x="738" y="1118"/>
                  </a:lnTo>
                  <a:lnTo>
                    <a:pt x="732" y="1110"/>
                  </a:lnTo>
                  <a:lnTo>
                    <a:pt x="731" y="1108"/>
                  </a:lnTo>
                  <a:lnTo>
                    <a:pt x="728" y="1105"/>
                  </a:lnTo>
                  <a:lnTo>
                    <a:pt x="725" y="1102"/>
                  </a:lnTo>
                  <a:lnTo>
                    <a:pt x="721" y="1097"/>
                  </a:lnTo>
                  <a:lnTo>
                    <a:pt x="715" y="1094"/>
                  </a:lnTo>
                  <a:lnTo>
                    <a:pt x="709" y="1092"/>
                  </a:lnTo>
                  <a:lnTo>
                    <a:pt x="699" y="1089"/>
                  </a:lnTo>
                  <a:lnTo>
                    <a:pt x="689" y="1087"/>
                  </a:lnTo>
                  <a:lnTo>
                    <a:pt x="676" y="1086"/>
                  </a:lnTo>
                  <a:lnTo>
                    <a:pt x="661" y="1084"/>
                  </a:lnTo>
                  <a:lnTo>
                    <a:pt x="647" y="1083"/>
                  </a:lnTo>
                  <a:lnTo>
                    <a:pt x="631" y="1081"/>
                  </a:lnTo>
                  <a:lnTo>
                    <a:pt x="616" y="1080"/>
                  </a:lnTo>
                  <a:lnTo>
                    <a:pt x="604" y="1080"/>
                  </a:lnTo>
                  <a:lnTo>
                    <a:pt x="593" y="1078"/>
                  </a:lnTo>
                  <a:lnTo>
                    <a:pt x="586" y="1078"/>
                  </a:lnTo>
                  <a:lnTo>
                    <a:pt x="574" y="1077"/>
                  </a:lnTo>
                  <a:lnTo>
                    <a:pt x="561" y="1074"/>
                  </a:lnTo>
                  <a:lnTo>
                    <a:pt x="552" y="1070"/>
                  </a:lnTo>
                  <a:lnTo>
                    <a:pt x="545" y="1065"/>
                  </a:lnTo>
                  <a:lnTo>
                    <a:pt x="538" y="1065"/>
                  </a:lnTo>
                  <a:lnTo>
                    <a:pt x="532" y="1065"/>
                  </a:lnTo>
                  <a:lnTo>
                    <a:pt x="525" y="1065"/>
                  </a:lnTo>
                  <a:lnTo>
                    <a:pt x="519" y="1064"/>
                  </a:lnTo>
                  <a:lnTo>
                    <a:pt x="513" y="1064"/>
                  </a:lnTo>
                  <a:lnTo>
                    <a:pt x="507" y="1062"/>
                  </a:lnTo>
                  <a:lnTo>
                    <a:pt x="501" y="1060"/>
                  </a:lnTo>
                  <a:lnTo>
                    <a:pt x="497" y="1058"/>
                  </a:lnTo>
                  <a:lnTo>
                    <a:pt x="488" y="1054"/>
                  </a:lnTo>
                  <a:lnTo>
                    <a:pt x="480" y="1048"/>
                  </a:lnTo>
                  <a:lnTo>
                    <a:pt x="471" y="1045"/>
                  </a:lnTo>
                  <a:lnTo>
                    <a:pt x="462" y="1042"/>
                  </a:lnTo>
                  <a:lnTo>
                    <a:pt x="455" y="1042"/>
                  </a:lnTo>
                  <a:lnTo>
                    <a:pt x="440" y="1042"/>
                  </a:lnTo>
                  <a:lnTo>
                    <a:pt x="421" y="1044"/>
                  </a:lnTo>
                  <a:lnTo>
                    <a:pt x="400" y="1044"/>
                  </a:lnTo>
                  <a:lnTo>
                    <a:pt x="379" y="1044"/>
                  </a:lnTo>
                  <a:lnTo>
                    <a:pt x="359" y="1044"/>
                  </a:lnTo>
                  <a:lnTo>
                    <a:pt x="343" y="1041"/>
                  </a:lnTo>
                  <a:lnTo>
                    <a:pt x="333" y="1038"/>
                  </a:lnTo>
                  <a:lnTo>
                    <a:pt x="325" y="1032"/>
                  </a:lnTo>
                  <a:lnTo>
                    <a:pt x="317" y="1025"/>
                  </a:lnTo>
                  <a:lnTo>
                    <a:pt x="308" y="1016"/>
                  </a:lnTo>
                  <a:lnTo>
                    <a:pt x="298" y="1007"/>
                  </a:lnTo>
                  <a:lnTo>
                    <a:pt x="289" y="997"/>
                  </a:lnTo>
                  <a:lnTo>
                    <a:pt x="279" y="988"/>
                  </a:lnTo>
                  <a:lnTo>
                    <a:pt x="272" y="981"/>
                  </a:lnTo>
                  <a:lnTo>
                    <a:pt x="264" y="977"/>
                  </a:lnTo>
                  <a:lnTo>
                    <a:pt x="257" y="972"/>
                  </a:lnTo>
                  <a:lnTo>
                    <a:pt x="247" y="965"/>
                  </a:lnTo>
                  <a:lnTo>
                    <a:pt x="237" y="958"/>
                  </a:lnTo>
                  <a:lnTo>
                    <a:pt x="228" y="949"/>
                  </a:lnTo>
                  <a:lnTo>
                    <a:pt x="219" y="940"/>
                  </a:lnTo>
                  <a:lnTo>
                    <a:pt x="215" y="930"/>
                  </a:lnTo>
                  <a:lnTo>
                    <a:pt x="215" y="920"/>
                  </a:lnTo>
                  <a:lnTo>
                    <a:pt x="221" y="910"/>
                  </a:lnTo>
                  <a:lnTo>
                    <a:pt x="108" y="881"/>
                  </a:lnTo>
                  <a:lnTo>
                    <a:pt x="228" y="897"/>
                  </a:lnTo>
                  <a:lnTo>
                    <a:pt x="235" y="887"/>
                  </a:lnTo>
                  <a:lnTo>
                    <a:pt x="0" y="805"/>
                  </a:lnTo>
                  <a:lnTo>
                    <a:pt x="241" y="878"/>
                  </a:lnTo>
                  <a:lnTo>
                    <a:pt x="253" y="863"/>
                  </a:lnTo>
                  <a:lnTo>
                    <a:pt x="52" y="7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47640" y="3221640"/>
              <a:ext cx="702720" cy="877320"/>
            </a:xfrm>
            <a:custGeom>
              <a:avLst/>
              <a:gdLst/>
              <a:ahLst/>
              <a:rect l="l" t="t" r="r" b="b"/>
              <a:pathLst>
                <a:path w="347" h="400">
                  <a:moveTo>
                    <a:pt x="0" y="0"/>
                  </a:moveTo>
                  <a:lnTo>
                    <a:pt x="16" y="11"/>
                  </a:lnTo>
                  <a:lnTo>
                    <a:pt x="32" y="21"/>
                  </a:lnTo>
                  <a:lnTo>
                    <a:pt x="49" y="29"/>
                  </a:lnTo>
                  <a:lnTo>
                    <a:pt x="68" y="37"/>
                  </a:lnTo>
                  <a:lnTo>
                    <a:pt x="85" y="44"/>
                  </a:lnTo>
                  <a:lnTo>
                    <a:pt x="103" y="50"/>
                  </a:lnTo>
                  <a:lnTo>
                    <a:pt x="120" y="56"/>
                  </a:lnTo>
                  <a:lnTo>
                    <a:pt x="135" y="60"/>
                  </a:lnTo>
                  <a:lnTo>
                    <a:pt x="151" y="66"/>
                  </a:lnTo>
                  <a:lnTo>
                    <a:pt x="171" y="75"/>
                  </a:lnTo>
                  <a:lnTo>
                    <a:pt x="193" y="88"/>
                  </a:lnTo>
                  <a:lnTo>
                    <a:pt x="219" y="107"/>
                  </a:lnTo>
                  <a:lnTo>
                    <a:pt x="248" y="133"/>
                  </a:lnTo>
                  <a:lnTo>
                    <a:pt x="279" y="169"/>
                  </a:lnTo>
                  <a:lnTo>
                    <a:pt x="312" y="214"/>
                  </a:lnTo>
                  <a:lnTo>
                    <a:pt x="347" y="271"/>
                  </a:lnTo>
                  <a:lnTo>
                    <a:pt x="341" y="285"/>
                  </a:lnTo>
                  <a:lnTo>
                    <a:pt x="334" y="301"/>
                  </a:lnTo>
                  <a:lnTo>
                    <a:pt x="328" y="320"/>
                  </a:lnTo>
                  <a:lnTo>
                    <a:pt x="321" y="339"/>
                  </a:lnTo>
                  <a:lnTo>
                    <a:pt x="314" y="358"/>
                  </a:lnTo>
                  <a:lnTo>
                    <a:pt x="308" y="376"/>
                  </a:lnTo>
                  <a:lnTo>
                    <a:pt x="300" y="390"/>
                  </a:lnTo>
                  <a:lnTo>
                    <a:pt x="295" y="400"/>
                  </a:lnTo>
                  <a:lnTo>
                    <a:pt x="267" y="377"/>
                  </a:lnTo>
                  <a:lnTo>
                    <a:pt x="241" y="351"/>
                  </a:lnTo>
                  <a:lnTo>
                    <a:pt x="215" y="322"/>
                  </a:lnTo>
                  <a:lnTo>
                    <a:pt x="190" y="293"/>
                  </a:lnTo>
                  <a:lnTo>
                    <a:pt x="167" y="264"/>
                  </a:lnTo>
                  <a:lnTo>
                    <a:pt x="145" y="235"/>
                  </a:lnTo>
                  <a:lnTo>
                    <a:pt x="126" y="205"/>
                  </a:lnTo>
                  <a:lnTo>
                    <a:pt x="109" y="178"/>
                  </a:lnTo>
                  <a:lnTo>
                    <a:pt x="94" y="153"/>
                  </a:lnTo>
                  <a:lnTo>
                    <a:pt x="77" y="127"/>
                  </a:lnTo>
                  <a:lnTo>
                    <a:pt x="58" y="99"/>
                  </a:lnTo>
                  <a:lnTo>
                    <a:pt x="40" y="73"/>
                  </a:lnTo>
                  <a:lnTo>
                    <a:pt x="24" y="48"/>
                  </a:lnTo>
                  <a:lnTo>
                    <a:pt x="11" y="27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97080" y="3028680"/>
              <a:ext cx="4243320" cy="3357720"/>
            </a:xfrm>
            <a:custGeom>
              <a:avLst/>
              <a:gdLst/>
              <a:ahLst/>
              <a:rect l="l" t="t" r="r" b="b"/>
              <a:pathLst>
                <a:path w="2096" h="1531">
                  <a:moveTo>
                    <a:pt x="881" y="49"/>
                  </a:moveTo>
                  <a:lnTo>
                    <a:pt x="875" y="43"/>
                  </a:lnTo>
                  <a:lnTo>
                    <a:pt x="869" y="40"/>
                  </a:lnTo>
                  <a:lnTo>
                    <a:pt x="862" y="38"/>
                  </a:lnTo>
                  <a:lnTo>
                    <a:pt x="853" y="38"/>
                  </a:lnTo>
                  <a:lnTo>
                    <a:pt x="844" y="39"/>
                  </a:lnTo>
                  <a:lnTo>
                    <a:pt x="836" y="40"/>
                  </a:lnTo>
                  <a:lnTo>
                    <a:pt x="826" y="45"/>
                  </a:lnTo>
                  <a:lnTo>
                    <a:pt x="817" y="51"/>
                  </a:lnTo>
                  <a:lnTo>
                    <a:pt x="799" y="64"/>
                  </a:lnTo>
                  <a:lnTo>
                    <a:pt x="770" y="84"/>
                  </a:lnTo>
                  <a:lnTo>
                    <a:pt x="737" y="110"/>
                  </a:lnTo>
                  <a:lnTo>
                    <a:pt x="699" y="141"/>
                  </a:lnTo>
                  <a:lnTo>
                    <a:pt x="663" y="173"/>
                  </a:lnTo>
                  <a:lnTo>
                    <a:pt x="631" y="206"/>
                  </a:lnTo>
                  <a:lnTo>
                    <a:pt x="608" y="238"/>
                  </a:lnTo>
                  <a:lnTo>
                    <a:pt x="597" y="267"/>
                  </a:lnTo>
                  <a:lnTo>
                    <a:pt x="595" y="301"/>
                  </a:lnTo>
                  <a:lnTo>
                    <a:pt x="592" y="330"/>
                  </a:lnTo>
                  <a:lnTo>
                    <a:pt x="589" y="354"/>
                  </a:lnTo>
                  <a:lnTo>
                    <a:pt x="581" y="375"/>
                  </a:lnTo>
                  <a:lnTo>
                    <a:pt x="570" y="400"/>
                  </a:lnTo>
                  <a:lnTo>
                    <a:pt x="557" y="433"/>
                  </a:lnTo>
                  <a:lnTo>
                    <a:pt x="548" y="471"/>
                  </a:lnTo>
                  <a:lnTo>
                    <a:pt x="549" y="504"/>
                  </a:lnTo>
                  <a:lnTo>
                    <a:pt x="563" y="501"/>
                  </a:lnTo>
                  <a:lnTo>
                    <a:pt x="577" y="491"/>
                  </a:lnTo>
                  <a:lnTo>
                    <a:pt x="596" y="475"/>
                  </a:lnTo>
                  <a:lnTo>
                    <a:pt x="613" y="456"/>
                  </a:lnTo>
                  <a:lnTo>
                    <a:pt x="631" y="439"/>
                  </a:lnTo>
                  <a:lnTo>
                    <a:pt x="645" y="423"/>
                  </a:lnTo>
                  <a:lnTo>
                    <a:pt x="657" y="413"/>
                  </a:lnTo>
                  <a:lnTo>
                    <a:pt x="664" y="410"/>
                  </a:lnTo>
                  <a:lnTo>
                    <a:pt x="669" y="413"/>
                  </a:lnTo>
                  <a:lnTo>
                    <a:pt x="676" y="416"/>
                  </a:lnTo>
                  <a:lnTo>
                    <a:pt x="683" y="420"/>
                  </a:lnTo>
                  <a:lnTo>
                    <a:pt x="695" y="423"/>
                  </a:lnTo>
                  <a:lnTo>
                    <a:pt x="706" y="423"/>
                  </a:lnTo>
                  <a:lnTo>
                    <a:pt x="721" y="421"/>
                  </a:lnTo>
                  <a:lnTo>
                    <a:pt x="738" y="417"/>
                  </a:lnTo>
                  <a:lnTo>
                    <a:pt x="759" y="407"/>
                  </a:lnTo>
                  <a:lnTo>
                    <a:pt x="751" y="416"/>
                  </a:lnTo>
                  <a:lnTo>
                    <a:pt x="743" y="423"/>
                  </a:lnTo>
                  <a:lnTo>
                    <a:pt x="733" y="430"/>
                  </a:lnTo>
                  <a:lnTo>
                    <a:pt x="721" y="437"/>
                  </a:lnTo>
                  <a:lnTo>
                    <a:pt x="709" y="443"/>
                  </a:lnTo>
                  <a:lnTo>
                    <a:pt x="699" y="449"/>
                  </a:lnTo>
                  <a:lnTo>
                    <a:pt x="689" y="456"/>
                  </a:lnTo>
                  <a:lnTo>
                    <a:pt x="680" y="464"/>
                  </a:lnTo>
                  <a:lnTo>
                    <a:pt x="672" y="472"/>
                  </a:lnTo>
                  <a:lnTo>
                    <a:pt x="663" y="482"/>
                  </a:lnTo>
                  <a:lnTo>
                    <a:pt x="653" y="494"/>
                  </a:lnTo>
                  <a:lnTo>
                    <a:pt x="644" y="506"/>
                  </a:lnTo>
                  <a:lnTo>
                    <a:pt x="635" y="520"/>
                  </a:lnTo>
                  <a:lnTo>
                    <a:pt x="629" y="535"/>
                  </a:lnTo>
                  <a:lnTo>
                    <a:pt x="626" y="551"/>
                  </a:lnTo>
                  <a:lnTo>
                    <a:pt x="628" y="567"/>
                  </a:lnTo>
                  <a:lnTo>
                    <a:pt x="637" y="605"/>
                  </a:lnTo>
                  <a:lnTo>
                    <a:pt x="645" y="645"/>
                  </a:lnTo>
                  <a:lnTo>
                    <a:pt x="644" y="680"/>
                  </a:lnTo>
                  <a:lnTo>
                    <a:pt x="626" y="699"/>
                  </a:lnTo>
                  <a:lnTo>
                    <a:pt x="619" y="701"/>
                  </a:lnTo>
                  <a:lnTo>
                    <a:pt x="610" y="702"/>
                  </a:lnTo>
                  <a:lnTo>
                    <a:pt x="605" y="703"/>
                  </a:lnTo>
                  <a:lnTo>
                    <a:pt x="597" y="705"/>
                  </a:lnTo>
                  <a:lnTo>
                    <a:pt x="593" y="708"/>
                  </a:lnTo>
                  <a:lnTo>
                    <a:pt x="589" y="712"/>
                  </a:lnTo>
                  <a:lnTo>
                    <a:pt x="587" y="717"/>
                  </a:lnTo>
                  <a:lnTo>
                    <a:pt x="587" y="724"/>
                  </a:lnTo>
                  <a:lnTo>
                    <a:pt x="595" y="735"/>
                  </a:lnTo>
                  <a:lnTo>
                    <a:pt x="606" y="737"/>
                  </a:lnTo>
                  <a:lnTo>
                    <a:pt x="619" y="731"/>
                  </a:lnTo>
                  <a:lnTo>
                    <a:pt x="629" y="722"/>
                  </a:lnTo>
                  <a:lnTo>
                    <a:pt x="635" y="717"/>
                  </a:lnTo>
                  <a:lnTo>
                    <a:pt x="641" y="711"/>
                  </a:lnTo>
                  <a:lnTo>
                    <a:pt x="648" y="703"/>
                  </a:lnTo>
                  <a:lnTo>
                    <a:pt x="657" y="696"/>
                  </a:lnTo>
                  <a:lnTo>
                    <a:pt x="666" y="690"/>
                  </a:lnTo>
                  <a:lnTo>
                    <a:pt x="674" y="686"/>
                  </a:lnTo>
                  <a:lnTo>
                    <a:pt x="682" y="682"/>
                  </a:lnTo>
                  <a:lnTo>
                    <a:pt x="689" y="680"/>
                  </a:lnTo>
                  <a:lnTo>
                    <a:pt x="696" y="679"/>
                  </a:lnTo>
                  <a:lnTo>
                    <a:pt x="703" y="676"/>
                  </a:lnTo>
                  <a:lnTo>
                    <a:pt x="714" y="671"/>
                  </a:lnTo>
                  <a:lnTo>
                    <a:pt x="724" y="667"/>
                  </a:lnTo>
                  <a:lnTo>
                    <a:pt x="733" y="661"/>
                  </a:lnTo>
                  <a:lnTo>
                    <a:pt x="743" y="655"/>
                  </a:lnTo>
                  <a:lnTo>
                    <a:pt x="751" y="648"/>
                  </a:lnTo>
                  <a:lnTo>
                    <a:pt x="759" y="642"/>
                  </a:lnTo>
                  <a:lnTo>
                    <a:pt x="767" y="635"/>
                  </a:lnTo>
                  <a:lnTo>
                    <a:pt x="778" y="626"/>
                  </a:lnTo>
                  <a:lnTo>
                    <a:pt x="792" y="616"/>
                  </a:lnTo>
                  <a:lnTo>
                    <a:pt x="810" y="606"/>
                  </a:lnTo>
                  <a:lnTo>
                    <a:pt x="828" y="597"/>
                  </a:lnTo>
                  <a:lnTo>
                    <a:pt x="849" y="590"/>
                  </a:lnTo>
                  <a:lnTo>
                    <a:pt x="872" y="586"/>
                  </a:lnTo>
                  <a:lnTo>
                    <a:pt x="895" y="583"/>
                  </a:lnTo>
                  <a:lnTo>
                    <a:pt x="920" y="583"/>
                  </a:lnTo>
                  <a:lnTo>
                    <a:pt x="943" y="584"/>
                  </a:lnTo>
                  <a:lnTo>
                    <a:pt x="965" y="587"/>
                  </a:lnTo>
                  <a:lnTo>
                    <a:pt x="987" y="590"/>
                  </a:lnTo>
                  <a:lnTo>
                    <a:pt x="1009" y="596"/>
                  </a:lnTo>
                  <a:lnTo>
                    <a:pt x="1029" y="603"/>
                  </a:lnTo>
                  <a:lnTo>
                    <a:pt x="1049" y="610"/>
                  </a:lnTo>
                  <a:lnTo>
                    <a:pt x="1068" y="621"/>
                  </a:lnTo>
                  <a:lnTo>
                    <a:pt x="1097" y="606"/>
                  </a:lnTo>
                  <a:lnTo>
                    <a:pt x="1128" y="590"/>
                  </a:lnTo>
                  <a:lnTo>
                    <a:pt x="1160" y="573"/>
                  </a:lnTo>
                  <a:lnTo>
                    <a:pt x="1192" y="557"/>
                  </a:lnTo>
                  <a:lnTo>
                    <a:pt x="1222" y="542"/>
                  </a:lnTo>
                  <a:lnTo>
                    <a:pt x="1250" y="528"/>
                  </a:lnTo>
                  <a:lnTo>
                    <a:pt x="1276" y="516"/>
                  </a:lnTo>
                  <a:lnTo>
                    <a:pt x="1299" y="507"/>
                  </a:lnTo>
                  <a:lnTo>
                    <a:pt x="1311" y="503"/>
                  </a:lnTo>
                  <a:lnTo>
                    <a:pt x="1324" y="497"/>
                  </a:lnTo>
                  <a:lnTo>
                    <a:pt x="1340" y="490"/>
                  </a:lnTo>
                  <a:lnTo>
                    <a:pt x="1357" y="482"/>
                  </a:lnTo>
                  <a:lnTo>
                    <a:pt x="1378" y="474"/>
                  </a:lnTo>
                  <a:lnTo>
                    <a:pt x="1398" y="465"/>
                  </a:lnTo>
                  <a:lnTo>
                    <a:pt x="1418" y="456"/>
                  </a:lnTo>
                  <a:lnTo>
                    <a:pt x="1442" y="448"/>
                  </a:lnTo>
                  <a:lnTo>
                    <a:pt x="1463" y="439"/>
                  </a:lnTo>
                  <a:lnTo>
                    <a:pt x="1487" y="430"/>
                  </a:lnTo>
                  <a:lnTo>
                    <a:pt x="1510" y="423"/>
                  </a:lnTo>
                  <a:lnTo>
                    <a:pt x="1533" y="417"/>
                  </a:lnTo>
                  <a:lnTo>
                    <a:pt x="1556" y="411"/>
                  </a:lnTo>
                  <a:lnTo>
                    <a:pt x="1578" y="408"/>
                  </a:lnTo>
                  <a:lnTo>
                    <a:pt x="1600" y="405"/>
                  </a:lnTo>
                  <a:lnTo>
                    <a:pt x="1620" y="405"/>
                  </a:lnTo>
                  <a:lnTo>
                    <a:pt x="1651" y="408"/>
                  </a:lnTo>
                  <a:lnTo>
                    <a:pt x="1681" y="413"/>
                  </a:lnTo>
                  <a:lnTo>
                    <a:pt x="1710" y="418"/>
                  </a:lnTo>
                  <a:lnTo>
                    <a:pt x="1741" y="426"/>
                  </a:lnTo>
                  <a:lnTo>
                    <a:pt x="1769" y="436"/>
                  </a:lnTo>
                  <a:lnTo>
                    <a:pt x="1798" y="446"/>
                  </a:lnTo>
                  <a:lnTo>
                    <a:pt x="1824" y="459"/>
                  </a:lnTo>
                  <a:lnTo>
                    <a:pt x="1850" y="472"/>
                  </a:lnTo>
                  <a:lnTo>
                    <a:pt x="1875" y="485"/>
                  </a:lnTo>
                  <a:lnTo>
                    <a:pt x="1898" y="501"/>
                  </a:lnTo>
                  <a:lnTo>
                    <a:pt x="1920" y="516"/>
                  </a:lnTo>
                  <a:lnTo>
                    <a:pt x="1940" y="532"/>
                  </a:lnTo>
                  <a:lnTo>
                    <a:pt x="1959" y="548"/>
                  </a:lnTo>
                  <a:lnTo>
                    <a:pt x="1976" y="565"/>
                  </a:lnTo>
                  <a:lnTo>
                    <a:pt x="1991" y="581"/>
                  </a:lnTo>
                  <a:lnTo>
                    <a:pt x="2003" y="597"/>
                  </a:lnTo>
                  <a:lnTo>
                    <a:pt x="2016" y="618"/>
                  </a:lnTo>
                  <a:lnTo>
                    <a:pt x="2027" y="639"/>
                  </a:lnTo>
                  <a:lnTo>
                    <a:pt x="2034" y="663"/>
                  </a:lnTo>
                  <a:lnTo>
                    <a:pt x="2039" y="686"/>
                  </a:lnTo>
                  <a:lnTo>
                    <a:pt x="2042" y="709"/>
                  </a:lnTo>
                  <a:lnTo>
                    <a:pt x="2046" y="734"/>
                  </a:lnTo>
                  <a:lnTo>
                    <a:pt x="2055" y="759"/>
                  </a:lnTo>
                  <a:lnTo>
                    <a:pt x="2065" y="783"/>
                  </a:lnTo>
                  <a:lnTo>
                    <a:pt x="2081" y="817"/>
                  </a:lnTo>
                  <a:lnTo>
                    <a:pt x="2091" y="849"/>
                  </a:lnTo>
                  <a:lnTo>
                    <a:pt x="2096" y="881"/>
                  </a:lnTo>
                  <a:lnTo>
                    <a:pt x="2091" y="916"/>
                  </a:lnTo>
                  <a:lnTo>
                    <a:pt x="2088" y="932"/>
                  </a:lnTo>
                  <a:lnTo>
                    <a:pt x="2088" y="951"/>
                  </a:lnTo>
                  <a:lnTo>
                    <a:pt x="2088" y="968"/>
                  </a:lnTo>
                  <a:lnTo>
                    <a:pt x="2090" y="981"/>
                  </a:lnTo>
                  <a:lnTo>
                    <a:pt x="2091" y="994"/>
                  </a:lnTo>
                  <a:lnTo>
                    <a:pt x="2088" y="1010"/>
                  </a:lnTo>
                  <a:lnTo>
                    <a:pt x="2081" y="1025"/>
                  </a:lnTo>
                  <a:lnTo>
                    <a:pt x="2066" y="1031"/>
                  </a:lnTo>
                  <a:lnTo>
                    <a:pt x="2061" y="1044"/>
                  </a:lnTo>
                  <a:lnTo>
                    <a:pt x="2052" y="1057"/>
                  </a:lnTo>
                  <a:lnTo>
                    <a:pt x="2043" y="1068"/>
                  </a:lnTo>
                  <a:lnTo>
                    <a:pt x="2033" y="1077"/>
                  </a:lnTo>
                  <a:lnTo>
                    <a:pt x="2023" y="1082"/>
                  </a:lnTo>
                  <a:lnTo>
                    <a:pt x="2013" y="1079"/>
                  </a:lnTo>
                  <a:lnTo>
                    <a:pt x="2003" y="1067"/>
                  </a:lnTo>
                  <a:lnTo>
                    <a:pt x="1995" y="1047"/>
                  </a:lnTo>
                  <a:lnTo>
                    <a:pt x="1991" y="1052"/>
                  </a:lnTo>
                  <a:lnTo>
                    <a:pt x="1987" y="1058"/>
                  </a:lnTo>
                  <a:lnTo>
                    <a:pt x="1981" y="1061"/>
                  </a:lnTo>
                  <a:lnTo>
                    <a:pt x="1976" y="1064"/>
                  </a:lnTo>
                  <a:lnTo>
                    <a:pt x="1969" y="1066"/>
                  </a:lnTo>
                  <a:lnTo>
                    <a:pt x="1960" y="1066"/>
                  </a:lnTo>
                  <a:lnTo>
                    <a:pt x="1949" y="1064"/>
                  </a:lnTo>
                  <a:lnTo>
                    <a:pt x="1933" y="1061"/>
                  </a:lnTo>
                  <a:lnTo>
                    <a:pt x="1931" y="1070"/>
                  </a:lnTo>
                  <a:lnTo>
                    <a:pt x="1937" y="1077"/>
                  </a:lnTo>
                  <a:lnTo>
                    <a:pt x="1944" y="1084"/>
                  </a:lnTo>
                  <a:lnTo>
                    <a:pt x="1953" y="1089"/>
                  </a:lnTo>
                  <a:lnTo>
                    <a:pt x="1936" y="1090"/>
                  </a:lnTo>
                  <a:lnTo>
                    <a:pt x="1917" y="1092"/>
                  </a:lnTo>
                  <a:lnTo>
                    <a:pt x="1898" y="1095"/>
                  </a:lnTo>
                  <a:lnTo>
                    <a:pt x="1880" y="1099"/>
                  </a:lnTo>
                  <a:lnTo>
                    <a:pt x="1866" y="1105"/>
                  </a:lnTo>
                  <a:lnTo>
                    <a:pt x="1854" y="1112"/>
                  </a:lnTo>
                  <a:lnTo>
                    <a:pt x="1847" y="1122"/>
                  </a:lnTo>
                  <a:lnTo>
                    <a:pt x="1846" y="1134"/>
                  </a:lnTo>
                  <a:lnTo>
                    <a:pt x="1850" y="1163"/>
                  </a:lnTo>
                  <a:lnTo>
                    <a:pt x="1856" y="1193"/>
                  </a:lnTo>
                  <a:lnTo>
                    <a:pt x="1864" y="1224"/>
                  </a:lnTo>
                  <a:lnTo>
                    <a:pt x="1875" y="1249"/>
                  </a:lnTo>
                  <a:lnTo>
                    <a:pt x="1869" y="1249"/>
                  </a:lnTo>
                  <a:lnTo>
                    <a:pt x="1863" y="1249"/>
                  </a:lnTo>
                  <a:lnTo>
                    <a:pt x="1857" y="1250"/>
                  </a:lnTo>
                  <a:lnTo>
                    <a:pt x="1850" y="1250"/>
                  </a:lnTo>
                  <a:lnTo>
                    <a:pt x="1844" y="1252"/>
                  </a:lnTo>
                  <a:lnTo>
                    <a:pt x="1838" y="1252"/>
                  </a:lnTo>
                  <a:lnTo>
                    <a:pt x="1833" y="1252"/>
                  </a:lnTo>
                  <a:lnTo>
                    <a:pt x="1827" y="1250"/>
                  </a:lnTo>
                  <a:lnTo>
                    <a:pt x="1828" y="1255"/>
                  </a:lnTo>
                  <a:lnTo>
                    <a:pt x="1831" y="1259"/>
                  </a:lnTo>
                  <a:lnTo>
                    <a:pt x="1835" y="1262"/>
                  </a:lnTo>
                  <a:lnTo>
                    <a:pt x="1841" y="1265"/>
                  </a:lnTo>
                  <a:lnTo>
                    <a:pt x="1849" y="1268"/>
                  </a:lnTo>
                  <a:lnTo>
                    <a:pt x="1856" y="1269"/>
                  </a:lnTo>
                  <a:lnTo>
                    <a:pt x="1863" y="1271"/>
                  </a:lnTo>
                  <a:lnTo>
                    <a:pt x="1869" y="1272"/>
                  </a:lnTo>
                  <a:lnTo>
                    <a:pt x="1876" y="1273"/>
                  </a:lnTo>
                  <a:lnTo>
                    <a:pt x="1885" y="1276"/>
                  </a:lnTo>
                  <a:lnTo>
                    <a:pt x="1895" y="1279"/>
                  </a:lnTo>
                  <a:lnTo>
                    <a:pt x="1905" y="1284"/>
                  </a:lnTo>
                  <a:lnTo>
                    <a:pt x="1914" y="1289"/>
                  </a:lnTo>
                  <a:lnTo>
                    <a:pt x="1921" y="1295"/>
                  </a:lnTo>
                  <a:lnTo>
                    <a:pt x="1927" y="1304"/>
                  </a:lnTo>
                  <a:lnTo>
                    <a:pt x="1928" y="1313"/>
                  </a:lnTo>
                  <a:lnTo>
                    <a:pt x="1920" y="1317"/>
                  </a:lnTo>
                  <a:lnTo>
                    <a:pt x="1912" y="1323"/>
                  </a:lnTo>
                  <a:lnTo>
                    <a:pt x="1905" y="1327"/>
                  </a:lnTo>
                  <a:lnTo>
                    <a:pt x="1898" y="1333"/>
                  </a:lnTo>
                  <a:lnTo>
                    <a:pt x="1892" y="1340"/>
                  </a:lnTo>
                  <a:lnTo>
                    <a:pt x="1885" y="1348"/>
                  </a:lnTo>
                  <a:lnTo>
                    <a:pt x="1880" y="1355"/>
                  </a:lnTo>
                  <a:lnTo>
                    <a:pt x="1875" y="1365"/>
                  </a:lnTo>
                  <a:lnTo>
                    <a:pt x="1840" y="1367"/>
                  </a:lnTo>
                  <a:lnTo>
                    <a:pt x="1808" y="1371"/>
                  </a:lnTo>
                  <a:lnTo>
                    <a:pt x="1779" y="1378"/>
                  </a:lnTo>
                  <a:lnTo>
                    <a:pt x="1750" y="1387"/>
                  </a:lnTo>
                  <a:lnTo>
                    <a:pt x="1724" y="1396"/>
                  </a:lnTo>
                  <a:lnTo>
                    <a:pt x="1700" y="1406"/>
                  </a:lnTo>
                  <a:lnTo>
                    <a:pt x="1678" y="1416"/>
                  </a:lnTo>
                  <a:lnTo>
                    <a:pt x="1658" y="1423"/>
                  </a:lnTo>
                  <a:lnTo>
                    <a:pt x="1623" y="1438"/>
                  </a:lnTo>
                  <a:lnTo>
                    <a:pt x="1597" y="1452"/>
                  </a:lnTo>
                  <a:lnTo>
                    <a:pt x="1575" y="1467"/>
                  </a:lnTo>
                  <a:lnTo>
                    <a:pt x="1559" y="1480"/>
                  </a:lnTo>
                  <a:lnTo>
                    <a:pt x="1543" y="1492"/>
                  </a:lnTo>
                  <a:lnTo>
                    <a:pt x="1527" y="1499"/>
                  </a:lnTo>
                  <a:lnTo>
                    <a:pt x="1508" y="1502"/>
                  </a:lnTo>
                  <a:lnTo>
                    <a:pt x="1485" y="1500"/>
                  </a:lnTo>
                  <a:lnTo>
                    <a:pt x="1494" y="1493"/>
                  </a:lnTo>
                  <a:lnTo>
                    <a:pt x="1500" y="1487"/>
                  </a:lnTo>
                  <a:lnTo>
                    <a:pt x="1503" y="1480"/>
                  </a:lnTo>
                  <a:lnTo>
                    <a:pt x="1498" y="1476"/>
                  </a:lnTo>
                  <a:lnTo>
                    <a:pt x="1491" y="1476"/>
                  </a:lnTo>
                  <a:lnTo>
                    <a:pt x="1484" y="1480"/>
                  </a:lnTo>
                  <a:lnTo>
                    <a:pt x="1477" y="1489"/>
                  </a:lnTo>
                  <a:lnTo>
                    <a:pt x="1469" y="1499"/>
                  </a:lnTo>
                  <a:lnTo>
                    <a:pt x="1463" y="1510"/>
                  </a:lnTo>
                  <a:lnTo>
                    <a:pt x="1458" y="1521"/>
                  </a:lnTo>
                  <a:lnTo>
                    <a:pt x="1452" y="1528"/>
                  </a:lnTo>
                  <a:lnTo>
                    <a:pt x="1449" y="1531"/>
                  </a:lnTo>
                  <a:lnTo>
                    <a:pt x="1442" y="1531"/>
                  </a:lnTo>
                  <a:lnTo>
                    <a:pt x="1431" y="1531"/>
                  </a:lnTo>
                  <a:lnTo>
                    <a:pt x="1423" y="1531"/>
                  </a:lnTo>
                  <a:lnTo>
                    <a:pt x="1414" y="1531"/>
                  </a:lnTo>
                  <a:lnTo>
                    <a:pt x="1424" y="1515"/>
                  </a:lnTo>
                  <a:lnTo>
                    <a:pt x="1433" y="1496"/>
                  </a:lnTo>
                  <a:lnTo>
                    <a:pt x="1442" y="1478"/>
                  </a:lnTo>
                  <a:lnTo>
                    <a:pt x="1452" y="1465"/>
                  </a:lnTo>
                  <a:lnTo>
                    <a:pt x="1446" y="1465"/>
                  </a:lnTo>
                  <a:lnTo>
                    <a:pt x="1440" y="1470"/>
                  </a:lnTo>
                  <a:lnTo>
                    <a:pt x="1431" y="1478"/>
                  </a:lnTo>
                  <a:lnTo>
                    <a:pt x="1423" y="1490"/>
                  </a:lnTo>
                  <a:lnTo>
                    <a:pt x="1414" y="1503"/>
                  </a:lnTo>
                  <a:lnTo>
                    <a:pt x="1405" y="1515"/>
                  </a:lnTo>
                  <a:lnTo>
                    <a:pt x="1397" y="1524"/>
                  </a:lnTo>
                  <a:lnTo>
                    <a:pt x="1391" y="1526"/>
                  </a:lnTo>
                  <a:lnTo>
                    <a:pt x="1386" y="1526"/>
                  </a:lnTo>
                  <a:lnTo>
                    <a:pt x="1381" y="1525"/>
                  </a:lnTo>
                  <a:lnTo>
                    <a:pt x="1373" y="1524"/>
                  </a:lnTo>
                  <a:lnTo>
                    <a:pt x="1365" y="1522"/>
                  </a:lnTo>
                  <a:lnTo>
                    <a:pt x="1356" y="1519"/>
                  </a:lnTo>
                  <a:lnTo>
                    <a:pt x="1349" y="1516"/>
                  </a:lnTo>
                  <a:lnTo>
                    <a:pt x="1344" y="1512"/>
                  </a:lnTo>
                  <a:lnTo>
                    <a:pt x="1341" y="1508"/>
                  </a:lnTo>
                  <a:lnTo>
                    <a:pt x="1341" y="1500"/>
                  </a:lnTo>
                  <a:lnTo>
                    <a:pt x="1341" y="1490"/>
                  </a:lnTo>
                  <a:lnTo>
                    <a:pt x="1344" y="1477"/>
                  </a:lnTo>
                  <a:lnTo>
                    <a:pt x="1349" y="1464"/>
                  </a:lnTo>
                  <a:lnTo>
                    <a:pt x="1354" y="1448"/>
                  </a:lnTo>
                  <a:lnTo>
                    <a:pt x="1363" y="1433"/>
                  </a:lnTo>
                  <a:lnTo>
                    <a:pt x="1375" y="1419"/>
                  </a:lnTo>
                  <a:lnTo>
                    <a:pt x="1389" y="1404"/>
                  </a:lnTo>
                  <a:lnTo>
                    <a:pt x="1375" y="1409"/>
                  </a:lnTo>
                  <a:lnTo>
                    <a:pt x="1362" y="1417"/>
                  </a:lnTo>
                  <a:lnTo>
                    <a:pt x="1350" y="1426"/>
                  </a:lnTo>
                  <a:lnTo>
                    <a:pt x="1340" y="1438"/>
                  </a:lnTo>
                  <a:lnTo>
                    <a:pt x="1331" y="1451"/>
                  </a:lnTo>
                  <a:lnTo>
                    <a:pt x="1322" y="1464"/>
                  </a:lnTo>
                  <a:lnTo>
                    <a:pt x="1317" y="1480"/>
                  </a:lnTo>
                  <a:lnTo>
                    <a:pt x="1311" y="1496"/>
                  </a:lnTo>
                  <a:lnTo>
                    <a:pt x="1302" y="1492"/>
                  </a:lnTo>
                  <a:lnTo>
                    <a:pt x="1292" y="1484"/>
                  </a:lnTo>
                  <a:lnTo>
                    <a:pt x="1283" y="1477"/>
                  </a:lnTo>
                  <a:lnTo>
                    <a:pt x="1276" y="1468"/>
                  </a:lnTo>
                  <a:lnTo>
                    <a:pt x="1269" y="1460"/>
                  </a:lnTo>
                  <a:lnTo>
                    <a:pt x="1264" y="1449"/>
                  </a:lnTo>
                  <a:lnTo>
                    <a:pt x="1261" y="1439"/>
                  </a:lnTo>
                  <a:lnTo>
                    <a:pt x="1263" y="1429"/>
                  </a:lnTo>
                  <a:lnTo>
                    <a:pt x="1272" y="1409"/>
                  </a:lnTo>
                  <a:lnTo>
                    <a:pt x="1285" y="1388"/>
                  </a:lnTo>
                  <a:lnTo>
                    <a:pt x="1299" y="1369"/>
                  </a:lnTo>
                  <a:lnTo>
                    <a:pt x="1318" y="1352"/>
                  </a:lnTo>
                  <a:lnTo>
                    <a:pt x="1336" y="1339"/>
                  </a:lnTo>
                  <a:lnTo>
                    <a:pt x="1353" y="1329"/>
                  </a:lnTo>
                  <a:lnTo>
                    <a:pt x="1369" y="1321"/>
                  </a:lnTo>
                  <a:lnTo>
                    <a:pt x="1381" y="1320"/>
                  </a:lnTo>
                  <a:lnTo>
                    <a:pt x="1397" y="1324"/>
                  </a:lnTo>
                  <a:lnTo>
                    <a:pt x="1413" y="1330"/>
                  </a:lnTo>
                  <a:lnTo>
                    <a:pt x="1426" y="1339"/>
                  </a:lnTo>
                  <a:lnTo>
                    <a:pt x="1439" y="1348"/>
                  </a:lnTo>
                  <a:lnTo>
                    <a:pt x="1452" y="1355"/>
                  </a:lnTo>
                  <a:lnTo>
                    <a:pt x="1466" y="1362"/>
                  </a:lnTo>
                  <a:lnTo>
                    <a:pt x="1479" y="1365"/>
                  </a:lnTo>
                  <a:lnTo>
                    <a:pt x="1495" y="1365"/>
                  </a:lnTo>
                  <a:lnTo>
                    <a:pt x="1513" y="1361"/>
                  </a:lnTo>
                  <a:lnTo>
                    <a:pt x="1527" y="1355"/>
                  </a:lnTo>
                  <a:lnTo>
                    <a:pt x="1539" y="1349"/>
                  </a:lnTo>
                  <a:lnTo>
                    <a:pt x="1551" y="1342"/>
                  </a:lnTo>
                  <a:lnTo>
                    <a:pt x="1564" y="1335"/>
                  </a:lnTo>
                  <a:lnTo>
                    <a:pt x="1577" y="1327"/>
                  </a:lnTo>
                  <a:lnTo>
                    <a:pt x="1593" y="1320"/>
                  </a:lnTo>
                  <a:lnTo>
                    <a:pt x="1613" y="1314"/>
                  </a:lnTo>
                  <a:lnTo>
                    <a:pt x="1613" y="1304"/>
                  </a:lnTo>
                  <a:lnTo>
                    <a:pt x="1609" y="1297"/>
                  </a:lnTo>
                  <a:lnTo>
                    <a:pt x="1600" y="1294"/>
                  </a:lnTo>
                  <a:lnTo>
                    <a:pt x="1590" y="1291"/>
                  </a:lnTo>
                  <a:lnTo>
                    <a:pt x="1578" y="1291"/>
                  </a:lnTo>
                  <a:lnTo>
                    <a:pt x="1568" y="1291"/>
                  </a:lnTo>
                  <a:lnTo>
                    <a:pt x="1559" y="1289"/>
                  </a:lnTo>
                  <a:lnTo>
                    <a:pt x="1556" y="1288"/>
                  </a:lnTo>
                  <a:lnTo>
                    <a:pt x="1551" y="1263"/>
                  </a:lnTo>
                  <a:lnTo>
                    <a:pt x="1545" y="1227"/>
                  </a:lnTo>
                  <a:lnTo>
                    <a:pt x="1540" y="1192"/>
                  </a:lnTo>
                  <a:lnTo>
                    <a:pt x="1538" y="1173"/>
                  </a:lnTo>
                  <a:lnTo>
                    <a:pt x="1533" y="1164"/>
                  </a:lnTo>
                  <a:lnTo>
                    <a:pt x="1527" y="1153"/>
                  </a:lnTo>
                  <a:lnTo>
                    <a:pt x="1519" y="1147"/>
                  </a:lnTo>
                  <a:lnTo>
                    <a:pt x="1511" y="1147"/>
                  </a:lnTo>
                  <a:lnTo>
                    <a:pt x="1503" y="1153"/>
                  </a:lnTo>
                  <a:lnTo>
                    <a:pt x="1490" y="1157"/>
                  </a:lnTo>
                  <a:lnTo>
                    <a:pt x="1474" y="1162"/>
                  </a:lnTo>
                  <a:lnTo>
                    <a:pt x="1456" y="1166"/>
                  </a:lnTo>
                  <a:lnTo>
                    <a:pt x="1440" y="1169"/>
                  </a:lnTo>
                  <a:lnTo>
                    <a:pt x="1424" y="1172"/>
                  </a:lnTo>
                  <a:lnTo>
                    <a:pt x="1413" y="1175"/>
                  </a:lnTo>
                  <a:lnTo>
                    <a:pt x="1407" y="1177"/>
                  </a:lnTo>
                  <a:lnTo>
                    <a:pt x="1401" y="1183"/>
                  </a:lnTo>
                  <a:lnTo>
                    <a:pt x="1395" y="1188"/>
                  </a:lnTo>
                  <a:lnTo>
                    <a:pt x="1391" y="1192"/>
                  </a:lnTo>
                  <a:lnTo>
                    <a:pt x="1385" y="1195"/>
                  </a:lnTo>
                  <a:lnTo>
                    <a:pt x="1378" y="1199"/>
                  </a:lnTo>
                  <a:lnTo>
                    <a:pt x="1372" y="1201"/>
                  </a:lnTo>
                  <a:lnTo>
                    <a:pt x="1363" y="1204"/>
                  </a:lnTo>
                  <a:lnTo>
                    <a:pt x="1354" y="1205"/>
                  </a:lnTo>
                  <a:lnTo>
                    <a:pt x="1341" y="1207"/>
                  </a:lnTo>
                  <a:lnTo>
                    <a:pt x="1325" y="1208"/>
                  </a:lnTo>
                  <a:lnTo>
                    <a:pt x="1307" y="1209"/>
                  </a:lnTo>
                  <a:lnTo>
                    <a:pt x="1285" y="1211"/>
                  </a:lnTo>
                  <a:lnTo>
                    <a:pt x="1264" y="1211"/>
                  </a:lnTo>
                  <a:lnTo>
                    <a:pt x="1244" y="1211"/>
                  </a:lnTo>
                  <a:lnTo>
                    <a:pt x="1228" y="1209"/>
                  </a:lnTo>
                  <a:lnTo>
                    <a:pt x="1215" y="1208"/>
                  </a:lnTo>
                  <a:lnTo>
                    <a:pt x="1234" y="1176"/>
                  </a:lnTo>
                  <a:lnTo>
                    <a:pt x="1240" y="1143"/>
                  </a:lnTo>
                  <a:lnTo>
                    <a:pt x="1235" y="1118"/>
                  </a:lnTo>
                  <a:lnTo>
                    <a:pt x="1229" y="1108"/>
                  </a:lnTo>
                  <a:lnTo>
                    <a:pt x="1225" y="1111"/>
                  </a:lnTo>
                  <a:lnTo>
                    <a:pt x="1224" y="1116"/>
                  </a:lnTo>
                  <a:lnTo>
                    <a:pt x="1225" y="1124"/>
                  </a:lnTo>
                  <a:lnTo>
                    <a:pt x="1227" y="1132"/>
                  </a:lnTo>
                  <a:lnTo>
                    <a:pt x="1227" y="1143"/>
                  </a:lnTo>
                  <a:lnTo>
                    <a:pt x="1224" y="1150"/>
                  </a:lnTo>
                  <a:lnTo>
                    <a:pt x="1216" y="1157"/>
                  </a:lnTo>
                  <a:lnTo>
                    <a:pt x="1202" y="1160"/>
                  </a:lnTo>
                  <a:lnTo>
                    <a:pt x="1202" y="1146"/>
                  </a:lnTo>
                  <a:lnTo>
                    <a:pt x="1202" y="1131"/>
                  </a:lnTo>
                  <a:lnTo>
                    <a:pt x="1200" y="1119"/>
                  </a:lnTo>
                  <a:lnTo>
                    <a:pt x="1196" y="1115"/>
                  </a:lnTo>
                  <a:lnTo>
                    <a:pt x="1190" y="1118"/>
                  </a:lnTo>
                  <a:lnTo>
                    <a:pt x="1186" y="1124"/>
                  </a:lnTo>
                  <a:lnTo>
                    <a:pt x="1183" y="1132"/>
                  </a:lnTo>
                  <a:lnTo>
                    <a:pt x="1182" y="1144"/>
                  </a:lnTo>
                  <a:lnTo>
                    <a:pt x="1179" y="1157"/>
                  </a:lnTo>
                  <a:lnTo>
                    <a:pt x="1173" y="1170"/>
                  </a:lnTo>
                  <a:lnTo>
                    <a:pt x="1164" y="1182"/>
                  </a:lnTo>
                  <a:lnTo>
                    <a:pt x="1152" y="1192"/>
                  </a:lnTo>
                  <a:lnTo>
                    <a:pt x="1144" y="1198"/>
                  </a:lnTo>
                  <a:lnTo>
                    <a:pt x="1129" y="1208"/>
                  </a:lnTo>
                  <a:lnTo>
                    <a:pt x="1113" y="1221"/>
                  </a:lnTo>
                  <a:lnTo>
                    <a:pt x="1094" y="1234"/>
                  </a:lnTo>
                  <a:lnTo>
                    <a:pt x="1075" y="1250"/>
                  </a:lnTo>
                  <a:lnTo>
                    <a:pt x="1059" y="1266"/>
                  </a:lnTo>
                  <a:lnTo>
                    <a:pt x="1046" y="1281"/>
                  </a:lnTo>
                  <a:lnTo>
                    <a:pt x="1041" y="1295"/>
                  </a:lnTo>
                  <a:lnTo>
                    <a:pt x="1036" y="1320"/>
                  </a:lnTo>
                  <a:lnTo>
                    <a:pt x="1033" y="1339"/>
                  </a:lnTo>
                  <a:lnTo>
                    <a:pt x="1028" y="1353"/>
                  </a:lnTo>
                  <a:lnTo>
                    <a:pt x="1017" y="1359"/>
                  </a:lnTo>
                  <a:lnTo>
                    <a:pt x="1004" y="1359"/>
                  </a:lnTo>
                  <a:lnTo>
                    <a:pt x="996" y="1356"/>
                  </a:lnTo>
                  <a:lnTo>
                    <a:pt x="987" y="1352"/>
                  </a:lnTo>
                  <a:lnTo>
                    <a:pt x="981" y="1348"/>
                  </a:lnTo>
                  <a:lnTo>
                    <a:pt x="969" y="1361"/>
                  </a:lnTo>
                  <a:lnTo>
                    <a:pt x="958" y="1374"/>
                  </a:lnTo>
                  <a:lnTo>
                    <a:pt x="946" y="1387"/>
                  </a:lnTo>
                  <a:lnTo>
                    <a:pt x="933" y="1399"/>
                  </a:lnTo>
                  <a:lnTo>
                    <a:pt x="921" y="1410"/>
                  </a:lnTo>
                  <a:lnTo>
                    <a:pt x="910" y="1419"/>
                  </a:lnTo>
                  <a:lnTo>
                    <a:pt x="900" y="1425"/>
                  </a:lnTo>
                  <a:lnTo>
                    <a:pt x="889" y="1428"/>
                  </a:lnTo>
                  <a:lnTo>
                    <a:pt x="878" y="1431"/>
                  </a:lnTo>
                  <a:lnTo>
                    <a:pt x="860" y="1433"/>
                  </a:lnTo>
                  <a:lnTo>
                    <a:pt x="842" y="1438"/>
                  </a:lnTo>
                  <a:lnTo>
                    <a:pt x="820" y="1442"/>
                  </a:lnTo>
                  <a:lnTo>
                    <a:pt x="796" y="1446"/>
                  </a:lnTo>
                  <a:lnTo>
                    <a:pt x="773" y="1448"/>
                  </a:lnTo>
                  <a:lnTo>
                    <a:pt x="750" y="1449"/>
                  </a:lnTo>
                  <a:lnTo>
                    <a:pt x="731" y="1448"/>
                  </a:lnTo>
                  <a:lnTo>
                    <a:pt x="733" y="1436"/>
                  </a:lnTo>
                  <a:lnTo>
                    <a:pt x="735" y="1428"/>
                  </a:lnTo>
                  <a:lnTo>
                    <a:pt x="738" y="1419"/>
                  </a:lnTo>
                  <a:lnTo>
                    <a:pt x="744" y="1413"/>
                  </a:lnTo>
                  <a:lnTo>
                    <a:pt x="751" y="1406"/>
                  </a:lnTo>
                  <a:lnTo>
                    <a:pt x="759" y="1394"/>
                  </a:lnTo>
                  <a:lnTo>
                    <a:pt x="762" y="1385"/>
                  </a:lnTo>
                  <a:lnTo>
                    <a:pt x="756" y="1381"/>
                  </a:lnTo>
                  <a:lnTo>
                    <a:pt x="746" y="1384"/>
                  </a:lnTo>
                  <a:lnTo>
                    <a:pt x="740" y="1390"/>
                  </a:lnTo>
                  <a:lnTo>
                    <a:pt x="737" y="1399"/>
                  </a:lnTo>
                  <a:lnTo>
                    <a:pt x="737" y="1406"/>
                  </a:lnTo>
                  <a:lnTo>
                    <a:pt x="734" y="1413"/>
                  </a:lnTo>
                  <a:lnTo>
                    <a:pt x="725" y="1422"/>
                  </a:lnTo>
                  <a:lnTo>
                    <a:pt x="717" y="1432"/>
                  </a:lnTo>
                  <a:lnTo>
                    <a:pt x="709" y="1442"/>
                  </a:lnTo>
                  <a:lnTo>
                    <a:pt x="702" y="1442"/>
                  </a:lnTo>
                  <a:lnTo>
                    <a:pt x="695" y="1441"/>
                  </a:lnTo>
                  <a:lnTo>
                    <a:pt x="686" y="1438"/>
                  </a:lnTo>
                  <a:lnTo>
                    <a:pt x="679" y="1435"/>
                  </a:lnTo>
                  <a:lnTo>
                    <a:pt x="672" y="1431"/>
                  </a:lnTo>
                  <a:lnTo>
                    <a:pt x="666" y="1428"/>
                  </a:lnTo>
                  <a:lnTo>
                    <a:pt x="663" y="1423"/>
                  </a:lnTo>
                  <a:lnTo>
                    <a:pt x="664" y="1419"/>
                  </a:lnTo>
                  <a:lnTo>
                    <a:pt x="669" y="1410"/>
                  </a:lnTo>
                  <a:lnTo>
                    <a:pt x="674" y="1400"/>
                  </a:lnTo>
                  <a:lnTo>
                    <a:pt x="679" y="1390"/>
                  </a:lnTo>
                  <a:lnTo>
                    <a:pt x="686" y="1380"/>
                  </a:lnTo>
                  <a:lnTo>
                    <a:pt x="685" y="1372"/>
                  </a:lnTo>
                  <a:lnTo>
                    <a:pt x="679" y="1369"/>
                  </a:lnTo>
                  <a:lnTo>
                    <a:pt x="672" y="1371"/>
                  </a:lnTo>
                  <a:lnTo>
                    <a:pt x="664" y="1377"/>
                  </a:lnTo>
                  <a:lnTo>
                    <a:pt x="657" y="1385"/>
                  </a:lnTo>
                  <a:lnTo>
                    <a:pt x="651" y="1397"/>
                  </a:lnTo>
                  <a:lnTo>
                    <a:pt x="644" y="1407"/>
                  </a:lnTo>
                  <a:lnTo>
                    <a:pt x="637" y="1417"/>
                  </a:lnTo>
                  <a:lnTo>
                    <a:pt x="631" y="1412"/>
                  </a:lnTo>
                  <a:lnTo>
                    <a:pt x="624" y="1406"/>
                  </a:lnTo>
                  <a:lnTo>
                    <a:pt x="615" y="1401"/>
                  </a:lnTo>
                  <a:lnTo>
                    <a:pt x="606" y="1400"/>
                  </a:lnTo>
                  <a:lnTo>
                    <a:pt x="613" y="1390"/>
                  </a:lnTo>
                  <a:lnTo>
                    <a:pt x="621" y="1381"/>
                  </a:lnTo>
                  <a:lnTo>
                    <a:pt x="628" y="1371"/>
                  </a:lnTo>
                  <a:lnTo>
                    <a:pt x="634" y="1364"/>
                  </a:lnTo>
                  <a:lnTo>
                    <a:pt x="640" y="1355"/>
                  </a:lnTo>
                  <a:lnTo>
                    <a:pt x="645" y="1349"/>
                  </a:lnTo>
                  <a:lnTo>
                    <a:pt x="653" y="1343"/>
                  </a:lnTo>
                  <a:lnTo>
                    <a:pt x="658" y="1340"/>
                  </a:lnTo>
                  <a:lnTo>
                    <a:pt x="664" y="1337"/>
                  </a:lnTo>
                  <a:lnTo>
                    <a:pt x="672" y="1333"/>
                  </a:lnTo>
                  <a:lnTo>
                    <a:pt x="677" y="1327"/>
                  </a:lnTo>
                  <a:lnTo>
                    <a:pt x="685" y="1323"/>
                  </a:lnTo>
                  <a:lnTo>
                    <a:pt x="690" y="1319"/>
                  </a:lnTo>
                  <a:lnTo>
                    <a:pt x="698" y="1316"/>
                  </a:lnTo>
                  <a:lnTo>
                    <a:pt x="703" y="1314"/>
                  </a:lnTo>
                  <a:lnTo>
                    <a:pt x="709" y="1314"/>
                  </a:lnTo>
                  <a:lnTo>
                    <a:pt x="717" y="1316"/>
                  </a:lnTo>
                  <a:lnTo>
                    <a:pt x="727" y="1319"/>
                  </a:lnTo>
                  <a:lnTo>
                    <a:pt x="738" y="1321"/>
                  </a:lnTo>
                  <a:lnTo>
                    <a:pt x="751" y="1324"/>
                  </a:lnTo>
                  <a:lnTo>
                    <a:pt x="765" y="1326"/>
                  </a:lnTo>
                  <a:lnTo>
                    <a:pt x="778" y="1326"/>
                  </a:lnTo>
                  <a:lnTo>
                    <a:pt x="789" y="1324"/>
                  </a:lnTo>
                  <a:lnTo>
                    <a:pt x="799" y="1320"/>
                  </a:lnTo>
                  <a:lnTo>
                    <a:pt x="808" y="1314"/>
                  </a:lnTo>
                  <a:lnTo>
                    <a:pt x="817" y="1307"/>
                  </a:lnTo>
                  <a:lnTo>
                    <a:pt x="823" y="1300"/>
                  </a:lnTo>
                  <a:lnTo>
                    <a:pt x="830" y="1292"/>
                  </a:lnTo>
                  <a:lnTo>
                    <a:pt x="834" y="1284"/>
                  </a:lnTo>
                  <a:lnTo>
                    <a:pt x="839" y="1276"/>
                  </a:lnTo>
                  <a:lnTo>
                    <a:pt x="843" y="1269"/>
                  </a:lnTo>
                  <a:lnTo>
                    <a:pt x="844" y="1262"/>
                  </a:lnTo>
                  <a:lnTo>
                    <a:pt x="846" y="1255"/>
                  </a:lnTo>
                  <a:lnTo>
                    <a:pt x="850" y="1246"/>
                  </a:lnTo>
                  <a:lnTo>
                    <a:pt x="853" y="1237"/>
                  </a:lnTo>
                  <a:lnTo>
                    <a:pt x="859" y="1228"/>
                  </a:lnTo>
                  <a:lnTo>
                    <a:pt x="865" y="1220"/>
                  </a:lnTo>
                  <a:lnTo>
                    <a:pt x="872" y="1212"/>
                  </a:lnTo>
                  <a:lnTo>
                    <a:pt x="881" y="1205"/>
                  </a:lnTo>
                  <a:lnTo>
                    <a:pt x="889" y="1201"/>
                  </a:lnTo>
                  <a:lnTo>
                    <a:pt x="900" y="1198"/>
                  </a:lnTo>
                  <a:lnTo>
                    <a:pt x="910" y="1195"/>
                  </a:lnTo>
                  <a:lnTo>
                    <a:pt x="920" y="1192"/>
                  </a:lnTo>
                  <a:lnTo>
                    <a:pt x="929" y="1191"/>
                  </a:lnTo>
                  <a:lnTo>
                    <a:pt x="939" y="1189"/>
                  </a:lnTo>
                  <a:lnTo>
                    <a:pt x="946" y="1188"/>
                  </a:lnTo>
                  <a:lnTo>
                    <a:pt x="953" y="1188"/>
                  </a:lnTo>
                  <a:lnTo>
                    <a:pt x="959" y="1188"/>
                  </a:lnTo>
                  <a:lnTo>
                    <a:pt x="968" y="1183"/>
                  </a:lnTo>
                  <a:lnTo>
                    <a:pt x="974" y="1175"/>
                  </a:lnTo>
                  <a:lnTo>
                    <a:pt x="974" y="1167"/>
                  </a:lnTo>
                  <a:lnTo>
                    <a:pt x="965" y="1163"/>
                  </a:lnTo>
                  <a:lnTo>
                    <a:pt x="958" y="1163"/>
                  </a:lnTo>
                  <a:lnTo>
                    <a:pt x="949" y="1163"/>
                  </a:lnTo>
                  <a:lnTo>
                    <a:pt x="942" y="1163"/>
                  </a:lnTo>
                  <a:lnTo>
                    <a:pt x="933" y="1162"/>
                  </a:lnTo>
                  <a:lnTo>
                    <a:pt x="923" y="1159"/>
                  </a:lnTo>
                  <a:lnTo>
                    <a:pt x="914" y="1153"/>
                  </a:lnTo>
                  <a:lnTo>
                    <a:pt x="904" y="1144"/>
                  </a:lnTo>
                  <a:lnTo>
                    <a:pt x="895" y="1132"/>
                  </a:lnTo>
                  <a:lnTo>
                    <a:pt x="887" y="1140"/>
                  </a:lnTo>
                  <a:lnTo>
                    <a:pt x="875" y="1147"/>
                  </a:lnTo>
                  <a:lnTo>
                    <a:pt x="862" y="1154"/>
                  </a:lnTo>
                  <a:lnTo>
                    <a:pt x="847" y="1160"/>
                  </a:lnTo>
                  <a:lnTo>
                    <a:pt x="831" y="1164"/>
                  </a:lnTo>
                  <a:lnTo>
                    <a:pt x="817" y="1169"/>
                  </a:lnTo>
                  <a:lnTo>
                    <a:pt x="802" y="1172"/>
                  </a:lnTo>
                  <a:lnTo>
                    <a:pt x="789" y="1172"/>
                  </a:lnTo>
                  <a:lnTo>
                    <a:pt x="776" y="1170"/>
                  </a:lnTo>
                  <a:lnTo>
                    <a:pt x="763" y="1169"/>
                  </a:lnTo>
                  <a:lnTo>
                    <a:pt x="750" y="1166"/>
                  </a:lnTo>
                  <a:lnTo>
                    <a:pt x="737" y="1162"/>
                  </a:lnTo>
                  <a:lnTo>
                    <a:pt x="724" y="1156"/>
                  </a:lnTo>
                  <a:lnTo>
                    <a:pt x="711" y="1147"/>
                  </a:lnTo>
                  <a:lnTo>
                    <a:pt x="701" y="1138"/>
                  </a:lnTo>
                  <a:lnTo>
                    <a:pt x="692" y="1125"/>
                  </a:lnTo>
                  <a:lnTo>
                    <a:pt x="685" y="1125"/>
                  </a:lnTo>
                  <a:lnTo>
                    <a:pt x="677" y="1125"/>
                  </a:lnTo>
                  <a:lnTo>
                    <a:pt x="667" y="1125"/>
                  </a:lnTo>
                  <a:lnTo>
                    <a:pt x="658" y="1124"/>
                  </a:lnTo>
                  <a:lnTo>
                    <a:pt x="650" y="1124"/>
                  </a:lnTo>
                  <a:lnTo>
                    <a:pt x="641" y="1121"/>
                  </a:lnTo>
                  <a:lnTo>
                    <a:pt x="635" y="1119"/>
                  </a:lnTo>
                  <a:lnTo>
                    <a:pt x="631" y="1115"/>
                  </a:lnTo>
                  <a:lnTo>
                    <a:pt x="626" y="1109"/>
                  </a:lnTo>
                  <a:lnTo>
                    <a:pt x="621" y="1100"/>
                  </a:lnTo>
                  <a:lnTo>
                    <a:pt x="613" y="1089"/>
                  </a:lnTo>
                  <a:lnTo>
                    <a:pt x="606" y="1076"/>
                  </a:lnTo>
                  <a:lnTo>
                    <a:pt x="596" y="1063"/>
                  </a:lnTo>
                  <a:lnTo>
                    <a:pt x="587" y="1051"/>
                  </a:lnTo>
                  <a:lnTo>
                    <a:pt x="577" y="1039"/>
                  </a:lnTo>
                  <a:lnTo>
                    <a:pt x="568" y="1031"/>
                  </a:lnTo>
                  <a:lnTo>
                    <a:pt x="558" y="1023"/>
                  </a:lnTo>
                  <a:lnTo>
                    <a:pt x="548" y="1015"/>
                  </a:lnTo>
                  <a:lnTo>
                    <a:pt x="536" y="1007"/>
                  </a:lnTo>
                  <a:lnTo>
                    <a:pt x="525" y="999"/>
                  </a:lnTo>
                  <a:lnTo>
                    <a:pt x="513" y="991"/>
                  </a:lnTo>
                  <a:lnTo>
                    <a:pt x="504" y="984"/>
                  </a:lnTo>
                  <a:lnTo>
                    <a:pt x="497" y="978"/>
                  </a:lnTo>
                  <a:lnTo>
                    <a:pt x="494" y="972"/>
                  </a:lnTo>
                  <a:lnTo>
                    <a:pt x="491" y="962"/>
                  </a:lnTo>
                  <a:lnTo>
                    <a:pt x="490" y="954"/>
                  </a:lnTo>
                  <a:lnTo>
                    <a:pt x="490" y="943"/>
                  </a:lnTo>
                  <a:lnTo>
                    <a:pt x="493" y="933"/>
                  </a:lnTo>
                  <a:lnTo>
                    <a:pt x="496" y="923"/>
                  </a:lnTo>
                  <a:lnTo>
                    <a:pt x="499" y="913"/>
                  </a:lnTo>
                  <a:lnTo>
                    <a:pt x="502" y="904"/>
                  </a:lnTo>
                  <a:lnTo>
                    <a:pt x="506" y="895"/>
                  </a:lnTo>
                  <a:lnTo>
                    <a:pt x="502" y="888"/>
                  </a:lnTo>
                  <a:lnTo>
                    <a:pt x="493" y="884"/>
                  </a:lnTo>
                  <a:lnTo>
                    <a:pt x="484" y="884"/>
                  </a:lnTo>
                  <a:lnTo>
                    <a:pt x="478" y="894"/>
                  </a:lnTo>
                  <a:lnTo>
                    <a:pt x="475" y="908"/>
                  </a:lnTo>
                  <a:lnTo>
                    <a:pt x="475" y="920"/>
                  </a:lnTo>
                  <a:lnTo>
                    <a:pt x="472" y="930"/>
                  </a:lnTo>
                  <a:lnTo>
                    <a:pt x="467" y="935"/>
                  </a:lnTo>
                  <a:lnTo>
                    <a:pt x="462" y="936"/>
                  </a:lnTo>
                  <a:lnTo>
                    <a:pt x="456" y="938"/>
                  </a:lnTo>
                  <a:lnTo>
                    <a:pt x="451" y="939"/>
                  </a:lnTo>
                  <a:lnTo>
                    <a:pt x="445" y="940"/>
                  </a:lnTo>
                  <a:lnTo>
                    <a:pt x="438" y="943"/>
                  </a:lnTo>
                  <a:lnTo>
                    <a:pt x="430" y="946"/>
                  </a:lnTo>
                  <a:lnTo>
                    <a:pt x="424" y="949"/>
                  </a:lnTo>
                  <a:lnTo>
                    <a:pt x="419" y="954"/>
                  </a:lnTo>
                  <a:lnTo>
                    <a:pt x="409" y="961"/>
                  </a:lnTo>
                  <a:lnTo>
                    <a:pt x="397" y="964"/>
                  </a:lnTo>
                  <a:lnTo>
                    <a:pt x="387" y="965"/>
                  </a:lnTo>
                  <a:lnTo>
                    <a:pt x="378" y="965"/>
                  </a:lnTo>
                  <a:lnTo>
                    <a:pt x="369" y="965"/>
                  </a:lnTo>
                  <a:lnTo>
                    <a:pt x="359" y="967"/>
                  </a:lnTo>
                  <a:lnTo>
                    <a:pt x="349" y="971"/>
                  </a:lnTo>
                  <a:lnTo>
                    <a:pt x="340" y="977"/>
                  </a:lnTo>
                  <a:lnTo>
                    <a:pt x="334" y="980"/>
                  </a:lnTo>
                  <a:lnTo>
                    <a:pt x="329" y="983"/>
                  </a:lnTo>
                  <a:lnTo>
                    <a:pt x="321" y="986"/>
                  </a:lnTo>
                  <a:lnTo>
                    <a:pt x="313" y="987"/>
                  </a:lnTo>
                  <a:lnTo>
                    <a:pt x="304" y="987"/>
                  </a:lnTo>
                  <a:lnTo>
                    <a:pt x="295" y="987"/>
                  </a:lnTo>
                  <a:lnTo>
                    <a:pt x="286" y="986"/>
                  </a:lnTo>
                  <a:lnTo>
                    <a:pt x="278" y="984"/>
                  </a:lnTo>
                  <a:lnTo>
                    <a:pt x="269" y="981"/>
                  </a:lnTo>
                  <a:lnTo>
                    <a:pt x="262" y="980"/>
                  </a:lnTo>
                  <a:lnTo>
                    <a:pt x="253" y="977"/>
                  </a:lnTo>
                  <a:lnTo>
                    <a:pt x="244" y="974"/>
                  </a:lnTo>
                  <a:lnTo>
                    <a:pt x="236" y="971"/>
                  </a:lnTo>
                  <a:lnTo>
                    <a:pt x="227" y="967"/>
                  </a:lnTo>
                  <a:lnTo>
                    <a:pt x="220" y="961"/>
                  </a:lnTo>
                  <a:lnTo>
                    <a:pt x="211" y="955"/>
                  </a:lnTo>
                  <a:lnTo>
                    <a:pt x="196" y="961"/>
                  </a:lnTo>
                  <a:lnTo>
                    <a:pt x="179" y="967"/>
                  </a:lnTo>
                  <a:lnTo>
                    <a:pt x="159" y="971"/>
                  </a:lnTo>
                  <a:lnTo>
                    <a:pt x="138" y="975"/>
                  </a:lnTo>
                  <a:lnTo>
                    <a:pt x="115" y="975"/>
                  </a:lnTo>
                  <a:lnTo>
                    <a:pt x="95" y="971"/>
                  </a:lnTo>
                  <a:lnTo>
                    <a:pt x="74" y="962"/>
                  </a:lnTo>
                  <a:lnTo>
                    <a:pt x="57" y="948"/>
                  </a:lnTo>
                  <a:lnTo>
                    <a:pt x="60" y="943"/>
                  </a:lnTo>
                  <a:lnTo>
                    <a:pt x="64" y="939"/>
                  </a:lnTo>
                  <a:lnTo>
                    <a:pt x="70" y="935"/>
                  </a:lnTo>
                  <a:lnTo>
                    <a:pt x="76" y="932"/>
                  </a:lnTo>
                  <a:lnTo>
                    <a:pt x="70" y="927"/>
                  </a:lnTo>
                  <a:lnTo>
                    <a:pt x="64" y="923"/>
                  </a:lnTo>
                  <a:lnTo>
                    <a:pt x="58" y="920"/>
                  </a:lnTo>
                  <a:lnTo>
                    <a:pt x="53" y="917"/>
                  </a:lnTo>
                  <a:lnTo>
                    <a:pt x="57" y="913"/>
                  </a:lnTo>
                  <a:lnTo>
                    <a:pt x="60" y="908"/>
                  </a:lnTo>
                  <a:lnTo>
                    <a:pt x="61" y="907"/>
                  </a:lnTo>
                  <a:lnTo>
                    <a:pt x="66" y="904"/>
                  </a:lnTo>
                  <a:lnTo>
                    <a:pt x="68" y="901"/>
                  </a:lnTo>
                  <a:lnTo>
                    <a:pt x="68" y="895"/>
                  </a:lnTo>
                  <a:lnTo>
                    <a:pt x="66" y="891"/>
                  </a:lnTo>
                  <a:lnTo>
                    <a:pt x="61" y="888"/>
                  </a:lnTo>
                  <a:lnTo>
                    <a:pt x="55" y="891"/>
                  </a:lnTo>
                  <a:lnTo>
                    <a:pt x="48" y="894"/>
                  </a:lnTo>
                  <a:lnTo>
                    <a:pt x="41" y="897"/>
                  </a:lnTo>
                  <a:lnTo>
                    <a:pt x="34" y="898"/>
                  </a:lnTo>
                  <a:lnTo>
                    <a:pt x="26" y="900"/>
                  </a:lnTo>
                  <a:lnTo>
                    <a:pt x="19" y="901"/>
                  </a:lnTo>
                  <a:lnTo>
                    <a:pt x="15" y="901"/>
                  </a:lnTo>
                  <a:lnTo>
                    <a:pt x="10" y="900"/>
                  </a:lnTo>
                  <a:lnTo>
                    <a:pt x="5" y="895"/>
                  </a:lnTo>
                  <a:lnTo>
                    <a:pt x="0" y="890"/>
                  </a:lnTo>
                  <a:lnTo>
                    <a:pt x="0" y="885"/>
                  </a:lnTo>
                  <a:lnTo>
                    <a:pt x="5" y="881"/>
                  </a:lnTo>
                  <a:lnTo>
                    <a:pt x="12" y="878"/>
                  </a:lnTo>
                  <a:lnTo>
                    <a:pt x="18" y="874"/>
                  </a:lnTo>
                  <a:lnTo>
                    <a:pt x="22" y="872"/>
                  </a:lnTo>
                  <a:lnTo>
                    <a:pt x="26" y="871"/>
                  </a:lnTo>
                  <a:lnTo>
                    <a:pt x="32" y="853"/>
                  </a:lnTo>
                  <a:lnTo>
                    <a:pt x="38" y="836"/>
                  </a:lnTo>
                  <a:lnTo>
                    <a:pt x="44" y="820"/>
                  </a:lnTo>
                  <a:lnTo>
                    <a:pt x="50" y="805"/>
                  </a:lnTo>
                  <a:lnTo>
                    <a:pt x="55" y="791"/>
                  </a:lnTo>
                  <a:lnTo>
                    <a:pt x="63" y="776"/>
                  </a:lnTo>
                  <a:lnTo>
                    <a:pt x="68" y="765"/>
                  </a:lnTo>
                  <a:lnTo>
                    <a:pt x="76" y="753"/>
                  </a:lnTo>
                  <a:lnTo>
                    <a:pt x="84" y="740"/>
                  </a:lnTo>
                  <a:lnTo>
                    <a:pt x="95" y="724"/>
                  </a:lnTo>
                  <a:lnTo>
                    <a:pt x="106" y="706"/>
                  </a:lnTo>
                  <a:lnTo>
                    <a:pt x="121" y="689"/>
                  </a:lnTo>
                  <a:lnTo>
                    <a:pt x="135" y="671"/>
                  </a:lnTo>
                  <a:lnTo>
                    <a:pt x="150" y="655"/>
                  </a:lnTo>
                  <a:lnTo>
                    <a:pt x="166" y="644"/>
                  </a:lnTo>
                  <a:lnTo>
                    <a:pt x="180" y="635"/>
                  </a:lnTo>
                  <a:lnTo>
                    <a:pt x="199" y="628"/>
                  </a:lnTo>
                  <a:lnTo>
                    <a:pt x="227" y="618"/>
                  </a:lnTo>
                  <a:lnTo>
                    <a:pt x="260" y="608"/>
                  </a:lnTo>
                  <a:lnTo>
                    <a:pt x="295" y="596"/>
                  </a:lnTo>
                  <a:lnTo>
                    <a:pt x="330" y="584"/>
                  </a:lnTo>
                  <a:lnTo>
                    <a:pt x="362" y="574"/>
                  </a:lnTo>
                  <a:lnTo>
                    <a:pt x="388" y="567"/>
                  </a:lnTo>
                  <a:lnTo>
                    <a:pt x="407" y="561"/>
                  </a:lnTo>
                  <a:lnTo>
                    <a:pt x="398" y="573"/>
                  </a:lnTo>
                  <a:lnTo>
                    <a:pt x="391" y="584"/>
                  </a:lnTo>
                  <a:lnTo>
                    <a:pt x="385" y="597"/>
                  </a:lnTo>
                  <a:lnTo>
                    <a:pt x="379" y="613"/>
                  </a:lnTo>
                  <a:lnTo>
                    <a:pt x="388" y="612"/>
                  </a:lnTo>
                  <a:lnTo>
                    <a:pt x="398" y="610"/>
                  </a:lnTo>
                  <a:lnTo>
                    <a:pt x="407" y="608"/>
                  </a:lnTo>
                  <a:lnTo>
                    <a:pt x="417" y="603"/>
                  </a:lnTo>
                  <a:lnTo>
                    <a:pt x="427" y="600"/>
                  </a:lnTo>
                  <a:lnTo>
                    <a:pt x="435" y="596"/>
                  </a:lnTo>
                  <a:lnTo>
                    <a:pt x="442" y="590"/>
                  </a:lnTo>
                  <a:lnTo>
                    <a:pt x="448" y="586"/>
                  </a:lnTo>
                  <a:lnTo>
                    <a:pt x="452" y="546"/>
                  </a:lnTo>
                  <a:lnTo>
                    <a:pt x="458" y="504"/>
                  </a:lnTo>
                  <a:lnTo>
                    <a:pt x="464" y="459"/>
                  </a:lnTo>
                  <a:lnTo>
                    <a:pt x="472" y="416"/>
                  </a:lnTo>
                  <a:lnTo>
                    <a:pt x="483" y="372"/>
                  </a:lnTo>
                  <a:lnTo>
                    <a:pt x="496" y="331"/>
                  </a:lnTo>
                  <a:lnTo>
                    <a:pt x="512" y="295"/>
                  </a:lnTo>
                  <a:lnTo>
                    <a:pt x="532" y="264"/>
                  </a:lnTo>
                  <a:lnTo>
                    <a:pt x="554" y="238"/>
                  </a:lnTo>
                  <a:lnTo>
                    <a:pt x="577" y="212"/>
                  </a:lnTo>
                  <a:lnTo>
                    <a:pt x="600" y="189"/>
                  </a:lnTo>
                  <a:lnTo>
                    <a:pt x="622" y="167"/>
                  </a:lnTo>
                  <a:lnTo>
                    <a:pt x="644" y="147"/>
                  </a:lnTo>
                  <a:lnTo>
                    <a:pt x="666" y="129"/>
                  </a:lnTo>
                  <a:lnTo>
                    <a:pt x="686" y="115"/>
                  </a:lnTo>
                  <a:lnTo>
                    <a:pt x="705" y="101"/>
                  </a:lnTo>
                  <a:lnTo>
                    <a:pt x="725" y="88"/>
                  </a:lnTo>
                  <a:lnTo>
                    <a:pt x="746" y="75"/>
                  </a:lnTo>
                  <a:lnTo>
                    <a:pt x="765" y="64"/>
                  </a:lnTo>
                  <a:lnTo>
                    <a:pt x="785" y="51"/>
                  </a:lnTo>
                  <a:lnTo>
                    <a:pt x="802" y="39"/>
                  </a:lnTo>
                  <a:lnTo>
                    <a:pt x="817" y="29"/>
                  </a:lnTo>
                  <a:lnTo>
                    <a:pt x="828" y="22"/>
                  </a:lnTo>
                  <a:lnTo>
                    <a:pt x="836" y="16"/>
                  </a:lnTo>
                  <a:lnTo>
                    <a:pt x="843" y="11"/>
                  </a:lnTo>
                  <a:lnTo>
                    <a:pt x="852" y="6"/>
                  </a:lnTo>
                  <a:lnTo>
                    <a:pt x="862" y="1"/>
                  </a:lnTo>
                  <a:lnTo>
                    <a:pt x="872" y="0"/>
                  </a:lnTo>
                  <a:lnTo>
                    <a:pt x="881" y="3"/>
                  </a:lnTo>
                  <a:lnTo>
                    <a:pt x="885" y="10"/>
                  </a:lnTo>
                  <a:lnTo>
                    <a:pt x="887" y="26"/>
                  </a:lnTo>
                  <a:lnTo>
                    <a:pt x="881" y="49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32400" y="3274560"/>
              <a:ext cx="324000" cy="596160"/>
            </a:xfrm>
            <a:custGeom>
              <a:avLst/>
              <a:gdLst/>
              <a:ahLst/>
              <a:rect l="l" t="t" r="r" b="b"/>
              <a:pathLst>
                <a:path w="160" h="272">
                  <a:moveTo>
                    <a:pt x="160" y="0"/>
                  </a:moveTo>
                  <a:lnTo>
                    <a:pt x="146" y="4"/>
                  </a:lnTo>
                  <a:lnTo>
                    <a:pt x="133" y="8"/>
                  </a:lnTo>
                  <a:lnTo>
                    <a:pt x="119" y="16"/>
                  </a:lnTo>
                  <a:lnTo>
                    <a:pt x="109" y="23"/>
                  </a:lnTo>
                  <a:lnTo>
                    <a:pt x="99" y="30"/>
                  </a:lnTo>
                  <a:lnTo>
                    <a:pt x="90" y="39"/>
                  </a:lnTo>
                  <a:lnTo>
                    <a:pt x="82" y="48"/>
                  </a:lnTo>
                  <a:lnTo>
                    <a:pt x="74" y="56"/>
                  </a:lnTo>
                  <a:lnTo>
                    <a:pt x="92" y="74"/>
                  </a:lnTo>
                  <a:lnTo>
                    <a:pt x="77" y="88"/>
                  </a:lnTo>
                  <a:lnTo>
                    <a:pt x="66" y="103"/>
                  </a:lnTo>
                  <a:lnTo>
                    <a:pt x="57" y="116"/>
                  </a:lnTo>
                  <a:lnTo>
                    <a:pt x="51" y="126"/>
                  </a:lnTo>
                  <a:lnTo>
                    <a:pt x="74" y="129"/>
                  </a:lnTo>
                  <a:lnTo>
                    <a:pt x="67" y="139"/>
                  </a:lnTo>
                  <a:lnTo>
                    <a:pt x="58" y="151"/>
                  </a:lnTo>
                  <a:lnTo>
                    <a:pt x="50" y="161"/>
                  </a:lnTo>
                  <a:lnTo>
                    <a:pt x="41" y="173"/>
                  </a:lnTo>
                  <a:lnTo>
                    <a:pt x="31" y="183"/>
                  </a:lnTo>
                  <a:lnTo>
                    <a:pt x="22" y="193"/>
                  </a:lnTo>
                  <a:lnTo>
                    <a:pt x="10" y="202"/>
                  </a:lnTo>
                  <a:lnTo>
                    <a:pt x="0" y="212"/>
                  </a:lnTo>
                  <a:lnTo>
                    <a:pt x="22" y="235"/>
                  </a:lnTo>
                  <a:lnTo>
                    <a:pt x="8" y="254"/>
                  </a:lnTo>
                  <a:lnTo>
                    <a:pt x="15" y="256"/>
                  </a:lnTo>
                  <a:lnTo>
                    <a:pt x="25" y="257"/>
                  </a:lnTo>
                  <a:lnTo>
                    <a:pt x="35" y="257"/>
                  </a:lnTo>
                  <a:lnTo>
                    <a:pt x="44" y="256"/>
                  </a:lnTo>
                  <a:lnTo>
                    <a:pt x="37" y="272"/>
                  </a:lnTo>
                  <a:lnTo>
                    <a:pt x="42" y="270"/>
                  </a:lnTo>
                  <a:lnTo>
                    <a:pt x="50" y="266"/>
                  </a:lnTo>
                  <a:lnTo>
                    <a:pt x="58" y="260"/>
                  </a:lnTo>
                  <a:lnTo>
                    <a:pt x="69" y="253"/>
                  </a:lnTo>
                  <a:lnTo>
                    <a:pt x="77" y="245"/>
                  </a:lnTo>
                  <a:lnTo>
                    <a:pt x="85" y="238"/>
                  </a:lnTo>
                  <a:lnTo>
                    <a:pt x="90" y="231"/>
                  </a:lnTo>
                  <a:lnTo>
                    <a:pt x="95" y="225"/>
                  </a:lnTo>
                  <a:lnTo>
                    <a:pt x="101" y="209"/>
                  </a:lnTo>
                  <a:lnTo>
                    <a:pt x="106" y="186"/>
                  </a:lnTo>
                  <a:lnTo>
                    <a:pt x="114" y="160"/>
                  </a:lnTo>
                  <a:lnTo>
                    <a:pt x="119" y="135"/>
                  </a:lnTo>
                  <a:lnTo>
                    <a:pt x="130" y="104"/>
                  </a:lnTo>
                  <a:lnTo>
                    <a:pt x="143" y="65"/>
                  </a:lnTo>
                  <a:lnTo>
                    <a:pt x="154" y="26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44360" y="5002920"/>
              <a:ext cx="518040" cy="556920"/>
            </a:xfrm>
            <a:custGeom>
              <a:avLst/>
              <a:gdLst/>
              <a:ahLst/>
              <a:rect l="l" t="t" r="r" b="b"/>
              <a:pathLst>
                <a:path w="256" h="254">
                  <a:moveTo>
                    <a:pt x="96" y="36"/>
                  </a:moveTo>
                  <a:lnTo>
                    <a:pt x="96" y="19"/>
                  </a:lnTo>
                  <a:lnTo>
                    <a:pt x="105" y="7"/>
                  </a:lnTo>
                  <a:lnTo>
                    <a:pt x="118" y="0"/>
                  </a:lnTo>
                  <a:lnTo>
                    <a:pt x="133" y="0"/>
                  </a:lnTo>
                  <a:lnTo>
                    <a:pt x="147" y="4"/>
                  </a:lnTo>
                  <a:lnTo>
                    <a:pt x="159" y="14"/>
                  </a:lnTo>
                  <a:lnTo>
                    <a:pt x="163" y="30"/>
                  </a:lnTo>
                  <a:lnTo>
                    <a:pt x="157" y="51"/>
                  </a:lnTo>
                  <a:lnTo>
                    <a:pt x="162" y="54"/>
                  </a:lnTo>
                  <a:lnTo>
                    <a:pt x="169" y="55"/>
                  </a:lnTo>
                  <a:lnTo>
                    <a:pt x="175" y="56"/>
                  </a:lnTo>
                  <a:lnTo>
                    <a:pt x="181" y="55"/>
                  </a:lnTo>
                  <a:lnTo>
                    <a:pt x="186" y="52"/>
                  </a:lnTo>
                  <a:lnTo>
                    <a:pt x="195" y="51"/>
                  </a:lnTo>
                  <a:lnTo>
                    <a:pt x="205" y="54"/>
                  </a:lnTo>
                  <a:lnTo>
                    <a:pt x="218" y="62"/>
                  </a:lnTo>
                  <a:lnTo>
                    <a:pt x="226" y="70"/>
                  </a:lnTo>
                  <a:lnTo>
                    <a:pt x="234" y="77"/>
                  </a:lnTo>
                  <a:lnTo>
                    <a:pt x="243" y="87"/>
                  </a:lnTo>
                  <a:lnTo>
                    <a:pt x="250" y="96"/>
                  </a:lnTo>
                  <a:lnTo>
                    <a:pt x="255" y="106"/>
                  </a:lnTo>
                  <a:lnTo>
                    <a:pt x="256" y="116"/>
                  </a:lnTo>
                  <a:lnTo>
                    <a:pt x="253" y="125"/>
                  </a:lnTo>
                  <a:lnTo>
                    <a:pt x="246" y="135"/>
                  </a:lnTo>
                  <a:lnTo>
                    <a:pt x="253" y="145"/>
                  </a:lnTo>
                  <a:lnTo>
                    <a:pt x="253" y="160"/>
                  </a:lnTo>
                  <a:lnTo>
                    <a:pt x="245" y="176"/>
                  </a:lnTo>
                  <a:lnTo>
                    <a:pt x="227" y="182"/>
                  </a:lnTo>
                  <a:lnTo>
                    <a:pt x="230" y="189"/>
                  </a:lnTo>
                  <a:lnTo>
                    <a:pt x="231" y="198"/>
                  </a:lnTo>
                  <a:lnTo>
                    <a:pt x="227" y="208"/>
                  </a:lnTo>
                  <a:lnTo>
                    <a:pt x="221" y="216"/>
                  </a:lnTo>
                  <a:lnTo>
                    <a:pt x="214" y="224"/>
                  </a:lnTo>
                  <a:lnTo>
                    <a:pt x="202" y="228"/>
                  </a:lnTo>
                  <a:lnTo>
                    <a:pt x="191" y="231"/>
                  </a:lnTo>
                  <a:lnTo>
                    <a:pt x="176" y="230"/>
                  </a:lnTo>
                  <a:lnTo>
                    <a:pt x="176" y="240"/>
                  </a:lnTo>
                  <a:lnTo>
                    <a:pt x="170" y="247"/>
                  </a:lnTo>
                  <a:lnTo>
                    <a:pt x="163" y="251"/>
                  </a:lnTo>
                  <a:lnTo>
                    <a:pt x="152" y="254"/>
                  </a:lnTo>
                  <a:lnTo>
                    <a:pt x="138" y="253"/>
                  </a:lnTo>
                  <a:lnTo>
                    <a:pt x="125" y="248"/>
                  </a:lnTo>
                  <a:lnTo>
                    <a:pt x="112" y="241"/>
                  </a:lnTo>
                  <a:lnTo>
                    <a:pt x="101" y="228"/>
                  </a:lnTo>
                  <a:lnTo>
                    <a:pt x="89" y="234"/>
                  </a:lnTo>
                  <a:lnTo>
                    <a:pt x="76" y="234"/>
                  </a:lnTo>
                  <a:lnTo>
                    <a:pt x="63" y="231"/>
                  </a:lnTo>
                  <a:lnTo>
                    <a:pt x="51" y="225"/>
                  </a:lnTo>
                  <a:lnTo>
                    <a:pt x="41" y="218"/>
                  </a:lnTo>
                  <a:lnTo>
                    <a:pt x="35" y="209"/>
                  </a:lnTo>
                  <a:lnTo>
                    <a:pt x="35" y="202"/>
                  </a:lnTo>
                  <a:lnTo>
                    <a:pt x="41" y="195"/>
                  </a:lnTo>
                  <a:lnTo>
                    <a:pt x="56" y="183"/>
                  </a:lnTo>
                  <a:lnTo>
                    <a:pt x="63" y="171"/>
                  </a:lnTo>
                  <a:lnTo>
                    <a:pt x="60" y="161"/>
                  </a:lnTo>
                  <a:lnTo>
                    <a:pt x="50" y="155"/>
                  </a:lnTo>
                  <a:lnTo>
                    <a:pt x="43" y="158"/>
                  </a:lnTo>
                  <a:lnTo>
                    <a:pt x="37" y="160"/>
                  </a:lnTo>
                  <a:lnTo>
                    <a:pt x="29" y="161"/>
                  </a:lnTo>
                  <a:lnTo>
                    <a:pt x="24" y="163"/>
                  </a:lnTo>
                  <a:lnTo>
                    <a:pt x="18" y="161"/>
                  </a:lnTo>
                  <a:lnTo>
                    <a:pt x="12" y="158"/>
                  </a:lnTo>
                  <a:lnTo>
                    <a:pt x="6" y="154"/>
                  </a:lnTo>
                  <a:lnTo>
                    <a:pt x="2" y="148"/>
                  </a:lnTo>
                  <a:lnTo>
                    <a:pt x="0" y="139"/>
                  </a:lnTo>
                  <a:lnTo>
                    <a:pt x="3" y="131"/>
                  </a:lnTo>
                  <a:lnTo>
                    <a:pt x="11" y="122"/>
                  </a:lnTo>
                  <a:lnTo>
                    <a:pt x="21" y="113"/>
                  </a:lnTo>
                  <a:lnTo>
                    <a:pt x="32" y="103"/>
                  </a:lnTo>
                  <a:lnTo>
                    <a:pt x="44" y="94"/>
                  </a:lnTo>
                  <a:lnTo>
                    <a:pt x="54" y="86"/>
                  </a:lnTo>
                  <a:lnTo>
                    <a:pt x="63" y="78"/>
                  </a:lnTo>
                  <a:lnTo>
                    <a:pt x="50" y="67"/>
                  </a:lnTo>
                  <a:lnTo>
                    <a:pt x="48" y="59"/>
                  </a:lnTo>
                  <a:lnTo>
                    <a:pt x="51" y="52"/>
                  </a:lnTo>
                  <a:lnTo>
                    <a:pt x="56" y="46"/>
                  </a:lnTo>
                  <a:lnTo>
                    <a:pt x="61" y="39"/>
                  </a:lnTo>
                  <a:lnTo>
                    <a:pt x="72" y="35"/>
                  </a:lnTo>
                  <a:lnTo>
                    <a:pt x="83" y="33"/>
                  </a:lnTo>
                  <a:lnTo>
                    <a:pt x="96" y="36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09680" y="5257080"/>
              <a:ext cx="173880" cy="1886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0" y="47"/>
                  </a:moveTo>
                  <a:lnTo>
                    <a:pt x="3" y="44"/>
                  </a:lnTo>
                  <a:lnTo>
                    <a:pt x="7" y="42"/>
                  </a:lnTo>
                  <a:lnTo>
                    <a:pt x="15" y="41"/>
                  </a:lnTo>
                  <a:lnTo>
                    <a:pt x="23" y="41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5" y="38"/>
                  </a:lnTo>
                  <a:lnTo>
                    <a:pt x="48" y="35"/>
                  </a:lnTo>
                  <a:lnTo>
                    <a:pt x="54" y="26"/>
                  </a:lnTo>
                  <a:lnTo>
                    <a:pt x="60" y="13"/>
                  </a:lnTo>
                  <a:lnTo>
                    <a:pt x="69" y="3"/>
                  </a:lnTo>
                  <a:lnTo>
                    <a:pt x="80" y="0"/>
                  </a:lnTo>
                  <a:lnTo>
                    <a:pt x="84" y="4"/>
                  </a:lnTo>
                  <a:lnTo>
                    <a:pt x="86" y="13"/>
                  </a:lnTo>
                  <a:lnTo>
                    <a:pt x="83" y="28"/>
                  </a:lnTo>
                  <a:lnTo>
                    <a:pt x="79" y="42"/>
                  </a:lnTo>
                  <a:lnTo>
                    <a:pt x="71" y="58"/>
                  </a:lnTo>
                  <a:lnTo>
                    <a:pt x="63" y="71"/>
                  </a:lnTo>
                  <a:lnTo>
                    <a:pt x="53" y="82"/>
                  </a:lnTo>
                  <a:lnTo>
                    <a:pt x="41" y="86"/>
                  </a:lnTo>
                  <a:lnTo>
                    <a:pt x="47" y="76"/>
                  </a:lnTo>
                  <a:lnTo>
                    <a:pt x="51" y="64"/>
                  </a:lnTo>
                  <a:lnTo>
                    <a:pt x="53" y="55"/>
                  </a:lnTo>
                  <a:lnTo>
                    <a:pt x="53" y="48"/>
                  </a:lnTo>
                  <a:lnTo>
                    <a:pt x="45" y="51"/>
                  </a:lnTo>
                  <a:lnTo>
                    <a:pt x="37" y="52"/>
                  </a:lnTo>
                  <a:lnTo>
                    <a:pt x="28" y="54"/>
                  </a:lnTo>
                  <a:lnTo>
                    <a:pt x="18" y="55"/>
                  </a:lnTo>
                  <a:lnTo>
                    <a:pt x="10" y="54"/>
                  </a:lnTo>
                  <a:lnTo>
                    <a:pt x="5" y="52"/>
                  </a:lnTo>
                  <a:lnTo>
                    <a:pt x="0" y="51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89480" y="4737240"/>
              <a:ext cx="82440" cy="195120"/>
            </a:xfrm>
            <a:custGeom>
              <a:avLst/>
              <a:gdLst/>
              <a:ahLst/>
              <a:rect l="l" t="t" r="r" b="b"/>
              <a:pathLst>
                <a:path w="41" h="89">
                  <a:moveTo>
                    <a:pt x="10" y="0"/>
                  </a:moveTo>
                  <a:lnTo>
                    <a:pt x="31" y="12"/>
                  </a:lnTo>
                  <a:lnTo>
                    <a:pt x="41" y="51"/>
                  </a:lnTo>
                  <a:lnTo>
                    <a:pt x="41" y="87"/>
                  </a:lnTo>
                  <a:lnTo>
                    <a:pt x="35" y="89"/>
                  </a:lnTo>
                  <a:lnTo>
                    <a:pt x="29" y="74"/>
                  </a:lnTo>
                  <a:lnTo>
                    <a:pt x="22" y="60"/>
                  </a:lnTo>
                  <a:lnTo>
                    <a:pt x="13" y="47"/>
                  </a:lnTo>
                  <a:lnTo>
                    <a:pt x="6" y="34"/>
                  </a:lnTo>
                  <a:lnTo>
                    <a:pt x="1" y="23"/>
                  </a:lnTo>
                  <a:lnTo>
                    <a:pt x="0" y="13"/>
                  </a:lnTo>
                  <a:lnTo>
                    <a:pt x="1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80640" y="5507280"/>
              <a:ext cx="113400" cy="183960"/>
            </a:xfrm>
            <a:custGeom>
              <a:avLst/>
              <a:gdLst/>
              <a:ahLst/>
              <a:rect l="l" t="t" r="r" b="b"/>
              <a:pathLst>
                <a:path w="56" h="84">
                  <a:moveTo>
                    <a:pt x="0" y="0"/>
                  </a:moveTo>
                  <a:lnTo>
                    <a:pt x="7" y="5"/>
                  </a:lnTo>
                  <a:lnTo>
                    <a:pt x="17" y="13"/>
                  </a:lnTo>
                  <a:lnTo>
                    <a:pt x="29" y="20"/>
                  </a:lnTo>
                  <a:lnTo>
                    <a:pt x="39" y="27"/>
                  </a:lnTo>
                  <a:lnTo>
                    <a:pt x="48" y="34"/>
                  </a:lnTo>
                  <a:lnTo>
                    <a:pt x="55" y="40"/>
                  </a:lnTo>
                  <a:lnTo>
                    <a:pt x="56" y="45"/>
                  </a:lnTo>
                  <a:lnTo>
                    <a:pt x="54" y="46"/>
                  </a:lnTo>
                  <a:lnTo>
                    <a:pt x="42" y="45"/>
                  </a:lnTo>
                  <a:lnTo>
                    <a:pt x="33" y="43"/>
                  </a:lnTo>
                  <a:lnTo>
                    <a:pt x="26" y="42"/>
                  </a:lnTo>
                  <a:lnTo>
                    <a:pt x="22" y="42"/>
                  </a:lnTo>
                  <a:lnTo>
                    <a:pt x="22" y="47"/>
                  </a:lnTo>
                  <a:lnTo>
                    <a:pt x="25" y="61"/>
                  </a:lnTo>
                  <a:lnTo>
                    <a:pt x="33" y="74"/>
                  </a:lnTo>
                  <a:lnTo>
                    <a:pt x="43" y="84"/>
                  </a:lnTo>
                  <a:lnTo>
                    <a:pt x="33" y="82"/>
                  </a:lnTo>
                  <a:lnTo>
                    <a:pt x="25" y="78"/>
                  </a:lnTo>
                  <a:lnTo>
                    <a:pt x="17" y="71"/>
                  </a:lnTo>
                  <a:lnTo>
                    <a:pt x="11" y="62"/>
                  </a:lnTo>
                  <a:lnTo>
                    <a:pt x="6" y="50"/>
                  </a:lnTo>
                  <a:lnTo>
                    <a:pt x="3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26800" y="5978880"/>
              <a:ext cx="127440" cy="7632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0" y="35"/>
                  </a:moveTo>
                  <a:lnTo>
                    <a:pt x="2" y="23"/>
                  </a:lnTo>
                  <a:lnTo>
                    <a:pt x="8" y="14"/>
                  </a:lnTo>
                  <a:lnTo>
                    <a:pt x="16" y="7"/>
                  </a:lnTo>
                  <a:lnTo>
                    <a:pt x="28" y="3"/>
                  </a:lnTo>
                  <a:lnTo>
                    <a:pt x="38" y="0"/>
                  </a:lnTo>
                  <a:lnTo>
                    <a:pt x="48" y="1"/>
                  </a:lnTo>
                  <a:lnTo>
                    <a:pt x="57" y="4"/>
                  </a:lnTo>
                  <a:lnTo>
                    <a:pt x="63" y="11"/>
                  </a:lnTo>
                  <a:lnTo>
                    <a:pt x="57" y="14"/>
                  </a:lnTo>
                  <a:lnTo>
                    <a:pt x="48" y="17"/>
                  </a:lnTo>
                  <a:lnTo>
                    <a:pt x="41" y="20"/>
                  </a:lnTo>
                  <a:lnTo>
                    <a:pt x="32" y="23"/>
                  </a:lnTo>
                  <a:lnTo>
                    <a:pt x="22" y="27"/>
                  </a:lnTo>
                  <a:lnTo>
                    <a:pt x="15" y="30"/>
                  </a:lnTo>
                  <a:lnTo>
                    <a:pt x="6" y="33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86680" y="5079600"/>
              <a:ext cx="123480" cy="219240"/>
            </a:xfrm>
            <a:custGeom>
              <a:avLst/>
              <a:gdLst/>
              <a:ahLst/>
              <a:rect l="l" t="t" r="r" b="b"/>
              <a:pathLst>
                <a:path w="61" h="100">
                  <a:moveTo>
                    <a:pt x="0" y="0"/>
                  </a:moveTo>
                  <a:lnTo>
                    <a:pt x="7" y="8"/>
                  </a:lnTo>
                  <a:lnTo>
                    <a:pt x="16" y="21"/>
                  </a:lnTo>
                  <a:lnTo>
                    <a:pt x="26" y="36"/>
                  </a:lnTo>
                  <a:lnTo>
                    <a:pt x="37" y="51"/>
                  </a:lnTo>
                  <a:lnTo>
                    <a:pt x="46" y="65"/>
                  </a:lnTo>
                  <a:lnTo>
                    <a:pt x="53" y="80"/>
                  </a:lnTo>
                  <a:lnTo>
                    <a:pt x="59" y="91"/>
                  </a:lnTo>
                  <a:lnTo>
                    <a:pt x="61" y="100"/>
                  </a:lnTo>
                  <a:lnTo>
                    <a:pt x="52" y="97"/>
                  </a:lnTo>
                  <a:lnTo>
                    <a:pt x="45" y="96"/>
                  </a:lnTo>
                  <a:lnTo>
                    <a:pt x="36" y="96"/>
                  </a:lnTo>
                  <a:lnTo>
                    <a:pt x="27" y="96"/>
                  </a:lnTo>
                  <a:lnTo>
                    <a:pt x="27" y="72"/>
                  </a:lnTo>
                  <a:lnTo>
                    <a:pt x="17" y="45"/>
                  </a:lnTo>
                  <a:lnTo>
                    <a:pt x="5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18680" y="5958720"/>
              <a:ext cx="113400" cy="77040"/>
            </a:xfrm>
            <a:custGeom>
              <a:avLst/>
              <a:gdLst/>
              <a:ahLst/>
              <a:rect l="l" t="t" r="r" b="b"/>
              <a:pathLst>
                <a:path w="56" h="35">
                  <a:moveTo>
                    <a:pt x="56" y="0"/>
                  </a:moveTo>
                  <a:lnTo>
                    <a:pt x="52" y="0"/>
                  </a:lnTo>
                  <a:lnTo>
                    <a:pt x="46" y="1"/>
                  </a:lnTo>
                  <a:lnTo>
                    <a:pt x="39" y="4"/>
                  </a:lnTo>
                  <a:lnTo>
                    <a:pt x="30" y="10"/>
                  </a:lnTo>
                  <a:lnTo>
                    <a:pt x="23" y="16"/>
                  </a:lnTo>
                  <a:lnTo>
                    <a:pt x="14" y="22"/>
                  </a:lnTo>
                  <a:lnTo>
                    <a:pt x="7" y="28"/>
                  </a:lnTo>
                  <a:lnTo>
                    <a:pt x="0" y="33"/>
                  </a:lnTo>
                  <a:lnTo>
                    <a:pt x="5" y="35"/>
                  </a:lnTo>
                  <a:lnTo>
                    <a:pt x="8" y="35"/>
                  </a:lnTo>
                  <a:lnTo>
                    <a:pt x="11" y="35"/>
                  </a:lnTo>
                  <a:lnTo>
                    <a:pt x="13" y="35"/>
                  </a:lnTo>
                  <a:lnTo>
                    <a:pt x="19" y="31"/>
                  </a:lnTo>
                  <a:lnTo>
                    <a:pt x="26" y="25"/>
                  </a:lnTo>
                  <a:lnTo>
                    <a:pt x="33" y="20"/>
                  </a:lnTo>
                  <a:lnTo>
                    <a:pt x="39" y="15"/>
                  </a:lnTo>
                  <a:lnTo>
                    <a:pt x="46" y="10"/>
                  </a:lnTo>
                  <a:lnTo>
                    <a:pt x="51" y="7"/>
                  </a:lnTo>
                  <a:lnTo>
                    <a:pt x="55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64920" y="5018400"/>
              <a:ext cx="52560" cy="190440"/>
            </a:xfrm>
            <a:custGeom>
              <a:avLst/>
              <a:gdLst/>
              <a:ahLst/>
              <a:rect l="l" t="t" r="r" b="b"/>
              <a:pathLst>
                <a:path w="26" h="87">
                  <a:moveTo>
                    <a:pt x="20" y="0"/>
                  </a:moveTo>
                  <a:lnTo>
                    <a:pt x="9" y="20"/>
                  </a:lnTo>
                  <a:lnTo>
                    <a:pt x="0" y="52"/>
                  </a:lnTo>
                  <a:lnTo>
                    <a:pt x="2" y="79"/>
                  </a:lnTo>
                  <a:lnTo>
                    <a:pt x="13" y="87"/>
                  </a:lnTo>
                  <a:lnTo>
                    <a:pt x="18" y="77"/>
                  </a:lnTo>
                  <a:lnTo>
                    <a:pt x="19" y="55"/>
                  </a:lnTo>
                  <a:lnTo>
                    <a:pt x="19" y="33"/>
                  </a:lnTo>
                  <a:lnTo>
                    <a:pt x="22" y="19"/>
                  </a:lnTo>
                  <a:lnTo>
                    <a:pt x="25" y="12"/>
                  </a:lnTo>
                  <a:lnTo>
                    <a:pt x="26" y="7"/>
                  </a:lnTo>
                  <a:lnTo>
                    <a:pt x="23" y="3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00560" y="4785480"/>
              <a:ext cx="670320" cy="206280"/>
            </a:xfrm>
            <a:custGeom>
              <a:avLst/>
              <a:gdLst/>
              <a:ahLst/>
              <a:rect l="l" t="t" r="r" b="b"/>
              <a:pathLst>
                <a:path w="331" h="94">
                  <a:moveTo>
                    <a:pt x="0" y="87"/>
                  </a:moveTo>
                  <a:lnTo>
                    <a:pt x="3" y="86"/>
                  </a:lnTo>
                  <a:lnTo>
                    <a:pt x="11" y="84"/>
                  </a:lnTo>
                  <a:lnTo>
                    <a:pt x="23" y="80"/>
                  </a:lnTo>
                  <a:lnTo>
                    <a:pt x="41" y="74"/>
                  </a:lnTo>
                  <a:lnTo>
                    <a:pt x="61" y="68"/>
                  </a:lnTo>
                  <a:lnTo>
                    <a:pt x="84" y="61"/>
                  </a:lnTo>
                  <a:lnTo>
                    <a:pt x="109" y="54"/>
                  </a:lnTo>
                  <a:lnTo>
                    <a:pt x="135" y="45"/>
                  </a:lnTo>
                  <a:lnTo>
                    <a:pt x="163" y="38"/>
                  </a:lnTo>
                  <a:lnTo>
                    <a:pt x="192" y="30"/>
                  </a:lnTo>
                  <a:lnTo>
                    <a:pt x="219" y="23"/>
                  </a:lnTo>
                  <a:lnTo>
                    <a:pt x="245" y="16"/>
                  </a:lnTo>
                  <a:lnTo>
                    <a:pt x="272" y="10"/>
                  </a:lnTo>
                  <a:lnTo>
                    <a:pt x="293" y="6"/>
                  </a:lnTo>
                  <a:lnTo>
                    <a:pt x="314" y="1"/>
                  </a:lnTo>
                  <a:lnTo>
                    <a:pt x="331" y="0"/>
                  </a:lnTo>
                  <a:lnTo>
                    <a:pt x="324" y="9"/>
                  </a:lnTo>
                  <a:lnTo>
                    <a:pt x="0" y="94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67520" y="4893120"/>
              <a:ext cx="738720" cy="131760"/>
            </a:xfrm>
            <a:custGeom>
              <a:avLst/>
              <a:gdLst/>
              <a:ahLst/>
              <a:rect l="l" t="t" r="r" b="b"/>
              <a:pathLst>
                <a:path w="365" h="60">
                  <a:moveTo>
                    <a:pt x="0" y="54"/>
                  </a:moveTo>
                  <a:lnTo>
                    <a:pt x="5" y="54"/>
                  </a:lnTo>
                  <a:lnTo>
                    <a:pt x="15" y="51"/>
                  </a:lnTo>
                  <a:lnTo>
                    <a:pt x="31" y="50"/>
                  </a:lnTo>
                  <a:lnTo>
                    <a:pt x="51" y="45"/>
                  </a:lnTo>
                  <a:lnTo>
                    <a:pt x="77" y="43"/>
                  </a:lnTo>
                  <a:lnTo>
                    <a:pt x="105" y="38"/>
                  </a:lnTo>
                  <a:lnTo>
                    <a:pt x="135" y="32"/>
                  </a:lnTo>
                  <a:lnTo>
                    <a:pt x="167" y="28"/>
                  </a:lnTo>
                  <a:lnTo>
                    <a:pt x="199" y="22"/>
                  </a:lnTo>
                  <a:lnTo>
                    <a:pt x="231" y="18"/>
                  </a:lnTo>
                  <a:lnTo>
                    <a:pt x="262" y="13"/>
                  </a:lnTo>
                  <a:lnTo>
                    <a:pt x="291" y="9"/>
                  </a:lnTo>
                  <a:lnTo>
                    <a:pt x="316" y="6"/>
                  </a:lnTo>
                  <a:lnTo>
                    <a:pt x="337" y="3"/>
                  </a:lnTo>
                  <a:lnTo>
                    <a:pt x="355" y="2"/>
                  </a:lnTo>
                  <a:lnTo>
                    <a:pt x="365" y="0"/>
                  </a:lnTo>
                  <a:lnTo>
                    <a:pt x="356" y="9"/>
                  </a:lnTo>
                  <a:lnTo>
                    <a:pt x="346" y="11"/>
                  </a:lnTo>
                  <a:lnTo>
                    <a:pt x="330" y="12"/>
                  </a:lnTo>
                  <a:lnTo>
                    <a:pt x="310" y="15"/>
                  </a:lnTo>
                  <a:lnTo>
                    <a:pt x="285" y="18"/>
                  </a:lnTo>
                  <a:lnTo>
                    <a:pt x="257" y="22"/>
                  </a:lnTo>
                  <a:lnTo>
                    <a:pt x="228" y="27"/>
                  </a:lnTo>
                  <a:lnTo>
                    <a:pt x="198" y="31"/>
                  </a:lnTo>
                  <a:lnTo>
                    <a:pt x="167" y="35"/>
                  </a:lnTo>
                  <a:lnTo>
                    <a:pt x="137" y="40"/>
                  </a:lnTo>
                  <a:lnTo>
                    <a:pt x="108" y="44"/>
                  </a:lnTo>
                  <a:lnTo>
                    <a:pt x="82" y="48"/>
                  </a:lnTo>
                  <a:lnTo>
                    <a:pt x="57" y="53"/>
                  </a:lnTo>
                  <a:lnTo>
                    <a:pt x="38" y="56"/>
                  </a:lnTo>
                  <a:lnTo>
                    <a:pt x="22" y="58"/>
                  </a:lnTo>
                  <a:lnTo>
                    <a:pt x="12" y="60"/>
                  </a:lnTo>
                  <a:lnTo>
                    <a:pt x="9" y="6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27360" y="5002920"/>
              <a:ext cx="210600" cy="41760"/>
            </a:xfrm>
            <a:custGeom>
              <a:avLst/>
              <a:gdLst/>
              <a:ahLst/>
              <a:rect l="l" t="t" r="r" b="b"/>
              <a:pathLst>
                <a:path w="104" h="19">
                  <a:moveTo>
                    <a:pt x="14" y="0"/>
                  </a:moveTo>
                  <a:lnTo>
                    <a:pt x="104" y="19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82720" y="4531320"/>
              <a:ext cx="277200" cy="162000"/>
            </a:xfrm>
            <a:custGeom>
              <a:avLst/>
              <a:gdLst/>
              <a:ahLst/>
              <a:rect l="l" t="t" r="r" b="b"/>
              <a:pathLst>
                <a:path w="137" h="74">
                  <a:moveTo>
                    <a:pt x="9" y="74"/>
                  </a:moveTo>
                  <a:lnTo>
                    <a:pt x="3" y="68"/>
                  </a:lnTo>
                  <a:lnTo>
                    <a:pt x="0" y="59"/>
                  </a:lnTo>
                  <a:lnTo>
                    <a:pt x="1" y="49"/>
                  </a:lnTo>
                  <a:lnTo>
                    <a:pt x="7" y="39"/>
                  </a:lnTo>
                  <a:lnTo>
                    <a:pt x="12" y="33"/>
                  </a:lnTo>
                  <a:lnTo>
                    <a:pt x="16" y="26"/>
                  </a:lnTo>
                  <a:lnTo>
                    <a:pt x="22" y="18"/>
                  </a:lnTo>
                  <a:lnTo>
                    <a:pt x="30" y="11"/>
                  </a:lnTo>
                  <a:lnTo>
                    <a:pt x="41" y="5"/>
                  </a:lnTo>
                  <a:lnTo>
                    <a:pt x="54" y="2"/>
                  </a:lnTo>
                  <a:lnTo>
                    <a:pt x="71" y="1"/>
                  </a:lnTo>
                  <a:lnTo>
                    <a:pt x="91" y="4"/>
                  </a:lnTo>
                  <a:lnTo>
                    <a:pt x="86" y="7"/>
                  </a:lnTo>
                  <a:lnTo>
                    <a:pt x="80" y="11"/>
                  </a:lnTo>
                  <a:lnTo>
                    <a:pt x="76" y="17"/>
                  </a:lnTo>
                  <a:lnTo>
                    <a:pt x="71" y="24"/>
                  </a:lnTo>
                  <a:lnTo>
                    <a:pt x="77" y="24"/>
                  </a:lnTo>
                  <a:lnTo>
                    <a:pt x="84" y="23"/>
                  </a:lnTo>
                  <a:lnTo>
                    <a:pt x="91" y="21"/>
                  </a:lnTo>
                  <a:lnTo>
                    <a:pt x="100" y="18"/>
                  </a:lnTo>
                  <a:lnTo>
                    <a:pt x="107" y="14"/>
                  </a:lnTo>
                  <a:lnTo>
                    <a:pt x="113" y="10"/>
                  </a:lnTo>
                  <a:lnTo>
                    <a:pt x="121" y="5"/>
                  </a:lnTo>
                  <a:lnTo>
                    <a:pt x="125" y="0"/>
                  </a:lnTo>
                  <a:lnTo>
                    <a:pt x="134" y="5"/>
                  </a:lnTo>
                  <a:lnTo>
                    <a:pt x="137" y="14"/>
                  </a:lnTo>
                  <a:lnTo>
                    <a:pt x="135" y="23"/>
                  </a:lnTo>
                  <a:lnTo>
                    <a:pt x="131" y="32"/>
                  </a:lnTo>
                  <a:lnTo>
                    <a:pt x="128" y="36"/>
                  </a:lnTo>
                  <a:lnTo>
                    <a:pt x="123" y="42"/>
                  </a:lnTo>
                  <a:lnTo>
                    <a:pt x="118" y="48"/>
                  </a:lnTo>
                  <a:lnTo>
                    <a:pt x="112" y="53"/>
                  </a:lnTo>
                  <a:lnTo>
                    <a:pt x="105" y="59"/>
                  </a:lnTo>
                  <a:lnTo>
                    <a:pt x="97" y="64"/>
                  </a:lnTo>
                  <a:lnTo>
                    <a:pt x="89" y="66"/>
                  </a:lnTo>
                  <a:lnTo>
                    <a:pt x="80" y="68"/>
                  </a:lnTo>
                  <a:lnTo>
                    <a:pt x="70" y="66"/>
                  </a:lnTo>
                  <a:lnTo>
                    <a:pt x="60" y="64"/>
                  </a:lnTo>
                  <a:lnTo>
                    <a:pt x="49" y="59"/>
                  </a:lnTo>
                  <a:lnTo>
                    <a:pt x="41" y="55"/>
                  </a:lnTo>
                  <a:lnTo>
                    <a:pt x="30" y="53"/>
                  </a:lnTo>
                  <a:lnTo>
                    <a:pt x="22" y="56"/>
                  </a:lnTo>
                  <a:lnTo>
                    <a:pt x="14" y="62"/>
                  </a:lnTo>
                  <a:lnTo>
                    <a:pt x="9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457200"/>
            <a:ext cx="8001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ahoma"/>
              </a:rPr>
              <a:t>КОРОВА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209680" y="1905120"/>
            <a:ext cx="5847840" cy="4669920"/>
            <a:chOff x="2209680" y="1905120"/>
            <a:chExt cx="5847840" cy="4669920"/>
          </a:xfrm>
        </p:grpSpPr>
        <p:grpSp>
          <p:nvGrpSpPr>
            <p:cNvPr id="123" name=""/>
            <p:cNvGrpSpPr/>
            <p:nvPr/>
          </p:nvGrpSpPr>
          <p:grpSpPr>
            <a:xfrm>
              <a:off x="7693200" y="2292120"/>
              <a:ext cx="364320" cy="386280"/>
              <a:chOff x="7693200" y="2292120"/>
              <a:chExt cx="364320" cy="386280"/>
            </a:xfrm>
          </p:grpSpPr>
          <p:sp>
            <p:nvSpPr>
              <p:cNvPr id="124" name=""/>
              <p:cNvSpPr/>
              <p:nvPr/>
            </p:nvSpPr>
            <p:spPr>
              <a:xfrm>
                <a:off x="7693200" y="2292120"/>
                <a:ext cx="364320" cy="386280"/>
              </a:xfrm>
              <a:custGeom>
                <a:avLst/>
                <a:gdLst/>
                <a:ahLst/>
                <a:rect l="l" t="t" r="r" b="b"/>
                <a:pathLst>
                  <a:path w="179" h="204">
                    <a:moveTo>
                      <a:pt x="29" y="201"/>
                    </a:moveTo>
                    <a:lnTo>
                      <a:pt x="72" y="204"/>
                    </a:lnTo>
                    <a:lnTo>
                      <a:pt x="112" y="193"/>
                    </a:lnTo>
                    <a:lnTo>
                      <a:pt x="147" y="161"/>
                    </a:lnTo>
                    <a:lnTo>
                      <a:pt x="171" y="118"/>
                    </a:lnTo>
                    <a:lnTo>
                      <a:pt x="177" y="72"/>
                    </a:lnTo>
                    <a:lnTo>
                      <a:pt x="179" y="32"/>
                    </a:lnTo>
                    <a:lnTo>
                      <a:pt x="179" y="0"/>
                    </a:lnTo>
                    <a:lnTo>
                      <a:pt x="128" y="10"/>
                    </a:lnTo>
                    <a:lnTo>
                      <a:pt x="72" y="32"/>
                    </a:lnTo>
                    <a:lnTo>
                      <a:pt x="18" y="70"/>
                    </a:lnTo>
                    <a:lnTo>
                      <a:pt x="0" y="99"/>
                    </a:lnTo>
                    <a:lnTo>
                      <a:pt x="29" y="201"/>
                    </a:lnTo>
                    <a:close/>
                  </a:path>
                </a:pathLst>
              </a:custGeom>
              <a:solidFill>
                <a:srgbClr val="bf7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776720" y="2367720"/>
                <a:ext cx="174960" cy="202680"/>
              </a:xfrm>
              <a:custGeom>
                <a:avLst/>
                <a:gdLst/>
                <a:ahLst/>
                <a:rect l="l" t="t" r="r" b="b"/>
                <a:pathLst>
                  <a:path w="86" h="107">
                    <a:moveTo>
                      <a:pt x="13" y="106"/>
                    </a:moveTo>
                    <a:lnTo>
                      <a:pt x="35" y="107"/>
                    </a:lnTo>
                    <a:lnTo>
                      <a:pt x="53" y="101"/>
                    </a:lnTo>
                    <a:lnTo>
                      <a:pt x="70" y="84"/>
                    </a:lnTo>
                    <a:lnTo>
                      <a:pt x="82" y="62"/>
                    </a:lnTo>
                    <a:lnTo>
                      <a:pt x="85" y="38"/>
                    </a:lnTo>
                    <a:lnTo>
                      <a:pt x="86" y="16"/>
                    </a:lnTo>
                    <a:lnTo>
                      <a:pt x="86" y="0"/>
                    </a:lnTo>
                    <a:lnTo>
                      <a:pt x="61" y="5"/>
                    </a:lnTo>
                    <a:lnTo>
                      <a:pt x="35" y="16"/>
                    </a:lnTo>
                    <a:lnTo>
                      <a:pt x="9" y="37"/>
                    </a:lnTo>
                    <a:lnTo>
                      <a:pt x="0" y="52"/>
                    </a:lnTo>
                    <a:lnTo>
                      <a:pt x="13" y="106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7674480" y="2786760"/>
              <a:ext cx="146880" cy="77760"/>
            </a:xfrm>
            <a:custGeom>
              <a:avLst/>
              <a:gdLst/>
              <a:ahLst/>
              <a:rect l="l" t="t" r="r" b="b"/>
              <a:pathLst>
                <a:path w="72" h="41">
                  <a:moveTo>
                    <a:pt x="72" y="8"/>
                  </a:moveTo>
                  <a:lnTo>
                    <a:pt x="60" y="3"/>
                  </a:lnTo>
                  <a:lnTo>
                    <a:pt x="44" y="0"/>
                  </a:lnTo>
                  <a:lnTo>
                    <a:pt x="25" y="3"/>
                  </a:lnTo>
                  <a:lnTo>
                    <a:pt x="16" y="10"/>
                  </a:lnTo>
                  <a:lnTo>
                    <a:pt x="9" y="17"/>
                  </a:lnTo>
                  <a:lnTo>
                    <a:pt x="3" y="32"/>
                  </a:lnTo>
                  <a:lnTo>
                    <a:pt x="0" y="40"/>
                  </a:lnTo>
                  <a:lnTo>
                    <a:pt x="18" y="41"/>
                  </a:lnTo>
                  <a:lnTo>
                    <a:pt x="37" y="39"/>
                  </a:lnTo>
                  <a:lnTo>
                    <a:pt x="56" y="33"/>
                  </a:lnTo>
                  <a:lnTo>
                    <a:pt x="68" y="21"/>
                  </a:lnTo>
                  <a:lnTo>
                    <a:pt x="72" y="8"/>
                  </a:lnTo>
                  <a:close/>
                </a:path>
              </a:pathLst>
            </a:custGeom>
            <a:solidFill>
              <a:srgbClr val="7f5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09680" y="2223720"/>
              <a:ext cx="5801400" cy="4351320"/>
            </a:xfrm>
            <a:custGeom>
              <a:avLst/>
              <a:gdLst/>
              <a:ahLst/>
              <a:rect l="l" t="t" r="r" b="b"/>
              <a:pathLst>
                <a:path w="2845" h="2294">
                  <a:moveTo>
                    <a:pt x="2057" y="157"/>
                  </a:moveTo>
                  <a:lnTo>
                    <a:pt x="1937" y="157"/>
                  </a:lnTo>
                  <a:lnTo>
                    <a:pt x="1782" y="179"/>
                  </a:lnTo>
                  <a:lnTo>
                    <a:pt x="1574" y="217"/>
                  </a:lnTo>
                  <a:lnTo>
                    <a:pt x="1462" y="243"/>
                  </a:lnTo>
                  <a:lnTo>
                    <a:pt x="1352" y="270"/>
                  </a:lnTo>
                  <a:lnTo>
                    <a:pt x="1256" y="294"/>
                  </a:lnTo>
                  <a:lnTo>
                    <a:pt x="1166" y="313"/>
                  </a:lnTo>
                  <a:lnTo>
                    <a:pt x="1081" y="322"/>
                  </a:lnTo>
                  <a:lnTo>
                    <a:pt x="976" y="324"/>
                  </a:lnTo>
                  <a:lnTo>
                    <a:pt x="801" y="308"/>
                  </a:lnTo>
                  <a:lnTo>
                    <a:pt x="680" y="270"/>
                  </a:lnTo>
                  <a:lnTo>
                    <a:pt x="586" y="249"/>
                  </a:lnTo>
                  <a:lnTo>
                    <a:pt x="520" y="233"/>
                  </a:lnTo>
                  <a:lnTo>
                    <a:pt x="456" y="220"/>
                  </a:lnTo>
                  <a:lnTo>
                    <a:pt x="411" y="214"/>
                  </a:lnTo>
                  <a:lnTo>
                    <a:pt x="374" y="211"/>
                  </a:lnTo>
                  <a:lnTo>
                    <a:pt x="331" y="216"/>
                  </a:lnTo>
                  <a:lnTo>
                    <a:pt x="288" y="227"/>
                  </a:lnTo>
                  <a:lnTo>
                    <a:pt x="230" y="251"/>
                  </a:lnTo>
                  <a:lnTo>
                    <a:pt x="176" y="278"/>
                  </a:lnTo>
                  <a:lnTo>
                    <a:pt x="132" y="308"/>
                  </a:lnTo>
                  <a:lnTo>
                    <a:pt x="99" y="337"/>
                  </a:lnTo>
                  <a:lnTo>
                    <a:pt x="62" y="378"/>
                  </a:lnTo>
                  <a:lnTo>
                    <a:pt x="30" y="432"/>
                  </a:lnTo>
                  <a:lnTo>
                    <a:pt x="5" y="524"/>
                  </a:lnTo>
                  <a:lnTo>
                    <a:pt x="0" y="627"/>
                  </a:lnTo>
                  <a:lnTo>
                    <a:pt x="26" y="755"/>
                  </a:lnTo>
                  <a:lnTo>
                    <a:pt x="69" y="912"/>
                  </a:lnTo>
                  <a:lnTo>
                    <a:pt x="128" y="1131"/>
                  </a:lnTo>
                  <a:lnTo>
                    <a:pt x="134" y="1464"/>
                  </a:lnTo>
                  <a:lnTo>
                    <a:pt x="112" y="1691"/>
                  </a:lnTo>
                  <a:lnTo>
                    <a:pt x="187" y="1917"/>
                  </a:lnTo>
                  <a:lnTo>
                    <a:pt x="204" y="2014"/>
                  </a:lnTo>
                  <a:lnTo>
                    <a:pt x="209" y="2153"/>
                  </a:lnTo>
                  <a:lnTo>
                    <a:pt x="166" y="2258"/>
                  </a:lnTo>
                  <a:lnTo>
                    <a:pt x="232" y="2281"/>
                  </a:lnTo>
                  <a:lnTo>
                    <a:pt x="354" y="2265"/>
                  </a:lnTo>
                  <a:lnTo>
                    <a:pt x="370" y="2067"/>
                  </a:lnTo>
                  <a:lnTo>
                    <a:pt x="392" y="2260"/>
                  </a:lnTo>
                  <a:lnTo>
                    <a:pt x="441" y="2291"/>
                  </a:lnTo>
                  <a:lnTo>
                    <a:pt x="529" y="2294"/>
                  </a:lnTo>
                  <a:lnTo>
                    <a:pt x="601" y="2271"/>
                  </a:lnTo>
                  <a:lnTo>
                    <a:pt x="622" y="2239"/>
                  </a:lnTo>
                  <a:lnTo>
                    <a:pt x="553" y="2067"/>
                  </a:lnTo>
                  <a:lnTo>
                    <a:pt x="545" y="1927"/>
                  </a:lnTo>
                  <a:lnTo>
                    <a:pt x="574" y="1809"/>
                  </a:lnTo>
                  <a:lnTo>
                    <a:pt x="610" y="1691"/>
                  </a:lnTo>
                  <a:lnTo>
                    <a:pt x="660" y="1561"/>
                  </a:lnTo>
                  <a:lnTo>
                    <a:pt x="767" y="1421"/>
                  </a:lnTo>
                  <a:lnTo>
                    <a:pt x="844" y="1324"/>
                  </a:lnTo>
                  <a:lnTo>
                    <a:pt x="978" y="1287"/>
                  </a:lnTo>
                  <a:lnTo>
                    <a:pt x="1101" y="1324"/>
                  </a:lnTo>
                  <a:lnTo>
                    <a:pt x="1225" y="1351"/>
                  </a:lnTo>
                  <a:lnTo>
                    <a:pt x="1320" y="1351"/>
                  </a:lnTo>
                  <a:lnTo>
                    <a:pt x="1434" y="1319"/>
                  </a:lnTo>
                  <a:lnTo>
                    <a:pt x="1563" y="1260"/>
                  </a:lnTo>
                  <a:lnTo>
                    <a:pt x="1633" y="1228"/>
                  </a:lnTo>
                  <a:lnTo>
                    <a:pt x="1653" y="1260"/>
                  </a:lnTo>
                  <a:lnTo>
                    <a:pt x="1681" y="1324"/>
                  </a:lnTo>
                  <a:lnTo>
                    <a:pt x="1620" y="1455"/>
                  </a:lnTo>
                  <a:lnTo>
                    <a:pt x="1586" y="1542"/>
                  </a:lnTo>
                  <a:lnTo>
                    <a:pt x="1569" y="1728"/>
                  </a:lnTo>
                  <a:lnTo>
                    <a:pt x="1547" y="1824"/>
                  </a:lnTo>
                  <a:lnTo>
                    <a:pt x="1546" y="1898"/>
                  </a:lnTo>
                  <a:lnTo>
                    <a:pt x="1557" y="2024"/>
                  </a:lnTo>
                  <a:lnTo>
                    <a:pt x="1577" y="2127"/>
                  </a:lnTo>
                  <a:lnTo>
                    <a:pt x="1623" y="2129"/>
                  </a:lnTo>
                  <a:lnTo>
                    <a:pt x="1677" y="2131"/>
                  </a:lnTo>
                  <a:lnTo>
                    <a:pt x="1731" y="2123"/>
                  </a:lnTo>
                  <a:lnTo>
                    <a:pt x="1777" y="2105"/>
                  </a:lnTo>
                  <a:lnTo>
                    <a:pt x="1797" y="2084"/>
                  </a:lnTo>
                  <a:lnTo>
                    <a:pt x="1810" y="2056"/>
                  </a:lnTo>
                  <a:lnTo>
                    <a:pt x="1749" y="1970"/>
                  </a:lnTo>
                  <a:lnTo>
                    <a:pt x="1728" y="1925"/>
                  </a:lnTo>
                  <a:lnTo>
                    <a:pt x="1714" y="1874"/>
                  </a:lnTo>
                  <a:lnTo>
                    <a:pt x="1712" y="1777"/>
                  </a:lnTo>
                  <a:lnTo>
                    <a:pt x="1724" y="1691"/>
                  </a:lnTo>
                  <a:lnTo>
                    <a:pt x="1761" y="1576"/>
                  </a:lnTo>
                  <a:lnTo>
                    <a:pt x="1800" y="1475"/>
                  </a:lnTo>
                  <a:lnTo>
                    <a:pt x="1886" y="1292"/>
                  </a:lnTo>
                  <a:lnTo>
                    <a:pt x="1961" y="1088"/>
                  </a:lnTo>
                  <a:lnTo>
                    <a:pt x="2031" y="900"/>
                  </a:lnTo>
                  <a:lnTo>
                    <a:pt x="2106" y="814"/>
                  </a:lnTo>
                  <a:lnTo>
                    <a:pt x="2207" y="733"/>
                  </a:lnTo>
                  <a:lnTo>
                    <a:pt x="2289" y="653"/>
                  </a:lnTo>
                  <a:lnTo>
                    <a:pt x="2352" y="615"/>
                  </a:lnTo>
                  <a:lnTo>
                    <a:pt x="2424" y="583"/>
                  </a:lnTo>
                  <a:lnTo>
                    <a:pt x="2472" y="588"/>
                  </a:lnTo>
                  <a:lnTo>
                    <a:pt x="2513" y="637"/>
                  </a:lnTo>
                  <a:lnTo>
                    <a:pt x="2563" y="680"/>
                  </a:lnTo>
                  <a:lnTo>
                    <a:pt x="2626" y="707"/>
                  </a:lnTo>
                  <a:lnTo>
                    <a:pt x="2681" y="712"/>
                  </a:lnTo>
                  <a:lnTo>
                    <a:pt x="2713" y="707"/>
                  </a:lnTo>
                  <a:lnTo>
                    <a:pt x="2755" y="696"/>
                  </a:lnTo>
                  <a:lnTo>
                    <a:pt x="2788" y="680"/>
                  </a:lnTo>
                  <a:lnTo>
                    <a:pt x="2821" y="653"/>
                  </a:lnTo>
                  <a:lnTo>
                    <a:pt x="2836" y="626"/>
                  </a:lnTo>
                  <a:lnTo>
                    <a:pt x="2843" y="588"/>
                  </a:lnTo>
                  <a:lnTo>
                    <a:pt x="2845" y="553"/>
                  </a:lnTo>
                  <a:lnTo>
                    <a:pt x="2834" y="508"/>
                  </a:lnTo>
                  <a:lnTo>
                    <a:pt x="2815" y="478"/>
                  </a:lnTo>
                  <a:lnTo>
                    <a:pt x="2791" y="446"/>
                  </a:lnTo>
                  <a:lnTo>
                    <a:pt x="2768" y="415"/>
                  </a:lnTo>
                  <a:lnTo>
                    <a:pt x="2764" y="383"/>
                  </a:lnTo>
                  <a:lnTo>
                    <a:pt x="2754" y="362"/>
                  </a:lnTo>
                  <a:lnTo>
                    <a:pt x="2733" y="346"/>
                  </a:lnTo>
                  <a:lnTo>
                    <a:pt x="2756" y="321"/>
                  </a:lnTo>
                  <a:lnTo>
                    <a:pt x="2755" y="297"/>
                  </a:lnTo>
                  <a:lnTo>
                    <a:pt x="2748" y="270"/>
                  </a:lnTo>
                  <a:lnTo>
                    <a:pt x="2735" y="249"/>
                  </a:lnTo>
                  <a:lnTo>
                    <a:pt x="2744" y="217"/>
                  </a:lnTo>
                  <a:lnTo>
                    <a:pt x="2750" y="190"/>
                  </a:lnTo>
                  <a:lnTo>
                    <a:pt x="2763" y="136"/>
                  </a:lnTo>
                  <a:lnTo>
                    <a:pt x="2741" y="82"/>
                  </a:lnTo>
                  <a:lnTo>
                    <a:pt x="2703" y="45"/>
                  </a:lnTo>
                  <a:lnTo>
                    <a:pt x="2661" y="33"/>
                  </a:lnTo>
                  <a:lnTo>
                    <a:pt x="2586" y="15"/>
                  </a:lnTo>
                  <a:lnTo>
                    <a:pt x="2525" y="2"/>
                  </a:lnTo>
                  <a:lnTo>
                    <a:pt x="2475" y="0"/>
                  </a:lnTo>
                  <a:lnTo>
                    <a:pt x="2427" y="12"/>
                  </a:lnTo>
                  <a:lnTo>
                    <a:pt x="2346" y="50"/>
                  </a:lnTo>
                  <a:lnTo>
                    <a:pt x="2320" y="55"/>
                  </a:lnTo>
                  <a:lnTo>
                    <a:pt x="2278" y="58"/>
                  </a:lnTo>
                  <a:lnTo>
                    <a:pt x="2211" y="55"/>
                  </a:lnTo>
                  <a:lnTo>
                    <a:pt x="2175" y="47"/>
                  </a:lnTo>
                  <a:lnTo>
                    <a:pt x="2127" y="29"/>
                  </a:lnTo>
                  <a:lnTo>
                    <a:pt x="2066" y="12"/>
                  </a:lnTo>
                  <a:lnTo>
                    <a:pt x="2033" y="15"/>
                  </a:lnTo>
                  <a:lnTo>
                    <a:pt x="2011" y="24"/>
                  </a:lnTo>
                  <a:lnTo>
                    <a:pt x="1997" y="43"/>
                  </a:lnTo>
                  <a:lnTo>
                    <a:pt x="1997" y="72"/>
                  </a:lnTo>
                  <a:lnTo>
                    <a:pt x="2013" y="104"/>
                  </a:lnTo>
                  <a:lnTo>
                    <a:pt x="2057" y="157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48520" y="4716000"/>
              <a:ext cx="676800" cy="1369440"/>
            </a:xfrm>
            <a:custGeom>
              <a:avLst/>
              <a:gdLst/>
              <a:ahLst/>
              <a:rect l="l" t="t" r="r" b="b"/>
              <a:pathLst>
                <a:path w="332" h="722">
                  <a:moveTo>
                    <a:pt x="112" y="24"/>
                  </a:moveTo>
                  <a:lnTo>
                    <a:pt x="94" y="185"/>
                  </a:lnTo>
                  <a:lnTo>
                    <a:pt x="67" y="263"/>
                  </a:lnTo>
                  <a:lnTo>
                    <a:pt x="36" y="327"/>
                  </a:lnTo>
                  <a:lnTo>
                    <a:pt x="11" y="396"/>
                  </a:lnTo>
                  <a:lnTo>
                    <a:pt x="0" y="484"/>
                  </a:lnTo>
                  <a:lnTo>
                    <a:pt x="2" y="546"/>
                  </a:lnTo>
                  <a:lnTo>
                    <a:pt x="22" y="646"/>
                  </a:lnTo>
                  <a:lnTo>
                    <a:pt x="29" y="702"/>
                  </a:lnTo>
                  <a:lnTo>
                    <a:pt x="68" y="715"/>
                  </a:lnTo>
                  <a:lnTo>
                    <a:pt x="117" y="722"/>
                  </a:lnTo>
                  <a:lnTo>
                    <a:pt x="164" y="713"/>
                  </a:lnTo>
                  <a:lnTo>
                    <a:pt x="202" y="699"/>
                  </a:lnTo>
                  <a:lnTo>
                    <a:pt x="214" y="675"/>
                  </a:lnTo>
                  <a:lnTo>
                    <a:pt x="184" y="600"/>
                  </a:lnTo>
                  <a:lnTo>
                    <a:pt x="164" y="500"/>
                  </a:lnTo>
                  <a:lnTo>
                    <a:pt x="155" y="409"/>
                  </a:lnTo>
                  <a:lnTo>
                    <a:pt x="161" y="330"/>
                  </a:lnTo>
                  <a:lnTo>
                    <a:pt x="229" y="223"/>
                  </a:lnTo>
                  <a:lnTo>
                    <a:pt x="296" y="91"/>
                  </a:lnTo>
                  <a:lnTo>
                    <a:pt x="332" y="0"/>
                  </a:lnTo>
                  <a:lnTo>
                    <a:pt x="112" y="24"/>
                  </a:lnTo>
                  <a:close/>
                </a:path>
              </a:pathLst>
            </a:custGeom>
            <a:gradFill rotWithShape="0">
              <a:gsLst>
                <a:gs pos="0">
                  <a:srgbClr val="493a2b"/>
                </a:gs>
                <a:gs pos="50000">
                  <a:srgbClr val="9f7f5f"/>
                </a:gs>
                <a:gs pos="100000">
                  <a:srgbClr val="493a2b"/>
                </a:gs>
              </a:gsLst>
              <a:lin ang="108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53200" y="4272120"/>
              <a:ext cx="2312640" cy="1003320"/>
            </a:xfrm>
            <a:custGeom>
              <a:avLst/>
              <a:gdLst/>
              <a:ahLst/>
              <a:rect l="l" t="t" r="r" b="b"/>
              <a:pathLst>
                <a:path w="1134" h="529">
                  <a:moveTo>
                    <a:pt x="0" y="476"/>
                  </a:moveTo>
                  <a:lnTo>
                    <a:pt x="24" y="487"/>
                  </a:lnTo>
                  <a:lnTo>
                    <a:pt x="51" y="494"/>
                  </a:lnTo>
                  <a:lnTo>
                    <a:pt x="66" y="518"/>
                  </a:lnTo>
                  <a:lnTo>
                    <a:pt x="79" y="529"/>
                  </a:lnTo>
                  <a:lnTo>
                    <a:pt x="98" y="524"/>
                  </a:lnTo>
                  <a:lnTo>
                    <a:pt x="98" y="500"/>
                  </a:lnTo>
                  <a:lnTo>
                    <a:pt x="98" y="476"/>
                  </a:lnTo>
                  <a:lnTo>
                    <a:pt x="141" y="473"/>
                  </a:lnTo>
                  <a:lnTo>
                    <a:pt x="157" y="484"/>
                  </a:lnTo>
                  <a:lnTo>
                    <a:pt x="184" y="510"/>
                  </a:lnTo>
                  <a:lnTo>
                    <a:pt x="202" y="511"/>
                  </a:lnTo>
                  <a:lnTo>
                    <a:pt x="221" y="505"/>
                  </a:lnTo>
                  <a:lnTo>
                    <a:pt x="213" y="476"/>
                  </a:lnTo>
                  <a:lnTo>
                    <a:pt x="203" y="443"/>
                  </a:lnTo>
                  <a:lnTo>
                    <a:pt x="229" y="430"/>
                  </a:lnTo>
                  <a:lnTo>
                    <a:pt x="260" y="419"/>
                  </a:lnTo>
                  <a:lnTo>
                    <a:pt x="287" y="399"/>
                  </a:lnTo>
                  <a:lnTo>
                    <a:pt x="313" y="373"/>
                  </a:lnTo>
                  <a:lnTo>
                    <a:pt x="329" y="344"/>
                  </a:lnTo>
                  <a:lnTo>
                    <a:pt x="334" y="325"/>
                  </a:lnTo>
                  <a:lnTo>
                    <a:pt x="400" y="337"/>
                  </a:lnTo>
                  <a:lnTo>
                    <a:pt x="452" y="347"/>
                  </a:lnTo>
                  <a:lnTo>
                    <a:pt x="505" y="352"/>
                  </a:lnTo>
                  <a:lnTo>
                    <a:pt x="568" y="357"/>
                  </a:lnTo>
                  <a:lnTo>
                    <a:pt x="637" y="355"/>
                  </a:lnTo>
                  <a:lnTo>
                    <a:pt x="726" y="347"/>
                  </a:lnTo>
                  <a:lnTo>
                    <a:pt x="885" y="304"/>
                  </a:lnTo>
                  <a:lnTo>
                    <a:pt x="965" y="271"/>
                  </a:lnTo>
                  <a:lnTo>
                    <a:pt x="1054" y="236"/>
                  </a:lnTo>
                  <a:lnTo>
                    <a:pt x="1134" y="193"/>
                  </a:lnTo>
                  <a:lnTo>
                    <a:pt x="1134" y="0"/>
                  </a:lnTo>
                  <a:lnTo>
                    <a:pt x="11" y="0"/>
                  </a:lnTo>
                  <a:lnTo>
                    <a:pt x="0" y="476"/>
                  </a:lnTo>
                  <a:close/>
                </a:path>
              </a:pathLst>
            </a:custGeom>
            <a:gradFill rotWithShape="0">
              <a:gsLst>
                <a:gs pos="0">
                  <a:srgbClr val="9f7f5f"/>
                </a:gs>
                <a:gs pos="100000">
                  <a:srgbClr val="493a2b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33440" y="2544120"/>
              <a:ext cx="3189240" cy="3905640"/>
            </a:xfrm>
            <a:custGeom>
              <a:avLst/>
              <a:gdLst/>
              <a:ahLst/>
              <a:rect l="l" t="t" r="r" b="b"/>
              <a:pathLst>
                <a:path w="1564" h="2059">
                  <a:moveTo>
                    <a:pt x="0" y="1866"/>
                  </a:moveTo>
                  <a:lnTo>
                    <a:pt x="22" y="2059"/>
                  </a:lnTo>
                  <a:lnTo>
                    <a:pt x="129" y="2059"/>
                  </a:lnTo>
                  <a:lnTo>
                    <a:pt x="158" y="2045"/>
                  </a:lnTo>
                  <a:lnTo>
                    <a:pt x="99" y="1916"/>
                  </a:lnTo>
                  <a:lnTo>
                    <a:pt x="96" y="1741"/>
                  </a:lnTo>
                  <a:lnTo>
                    <a:pt x="122" y="1635"/>
                  </a:lnTo>
                  <a:lnTo>
                    <a:pt x="150" y="1539"/>
                  </a:lnTo>
                  <a:lnTo>
                    <a:pt x="239" y="1326"/>
                  </a:lnTo>
                  <a:lnTo>
                    <a:pt x="291" y="1244"/>
                  </a:lnTo>
                  <a:lnTo>
                    <a:pt x="388" y="1177"/>
                  </a:lnTo>
                  <a:lnTo>
                    <a:pt x="488" y="1105"/>
                  </a:lnTo>
                  <a:lnTo>
                    <a:pt x="538" y="1098"/>
                  </a:lnTo>
                  <a:lnTo>
                    <a:pt x="627" y="1139"/>
                  </a:lnTo>
                  <a:lnTo>
                    <a:pt x="689" y="1170"/>
                  </a:lnTo>
                  <a:lnTo>
                    <a:pt x="753" y="1184"/>
                  </a:lnTo>
                  <a:lnTo>
                    <a:pt x="825" y="1187"/>
                  </a:lnTo>
                  <a:lnTo>
                    <a:pt x="894" y="1175"/>
                  </a:lnTo>
                  <a:lnTo>
                    <a:pt x="972" y="1143"/>
                  </a:lnTo>
                  <a:lnTo>
                    <a:pt x="1047" y="1091"/>
                  </a:lnTo>
                  <a:lnTo>
                    <a:pt x="1133" y="1041"/>
                  </a:lnTo>
                  <a:lnTo>
                    <a:pt x="1176" y="1019"/>
                  </a:lnTo>
                  <a:lnTo>
                    <a:pt x="1226" y="1127"/>
                  </a:lnTo>
                  <a:lnTo>
                    <a:pt x="1235" y="1156"/>
                  </a:lnTo>
                  <a:lnTo>
                    <a:pt x="1219" y="1234"/>
                  </a:lnTo>
                  <a:lnTo>
                    <a:pt x="1204" y="1284"/>
                  </a:lnTo>
                  <a:lnTo>
                    <a:pt x="1184" y="1332"/>
                  </a:lnTo>
                  <a:lnTo>
                    <a:pt x="1170" y="1377"/>
                  </a:lnTo>
                  <a:lnTo>
                    <a:pt x="1161" y="1442"/>
                  </a:lnTo>
                  <a:lnTo>
                    <a:pt x="1147" y="1572"/>
                  </a:lnTo>
                  <a:lnTo>
                    <a:pt x="1154" y="1708"/>
                  </a:lnTo>
                  <a:lnTo>
                    <a:pt x="1154" y="1837"/>
                  </a:lnTo>
                  <a:lnTo>
                    <a:pt x="1161" y="1866"/>
                  </a:lnTo>
                  <a:lnTo>
                    <a:pt x="1181" y="1929"/>
                  </a:lnTo>
                  <a:lnTo>
                    <a:pt x="1216" y="1927"/>
                  </a:lnTo>
                  <a:lnTo>
                    <a:pt x="1255" y="1917"/>
                  </a:lnTo>
                  <a:lnTo>
                    <a:pt x="1297" y="1893"/>
                  </a:lnTo>
                  <a:lnTo>
                    <a:pt x="1204" y="1694"/>
                  </a:lnTo>
                  <a:lnTo>
                    <a:pt x="1194" y="1645"/>
                  </a:lnTo>
                  <a:lnTo>
                    <a:pt x="1197" y="1593"/>
                  </a:lnTo>
                  <a:lnTo>
                    <a:pt x="1240" y="1471"/>
                  </a:lnTo>
                  <a:lnTo>
                    <a:pt x="1301" y="1363"/>
                  </a:lnTo>
                  <a:lnTo>
                    <a:pt x="1362" y="1249"/>
                  </a:lnTo>
                  <a:lnTo>
                    <a:pt x="1455" y="1019"/>
                  </a:lnTo>
                  <a:lnTo>
                    <a:pt x="1555" y="733"/>
                  </a:lnTo>
                  <a:lnTo>
                    <a:pt x="1564" y="637"/>
                  </a:lnTo>
                  <a:lnTo>
                    <a:pt x="1548" y="554"/>
                  </a:lnTo>
                  <a:lnTo>
                    <a:pt x="1527" y="518"/>
                  </a:lnTo>
                  <a:lnTo>
                    <a:pt x="1546" y="473"/>
                  </a:lnTo>
                  <a:lnTo>
                    <a:pt x="1562" y="418"/>
                  </a:lnTo>
                  <a:lnTo>
                    <a:pt x="1557" y="371"/>
                  </a:lnTo>
                  <a:lnTo>
                    <a:pt x="1527" y="324"/>
                  </a:lnTo>
                  <a:lnTo>
                    <a:pt x="1490" y="315"/>
                  </a:lnTo>
                  <a:lnTo>
                    <a:pt x="1449" y="328"/>
                  </a:lnTo>
                  <a:lnTo>
                    <a:pt x="1428" y="306"/>
                  </a:lnTo>
                  <a:lnTo>
                    <a:pt x="1405" y="281"/>
                  </a:lnTo>
                  <a:lnTo>
                    <a:pt x="1382" y="258"/>
                  </a:lnTo>
                  <a:lnTo>
                    <a:pt x="1363" y="226"/>
                  </a:lnTo>
                  <a:lnTo>
                    <a:pt x="1357" y="178"/>
                  </a:lnTo>
                  <a:lnTo>
                    <a:pt x="1385" y="121"/>
                  </a:lnTo>
                  <a:lnTo>
                    <a:pt x="1406" y="53"/>
                  </a:lnTo>
                  <a:lnTo>
                    <a:pt x="1407" y="0"/>
                  </a:lnTo>
                  <a:lnTo>
                    <a:pt x="1271" y="21"/>
                  </a:lnTo>
                  <a:lnTo>
                    <a:pt x="1153" y="42"/>
                  </a:lnTo>
                  <a:lnTo>
                    <a:pt x="1097" y="55"/>
                  </a:lnTo>
                  <a:lnTo>
                    <a:pt x="1124" y="110"/>
                  </a:lnTo>
                  <a:lnTo>
                    <a:pt x="1176" y="173"/>
                  </a:lnTo>
                  <a:lnTo>
                    <a:pt x="1181" y="247"/>
                  </a:lnTo>
                  <a:lnTo>
                    <a:pt x="1161" y="317"/>
                  </a:lnTo>
                  <a:lnTo>
                    <a:pt x="1183" y="432"/>
                  </a:lnTo>
                  <a:lnTo>
                    <a:pt x="1181" y="500"/>
                  </a:lnTo>
                  <a:lnTo>
                    <a:pt x="1161" y="561"/>
                  </a:lnTo>
                  <a:lnTo>
                    <a:pt x="1106" y="621"/>
                  </a:lnTo>
                  <a:lnTo>
                    <a:pt x="1067" y="699"/>
                  </a:lnTo>
                  <a:lnTo>
                    <a:pt x="1040" y="772"/>
                  </a:lnTo>
                  <a:lnTo>
                    <a:pt x="1014" y="838"/>
                  </a:lnTo>
                  <a:lnTo>
                    <a:pt x="968" y="883"/>
                  </a:lnTo>
                  <a:lnTo>
                    <a:pt x="882" y="876"/>
                  </a:lnTo>
                  <a:lnTo>
                    <a:pt x="800" y="840"/>
                  </a:lnTo>
                  <a:lnTo>
                    <a:pt x="748" y="782"/>
                  </a:lnTo>
                  <a:lnTo>
                    <a:pt x="718" y="707"/>
                  </a:lnTo>
                  <a:lnTo>
                    <a:pt x="725" y="632"/>
                  </a:lnTo>
                  <a:lnTo>
                    <a:pt x="732" y="582"/>
                  </a:lnTo>
                  <a:lnTo>
                    <a:pt x="674" y="525"/>
                  </a:lnTo>
                  <a:lnTo>
                    <a:pt x="639" y="410"/>
                  </a:lnTo>
                  <a:lnTo>
                    <a:pt x="638" y="339"/>
                  </a:lnTo>
                  <a:lnTo>
                    <a:pt x="617" y="281"/>
                  </a:lnTo>
                  <a:lnTo>
                    <a:pt x="571" y="244"/>
                  </a:lnTo>
                  <a:lnTo>
                    <a:pt x="509" y="217"/>
                  </a:lnTo>
                  <a:lnTo>
                    <a:pt x="442" y="195"/>
                  </a:lnTo>
                  <a:lnTo>
                    <a:pt x="396" y="190"/>
                  </a:lnTo>
                  <a:lnTo>
                    <a:pt x="359" y="202"/>
                  </a:lnTo>
                  <a:lnTo>
                    <a:pt x="353" y="236"/>
                  </a:lnTo>
                  <a:lnTo>
                    <a:pt x="366" y="273"/>
                  </a:lnTo>
                  <a:lnTo>
                    <a:pt x="407" y="301"/>
                  </a:lnTo>
                  <a:lnTo>
                    <a:pt x="460" y="339"/>
                  </a:lnTo>
                  <a:lnTo>
                    <a:pt x="418" y="360"/>
                  </a:lnTo>
                  <a:lnTo>
                    <a:pt x="374" y="375"/>
                  </a:lnTo>
                  <a:lnTo>
                    <a:pt x="316" y="389"/>
                  </a:lnTo>
                  <a:lnTo>
                    <a:pt x="291" y="417"/>
                  </a:lnTo>
                  <a:lnTo>
                    <a:pt x="283" y="457"/>
                  </a:lnTo>
                  <a:lnTo>
                    <a:pt x="281" y="546"/>
                  </a:lnTo>
                  <a:lnTo>
                    <a:pt x="239" y="597"/>
                  </a:lnTo>
                  <a:lnTo>
                    <a:pt x="156" y="672"/>
                  </a:lnTo>
                  <a:lnTo>
                    <a:pt x="110" y="734"/>
                  </a:lnTo>
                  <a:lnTo>
                    <a:pt x="84" y="797"/>
                  </a:lnTo>
                  <a:lnTo>
                    <a:pt x="92" y="892"/>
                  </a:lnTo>
                  <a:lnTo>
                    <a:pt x="108" y="1005"/>
                  </a:lnTo>
                  <a:lnTo>
                    <a:pt x="65" y="1249"/>
                  </a:lnTo>
                  <a:lnTo>
                    <a:pt x="0" y="1866"/>
                  </a:lnTo>
                  <a:close/>
                </a:path>
              </a:pathLst>
            </a:custGeom>
            <a:gradFill rotWithShape="0">
              <a:gsLst>
                <a:gs pos="0">
                  <a:srgbClr val="ffbf5f"/>
                </a:gs>
                <a:gs pos="100000">
                  <a:srgbClr val="75582b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6942600" y="2745000"/>
              <a:ext cx="313560" cy="166680"/>
              <a:chOff x="6942600" y="2745000"/>
              <a:chExt cx="313560" cy="166680"/>
            </a:xfrm>
          </p:grpSpPr>
          <p:sp>
            <p:nvSpPr>
              <p:cNvPr id="132" name=""/>
              <p:cNvSpPr/>
              <p:nvPr/>
            </p:nvSpPr>
            <p:spPr>
              <a:xfrm>
                <a:off x="6942600" y="2745000"/>
                <a:ext cx="313560" cy="166680"/>
              </a:xfrm>
              <a:custGeom>
                <a:avLst/>
                <a:gdLst/>
                <a:ahLst/>
                <a:rect l="l" t="t" r="r" b="b"/>
                <a:pathLst>
                  <a:path w="154" h="88">
                    <a:moveTo>
                      <a:pt x="0" y="18"/>
                    </a:moveTo>
                    <a:lnTo>
                      <a:pt x="25" y="6"/>
                    </a:lnTo>
                    <a:lnTo>
                      <a:pt x="60" y="0"/>
                    </a:lnTo>
                    <a:lnTo>
                      <a:pt x="100" y="6"/>
                    </a:lnTo>
                    <a:lnTo>
                      <a:pt x="120" y="22"/>
                    </a:lnTo>
                    <a:lnTo>
                      <a:pt x="132" y="36"/>
                    </a:lnTo>
                    <a:lnTo>
                      <a:pt x="146" y="65"/>
                    </a:lnTo>
                    <a:lnTo>
                      <a:pt x="154" y="83"/>
                    </a:lnTo>
                    <a:lnTo>
                      <a:pt x="114" y="88"/>
                    </a:lnTo>
                    <a:lnTo>
                      <a:pt x="74" y="81"/>
                    </a:lnTo>
                    <a:lnTo>
                      <a:pt x="36" y="70"/>
                    </a:lnTo>
                    <a:lnTo>
                      <a:pt x="10" y="43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011720" y="2781000"/>
                <a:ext cx="195840" cy="10188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0" y="10"/>
                    </a:moveTo>
                    <a:lnTo>
                      <a:pt x="15" y="3"/>
                    </a:lnTo>
                    <a:lnTo>
                      <a:pt x="37" y="0"/>
                    </a:lnTo>
                    <a:lnTo>
                      <a:pt x="62" y="3"/>
                    </a:lnTo>
                    <a:lnTo>
                      <a:pt x="76" y="13"/>
                    </a:lnTo>
                    <a:lnTo>
                      <a:pt x="83" y="22"/>
                    </a:lnTo>
                    <a:lnTo>
                      <a:pt x="92" y="41"/>
                    </a:lnTo>
                    <a:lnTo>
                      <a:pt x="96" y="52"/>
                    </a:lnTo>
                    <a:lnTo>
                      <a:pt x="71" y="54"/>
                    </a:lnTo>
                    <a:lnTo>
                      <a:pt x="46" y="51"/>
                    </a:lnTo>
                    <a:lnTo>
                      <a:pt x="22" y="43"/>
                    </a:lnTo>
                    <a:lnTo>
                      <a:pt x="6" y="2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d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68960" y="2792520"/>
                <a:ext cx="75240" cy="71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7242840" y="2346840"/>
              <a:ext cx="721800" cy="959760"/>
            </a:xfrm>
            <a:custGeom>
              <a:avLst/>
              <a:gdLst/>
              <a:ahLst/>
              <a:rect l="l" t="t" r="r" b="b"/>
              <a:pathLst>
                <a:path w="354" h="506">
                  <a:moveTo>
                    <a:pt x="32" y="8"/>
                  </a:moveTo>
                  <a:lnTo>
                    <a:pt x="59" y="0"/>
                  </a:lnTo>
                  <a:lnTo>
                    <a:pt x="91" y="11"/>
                  </a:lnTo>
                  <a:lnTo>
                    <a:pt x="131" y="27"/>
                  </a:lnTo>
                  <a:lnTo>
                    <a:pt x="155" y="65"/>
                  </a:lnTo>
                  <a:lnTo>
                    <a:pt x="169" y="94"/>
                  </a:lnTo>
                  <a:lnTo>
                    <a:pt x="191" y="100"/>
                  </a:lnTo>
                  <a:lnTo>
                    <a:pt x="214" y="121"/>
                  </a:lnTo>
                  <a:lnTo>
                    <a:pt x="226" y="132"/>
                  </a:lnTo>
                  <a:lnTo>
                    <a:pt x="236" y="153"/>
                  </a:lnTo>
                  <a:lnTo>
                    <a:pt x="228" y="186"/>
                  </a:lnTo>
                  <a:lnTo>
                    <a:pt x="206" y="218"/>
                  </a:lnTo>
                  <a:lnTo>
                    <a:pt x="223" y="245"/>
                  </a:lnTo>
                  <a:lnTo>
                    <a:pt x="230" y="285"/>
                  </a:lnTo>
                  <a:lnTo>
                    <a:pt x="292" y="376"/>
                  </a:lnTo>
                  <a:lnTo>
                    <a:pt x="324" y="418"/>
                  </a:lnTo>
                  <a:lnTo>
                    <a:pt x="343" y="461"/>
                  </a:lnTo>
                  <a:lnTo>
                    <a:pt x="354" y="506"/>
                  </a:lnTo>
                  <a:lnTo>
                    <a:pt x="324" y="498"/>
                  </a:lnTo>
                  <a:lnTo>
                    <a:pt x="284" y="501"/>
                  </a:lnTo>
                  <a:lnTo>
                    <a:pt x="228" y="506"/>
                  </a:lnTo>
                  <a:lnTo>
                    <a:pt x="198" y="501"/>
                  </a:lnTo>
                  <a:lnTo>
                    <a:pt x="112" y="436"/>
                  </a:lnTo>
                  <a:lnTo>
                    <a:pt x="50" y="363"/>
                  </a:lnTo>
                  <a:lnTo>
                    <a:pt x="40" y="309"/>
                  </a:lnTo>
                  <a:lnTo>
                    <a:pt x="50" y="245"/>
                  </a:lnTo>
                  <a:lnTo>
                    <a:pt x="58" y="196"/>
                  </a:lnTo>
                  <a:lnTo>
                    <a:pt x="48" y="164"/>
                  </a:lnTo>
                  <a:lnTo>
                    <a:pt x="24" y="151"/>
                  </a:lnTo>
                  <a:lnTo>
                    <a:pt x="13" y="121"/>
                  </a:lnTo>
                  <a:lnTo>
                    <a:pt x="0" y="78"/>
                  </a:lnTo>
                  <a:lnTo>
                    <a:pt x="5" y="43"/>
                  </a:lnTo>
                  <a:lnTo>
                    <a:pt x="14" y="19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ffbf1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57600" y="2327760"/>
              <a:ext cx="362880" cy="176040"/>
            </a:xfrm>
            <a:custGeom>
              <a:avLst/>
              <a:gdLst/>
              <a:ahLst/>
              <a:rect l="l" t="t" r="r" b="b"/>
              <a:pathLst>
                <a:path w="178" h="93">
                  <a:moveTo>
                    <a:pt x="133" y="34"/>
                  </a:moveTo>
                  <a:lnTo>
                    <a:pt x="72" y="8"/>
                  </a:lnTo>
                  <a:lnTo>
                    <a:pt x="13" y="0"/>
                  </a:lnTo>
                  <a:lnTo>
                    <a:pt x="0" y="12"/>
                  </a:lnTo>
                  <a:lnTo>
                    <a:pt x="8" y="38"/>
                  </a:lnTo>
                  <a:lnTo>
                    <a:pt x="46" y="77"/>
                  </a:lnTo>
                  <a:lnTo>
                    <a:pt x="82" y="93"/>
                  </a:lnTo>
                  <a:lnTo>
                    <a:pt x="120" y="77"/>
                  </a:lnTo>
                  <a:lnTo>
                    <a:pt x="156" y="58"/>
                  </a:lnTo>
                  <a:lnTo>
                    <a:pt x="178" y="58"/>
                  </a:lnTo>
                  <a:lnTo>
                    <a:pt x="133" y="34"/>
                  </a:lnTo>
                  <a:close/>
                </a:path>
              </a:pathLst>
            </a:custGeom>
            <a:solidFill>
              <a:srgbClr val="7f5f3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02280" y="3962880"/>
              <a:ext cx="788760" cy="652320"/>
            </a:xfrm>
            <a:custGeom>
              <a:avLst/>
              <a:gdLst/>
              <a:ahLst/>
              <a:rect l="l" t="t" r="r" b="b"/>
              <a:pathLst>
                <a:path w="387" h="344">
                  <a:moveTo>
                    <a:pt x="238" y="156"/>
                  </a:moveTo>
                  <a:lnTo>
                    <a:pt x="200" y="121"/>
                  </a:lnTo>
                  <a:lnTo>
                    <a:pt x="167" y="59"/>
                  </a:lnTo>
                  <a:lnTo>
                    <a:pt x="129" y="21"/>
                  </a:lnTo>
                  <a:lnTo>
                    <a:pt x="79" y="0"/>
                  </a:lnTo>
                  <a:lnTo>
                    <a:pt x="43" y="6"/>
                  </a:lnTo>
                  <a:lnTo>
                    <a:pt x="14" y="27"/>
                  </a:lnTo>
                  <a:lnTo>
                    <a:pt x="0" y="49"/>
                  </a:lnTo>
                  <a:lnTo>
                    <a:pt x="1" y="89"/>
                  </a:lnTo>
                  <a:lnTo>
                    <a:pt x="14" y="128"/>
                  </a:lnTo>
                  <a:lnTo>
                    <a:pt x="28" y="172"/>
                  </a:lnTo>
                  <a:lnTo>
                    <a:pt x="57" y="228"/>
                  </a:lnTo>
                  <a:lnTo>
                    <a:pt x="95" y="274"/>
                  </a:lnTo>
                  <a:lnTo>
                    <a:pt x="150" y="321"/>
                  </a:lnTo>
                  <a:lnTo>
                    <a:pt x="194" y="333"/>
                  </a:lnTo>
                  <a:lnTo>
                    <a:pt x="251" y="343"/>
                  </a:lnTo>
                  <a:lnTo>
                    <a:pt x="286" y="344"/>
                  </a:lnTo>
                  <a:lnTo>
                    <a:pt x="337" y="343"/>
                  </a:lnTo>
                  <a:lnTo>
                    <a:pt x="366" y="322"/>
                  </a:lnTo>
                  <a:lnTo>
                    <a:pt x="382" y="301"/>
                  </a:lnTo>
                  <a:lnTo>
                    <a:pt x="387" y="279"/>
                  </a:lnTo>
                  <a:lnTo>
                    <a:pt x="374" y="247"/>
                  </a:lnTo>
                  <a:lnTo>
                    <a:pt x="339" y="209"/>
                  </a:lnTo>
                  <a:lnTo>
                    <a:pt x="294" y="183"/>
                  </a:lnTo>
                  <a:lnTo>
                    <a:pt x="238" y="156"/>
                  </a:lnTo>
                  <a:close/>
                </a:path>
              </a:pathLst>
            </a:cu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7574760" y="3323520"/>
              <a:ext cx="362520" cy="179640"/>
              <a:chOff x="7574760" y="3323520"/>
              <a:chExt cx="362520" cy="179640"/>
            </a:xfrm>
          </p:grpSpPr>
          <p:sp>
            <p:nvSpPr>
              <p:cNvPr id="139" name=""/>
              <p:cNvSpPr/>
              <p:nvPr/>
            </p:nvSpPr>
            <p:spPr>
              <a:xfrm>
                <a:off x="7574760" y="3423960"/>
                <a:ext cx="344520" cy="79200"/>
              </a:xfrm>
              <a:custGeom>
                <a:avLst/>
                <a:gdLst/>
                <a:ahLst/>
                <a:rect l="l" t="t" r="r" b="b"/>
                <a:pathLst>
                  <a:path w="169" h="42">
                    <a:moveTo>
                      <a:pt x="169" y="8"/>
                    </a:moveTo>
                    <a:lnTo>
                      <a:pt x="118" y="0"/>
                    </a:lnTo>
                    <a:lnTo>
                      <a:pt x="75" y="10"/>
                    </a:lnTo>
                    <a:lnTo>
                      <a:pt x="51" y="17"/>
                    </a:lnTo>
                    <a:lnTo>
                      <a:pt x="16" y="23"/>
                    </a:lnTo>
                    <a:lnTo>
                      <a:pt x="0" y="34"/>
                    </a:lnTo>
                    <a:lnTo>
                      <a:pt x="51" y="42"/>
                    </a:lnTo>
                    <a:lnTo>
                      <a:pt x="97" y="42"/>
                    </a:lnTo>
                    <a:lnTo>
                      <a:pt x="137" y="28"/>
                    </a:lnTo>
                    <a:lnTo>
                      <a:pt x="169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15800" y="3335040"/>
                <a:ext cx="107640" cy="37440"/>
              </a:xfrm>
              <a:custGeom>
                <a:avLst/>
                <a:gdLst/>
                <a:ahLst/>
                <a:rect l="l" t="t" r="r" b="b"/>
                <a:pathLst>
                  <a:path w="53" h="20">
                    <a:moveTo>
                      <a:pt x="40" y="1"/>
                    </a:moveTo>
                    <a:lnTo>
                      <a:pt x="12" y="0"/>
                    </a:lnTo>
                    <a:lnTo>
                      <a:pt x="0" y="4"/>
                    </a:lnTo>
                    <a:lnTo>
                      <a:pt x="6" y="15"/>
                    </a:lnTo>
                    <a:lnTo>
                      <a:pt x="28" y="20"/>
                    </a:lnTo>
                    <a:lnTo>
                      <a:pt x="53" y="18"/>
                    </a:lnTo>
                    <a:lnTo>
                      <a:pt x="40" y="1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876440" y="3323520"/>
                <a:ext cx="60840" cy="3960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7" y="1"/>
                    </a:moveTo>
                    <a:lnTo>
                      <a:pt x="23" y="0"/>
                    </a:lnTo>
                    <a:lnTo>
                      <a:pt x="30" y="5"/>
                    </a:lnTo>
                    <a:lnTo>
                      <a:pt x="27" y="15"/>
                    </a:lnTo>
                    <a:lnTo>
                      <a:pt x="14" y="21"/>
                    </a:lnTo>
                    <a:lnTo>
                      <a:pt x="0" y="18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6734880" y="1905120"/>
              <a:ext cx="545760" cy="528480"/>
              <a:chOff x="6734880" y="1905120"/>
              <a:chExt cx="545760" cy="528480"/>
            </a:xfrm>
          </p:grpSpPr>
          <p:sp>
            <p:nvSpPr>
              <p:cNvPr id="143" name=""/>
              <p:cNvSpPr/>
              <p:nvPr/>
            </p:nvSpPr>
            <p:spPr>
              <a:xfrm>
                <a:off x="6734880" y="1905120"/>
                <a:ext cx="545760" cy="528480"/>
              </a:xfrm>
              <a:custGeom>
                <a:avLst/>
                <a:gdLst/>
                <a:ahLst/>
                <a:rect l="l" t="t" r="r" b="b"/>
                <a:pathLst>
                  <a:path w="268" h="279">
                    <a:moveTo>
                      <a:pt x="40" y="249"/>
                    </a:moveTo>
                    <a:lnTo>
                      <a:pt x="16" y="198"/>
                    </a:lnTo>
                    <a:lnTo>
                      <a:pt x="2" y="150"/>
                    </a:lnTo>
                    <a:lnTo>
                      <a:pt x="0" y="120"/>
                    </a:lnTo>
                    <a:lnTo>
                      <a:pt x="10" y="94"/>
                    </a:lnTo>
                    <a:lnTo>
                      <a:pt x="32" y="75"/>
                    </a:lnTo>
                    <a:lnTo>
                      <a:pt x="54" y="66"/>
                    </a:lnTo>
                    <a:lnTo>
                      <a:pt x="75" y="64"/>
                    </a:lnTo>
                    <a:lnTo>
                      <a:pt x="131" y="59"/>
                    </a:lnTo>
                    <a:lnTo>
                      <a:pt x="169" y="51"/>
                    </a:lnTo>
                    <a:lnTo>
                      <a:pt x="217" y="29"/>
                    </a:lnTo>
                    <a:lnTo>
                      <a:pt x="268" y="0"/>
                    </a:lnTo>
                    <a:lnTo>
                      <a:pt x="249" y="34"/>
                    </a:lnTo>
                    <a:lnTo>
                      <a:pt x="233" y="60"/>
                    </a:lnTo>
                    <a:lnTo>
                      <a:pt x="213" y="74"/>
                    </a:lnTo>
                    <a:lnTo>
                      <a:pt x="196" y="87"/>
                    </a:lnTo>
                    <a:lnTo>
                      <a:pt x="171" y="103"/>
                    </a:lnTo>
                    <a:lnTo>
                      <a:pt x="145" y="126"/>
                    </a:lnTo>
                    <a:lnTo>
                      <a:pt x="135" y="143"/>
                    </a:lnTo>
                    <a:lnTo>
                      <a:pt x="126" y="161"/>
                    </a:lnTo>
                    <a:lnTo>
                      <a:pt x="123" y="176"/>
                    </a:lnTo>
                    <a:lnTo>
                      <a:pt x="126" y="193"/>
                    </a:lnTo>
                    <a:lnTo>
                      <a:pt x="139" y="209"/>
                    </a:lnTo>
                    <a:lnTo>
                      <a:pt x="166" y="222"/>
                    </a:lnTo>
                    <a:lnTo>
                      <a:pt x="155" y="249"/>
                    </a:lnTo>
                    <a:lnTo>
                      <a:pt x="123" y="271"/>
                    </a:lnTo>
                    <a:lnTo>
                      <a:pt x="101" y="279"/>
                    </a:lnTo>
                    <a:lnTo>
                      <a:pt x="75" y="274"/>
                    </a:lnTo>
                    <a:lnTo>
                      <a:pt x="40" y="249"/>
                    </a:lnTo>
                    <a:close/>
                  </a:path>
                </a:pathLst>
              </a:custGeom>
              <a:solidFill>
                <a:srgbClr val="bf7f1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803640" y="2035800"/>
                <a:ext cx="350640" cy="375120"/>
              </a:xfrm>
              <a:custGeom>
                <a:avLst/>
                <a:gdLst/>
                <a:ahLst/>
                <a:rect l="l" t="t" r="r" b="b"/>
                <a:pathLst>
                  <a:path w="172" h="198">
                    <a:moveTo>
                      <a:pt x="26" y="163"/>
                    </a:moveTo>
                    <a:lnTo>
                      <a:pt x="9" y="130"/>
                    </a:lnTo>
                    <a:lnTo>
                      <a:pt x="1" y="98"/>
                    </a:lnTo>
                    <a:lnTo>
                      <a:pt x="0" y="79"/>
                    </a:lnTo>
                    <a:lnTo>
                      <a:pt x="6" y="61"/>
                    </a:lnTo>
                    <a:lnTo>
                      <a:pt x="20" y="49"/>
                    </a:lnTo>
                    <a:lnTo>
                      <a:pt x="35" y="43"/>
                    </a:lnTo>
                    <a:lnTo>
                      <a:pt x="48" y="42"/>
                    </a:lnTo>
                    <a:lnTo>
                      <a:pt x="85" y="39"/>
                    </a:lnTo>
                    <a:lnTo>
                      <a:pt x="109" y="33"/>
                    </a:lnTo>
                    <a:lnTo>
                      <a:pt x="140" y="19"/>
                    </a:lnTo>
                    <a:lnTo>
                      <a:pt x="172" y="0"/>
                    </a:lnTo>
                    <a:lnTo>
                      <a:pt x="158" y="17"/>
                    </a:lnTo>
                    <a:lnTo>
                      <a:pt x="139" y="33"/>
                    </a:lnTo>
                    <a:lnTo>
                      <a:pt x="131" y="41"/>
                    </a:lnTo>
                    <a:lnTo>
                      <a:pt x="115" y="50"/>
                    </a:lnTo>
                    <a:lnTo>
                      <a:pt x="104" y="62"/>
                    </a:lnTo>
                    <a:lnTo>
                      <a:pt x="93" y="83"/>
                    </a:lnTo>
                    <a:lnTo>
                      <a:pt x="86" y="93"/>
                    </a:lnTo>
                    <a:lnTo>
                      <a:pt x="84" y="108"/>
                    </a:lnTo>
                    <a:lnTo>
                      <a:pt x="85" y="115"/>
                    </a:lnTo>
                    <a:lnTo>
                      <a:pt x="86" y="124"/>
                    </a:lnTo>
                    <a:lnTo>
                      <a:pt x="94" y="134"/>
                    </a:lnTo>
                    <a:lnTo>
                      <a:pt x="128" y="156"/>
                    </a:lnTo>
                    <a:lnTo>
                      <a:pt x="119" y="179"/>
                    </a:lnTo>
                    <a:lnTo>
                      <a:pt x="95" y="191"/>
                    </a:lnTo>
                    <a:lnTo>
                      <a:pt x="73" y="198"/>
                    </a:lnTo>
                    <a:lnTo>
                      <a:pt x="48" y="179"/>
                    </a:lnTo>
                    <a:lnTo>
                      <a:pt x="26" y="163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7550280" y="1938960"/>
              <a:ext cx="424080" cy="471600"/>
              <a:chOff x="7550280" y="1938960"/>
              <a:chExt cx="424080" cy="471600"/>
            </a:xfrm>
          </p:grpSpPr>
          <p:sp>
            <p:nvSpPr>
              <p:cNvPr id="146" name=""/>
              <p:cNvSpPr/>
              <p:nvPr/>
            </p:nvSpPr>
            <p:spPr>
              <a:xfrm>
                <a:off x="7550280" y="1938960"/>
                <a:ext cx="424080" cy="471600"/>
              </a:xfrm>
              <a:custGeom>
                <a:avLst/>
                <a:gdLst/>
                <a:ahLst/>
                <a:rect l="l" t="t" r="r" b="b"/>
                <a:pathLst>
                  <a:path w="208" h="249">
                    <a:moveTo>
                      <a:pt x="101" y="0"/>
                    </a:moveTo>
                    <a:lnTo>
                      <a:pt x="133" y="16"/>
                    </a:lnTo>
                    <a:lnTo>
                      <a:pt x="165" y="33"/>
                    </a:lnTo>
                    <a:lnTo>
                      <a:pt x="198" y="62"/>
                    </a:lnTo>
                    <a:lnTo>
                      <a:pt x="208" y="93"/>
                    </a:lnTo>
                    <a:lnTo>
                      <a:pt x="208" y="119"/>
                    </a:lnTo>
                    <a:lnTo>
                      <a:pt x="200" y="144"/>
                    </a:lnTo>
                    <a:lnTo>
                      <a:pt x="181" y="169"/>
                    </a:lnTo>
                    <a:lnTo>
                      <a:pt x="146" y="195"/>
                    </a:lnTo>
                    <a:lnTo>
                      <a:pt x="117" y="226"/>
                    </a:lnTo>
                    <a:lnTo>
                      <a:pt x="104" y="247"/>
                    </a:lnTo>
                    <a:lnTo>
                      <a:pt x="79" y="249"/>
                    </a:lnTo>
                    <a:lnTo>
                      <a:pt x="42" y="233"/>
                    </a:lnTo>
                    <a:lnTo>
                      <a:pt x="12" y="209"/>
                    </a:lnTo>
                    <a:lnTo>
                      <a:pt x="0" y="179"/>
                    </a:lnTo>
                    <a:lnTo>
                      <a:pt x="15" y="166"/>
                    </a:lnTo>
                    <a:lnTo>
                      <a:pt x="69" y="157"/>
                    </a:lnTo>
                    <a:lnTo>
                      <a:pt x="93" y="143"/>
                    </a:lnTo>
                    <a:lnTo>
                      <a:pt x="114" y="119"/>
                    </a:lnTo>
                    <a:lnTo>
                      <a:pt x="120" y="85"/>
                    </a:lnTo>
                    <a:lnTo>
                      <a:pt x="120" y="45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bf7f1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632000" y="2020320"/>
                <a:ext cx="335880" cy="388440"/>
              </a:xfrm>
              <a:custGeom>
                <a:avLst/>
                <a:gdLst/>
                <a:ahLst/>
                <a:rect l="l" t="t" r="r" b="b"/>
                <a:pathLst>
                  <a:path w="165" h="205">
                    <a:moveTo>
                      <a:pt x="108" y="0"/>
                    </a:moveTo>
                    <a:lnTo>
                      <a:pt x="133" y="18"/>
                    </a:lnTo>
                    <a:lnTo>
                      <a:pt x="153" y="32"/>
                    </a:lnTo>
                    <a:lnTo>
                      <a:pt x="165" y="59"/>
                    </a:lnTo>
                    <a:lnTo>
                      <a:pt x="162" y="84"/>
                    </a:lnTo>
                    <a:lnTo>
                      <a:pt x="147" y="112"/>
                    </a:lnTo>
                    <a:lnTo>
                      <a:pt x="125" y="134"/>
                    </a:lnTo>
                    <a:lnTo>
                      <a:pt x="98" y="160"/>
                    </a:lnTo>
                    <a:lnTo>
                      <a:pt x="83" y="179"/>
                    </a:lnTo>
                    <a:lnTo>
                      <a:pt x="62" y="202"/>
                    </a:lnTo>
                    <a:lnTo>
                      <a:pt x="40" y="205"/>
                    </a:lnTo>
                    <a:lnTo>
                      <a:pt x="19" y="194"/>
                    </a:lnTo>
                    <a:lnTo>
                      <a:pt x="4" y="179"/>
                    </a:lnTo>
                    <a:lnTo>
                      <a:pt x="0" y="161"/>
                    </a:lnTo>
                    <a:lnTo>
                      <a:pt x="17" y="148"/>
                    </a:lnTo>
                    <a:lnTo>
                      <a:pt x="48" y="141"/>
                    </a:lnTo>
                    <a:lnTo>
                      <a:pt x="67" y="129"/>
                    </a:lnTo>
                    <a:lnTo>
                      <a:pt x="94" y="112"/>
                    </a:lnTo>
                    <a:lnTo>
                      <a:pt x="112" y="84"/>
                    </a:lnTo>
                    <a:lnTo>
                      <a:pt x="125" y="51"/>
                    </a:lnTo>
                    <a:lnTo>
                      <a:pt x="120" y="27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7048800" y="3092040"/>
              <a:ext cx="207360" cy="244440"/>
            </a:xfrm>
            <a:custGeom>
              <a:avLst/>
              <a:gdLst/>
              <a:ahLst/>
              <a:rect l="l" t="t" r="r" b="b"/>
              <a:pathLst>
                <a:path w="102" h="129">
                  <a:moveTo>
                    <a:pt x="102" y="129"/>
                  </a:moveTo>
                  <a:lnTo>
                    <a:pt x="54" y="78"/>
                  </a:lnTo>
                  <a:lnTo>
                    <a:pt x="19" y="33"/>
                  </a:lnTo>
                  <a:lnTo>
                    <a:pt x="0" y="0"/>
                  </a:lnTo>
                  <a:lnTo>
                    <a:pt x="102" y="12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1320" y="4340520"/>
              <a:ext cx="132480" cy="1836000"/>
            </a:xfrm>
            <a:custGeom>
              <a:avLst/>
              <a:gdLst/>
              <a:ahLst/>
              <a:rect l="l" t="t" r="r" b="b"/>
              <a:pathLst>
                <a:path w="65" h="968">
                  <a:moveTo>
                    <a:pt x="65" y="968"/>
                  </a:moveTo>
                  <a:lnTo>
                    <a:pt x="49" y="785"/>
                  </a:lnTo>
                  <a:lnTo>
                    <a:pt x="27" y="656"/>
                  </a:lnTo>
                  <a:lnTo>
                    <a:pt x="0" y="532"/>
                  </a:lnTo>
                  <a:lnTo>
                    <a:pt x="43" y="371"/>
                  </a:lnTo>
                  <a:lnTo>
                    <a:pt x="38" y="123"/>
                  </a:lnTo>
                  <a:lnTo>
                    <a:pt x="2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442240" y="2697840"/>
              <a:ext cx="723240" cy="2801160"/>
              <a:chOff x="2442240" y="2697840"/>
              <a:chExt cx="723240" cy="2801160"/>
            </a:xfrm>
          </p:grpSpPr>
          <p:sp>
            <p:nvSpPr>
              <p:cNvPr id="151" name=""/>
              <p:cNvSpPr/>
              <p:nvPr/>
            </p:nvSpPr>
            <p:spPr>
              <a:xfrm>
                <a:off x="2442240" y="2697840"/>
                <a:ext cx="723240" cy="2331000"/>
              </a:xfrm>
              <a:custGeom>
                <a:avLst/>
                <a:gdLst/>
                <a:ahLst/>
                <a:rect l="l" t="t" r="r" b="b"/>
                <a:pathLst>
                  <a:path w="355" h="1229">
                    <a:moveTo>
                      <a:pt x="355" y="14"/>
                    </a:moveTo>
                    <a:lnTo>
                      <a:pt x="291" y="5"/>
                    </a:lnTo>
                    <a:lnTo>
                      <a:pt x="242" y="0"/>
                    </a:lnTo>
                    <a:lnTo>
                      <a:pt x="206" y="6"/>
                    </a:lnTo>
                    <a:lnTo>
                      <a:pt x="170" y="15"/>
                    </a:lnTo>
                    <a:lnTo>
                      <a:pt x="137" y="31"/>
                    </a:lnTo>
                    <a:lnTo>
                      <a:pt x="98" y="63"/>
                    </a:lnTo>
                    <a:lnTo>
                      <a:pt x="76" y="92"/>
                    </a:lnTo>
                    <a:lnTo>
                      <a:pt x="54" y="124"/>
                    </a:lnTo>
                    <a:lnTo>
                      <a:pt x="37" y="162"/>
                    </a:lnTo>
                    <a:lnTo>
                      <a:pt x="22" y="208"/>
                    </a:lnTo>
                    <a:lnTo>
                      <a:pt x="8" y="260"/>
                    </a:lnTo>
                    <a:lnTo>
                      <a:pt x="1" y="314"/>
                    </a:lnTo>
                    <a:lnTo>
                      <a:pt x="0" y="415"/>
                    </a:lnTo>
                    <a:lnTo>
                      <a:pt x="27" y="601"/>
                    </a:lnTo>
                    <a:lnTo>
                      <a:pt x="86" y="794"/>
                    </a:lnTo>
                    <a:lnTo>
                      <a:pt x="124" y="1004"/>
                    </a:lnTo>
                    <a:lnTo>
                      <a:pt x="129" y="1100"/>
                    </a:lnTo>
                    <a:lnTo>
                      <a:pt x="113" y="1170"/>
                    </a:lnTo>
                    <a:lnTo>
                      <a:pt x="91" y="1229"/>
                    </a:lnTo>
                    <a:lnTo>
                      <a:pt x="156" y="1176"/>
                    </a:lnTo>
                    <a:lnTo>
                      <a:pt x="193" y="1219"/>
                    </a:lnTo>
                    <a:lnTo>
                      <a:pt x="150" y="993"/>
                    </a:lnTo>
                    <a:lnTo>
                      <a:pt x="112" y="760"/>
                    </a:lnTo>
                    <a:lnTo>
                      <a:pt x="70" y="563"/>
                    </a:lnTo>
                    <a:lnTo>
                      <a:pt x="54" y="380"/>
                    </a:lnTo>
                    <a:lnTo>
                      <a:pt x="75" y="268"/>
                    </a:lnTo>
                    <a:lnTo>
                      <a:pt x="102" y="143"/>
                    </a:lnTo>
                    <a:lnTo>
                      <a:pt x="134" y="79"/>
                    </a:lnTo>
                    <a:lnTo>
                      <a:pt x="183" y="41"/>
                    </a:lnTo>
                    <a:lnTo>
                      <a:pt x="263" y="30"/>
                    </a:lnTo>
                    <a:lnTo>
                      <a:pt x="355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590920" y="4922640"/>
                <a:ext cx="277200" cy="576360"/>
              </a:xfrm>
              <a:custGeom>
                <a:avLst/>
                <a:gdLst/>
                <a:ahLst/>
                <a:rect l="l" t="t" r="r" b="b"/>
                <a:pathLst>
                  <a:path w="136" h="304">
                    <a:moveTo>
                      <a:pt x="82" y="0"/>
                    </a:moveTo>
                    <a:lnTo>
                      <a:pt x="21" y="53"/>
                    </a:lnTo>
                    <a:lnTo>
                      <a:pt x="0" y="90"/>
                    </a:lnTo>
                    <a:lnTo>
                      <a:pt x="29" y="72"/>
                    </a:lnTo>
                    <a:lnTo>
                      <a:pt x="0" y="150"/>
                    </a:lnTo>
                    <a:lnTo>
                      <a:pt x="34" y="123"/>
                    </a:lnTo>
                    <a:lnTo>
                      <a:pt x="10" y="230"/>
                    </a:lnTo>
                    <a:lnTo>
                      <a:pt x="53" y="190"/>
                    </a:lnTo>
                    <a:lnTo>
                      <a:pt x="64" y="257"/>
                    </a:lnTo>
                    <a:lnTo>
                      <a:pt x="112" y="304"/>
                    </a:lnTo>
                    <a:lnTo>
                      <a:pt x="111" y="229"/>
                    </a:lnTo>
                    <a:lnTo>
                      <a:pt x="136" y="142"/>
                    </a:lnTo>
                    <a:lnTo>
                      <a:pt x="117" y="41"/>
                    </a:lnTo>
                    <a:lnTo>
                      <a:pt x="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554560" y="2729880"/>
                <a:ext cx="594720" cy="2232360"/>
              </a:xfrm>
              <a:custGeom>
                <a:avLst/>
                <a:gdLst/>
                <a:ahLst/>
                <a:rect l="l" t="t" r="r" b="b"/>
                <a:pathLst>
                  <a:path w="292" h="1177">
                    <a:moveTo>
                      <a:pt x="132" y="1177"/>
                    </a:moveTo>
                    <a:lnTo>
                      <a:pt x="125" y="938"/>
                    </a:lnTo>
                    <a:lnTo>
                      <a:pt x="87" y="723"/>
                    </a:lnTo>
                    <a:lnTo>
                      <a:pt x="67" y="596"/>
                    </a:lnTo>
                    <a:lnTo>
                      <a:pt x="55" y="486"/>
                    </a:lnTo>
                    <a:lnTo>
                      <a:pt x="51" y="378"/>
                    </a:lnTo>
                    <a:lnTo>
                      <a:pt x="61" y="282"/>
                    </a:lnTo>
                    <a:lnTo>
                      <a:pt x="77" y="196"/>
                    </a:lnTo>
                    <a:lnTo>
                      <a:pt x="96" y="131"/>
                    </a:lnTo>
                    <a:lnTo>
                      <a:pt x="120" y="91"/>
                    </a:lnTo>
                    <a:lnTo>
                      <a:pt x="150" y="63"/>
                    </a:lnTo>
                    <a:lnTo>
                      <a:pt x="187" y="39"/>
                    </a:lnTo>
                    <a:lnTo>
                      <a:pt x="233" y="19"/>
                    </a:lnTo>
                    <a:lnTo>
                      <a:pt x="292" y="0"/>
                    </a:lnTo>
                    <a:lnTo>
                      <a:pt x="227" y="3"/>
                    </a:lnTo>
                    <a:lnTo>
                      <a:pt x="181" y="8"/>
                    </a:lnTo>
                    <a:lnTo>
                      <a:pt x="128" y="22"/>
                    </a:lnTo>
                    <a:lnTo>
                      <a:pt x="88" y="47"/>
                    </a:lnTo>
                    <a:lnTo>
                      <a:pt x="63" y="78"/>
                    </a:lnTo>
                    <a:lnTo>
                      <a:pt x="44" y="115"/>
                    </a:lnTo>
                    <a:lnTo>
                      <a:pt x="24" y="195"/>
                    </a:lnTo>
                    <a:lnTo>
                      <a:pt x="10" y="271"/>
                    </a:lnTo>
                    <a:lnTo>
                      <a:pt x="0" y="340"/>
                    </a:lnTo>
                    <a:lnTo>
                      <a:pt x="1" y="422"/>
                    </a:lnTo>
                    <a:lnTo>
                      <a:pt x="5" y="494"/>
                    </a:lnTo>
                    <a:lnTo>
                      <a:pt x="23" y="594"/>
                    </a:lnTo>
                    <a:lnTo>
                      <a:pt x="55" y="734"/>
                    </a:lnTo>
                    <a:lnTo>
                      <a:pt x="93" y="971"/>
                    </a:lnTo>
                    <a:lnTo>
                      <a:pt x="132" y="117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0"/>
            <a:ext cx="8001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ahoma"/>
              </a:rPr>
              <a:t>ЛОСЬ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286000" y="1676520"/>
            <a:ext cx="4457520" cy="4665600"/>
            <a:chOff x="2286000" y="1676520"/>
            <a:chExt cx="4457520" cy="4665600"/>
          </a:xfrm>
        </p:grpSpPr>
        <p:sp>
          <p:nvSpPr>
            <p:cNvPr id="156" name=""/>
            <p:cNvSpPr/>
            <p:nvPr/>
          </p:nvSpPr>
          <p:spPr>
            <a:xfrm>
              <a:off x="3367080" y="2076480"/>
              <a:ext cx="452160" cy="476280"/>
            </a:xfrm>
            <a:custGeom>
              <a:avLst/>
              <a:gdLst/>
              <a:ahLst/>
              <a:rect l="l" t="t" r="r" b="b"/>
              <a:pathLst>
                <a:path w="285" h="300">
                  <a:moveTo>
                    <a:pt x="0" y="300"/>
                  </a:moveTo>
                  <a:lnTo>
                    <a:pt x="45" y="225"/>
                  </a:lnTo>
                  <a:lnTo>
                    <a:pt x="117" y="150"/>
                  </a:lnTo>
                  <a:lnTo>
                    <a:pt x="186" y="78"/>
                  </a:lnTo>
                  <a:lnTo>
                    <a:pt x="225" y="24"/>
                  </a:lnTo>
                  <a:lnTo>
                    <a:pt x="255" y="0"/>
                  </a:lnTo>
                  <a:lnTo>
                    <a:pt x="276" y="18"/>
                  </a:lnTo>
                  <a:lnTo>
                    <a:pt x="285" y="75"/>
                  </a:lnTo>
                  <a:lnTo>
                    <a:pt x="270" y="156"/>
                  </a:lnTo>
                  <a:lnTo>
                    <a:pt x="255" y="180"/>
                  </a:lnTo>
                  <a:lnTo>
                    <a:pt x="255" y="189"/>
                  </a:lnTo>
                  <a:lnTo>
                    <a:pt x="255" y="198"/>
                  </a:lnTo>
                  <a:lnTo>
                    <a:pt x="255" y="204"/>
                  </a:lnTo>
                  <a:lnTo>
                    <a:pt x="231" y="243"/>
                  </a:lnTo>
                  <a:lnTo>
                    <a:pt x="186" y="276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4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2342880" y="1685880"/>
              <a:ext cx="1314720" cy="1005120"/>
              <a:chOff x="2342880" y="1685880"/>
              <a:chExt cx="1314720" cy="1005120"/>
            </a:xfrm>
          </p:grpSpPr>
          <p:sp>
            <p:nvSpPr>
              <p:cNvPr id="158" name=""/>
              <p:cNvSpPr/>
              <p:nvPr/>
            </p:nvSpPr>
            <p:spPr>
              <a:xfrm>
                <a:off x="2342880" y="1685880"/>
                <a:ext cx="1314720" cy="1005120"/>
              </a:xfrm>
              <a:custGeom>
                <a:avLst/>
                <a:gdLst/>
                <a:ahLst/>
                <a:rect l="l" t="t" r="r" b="b"/>
                <a:pathLst>
                  <a:path w="828" h="633">
                    <a:moveTo>
                      <a:pt x="708" y="510"/>
                    </a:moveTo>
                    <a:lnTo>
                      <a:pt x="630" y="492"/>
                    </a:lnTo>
                    <a:lnTo>
                      <a:pt x="588" y="480"/>
                    </a:lnTo>
                    <a:lnTo>
                      <a:pt x="558" y="468"/>
                    </a:lnTo>
                    <a:lnTo>
                      <a:pt x="546" y="450"/>
                    </a:lnTo>
                    <a:lnTo>
                      <a:pt x="558" y="414"/>
                    </a:lnTo>
                    <a:lnTo>
                      <a:pt x="612" y="372"/>
                    </a:lnTo>
                    <a:lnTo>
                      <a:pt x="666" y="336"/>
                    </a:lnTo>
                    <a:lnTo>
                      <a:pt x="738" y="288"/>
                    </a:lnTo>
                    <a:lnTo>
                      <a:pt x="798" y="222"/>
                    </a:lnTo>
                    <a:lnTo>
                      <a:pt x="828" y="186"/>
                    </a:lnTo>
                    <a:lnTo>
                      <a:pt x="822" y="174"/>
                    </a:lnTo>
                    <a:lnTo>
                      <a:pt x="768" y="192"/>
                    </a:lnTo>
                    <a:lnTo>
                      <a:pt x="750" y="186"/>
                    </a:lnTo>
                    <a:lnTo>
                      <a:pt x="744" y="168"/>
                    </a:lnTo>
                    <a:lnTo>
                      <a:pt x="750" y="150"/>
                    </a:lnTo>
                    <a:lnTo>
                      <a:pt x="753" y="135"/>
                    </a:lnTo>
                    <a:lnTo>
                      <a:pt x="756" y="126"/>
                    </a:lnTo>
                    <a:lnTo>
                      <a:pt x="738" y="114"/>
                    </a:lnTo>
                    <a:lnTo>
                      <a:pt x="738" y="90"/>
                    </a:lnTo>
                    <a:lnTo>
                      <a:pt x="750" y="66"/>
                    </a:lnTo>
                    <a:lnTo>
                      <a:pt x="759" y="39"/>
                    </a:lnTo>
                    <a:lnTo>
                      <a:pt x="768" y="12"/>
                    </a:lnTo>
                    <a:lnTo>
                      <a:pt x="750" y="0"/>
                    </a:lnTo>
                    <a:lnTo>
                      <a:pt x="690" y="42"/>
                    </a:lnTo>
                    <a:lnTo>
                      <a:pt x="651" y="66"/>
                    </a:lnTo>
                    <a:lnTo>
                      <a:pt x="624" y="66"/>
                    </a:lnTo>
                    <a:lnTo>
                      <a:pt x="618" y="48"/>
                    </a:lnTo>
                    <a:lnTo>
                      <a:pt x="606" y="48"/>
                    </a:lnTo>
                    <a:lnTo>
                      <a:pt x="588" y="57"/>
                    </a:lnTo>
                    <a:lnTo>
                      <a:pt x="567" y="78"/>
                    </a:lnTo>
                    <a:lnTo>
                      <a:pt x="546" y="96"/>
                    </a:lnTo>
                    <a:lnTo>
                      <a:pt x="516" y="105"/>
                    </a:lnTo>
                    <a:lnTo>
                      <a:pt x="510" y="90"/>
                    </a:lnTo>
                    <a:lnTo>
                      <a:pt x="504" y="72"/>
                    </a:lnTo>
                    <a:lnTo>
                      <a:pt x="486" y="90"/>
                    </a:lnTo>
                    <a:lnTo>
                      <a:pt x="402" y="168"/>
                    </a:lnTo>
                    <a:lnTo>
                      <a:pt x="348" y="222"/>
                    </a:lnTo>
                    <a:lnTo>
                      <a:pt x="318" y="240"/>
                    </a:lnTo>
                    <a:lnTo>
                      <a:pt x="282" y="240"/>
                    </a:lnTo>
                    <a:lnTo>
                      <a:pt x="264" y="204"/>
                    </a:lnTo>
                    <a:lnTo>
                      <a:pt x="270" y="156"/>
                    </a:lnTo>
                    <a:lnTo>
                      <a:pt x="285" y="99"/>
                    </a:lnTo>
                    <a:lnTo>
                      <a:pt x="294" y="51"/>
                    </a:lnTo>
                    <a:lnTo>
                      <a:pt x="300" y="15"/>
                    </a:lnTo>
                    <a:lnTo>
                      <a:pt x="270" y="51"/>
                    </a:lnTo>
                    <a:lnTo>
                      <a:pt x="237" y="102"/>
                    </a:lnTo>
                    <a:lnTo>
                      <a:pt x="216" y="150"/>
                    </a:lnTo>
                    <a:lnTo>
                      <a:pt x="204" y="204"/>
                    </a:lnTo>
                    <a:lnTo>
                      <a:pt x="204" y="240"/>
                    </a:lnTo>
                    <a:lnTo>
                      <a:pt x="204" y="276"/>
                    </a:lnTo>
                    <a:lnTo>
                      <a:pt x="186" y="309"/>
                    </a:lnTo>
                    <a:lnTo>
                      <a:pt x="168" y="324"/>
                    </a:lnTo>
                    <a:lnTo>
                      <a:pt x="147" y="312"/>
                    </a:lnTo>
                    <a:lnTo>
                      <a:pt x="147" y="285"/>
                    </a:lnTo>
                    <a:lnTo>
                      <a:pt x="156" y="252"/>
                    </a:lnTo>
                    <a:lnTo>
                      <a:pt x="159" y="207"/>
                    </a:lnTo>
                    <a:lnTo>
                      <a:pt x="144" y="228"/>
                    </a:lnTo>
                    <a:lnTo>
                      <a:pt x="120" y="270"/>
                    </a:lnTo>
                    <a:lnTo>
                      <a:pt x="111" y="252"/>
                    </a:lnTo>
                    <a:lnTo>
                      <a:pt x="114" y="207"/>
                    </a:lnTo>
                    <a:lnTo>
                      <a:pt x="120" y="156"/>
                    </a:lnTo>
                    <a:lnTo>
                      <a:pt x="120" y="138"/>
                    </a:lnTo>
                    <a:lnTo>
                      <a:pt x="90" y="174"/>
                    </a:lnTo>
                    <a:lnTo>
                      <a:pt x="78" y="228"/>
                    </a:lnTo>
                    <a:lnTo>
                      <a:pt x="78" y="276"/>
                    </a:lnTo>
                    <a:lnTo>
                      <a:pt x="84" y="306"/>
                    </a:lnTo>
                    <a:lnTo>
                      <a:pt x="102" y="333"/>
                    </a:lnTo>
                    <a:lnTo>
                      <a:pt x="99" y="366"/>
                    </a:lnTo>
                    <a:lnTo>
                      <a:pt x="96" y="405"/>
                    </a:lnTo>
                    <a:lnTo>
                      <a:pt x="102" y="447"/>
                    </a:lnTo>
                    <a:lnTo>
                      <a:pt x="114" y="486"/>
                    </a:lnTo>
                    <a:lnTo>
                      <a:pt x="120" y="510"/>
                    </a:lnTo>
                    <a:lnTo>
                      <a:pt x="132" y="516"/>
                    </a:lnTo>
                    <a:lnTo>
                      <a:pt x="96" y="519"/>
                    </a:lnTo>
                    <a:lnTo>
                      <a:pt x="72" y="504"/>
                    </a:lnTo>
                    <a:lnTo>
                      <a:pt x="60" y="480"/>
                    </a:lnTo>
                    <a:lnTo>
                      <a:pt x="48" y="441"/>
                    </a:lnTo>
                    <a:lnTo>
                      <a:pt x="54" y="399"/>
                    </a:lnTo>
                    <a:lnTo>
                      <a:pt x="54" y="336"/>
                    </a:lnTo>
                    <a:lnTo>
                      <a:pt x="30" y="354"/>
                    </a:lnTo>
                    <a:lnTo>
                      <a:pt x="12" y="408"/>
                    </a:lnTo>
                    <a:lnTo>
                      <a:pt x="0" y="474"/>
                    </a:lnTo>
                    <a:lnTo>
                      <a:pt x="6" y="519"/>
                    </a:lnTo>
                    <a:lnTo>
                      <a:pt x="15" y="546"/>
                    </a:lnTo>
                    <a:lnTo>
                      <a:pt x="33" y="573"/>
                    </a:lnTo>
                    <a:lnTo>
                      <a:pt x="54" y="585"/>
                    </a:lnTo>
                    <a:lnTo>
                      <a:pt x="96" y="588"/>
                    </a:lnTo>
                    <a:lnTo>
                      <a:pt x="126" y="585"/>
                    </a:lnTo>
                    <a:lnTo>
                      <a:pt x="156" y="576"/>
                    </a:lnTo>
                    <a:lnTo>
                      <a:pt x="174" y="570"/>
                    </a:lnTo>
                    <a:lnTo>
                      <a:pt x="198" y="588"/>
                    </a:lnTo>
                    <a:lnTo>
                      <a:pt x="222" y="576"/>
                    </a:lnTo>
                    <a:lnTo>
                      <a:pt x="234" y="570"/>
                    </a:lnTo>
                    <a:lnTo>
                      <a:pt x="246" y="564"/>
                    </a:lnTo>
                    <a:lnTo>
                      <a:pt x="270" y="606"/>
                    </a:lnTo>
                    <a:lnTo>
                      <a:pt x="294" y="624"/>
                    </a:lnTo>
                    <a:lnTo>
                      <a:pt x="318" y="633"/>
                    </a:lnTo>
                    <a:lnTo>
                      <a:pt x="342" y="624"/>
                    </a:lnTo>
                    <a:lnTo>
                      <a:pt x="384" y="588"/>
                    </a:lnTo>
                    <a:lnTo>
                      <a:pt x="414" y="546"/>
                    </a:lnTo>
                    <a:lnTo>
                      <a:pt x="438" y="531"/>
                    </a:lnTo>
                    <a:lnTo>
                      <a:pt x="459" y="528"/>
                    </a:lnTo>
                    <a:lnTo>
                      <a:pt x="483" y="549"/>
                    </a:lnTo>
                    <a:lnTo>
                      <a:pt x="504" y="573"/>
                    </a:lnTo>
                    <a:lnTo>
                      <a:pt x="522" y="606"/>
                    </a:lnTo>
                    <a:lnTo>
                      <a:pt x="708" y="510"/>
                    </a:lnTo>
                    <a:close/>
                  </a:path>
                </a:pathLst>
              </a:custGeom>
              <a:solidFill>
                <a:srgbClr val="40404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504880" y="2114640"/>
                <a:ext cx="28800" cy="100080"/>
              </a:xfrm>
              <a:custGeom>
                <a:avLst/>
                <a:gdLst/>
                <a:ahLst/>
                <a:rect l="l" t="t" r="r" b="b"/>
                <a:pathLst>
                  <a:path w="18" h="63">
                    <a:moveTo>
                      <a:pt x="18" y="0"/>
                    </a:moveTo>
                    <a:lnTo>
                      <a:pt x="6" y="39"/>
                    </a:lnTo>
                    <a:lnTo>
                      <a:pt x="0" y="6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552400" y="2514600"/>
                <a:ext cx="71640" cy="8568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0" y="0"/>
                    </a:moveTo>
                    <a:lnTo>
                      <a:pt x="21" y="30"/>
                    </a:lnTo>
                    <a:lnTo>
                      <a:pt x="45" y="5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571480" y="2185920"/>
                <a:ext cx="133560" cy="338400"/>
              </a:xfrm>
              <a:custGeom>
                <a:avLst/>
                <a:gdLst/>
                <a:ahLst/>
                <a:rect l="l" t="t" r="r" b="b"/>
                <a:pathLst>
                  <a:path w="84" h="213">
                    <a:moveTo>
                      <a:pt x="6" y="0"/>
                    </a:moveTo>
                    <a:lnTo>
                      <a:pt x="0" y="51"/>
                    </a:lnTo>
                    <a:lnTo>
                      <a:pt x="3" y="72"/>
                    </a:lnTo>
                    <a:lnTo>
                      <a:pt x="12" y="126"/>
                    </a:lnTo>
                    <a:lnTo>
                      <a:pt x="24" y="162"/>
                    </a:lnTo>
                    <a:lnTo>
                      <a:pt x="39" y="189"/>
                    </a:lnTo>
                    <a:lnTo>
                      <a:pt x="57" y="213"/>
                    </a:lnTo>
                    <a:lnTo>
                      <a:pt x="66" y="213"/>
                    </a:lnTo>
                    <a:lnTo>
                      <a:pt x="84" y="20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681280" y="2143080"/>
                <a:ext cx="195120" cy="462240"/>
              </a:xfrm>
              <a:custGeom>
                <a:avLst/>
                <a:gdLst/>
                <a:ahLst/>
                <a:rect l="l" t="t" r="r" b="b"/>
                <a:pathLst>
                  <a:path w="123" h="291">
                    <a:moveTo>
                      <a:pt x="33" y="282"/>
                    </a:moveTo>
                    <a:lnTo>
                      <a:pt x="9" y="210"/>
                    </a:lnTo>
                    <a:lnTo>
                      <a:pt x="6" y="183"/>
                    </a:lnTo>
                    <a:lnTo>
                      <a:pt x="0" y="138"/>
                    </a:lnTo>
                    <a:lnTo>
                      <a:pt x="0" y="69"/>
                    </a:lnTo>
                    <a:lnTo>
                      <a:pt x="9" y="30"/>
                    </a:lnTo>
                    <a:lnTo>
                      <a:pt x="24" y="0"/>
                    </a:lnTo>
                    <a:lnTo>
                      <a:pt x="33" y="57"/>
                    </a:lnTo>
                    <a:lnTo>
                      <a:pt x="36" y="105"/>
                    </a:lnTo>
                    <a:lnTo>
                      <a:pt x="45" y="165"/>
                    </a:lnTo>
                    <a:lnTo>
                      <a:pt x="57" y="222"/>
                    </a:lnTo>
                    <a:lnTo>
                      <a:pt x="72" y="261"/>
                    </a:lnTo>
                    <a:lnTo>
                      <a:pt x="87" y="285"/>
                    </a:lnTo>
                    <a:lnTo>
                      <a:pt x="102" y="291"/>
                    </a:lnTo>
                    <a:lnTo>
                      <a:pt x="114" y="282"/>
                    </a:lnTo>
                    <a:lnTo>
                      <a:pt x="123" y="25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971800" y="1962360"/>
                <a:ext cx="209520" cy="438120"/>
              </a:xfrm>
              <a:custGeom>
                <a:avLst/>
                <a:gdLst/>
                <a:ahLst/>
                <a:rect l="l" t="t" r="r" b="b"/>
                <a:pathLst>
                  <a:path w="132" h="276">
                    <a:moveTo>
                      <a:pt x="132" y="0"/>
                    </a:moveTo>
                    <a:lnTo>
                      <a:pt x="96" y="36"/>
                    </a:lnTo>
                    <a:lnTo>
                      <a:pt x="72" y="72"/>
                    </a:lnTo>
                    <a:lnTo>
                      <a:pt x="48" y="108"/>
                    </a:lnTo>
                    <a:lnTo>
                      <a:pt x="36" y="144"/>
                    </a:lnTo>
                    <a:lnTo>
                      <a:pt x="12" y="180"/>
                    </a:lnTo>
                    <a:lnTo>
                      <a:pt x="0" y="216"/>
                    </a:lnTo>
                    <a:lnTo>
                      <a:pt x="12" y="27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105000" y="2076480"/>
                <a:ext cx="304920" cy="285840"/>
              </a:xfrm>
              <a:custGeom>
                <a:avLst/>
                <a:gdLst/>
                <a:ahLst/>
                <a:rect l="l" t="t" r="r" b="b"/>
                <a:pathLst>
                  <a:path w="192" h="180">
                    <a:moveTo>
                      <a:pt x="192" y="0"/>
                    </a:moveTo>
                    <a:lnTo>
                      <a:pt x="156" y="12"/>
                    </a:lnTo>
                    <a:lnTo>
                      <a:pt x="120" y="36"/>
                    </a:lnTo>
                    <a:lnTo>
                      <a:pt x="84" y="60"/>
                    </a:lnTo>
                    <a:lnTo>
                      <a:pt x="48" y="84"/>
                    </a:lnTo>
                    <a:lnTo>
                      <a:pt x="36" y="120"/>
                    </a:lnTo>
                    <a:lnTo>
                      <a:pt x="12" y="156"/>
                    </a:lnTo>
                    <a:lnTo>
                      <a:pt x="0" y="18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76400" y="2133720"/>
                <a:ext cx="19080" cy="228600"/>
              </a:xfrm>
              <a:custGeom>
                <a:avLst/>
                <a:gdLst/>
                <a:ahLst/>
                <a:rect l="l" t="t" r="r" b="b"/>
                <a:pathLst>
                  <a:path w="12" h="144">
                    <a:moveTo>
                      <a:pt x="0" y="0"/>
                    </a:moveTo>
                    <a:lnTo>
                      <a:pt x="0" y="36"/>
                    </a:lnTo>
                    <a:lnTo>
                      <a:pt x="0" y="72"/>
                    </a:lnTo>
                    <a:lnTo>
                      <a:pt x="0" y="108"/>
                    </a:lnTo>
                    <a:lnTo>
                      <a:pt x="12" y="144"/>
                    </a:lnTo>
                    <a:lnTo>
                      <a:pt x="12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286000" y="2229120"/>
              <a:ext cx="4457520" cy="4113000"/>
              <a:chOff x="2286000" y="2229120"/>
              <a:chExt cx="4457520" cy="4113000"/>
            </a:xfrm>
          </p:grpSpPr>
          <p:sp>
            <p:nvSpPr>
              <p:cNvPr id="167" name=""/>
              <p:cNvSpPr/>
              <p:nvPr/>
            </p:nvSpPr>
            <p:spPr>
              <a:xfrm>
                <a:off x="2286000" y="2229120"/>
                <a:ext cx="4457520" cy="4100400"/>
              </a:xfrm>
              <a:custGeom>
                <a:avLst/>
                <a:gdLst/>
                <a:ahLst/>
                <a:rect l="l" t="t" r="r" b="b"/>
                <a:pathLst>
                  <a:path w="2808" h="2583">
                    <a:moveTo>
                      <a:pt x="2547" y="2574"/>
                    </a:moveTo>
                    <a:lnTo>
                      <a:pt x="2637" y="2583"/>
                    </a:lnTo>
                    <a:lnTo>
                      <a:pt x="2718" y="2574"/>
                    </a:lnTo>
                    <a:lnTo>
                      <a:pt x="2736" y="2556"/>
                    </a:lnTo>
                    <a:lnTo>
                      <a:pt x="2745" y="2529"/>
                    </a:lnTo>
                    <a:lnTo>
                      <a:pt x="2745" y="2475"/>
                    </a:lnTo>
                    <a:lnTo>
                      <a:pt x="2736" y="2457"/>
                    </a:lnTo>
                    <a:lnTo>
                      <a:pt x="2772" y="2430"/>
                    </a:lnTo>
                    <a:lnTo>
                      <a:pt x="2754" y="2322"/>
                    </a:lnTo>
                    <a:lnTo>
                      <a:pt x="2745" y="2115"/>
                    </a:lnTo>
                    <a:lnTo>
                      <a:pt x="2754" y="1953"/>
                    </a:lnTo>
                    <a:lnTo>
                      <a:pt x="2772" y="1872"/>
                    </a:lnTo>
                    <a:lnTo>
                      <a:pt x="2790" y="1710"/>
                    </a:lnTo>
                    <a:lnTo>
                      <a:pt x="2808" y="1575"/>
                    </a:lnTo>
                    <a:lnTo>
                      <a:pt x="2772" y="1512"/>
                    </a:lnTo>
                    <a:lnTo>
                      <a:pt x="2754" y="1440"/>
                    </a:lnTo>
                    <a:lnTo>
                      <a:pt x="2763" y="1305"/>
                    </a:lnTo>
                    <a:lnTo>
                      <a:pt x="2754" y="1161"/>
                    </a:lnTo>
                    <a:lnTo>
                      <a:pt x="2772" y="1017"/>
                    </a:lnTo>
                    <a:lnTo>
                      <a:pt x="2790" y="819"/>
                    </a:lnTo>
                    <a:lnTo>
                      <a:pt x="2772" y="711"/>
                    </a:lnTo>
                    <a:lnTo>
                      <a:pt x="2781" y="621"/>
                    </a:lnTo>
                    <a:lnTo>
                      <a:pt x="2727" y="513"/>
                    </a:lnTo>
                    <a:lnTo>
                      <a:pt x="2610" y="441"/>
                    </a:lnTo>
                    <a:lnTo>
                      <a:pt x="2511" y="414"/>
                    </a:lnTo>
                    <a:lnTo>
                      <a:pt x="2421" y="369"/>
                    </a:lnTo>
                    <a:lnTo>
                      <a:pt x="2376" y="369"/>
                    </a:lnTo>
                    <a:lnTo>
                      <a:pt x="2286" y="342"/>
                    </a:lnTo>
                    <a:lnTo>
                      <a:pt x="2160" y="297"/>
                    </a:lnTo>
                    <a:lnTo>
                      <a:pt x="2061" y="288"/>
                    </a:lnTo>
                    <a:lnTo>
                      <a:pt x="2025" y="243"/>
                    </a:lnTo>
                    <a:lnTo>
                      <a:pt x="1989" y="144"/>
                    </a:lnTo>
                    <a:lnTo>
                      <a:pt x="1908" y="54"/>
                    </a:lnTo>
                    <a:lnTo>
                      <a:pt x="1836" y="9"/>
                    </a:lnTo>
                    <a:lnTo>
                      <a:pt x="1755" y="0"/>
                    </a:lnTo>
                    <a:lnTo>
                      <a:pt x="1629" y="9"/>
                    </a:lnTo>
                    <a:lnTo>
                      <a:pt x="1593" y="27"/>
                    </a:lnTo>
                    <a:lnTo>
                      <a:pt x="1467" y="45"/>
                    </a:lnTo>
                    <a:lnTo>
                      <a:pt x="1341" y="72"/>
                    </a:lnTo>
                    <a:lnTo>
                      <a:pt x="1233" y="99"/>
                    </a:lnTo>
                    <a:lnTo>
                      <a:pt x="1062" y="135"/>
                    </a:lnTo>
                    <a:lnTo>
                      <a:pt x="936" y="135"/>
                    </a:lnTo>
                    <a:lnTo>
                      <a:pt x="891" y="135"/>
                    </a:lnTo>
                    <a:lnTo>
                      <a:pt x="801" y="153"/>
                    </a:lnTo>
                    <a:lnTo>
                      <a:pt x="675" y="198"/>
                    </a:lnTo>
                    <a:lnTo>
                      <a:pt x="576" y="243"/>
                    </a:lnTo>
                    <a:lnTo>
                      <a:pt x="513" y="261"/>
                    </a:lnTo>
                    <a:lnTo>
                      <a:pt x="459" y="288"/>
                    </a:lnTo>
                    <a:lnTo>
                      <a:pt x="432" y="324"/>
                    </a:lnTo>
                    <a:lnTo>
                      <a:pt x="405" y="360"/>
                    </a:lnTo>
                    <a:lnTo>
                      <a:pt x="405" y="369"/>
                    </a:lnTo>
                    <a:lnTo>
                      <a:pt x="405" y="378"/>
                    </a:lnTo>
                    <a:lnTo>
                      <a:pt x="342" y="414"/>
                    </a:lnTo>
                    <a:lnTo>
                      <a:pt x="207" y="468"/>
                    </a:lnTo>
                    <a:lnTo>
                      <a:pt x="117" y="522"/>
                    </a:lnTo>
                    <a:lnTo>
                      <a:pt x="54" y="585"/>
                    </a:lnTo>
                    <a:lnTo>
                      <a:pt x="27" y="639"/>
                    </a:lnTo>
                    <a:lnTo>
                      <a:pt x="18" y="693"/>
                    </a:lnTo>
                    <a:lnTo>
                      <a:pt x="0" y="774"/>
                    </a:lnTo>
                    <a:lnTo>
                      <a:pt x="9" y="819"/>
                    </a:lnTo>
                    <a:lnTo>
                      <a:pt x="54" y="882"/>
                    </a:lnTo>
                    <a:lnTo>
                      <a:pt x="144" y="882"/>
                    </a:lnTo>
                    <a:lnTo>
                      <a:pt x="207" y="918"/>
                    </a:lnTo>
                    <a:lnTo>
                      <a:pt x="279" y="909"/>
                    </a:lnTo>
                    <a:lnTo>
                      <a:pt x="342" y="891"/>
                    </a:lnTo>
                    <a:lnTo>
                      <a:pt x="369" y="810"/>
                    </a:lnTo>
                    <a:lnTo>
                      <a:pt x="405" y="774"/>
                    </a:lnTo>
                    <a:lnTo>
                      <a:pt x="513" y="765"/>
                    </a:lnTo>
                    <a:lnTo>
                      <a:pt x="558" y="783"/>
                    </a:lnTo>
                    <a:lnTo>
                      <a:pt x="612" y="864"/>
                    </a:lnTo>
                    <a:lnTo>
                      <a:pt x="693" y="981"/>
                    </a:lnTo>
                    <a:lnTo>
                      <a:pt x="729" y="1098"/>
                    </a:lnTo>
                    <a:lnTo>
                      <a:pt x="738" y="1143"/>
                    </a:lnTo>
                    <a:lnTo>
                      <a:pt x="765" y="1107"/>
                    </a:lnTo>
                    <a:lnTo>
                      <a:pt x="801" y="1035"/>
                    </a:lnTo>
                    <a:lnTo>
                      <a:pt x="810" y="909"/>
                    </a:lnTo>
                    <a:lnTo>
                      <a:pt x="864" y="828"/>
                    </a:lnTo>
                    <a:lnTo>
                      <a:pt x="936" y="873"/>
                    </a:lnTo>
                    <a:lnTo>
                      <a:pt x="1035" y="936"/>
                    </a:lnTo>
                    <a:lnTo>
                      <a:pt x="1098" y="981"/>
                    </a:lnTo>
                    <a:lnTo>
                      <a:pt x="1134" y="1062"/>
                    </a:lnTo>
                    <a:lnTo>
                      <a:pt x="1161" y="1125"/>
                    </a:lnTo>
                    <a:lnTo>
                      <a:pt x="1242" y="1224"/>
                    </a:lnTo>
                    <a:lnTo>
                      <a:pt x="1260" y="1269"/>
                    </a:lnTo>
                    <a:lnTo>
                      <a:pt x="1281" y="1299"/>
                    </a:lnTo>
                    <a:lnTo>
                      <a:pt x="1278" y="1395"/>
                    </a:lnTo>
                    <a:lnTo>
                      <a:pt x="1314" y="1503"/>
                    </a:lnTo>
                    <a:lnTo>
                      <a:pt x="1359" y="1575"/>
                    </a:lnTo>
                    <a:lnTo>
                      <a:pt x="1368" y="1710"/>
                    </a:lnTo>
                    <a:lnTo>
                      <a:pt x="1365" y="1794"/>
                    </a:lnTo>
                    <a:lnTo>
                      <a:pt x="1362" y="1866"/>
                    </a:lnTo>
                    <a:lnTo>
                      <a:pt x="1368" y="1896"/>
                    </a:lnTo>
                    <a:lnTo>
                      <a:pt x="1395" y="1923"/>
                    </a:lnTo>
                    <a:lnTo>
                      <a:pt x="1404" y="1989"/>
                    </a:lnTo>
                    <a:lnTo>
                      <a:pt x="1407" y="2124"/>
                    </a:lnTo>
                    <a:lnTo>
                      <a:pt x="1419" y="2301"/>
                    </a:lnTo>
                    <a:lnTo>
                      <a:pt x="1413" y="2421"/>
                    </a:lnTo>
                    <a:lnTo>
                      <a:pt x="1395" y="2520"/>
                    </a:lnTo>
                    <a:lnTo>
                      <a:pt x="1368" y="2547"/>
                    </a:lnTo>
                    <a:lnTo>
                      <a:pt x="1404" y="2565"/>
                    </a:lnTo>
                    <a:lnTo>
                      <a:pt x="1476" y="2556"/>
                    </a:lnTo>
                    <a:lnTo>
                      <a:pt x="1512" y="2547"/>
                    </a:lnTo>
                    <a:lnTo>
                      <a:pt x="1548" y="2511"/>
                    </a:lnTo>
                    <a:lnTo>
                      <a:pt x="1530" y="2466"/>
                    </a:lnTo>
                    <a:lnTo>
                      <a:pt x="1521" y="2448"/>
                    </a:lnTo>
                    <a:lnTo>
                      <a:pt x="1548" y="2430"/>
                    </a:lnTo>
                    <a:lnTo>
                      <a:pt x="1512" y="2313"/>
                    </a:lnTo>
                    <a:lnTo>
                      <a:pt x="1494" y="2196"/>
                    </a:lnTo>
                    <a:lnTo>
                      <a:pt x="1485" y="2043"/>
                    </a:lnTo>
                    <a:lnTo>
                      <a:pt x="1488" y="1926"/>
                    </a:lnTo>
                    <a:lnTo>
                      <a:pt x="1512" y="1881"/>
                    </a:lnTo>
                    <a:lnTo>
                      <a:pt x="1512" y="1782"/>
                    </a:lnTo>
                    <a:lnTo>
                      <a:pt x="1521" y="1629"/>
                    </a:lnTo>
                    <a:lnTo>
                      <a:pt x="1530" y="1476"/>
                    </a:lnTo>
                    <a:lnTo>
                      <a:pt x="1530" y="1377"/>
                    </a:lnTo>
                    <a:lnTo>
                      <a:pt x="1566" y="1323"/>
                    </a:lnTo>
                    <a:lnTo>
                      <a:pt x="1638" y="1314"/>
                    </a:lnTo>
                    <a:lnTo>
                      <a:pt x="1638" y="1422"/>
                    </a:lnTo>
                    <a:lnTo>
                      <a:pt x="1602" y="1620"/>
                    </a:lnTo>
                    <a:lnTo>
                      <a:pt x="1566" y="1773"/>
                    </a:lnTo>
                    <a:lnTo>
                      <a:pt x="1566" y="1836"/>
                    </a:lnTo>
                    <a:lnTo>
                      <a:pt x="1575" y="1881"/>
                    </a:lnTo>
                    <a:lnTo>
                      <a:pt x="1587" y="1980"/>
                    </a:lnTo>
                    <a:lnTo>
                      <a:pt x="1581" y="2277"/>
                    </a:lnTo>
                    <a:lnTo>
                      <a:pt x="1584" y="2439"/>
                    </a:lnTo>
                    <a:lnTo>
                      <a:pt x="1584" y="2511"/>
                    </a:lnTo>
                    <a:lnTo>
                      <a:pt x="1566" y="2538"/>
                    </a:lnTo>
                    <a:lnTo>
                      <a:pt x="1647" y="2538"/>
                    </a:lnTo>
                    <a:lnTo>
                      <a:pt x="1701" y="2520"/>
                    </a:lnTo>
                    <a:lnTo>
                      <a:pt x="1719" y="2475"/>
                    </a:lnTo>
                    <a:lnTo>
                      <a:pt x="1719" y="2430"/>
                    </a:lnTo>
                    <a:lnTo>
                      <a:pt x="1737" y="2403"/>
                    </a:lnTo>
                    <a:lnTo>
                      <a:pt x="1701" y="2295"/>
                    </a:lnTo>
                    <a:lnTo>
                      <a:pt x="1692" y="2187"/>
                    </a:lnTo>
                    <a:lnTo>
                      <a:pt x="1674" y="2016"/>
                    </a:lnTo>
                    <a:lnTo>
                      <a:pt x="1665" y="1917"/>
                    </a:lnTo>
                    <a:lnTo>
                      <a:pt x="1710" y="1854"/>
                    </a:lnTo>
                    <a:lnTo>
                      <a:pt x="1755" y="1719"/>
                    </a:lnTo>
                    <a:lnTo>
                      <a:pt x="1755" y="1638"/>
                    </a:lnTo>
                    <a:lnTo>
                      <a:pt x="1836" y="1476"/>
                    </a:lnTo>
                    <a:lnTo>
                      <a:pt x="1881" y="1368"/>
                    </a:lnTo>
                    <a:lnTo>
                      <a:pt x="1980" y="1386"/>
                    </a:lnTo>
                    <a:lnTo>
                      <a:pt x="2079" y="1377"/>
                    </a:lnTo>
                    <a:lnTo>
                      <a:pt x="2169" y="1359"/>
                    </a:lnTo>
                    <a:lnTo>
                      <a:pt x="2196" y="1476"/>
                    </a:lnTo>
                    <a:lnTo>
                      <a:pt x="2178" y="1575"/>
                    </a:lnTo>
                    <a:lnTo>
                      <a:pt x="2178" y="1674"/>
                    </a:lnTo>
                    <a:lnTo>
                      <a:pt x="2178" y="1782"/>
                    </a:lnTo>
                    <a:lnTo>
                      <a:pt x="2169" y="1845"/>
                    </a:lnTo>
                    <a:lnTo>
                      <a:pt x="2142" y="1953"/>
                    </a:lnTo>
                    <a:lnTo>
                      <a:pt x="2097" y="2070"/>
                    </a:lnTo>
                    <a:lnTo>
                      <a:pt x="2052" y="2160"/>
                    </a:lnTo>
                    <a:lnTo>
                      <a:pt x="1989" y="2304"/>
                    </a:lnTo>
                    <a:lnTo>
                      <a:pt x="1953" y="2394"/>
                    </a:lnTo>
                    <a:lnTo>
                      <a:pt x="1917" y="2430"/>
                    </a:lnTo>
                    <a:lnTo>
                      <a:pt x="1917" y="2457"/>
                    </a:lnTo>
                    <a:lnTo>
                      <a:pt x="1944" y="2481"/>
                    </a:lnTo>
                    <a:lnTo>
                      <a:pt x="1980" y="2502"/>
                    </a:lnTo>
                    <a:lnTo>
                      <a:pt x="2070" y="2493"/>
                    </a:lnTo>
                    <a:lnTo>
                      <a:pt x="2097" y="2478"/>
                    </a:lnTo>
                    <a:lnTo>
                      <a:pt x="2112" y="2436"/>
                    </a:lnTo>
                    <a:lnTo>
                      <a:pt x="2112" y="2385"/>
                    </a:lnTo>
                    <a:lnTo>
                      <a:pt x="2142" y="2349"/>
                    </a:lnTo>
                    <a:lnTo>
                      <a:pt x="2142" y="2268"/>
                    </a:lnTo>
                    <a:lnTo>
                      <a:pt x="2133" y="2160"/>
                    </a:lnTo>
                    <a:lnTo>
                      <a:pt x="2160" y="2097"/>
                    </a:lnTo>
                    <a:lnTo>
                      <a:pt x="2205" y="1998"/>
                    </a:lnTo>
                    <a:lnTo>
                      <a:pt x="2250" y="1908"/>
                    </a:lnTo>
                    <a:lnTo>
                      <a:pt x="2367" y="1737"/>
                    </a:lnTo>
                    <a:lnTo>
                      <a:pt x="2421" y="1638"/>
                    </a:lnTo>
                    <a:lnTo>
                      <a:pt x="2403" y="1557"/>
                    </a:lnTo>
                    <a:lnTo>
                      <a:pt x="2403" y="1467"/>
                    </a:lnTo>
                    <a:lnTo>
                      <a:pt x="2403" y="1377"/>
                    </a:lnTo>
                    <a:lnTo>
                      <a:pt x="2430" y="1296"/>
                    </a:lnTo>
                    <a:lnTo>
                      <a:pt x="2475" y="1215"/>
                    </a:lnTo>
                    <a:lnTo>
                      <a:pt x="2511" y="1233"/>
                    </a:lnTo>
                    <a:lnTo>
                      <a:pt x="2538" y="1305"/>
                    </a:lnTo>
                    <a:lnTo>
                      <a:pt x="2583" y="1395"/>
                    </a:lnTo>
                    <a:lnTo>
                      <a:pt x="2610" y="1557"/>
                    </a:lnTo>
                    <a:lnTo>
                      <a:pt x="2628" y="1656"/>
                    </a:lnTo>
                    <a:lnTo>
                      <a:pt x="2664" y="1809"/>
                    </a:lnTo>
                    <a:lnTo>
                      <a:pt x="2664" y="1971"/>
                    </a:lnTo>
                    <a:lnTo>
                      <a:pt x="2646" y="2079"/>
                    </a:lnTo>
                    <a:lnTo>
                      <a:pt x="2628" y="2196"/>
                    </a:lnTo>
                    <a:lnTo>
                      <a:pt x="2619" y="2304"/>
                    </a:lnTo>
                    <a:lnTo>
                      <a:pt x="2601" y="2376"/>
                    </a:lnTo>
                    <a:lnTo>
                      <a:pt x="2592" y="2439"/>
                    </a:lnTo>
                    <a:lnTo>
                      <a:pt x="2574" y="2502"/>
                    </a:lnTo>
                    <a:lnTo>
                      <a:pt x="2547" y="257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200a00"/>
                  </a:gs>
                </a:gsLst>
                <a:lin ang="5400000"/>
              </a:gra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3367080" y="2772000"/>
                <a:ext cx="195120" cy="190440"/>
                <a:chOff x="3367080" y="2772000"/>
                <a:chExt cx="195120" cy="1904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3367080" y="2772000"/>
                  <a:ext cx="180720" cy="118800"/>
                </a:xfrm>
                <a:custGeom>
                  <a:avLst/>
                  <a:gdLst/>
                  <a:ahLst/>
                  <a:rect l="l" t="t" r="r" b="b"/>
                  <a:pathLst>
                    <a:path w="114" h="75">
                      <a:moveTo>
                        <a:pt x="72" y="0"/>
                      </a:moveTo>
                      <a:lnTo>
                        <a:pt x="39" y="0"/>
                      </a:lnTo>
                      <a:lnTo>
                        <a:pt x="18" y="9"/>
                      </a:lnTo>
                      <a:lnTo>
                        <a:pt x="0" y="33"/>
                      </a:lnTo>
                      <a:lnTo>
                        <a:pt x="3" y="54"/>
                      </a:lnTo>
                      <a:lnTo>
                        <a:pt x="21" y="72"/>
                      </a:lnTo>
                      <a:lnTo>
                        <a:pt x="60" y="75"/>
                      </a:lnTo>
                      <a:lnTo>
                        <a:pt x="93" y="60"/>
                      </a:lnTo>
                      <a:lnTo>
                        <a:pt x="108" y="33"/>
                      </a:lnTo>
                      <a:lnTo>
                        <a:pt x="114" y="21"/>
                      </a:lnTo>
                      <a:lnTo>
                        <a:pt x="99" y="9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a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404880" y="2791080"/>
                  <a:ext cx="100080" cy="9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3300"/>
                    </a:gs>
                    <a:gs pos="100000">
                      <a:srgbClr val="200a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449520" y="2810160"/>
                  <a:ext cx="55440" cy="50760"/>
                </a:xfrm>
                <a:custGeom>
                  <a:avLst/>
                  <a:gdLst/>
                  <a:ahLst/>
                  <a:rect l="l" t="t" r="r" b="b"/>
                  <a:pathLst>
                    <a:path w="35" h="32">
                      <a:moveTo>
                        <a:pt x="0" y="20"/>
                      </a:moveTo>
                      <a:lnTo>
                        <a:pt x="35" y="32"/>
                      </a:lnTo>
                      <a:lnTo>
                        <a:pt x="35" y="12"/>
                      </a:lnTo>
                      <a:lnTo>
                        <a:pt x="27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a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390840" y="2895840"/>
                  <a:ext cx="171360" cy="66600"/>
                </a:xfrm>
                <a:custGeom>
                  <a:avLst/>
                  <a:gdLst/>
                  <a:ahLst/>
                  <a:rect l="l" t="t" r="r" b="b"/>
                  <a:pathLst>
                    <a:path w="108" h="42">
                      <a:moveTo>
                        <a:pt x="0" y="36"/>
                      </a:moveTo>
                      <a:lnTo>
                        <a:pt x="36" y="42"/>
                      </a:lnTo>
                      <a:lnTo>
                        <a:pt x="81" y="30"/>
                      </a:lnTo>
                      <a:lnTo>
                        <a:pt x="108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a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323800" y="3381480"/>
                <a:ext cx="555840" cy="231840"/>
                <a:chOff x="2323800" y="3381480"/>
                <a:chExt cx="555840" cy="2318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538360" y="3390840"/>
                  <a:ext cx="212760" cy="146160"/>
                </a:xfrm>
                <a:custGeom>
                  <a:avLst/>
                  <a:gdLst/>
                  <a:ahLst/>
                  <a:rect l="l" t="t" r="r" b="b"/>
                  <a:pathLst>
                    <a:path w="134" h="92">
                      <a:moveTo>
                        <a:pt x="112" y="0"/>
                      </a:moveTo>
                      <a:lnTo>
                        <a:pt x="80" y="23"/>
                      </a:lnTo>
                      <a:lnTo>
                        <a:pt x="48" y="33"/>
                      </a:lnTo>
                      <a:lnTo>
                        <a:pt x="29" y="33"/>
                      </a:lnTo>
                      <a:lnTo>
                        <a:pt x="13" y="36"/>
                      </a:lnTo>
                      <a:lnTo>
                        <a:pt x="6" y="43"/>
                      </a:lnTo>
                      <a:lnTo>
                        <a:pt x="0" y="56"/>
                      </a:lnTo>
                      <a:lnTo>
                        <a:pt x="0" y="72"/>
                      </a:lnTo>
                      <a:lnTo>
                        <a:pt x="13" y="85"/>
                      </a:lnTo>
                      <a:lnTo>
                        <a:pt x="45" y="92"/>
                      </a:lnTo>
                      <a:lnTo>
                        <a:pt x="70" y="89"/>
                      </a:lnTo>
                      <a:lnTo>
                        <a:pt x="105" y="69"/>
                      </a:lnTo>
                      <a:lnTo>
                        <a:pt x="128" y="43"/>
                      </a:lnTo>
                      <a:lnTo>
                        <a:pt x="134" y="7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a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352600" y="3438720"/>
                  <a:ext cx="527040" cy="174600"/>
                </a:xfrm>
                <a:custGeom>
                  <a:avLst/>
                  <a:gdLst/>
                  <a:ahLst/>
                  <a:rect l="l" t="t" r="r" b="b"/>
                  <a:pathLst>
                    <a:path w="332" h="110">
                      <a:moveTo>
                        <a:pt x="0" y="71"/>
                      </a:moveTo>
                      <a:lnTo>
                        <a:pt x="18" y="55"/>
                      </a:lnTo>
                      <a:lnTo>
                        <a:pt x="40" y="61"/>
                      </a:lnTo>
                      <a:lnTo>
                        <a:pt x="49" y="81"/>
                      </a:lnTo>
                      <a:lnTo>
                        <a:pt x="65" y="94"/>
                      </a:lnTo>
                      <a:lnTo>
                        <a:pt x="111" y="97"/>
                      </a:lnTo>
                      <a:lnTo>
                        <a:pt x="172" y="87"/>
                      </a:lnTo>
                      <a:lnTo>
                        <a:pt x="215" y="74"/>
                      </a:lnTo>
                      <a:lnTo>
                        <a:pt x="258" y="58"/>
                      </a:lnTo>
                      <a:lnTo>
                        <a:pt x="292" y="39"/>
                      </a:lnTo>
                      <a:lnTo>
                        <a:pt x="332" y="0"/>
                      </a:lnTo>
                      <a:lnTo>
                        <a:pt x="295" y="52"/>
                      </a:lnTo>
                      <a:lnTo>
                        <a:pt x="258" y="78"/>
                      </a:lnTo>
                      <a:lnTo>
                        <a:pt x="209" y="91"/>
                      </a:lnTo>
                      <a:lnTo>
                        <a:pt x="166" y="104"/>
                      </a:lnTo>
                      <a:lnTo>
                        <a:pt x="111" y="107"/>
                      </a:lnTo>
                      <a:lnTo>
                        <a:pt x="77" y="110"/>
                      </a:lnTo>
                      <a:lnTo>
                        <a:pt x="43" y="107"/>
                      </a:lnTo>
                      <a:lnTo>
                        <a:pt x="25" y="100"/>
                      </a:lnTo>
                      <a:lnTo>
                        <a:pt x="6" y="91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a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323800" y="3381480"/>
                  <a:ext cx="93960" cy="122400"/>
                </a:xfrm>
                <a:custGeom>
                  <a:avLst/>
                  <a:gdLst/>
                  <a:ahLst/>
                  <a:rect l="l" t="t" r="r" b="b"/>
                  <a:pathLst>
                    <a:path w="59" h="77">
                      <a:moveTo>
                        <a:pt x="42" y="30"/>
                      </a:moveTo>
                      <a:lnTo>
                        <a:pt x="59" y="54"/>
                      </a:lnTo>
                      <a:lnTo>
                        <a:pt x="59" y="74"/>
                      </a:lnTo>
                      <a:lnTo>
                        <a:pt x="35" y="77"/>
                      </a:lnTo>
                      <a:lnTo>
                        <a:pt x="10" y="64"/>
                      </a:lnTo>
                      <a:lnTo>
                        <a:pt x="0" y="33"/>
                      </a:lnTo>
                      <a:lnTo>
                        <a:pt x="3" y="7"/>
                      </a:lnTo>
                      <a:lnTo>
                        <a:pt x="17" y="0"/>
                      </a:lnTo>
                      <a:lnTo>
                        <a:pt x="42" y="3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a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3657600" y="3124440"/>
                <a:ext cx="380880" cy="419040"/>
              </a:xfrm>
              <a:custGeom>
                <a:avLst/>
                <a:gdLst/>
                <a:ahLst/>
                <a:rect l="l" t="t" r="r" b="b"/>
                <a:pathLst>
                  <a:path w="240" h="264">
                    <a:moveTo>
                      <a:pt x="240" y="0"/>
                    </a:moveTo>
                    <a:lnTo>
                      <a:pt x="192" y="108"/>
                    </a:lnTo>
                    <a:lnTo>
                      <a:pt x="72" y="192"/>
                    </a:lnTo>
                    <a:lnTo>
                      <a:pt x="12" y="228"/>
                    </a:lnTo>
                    <a:lnTo>
                      <a:pt x="0" y="264"/>
                    </a:lnTo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200a00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76880" y="4057920"/>
                <a:ext cx="152280" cy="342720"/>
              </a:xfrm>
              <a:custGeom>
                <a:avLst/>
                <a:gdLst/>
                <a:ahLst/>
                <a:rect l="l" t="t" r="r" b="b"/>
                <a:pathLst>
                  <a:path w="96" h="216">
                    <a:moveTo>
                      <a:pt x="0" y="216"/>
                    </a:moveTo>
                    <a:lnTo>
                      <a:pt x="36" y="132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200a00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34080" y="4162680"/>
                <a:ext cx="485640" cy="218880"/>
              </a:xfrm>
              <a:custGeom>
                <a:avLst/>
                <a:gdLst/>
                <a:ahLst/>
                <a:rect l="l" t="t" r="r" b="b"/>
                <a:pathLst>
                  <a:path w="306" h="138">
                    <a:moveTo>
                      <a:pt x="0" y="138"/>
                    </a:moveTo>
                    <a:lnTo>
                      <a:pt x="144" y="102"/>
                    </a:lnTo>
                    <a:lnTo>
                      <a:pt x="240" y="54"/>
                    </a:lnTo>
                    <a:lnTo>
                      <a:pt x="306" y="0"/>
                    </a:lnTo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200a00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4457520" y="6058080"/>
                <a:ext cx="2203560" cy="284040"/>
                <a:chOff x="4457520" y="6058080"/>
                <a:chExt cx="2203560" cy="2840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457520" y="6148440"/>
                  <a:ext cx="303120" cy="165240"/>
                </a:xfrm>
                <a:custGeom>
                  <a:avLst/>
                  <a:gdLst/>
                  <a:ahLst/>
                  <a:rect l="l" t="t" r="r" b="b"/>
                  <a:pathLst>
                    <a:path w="191" h="104">
                      <a:moveTo>
                        <a:pt x="31" y="13"/>
                      </a:moveTo>
                      <a:lnTo>
                        <a:pt x="31" y="33"/>
                      </a:lnTo>
                      <a:lnTo>
                        <a:pt x="28" y="55"/>
                      </a:lnTo>
                      <a:lnTo>
                        <a:pt x="0" y="85"/>
                      </a:lnTo>
                      <a:lnTo>
                        <a:pt x="31" y="104"/>
                      </a:lnTo>
                      <a:lnTo>
                        <a:pt x="50" y="104"/>
                      </a:lnTo>
                      <a:lnTo>
                        <a:pt x="150" y="91"/>
                      </a:lnTo>
                      <a:lnTo>
                        <a:pt x="191" y="46"/>
                      </a:lnTo>
                      <a:lnTo>
                        <a:pt x="169" y="0"/>
                      </a:lnTo>
                      <a:lnTo>
                        <a:pt x="106" y="10"/>
                      </a:lnTo>
                      <a:lnTo>
                        <a:pt x="85" y="68"/>
                      </a:lnTo>
                      <a:lnTo>
                        <a:pt x="69" y="68"/>
                      </a:lnTo>
                      <a:lnTo>
                        <a:pt x="85" y="10"/>
                      </a:lnTo>
                      <a:lnTo>
                        <a:pt x="31" y="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a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771800" y="6124680"/>
                  <a:ext cx="260280" cy="146160"/>
                </a:xfrm>
                <a:custGeom>
                  <a:avLst/>
                  <a:gdLst/>
                  <a:ahLst/>
                  <a:rect l="l" t="t" r="r" b="b"/>
                  <a:pathLst>
                    <a:path w="164" h="92">
                      <a:moveTo>
                        <a:pt x="19" y="16"/>
                      </a:moveTo>
                      <a:lnTo>
                        <a:pt x="19" y="62"/>
                      </a:lnTo>
                      <a:lnTo>
                        <a:pt x="0" y="85"/>
                      </a:lnTo>
                      <a:lnTo>
                        <a:pt x="6" y="92"/>
                      </a:lnTo>
                      <a:lnTo>
                        <a:pt x="98" y="92"/>
                      </a:lnTo>
                      <a:lnTo>
                        <a:pt x="151" y="76"/>
                      </a:lnTo>
                      <a:lnTo>
                        <a:pt x="164" y="20"/>
                      </a:lnTo>
                      <a:lnTo>
                        <a:pt x="164" y="0"/>
                      </a:lnTo>
                      <a:lnTo>
                        <a:pt x="79" y="13"/>
                      </a:lnTo>
                      <a:lnTo>
                        <a:pt x="76" y="62"/>
                      </a:lnTo>
                      <a:lnTo>
                        <a:pt x="50" y="62"/>
                      </a:lnTo>
                      <a:lnTo>
                        <a:pt x="60" y="16"/>
                      </a:lnTo>
                      <a:lnTo>
                        <a:pt x="19" y="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a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329080" y="6058080"/>
                  <a:ext cx="322200" cy="155520"/>
                </a:xfrm>
                <a:custGeom>
                  <a:avLst/>
                  <a:gdLst/>
                  <a:ahLst/>
                  <a:rect l="l" t="t" r="r" b="b"/>
                  <a:pathLst>
                    <a:path w="203" h="98">
                      <a:moveTo>
                        <a:pt x="19" y="0"/>
                      </a:moveTo>
                      <a:lnTo>
                        <a:pt x="0" y="23"/>
                      </a:lnTo>
                      <a:lnTo>
                        <a:pt x="0" y="59"/>
                      </a:lnTo>
                      <a:lnTo>
                        <a:pt x="66" y="98"/>
                      </a:lnTo>
                      <a:lnTo>
                        <a:pt x="166" y="91"/>
                      </a:lnTo>
                      <a:lnTo>
                        <a:pt x="191" y="72"/>
                      </a:lnTo>
                      <a:lnTo>
                        <a:pt x="203" y="29"/>
                      </a:lnTo>
                      <a:lnTo>
                        <a:pt x="203" y="7"/>
                      </a:lnTo>
                      <a:lnTo>
                        <a:pt x="103" y="10"/>
                      </a:lnTo>
                      <a:lnTo>
                        <a:pt x="87" y="59"/>
                      </a:lnTo>
                      <a:lnTo>
                        <a:pt x="59" y="56"/>
                      </a:lnTo>
                      <a:lnTo>
                        <a:pt x="87" y="1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a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333840" y="6210360"/>
                  <a:ext cx="327240" cy="131760"/>
                </a:xfrm>
                <a:custGeom>
                  <a:avLst/>
                  <a:gdLst/>
                  <a:ahLst/>
                  <a:rect l="l" t="t" r="r" b="b"/>
                  <a:pathLst>
                    <a:path w="206" h="83">
                      <a:moveTo>
                        <a:pt x="22" y="3"/>
                      </a:moveTo>
                      <a:lnTo>
                        <a:pt x="0" y="73"/>
                      </a:lnTo>
                      <a:lnTo>
                        <a:pt x="87" y="83"/>
                      </a:lnTo>
                      <a:lnTo>
                        <a:pt x="181" y="76"/>
                      </a:lnTo>
                      <a:lnTo>
                        <a:pt x="206" y="43"/>
                      </a:lnTo>
                      <a:lnTo>
                        <a:pt x="206" y="0"/>
                      </a:lnTo>
                      <a:lnTo>
                        <a:pt x="100" y="3"/>
                      </a:lnTo>
                      <a:lnTo>
                        <a:pt x="94" y="56"/>
                      </a:lnTo>
                      <a:lnTo>
                        <a:pt x="72" y="56"/>
                      </a:lnTo>
                      <a:lnTo>
                        <a:pt x="78" y="7"/>
                      </a:lnTo>
                      <a:lnTo>
                        <a:pt x="22" y="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200a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5" name=""/>
            <p:cNvSpPr/>
            <p:nvPr/>
          </p:nvSpPr>
          <p:spPr>
            <a:xfrm>
              <a:off x="3781440" y="2052720"/>
              <a:ext cx="442800" cy="504720"/>
            </a:xfrm>
            <a:custGeom>
              <a:avLst/>
              <a:gdLst/>
              <a:ahLst/>
              <a:rect l="l" t="t" r="r" b="b"/>
              <a:pathLst>
                <a:path w="279" h="318">
                  <a:moveTo>
                    <a:pt x="0" y="318"/>
                  </a:moveTo>
                  <a:lnTo>
                    <a:pt x="39" y="249"/>
                  </a:lnTo>
                  <a:lnTo>
                    <a:pt x="99" y="174"/>
                  </a:lnTo>
                  <a:lnTo>
                    <a:pt x="171" y="108"/>
                  </a:lnTo>
                  <a:lnTo>
                    <a:pt x="216" y="75"/>
                  </a:lnTo>
                  <a:lnTo>
                    <a:pt x="252" y="24"/>
                  </a:lnTo>
                  <a:lnTo>
                    <a:pt x="261" y="6"/>
                  </a:lnTo>
                  <a:lnTo>
                    <a:pt x="276" y="0"/>
                  </a:lnTo>
                  <a:lnTo>
                    <a:pt x="279" y="36"/>
                  </a:lnTo>
                  <a:lnTo>
                    <a:pt x="273" y="81"/>
                  </a:lnTo>
                  <a:lnTo>
                    <a:pt x="264" y="147"/>
                  </a:lnTo>
                  <a:lnTo>
                    <a:pt x="246" y="222"/>
                  </a:lnTo>
                  <a:lnTo>
                    <a:pt x="225" y="315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4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605040" y="1676520"/>
              <a:ext cx="1481040" cy="1023840"/>
              <a:chOff x="3605040" y="1676520"/>
              <a:chExt cx="1481040" cy="1023840"/>
            </a:xfrm>
          </p:grpSpPr>
          <p:sp>
            <p:nvSpPr>
              <p:cNvPr id="187" name=""/>
              <p:cNvSpPr/>
              <p:nvPr/>
            </p:nvSpPr>
            <p:spPr>
              <a:xfrm>
                <a:off x="3605040" y="1676520"/>
                <a:ext cx="1481040" cy="1023840"/>
              </a:xfrm>
              <a:custGeom>
                <a:avLst/>
                <a:gdLst/>
                <a:ahLst/>
                <a:rect l="l" t="t" r="r" b="b"/>
                <a:pathLst>
                  <a:path w="933" h="645">
                    <a:moveTo>
                      <a:pt x="18" y="297"/>
                    </a:moveTo>
                    <a:lnTo>
                      <a:pt x="3" y="354"/>
                    </a:lnTo>
                    <a:lnTo>
                      <a:pt x="0" y="408"/>
                    </a:lnTo>
                    <a:lnTo>
                      <a:pt x="9" y="450"/>
                    </a:lnTo>
                    <a:lnTo>
                      <a:pt x="21" y="501"/>
                    </a:lnTo>
                    <a:lnTo>
                      <a:pt x="45" y="549"/>
                    </a:lnTo>
                    <a:lnTo>
                      <a:pt x="78" y="588"/>
                    </a:lnTo>
                    <a:lnTo>
                      <a:pt x="129" y="618"/>
                    </a:lnTo>
                    <a:lnTo>
                      <a:pt x="171" y="618"/>
                    </a:lnTo>
                    <a:lnTo>
                      <a:pt x="204" y="606"/>
                    </a:lnTo>
                    <a:lnTo>
                      <a:pt x="219" y="606"/>
                    </a:lnTo>
                    <a:lnTo>
                      <a:pt x="228" y="627"/>
                    </a:lnTo>
                    <a:lnTo>
                      <a:pt x="255" y="642"/>
                    </a:lnTo>
                    <a:lnTo>
                      <a:pt x="297" y="633"/>
                    </a:lnTo>
                    <a:lnTo>
                      <a:pt x="330" y="627"/>
                    </a:lnTo>
                    <a:lnTo>
                      <a:pt x="357" y="633"/>
                    </a:lnTo>
                    <a:lnTo>
                      <a:pt x="396" y="645"/>
                    </a:lnTo>
                    <a:lnTo>
                      <a:pt x="429" y="645"/>
                    </a:lnTo>
                    <a:lnTo>
                      <a:pt x="450" y="639"/>
                    </a:lnTo>
                    <a:lnTo>
                      <a:pt x="471" y="615"/>
                    </a:lnTo>
                    <a:lnTo>
                      <a:pt x="489" y="576"/>
                    </a:lnTo>
                    <a:lnTo>
                      <a:pt x="501" y="564"/>
                    </a:lnTo>
                    <a:lnTo>
                      <a:pt x="525" y="555"/>
                    </a:lnTo>
                    <a:lnTo>
                      <a:pt x="579" y="537"/>
                    </a:lnTo>
                    <a:lnTo>
                      <a:pt x="666" y="495"/>
                    </a:lnTo>
                    <a:lnTo>
                      <a:pt x="735" y="426"/>
                    </a:lnTo>
                    <a:lnTo>
                      <a:pt x="801" y="354"/>
                    </a:lnTo>
                    <a:lnTo>
                      <a:pt x="837" y="285"/>
                    </a:lnTo>
                    <a:lnTo>
                      <a:pt x="861" y="231"/>
                    </a:lnTo>
                    <a:lnTo>
                      <a:pt x="864" y="201"/>
                    </a:lnTo>
                    <a:lnTo>
                      <a:pt x="885" y="180"/>
                    </a:lnTo>
                    <a:lnTo>
                      <a:pt x="921" y="126"/>
                    </a:lnTo>
                    <a:lnTo>
                      <a:pt x="933" y="81"/>
                    </a:lnTo>
                    <a:lnTo>
                      <a:pt x="930" y="51"/>
                    </a:lnTo>
                    <a:lnTo>
                      <a:pt x="912" y="66"/>
                    </a:lnTo>
                    <a:lnTo>
                      <a:pt x="906" y="66"/>
                    </a:lnTo>
                    <a:lnTo>
                      <a:pt x="894" y="30"/>
                    </a:lnTo>
                    <a:lnTo>
                      <a:pt x="873" y="54"/>
                    </a:lnTo>
                    <a:lnTo>
                      <a:pt x="861" y="51"/>
                    </a:lnTo>
                    <a:lnTo>
                      <a:pt x="846" y="6"/>
                    </a:lnTo>
                    <a:lnTo>
                      <a:pt x="834" y="0"/>
                    </a:lnTo>
                    <a:lnTo>
                      <a:pt x="828" y="45"/>
                    </a:lnTo>
                    <a:lnTo>
                      <a:pt x="831" y="75"/>
                    </a:lnTo>
                    <a:lnTo>
                      <a:pt x="822" y="96"/>
                    </a:lnTo>
                    <a:lnTo>
                      <a:pt x="813" y="111"/>
                    </a:lnTo>
                    <a:lnTo>
                      <a:pt x="798" y="108"/>
                    </a:lnTo>
                    <a:lnTo>
                      <a:pt x="798" y="96"/>
                    </a:lnTo>
                    <a:lnTo>
                      <a:pt x="783" y="123"/>
                    </a:lnTo>
                    <a:lnTo>
                      <a:pt x="759" y="150"/>
                    </a:lnTo>
                    <a:lnTo>
                      <a:pt x="744" y="156"/>
                    </a:lnTo>
                    <a:lnTo>
                      <a:pt x="735" y="138"/>
                    </a:lnTo>
                    <a:lnTo>
                      <a:pt x="726" y="153"/>
                    </a:lnTo>
                    <a:lnTo>
                      <a:pt x="714" y="168"/>
                    </a:lnTo>
                    <a:lnTo>
                      <a:pt x="702" y="171"/>
                    </a:lnTo>
                    <a:lnTo>
                      <a:pt x="690" y="171"/>
                    </a:lnTo>
                    <a:lnTo>
                      <a:pt x="681" y="150"/>
                    </a:lnTo>
                    <a:lnTo>
                      <a:pt x="654" y="105"/>
                    </a:lnTo>
                    <a:lnTo>
                      <a:pt x="651" y="102"/>
                    </a:lnTo>
                    <a:lnTo>
                      <a:pt x="654" y="174"/>
                    </a:lnTo>
                    <a:lnTo>
                      <a:pt x="654" y="228"/>
                    </a:lnTo>
                    <a:lnTo>
                      <a:pt x="645" y="270"/>
                    </a:lnTo>
                    <a:lnTo>
                      <a:pt x="636" y="306"/>
                    </a:lnTo>
                    <a:lnTo>
                      <a:pt x="618" y="339"/>
                    </a:lnTo>
                    <a:lnTo>
                      <a:pt x="606" y="360"/>
                    </a:lnTo>
                    <a:lnTo>
                      <a:pt x="582" y="390"/>
                    </a:lnTo>
                    <a:lnTo>
                      <a:pt x="558" y="408"/>
                    </a:lnTo>
                    <a:lnTo>
                      <a:pt x="513" y="429"/>
                    </a:lnTo>
                    <a:lnTo>
                      <a:pt x="495" y="435"/>
                    </a:lnTo>
                    <a:lnTo>
                      <a:pt x="495" y="396"/>
                    </a:lnTo>
                    <a:lnTo>
                      <a:pt x="495" y="366"/>
                    </a:lnTo>
                    <a:lnTo>
                      <a:pt x="486" y="333"/>
                    </a:lnTo>
                    <a:lnTo>
                      <a:pt x="474" y="300"/>
                    </a:lnTo>
                    <a:lnTo>
                      <a:pt x="468" y="324"/>
                    </a:lnTo>
                    <a:lnTo>
                      <a:pt x="465" y="348"/>
                    </a:lnTo>
                    <a:lnTo>
                      <a:pt x="465" y="381"/>
                    </a:lnTo>
                    <a:lnTo>
                      <a:pt x="459" y="408"/>
                    </a:lnTo>
                    <a:lnTo>
                      <a:pt x="456" y="468"/>
                    </a:lnTo>
                    <a:lnTo>
                      <a:pt x="450" y="489"/>
                    </a:lnTo>
                    <a:lnTo>
                      <a:pt x="423" y="510"/>
                    </a:lnTo>
                    <a:lnTo>
                      <a:pt x="390" y="522"/>
                    </a:lnTo>
                    <a:lnTo>
                      <a:pt x="366" y="528"/>
                    </a:lnTo>
                    <a:lnTo>
                      <a:pt x="342" y="528"/>
                    </a:lnTo>
                    <a:lnTo>
                      <a:pt x="318" y="528"/>
                    </a:lnTo>
                    <a:lnTo>
                      <a:pt x="303" y="510"/>
                    </a:lnTo>
                    <a:lnTo>
                      <a:pt x="288" y="444"/>
                    </a:lnTo>
                    <a:lnTo>
                      <a:pt x="279" y="330"/>
                    </a:lnTo>
                    <a:lnTo>
                      <a:pt x="276" y="246"/>
                    </a:lnTo>
                    <a:lnTo>
                      <a:pt x="267" y="186"/>
                    </a:lnTo>
                    <a:lnTo>
                      <a:pt x="252" y="237"/>
                    </a:lnTo>
                    <a:lnTo>
                      <a:pt x="246" y="288"/>
                    </a:lnTo>
                    <a:lnTo>
                      <a:pt x="240" y="366"/>
                    </a:lnTo>
                    <a:lnTo>
                      <a:pt x="234" y="426"/>
                    </a:lnTo>
                    <a:lnTo>
                      <a:pt x="225" y="474"/>
                    </a:lnTo>
                    <a:lnTo>
                      <a:pt x="213" y="507"/>
                    </a:lnTo>
                    <a:lnTo>
                      <a:pt x="186" y="534"/>
                    </a:lnTo>
                    <a:lnTo>
                      <a:pt x="147" y="537"/>
                    </a:lnTo>
                    <a:lnTo>
                      <a:pt x="120" y="522"/>
                    </a:lnTo>
                    <a:lnTo>
                      <a:pt x="75" y="474"/>
                    </a:lnTo>
                    <a:lnTo>
                      <a:pt x="60" y="444"/>
                    </a:lnTo>
                    <a:lnTo>
                      <a:pt x="42" y="408"/>
                    </a:lnTo>
                    <a:lnTo>
                      <a:pt x="18" y="297"/>
                    </a:lnTo>
                    <a:close/>
                  </a:path>
                </a:pathLst>
              </a:custGeom>
              <a:solidFill>
                <a:srgbClr val="40404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948120" y="2471760"/>
                <a:ext cx="25200" cy="190440"/>
              </a:xfrm>
              <a:custGeom>
                <a:avLst/>
                <a:gdLst/>
                <a:ahLst/>
                <a:rect l="l" t="t" r="r" b="b"/>
                <a:pathLst>
                  <a:path w="16" h="120">
                    <a:moveTo>
                      <a:pt x="4" y="0"/>
                    </a:moveTo>
                    <a:lnTo>
                      <a:pt x="0" y="48"/>
                    </a:lnTo>
                    <a:lnTo>
                      <a:pt x="16" y="12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381200" y="2357640"/>
                <a:ext cx="9720" cy="233280"/>
              </a:xfrm>
              <a:custGeom>
                <a:avLst/>
                <a:gdLst/>
                <a:ahLst/>
                <a:rect l="l" t="t" r="r" b="b"/>
                <a:pathLst>
                  <a:path w="6" h="147">
                    <a:moveTo>
                      <a:pt x="6" y="0"/>
                    </a:moveTo>
                    <a:lnTo>
                      <a:pt x="6" y="60"/>
                    </a:lnTo>
                    <a:lnTo>
                      <a:pt x="6" y="111"/>
                    </a:lnTo>
                    <a:lnTo>
                      <a:pt x="0" y="14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705200" y="1771920"/>
                <a:ext cx="219240" cy="252360"/>
              </a:xfrm>
              <a:custGeom>
                <a:avLst/>
                <a:gdLst/>
                <a:ahLst/>
                <a:rect l="l" t="t" r="r" b="b"/>
                <a:pathLst>
                  <a:path w="138" h="159">
                    <a:moveTo>
                      <a:pt x="0" y="111"/>
                    </a:moveTo>
                    <a:lnTo>
                      <a:pt x="18" y="138"/>
                    </a:lnTo>
                    <a:lnTo>
                      <a:pt x="48" y="156"/>
                    </a:lnTo>
                    <a:lnTo>
                      <a:pt x="84" y="159"/>
                    </a:lnTo>
                    <a:lnTo>
                      <a:pt x="108" y="144"/>
                    </a:lnTo>
                    <a:lnTo>
                      <a:pt x="126" y="108"/>
                    </a:lnTo>
                    <a:lnTo>
                      <a:pt x="138" y="63"/>
                    </a:lnTo>
                    <a:lnTo>
                      <a:pt x="13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390920" y="1971720"/>
                <a:ext cx="280800" cy="452520"/>
              </a:xfrm>
              <a:custGeom>
                <a:avLst/>
                <a:gdLst/>
                <a:ahLst/>
                <a:rect l="l" t="t" r="r" b="b"/>
                <a:pathLst>
                  <a:path w="177" h="285">
                    <a:moveTo>
                      <a:pt x="165" y="0"/>
                    </a:moveTo>
                    <a:lnTo>
                      <a:pt x="177" y="51"/>
                    </a:lnTo>
                    <a:lnTo>
                      <a:pt x="174" y="96"/>
                    </a:lnTo>
                    <a:lnTo>
                      <a:pt x="159" y="159"/>
                    </a:lnTo>
                    <a:lnTo>
                      <a:pt x="138" y="213"/>
                    </a:lnTo>
                    <a:lnTo>
                      <a:pt x="84" y="249"/>
                    </a:lnTo>
                    <a:lnTo>
                      <a:pt x="21" y="282"/>
                    </a:lnTo>
                    <a:lnTo>
                      <a:pt x="0" y="28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962240" y="1771920"/>
                <a:ext cx="90720" cy="123840"/>
              </a:xfrm>
              <a:custGeom>
                <a:avLst/>
                <a:gdLst/>
                <a:ahLst/>
                <a:rect l="l" t="t" r="r" b="b"/>
                <a:pathLst>
                  <a:path w="57" h="78">
                    <a:moveTo>
                      <a:pt x="9" y="0"/>
                    </a:moveTo>
                    <a:lnTo>
                      <a:pt x="12" y="42"/>
                    </a:lnTo>
                    <a:lnTo>
                      <a:pt x="0" y="78"/>
                    </a:lnTo>
                    <a:lnTo>
                      <a:pt x="30" y="42"/>
                    </a:lnTo>
                    <a:lnTo>
                      <a:pt x="57" y="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457200"/>
            <a:ext cx="8001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ahoma"/>
              </a:rPr>
              <a:t>МЕДВЕДЬ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933480" y="2610000"/>
            <a:ext cx="7461360" cy="3809880"/>
            <a:chOff x="933480" y="2610000"/>
            <a:chExt cx="7461360" cy="3809880"/>
          </a:xfrm>
        </p:grpSpPr>
        <p:sp>
          <p:nvSpPr>
            <p:cNvPr id="195" name=""/>
            <p:cNvSpPr/>
            <p:nvPr/>
          </p:nvSpPr>
          <p:spPr>
            <a:xfrm>
              <a:off x="933480" y="2610000"/>
              <a:ext cx="7448400" cy="3809880"/>
            </a:xfrm>
            <a:custGeom>
              <a:avLst/>
              <a:gdLst/>
              <a:ahLst/>
              <a:rect l="l" t="t" r="r" b="b"/>
              <a:pathLst>
                <a:path w="4692" h="2400">
                  <a:moveTo>
                    <a:pt x="12" y="2184"/>
                  </a:moveTo>
                  <a:lnTo>
                    <a:pt x="0" y="2124"/>
                  </a:lnTo>
                  <a:lnTo>
                    <a:pt x="36" y="2040"/>
                  </a:lnTo>
                  <a:lnTo>
                    <a:pt x="120" y="1920"/>
                  </a:lnTo>
                  <a:lnTo>
                    <a:pt x="156" y="1788"/>
                  </a:lnTo>
                  <a:lnTo>
                    <a:pt x="180" y="1680"/>
                  </a:lnTo>
                  <a:lnTo>
                    <a:pt x="228" y="1404"/>
                  </a:lnTo>
                  <a:lnTo>
                    <a:pt x="252" y="1212"/>
                  </a:lnTo>
                  <a:lnTo>
                    <a:pt x="252" y="1080"/>
                  </a:lnTo>
                  <a:lnTo>
                    <a:pt x="228" y="960"/>
                  </a:lnTo>
                  <a:lnTo>
                    <a:pt x="204" y="804"/>
                  </a:lnTo>
                  <a:lnTo>
                    <a:pt x="246" y="609"/>
                  </a:lnTo>
                  <a:lnTo>
                    <a:pt x="306" y="489"/>
                  </a:lnTo>
                  <a:lnTo>
                    <a:pt x="363" y="429"/>
                  </a:lnTo>
                  <a:lnTo>
                    <a:pt x="576" y="276"/>
                  </a:lnTo>
                  <a:lnTo>
                    <a:pt x="912" y="96"/>
                  </a:lnTo>
                  <a:lnTo>
                    <a:pt x="1149" y="21"/>
                  </a:lnTo>
                  <a:lnTo>
                    <a:pt x="1338" y="6"/>
                  </a:lnTo>
                  <a:lnTo>
                    <a:pt x="1500" y="0"/>
                  </a:lnTo>
                  <a:lnTo>
                    <a:pt x="1644" y="48"/>
                  </a:lnTo>
                  <a:lnTo>
                    <a:pt x="1746" y="69"/>
                  </a:lnTo>
                  <a:lnTo>
                    <a:pt x="1866" y="102"/>
                  </a:lnTo>
                  <a:lnTo>
                    <a:pt x="2040" y="144"/>
                  </a:lnTo>
                  <a:lnTo>
                    <a:pt x="2280" y="144"/>
                  </a:lnTo>
                  <a:lnTo>
                    <a:pt x="2496" y="120"/>
                  </a:lnTo>
                  <a:lnTo>
                    <a:pt x="2676" y="72"/>
                  </a:lnTo>
                  <a:lnTo>
                    <a:pt x="2832" y="60"/>
                  </a:lnTo>
                  <a:lnTo>
                    <a:pt x="3204" y="144"/>
                  </a:lnTo>
                  <a:lnTo>
                    <a:pt x="3528" y="240"/>
                  </a:lnTo>
                  <a:lnTo>
                    <a:pt x="4128" y="408"/>
                  </a:lnTo>
                  <a:lnTo>
                    <a:pt x="4320" y="486"/>
                  </a:lnTo>
                  <a:lnTo>
                    <a:pt x="4452" y="606"/>
                  </a:lnTo>
                  <a:lnTo>
                    <a:pt x="4560" y="804"/>
                  </a:lnTo>
                  <a:lnTo>
                    <a:pt x="4656" y="972"/>
                  </a:lnTo>
                  <a:lnTo>
                    <a:pt x="4692" y="1032"/>
                  </a:lnTo>
                  <a:lnTo>
                    <a:pt x="4671" y="1068"/>
                  </a:lnTo>
                  <a:lnTo>
                    <a:pt x="4638" y="1095"/>
                  </a:lnTo>
                  <a:lnTo>
                    <a:pt x="4596" y="1113"/>
                  </a:lnTo>
                  <a:lnTo>
                    <a:pt x="4554" y="1125"/>
                  </a:lnTo>
                  <a:lnTo>
                    <a:pt x="4512" y="1128"/>
                  </a:lnTo>
                  <a:lnTo>
                    <a:pt x="4461" y="1113"/>
                  </a:lnTo>
                  <a:lnTo>
                    <a:pt x="4413" y="1113"/>
                  </a:lnTo>
                  <a:lnTo>
                    <a:pt x="4350" y="1122"/>
                  </a:lnTo>
                  <a:lnTo>
                    <a:pt x="4410" y="1128"/>
                  </a:lnTo>
                  <a:lnTo>
                    <a:pt x="4449" y="1131"/>
                  </a:lnTo>
                  <a:lnTo>
                    <a:pt x="4542" y="1152"/>
                  </a:lnTo>
                  <a:lnTo>
                    <a:pt x="4539" y="1182"/>
                  </a:lnTo>
                  <a:lnTo>
                    <a:pt x="4488" y="1182"/>
                  </a:lnTo>
                  <a:lnTo>
                    <a:pt x="4407" y="1185"/>
                  </a:lnTo>
                  <a:lnTo>
                    <a:pt x="4323" y="1182"/>
                  </a:lnTo>
                  <a:lnTo>
                    <a:pt x="4248" y="1185"/>
                  </a:lnTo>
                  <a:lnTo>
                    <a:pt x="4158" y="1188"/>
                  </a:lnTo>
                  <a:lnTo>
                    <a:pt x="4008" y="1167"/>
                  </a:lnTo>
                  <a:lnTo>
                    <a:pt x="3828" y="1116"/>
                  </a:lnTo>
                  <a:lnTo>
                    <a:pt x="3768" y="1116"/>
                  </a:lnTo>
                  <a:lnTo>
                    <a:pt x="3636" y="1140"/>
                  </a:lnTo>
                  <a:lnTo>
                    <a:pt x="3588" y="1158"/>
                  </a:lnTo>
                  <a:lnTo>
                    <a:pt x="3528" y="1164"/>
                  </a:lnTo>
                  <a:lnTo>
                    <a:pt x="3480" y="1152"/>
                  </a:lnTo>
                  <a:lnTo>
                    <a:pt x="3444" y="1140"/>
                  </a:lnTo>
                  <a:lnTo>
                    <a:pt x="3420" y="1140"/>
                  </a:lnTo>
                  <a:lnTo>
                    <a:pt x="3372" y="1176"/>
                  </a:lnTo>
                  <a:lnTo>
                    <a:pt x="3360" y="1224"/>
                  </a:lnTo>
                  <a:lnTo>
                    <a:pt x="3360" y="1332"/>
                  </a:lnTo>
                  <a:lnTo>
                    <a:pt x="3384" y="1440"/>
                  </a:lnTo>
                  <a:lnTo>
                    <a:pt x="3414" y="1596"/>
                  </a:lnTo>
                  <a:lnTo>
                    <a:pt x="3438" y="1680"/>
                  </a:lnTo>
                  <a:lnTo>
                    <a:pt x="3486" y="1746"/>
                  </a:lnTo>
                  <a:lnTo>
                    <a:pt x="3552" y="1764"/>
                  </a:lnTo>
                  <a:lnTo>
                    <a:pt x="3636" y="1788"/>
                  </a:lnTo>
                  <a:lnTo>
                    <a:pt x="3720" y="1824"/>
                  </a:lnTo>
                  <a:lnTo>
                    <a:pt x="3762" y="1872"/>
                  </a:lnTo>
                  <a:lnTo>
                    <a:pt x="3756" y="1932"/>
                  </a:lnTo>
                  <a:lnTo>
                    <a:pt x="3672" y="1956"/>
                  </a:lnTo>
                  <a:lnTo>
                    <a:pt x="3588" y="1968"/>
                  </a:lnTo>
                  <a:lnTo>
                    <a:pt x="3372" y="1980"/>
                  </a:lnTo>
                  <a:lnTo>
                    <a:pt x="3264" y="1968"/>
                  </a:lnTo>
                  <a:lnTo>
                    <a:pt x="3168" y="1932"/>
                  </a:lnTo>
                  <a:lnTo>
                    <a:pt x="3072" y="1836"/>
                  </a:lnTo>
                  <a:lnTo>
                    <a:pt x="3018" y="1758"/>
                  </a:lnTo>
                  <a:lnTo>
                    <a:pt x="2976" y="1674"/>
                  </a:lnTo>
                  <a:lnTo>
                    <a:pt x="2940" y="1620"/>
                  </a:lnTo>
                  <a:lnTo>
                    <a:pt x="2928" y="1608"/>
                  </a:lnTo>
                  <a:lnTo>
                    <a:pt x="2892" y="1716"/>
                  </a:lnTo>
                  <a:lnTo>
                    <a:pt x="2880" y="1848"/>
                  </a:lnTo>
                  <a:lnTo>
                    <a:pt x="2916" y="1980"/>
                  </a:lnTo>
                  <a:lnTo>
                    <a:pt x="2976" y="2052"/>
                  </a:lnTo>
                  <a:lnTo>
                    <a:pt x="3072" y="2100"/>
                  </a:lnTo>
                  <a:lnTo>
                    <a:pt x="3156" y="2100"/>
                  </a:lnTo>
                  <a:lnTo>
                    <a:pt x="3216" y="2136"/>
                  </a:lnTo>
                  <a:lnTo>
                    <a:pt x="3252" y="2178"/>
                  </a:lnTo>
                  <a:lnTo>
                    <a:pt x="3234" y="2256"/>
                  </a:lnTo>
                  <a:lnTo>
                    <a:pt x="3168" y="2280"/>
                  </a:lnTo>
                  <a:lnTo>
                    <a:pt x="2892" y="2292"/>
                  </a:lnTo>
                  <a:lnTo>
                    <a:pt x="2748" y="2280"/>
                  </a:lnTo>
                  <a:lnTo>
                    <a:pt x="2664" y="2256"/>
                  </a:lnTo>
                  <a:lnTo>
                    <a:pt x="2562" y="2184"/>
                  </a:lnTo>
                  <a:lnTo>
                    <a:pt x="2460" y="2076"/>
                  </a:lnTo>
                  <a:lnTo>
                    <a:pt x="2376" y="2004"/>
                  </a:lnTo>
                  <a:lnTo>
                    <a:pt x="2256" y="1818"/>
                  </a:lnTo>
                  <a:lnTo>
                    <a:pt x="2166" y="1650"/>
                  </a:lnTo>
                  <a:lnTo>
                    <a:pt x="2124" y="1512"/>
                  </a:lnTo>
                  <a:lnTo>
                    <a:pt x="2064" y="1524"/>
                  </a:lnTo>
                  <a:lnTo>
                    <a:pt x="1968" y="1512"/>
                  </a:lnTo>
                  <a:lnTo>
                    <a:pt x="1848" y="1536"/>
                  </a:lnTo>
                  <a:lnTo>
                    <a:pt x="1692" y="1548"/>
                  </a:lnTo>
                  <a:lnTo>
                    <a:pt x="1644" y="1524"/>
                  </a:lnTo>
                  <a:lnTo>
                    <a:pt x="1488" y="1596"/>
                  </a:lnTo>
                  <a:lnTo>
                    <a:pt x="1380" y="1596"/>
                  </a:lnTo>
                  <a:lnTo>
                    <a:pt x="1344" y="1620"/>
                  </a:lnTo>
                  <a:lnTo>
                    <a:pt x="1296" y="1680"/>
                  </a:lnTo>
                  <a:lnTo>
                    <a:pt x="1260" y="1764"/>
                  </a:lnTo>
                  <a:lnTo>
                    <a:pt x="1224" y="1848"/>
                  </a:lnTo>
                  <a:lnTo>
                    <a:pt x="1212" y="1872"/>
                  </a:lnTo>
                  <a:lnTo>
                    <a:pt x="1212" y="1908"/>
                  </a:lnTo>
                  <a:lnTo>
                    <a:pt x="1260" y="1944"/>
                  </a:lnTo>
                  <a:lnTo>
                    <a:pt x="1344" y="1956"/>
                  </a:lnTo>
                  <a:lnTo>
                    <a:pt x="1404" y="2010"/>
                  </a:lnTo>
                  <a:lnTo>
                    <a:pt x="1386" y="2082"/>
                  </a:lnTo>
                  <a:lnTo>
                    <a:pt x="1296" y="2124"/>
                  </a:lnTo>
                  <a:lnTo>
                    <a:pt x="1104" y="2088"/>
                  </a:lnTo>
                  <a:lnTo>
                    <a:pt x="864" y="2052"/>
                  </a:lnTo>
                  <a:lnTo>
                    <a:pt x="756" y="2016"/>
                  </a:lnTo>
                  <a:lnTo>
                    <a:pt x="750" y="1944"/>
                  </a:lnTo>
                  <a:lnTo>
                    <a:pt x="816" y="1836"/>
                  </a:lnTo>
                  <a:lnTo>
                    <a:pt x="780" y="1764"/>
                  </a:lnTo>
                  <a:lnTo>
                    <a:pt x="768" y="1740"/>
                  </a:lnTo>
                  <a:lnTo>
                    <a:pt x="696" y="1836"/>
                  </a:lnTo>
                  <a:lnTo>
                    <a:pt x="600" y="1908"/>
                  </a:lnTo>
                  <a:lnTo>
                    <a:pt x="540" y="1992"/>
                  </a:lnTo>
                  <a:lnTo>
                    <a:pt x="468" y="2076"/>
                  </a:lnTo>
                  <a:lnTo>
                    <a:pt x="468" y="2148"/>
                  </a:lnTo>
                  <a:lnTo>
                    <a:pt x="528" y="2196"/>
                  </a:lnTo>
                  <a:lnTo>
                    <a:pt x="600" y="2220"/>
                  </a:lnTo>
                  <a:lnTo>
                    <a:pt x="636" y="2280"/>
                  </a:lnTo>
                  <a:lnTo>
                    <a:pt x="636" y="2328"/>
                  </a:lnTo>
                  <a:lnTo>
                    <a:pt x="624" y="2364"/>
                  </a:lnTo>
                  <a:lnTo>
                    <a:pt x="552" y="2400"/>
                  </a:lnTo>
                  <a:lnTo>
                    <a:pt x="432" y="2388"/>
                  </a:lnTo>
                  <a:lnTo>
                    <a:pt x="312" y="2352"/>
                  </a:lnTo>
                  <a:lnTo>
                    <a:pt x="180" y="2304"/>
                  </a:lnTo>
                  <a:lnTo>
                    <a:pt x="12" y="2184"/>
                  </a:lnTo>
                  <a:close/>
                </a:path>
              </a:pathLst>
            </a:custGeom>
            <a:gradFill rotWithShape="0">
              <a:gsLst>
                <a:gs pos="0">
                  <a:srgbClr val="f4fafe"/>
                </a:gs>
                <a:gs pos="100000">
                  <a:srgbClr val="ccecf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47760" y="4714920"/>
              <a:ext cx="142920" cy="671400"/>
            </a:xfrm>
            <a:custGeom>
              <a:avLst/>
              <a:gdLst/>
              <a:ahLst/>
              <a:rect l="l" t="t" r="r" b="b"/>
              <a:pathLst>
                <a:path w="90" h="423">
                  <a:moveTo>
                    <a:pt x="0" y="423"/>
                  </a:moveTo>
                  <a:lnTo>
                    <a:pt x="54" y="297"/>
                  </a:lnTo>
                  <a:lnTo>
                    <a:pt x="90" y="171"/>
                  </a:lnTo>
                  <a:lnTo>
                    <a:pt x="9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90600" y="5143680"/>
              <a:ext cx="914400" cy="156960"/>
            </a:xfrm>
            <a:custGeom>
              <a:avLst/>
              <a:gdLst/>
              <a:ahLst/>
              <a:rect l="l" t="t" r="r" b="b"/>
              <a:pathLst>
                <a:path w="576" h="99">
                  <a:moveTo>
                    <a:pt x="576" y="0"/>
                  </a:moveTo>
                  <a:lnTo>
                    <a:pt x="504" y="45"/>
                  </a:lnTo>
                  <a:lnTo>
                    <a:pt x="477" y="63"/>
                  </a:lnTo>
                  <a:lnTo>
                    <a:pt x="387" y="81"/>
                  </a:lnTo>
                  <a:lnTo>
                    <a:pt x="279" y="99"/>
                  </a:lnTo>
                  <a:lnTo>
                    <a:pt x="189" y="99"/>
                  </a:lnTo>
                  <a:lnTo>
                    <a:pt x="108" y="99"/>
                  </a:lnTo>
                  <a:lnTo>
                    <a:pt x="0" y="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90840" y="4414680"/>
              <a:ext cx="28800" cy="614520"/>
            </a:xfrm>
            <a:custGeom>
              <a:avLst/>
              <a:gdLst/>
              <a:ahLst/>
              <a:rect l="l" t="t" r="r" b="b"/>
              <a:pathLst>
                <a:path w="18" h="387">
                  <a:moveTo>
                    <a:pt x="18" y="387"/>
                  </a:moveTo>
                  <a:lnTo>
                    <a:pt x="9" y="315"/>
                  </a:lnTo>
                  <a:lnTo>
                    <a:pt x="0" y="135"/>
                  </a:lnTo>
                  <a:lnTo>
                    <a:pt x="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76760" y="4400640"/>
              <a:ext cx="814680" cy="757080"/>
            </a:xfrm>
            <a:custGeom>
              <a:avLst/>
              <a:gdLst/>
              <a:ahLst/>
              <a:rect l="l" t="t" r="r" b="b"/>
              <a:pathLst>
                <a:path w="513" h="477">
                  <a:moveTo>
                    <a:pt x="0" y="477"/>
                  </a:moveTo>
                  <a:lnTo>
                    <a:pt x="27" y="369"/>
                  </a:lnTo>
                  <a:lnTo>
                    <a:pt x="36" y="252"/>
                  </a:lnTo>
                  <a:lnTo>
                    <a:pt x="99" y="117"/>
                  </a:lnTo>
                  <a:lnTo>
                    <a:pt x="171" y="63"/>
                  </a:lnTo>
                  <a:lnTo>
                    <a:pt x="324" y="9"/>
                  </a:lnTo>
                  <a:lnTo>
                    <a:pt x="423" y="0"/>
                  </a:lnTo>
                  <a:lnTo>
                    <a:pt x="477" y="0"/>
                  </a:lnTo>
                  <a:lnTo>
                    <a:pt x="513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6819840" y="3343320"/>
              <a:ext cx="1575000" cy="974520"/>
              <a:chOff x="6819840" y="3343320"/>
              <a:chExt cx="1575000" cy="974520"/>
            </a:xfrm>
          </p:grpSpPr>
          <p:sp>
            <p:nvSpPr>
              <p:cNvPr id="201" name=""/>
              <p:cNvSpPr/>
              <p:nvPr/>
            </p:nvSpPr>
            <p:spPr>
              <a:xfrm>
                <a:off x="7839000" y="3805200"/>
                <a:ext cx="136440" cy="127080"/>
              </a:xfrm>
              <a:custGeom>
                <a:avLst/>
                <a:gdLst/>
                <a:ahLst/>
                <a:rect l="l" t="t" r="r" b="b"/>
                <a:pathLst>
                  <a:path w="86" h="80">
                    <a:moveTo>
                      <a:pt x="66" y="0"/>
                    </a:moveTo>
                    <a:lnTo>
                      <a:pt x="33" y="5"/>
                    </a:lnTo>
                    <a:lnTo>
                      <a:pt x="8" y="14"/>
                    </a:lnTo>
                    <a:lnTo>
                      <a:pt x="0" y="38"/>
                    </a:lnTo>
                    <a:lnTo>
                      <a:pt x="4" y="61"/>
                    </a:lnTo>
                    <a:lnTo>
                      <a:pt x="20" y="80"/>
                    </a:lnTo>
                    <a:lnTo>
                      <a:pt x="43" y="80"/>
                    </a:lnTo>
                    <a:lnTo>
                      <a:pt x="59" y="71"/>
                    </a:lnTo>
                    <a:lnTo>
                      <a:pt x="78" y="52"/>
                    </a:lnTo>
                    <a:lnTo>
                      <a:pt x="86" y="31"/>
                    </a:lnTo>
                    <a:lnTo>
                      <a:pt x="82" y="7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fff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877160" y="3848040"/>
                <a:ext cx="81000" cy="52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238960" y="4119480"/>
                <a:ext cx="155880" cy="198360"/>
              </a:xfrm>
              <a:custGeom>
                <a:avLst/>
                <a:gdLst/>
                <a:ahLst/>
                <a:rect l="l" t="t" r="r" b="b"/>
                <a:pathLst>
                  <a:path w="98" h="125">
                    <a:moveTo>
                      <a:pt x="42" y="0"/>
                    </a:moveTo>
                    <a:lnTo>
                      <a:pt x="10" y="48"/>
                    </a:lnTo>
                    <a:lnTo>
                      <a:pt x="3" y="61"/>
                    </a:lnTo>
                    <a:lnTo>
                      <a:pt x="0" y="74"/>
                    </a:lnTo>
                    <a:lnTo>
                      <a:pt x="0" y="83"/>
                    </a:lnTo>
                    <a:lnTo>
                      <a:pt x="0" y="87"/>
                    </a:lnTo>
                    <a:lnTo>
                      <a:pt x="13" y="112"/>
                    </a:lnTo>
                    <a:lnTo>
                      <a:pt x="39" y="125"/>
                    </a:lnTo>
                    <a:lnTo>
                      <a:pt x="65" y="122"/>
                    </a:lnTo>
                    <a:lnTo>
                      <a:pt x="82" y="106"/>
                    </a:lnTo>
                    <a:lnTo>
                      <a:pt x="91" y="96"/>
                    </a:lnTo>
                    <a:lnTo>
                      <a:pt x="98" y="8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6819840" y="3343320"/>
                <a:ext cx="324000" cy="295200"/>
                <a:chOff x="6819840" y="3343320"/>
                <a:chExt cx="324000" cy="2952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819840" y="3343320"/>
                  <a:ext cx="324000" cy="295200"/>
                </a:xfrm>
                <a:custGeom>
                  <a:avLst/>
                  <a:gdLst/>
                  <a:ahLst/>
                  <a:rect l="l" t="t" r="r" b="b"/>
                  <a:pathLst>
                    <a:path w="204" h="186">
                      <a:moveTo>
                        <a:pt x="204" y="90"/>
                      </a:moveTo>
                      <a:lnTo>
                        <a:pt x="180" y="36"/>
                      </a:lnTo>
                      <a:lnTo>
                        <a:pt x="138" y="12"/>
                      </a:lnTo>
                      <a:lnTo>
                        <a:pt x="96" y="0"/>
                      </a:lnTo>
                      <a:lnTo>
                        <a:pt x="54" y="12"/>
                      </a:lnTo>
                      <a:lnTo>
                        <a:pt x="18" y="42"/>
                      </a:lnTo>
                      <a:lnTo>
                        <a:pt x="0" y="90"/>
                      </a:lnTo>
                      <a:lnTo>
                        <a:pt x="18" y="150"/>
                      </a:lnTo>
                      <a:lnTo>
                        <a:pt x="78" y="186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05520" y="3414600"/>
                  <a:ext cx="174600" cy="174600"/>
                </a:xfrm>
                <a:custGeom>
                  <a:avLst/>
                  <a:gdLst/>
                  <a:ahLst/>
                  <a:rect l="l" t="t" r="r" b="b"/>
                  <a:pathLst>
                    <a:path w="110" h="110">
                      <a:moveTo>
                        <a:pt x="110" y="68"/>
                      </a:moveTo>
                      <a:lnTo>
                        <a:pt x="104" y="36"/>
                      </a:lnTo>
                      <a:lnTo>
                        <a:pt x="74" y="6"/>
                      </a:lnTo>
                      <a:lnTo>
                        <a:pt x="45" y="0"/>
                      </a:lnTo>
                      <a:lnTo>
                        <a:pt x="23" y="6"/>
                      </a:lnTo>
                      <a:lnTo>
                        <a:pt x="0" y="26"/>
                      </a:lnTo>
                      <a:lnTo>
                        <a:pt x="0" y="49"/>
                      </a:lnTo>
                      <a:lnTo>
                        <a:pt x="3" y="68"/>
                      </a:lnTo>
                      <a:lnTo>
                        <a:pt x="10" y="91"/>
                      </a:lnTo>
                      <a:lnTo>
                        <a:pt x="29" y="104"/>
                      </a:lnTo>
                      <a:lnTo>
                        <a:pt x="68" y="110"/>
                      </a:lnTo>
                      <a:lnTo>
                        <a:pt x="11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7" name=""/>
            <p:cNvSpPr/>
            <p:nvPr/>
          </p:nvSpPr>
          <p:spPr>
            <a:xfrm>
              <a:off x="1619280" y="6253200"/>
              <a:ext cx="123840" cy="109440"/>
            </a:xfrm>
            <a:custGeom>
              <a:avLst/>
              <a:gdLst/>
              <a:ahLst/>
              <a:rect l="l" t="t" r="r" b="b"/>
              <a:pathLst>
                <a:path w="78" h="69">
                  <a:moveTo>
                    <a:pt x="0" y="0"/>
                  </a:moveTo>
                  <a:lnTo>
                    <a:pt x="42" y="9"/>
                  </a:lnTo>
                  <a:lnTo>
                    <a:pt x="66" y="33"/>
                  </a:lnTo>
                  <a:lnTo>
                    <a:pt x="78" y="6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09640" y="6210360"/>
              <a:ext cx="119160" cy="128520"/>
            </a:xfrm>
            <a:custGeom>
              <a:avLst/>
              <a:gdLst/>
              <a:ahLst/>
              <a:rect l="l" t="t" r="r" b="b"/>
              <a:pathLst>
                <a:path w="75" h="81">
                  <a:moveTo>
                    <a:pt x="0" y="0"/>
                  </a:moveTo>
                  <a:lnTo>
                    <a:pt x="39" y="15"/>
                  </a:lnTo>
                  <a:lnTo>
                    <a:pt x="60" y="33"/>
                  </a:lnTo>
                  <a:lnTo>
                    <a:pt x="75" y="8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14400" y="6186600"/>
              <a:ext cx="76320" cy="118800"/>
            </a:xfrm>
            <a:custGeom>
              <a:avLst/>
              <a:gdLst/>
              <a:ahLst/>
              <a:rect l="l" t="t" r="r" b="b"/>
              <a:pathLst>
                <a:path w="48" h="75">
                  <a:moveTo>
                    <a:pt x="0" y="0"/>
                  </a:moveTo>
                  <a:lnTo>
                    <a:pt x="36" y="21"/>
                  </a:lnTo>
                  <a:lnTo>
                    <a:pt x="48" y="57"/>
                  </a:lnTo>
                  <a:lnTo>
                    <a:pt x="48" y="7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47960" y="5862600"/>
              <a:ext cx="138240" cy="76320"/>
            </a:xfrm>
            <a:custGeom>
              <a:avLst/>
              <a:gdLst/>
              <a:ahLst/>
              <a:rect l="l" t="t" r="r" b="b"/>
              <a:pathLst>
                <a:path w="87" h="48">
                  <a:moveTo>
                    <a:pt x="0" y="0"/>
                  </a:moveTo>
                  <a:lnTo>
                    <a:pt x="54" y="9"/>
                  </a:lnTo>
                  <a:lnTo>
                    <a:pt x="87" y="4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95480" y="5796000"/>
              <a:ext cx="162000" cy="104760"/>
            </a:xfrm>
            <a:custGeom>
              <a:avLst/>
              <a:gdLst/>
              <a:ahLst/>
              <a:rect l="l" t="t" r="r" b="b"/>
              <a:pathLst>
                <a:path w="102" h="66">
                  <a:moveTo>
                    <a:pt x="0" y="0"/>
                  </a:moveTo>
                  <a:lnTo>
                    <a:pt x="45" y="6"/>
                  </a:lnTo>
                  <a:lnTo>
                    <a:pt x="78" y="24"/>
                  </a:lnTo>
                  <a:lnTo>
                    <a:pt x="102" y="6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90880" y="5757840"/>
              <a:ext cx="123840" cy="90360"/>
            </a:xfrm>
            <a:custGeom>
              <a:avLst/>
              <a:gdLst/>
              <a:ahLst/>
              <a:rect l="l" t="t" r="r" b="b"/>
              <a:pathLst>
                <a:path w="78" h="57">
                  <a:moveTo>
                    <a:pt x="0" y="0"/>
                  </a:moveTo>
                  <a:lnTo>
                    <a:pt x="51" y="15"/>
                  </a:lnTo>
                  <a:lnTo>
                    <a:pt x="78" y="5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10320" y="6110280"/>
              <a:ext cx="218880" cy="85680"/>
            </a:xfrm>
            <a:custGeom>
              <a:avLst/>
              <a:gdLst/>
              <a:ahLst/>
              <a:rect l="l" t="t" r="r" b="b"/>
              <a:pathLst>
                <a:path w="138" h="54">
                  <a:moveTo>
                    <a:pt x="0" y="0"/>
                  </a:moveTo>
                  <a:lnTo>
                    <a:pt x="84" y="6"/>
                  </a:lnTo>
                  <a:lnTo>
                    <a:pt x="114" y="30"/>
                  </a:lnTo>
                  <a:lnTo>
                    <a:pt x="138" y="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96000" y="6043680"/>
              <a:ext cx="190440" cy="95040"/>
            </a:xfrm>
            <a:custGeom>
              <a:avLst/>
              <a:gdLst/>
              <a:ahLst/>
              <a:rect l="l" t="t" r="r" b="b"/>
              <a:pathLst>
                <a:path w="120" h="60">
                  <a:moveTo>
                    <a:pt x="0" y="0"/>
                  </a:moveTo>
                  <a:lnTo>
                    <a:pt x="51" y="3"/>
                  </a:lnTo>
                  <a:lnTo>
                    <a:pt x="96" y="21"/>
                  </a:lnTo>
                  <a:lnTo>
                    <a:pt x="120" y="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05440" y="5991120"/>
              <a:ext cx="147600" cy="109800"/>
            </a:xfrm>
            <a:custGeom>
              <a:avLst/>
              <a:gdLst/>
              <a:ahLst/>
              <a:rect l="l" t="t" r="r" b="b"/>
              <a:pathLst>
                <a:path w="93" h="69">
                  <a:moveTo>
                    <a:pt x="0" y="0"/>
                  </a:moveTo>
                  <a:lnTo>
                    <a:pt x="48" y="12"/>
                  </a:lnTo>
                  <a:lnTo>
                    <a:pt x="75" y="39"/>
                  </a:lnTo>
                  <a:lnTo>
                    <a:pt x="93" y="6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586560" y="5586480"/>
              <a:ext cx="166680" cy="85680"/>
            </a:xfrm>
            <a:custGeom>
              <a:avLst/>
              <a:gdLst/>
              <a:ahLst/>
              <a:rect l="l" t="t" r="r" b="b"/>
              <a:pathLst>
                <a:path w="105" h="54">
                  <a:moveTo>
                    <a:pt x="0" y="0"/>
                  </a:moveTo>
                  <a:lnTo>
                    <a:pt x="60" y="18"/>
                  </a:lnTo>
                  <a:lnTo>
                    <a:pt x="105" y="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24720" y="5538960"/>
              <a:ext cx="209520" cy="114120"/>
            </a:xfrm>
            <a:custGeom>
              <a:avLst/>
              <a:gdLst/>
              <a:ahLst/>
              <a:rect l="l" t="t" r="r" b="b"/>
              <a:pathLst>
                <a:path w="132" h="72">
                  <a:moveTo>
                    <a:pt x="0" y="0"/>
                  </a:moveTo>
                  <a:lnTo>
                    <a:pt x="54" y="12"/>
                  </a:lnTo>
                  <a:lnTo>
                    <a:pt x="108" y="42"/>
                  </a:lnTo>
                  <a:lnTo>
                    <a:pt x="132" y="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05720" y="5500800"/>
              <a:ext cx="166680" cy="10944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0" y="0"/>
                  </a:moveTo>
                  <a:lnTo>
                    <a:pt x="45" y="15"/>
                  </a:lnTo>
                  <a:lnTo>
                    <a:pt x="84" y="42"/>
                  </a:lnTo>
                  <a:lnTo>
                    <a:pt x="105" y="6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457200"/>
            <a:ext cx="8001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ahoma"/>
              </a:rPr>
              <a:t>ЛЕВ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600200" y="2057400"/>
            <a:ext cx="6567120" cy="4026960"/>
            <a:chOff x="1600200" y="2057400"/>
            <a:chExt cx="6567120" cy="4026960"/>
          </a:xfrm>
        </p:grpSpPr>
        <p:sp>
          <p:nvSpPr>
            <p:cNvPr id="221" name=""/>
            <p:cNvSpPr/>
            <p:nvPr/>
          </p:nvSpPr>
          <p:spPr>
            <a:xfrm>
              <a:off x="3636720" y="2057400"/>
              <a:ext cx="60480" cy="216000"/>
            </a:xfrm>
            <a:custGeom>
              <a:avLst/>
              <a:gdLst/>
              <a:ahLst/>
              <a:rect l="l" t="t" r="r" b="b"/>
              <a:pathLst>
                <a:path w="38" h="136">
                  <a:moveTo>
                    <a:pt x="30" y="0"/>
                  </a:moveTo>
                  <a:lnTo>
                    <a:pt x="36" y="17"/>
                  </a:lnTo>
                  <a:lnTo>
                    <a:pt x="38" y="65"/>
                  </a:lnTo>
                  <a:lnTo>
                    <a:pt x="34" y="113"/>
                  </a:lnTo>
                  <a:lnTo>
                    <a:pt x="26" y="136"/>
                  </a:lnTo>
                  <a:lnTo>
                    <a:pt x="15" y="134"/>
                  </a:lnTo>
                  <a:lnTo>
                    <a:pt x="5" y="128"/>
                  </a:lnTo>
                  <a:lnTo>
                    <a:pt x="0" y="115"/>
                  </a:lnTo>
                  <a:lnTo>
                    <a:pt x="5" y="96"/>
                  </a:lnTo>
                  <a:lnTo>
                    <a:pt x="11" y="69"/>
                  </a:lnTo>
                  <a:lnTo>
                    <a:pt x="17" y="40"/>
                  </a:lnTo>
                  <a:lnTo>
                    <a:pt x="21" y="1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1600200" y="2489040"/>
              <a:ext cx="6567120" cy="3595320"/>
              <a:chOff x="1600200" y="2489040"/>
              <a:chExt cx="6567120" cy="3595320"/>
            </a:xfrm>
          </p:grpSpPr>
          <p:sp>
            <p:nvSpPr>
              <p:cNvPr id="223" name=""/>
              <p:cNvSpPr/>
              <p:nvPr/>
            </p:nvSpPr>
            <p:spPr>
              <a:xfrm>
                <a:off x="4015080" y="2504880"/>
                <a:ext cx="96120" cy="95760"/>
              </a:xfrm>
              <a:custGeom>
                <a:avLst/>
                <a:gdLst/>
                <a:ahLst/>
                <a:rect l="l" t="t" r="r" b="b"/>
                <a:pathLst>
                  <a:path w="57" h="54">
                    <a:moveTo>
                      <a:pt x="4" y="6"/>
                    </a:moveTo>
                    <a:lnTo>
                      <a:pt x="15" y="2"/>
                    </a:lnTo>
                    <a:lnTo>
                      <a:pt x="29" y="0"/>
                    </a:lnTo>
                    <a:lnTo>
                      <a:pt x="44" y="6"/>
                    </a:lnTo>
                    <a:lnTo>
                      <a:pt x="53" y="14"/>
                    </a:lnTo>
                    <a:lnTo>
                      <a:pt x="57" y="27"/>
                    </a:lnTo>
                    <a:lnTo>
                      <a:pt x="57" y="37"/>
                    </a:lnTo>
                    <a:lnTo>
                      <a:pt x="53" y="46"/>
                    </a:lnTo>
                    <a:lnTo>
                      <a:pt x="46" y="48"/>
                    </a:lnTo>
                    <a:lnTo>
                      <a:pt x="38" y="50"/>
                    </a:lnTo>
                    <a:lnTo>
                      <a:pt x="25" y="54"/>
                    </a:lnTo>
                    <a:lnTo>
                      <a:pt x="15" y="52"/>
                    </a:lnTo>
                    <a:lnTo>
                      <a:pt x="9" y="42"/>
                    </a:lnTo>
                    <a:lnTo>
                      <a:pt x="4" y="29"/>
                    </a:lnTo>
                    <a:lnTo>
                      <a:pt x="2" y="19"/>
                    </a:lnTo>
                    <a:lnTo>
                      <a:pt x="0" y="12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128120" y="2613240"/>
                <a:ext cx="81000" cy="8892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5" y="2"/>
                    </a:moveTo>
                    <a:lnTo>
                      <a:pt x="27" y="0"/>
                    </a:lnTo>
                    <a:lnTo>
                      <a:pt x="42" y="8"/>
                    </a:lnTo>
                    <a:lnTo>
                      <a:pt x="48" y="23"/>
                    </a:lnTo>
                    <a:lnTo>
                      <a:pt x="40" y="41"/>
                    </a:lnTo>
                    <a:lnTo>
                      <a:pt x="19" y="50"/>
                    </a:lnTo>
                    <a:lnTo>
                      <a:pt x="4" y="43"/>
                    </a:lnTo>
                    <a:lnTo>
                      <a:pt x="0" y="25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033800" y="2664720"/>
                <a:ext cx="94320" cy="271440"/>
              </a:xfrm>
              <a:custGeom>
                <a:avLst/>
                <a:gdLst/>
                <a:ahLst/>
                <a:rect l="l" t="t" r="r" b="b"/>
                <a:pathLst>
                  <a:path w="56" h="153">
                    <a:moveTo>
                      <a:pt x="21" y="0"/>
                    </a:moveTo>
                    <a:lnTo>
                      <a:pt x="33" y="2"/>
                    </a:lnTo>
                    <a:lnTo>
                      <a:pt x="44" y="12"/>
                    </a:lnTo>
                    <a:lnTo>
                      <a:pt x="48" y="27"/>
                    </a:lnTo>
                    <a:lnTo>
                      <a:pt x="42" y="44"/>
                    </a:lnTo>
                    <a:lnTo>
                      <a:pt x="33" y="58"/>
                    </a:lnTo>
                    <a:lnTo>
                      <a:pt x="31" y="71"/>
                    </a:lnTo>
                    <a:lnTo>
                      <a:pt x="33" y="84"/>
                    </a:lnTo>
                    <a:lnTo>
                      <a:pt x="39" y="98"/>
                    </a:lnTo>
                    <a:lnTo>
                      <a:pt x="46" y="113"/>
                    </a:lnTo>
                    <a:lnTo>
                      <a:pt x="54" y="128"/>
                    </a:lnTo>
                    <a:lnTo>
                      <a:pt x="56" y="140"/>
                    </a:lnTo>
                    <a:lnTo>
                      <a:pt x="50" y="146"/>
                    </a:lnTo>
                    <a:lnTo>
                      <a:pt x="37" y="151"/>
                    </a:lnTo>
                    <a:lnTo>
                      <a:pt x="21" y="153"/>
                    </a:lnTo>
                    <a:lnTo>
                      <a:pt x="8" y="149"/>
                    </a:lnTo>
                    <a:lnTo>
                      <a:pt x="4" y="136"/>
                    </a:lnTo>
                    <a:lnTo>
                      <a:pt x="2" y="105"/>
                    </a:lnTo>
                    <a:lnTo>
                      <a:pt x="0" y="63"/>
                    </a:lnTo>
                    <a:lnTo>
                      <a:pt x="4" y="2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369320" y="2661120"/>
                <a:ext cx="104040" cy="170280"/>
              </a:xfrm>
              <a:custGeom>
                <a:avLst/>
                <a:gdLst/>
                <a:ahLst/>
                <a:rect l="l" t="t" r="r" b="b"/>
                <a:pathLst>
                  <a:path w="62" h="96">
                    <a:moveTo>
                      <a:pt x="0" y="19"/>
                    </a:moveTo>
                    <a:lnTo>
                      <a:pt x="4" y="8"/>
                    </a:lnTo>
                    <a:lnTo>
                      <a:pt x="12" y="2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37" y="19"/>
                    </a:lnTo>
                    <a:lnTo>
                      <a:pt x="52" y="31"/>
                    </a:lnTo>
                    <a:lnTo>
                      <a:pt x="62" y="46"/>
                    </a:lnTo>
                    <a:lnTo>
                      <a:pt x="62" y="58"/>
                    </a:lnTo>
                    <a:lnTo>
                      <a:pt x="52" y="73"/>
                    </a:lnTo>
                    <a:lnTo>
                      <a:pt x="41" y="88"/>
                    </a:lnTo>
                    <a:lnTo>
                      <a:pt x="31" y="96"/>
                    </a:lnTo>
                    <a:lnTo>
                      <a:pt x="27" y="90"/>
                    </a:lnTo>
                    <a:lnTo>
                      <a:pt x="21" y="71"/>
                    </a:lnTo>
                    <a:lnTo>
                      <a:pt x="12" y="52"/>
                    </a:lnTo>
                    <a:lnTo>
                      <a:pt x="4" y="33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185360" y="2828160"/>
                <a:ext cx="112680" cy="292680"/>
              </a:xfrm>
              <a:custGeom>
                <a:avLst/>
                <a:gdLst/>
                <a:ahLst/>
                <a:rect l="l" t="t" r="r" b="b"/>
                <a:pathLst>
                  <a:path w="67" h="165">
                    <a:moveTo>
                      <a:pt x="48" y="0"/>
                    </a:moveTo>
                    <a:lnTo>
                      <a:pt x="54" y="36"/>
                    </a:lnTo>
                    <a:lnTo>
                      <a:pt x="62" y="86"/>
                    </a:lnTo>
                    <a:lnTo>
                      <a:pt x="67" y="130"/>
                    </a:lnTo>
                    <a:lnTo>
                      <a:pt x="65" y="149"/>
                    </a:lnTo>
                    <a:lnTo>
                      <a:pt x="54" y="153"/>
                    </a:lnTo>
                    <a:lnTo>
                      <a:pt x="42" y="161"/>
                    </a:lnTo>
                    <a:lnTo>
                      <a:pt x="33" y="165"/>
                    </a:lnTo>
                    <a:lnTo>
                      <a:pt x="29" y="157"/>
                    </a:lnTo>
                    <a:lnTo>
                      <a:pt x="27" y="140"/>
                    </a:lnTo>
                    <a:lnTo>
                      <a:pt x="25" y="128"/>
                    </a:lnTo>
                    <a:lnTo>
                      <a:pt x="21" y="115"/>
                    </a:lnTo>
                    <a:lnTo>
                      <a:pt x="14" y="98"/>
                    </a:lnTo>
                    <a:lnTo>
                      <a:pt x="10" y="88"/>
                    </a:lnTo>
                    <a:lnTo>
                      <a:pt x="6" y="75"/>
                    </a:lnTo>
                    <a:lnTo>
                      <a:pt x="2" y="63"/>
                    </a:lnTo>
                    <a:lnTo>
                      <a:pt x="0" y="50"/>
                    </a:lnTo>
                    <a:lnTo>
                      <a:pt x="4" y="36"/>
                    </a:lnTo>
                    <a:lnTo>
                      <a:pt x="10" y="23"/>
                    </a:lnTo>
                    <a:lnTo>
                      <a:pt x="25" y="1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72200" y="3017880"/>
                <a:ext cx="62280" cy="92520"/>
              </a:xfrm>
              <a:custGeom>
                <a:avLst/>
                <a:gdLst/>
                <a:ahLst/>
                <a:rect l="l" t="t" r="r" b="b"/>
                <a:pathLst>
                  <a:path w="37" h="52">
                    <a:moveTo>
                      <a:pt x="19" y="0"/>
                    </a:moveTo>
                    <a:lnTo>
                      <a:pt x="31" y="2"/>
                    </a:lnTo>
                    <a:lnTo>
                      <a:pt x="37" y="17"/>
                    </a:lnTo>
                    <a:lnTo>
                      <a:pt x="35" y="38"/>
                    </a:lnTo>
                    <a:lnTo>
                      <a:pt x="25" y="52"/>
                    </a:lnTo>
                    <a:lnTo>
                      <a:pt x="10" y="52"/>
                    </a:lnTo>
                    <a:lnTo>
                      <a:pt x="0" y="38"/>
                    </a:lnTo>
                    <a:lnTo>
                      <a:pt x="2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018320" y="3184920"/>
                <a:ext cx="199080" cy="335160"/>
              </a:xfrm>
              <a:custGeom>
                <a:avLst/>
                <a:gdLst/>
                <a:ahLst/>
                <a:rect l="l" t="t" r="r" b="b"/>
                <a:pathLst>
                  <a:path w="118" h="189">
                    <a:moveTo>
                      <a:pt x="111" y="2"/>
                    </a:moveTo>
                    <a:lnTo>
                      <a:pt x="118" y="8"/>
                    </a:lnTo>
                    <a:lnTo>
                      <a:pt x="113" y="21"/>
                    </a:lnTo>
                    <a:lnTo>
                      <a:pt x="103" y="34"/>
                    </a:lnTo>
                    <a:lnTo>
                      <a:pt x="88" y="46"/>
                    </a:lnTo>
                    <a:lnTo>
                      <a:pt x="78" y="57"/>
                    </a:lnTo>
                    <a:lnTo>
                      <a:pt x="71" y="65"/>
                    </a:lnTo>
                    <a:lnTo>
                      <a:pt x="67" y="76"/>
                    </a:lnTo>
                    <a:lnTo>
                      <a:pt x="67" y="88"/>
                    </a:lnTo>
                    <a:lnTo>
                      <a:pt x="67" y="101"/>
                    </a:lnTo>
                    <a:lnTo>
                      <a:pt x="67" y="113"/>
                    </a:lnTo>
                    <a:lnTo>
                      <a:pt x="67" y="124"/>
                    </a:lnTo>
                    <a:lnTo>
                      <a:pt x="67" y="128"/>
                    </a:lnTo>
                    <a:lnTo>
                      <a:pt x="88" y="126"/>
                    </a:lnTo>
                    <a:lnTo>
                      <a:pt x="99" y="145"/>
                    </a:lnTo>
                    <a:lnTo>
                      <a:pt x="94" y="168"/>
                    </a:lnTo>
                    <a:lnTo>
                      <a:pt x="80" y="187"/>
                    </a:lnTo>
                    <a:lnTo>
                      <a:pt x="67" y="174"/>
                    </a:lnTo>
                    <a:lnTo>
                      <a:pt x="57" y="161"/>
                    </a:lnTo>
                    <a:lnTo>
                      <a:pt x="51" y="155"/>
                    </a:lnTo>
                    <a:lnTo>
                      <a:pt x="44" y="159"/>
                    </a:lnTo>
                    <a:lnTo>
                      <a:pt x="38" y="168"/>
                    </a:lnTo>
                    <a:lnTo>
                      <a:pt x="25" y="178"/>
                    </a:lnTo>
                    <a:lnTo>
                      <a:pt x="13" y="187"/>
                    </a:lnTo>
                    <a:lnTo>
                      <a:pt x="9" y="189"/>
                    </a:lnTo>
                    <a:lnTo>
                      <a:pt x="2" y="174"/>
                    </a:lnTo>
                    <a:lnTo>
                      <a:pt x="0" y="159"/>
                    </a:lnTo>
                    <a:lnTo>
                      <a:pt x="2" y="149"/>
                    </a:lnTo>
                    <a:lnTo>
                      <a:pt x="9" y="143"/>
                    </a:lnTo>
                    <a:lnTo>
                      <a:pt x="11" y="109"/>
                    </a:lnTo>
                    <a:lnTo>
                      <a:pt x="11" y="76"/>
                    </a:lnTo>
                    <a:lnTo>
                      <a:pt x="15" y="48"/>
                    </a:lnTo>
                    <a:lnTo>
                      <a:pt x="23" y="32"/>
                    </a:lnTo>
                    <a:lnTo>
                      <a:pt x="30" y="27"/>
                    </a:lnTo>
                    <a:lnTo>
                      <a:pt x="40" y="21"/>
                    </a:lnTo>
                    <a:lnTo>
                      <a:pt x="51" y="15"/>
                    </a:lnTo>
                    <a:lnTo>
                      <a:pt x="61" y="11"/>
                    </a:lnTo>
                    <a:lnTo>
                      <a:pt x="74" y="4"/>
                    </a:lnTo>
                    <a:lnTo>
                      <a:pt x="86" y="2"/>
                    </a:lnTo>
                    <a:lnTo>
                      <a:pt x="99" y="0"/>
                    </a:lnTo>
                    <a:lnTo>
                      <a:pt x="11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321800" y="3303720"/>
                <a:ext cx="127800" cy="163440"/>
              </a:xfrm>
              <a:custGeom>
                <a:avLst/>
                <a:gdLst/>
                <a:ahLst/>
                <a:rect l="l" t="t" r="r" b="b"/>
                <a:pathLst>
                  <a:path w="76" h="92">
                    <a:moveTo>
                      <a:pt x="49" y="0"/>
                    </a:moveTo>
                    <a:lnTo>
                      <a:pt x="55" y="2"/>
                    </a:lnTo>
                    <a:lnTo>
                      <a:pt x="65" y="9"/>
                    </a:lnTo>
                    <a:lnTo>
                      <a:pt x="76" y="15"/>
                    </a:lnTo>
                    <a:lnTo>
                      <a:pt x="76" y="23"/>
                    </a:lnTo>
                    <a:lnTo>
                      <a:pt x="67" y="36"/>
                    </a:lnTo>
                    <a:lnTo>
                      <a:pt x="57" y="57"/>
                    </a:lnTo>
                    <a:lnTo>
                      <a:pt x="46" y="78"/>
                    </a:lnTo>
                    <a:lnTo>
                      <a:pt x="42" y="92"/>
                    </a:lnTo>
                    <a:lnTo>
                      <a:pt x="28" y="78"/>
                    </a:lnTo>
                    <a:lnTo>
                      <a:pt x="13" y="63"/>
                    </a:lnTo>
                    <a:lnTo>
                      <a:pt x="5" y="52"/>
                    </a:lnTo>
                    <a:lnTo>
                      <a:pt x="0" y="48"/>
                    </a:lnTo>
                    <a:lnTo>
                      <a:pt x="5" y="42"/>
                    </a:lnTo>
                    <a:lnTo>
                      <a:pt x="17" y="29"/>
                    </a:lnTo>
                    <a:lnTo>
                      <a:pt x="34" y="13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060800" y="3524040"/>
                <a:ext cx="88920" cy="133200"/>
              </a:xfrm>
              <a:custGeom>
                <a:avLst/>
                <a:gdLst/>
                <a:ahLst/>
                <a:rect l="l" t="t" r="r" b="b"/>
                <a:pathLst>
                  <a:path w="53" h="75">
                    <a:moveTo>
                      <a:pt x="44" y="0"/>
                    </a:moveTo>
                    <a:lnTo>
                      <a:pt x="53" y="21"/>
                    </a:lnTo>
                    <a:lnTo>
                      <a:pt x="53" y="46"/>
                    </a:lnTo>
                    <a:lnTo>
                      <a:pt x="46" y="67"/>
                    </a:lnTo>
                    <a:lnTo>
                      <a:pt x="34" y="75"/>
                    </a:lnTo>
                    <a:lnTo>
                      <a:pt x="17" y="71"/>
                    </a:lnTo>
                    <a:lnTo>
                      <a:pt x="5" y="58"/>
                    </a:lnTo>
                    <a:lnTo>
                      <a:pt x="0" y="44"/>
                    </a:lnTo>
                    <a:lnTo>
                      <a:pt x="7" y="31"/>
                    </a:lnTo>
                    <a:lnTo>
                      <a:pt x="19" y="21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299200" y="3847320"/>
                <a:ext cx="299880" cy="621000"/>
              </a:xfrm>
              <a:custGeom>
                <a:avLst/>
                <a:gdLst/>
                <a:ahLst/>
                <a:rect l="l" t="t" r="r" b="b"/>
                <a:pathLst>
                  <a:path w="178" h="350">
                    <a:moveTo>
                      <a:pt x="55" y="134"/>
                    </a:moveTo>
                    <a:lnTo>
                      <a:pt x="55" y="155"/>
                    </a:lnTo>
                    <a:lnTo>
                      <a:pt x="49" y="155"/>
                    </a:lnTo>
                    <a:lnTo>
                      <a:pt x="36" y="157"/>
                    </a:lnTo>
                    <a:lnTo>
                      <a:pt x="21" y="163"/>
                    </a:lnTo>
                    <a:lnTo>
                      <a:pt x="9" y="178"/>
                    </a:lnTo>
                    <a:lnTo>
                      <a:pt x="3" y="151"/>
                    </a:lnTo>
                    <a:lnTo>
                      <a:pt x="0" y="134"/>
                    </a:lnTo>
                    <a:lnTo>
                      <a:pt x="3" y="121"/>
                    </a:lnTo>
                    <a:lnTo>
                      <a:pt x="9" y="105"/>
                    </a:lnTo>
                    <a:lnTo>
                      <a:pt x="17" y="86"/>
                    </a:lnTo>
                    <a:lnTo>
                      <a:pt x="26" y="69"/>
                    </a:lnTo>
                    <a:lnTo>
                      <a:pt x="32" y="54"/>
                    </a:lnTo>
                    <a:lnTo>
                      <a:pt x="34" y="38"/>
                    </a:lnTo>
                    <a:lnTo>
                      <a:pt x="38" y="25"/>
                    </a:lnTo>
                    <a:lnTo>
                      <a:pt x="51" y="17"/>
                    </a:lnTo>
                    <a:lnTo>
                      <a:pt x="67" y="15"/>
                    </a:lnTo>
                    <a:lnTo>
                      <a:pt x="88" y="19"/>
                    </a:lnTo>
                    <a:lnTo>
                      <a:pt x="97" y="6"/>
                    </a:lnTo>
                    <a:lnTo>
                      <a:pt x="105" y="0"/>
                    </a:lnTo>
                    <a:lnTo>
                      <a:pt x="116" y="0"/>
                    </a:lnTo>
                    <a:lnTo>
                      <a:pt x="126" y="6"/>
                    </a:lnTo>
                    <a:lnTo>
                      <a:pt x="134" y="17"/>
                    </a:lnTo>
                    <a:lnTo>
                      <a:pt x="137" y="27"/>
                    </a:lnTo>
                    <a:lnTo>
                      <a:pt x="134" y="40"/>
                    </a:lnTo>
                    <a:lnTo>
                      <a:pt x="126" y="52"/>
                    </a:lnTo>
                    <a:lnTo>
                      <a:pt x="120" y="63"/>
                    </a:lnTo>
                    <a:lnTo>
                      <a:pt x="122" y="71"/>
                    </a:lnTo>
                    <a:lnTo>
                      <a:pt x="130" y="77"/>
                    </a:lnTo>
                    <a:lnTo>
                      <a:pt x="143" y="80"/>
                    </a:lnTo>
                    <a:lnTo>
                      <a:pt x="160" y="80"/>
                    </a:lnTo>
                    <a:lnTo>
                      <a:pt x="172" y="82"/>
                    </a:lnTo>
                    <a:lnTo>
                      <a:pt x="178" y="90"/>
                    </a:lnTo>
                    <a:lnTo>
                      <a:pt x="174" y="105"/>
                    </a:lnTo>
                    <a:lnTo>
                      <a:pt x="162" y="119"/>
                    </a:lnTo>
                    <a:lnTo>
                      <a:pt x="149" y="130"/>
                    </a:lnTo>
                    <a:lnTo>
                      <a:pt x="134" y="142"/>
                    </a:lnTo>
                    <a:lnTo>
                      <a:pt x="122" y="161"/>
                    </a:lnTo>
                    <a:lnTo>
                      <a:pt x="114" y="182"/>
                    </a:lnTo>
                    <a:lnTo>
                      <a:pt x="111" y="197"/>
                    </a:lnTo>
                    <a:lnTo>
                      <a:pt x="116" y="207"/>
                    </a:lnTo>
                    <a:lnTo>
                      <a:pt x="126" y="216"/>
                    </a:lnTo>
                    <a:lnTo>
                      <a:pt x="132" y="224"/>
                    </a:lnTo>
                    <a:lnTo>
                      <a:pt x="126" y="230"/>
                    </a:lnTo>
                    <a:lnTo>
                      <a:pt x="114" y="235"/>
                    </a:lnTo>
                    <a:lnTo>
                      <a:pt x="99" y="228"/>
                    </a:lnTo>
                    <a:lnTo>
                      <a:pt x="86" y="224"/>
                    </a:lnTo>
                    <a:lnTo>
                      <a:pt x="78" y="230"/>
                    </a:lnTo>
                    <a:lnTo>
                      <a:pt x="72" y="243"/>
                    </a:lnTo>
                    <a:lnTo>
                      <a:pt x="70" y="256"/>
                    </a:lnTo>
                    <a:lnTo>
                      <a:pt x="67" y="266"/>
                    </a:lnTo>
                    <a:lnTo>
                      <a:pt x="67" y="276"/>
                    </a:lnTo>
                    <a:lnTo>
                      <a:pt x="67" y="283"/>
                    </a:lnTo>
                    <a:lnTo>
                      <a:pt x="76" y="287"/>
                    </a:lnTo>
                    <a:lnTo>
                      <a:pt x="88" y="293"/>
                    </a:lnTo>
                    <a:lnTo>
                      <a:pt x="101" y="306"/>
                    </a:lnTo>
                    <a:lnTo>
                      <a:pt x="105" y="323"/>
                    </a:lnTo>
                    <a:lnTo>
                      <a:pt x="97" y="339"/>
                    </a:lnTo>
                    <a:lnTo>
                      <a:pt x="86" y="346"/>
                    </a:lnTo>
                    <a:lnTo>
                      <a:pt x="76" y="348"/>
                    </a:lnTo>
                    <a:lnTo>
                      <a:pt x="63" y="350"/>
                    </a:lnTo>
                    <a:lnTo>
                      <a:pt x="51" y="348"/>
                    </a:lnTo>
                    <a:lnTo>
                      <a:pt x="38" y="343"/>
                    </a:lnTo>
                    <a:lnTo>
                      <a:pt x="30" y="335"/>
                    </a:lnTo>
                    <a:lnTo>
                      <a:pt x="21" y="327"/>
                    </a:lnTo>
                    <a:lnTo>
                      <a:pt x="15" y="314"/>
                    </a:lnTo>
                    <a:lnTo>
                      <a:pt x="11" y="293"/>
                    </a:lnTo>
                    <a:lnTo>
                      <a:pt x="15" y="279"/>
                    </a:lnTo>
                    <a:lnTo>
                      <a:pt x="23" y="270"/>
                    </a:lnTo>
                    <a:lnTo>
                      <a:pt x="34" y="268"/>
                    </a:lnTo>
                    <a:lnTo>
                      <a:pt x="32" y="249"/>
                    </a:lnTo>
                    <a:lnTo>
                      <a:pt x="38" y="232"/>
                    </a:lnTo>
                    <a:lnTo>
                      <a:pt x="47" y="218"/>
                    </a:lnTo>
                    <a:lnTo>
                      <a:pt x="61" y="207"/>
                    </a:lnTo>
                    <a:lnTo>
                      <a:pt x="74" y="199"/>
                    </a:lnTo>
                    <a:lnTo>
                      <a:pt x="78" y="186"/>
                    </a:lnTo>
                    <a:lnTo>
                      <a:pt x="76" y="176"/>
                    </a:lnTo>
                    <a:lnTo>
                      <a:pt x="70" y="168"/>
                    </a:lnTo>
                    <a:lnTo>
                      <a:pt x="63" y="159"/>
                    </a:lnTo>
                    <a:lnTo>
                      <a:pt x="63" y="149"/>
                    </a:lnTo>
                    <a:lnTo>
                      <a:pt x="70" y="142"/>
                    </a:lnTo>
                    <a:lnTo>
                      <a:pt x="80" y="136"/>
                    </a:lnTo>
                    <a:lnTo>
                      <a:pt x="93" y="124"/>
                    </a:lnTo>
                    <a:lnTo>
                      <a:pt x="101" y="96"/>
                    </a:lnTo>
                    <a:lnTo>
                      <a:pt x="99" y="71"/>
                    </a:lnTo>
                    <a:lnTo>
                      <a:pt x="80" y="57"/>
                    </a:lnTo>
                    <a:lnTo>
                      <a:pt x="65" y="59"/>
                    </a:lnTo>
                    <a:lnTo>
                      <a:pt x="53" y="65"/>
                    </a:lnTo>
                    <a:lnTo>
                      <a:pt x="42" y="73"/>
                    </a:lnTo>
                    <a:lnTo>
                      <a:pt x="36" y="86"/>
                    </a:lnTo>
                    <a:lnTo>
                      <a:pt x="32" y="98"/>
                    </a:lnTo>
                    <a:lnTo>
                      <a:pt x="34" y="113"/>
                    </a:lnTo>
                    <a:lnTo>
                      <a:pt x="40" y="124"/>
                    </a:lnTo>
                    <a:lnTo>
                      <a:pt x="55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627880" y="4024800"/>
                <a:ext cx="70560" cy="108000"/>
              </a:xfrm>
              <a:custGeom>
                <a:avLst/>
                <a:gdLst/>
                <a:ahLst/>
                <a:rect l="l" t="t" r="r" b="b"/>
                <a:pathLst>
                  <a:path w="42" h="61">
                    <a:moveTo>
                      <a:pt x="0" y="19"/>
                    </a:moveTo>
                    <a:lnTo>
                      <a:pt x="4" y="9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32" y="5"/>
                    </a:lnTo>
                    <a:lnTo>
                      <a:pt x="38" y="17"/>
                    </a:lnTo>
                    <a:lnTo>
                      <a:pt x="42" y="36"/>
                    </a:lnTo>
                    <a:lnTo>
                      <a:pt x="42" y="53"/>
                    </a:lnTo>
                    <a:lnTo>
                      <a:pt x="38" y="61"/>
                    </a:lnTo>
                    <a:lnTo>
                      <a:pt x="27" y="61"/>
                    </a:lnTo>
                    <a:lnTo>
                      <a:pt x="17" y="57"/>
                    </a:lnTo>
                    <a:lnTo>
                      <a:pt x="6" y="4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578920" y="4251960"/>
                <a:ext cx="83880" cy="104400"/>
              </a:xfrm>
              <a:custGeom>
                <a:avLst/>
                <a:gdLst/>
                <a:ahLst/>
                <a:rect l="l" t="t" r="r" b="b"/>
                <a:pathLst>
                  <a:path w="50" h="59">
                    <a:moveTo>
                      <a:pt x="25" y="0"/>
                    </a:moveTo>
                    <a:lnTo>
                      <a:pt x="38" y="9"/>
                    </a:lnTo>
                    <a:lnTo>
                      <a:pt x="48" y="28"/>
                    </a:lnTo>
                    <a:lnTo>
                      <a:pt x="50" y="48"/>
                    </a:lnTo>
                    <a:lnTo>
                      <a:pt x="38" y="59"/>
                    </a:lnTo>
                    <a:lnTo>
                      <a:pt x="27" y="57"/>
                    </a:lnTo>
                    <a:lnTo>
                      <a:pt x="17" y="51"/>
                    </a:lnTo>
                    <a:lnTo>
                      <a:pt x="8" y="42"/>
                    </a:lnTo>
                    <a:lnTo>
                      <a:pt x="2" y="34"/>
                    </a:lnTo>
                    <a:lnTo>
                      <a:pt x="0" y="23"/>
                    </a:lnTo>
                    <a:lnTo>
                      <a:pt x="2" y="13"/>
                    </a:lnTo>
                    <a:lnTo>
                      <a:pt x="10" y="7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382000" y="4546800"/>
                <a:ext cx="122760" cy="197280"/>
              </a:xfrm>
              <a:custGeom>
                <a:avLst/>
                <a:gdLst/>
                <a:ahLst/>
                <a:rect l="l" t="t" r="r" b="b"/>
                <a:pathLst>
                  <a:path w="73" h="111">
                    <a:moveTo>
                      <a:pt x="73" y="19"/>
                    </a:moveTo>
                    <a:lnTo>
                      <a:pt x="56" y="35"/>
                    </a:lnTo>
                    <a:lnTo>
                      <a:pt x="46" y="61"/>
                    </a:lnTo>
                    <a:lnTo>
                      <a:pt x="44" y="88"/>
                    </a:lnTo>
                    <a:lnTo>
                      <a:pt x="50" y="111"/>
                    </a:lnTo>
                    <a:lnTo>
                      <a:pt x="39" y="98"/>
                    </a:lnTo>
                    <a:lnTo>
                      <a:pt x="29" y="84"/>
                    </a:lnTo>
                    <a:lnTo>
                      <a:pt x="18" y="67"/>
                    </a:lnTo>
                    <a:lnTo>
                      <a:pt x="10" y="52"/>
                    </a:lnTo>
                    <a:lnTo>
                      <a:pt x="4" y="37"/>
                    </a:lnTo>
                    <a:lnTo>
                      <a:pt x="0" y="25"/>
                    </a:lnTo>
                    <a:lnTo>
                      <a:pt x="0" y="14"/>
                    </a:lnTo>
                    <a:lnTo>
                      <a:pt x="4" y="8"/>
                    </a:lnTo>
                    <a:lnTo>
                      <a:pt x="10" y="4"/>
                    </a:lnTo>
                    <a:lnTo>
                      <a:pt x="18" y="2"/>
                    </a:lnTo>
                    <a:lnTo>
                      <a:pt x="27" y="0"/>
                    </a:lnTo>
                    <a:lnTo>
                      <a:pt x="35" y="0"/>
                    </a:lnTo>
                    <a:lnTo>
                      <a:pt x="44" y="2"/>
                    </a:lnTo>
                    <a:lnTo>
                      <a:pt x="54" y="6"/>
                    </a:lnTo>
                    <a:lnTo>
                      <a:pt x="62" y="10"/>
                    </a:lnTo>
                    <a:lnTo>
                      <a:pt x="73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494680" y="4809600"/>
                <a:ext cx="81000" cy="108000"/>
              </a:xfrm>
              <a:custGeom>
                <a:avLst/>
                <a:gdLst/>
                <a:ahLst/>
                <a:rect l="l" t="t" r="r" b="b"/>
                <a:pathLst>
                  <a:path w="48" h="61">
                    <a:moveTo>
                      <a:pt x="14" y="0"/>
                    </a:moveTo>
                    <a:lnTo>
                      <a:pt x="31" y="9"/>
                    </a:lnTo>
                    <a:lnTo>
                      <a:pt x="44" y="30"/>
                    </a:lnTo>
                    <a:lnTo>
                      <a:pt x="48" y="51"/>
                    </a:lnTo>
                    <a:lnTo>
                      <a:pt x="39" y="61"/>
                    </a:lnTo>
                    <a:lnTo>
                      <a:pt x="21" y="53"/>
                    </a:lnTo>
                    <a:lnTo>
                      <a:pt x="6" y="34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7" name=""/>
              <p:cNvGrpSpPr/>
              <p:nvPr/>
            </p:nvGrpSpPr>
            <p:grpSpPr>
              <a:xfrm>
                <a:off x="3249720" y="3511440"/>
                <a:ext cx="4371120" cy="2481840"/>
                <a:chOff x="3249720" y="3511440"/>
                <a:chExt cx="4371120" cy="248184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3249720" y="4363560"/>
                  <a:ext cx="1284120" cy="1619280"/>
                </a:xfrm>
                <a:custGeom>
                  <a:avLst/>
                  <a:gdLst/>
                  <a:ahLst/>
                  <a:rect l="l" t="t" r="r" b="b"/>
                  <a:pathLst>
                    <a:path w="762" h="912">
                      <a:moveTo>
                        <a:pt x="27" y="228"/>
                      </a:moveTo>
                      <a:lnTo>
                        <a:pt x="123" y="240"/>
                      </a:lnTo>
                      <a:lnTo>
                        <a:pt x="256" y="312"/>
                      </a:lnTo>
                      <a:lnTo>
                        <a:pt x="352" y="408"/>
                      </a:lnTo>
                      <a:lnTo>
                        <a:pt x="405" y="504"/>
                      </a:lnTo>
                      <a:lnTo>
                        <a:pt x="437" y="558"/>
                      </a:lnTo>
                      <a:lnTo>
                        <a:pt x="464" y="630"/>
                      </a:lnTo>
                      <a:lnTo>
                        <a:pt x="480" y="732"/>
                      </a:lnTo>
                      <a:lnTo>
                        <a:pt x="458" y="780"/>
                      </a:lnTo>
                      <a:lnTo>
                        <a:pt x="384" y="786"/>
                      </a:lnTo>
                      <a:lnTo>
                        <a:pt x="357" y="798"/>
                      </a:lnTo>
                      <a:lnTo>
                        <a:pt x="330" y="828"/>
                      </a:lnTo>
                      <a:lnTo>
                        <a:pt x="320" y="876"/>
                      </a:lnTo>
                      <a:lnTo>
                        <a:pt x="341" y="912"/>
                      </a:lnTo>
                      <a:lnTo>
                        <a:pt x="448" y="912"/>
                      </a:lnTo>
                      <a:lnTo>
                        <a:pt x="591" y="912"/>
                      </a:lnTo>
                      <a:lnTo>
                        <a:pt x="634" y="870"/>
                      </a:lnTo>
                      <a:lnTo>
                        <a:pt x="650" y="756"/>
                      </a:lnTo>
                      <a:lnTo>
                        <a:pt x="666" y="744"/>
                      </a:lnTo>
                      <a:lnTo>
                        <a:pt x="655" y="570"/>
                      </a:lnTo>
                      <a:lnTo>
                        <a:pt x="671" y="486"/>
                      </a:lnTo>
                      <a:lnTo>
                        <a:pt x="703" y="396"/>
                      </a:lnTo>
                      <a:lnTo>
                        <a:pt x="762" y="186"/>
                      </a:lnTo>
                      <a:lnTo>
                        <a:pt x="0" y="0"/>
                      </a:lnTo>
                      <a:lnTo>
                        <a:pt x="27" y="228"/>
                      </a:lnTo>
                      <a:close/>
                    </a:path>
                  </a:pathLst>
                </a:custGeom>
                <a:solidFill>
                  <a:srgbClr val="606000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286680" y="3511440"/>
                  <a:ext cx="1334160" cy="2481840"/>
                </a:xfrm>
                <a:custGeom>
                  <a:avLst/>
                  <a:gdLst/>
                  <a:ahLst/>
                  <a:rect l="l" t="t" r="r" b="b"/>
                  <a:pathLst>
                    <a:path w="792" h="1398">
                      <a:moveTo>
                        <a:pt x="37" y="636"/>
                      </a:moveTo>
                      <a:lnTo>
                        <a:pt x="128" y="732"/>
                      </a:lnTo>
                      <a:lnTo>
                        <a:pt x="219" y="816"/>
                      </a:lnTo>
                      <a:lnTo>
                        <a:pt x="304" y="876"/>
                      </a:lnTo>
                      <a:lnTo>
                        <a:pt x="373" y="900"/>
                      </a:lnTo>
                      <a:lnTo>
                        <a:pt x="427" y="960"/>
                      </a:lnTo>
                      <a:lnTo>
                        <a:pt x="469" y="1032"/>
                      </a:lnTo>
                      <a:lnTo>
                        <a:pt x="501" y="1128"/>
                      </a:lnTo>
                      <a:lnTo>
                        <a:pt x="544" y="1212"/>
                      </a:lnTo>
                      <a:lnTo>
                        <a:pt x="587" y="1296"/>
                      </a:lnTo>
                      <a:lnTo>
                        <a:pt x="640" y="1374"/>
                      </a:lnTo>
                      <a:lnTo>
                        <a:pt x="685" y="1398"/>
                      </a:lnTo>
                      <a:lnTo>
                        <a:pt x="752" y="1395"/>
                      </a:lnTo>
                      <a:lnTo>
                        <a:pt x="776" y="1365"/>
                      </a:lnTo>
                      <a:lnTo>
                        <a:pt x="792" y="1323"/>
                      </a:lnTo>
                      <a:lnTo>
                        <a:pt x="789" y="1272"/>
                      </a:lnTo>
                      <a:lnTo>
                        <a:pt x="747" y="1236"/>
                      </a:lnTo>
                      <a:lnTo>
                        <a:pt x="688" y="1182"/>
                      </a:lnTo>
                      <a:lnTo>
                        <a:pt x="640" y="1068"/>
                      </a:lnTo>
                      <a:lnTo>
                        <a:pt x="619" y="996"/>
                      </a:lnTo>
                      <a:lnTo>
                        <a:pt x="608" y="900"/>
                      </a:lnTo>
                      <a:lnTo>
                        <a:pt x="592" y="768"/>
                      </a:lnTo>
                      <a:lnTo>
                        <a:pt x="475" y="696"/>
                      </a:lnTo>
                      <a:lnTo>
                        <a:pt x="427" y="552"/>
                      </a:lnTo>
                      <a:lnTo>
                        <a:pt x="373" y="264"/>
                      </a:lnTo>
                      <a:lnTo>
                        <a:pt x="299" y="0"/>
                      </a:lnTo>
                      <a:lnTo>
                        <a:pt x="0" y="192"/>
                      </a:lnTo>
                      <a:lnTo>
                        <a:pt x="37" y="636"/>
                      </a:lnTo>
                      <a:close/>
                    </a:path>
                  </a:pathLst>
                </a:custGeom>
                <a:solidFill>
                  <a:srgbClr val="606000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3150360" y="4481280"/>
                <a:ext cx="975960" cy="372600"/>
              </a:xfrm>
              <a:custGeom>
                <a:avLst/>
                <a:gdLst/>
                <a:ahLst/>
                <a:rect l="l" t="t" r="r" b="b"/>
                <a:pathLst>
                  <a:path w="579" h="210">
                    <a:moveTo>
                      <a:pt x="0" y="177"/>
                    </a:moveTo>
                    <a:lnTo>
                      <a:pt x="117" y="204"/>
                    </a:lnTo>
                    <a:lnTo>
                      <a:pt x="160" y="201"/>
                    </a:lnTo>
                    <a:lnTo>
                      <a:pt x="221" y="207"/>
                    </a:lnTo>
                    <a:lnTo>
                      <a:pt x="280" y="210"/>
                    </a:lnTo>
                    <a:lnTo>
                      <a:pt x="339" y="198"/>
                    </a:lnTo>
                    <a:lnTo>
                      <a:pt x="382" y="198"/>
                    </a:lnTo>
                    <a:lnTo>
                      <a:pt x="408" y="201"/>
                    </a:lnTo>
                    <a:lnTo>
                      <a:pt x="451" y="186"/>
                    </a:lnTo>
                    <a:lnTo>
                      <a:pt x="494" y="165"/>
                    </a:lnTo>
                    <a:lnTo>
                      <a:pt x="523" y="159"/>
                    </a:lnTo>
                    <a:lnTo>
                      <a:pt x="542" y="147"/>
                    </a:lnTo>
                    <a:lnTo>
                      <a:pt x="568" y="138"/>
                    </a:lnTo>
                    <a:lnTo>
                      <a:pt x="579" y="126"/>
                    </a:lnTo>
                    <a:lnTo>
                      <a:pt x="200" y="0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201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00200" y="2696760"/>
                <a:ext cx="6471360" cy="3387600"/>
              </a:xfrm>
              <a:custGeom>
                <a:avLst/>
                <a:gdLst/>
                <a:ahLst/>
                <a:rect l="l" t="t" r="r" b="b"/>
                <a:pathLst>
                  <a:path w="3840" h="1908">
                    <a:moveTo>
                      <a:pt x="117" y="300"/>
                    </a:moveTo>
                    <a:lnTo>
                      <a:pt x="117" y="348"/>
                    </a:lnTo>
                    <a:lnTo>
                      <a:pt x="117" y="372"/>
                    </a:lnTo>
                    <a:lnTo>
                      <a:pt x="107" y="456"/>
                    </a:lnTo>
                    <a:lnTo>
                      <a:pt x="0" y="678"/>
                    </a:lnTo>
                    <a:lnTo>
                      <a:pt x="32" y="699"/>
                    </a:lnTo>
                    <a:lnTo>
                      <a:pt x="53" y="756"/>
                    </a:lnTo>
                    <a:lnTo>
                      <a:pt x="96" y="816"/>
                    </a:lnTo>
                    <a:lnTo>
                      <a:pt x="117" y="828"/>
                    </a:lnTo>
                    <a:lnTo>
                      <a:pt x="116" y="851"/>
                    </a:lnTo>
                    <a:lnTo>
                      <a:pt x="119" y="865"/>
                    </a:lnTo>
                    <a:lnTo>
                      <a:pt x="128" y="876"/>
                    </a:lnTo>
                    <a:lnTo>
                      <a:pt x="145" y="881"/>
                    </a:lnTo>
                    <a:lnTo>
                      <a:pt x="165" y="884"/>
                    </a:lnTo>
                    <a:lnTo>
                      <a:pt x="180" y="876"/>
                    </a:lnTo>
                    <a:lnTo>
                      <a:pt x="203" y="864"/>
                    </a:lnTo>
                    <a:lnTo>
                      <a:pt x="245" y="840"/>
                    </a:lnTo>
                    <a:lnTo>
                      <a:pt x="512" y="1044"/>
                    </a:lnTo>
                    <a:lnTo>
                      <a:pt x="555" y="1212"/>
                    </a:lnTo>
                    <a:lnTo>
                      <a:pt x="576" y="1308"/>
                    </a:lnTo>
                    <a:lnTo>
                      <a:pt x="437" y="1680"/>
                    </a:lnTo>
                    <a:lnTo>
                      <a:pt x="413" y="1743"/>
                    </a:lnTo>
                    <a:lnTo>
                      <a:pt x="384" y="1758"/>
                    </a:lnTo>
                    <a:lnTo>
                      <a:pt x="315" y="1752"/>
                    </a:lnTo>
                    <a:lnTo>
                      <a:pt x="283" y="1764"/>
                    </a:lnTo>
                    <a:lnTo>
                      <a:pt x="251" y="1788"/>
                    </a:lnTo>
                    <a:lnTo>
                      <a:pt x="235" y="1836"/>
                    </a:lnTo>
                    <a:lnTo>
                      <a:pt x="229" y="1884"/>
                    </a:lnTo>
                    <a:lnTo>
                      <a:pt x="251" y="1905"/>
                    </a:lnTo>
                    <a:lnTo>
                      <a:pt x="501" y="1905"/>
                    </a:lnTo>
                    <a:lnTo>
                      <a:pt x="576" y="1860"/>
                    </a:lnTo>
                    <a:lnTo>
                      <a:pt x="869" y="1422"/>
                    </a:lnTo>
                    <a:lnTo>
                      <a:pt x="944" y="1302"/>
                    </a:lnTo>
                    <a:lnTo>
                      <a:pt x="1024" y="1158"/>
                    </a:lnTo>
                    <a:lnTo>
                      <a:pt x="1051" y="1074"/>
                    </a:lnTo>
                    <a:lnTo>
                      <a:pt x="1120" y="1044"/>
                    </a:lnTo>
                    <a:lnTo>
                      <a:pt x="1259" y="1092"/>
                    </a:lnTo>
                    <a:lnTo>
                      <a:pt x="1525" y="1140"/>
                    </a:lnTo>
                    <a:lnTo>
                      <a:pt x="1781" y="1176"/>
                    </a:lnTo>
                    <a:lnTo>
                      <a:pt x="1952" y="1188"/>
                    </a:lnTo>
                    <a:lnTo>
                      <a:pt x="2117" y="1134"/>
                    </a:lnTo>
                    <a:lnTo>
                      <a:pt x="2256" y="1056"/>
                    </a:lnTo>
                    <a:lnTo>
                      <a:pt x="2389" y="1020"/>
                    </a:lnTo>
                    <a:lnTo>
                      <a:pt x="2389" y="1092"/>
                    </a:lnTo>
                    <a:lnTo>
                      <a:pt x="2427" y="1188"/>
                    </a:lnTo>
                    <a:lnTo>
                      <a:pt x="2507" y="1320"/>
                    </a:lnTo>
                    <a:lnTo>
                      <a:pt x="2613" y="1428"/>
                    </a:lnTo>
                    <a:lnTo>
                      <a:pt x="2643" y="1509"/>
                    </a:lnTo>
                    <a:lnTo>
                      <a:pt x="2648" y="1608"/>
                    </a:lnTo>
                    <a:lnTo>
                      <a:pt x="2512" y="1773"/>
                    </a:lnTo>
                    <a:lnTo>
                      <a:pt x="2440" y="1764"/>
                    </a:lnTo>
                    <a:lnTo>
                      <a:pt x="2392" y="1785"/>
                    </a:lnTo>
                    <a:lnTo>
                      <a:pt x="2368" y="1842"/>
                    </a:lnTo>
                    <a:lnTo>
                      <a:pt x="2384" y="1902"/>
                    </a:lnTo>
                    <a:lnTo>
                      <a:pt x="2416" y="1908"/>
                    </a:lnTo>
                    <a:lnTo>
                      <a:pt x="2576" y="1908"/>
                    </a:lnTo>
                    <a:lnTo>
                      <a:pt x="2736" y="1773"/>
                    </a:lnTo>
                    <a:lnTo>
                      <a:pt x="2891" y="1620"/>
                    </a:lnTo>
                    <a:lnTo>
                      <a:pt x="2856" y="1500"/>
                    </a:lnTo>
                    <a:lnTo>
                      <a:pt x="2848" y="1392"/>
                    </a:lnTo>
                    <a:lnTo>
                      <a:pt x="2859" y="1212"/>
                    </a:lnTo>
                    <a:lnTo>
                      <a:pt x="2912" y="948"/>
                    </a:lnTo>
                    <a:lnTo>
                      <a:pt x="2987" y="720"/>
                    </a:lnTo>
                    <a:lnTo>
                      <a:pt x="3019" y="600"/>
                    </a:lnTo>
                    <a:lnTo>
                      <a:pt x="3051" y="714"/>
                    </a:lnTo>
                    <a:lnTo>
                      <a:pt x="3067" y="798"/>
                    </a:lnTo>
                    <a:lnTo>
                      <a:pt x="3088" y="924"/>
                    </a:lnTo>
                    <a:lnTo>
                      <a:pt x="3109" y="1062"/>
                    </a:lnTo>
                    <a:lnTo>
                      <a:pt x="3136" y="1188"/>
                    </a:lnTo>
                    <a:lnTo>
                      <a:pt x="3168" y="1296"/>
                    </a:lnTo>
                    <a:lnTo>
                      <a:pt x="3205" y="1368"/>
                    </a:lnTo>
                    <a:lnTo>
                      <a:pt x="3229" y="1398"/>
                    </a:lnTo>
                    <a:lnTo>
                      <a:pt x="3275" y="1452"/>
                    </a:lnTo>
                    <a:lnTo>
                      <a:pt x="3339" y="1500"/>
                    </a:lnTo>
                    <a:lnTo>
                      <a:pt x="3381" y="1524"/>
                    </a:lnTo>
                    <a:lnTo>
                      <a:pt x="3467" y="1560"/>
                    </a:lnTo>
                    <a:lnTo>
                      <a:pt x="3523" y="1572"/>
                    </a:lnTo>
                    <a:lnTo>
                      <a:pt x="3584" y="1575"/>
                    </a:lnTo>
                    <a:lnTo>
                      <a:pt x="3648" y="1572"/>
                    </a:lnTo>
                    <a:lnTo>
                      <a:pt x="3723" y="1578"/>
                    </a:lnTo>
                    <a:lnTo>
                      <a:pt x="3797" y="1560"/>
                    </a:lnTo>
                    <a:lnTo>
                      <a:pt x="3840" y="1536"/>
                    </a:lnTo>
                    <a:lnTo>
                      <a:pt x="3840" y="1476"/>
                    </a:lnTo>
                    <a:lnTo>
                      <a:pt x="3808" y="1452"/>
                    </a:lnTo>
                    <a:lnTo>
                      <a:pt x="3765" y="1446"/>
                    </a:lnTo>
                    <a:lnTo>
                      <a:pt x="3712" y="1452"/>
                    </a:lnTo>
                    <a:lnTo>
                      <a:pt x="3637" y="1464"/>
                    </a:lnTo>
                    <a:lnTo>
                      <a:pt x="3499" y="1440"/>
                    </a:lnTo>
                    <a:lnTo>
                      <a:pt x="3413" y="1413"/>
                    </a:lnTo>
                    <a:lnTo>
                      <a:pt x="3360" y="1362"/>
                    </a:lnTo>
                    <a:lnTo>
                      <a:pt x="3304" y="1278"/>
                    </a:lnTo>
                    <a:lnTo>
                      <a:pt x="3275" y="1206"/>
                    </a:lnTo>
                    <a:lnTo>
                      <a:pt x="3251" y="1128"/>
                    </a:lnTo>
                    <a:lnTo>
                      <a:pt x="3229" y="1044"/>
                    </a:lnTo>
                    <a:lnTo>
                      <a:pt x="3221" y="960"/>
                    </a:lnTo>
                    <a:lnTo>
                      <a:pt x="3211" y="780"/>
                    </a:lnTo>
                    <a:lnTo>
                      <a:pt x="3189" y="600"/>
                    </a:lnTo>
                    <a:lnTo>
                      <a:pt x="3157" y="474"/>
                    </a:lnTo>
                    <a:lnTo>
                      <a:pt x="3104" y="366"/>
                    </a:lnTo>
                    <a:lnTo>
                      <a:pt x="3035" y="282"/>
                    </a:lnTo>
                    <a:lnTo>
                      <a:pt x="2944" y="216"/>
                    </a:lnTo>
                    <a:lnTo>
                      <a:pt x="2805" y="144"/>
                    </a:lnTo>
                    <a:lnTo>
                      <a:pt x="2539" y="120"/>
                    </a:lnTo>
                    <a:lnTo>
                      <a:pt x="2368" y="144"/>
                    </a:lnTo>
                    <a:lnTo>
                      <a:pt x="2165" y="156"/>
                    </a:lnTo>
                    <a:lnTo>
                      <a:pt x="1867" y="168"/>
                    </a:lnTo>
                    <a:lnTo>
                      <a:pt x="1696" y="132"/>
                    </a:lnTo>
                    <a:lnTo>
                      <a:pt x="1259" y="144"/>
                    </a:lnTo>
                    <a:lnTo>
                      <a:pt x="1216" y="144"/>
                    </a:lnTo>
                    <a:lnTo>
                      <a:pt x="885" y="48"/>
                    </a:lnTo>
                    <a:lnTo>
                      <a:pt x="619" y="0"/>
                    </a:lnTo>
                    <a:lnTo>
                      <a:pt x="299" y="0"/>
                    </a:lnTo>
                    <a:lnTo>
                      <a:pt x="117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583b"/>
                  </a:gs>
                  <a:gs pos="100000">
                    <a:srgbClr val="ffc080"/>
                  </a:gs>
                </a:gsLst>
                <a:lin ang="5400000"/>
              </a:gra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714080" y="5221800"/>
                <a:ext cx="453240" cy="308520"/>
              </a:xfrm>
              <a:custGeom>
                <a:avLst/>
                <a:gdLst/>
                <a:ahLst/>
                <a:rect l="l" t="t" r="r" b="b"/>
                <a:pathLst>
                  <a:path w="269" h="174">
                    <a:moveTo>
                      <a:pt x="3" y="61"/>
                    </a:moveTo>
                    <a:lnTo>
                      <a:pt x="12" y="37"/>
                    </a:lnTo>
                    <a:lnTo>
                      <a:pt x="44" y="18"/>
                    </a:lnTo>
                    <a:lnTo>
                      <a:pt x="70" y="12"/>
                    </a:lnTo>
                    <a:lnTo>
                      <a:pt x="113" y="0"/>
                    </a:lnTo>
                    <a:lnTo>
                      <a:pt x="164" y="9"/>
                    </a:lnTo>
                    <a:lnTo>
                      <a:pt x="194" y="18"/>
                    </a:lnTo>
                    <a:lnTo>
                      <a:pt x="217" y="30"/>
                    </a:lnTo>
                    <a:lnTo>
                      <a:pt x="241" y="48"/>
                    </a:lnTo>
                    <a:lnTo>
                      <a:pt x="269" y="86"/>
                    </a:lnTo>
                    <a:lnTo>
                      <a:pt x="238" y="118"/>
                    </a:lnTo>
                    <a:lnTo>
                      <a:pt x="212" y="135"/>
                    </a:lnTo>
                    <a:lnTo>
                      <a:pt x="189" y="153"/>
                    </a:lnTo>
                    <a:lnTo>
                      <a:pt x="151" y="164"/>
                    </a:lnTo>
                    <a:lnTo>
                      <a:pt x="113" y="174"/>
                    </a:lnTo>
                    <a:lnTo>
                      <a:pt x="91" y="174"/>
                    </a:lnTo>
                    <a:lnTo>
                      <a:pt x="54" y="169"/>
                    </a:lnTo>
                    <a:lnTo>
                      <a:pt x="38" y="160"/>
                    </a:lnTo>
                    <a:lnTo>
                      <a:pt x="14" y="150"/>
                    </a:lnTo>
                    <a:lnTo>
                      <a:pt x="4" y="129"/>
                    </a:lnTo>
                    <a:lnTo>
                      <a:pt x="0" y="98"/>
                    </a:lnTo>
                    <a:lnTo>
                      <a:pt x="2" y="70"/>
                    </a:lnTo>
                    <a:lnTo>
                      <a:pt x="3" y="61"/>
                    </a:lnTo>
                    <a:close/>
                  </a:path>
                </a:pathLst>
              </a:custGeom>
              <a:solidFill>
                <a:srgbClr val="404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3" name=""/>
              <p:cNvGrpSpPr/>
              <p:nvPr/>
            </p:nvGrpSpPr>
            <p:grpSpPr>
              <a:xfrm>
                <a:off x="1602000" y="3485160"/>
                <a:ext cx="357840" cy="690480"/>
                <a:chOff x="1602000" y="3485160"/>
                <a:chExt cx="357840" cy="69048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1602000" y="3850920"/>
                  <a:ext cx="78840" cy="92160"/>
                </a:xfrm>
                <a:custGeom>
                  <a:avLst/>
                  <a:gdLst/>
                  <a:ahLst/>
                  <a:rect l="l" t="t" r="r" b="b"/>
                  <a:pathLst>
                    <a:path w="47" h="52">
                      <a:moveTo>
                        <a:pt x="0" y="28"/>
                      </a:moveTo>
                      <a:lnTo>
                        <a:pt x="22" y="17"/>
                      </a:lnTo>
                      <a:lnTo>
                        <a:pt x="47" y="0"/>
                      </a:lnTo>
                      <a:lnTo>
                        <a:pt x="43" y="26"/>
                      </a:lnTo>
                      <a:lnTo>
                        <a:pt x="35" y="40"/>
                      </a:lnTo>
                      <a:lnTo>
                        <a:pt x="29" y="52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a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796760" y="4095720"/>
                  <a:ext cx="163080" cy="79920"/>
                </a:xfrm>
                <a:custGeom>
                  <a:avLst/>
                  <a:gdLst/>
                  <a:ahLst/>
                  <a:rect l="l" t="t" r="r" b="b"/>
                  <a:pathLst>
                    <a:path w="97" h="45">
                      <a:moveTo>
                        <a:pt x="0" y="45"/>
                      </a:moveTo>
                      <a:lnTo>
                        <a:pt x="33" y="43"/>
                      </a:lnTo>
                      <a:lnTo>
                        <a:pt x="56" y="43"/>
                      </a:lnTo>
                      <a:lnTo>
                        <a:pt x="77" y="28"/>
                      </a:lnTo>
                      <a:lnTo>
                        <a:pt x="9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815480" y="3485160"/>
                  <a:ext cx="97560" cy="88920"/>
                </a:xfrm>
                <a:custGeom>
                  <a:avLst/>
                  <a:gdLst/>
                  <a:ahLst/>
                  <a:rect l="l" t="t" r="r" b="b"/>
                  <a:pathLst>
                    <a:path w="58" h="50">
                      <a:moveTo>
                        <a:pt x="0" y="0"/>
                      </a:moveTo>
                      <a:lnTo>
                        <a:pt x="58" y="17"/>
                      </a:lnTo>
                      <a:lnTo>
                        <a:pt x="17" y="5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865880" y="3562920"/>
                  <a:ext cx="18360" cy="97560"/>
                </a:xfrm>
                <a:custGeom>
                  <a:avLst/>
                  <a:gdLst/>
                  <a:ahLst/>
                  <a:rect l="l" t="t" r="r" b="b"/>
                  <a:pathLst>
                    <a:path w="11" h="55">
                      <a:moveTo>
                        <a:pt x="2" y="0"/>
                      </a:moveTo>
                      <a:lnTo>
                        <a:pt x="0" y="22"/>
                      </a:lnTo>
                      <a:lnTo>
                        <a:pt x="2" y="37"/>
                      </a:lnTo>
                      <a:lnTo>
                        <a:pt x="7" y="52"/>
                      </a:lnTo>
                      <a:lnTo>
                        <a:pt x="11" y="55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3366360" y="4289400"/>
                <a:ext cx="2255760" cy="313560"/>
                <a:chOff x="3366360" y="4289400"/>
                <a:chExt cx="2255760" cy="3135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3366360" y="4326120"/>
                  <a:ext cx="557280" cy="276840"/>
                </a:xfrm>
                <a:custGeom>
                  <a:avLst/>
                  <a:gdLst/>
                  <a:ahLst/>
                  <a:rect l="l" t="t" r="r" b="b"/>
                  <a:pathLst>
                    <a:path w="331" h="156">
                      <a:moveTo>
                        <a:pt x="0" y="156"/>
                      </a:moveTo>
                      <a:lnTo>
                        <a:pt x="21" y="99"/>
                      </a:lnTo>
                      <a:lnTo>
                        <a:pt x="56" y="54"/>
                      </a:lnTo>
                      <a:lnTo>
                        <a:pt x="104" y="21"/>
                      </a:lnTo>
                      <a:lnTo>
                        <a:pt x="141" y="9"/>
                      </a:lnTo>
                      <a:lnTo>
                        <a:pt x="182" y="0"/>
                      </a:lnTo>
                      <a:lnTo>
                        <a:pt x="222" y="12"/>
                      </a:lnTo>
                      <a:lnTo>
                        <a:pt x="275" y="27"/>
                      </a:lnTo>
                      <a:lnTo>
                        <a:pt x="331" y="5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083200" y="4289400"/>
                  <a:ext cx="538920" cy="202320"/>
                </a:xfrm>
                <a:custGeom>
                  <a:avLst/>
                  <a:gdLst/>
                  <a:ahLst/>
                  <a:rect l="l" t="t" r="r" b="b"/>
                  <a:pathLst>
                    <a:path w="320" h="114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69" y="3"/>
                      </a:lnTo>
                      <a:lnTo>
                        <a:pt x="117" y="6"/>
                      </a:lnTo>
                      <a:lnTo>
                        <a:pt x="168" y="12"/>
                      </a:lnTo>
                      <a:lnTo>
                        <a:pt x="221" y="24"/>
                      </a:lnTo>
                      <a:lnTo>
                        <a:pt x="259" y="51"/>
                      </a:lnTo>
                      <a:lnTo>
                        <a:pt x="296" y="78"/>
                      </a:lnTo>
                      <a:lnTo>
                        <a:pt x="320" y="11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1613880" y="2489040"/>
                <a:ext cx="2930400" cy="2450160"/>
              </a:xfrm>
              <a:custGeom>
                <a:avLst/>
                <a:gdLst/>
                <a:ahLst/>
                <a:rect l="l" t="t" r="r" b="b"/>
                <a:pathLst>
                  <a:path w="1739" h="1380">
                    <a:moveTo>
                      <a:pt x="96" y="492"/>
                    </a:moveTo>
                    <a:lnTo>
                      <a:pt x="85" y="444"/>
                    </a:lnTo>
                    <a:lnTo>
                      <a:pt x="32" y="516"/>
                    </a:lnTo>
                    <a:lnTo>
                      <a:pt x="53" y="408"/>
                    </a:lnTo>
                    <a:lnTo>
                      <a:pt x="96" y="324"/>
                    </a:lnTo>
                    <a:lnTo>
                      <a:pt x="0" y="384"/>
                    </a:lnTo>
                    <a:lnTo>
                      <a:pt x="107" y="288"/>
                    </a:lnTo>
                    <a:lnTo>
                      <a:pt x="48" y="240"/>
                    </a:lnTo>
                    <a:lnTo>
                      <a:pt x="128" y="210"/>
                    </a:lnTo>
                    <a:lnTo>
                      <a:pt x="165" y="186"/>
                    </a:lnTo>
                    <a:lnTo>
                      <a:pt x="123" y="162"/>
                    </a:lnTo>
                    <a:lnTo>
                      <a:pt x="203" y="132"/>
                    </a:lnTo>
                    <a:lnTo>
                      <a:pt x="245" y="78"/>
                    </a:lnTo>
                    <a:lnTo>
                      <a:pt x="325" y="72"/>
                    </a:lnTo>
                    <a:lnTo>
                      <a:pt x="384" y="36"/>
                    </a:lnTo>
                    <a:lnTo>
                      <a:pt x="469" y="60"/>
                    </a:lnTo>
                    <a:lnTo>
                      <a:pt x="576" y="48"/>
                    </a:lnTo>
                    <a:lnTo>
                      <a:pt x="560" y="6"/>
                    </a:lnTo>
                    <a:lnTo>
                      <a:pt x="635" y="30"/>
                    </a:lnTo>
                    <a:lnTo>
                      <a:pt x="789" y="12"/>
                    </a:lnTo>
                    <a:lnTo>
                      <a:pt x="779" y="48"/>
                    </a:lnTo>
                    <a:lnTo>
                      <a:pt x="886" y="0"/>
                    </a:lnTo>
                    <a:lnTo>
                      <a:pt x="918" y="60"/>
                    </a:lnTo>
                    <a:lnTo>
                      <a:pt x="960" y="36"/>
                    </a:lnTo>
                    <a:lnTo>
                      <a:pt x="960" y="72"/>
                    </a:lnTo>
                    <a:lnTo>
                      <a:pt x="950" y="72"/>
                    </a:lnTo>
                    <a:lnTo>
                      <a:pt x="1046" y="24"/>
                    </a:lnTo>
                    <a:lnTo>
                      <a:pt x="1014" y="72"/>
                    </a:lnTo>
                    <a:lnTo>
                      <a:pt x="1163" y="60"/>
                    </a:lnTo>
                    <a:lnTo>
                      <a:pt x="1270" y="120"/>
                    </a:lnTo>
                    <a:lnTo>
                      <a:pt x="1376" y="144"/>
                    </a:lnTo>
                    <a:lnTo>
                      <a:pt x="1430" y="156"/>
                    </a:lnTo>
                    <a:lnTo>
                      <a:pt x="1408" y="192"/>
                    </a:lnTo>
                    <a:lnTo>
                      <a:pt x="1526" y="192"/>
                    </a:lnTo>
                    <a:lnTo>
                      <a:pt x="1579" y="216"/>
                    </a:lnTo>
                    <a:lnTo>
                      <a:pt x="1632" y="252"/>
                    </a:lnTo>
                    <a:lnTo>
                      <a:pt x="1579" y="276"/>
                    </a:lnTo>
                    <a:lnTo>
                      <a:pt x="1675" y="300"/>
                    </a:lnTo>
                    <a:lnTo>
                      <a:pt x="1739" y="300"/>
                    </a:lnTo>
                    <a:lnTo>
                      <a:pt x="1675" y="360"/>
                    </a:lnTo>
                    <a:lnTo>
                      <a:pt x="1579" y="384"/>
                    </a:lnTo>
                    <a:lnTo>
                      <a:pt x="1504" y="372"/>
                    </a:lnTo>
                    <a:lnTo>
                      <a:pt x="1387" y="420"/>
                    </a:lnTo>
                    <a:lnTo>
                      <a:pt x="1483" y="468"/>
                    </a:lnTo>
                    <a:lnTo>
                      <a:pt x="1398" y="516"/>
                    </a:lnTo>
                    <a:lnTo>
                      <a:pt x="1259" y="492"/>
                    </a:lnTo>
                    <a:lnTo>
                      <a:pt x="1216" y="516"/>
                    </a:lnTo>
                    <a:lnTo>
                      <a:pt x="1291" y="624"/>
                    </a:lnTo>
                    <a:lnTo>
                      <a:pt x="1216" y="720"/>
                    </a:lnTo>
                    <a:lnTo>
                      <a:pt x="1131" y="744"/>
                    </a:lnTo>
                    <a:lnTo>
                      <a:pt x="1110" y="816"/>
                    </a:lnTo>
                    <a:lnTo>
                      <a:pt x="1083" y="900"/>
                    </a:lnTo>
                    <a:lnTo>
                      <a:pt x="1035" y="1002"/>
                    </a:lnTo>
                    <a:lnTo>
                      <a:pt x="960" y="1068"/>
                    </a:lnTo>
                    <a:lnTo>
                      <a:pt x="907" y="1008"/>
                    </a:lnTo>
                    <a:lnTo>
                      <a:pt x="832" y="1050"/>
                    </a:lnTo>
                    <a:lnTo>
                      <a:pt x="768" y="1152"/>
                    </a:lnTo>
                    <a:lnTo>
                      <a:pt x="640" y="1260"/>
                    </a:lnTo>
                    <a:lnTo>
                      <a:pt x="629" y="1368"/>
                    </a:lnTo>
                    <a:lnTo>
                      <a:pt x="565" y="1308"/>
                    </a:lnTo>
                    <a:lnTo>
                      <a:pt x="555" y="1380"/>
                    </a:lnTo>
                    <a:lnTo>
                      <a:pt x="491" y="1260"/>
                    </a:lnTo>
                    <a:lnTo>
                      <a:pt x="459" y="1212"/>
                    </a:lnTo>
                    <a:lnTo>
                      <a:pt x="437" y="1296"/>
                    </a:lnTo>
                    <a:lnTo>
                      <a:pt x="427" y="1188"/>
                    </a:lnTo>
                    <a:lnTo>
                      <a:pt x="373" y="1092"/>
                    </a:lnTo>
                    <a:lnTo>
                      <a:pt x="320" y="1104"/>
                    </a:lnTo>
                    <a:lnTo>
                      <a:pt x="261" y="972"/>
                    </a:lnTo>
                    <a:lnTo>
                      <a:pt x="293" y="924"/>
                    </a:lnTo>
                    <a:lnTo>
                      <a:pt x="325" y="846"/>
                    </a:lnTo>
                    <a:lnTo>
                      <a:pt x="336" y="744"/>
                    </a:lnTo>
                    <a:lnTo>
                      <a:pt x="293" y="678"/>
                    </a:lnTo>
                    <a:lnTo>
                      <a:pt x="325" y="594"/>
                    </a:lnTo>
                    <a:lnTo>
                      <a:pt x="336" y="522"/>
                    </a:lnTo>
                    <a:lnTo>
                      <a:pt x="267" y="456"/>
                    </a:lnTo>
                    <a:lnTo>
                      <a:pt x="256" y="336"/>
                    </a:lnTo>
                    <a:lnTo>
                      <a:pt x="208" y="378"/>
                    </a:lnTo>
                    <a:lnTo>
                      <a:pt x="176" y="426"/>
                    </a:lnTo>
                    <a:lnTo>
                      <a:pt x="149" y="414"/>
                    </a:lnTo>
                    <a:lnTo>
                      <a:pt x="96" y="4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f0017"/>
                  </a:gs>
                  <a:gs pos="100000">
                    <a:srgbClr val="6600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2153160" y="2858400"/>
                <a:ext cx="243720" cy="375480"/>
                <a:chOff x="2153160" y="2858400"/>
                <a:chExt cx="243720" cy="3754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2153160" y="2858400"/>
                  <a:ext cx="243720" cy="375480"/>
                </a:xfrm>
                <a:custGeom>
                  <a:avLst/>
                  <a:gdLst/>
                  <a:ahLst/>
                  <a:rect l="l" t="t" r="r" b="b"/>
                  <a:pathLst>
                    <a:path w="145" h="212">
                      <a:moveTo>
                        <a:pt x="117" y="212"/>
                      </a:moveTo>
                      <a:lnTo>
                        <a:pt x="128" y="176"/>
                      </a:lnTo>
                      <a:lnTo>
                        <a:pt x="139" y="140"/>
                      </a:lnTo>
                      <a:lnTo>
                        <a:pt x="144" y="117"/>
                      </a:lnTo>
                      <a:lnTo>
                        <a:pt x="145" y="93"/>
                      </a:lnTo>
                      <a:lnTo>
                        <a:pt x="144" y="65"/>
                      </a:lnTo>
                      <a:lnTo>
                        <a:pt x="137" y="34"/>
                      </a:lnTo>
                      <a:lnTo>
                        <a:pt x="125" y="19"/>
                      </a:lnTo>
                      <a:lnTo>
                        <a:pt x="109" y="7"/>
                      </a:lnTo>
                      <a:lnTo>
                        <a:pt x="87" y="0"/>
                      </a:lnTo>
                      <a:lnTo>
                        <a:pt x="57" y="11"/>
                      </a:lnTo>
                      <a:lnTo>
                        <a:pt x="38" y="29"/>
                      </a:lnTo>
                      <a:lnTo>
                        <a:pt x="21" y="56"/>
                      </a:lnTo>
                      <a:lnTo>
                        <a:pt x="11" y="80"/>
                      </a:lnTo>
                      <a:lnTo>
                        <a:pt x="0" y="128"/>
                      </a:lnTo>
                      <a:lnTo>
                        <a:pt x="117" y="212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189880" y="2902320"/>
                  <a:ext cx="198360" cy="320760"/>
                </a:xfrm>
                <a:custGeom>
                  <a:avLst/>
                  <a:gdLst/>
                  <a:ahLst/>
                  <a:rect l="l" t="t" r="r" b="b"/>
                  <a:pathLst>
                    <a:path w="118" h="181">
                      <a:moveTo>
                        <a:pt x="28" y="99"/>
                      </a:moveTo>
                      <a:lnTo>
                        <a:pt x="0" y="113"/>
                      </a:lnTo>
                      <a:lnTo>
                        <a:pt x="25" y="132"/>
                      </a:lnTo>
                      <a:lnTo>
                        <a:pt x="58" y="155"/>
                      </a:lnTo>
                      <a:lnTo>
                        <a:pt x="97" y="181"/>
                      </a:lnTo>
                      <a:lnTo>
                        <a:pt x="118" y="116"/>
                      </a:lnTo>
                      <a:lnTo>
                        <a:pt x="114" y="100"/>
                      </a:lnTo>
                      <a:lnTo>
                        <a:pt x="116" y="78"/>
                      </a:lnTo>
                      <a:lnTo>
                        <a:pt x="113" y="60"/>
                      </a:lnTo>
                      <a:lnTo>
                        <a:pt x="91" y="82"/>
                      </a:lnTo>
                      <a:lnTo>
                        <a:pt x="108" y="48"/>
                      </a:lnTo>
                      <a:lnTo>
                        <a:pt x="104" y="33"/>
                      </a:lnTo>
                      <a:lnTo>
                        <a:pt x="97" y="20"/>
                      </a:lnTo>
                      <a:lnTo>
                        <a:pt x="84" y="5"/>
                      </a:lnTo>
                      <a:lnTo>
                        <a:pt x="57" y="0"/>
                      </a:lnTo>
                      <a:lnTo>
                        <a:pt x="63" y="15"/>
                      </a:lnTo>
                      <a:lnTo>
                        <a:pt x="62" y="26"/>
                      </a:lnTo>
                      <a:lnTo>
                        <a:pt x="34" y="39"/>
                      </a:lnTo>
                      <a:lnTo>
                        <a:pt x="60" y="47"/>
                      </a:lnTo>
                      <a:lnTo>
                        <a:pt x="42" y="55"/>
                      </a:lnTo>
                      <a:lnTo>
                        <a:pt x="69" y="64"/>
                      </a:lnTo>
                      <a:lnTo>
                        <a:pt x="40" y="68"/>
                      </a:lnTo>
                      <a:lnTo>
                        <a:pt x="63" y="78"/>
                      </a:lnTo>
                      <a:lnTo>
                        <a:pt x="39" y="91"/>
                      </a:lnTo>
                      <a:lnTo>
                        <a:pt x="69" y="92"/>
                      </a:lnTo>
                      <a:lnTo>
                        <a:pt x="63" y="127"/>
                      </a:lnTo>
                      <a:lnTo>
                        <a:pt x="28" y="99"/>
                      </a:lnTo>
                      <a:close/>
                    </a:path>
                  </a:pathLst>
                </a:custGeom>
                <a:solidFill>
                  <a:srgbClr val="4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57200" y="457200"/>
            <a:ext cx="8001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ahoma"/>
              </a:rPr>
              <a:t>МЫШКА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OUSE1" descr=""/>
          <p:cNvPicPr/>
          <p:nvPr/>
        </p:nvPicPr>
        <p:blipFill>
          <a:blip r:embed="rId1"/>
          <a:stretch/>
        </p:blipFill>
        <p:spPr>
          <a:xfrm>
            <a:off x="3505320" y="2514600"/>
            <a:ext cx="2338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7200" y="457200"/>
            <a:ext cx="8001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00"/>
                </a:solidFill>
                <a:latin typeface="Tahoma"/>
              </a:rPr>
              <a:t>ДЕЛЬФИН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57400" y="2292480"/>
            <a:ext cx="5105520" cy="3949560"/>
            <a:chOff x="2057400" y="2292480"/>
            <a:chExt cx="5105520" cy="3949560"/>
          </a:xfrm>
        </p:grpSpPr>
        <p:sp>
          <p:nvSpPr>
            <p:cNvPr id="259" name=""/>
            <p:cNvSpPr/>
            <p:nvPr/>
          </p:nvSpPr>
          <p:spPr>
            <a:xfrm>
              <a:off x="2209680" y="4503600"/>
              <a:ext cx="4953240" cy="1738440"/>
            </a:xfrm>
            <a:custGeom>
              <a:avLst/>
              <a:gdLst/>
              <a:ahLst/>
              <a:rect l="l" t="t" r="r" b="b"/>
              <a:pathLst>
                <a:path w="3120" h="1095">
                  <a:moveTo>
                    <a:pt x="1520" y="654"/>
                  </a:moveTo>
                  <a:lnTo>
                    <a:pt x="1465" y="719"/>
                  </a:lnTo>
                  <a:lnTo>
                    <a:pt x="1403" y="770"/>
                  </a:lnTo>
                  <a:lnTo>
                    <a:pt x="1337" y="810"/>
                  </a:lnTo>
                  <a:lnTo>
                    <a:pt x="1260" y="840"/>
                  </a:lnTo>
                  <a:lnTo>
                    <a:pt x="1184" y="854"/>
                  </a:lnTo>
                  <a:lnTo>
                    <a:pt x="1103" y="861"/>
                  </a:lnTo>
                  <a:lnTo>
                    <a:pt x="1019" y="861"/>
                  </a:lnTo>
                  <a:lnTo>
                    <a:pt x="935" y="851"/>
                  </a:lnTo>
                  <a:lnTo>
                    <a:pt x="851" y="832"/>
                  </a:lnTo>
                  <a:lnTo>
                    <a:pt x="771" y="810"/>
                  </a:lnTo>
                  <a:lnTo>
                    <a:pt x="694" y="781"/>
                  </a:lnTo>
                  <a:lnTo>
                    <a:pt x="621" y="748"/>
                  </a:lnTo>
                  <a:lnTo>
                    <a:pt x="555" y="712"/>
                  </a:lnTo>
                  <a:lnTo>
                    <a:pt x="497" y="672"/>
                  </a:lnTo>
                  <a:lnTo>
                    <a:pt x="446" y="632"/>
                  </a:lnTo>
                  <a:lnTo>
                    <a:pt x="406" y="588"/>
                  </a:lnTo>
                  <a:lnTo>
                    <a:pt x="427" y="628"/>
                  </a:lnTo>
                  <a:lnTo>
                    <a:pt x="442" y="661"/>
                  </a:lnTo>
                  <a:lnTo>
                    <a:pt x="442" y="690"/>
                  </a:lnTo>
                  <a:lnTo>
                    <a:pt x="431" y="712"/>
                  </a:lnTo>
                  <a:lnTo>
                    <a:pt x="409" y="726"/>
                  </a:lnTo>
                  <a:lnTo>
                    <a:pt x="376" y="730"/>
                  </a:lnTo>
                  <a:lnTo>
                    <a:pt x="329" y="726"/>
                  </a:lnTo>
                  <a:lnTo>
                    <a:pt x="267" y="716"/>
                  </a:lnTo>
                  <a:lnTo>
                    <a:pt x="274" y="756"/>
                  </a:lnTo>
                  <a:lnTo>
                    <a:pt x="259" y="789"/>
                  </a:lnTo>
                  <a:lnTo>
                    <a:pt x="234" y="818"/>
                  </a:lnTo>
                  <a:lnTo>
                    <a:pt x="197" y="840"/>
                  </a:lnTo>
                  <a:lnTo>
                    <a:pt x="150" y="854"/>
                  </a:lnTo>
                  <a:lnTo>
                    <a:pt x="99" y="861"/>
                  </a:lnTo>
                  <a:lnTo>
                    <a:pt x="47" y="861"/>
                  </a:lnTo>
                  <a:lnTo>
                    <a:pt x="0" y="858"/>
                  </a:lnTo>
                  <a:lnTo>
                    <a:pt x="0" y="1095"/>
                  </a:lnTo>
                  <a:lnTo>
                    <a:pt x="3120" y="1095"/>
                  </a:lnTo>
                  <a:lnTo>
                    <a:pt x="3120" y="1069"/>
                  </a:lnTo>
                  <a:lnTo>
                    <a:pt x="3120" y="1007"/>
                  </a:lnTo>
                  <a:lnTo>
                    <a:pt x="3120" y="931"/>
                  </a:lnTo>
                  <a:lnTo>
                    <a:pt x="3120" y="858"/>
                  </a:lnTo>
                  <a:lnTo>
                    <a:pt x="3043" y="869"/>
                  </a:lnTo>
                  <a:lnTo>
                    <a:pt x="2974" y="869"/>
                  </a:lnTo>
                  <a:lnTo>
                    <a:pt x="2915" y="854"/>
                  </a:lnTo>
                  <a:lnTo>
                    <a:pt x="2868" y="836"/>
                  </a:lnTo>
                  <a:lnTo>
                    <a:pt x="2835" y="807"/>
                  </a:lnTo>
                  <a:lnTo>
                    <a:pt x="2817" y="778"/>
                  </a:lnTo>
                  <a:lnTo>
                    <a:pt x="2813" y="752"/>
                  </a:lnTo>
                  <a:lnTo>
                    <a:pt x="2824" y="726"/>
                  </a:lnTo>
                  <a:lnTo>
                    <a:pt x="2861" y="668"/>
                  </a:lnTo>
                  <a:lnTo>
                    <a:pt x="2868" y="613"/>
                  </a:lnTo>
                  <a:lnTo>
                    <a:pt x="2850" y="577"/>
                  </a:lnTo>
                  <a:lnTo>
                    <a:pt x="2820" y="573"/>
                  </a:lnTo>
                  <a:lnTo>
                    <a:pt x="2784" y="584"/>
                  </a:lnTo>
                  <a:lnTo>
                    <a:pt x="2769" y="584"/>
                  </a:lnTo>
                  <a:lnTo>
                    <a:pt x="2762" y="570"/>
                  </a:lnTo>
                  <a:lnTo>
                    <a:pt x="2766" y="548"/>
                  </a:lnTo>
                  <a:lnTo>
                    <a:pt x="2773" y="519"/>
                  </a:lnTo>
                  <a:lnTo>
                    <a:pt x="2773" y="482"/>
                  </a:lnTo>
                  <a:lnTo>
                    <a:pt x="2769" y="442"/>
                  </a:lnTo>
                  <a:lnTo>
                    <a:pt x="2751" y="398"/>
                  </a:lnTo>
                  <a:lnTo>
                    <a:pt x="2740" y="409"/>
                  </a:lnTo>
                  <a:lnTo>
                    <a:pt x="2725" y="420"/>
                  </a:lnTo>
                  <a:lnTo>
                    <a:pt x="2711" y="431"/>
                  </a:lnTo>
                  <a:lnTo>
                    <a:pt x="2696" y="438"/>
                  </a:lnTo>
                  <a:lnTo>
                    <a:pt x="2678" y="442"/>
                  </a:lnTo>
                  <a:lnTo>
                    <a:pt x="2660" y="446"/>
                  </a:lnTo>
                  <a:lnTo>
                    <a:pt x="2645" y="442"/>
                  </a:lnTo>
                  <a:lnTo>
                    <a:pt x="2627" y="438"/>
                  </a:lnTo>
                  <a:lnTo>
                    <a:pt x="2605" y="427"/>
                  </a:lnTo>
                  <a:lnTo>
                    <a:pt x="2587" y="409"/>
                  </a:lnTo>
                  <a:lnTo>
                    <a:pt x="2579" y="391"/>
                  </a:lnTo>
                  <a:lnTo>
                    <a:pt x="2576" y="362"/>
                  </a:lnTo>
                  <a:lnTo>
                    <a:pt x="2583" y="332"/>
                  </a:lnTo>
                  <a:lnTo>
                    <a:pt x="2601" y="292"/>
                  </a:lnTo>
                  <a:lnTo>
                    <a:pt x="2627" y="249"/>
                  </a:lnTo>
                  <a:lnTo>
                    <a:pt x="2667" y="197"/>
                  </a:lnTo>
                  <a:lnTo>
                    <a:pt x="2682" y="172"/>
                  </a:lnTo>
                  <a:lnTo>
                    <a:pt x="2685" y="154"/>
                  </a:lnTo>
                  <a:lnTo>
                    <a:pt x="2682" y="135"/>
                  </a:lnTo>
                  <a:lnTo>
                    <a:pt x="2667" y="128"/>
                  </a:lnTo>
                  <a:lnTo>
                    <a:pt x="2649" y="124"/>
                  </a:lnTo>
                  <a:lnTo>
                    <a:pt x="2630" y="128"/>
                  </a:lnTo>
                  <a:lnTo>
                    <a:pt x="2609" y="135"/>
                  </a:lnTo>
                  <a:lnTo>
                    <a:pt x="2594" y="154"/>
                  </a:lnTo>
                  <a:lnTo>
                    <a:pt x="2583" y="165"/>
                  </a:lnTo>
                  <a:lnTo>
                    <a:pt x="2572" y="172"/>
                  </a:lnTo>
                  <a:lnTo>
                    <a:pt x="2557" y="190"/>
                  </a:lnTo>
                  <a:lnTo>
                    <a:pt x="2543" y="216"/>
                  </a:lnTo>
                  <a:lnTo>
                    <a:pt x="2521" y="245"/>
                  </a:lnTo>
                  <a:lnTo>
                    <a:pt x="2495" y="249"/>
                  </a:lnTo>
                  <a:lnTo>
                    <a:pt x="2473" y="223"/>
                  </a:lnTo>
                  <a:lnTo>
                    <a:pt x="2470" y="161"/>
                  </a:lnTo>
                  <a:lnTo>
                    <a:pt x="2459" y="81"/>
                  </a:lnTo>
                  <a:lnTo>
                    <a:pt x="2430" y="33"/>
                  </a:lnTo>
                  <a:lnTo>
                    <a:pt x="2397" y="8"/>
                  </a:lnTo>
                  <a:lnTo>
                    <a:pt x="2371" y="0"/>
                  </a:lnTo>
                  <a:lnTo>
                    <a:pt x="2331" y="8"/>
                  </a:lnTo>
                  <a:lnTo>
                    <a:pt x="2313" y="37"/>
                  </a:lnTo>
                  <a:lnTo>
                    <a:pt x="2313" y="81"/>
                  </a:lnTo>
                  <a:lnTo>
                    <a:pt x="2324" y="124"/>
                  </a:lnTo>
                  <a:lnTo>
                    <a:pt x="2335" y="146"/>
                  </a:lnTo>
                  <a:lnTo>
                    <a:pt x="2342" y="183"/>
                  </a:lnTo>
                  <a:lnTo>
                    <a:pt x="2342" y="227"/>
                  </a:lnTo>
                  <a:lnTo>
                    <a:pt x="2324" y="278"/>
                  </a:lnTo>
                  <a:lnTo>
                    <a:pt x="2313" y="252"/>
                  </a:lnTo>
                  <a:lnTo>
                    <a:pt x="2298" y="227"/>
                  </a:lnTo>
                  <a:lnTo>
                    <a:pt x="2283" y="205"/>
                  </a:lnTo>
                  <a:lnTo>
                    <a:pt x="2269" y="186"/>
                  </a:lnTo>
                  <a:lnTo>
                    <a:pt x="2254" y="172"/>
                  </a:lnTo>
                  <a:lnTo>
                    <a:pt x="2240" y="157"/>
                  </a:lnTo>
                  <a:lnTo>
                    <a:pt x="2221" y="146"/>
                  </a:lnTo>
                  <a:lnTo>
                    <a:pt x="2207" y="143"/>
                  </a:lnTo>
                  <a:lnTo>
                    <a:pt x="2188" y="143"/>
                  </a:lnTo>
                  <a:lnTo>
                    <a:pt x="2166" y="143"/>
                  </a:lnTo>
                  <a:lnTo>
                    <a:pt x="2148" y="150"/>
                  </a:lnTo>
                  <a:lnTo>
                    <a:pt x="2134" y="161"/>
                  </a:lnTo>
                  <a:lnTo>
                    <a:pt x="2130" y="176"/>
                  </a:lnTo>
                  <a:lnTo>
                    <a:pt x="2134" y="197"/>
                  </a:lnTo>
                  <a:lnTo>
                    <a:pt x="2148" y="227"/>
                  </a:lnTo>
                  <a:lnTo>
                    <a:pt x="2181" y="259"/>
                  </a:lnTo>
                  <a:lnTo>
                    <a:pt x="2210" y="300"/>
                  </a:lnTo>
                  <a:lnTo>
                    <a:pt x="2221" y="340"/>
                  </a:lnTo>
                  <a:lnTo>
                    <a:pt x="2218" y="376"/>
                  </a:lnTo>
                  <a:lnTo>
                    <a:pt x="2207" y="409"/>
                  </a:lnTo>
                  <a:lnTo>
                    <a:pt x="2185" y="431"/>
                  </a:lnTo>
                  <a:lnTo>
                    <a:pt x="2163" y="446"/>
                  </a:lnTo>
                  <a:lnTo>
                    <a:pt x="2141" y="442"/>
                  </a:lnTo>
                  <a:lnTo>
                    <a:pt x="2123" y="424"/>
                  </a:lnTo>
                  <a:lnTo>
                    <a:pt x="2093" y="478"/>
                  </a:lnTo>
                  <a:lnTo>
                    <a:pt x="2053" y="533"/>
                  </a:lnTo>
                  <a:lnTo>
                    <a:pt x="2013" y="577"/>
                  </a:lnTo>
                  <a:lnTo>
                    <a:pt x="1962" y="617"/>
                  </a:lnTo>
                  <a:lnTo>
                    <a:pt x="1911" y="654"/>
                  </a:lnTo>
                  <a:lnTo>
                    <a:pt x="1860" y="683"/>
                  </a:lnTo>
                  <a:lnTo>
                    <a:pt x="1805" y="708"/>
                  </a:lnTo>
                  <a:lnTo>
                    <a:pt x="1750" y="726"/>
                  </a:lnTo>
                  <a:lnTo>
                    <a:pt x="1699" y="741"/>
                  </a:lnTo>
                  <a:lnTo>
                    <a:pt x="1651" y="748"/>
                  </a:lnTo>
                  <a:lnTo>
                    <a:pt x="1611" y="748"/>
                  </a:lnTo>
                  <a:lnTo>
                    <a:pt x="1575" y="741"/>
                  </a:lnTo>
                  <a:lnTo>
                    <a:pt x="1545" y="730"/>
                  </a:lnTo>
                  <a:lnTo>
                    <a:pt x="1527" y="712"/>
                  </a:lnTo>
                  <a:lnTo>
                    <a:pt x="1516" y="686"/>
                  </a:lnTo>
                  <a:lnTo>
                    <a:pt x="1520" y="654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64000" y="2292480"/>
              <a:ext cx="128880" cy="109440"/>
            </a:xfrm>
            <a:custGeom>
              <a:avLst/>
              <a:gdLst/>
              <a:ahLst/>
              <a:rect l="l" t="t" r="r" b="b"/>
              <a:pathLst>
                <a:path w="81" h="69">
                  <a:moveTo>
                    <a:pt x="33" y="69"/>
                  </a:moveTo>
                  <a:lnTo>
                    <a:pt x="48" y="69"/>
                  </a:lnTo>
                  <a:lnTo>
                    <a:pt x="63" y="65"/>
                  </a:lnTo>
                  <a:lnTo>
                    <a:pt x="74" y="54"/>
                  </a:lnTo>
                  <a:lnTo>
                    <a:pt x="81" y="43"/>
                  </a:lnTo>
                  <a:lnTo>
                    <a:pt x="81" y="29"/>
                  </a:lnTo>
                  <a:lnTo>
                    <a:pt x="74" y="18"/>
                  </a:lnTo>
                  <a:lnTo>
                    <a:pt x="63" y="7"/>
                  </a:lnTo>
                  <a:lnTo>
                    <a:pt x="48" y="3"/>
                  </a:lnTo>
                  <a:lnTo>
                    <a:pt x="33" y="0"/>
                  </a:lnTo>
                  <a:lnTo>
                    <a:pt x="19" y="3"/>
                  </a:lnTo>
                  <a:lnTo>
                    <a:pt x="8" y="14"/>
                  </a:lnTo>
                  <a:lnTo>
                    <a:pt x="0" y="25"/>
                  </a:lnTo>
                  <a:lnTo>
                    <a:pt x="0" y="40"/>
                  </a:lnTo>
                  <a:lnTo>
                    <a:pt x="8" y="51"/>
                  </a:lnTo>
                  <a:lnTo>
                    <a:pt x="19" y="62"/>
                  </a:lnTo>
                  <a:lnTo>
                    <a:pt x="33" y="69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851440" y="2482920"/>
              <a:ext cx="122400" cy="109440"/>
            </a:xfrm>
            <a:custGeom>
              <a:avLst/>
              <a:gdLst/>
              <a:ahLst/>
              <a:rect l="l" t="t" r="r" b="b"/>
              <a:pathLst>
                <a:path w="77" h="69">
                  <a:moveTo>
                    <a:pt x="30" y="66"/>
                  </a:moveTo>
                  <a:lnTo>
                    <a:pt x="44" y="69"/>
                  </a:lnTo>
                  <a:lnTo>
                    <a:pt x="59" y="66"/>
                  </a:lnTo>
                  <a:lnTo>
                    <a:pt x="70" y="55"/>
                  </a:lnTo>
                  <a:lnTo>
                    <a:pt x="77" y="44"/>
                  </a:lnTo>
                  <a:lnTo>
                    <a:pt x="77" y="29"/>
                  </a:lnTo>
                  <a:lnTo>
                    <a:pt x="73" y="18"/>
                  </a:lnTo>
                  <a:lnTo>
                    <a:pt x="62" y="7"/>
                  </a:lnTo>
                  <a:lnTo>
                    <a:pt x="48" y="0"/>
                  </a:lnTo>
                  <a:lnTo>
                    <a:pt x="33" y="0"/>
                  </a:lnTo>
                  <a:lnTo>
                    <a:pt x="19" y="4"/>
                  </a:lnTo>
                  <a:lnTo>
                    <a:pt x="8" y="11"/>
                  </a:lnTo>
                  <a:lnTo>
                    <a:pt x="0" y="22"/>
                  </a:lnTo>
                  <a:lnTo>
                    <a:pt x="0" y="37"/>
                  </a:lnTo>
                  <a:lnTo>
                    <a:pt x="8" y="51"/>
                  </a:lnTo>
                  <a:lnTo>
                    <a:pt x="19" y="62"/>
                  </a:lnTo>
                  <a:lnTo>
                    <a:pt x="30" y="66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98920" y="3537000"/>
              <a:ext cx="500400" cy="347760"/>
            </a:xfrm>
            <a:custGeom>
              <a:avLst/>
              <a:gdLst/>
              <a:ahLst/>
              <a:rect l="l" t="t" r="r" b="b"/>
              <a:pathLst>
                <a:path w="315" h="219">
                  <a:moveTo>
                    <a:pt x="315" y="219"/>
                  </a:moveTo>
                  <a:lnTo>
                    <a:pt x="315" y="164"/>
                  </a:lnTo>
                  <a:lnTo>
                    <a:pt x="300" y="113"/>
                  </a:lnTo>
                  <a:lnTo>
                    <a:pt x="278" y="69"/>
                  </a:lnTo>
                  <a:lnTo>
                    <a:pt x="245" y="37"/>
                  </a:lnTo>
                  <a:lnTo>
                    <a:pt x="201" y="11"/>
                  </a:lnTo>
                  <a:lnTo>
                    <a:pt x="154" y="0"/>
                  </a:lnTo>
                  <a:lnTo>
                    <a:pt x="99" y="0"/>
                  </a:lnTo>
                  <a:lnTo>
                    <a:pt x="41" y="18"/>
                  </a:lnTo>
                  <a:lnTo>
                    <a:pt x="4" y="44"/>
                  </a:lnTo>
                  <a:lnTo>
                    <a:pt x="0" y="73"/>
                  </a:lnTo>
                  <a:lnTo>
                    <a:pt x="19" y="91"/>
                  </a:lnTo>
                  <a:lnTo>
                    <a:pt x="48" y="88"/>
                  </a:lnTo>
                  <a:lnTo>
                    <a:pt x="52" y="88"/>
                  </a:lnTo>
                  <a:lnTo>
                    <a:pt x="70" y="84"/>
                  </a:lnTo>
                  <a:lnTo>
                    <a:pt x="103" y="84"/>
                  </a:lnTo>
                  <a:lnTo>
                    <a:pt x="143" y="84"/>
                  </a:lnTo>
                  <a:lnTo>
                    <a:pt x="190" y="95"/>
                  </a:lnTo>
                  <a:lnTo>
                    <a:pt x="238" y="117"/>
                  </a:lnTo>
                  <a:lnTo>
                    <a:pt x="282" y="157"/>
                  </a:lnTo>
                  <a:lnTo>
                    <a:pt x="315" y="219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153120" y="2668680"/>
              <a:ext cx="441360" cy="450720"/>
            </a:xfrm>
            <a:custGeom>
              <a:avLst/>
              <a:gdLst/>
              <a:ahLst/>
              <a:rect l="l" t="t" r="r" b="b"/>
              <a:pathLst>
                <a:path w="278" h="284">
                  <a:moveTo>
                    <a:pt x="143" y="190"/>
                  </a:moveTo>
                  <a:lnTo>
                    <a:pt x="143" y="222"/>
                  </a:lnTo>
                  <a:lnTo>
                    <a:pt x="154" y="252"/>
                  </a:lnTo>
                  <a:lnTo>
                    <a:pt x="168" y="270"/>
                  </a:lnTo>
                  <a:lnTo>
                    <a:pt x="190" y="281"/>
                  </a:lnTo>
                  <a:lnTo>
                    <a:pt x="212" y="284"/>
                  </a:lnTo>
                  <a:lnTo>
                    <a:pt x="234" y="277"/>
                  </a:lnTo>
                  <a:lnTo>
                    <a:pt x="256" y="263"/>
                  </a:lnTo>
                  <a:lnTo>
                    <a:pt x="271" y="237"/>
                  </a:lnTo>
                  <a:lnTo>
                    <a:pt x="278" y="204"/>
                  </a:lnTo>
                  <a:lnTo>
                    <a:pt x="267" y="171"/>
                  </a:lnTo>
                  <a:lnTo>
                    <a:pt x="241" y="142"/>
                  </a:lnTo>
                  <a:lnTo>
                    <a:pt x="209" y="109"/>
                  </a:lnTo>
                  <a:lnTo>
                    <a:pt x="161" y="80"/>
                  </a:lnTo>
                  <a:lnTo>
                    <a:pt x="110" y="51"/>
                  </a:lnTo>
                  <a:lnTo>
                    <a:pt x="55" y="25"/>
                  </a:lnTo>
                  <a:lnTo>
                    <a:pt x="0" y="0"/>
                  </a:lnTo>
                  <a:lnTo>
                    <a:pt x="70" y="40"/>
                  </a:lnTo>
                  <a:lnTo>
                    <a:pt x="121" y="80"/>
                  </a:lnTo>
                  <a:lnTo>
                    <a:pt x="157" y="117"/>
                  </a:lnTo>
                  <a:lnTo>
                    <a:pt x="179" y="153"/>
                  </a:lnTo>
                  <a:lnTo>
                    <a:pt x="190" y="179"/>
                  </a:lnTo>
                  <a:lnTo>
                    <a:pt x="183" y="197"/>
                  </a:lnTo>
                  <a:lnTo>
                    <a:pt x="168" y="200"/>
                  </a:lnTo>
                  <a:lnTo>
                    <a:pt x="143" y="19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7720" y="4168800"/>
              <a:ext cx="144360" cy="201600"/>
            </a:xfrm>
            <a:custGeom>
              <a:avLst/>
              <a:gdLst/>
              <a:ahLst/>
              <a:rect l="l" t="t" r="r" b="b"/>
              <a:pathLst>
                <a:path w="91" h="127">
                  <a:moveTo>
                    <a:pt x="69" y="127"/>
                  </a:moveTo>
                  <a:lnTo>
                    <a:pt x="84" y="117"/>
                  </a:lnTo>
                  <a:lnTo>
                    <a:pt x="91" y="98"/>
                  </a:lnTo>
                  <a:lnTo>
                    <a:pt x="91" y="76"/>
                  </a:lnTo>
                  <a:lnTo>
                    <a:pt x="84" y="51"/>
                  </a:lnTo>
                  <a:lnTo>
                    <a:pt x="73" y="25"/>
                  </a:lnTo>
                  <a:lnTo>
                    <a:pt x="58" y="7"/>
                  </a:lnTo>
                  <a:lnTo>
                    <a:pt x="40" y="0"/>
                  </a:lnTo>
                  <a:lnTo>
                    <a:pt x="22" y="0"/>
                  </a:lnTo>
                  <a:lnTo>
                    <a:pt x="7" y="11"/>
                  </a:lnTo>
                  <a:lnTo>
                    <a:pt x="0" y="29"/>
                  </a:lnTo>
                  <a:lnTo>
                    <a:pt x="0" y="51"/>
                  </a:lnTo>
                  <a:lnTo>
                    <a:pt x="7" y="76"/>
                  </a:lnTo>
                  <a:lnTo>
                    <a:pt x="18" y="102"/>
                  </a:lnTo>
                  <a:lnTo>
                    <a:pt x="33" y="117"/>
                  </a:lnTo>
                  <a:lnTo>
                    <a:pt x="51" y="127"/>
                  </a:lnTo>
                  <a:lnTo>
                    <a:pt x="69" y="127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2057400" y="3200400"/>
              <a:ext cx="3409920" cy="1900080"/>
              <a:chOff x="2057400" y="3200400"/>
              <a:chExt cx="3409920" cy="190008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2057400" y="3200400"/>
                <a:ext cx="3029040" cy="1569960"/>
                <a:chOff x="2057400" y="3200400"/>
                <a:chExt cx="3029040" cy="15699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2057400" y="3200400"/>
                  <a:ext cx="3029040" cy="1569960"/>
                </a:xfrm>
                <a:custGeom>
                  <a:avLst/>
                  <a:gdLst/>
                  <a:ahLst/>
                  <a:rect l="l" t="t" r="r" b="b"/>
                  <a:pathLst>
                    <a:path w="1908" h="989">
                      <a:moveTo>
                        <a:pt x="1813" y="275"/>
                      </a:moveTo>
                      <a:lnTo>
                        <a:pt x="1839" y="295"/>
                      </a:lnTo>
                      <a:lnTo>
                        <a:pt x="1862" y="318"/>
                      </a:lnTo>
                      <a:lnTo>
                        <a:pt x="1880" y="341"/>
                      </a:lnTo>
                      <a:lnTo>
                        <a:pt x="1896" y="362"/>
                      </a:lnTo>
                      <a:lnTo>
                        <a:pt x="1906" y="385"/>
                      </a:lnTo>
                      <a:lnTo>
                        <a:pt x="1908" y="404"/>
                      </a:lnTo>
                      <a:lnTo>
                        <a:pt x="1906" y="422"/>
                      </a:lnTo>
                      <a:lnTo>
                        <a:pt x="1894" y="436"/>
                      </a:lnTo>
                      <a:lnTo>
                        <a:pt x="1899" y="441"/>
                      </a:lnTo>
                      <a:lnTo>
                        <a:pt x="1892" y="448"/>
                      </a:lnTo>
                      <a:lnTo>
                        <a:pt x="1878" y="452"/>
                      </a:lnTo>
                      <a:lnTo>
                        <a:pt x="1855" y="459"/>
                      </a:lnTo>
                      <a:lnTo>
                        <a:pt x="1827" y="468"/>
                      </a:lnTo>
                      <a:lnTo>
                        <a:pt x="1793" y="475"/>
                      </a:lnTo>
                      <a:lnTo>
                        <a:pt x="1753" y="484"/>
                      </a:lnTo>
                      <a:lnTo>
                        <a:pt x="1712" y="491"/>
                      </a:lnTo>
                      <a:lnTo>
                        <a:pt x="1668" y="501"/>
                      </a:lnTo>
                      <a:lnTo>
                        <a:pt x="1622" y="508"/>
                      </a:lnTo>
                      <a:lnTo>
                        <a:pt x="1578" y="517"/>
                      </a:lnTo>
                      <a:lnTo>
                        <a:pt x="1532" y="524"/>
                      </a:lnTo>
                      <a:lnTo>
                        <a:pt x="1490" y="531"/>
                      </a:lnTo>
                      <a:lnTo>
                        <a:pt x="1451" y="537"/>
                      </a:lnTo>
                      <a:lnTo>
                        <a:pt x="1417" y="542"/>
                      </a:lnTo>
                      <a:lnTo>
                        <a:pt x="1387" y="547"/>
                      </a:lnTo>
                      <a:lnTo>
                        <a:pt x="1347" y="554"/>
                      </a:lnTo>
                      <a:lnTo>
                        <a:pt x="1303" y="561"/>
                      </a:lnTo>
                      <a:lnTo>
                        <a:pt x="1255" y="567"/>
                      </a:lnTo>
                      <a:lnTo>
                        <a:pt x="1204" y="574"/>
                      </a:lnTo>
                      <a:lnTo>
                        <a:pt x="1151" y="584"/>
                      </a:lnTo>
                      <a:lnTo>
                        <a:pt x="1098" y="593"/>
                      </a:lnTo>
                      <a:lnTo>
                        <a:pt x="1043" y="600"/>
                      </a:lnTo>
                      <a:lnTo>
                        <a:pt x="987" y="609"/>
                      </a:lnTo>
                      <a:lnTo>
                        <a:pt x="934" y="616"/>
                      </a:lnTo>
                      <a:lnTo>
                        <a:pt x="881" y="625"/>
                      </a:lnTo>
                      <a:lnTo>
                        <a:pt x="833" y="632"/>
                      </a:lnTo>
                      <a:lnTo>
                        <a:pt x="787" y="637"/>
                      </a:lnTo>
                      <a:lnTo>
                        <a:pt x="745" y="644"/>
                      </a:lnTo>
                      <a:lnTo>
                        <a:pt x="708" y="646"/>
                      </a:lnTo>
                      <a:lnTo>
                        <a:pt x="676" y="648"/>
                      </a:lnTo>
                      <a:lnTo>
                        <a:pt x="651" y="650"/>
                      </a:lnTo>
                      <a:lnTo>
                        <a:pt x="593" y="655"/>
                      </a:lnTo>
                      <a:lnTo>
                        <a:pt x="538" y="664"/>
                      </a:lnTo>
                      <a:lnTo>
                        <a:pt x="482" y="680"/>
                      </a:lnTo>
                      <a:lnTo>
                        <a:pt x="434" y="697"/>
                      </a:lnTo>
                      <a:lnTo>
                        <a:pt x="390" y="715"/>
                      </a:lnTo>
                      <a:lnTo>
                        <a:pt x="353" y="733"/>
                      </a:lnTo>
                      <a:lnTo>
                        <a:pt x="323" y="750"/>
                      </a:lnTo>
                      <a:lnTo>
                        <a:pt x="305" y="763"/>
                      </a:lnTo>
                      <a:lnTo>
                        <a:pt x="291" y="787"/>
                      </a:lnTo>
                      <a:lnTo>
                        <a:pt x="298" y="810"/>
                      </a:lnTo>
                      <a:lnTo>
                        <a:pt x="311" y="842"/>
                      </a:lnTo>
                      <a:lnTo>
                        <a:pt x="318" y="895"/>
                      </a:lnTo>
                      <a:lnTo>
                        <a:pt x="314" y="923"/>
                      </a:lnTo>
                      <a:lnTo>
                        <a:pt x="302" y="946"/>
                      </a:lnTo>
                      <a:lnTo>
                        <a:pt x="286" y="962"/>
                      </a:lnTo>
                      <a:lnTo>
                        <a:pt x="268" y="973"/>
                      </a:lnTo>
                      <a:lnTo>
                        <a:pt x="247" y="983"/>
                      </a:lnTo>
                      <a:lnTo>
                        <a:pt x="228" y="987"/>
                      </a:lnTo>
                      <a:lnTo>
                        <a:pt x="212" y="989"/>
                      </a:lnTo>
                      <a:lnTo>
                        <a:pt x="201" y="989"/>
                      </a:lnTo>
                      <a:lnTo>
                        <a:pt x="215" y="971"/>
                      </a:lnTo>
                      <a:lnTo>
                        <a:pt x="221" y="946"/>
                      </a:lnTo>
                      <a:lnTo>
                        <a:pt x="224" y="925"/>
                      </a:lnTo>
                      <a:lnTo>
                        <a:pt x="224" y="916"/>
                      </a:lnTo>
                      <a:lnTo>
                        <a:pt x="224" y="916"/>
                      </a:lnTo>
                      <a:lnTo>
                        <a:pt x="221" y="911"/>
                      </a:lnTo>
                      <a:lnTo>
                        <a:pt x="217" y="900"/>
                      </a:lnTo>
                      <a:lnTo>
                        <a:pt x="208" y="879"/>
                      </a:lnTo>
                      <a:lnTo>
                        <a:pt x="201" y="867"/>
                      </a:lnTo>
                      <a:lnTo>
                        <a:pt x="191" y="858"/>
                      </a:lnTo>
                      <a:lnTo>
                        <a:pt x="180" y="851"/>
                      </a:lnTo>
                      <a:lnTo>
                        <a:pt x="168" y="849"/>
                      </a:lnTo>
                      <a:lnTo>
                        <a:pt x="157" y="846"/>
                      </a:lnTo>
                      <a:lnTo>
                        <a:pt x="145" y="846"/>
                      </a:lnTo>
                      <a:lnTo>
                        <a:pt x="136" y="844"/>
                      </a:lnTo>
                      <a:lnTo>
                        <a:pt x="127" y="844"/>
                      </a:lnTo>
                      <a:lnTo>
                        <a:pt x="120" y="842"/>
                      </a:lnTo>
                      <a:lnTo>
                        <a:pt x="120" y="835"/>
                      </a:lnTo>
                      <a:lnTo>
                        <a:pt x="118" y="830"/>
                      </a:lnTo>
                      <a:lnTo>
                        <a:pt x="106" y="828"/>
                      </a:lnTo>
                      <a:lnTo>
                        <a:pt x="88" y="826"/>
                      </a:lnTo>
                      <a:lnTo>
                        <a:pt x="72" y="821"/>
                      </a:lnTo>
                      <a:lnTo>
                        <a:pt x="55" y="814"/>
                      </a:lnTo>
                      <a:lnTo>
                        <a:pt x="42" y="803"/>
                      </a:lnTo>
                      <a:lnTo>
                        <a:pt x="32" y="796"/>
                      </a:lnTo>
                      <a:lnTo>
                        <a:pt x="23" y="798"/>
                      </a:lnTo>
                      <a:lnTo>
                        <a:pt x="14" y="803"/>
                      </a:lnTo>
                      <a:lnTo>
                        <a:pt x="0" y="805"/>
                      </a:lnTo>
                      <a:lnTo>
                        <a:pt x="9" y="793"/>
                      </a:lnTo>
                      <a:lnTo>
                        <a:pt x="23" y="782"/>
                      </a:lnTo>
                      <a:lnTo>
                        <a:pt x="39" y="770"/>
                      </a:lnTo>
                      <a:lnTo>
                        <a:pt x="55" y="759"/>
                      </a:lnTo>
                      <a:lnTo>
                        <a:pt x="65" y="754"/>
                      </a:lnTo>
                      <a:lnTo>
                        <a:pt x="81" y="750"/>
                      </a:lnTo>
                      <a:lnTo>
                        <a:pt x="99" y="747"/>
                      </a:lnTo>
                      <a:lnTo>
                        <a:pt x="118" y="745"/>
                      </a:lnTo>
                      <a:lnTo>
                        <a:pt x="141" y="743"/>
                      </a:lnTo>
                      <a:lnTo>
                        <a:pt x="164" y="740"/>
                      </a:lnTo>
                      <a:lnTo>
                        <a:pt x="187" y="738"/>
                      </a:lnTo>
                      <a:lnTo>
                        <a:pt x="208" y="731"/>
                      </a:lnTo>
                      <a:lnTo>
                        <a:pt x="231" y="722"/>
                      </a:lnTo>
                      <a:lnTo>
                        <a:pt x="258" y="704"/>
                      </a:lnTo>
                      <a:lnTo>
                        <a:pt x="286" y="685"/>
                      </a:lnTo>
                      <a:lnTo>
                        <a:pt x="314" y="662"/>
                      </a:lnTo>
                      <a:lnTo>
                        <a:pt x="339" y="641"/>
                      </a:lnTo>
                      <a:lnTo>
                        <a:pt x="360" y="623"/>
                      </a:lnTo>
                      <a:lnTo>
                        <a:pt x="374" y="609"/>
                      </a:lnTo>
                      <a:lnTo>
                        <a:pt x="378" y="604"/>
                      </a:lnTo>
                      <a:lnTo>
                        <a:pt x="441" y="551"/>
                      </a:lnTo>
                      <a:lnTo>
                        <a:pt x="503" y="503"/>
                      </a:lnTo>
                      <a:lnTo>
                        <a:pt x="565" y="459"/>
                      </a:lnTo>
                      <a:lnTo>
                        <a:pt x="625" y="420"/>
                      </a:lnTo>
                      <a:lnTo>
                        <a:pt x="683" y="388"/>
                      </a:lnTo>
                      <a:lnTo>
                        <a:pt x="738" y="358"/>
                      </a:lnTo>
                      <a:lnTo>
                        <a:pt x="791" y="332"/>
                      </a:lnTo>
                      <a:lnTo>
                        <a:pt x="842" y="309"/>
                      </a:lnTo>
                      <a:lnTo>
                        <a:pt x="888" y="293"/>
                      </a:lnTo>
                      <a:lnTo>
                        <a:pt x="930" y="277"/>
                      </a:lnTo>
                      <a:lnTo>
                        <a:pt x="964" y="265"/>
                      </a:lnTo>
                      <a:lnTo>
                        <a:pt x="997" y="256"/>
                      </a:lnTo>
                      <a:lnTo>
                        <a:pt x="1020" y="249"/>
                      </a:lnTo>
                      <a:lnTo>
                        <a:pt x="1038" y="245"/>
                      </a:lnTo>
                      <a:lnTo>
                        <a:pt x="1050" y="242"/>
                      </a:lnTo>
                      <a:lnTo>
                        <a:pt x="1054" y="242"/>
                      </a:lnTo>
                      <a:lnTo>
                        <a:pt x="1096" y="226"/>
                      </a:lnTo>
                      <a:lnTo>
                        <a:pt x="1121" y="203"/>
                      </a:lnTo>
                      <a:lnTo>
                        <a:pt x="1135" y="175"/>
                      </a:lnTo>
                      <a:lnTo>
                        <a:pt x="1140" y="145"/>
                      </a:lnTo>
                      <a:lnTo>
                        <a:pt x="1135" y="118"/>
                      </a:lnTo>
                      <a:lnTo>
                        <a:pt x="1128" y="95"/>
                      </a:lnTo>
                      <a:lnTo>
                        <a:pt x="1119" y="76"/>
                      </a:lnTo>
                      <a:lnTo>
                        <a:pt x="1110" y="69"/>
                      </a:lnTo>
                      <a:lnTo>
                        <a:pt x="1091" y="44"/>
                      </a:lnTo>
                      <a:lnTo>
                        <a:pt x="1082" y="26"/>
                      </a:lnTo>
                      <a:lnTo>
                        <a:pt x="1082" y="14"/>
                      </a:lnTo>
                      <a:lnTo>
                        <a:pt x="1087" y="5"/>
                      </a:lnTo>
                      <a:lnTo>
                        <a:pt x="1094" y="3"/>
                      </a:lnTo>
                      <a:lnTo>
                        <a:pt x="1103" y="0"/>
                      </a:lnTo>
                      <a:lnTo>
                        <a:pt x="1110" y="0"/>
                      </a:lnTo>
                      <a:lnTo>
                        <a:pt x="1112" y="0"/>
                      </a:lnTo>
                      <a:lnTo>
                        <a:pt x="1144" y="19"/>
                      </a:lnTo>
                      <a:lnTo>
                        <a:pt x="1179" y="46"/>
                      </a:lnTo>
                      <a:lnTo>
                        <a:pt x="1213" y="79"/>
                      </a:lnTo>
                      <a:lnTo>
                        <a:pt x="1248" y="113"/>
                      </a:lnTo>
                      <a:lnTo>
                        <a:pt x="1276" y="145"/>
                      </a:lnTo>
                      <a:lnTo>
                        <a:pt x="1301" y="175"/>
                      </a:lnTo>
                      <a:lnTo>
                        <a:pt x="1322" y="194"/>
                      </a:lnTo>
                      <a:lnTo>
                        <a:pt x="1333" y="201"/>
                      </a:lnTo>
                      <a:lnTo>
                        <a:pt x="1347" y="201"/>
                      </a:lnTo>
                      <a:lnTo>
                        <a:pt x="1366" y="203"/>
                      </a:lnTo>
                      <a:lnTo>
                        <a:pt x="1391" y="203"/>
                      </a:lnTo>
                      <a:lnTo>
                        <a:pt x="1421" y="205"/>
                      </a:lnTo>
                      <a:lnTo>
                        <a:pt x="1456" y="208"/>
                      </a:lnTo>
                      <a:lnTo>
                        <a:pt x="1493" y="212"/>
                      </a:lnTo>
                      <a:lnTo>
                        <a:pt x="1530" y="215"/>
                      </a:lnTo>
                      <a:lnTo>
                        <a:pt x="1569" y="219"/>
                      </a:lnTo>
                      <a:lnTo>
                        <a:pt x="1608" y="224"/>
                      </a:lnTo>
                      <a:lnTo>
                        <a:pt x="1647" y="229"/>
                      </a:lnTo>
                      <a:lnTo>
                        <a:pt x="1684" y="235"/>
                      </a:lnTo>
                      <a:lnTo>
                        <a:pt x="1719" y="242"/>
                      </a:lnTo>
                      <a:lnTo>
                        <a:pt x="1749" y="249"/>
                      </a:lnTo>
                      <a:lnTo>
                        <a:pt x="1776" y="256"/>
                      </a:lnTo>
                      <a:lnTo>
                        <a:pt x="1797" y="265"/>
                      </a:lnTo>
                      <a:lnTo>
                        <a:pt x="1813" y="2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186360" y="3943080"/>
                  <a:ext cx="581040" cy="260640"/>
                </a:xfrm>
                <a:custGeom>
                  <a:avLst/>
                  <a:gdLst/>
                  <a:ahLst/>
                  <a:rect l="l" t="t" r="r" b="b"/>
                  <a:pathLst>
                    <a:path w="366" h="164">
                      <a:moveTo>
                        <a:pt x="0" y="164"/>
                      </a:moveTo>
                      <a:lnTo>
                        <a:pt x="6" y="153"/>
                      </a:lnTo>
                      <a:lnTo>
                        <a:pt x="16" y="136"/>
                      </a:lnTo>
                      <a:lnTo>
                        <a:pt x="34" y="116"/>
                      </a:lnTo>
                      <a:lnTo>
                        <a:pt x="62" y="90"/>
                      </a:lnTo>
                      <a:lnTo>
                        <a:pt x="99" y="65"/>
                      </a:lnTo>
                      <a:lnTo>
                        <a:pt x="150" y="40"/>
                      </a:lnTo>
                      <a:lnTo>
                        <a:pt x="214" y="19"/>
                      </a:lnTo>
                      <a:lnTo>
                        <a:pt x="297" y="0"/>
                      </a:lnTo>
                      <a:lnTo>
                        <a:pt x="332" y="0"/>
                      </a:lnTo>
                      <a:lnTo>
                        <a:pt x="353" y="12"/>
                      </a:lnTo>
                      <a:lnTo>
                        <a:pt x="364" y="28"/>
                      </a:lnTo>
                      <a:lnTo>
                        <a:pt x="366" y="51"/>
                      </a:lnTo>
                      <a:lnTo>
                        <a:pt x="362" y="74"/>
                      </a:lnTo>
                      <a:lnTo>
                        <a:pt x="355" y="95"/>
                      </a:lnTo>
                      <a:lnTo>
                        <a:pt x="346" y="109"/>
                      </a:lnTo>
                      <a:lnTo>
                        <a:pt x="339" y="116"/>
                      </a:lnTo>
                      <a:lnTo>
                        <a:pt x="281" y="127"/>
                      </a:lnTo>
                      <a:lnTo>
                        <a:pt x="221" y="139"/>
                      </a:lnTo>
                      <a:lnTo>
                        <a:pt x="163" y="146"/>
                      </a:lnTo>
                      <a:lnTo>
                        <a:pt x="113" y="153"/>
                      </a:lnTo>
                      <a:lnTo>
                        <a:pt x="66" y="157"/>
                      </a:lnTo>
                      <a:lnTo>
                        <a:pt x="32" y="162"/>
                      </a:lnTo>
                      <a:lnTo>
                        <a:pt x="9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226040" y="3870360"/>
                  <a:ext cx="816120" cy="193680"/>
                </a:xfrm>
                <a:custGeom>
                  <a:avLst/>
                  <a:gdLst/>
                  <a:ahLst/>
                  <a:rect l="l" t="t" r="r" b="b"/>
                  <a:pathLst>
                    <a:path w="514" h="122">
                      <a:moveTo>
                        <a:pt x="0" y="122"/>
                      </a:moveTo>
                      <a:lnTo>
                        <a:pt x="16" y="106"/>
                      </a:lnTo>
                      <a:lnTo>
                        <a:pt x="32" y="88"/>
                      </a:lnTo>
                      <a:lnTo>
                        <a:pt x="48" y="72"/>
                      </a:lnTo>
                      <a:lnTo>
                        <a:pt x="69" y="53"/>
                      </a:lnTo>
                      <a:lnTo>
                        <a:pt x="94" y="39"/>
                      </a:lnTo>
                      <a:lnTo>
                        <a:pt x="127" y="26"/>
                      </a:lnTo>
                      <a:lnTo>
                        <a:pt x="168" y="14"/>
                      </a:lnTo>
                      <a:lnTo>
                        <a:pt x="224" y="5"/>
                      </a:lnTo>
                      <a:lnTo>
                        <a:pt x="249" y="3"/>
                      </a:lnTo>
                      <a:lnTo>
                        <a:pt x="293" y="3"/>
                      </a:lnTo>
                      <a:lnTo>
                        <a:pt x="348" y="0"/>
                      </a:lnTo>
                      <a:lnTo>
                        <a:pt x="403" y="0"/>
                      </a:lnTo>
                      <a:lnTo>
                        <a:pt x="457" y="3"/>
                      </a:lnTo>
                      <a:lnTo>
                        <a:pt x="496" y="5"/>
                      </a:lnTo>
                      <a:lnTo>
                        <a:pt x="514" y="9"/>
                      </a:lnTo>
                      <a:lnTo>
                        <a:pt x="507" y="16"/>
                      </a:lnTo>
                      <a:lnTo>
                        <a:pt x="480" y="26"/>
                      </a:lnTo>
                      <a:lnTo>
                        <a:pt x="452" y="32"/>
                      </a:lnTo>
                      <a:lnTo>
                        <a:pt x="422" y="39"/>
                      </a:lnTo>
                      <a:lnTo>
                        <a:pt x="392" y="46"/>
                      </a:lnTo>
                      <a:lnTo>
                        <a:pt x="355" y="56"/>
                      </a:lnTo>
                      <a:lnTo>
                        <a:pt x="311" y="65"/>
                      </a:lnTo>
                      <a:lnTo>
                        <a:pt x="260" y="74"/>
                      </a:lnTo>
                      <a:lnTo>
                        <a:pt x="198" y="86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013280" y="3895560"/>
                  <a:ext cx="465120" cy="322200"/>
                </a:xfrm>
                <a:custGeom>
                  <a:avLst/>
                  <a:gdLst/>
                  <a:ahLst/>
                  <a:rect l="l" t="t" r="r" b="b"/>
                  <a:pathLst>
                    <a:path w="293" h="203">
                      <a:moveTo>
                        <a:pt x="240" y="3"/>
                      </a:moveTo>
                      <a:lnTo>
                        <a:pt x="235" y="7"/>
                      </a:lnTo>
                      <a:lnTo>
                        <a:pt x="228" y="10"/>
                      </a:lnTo>
                      <a:lnTo>
                        <a:pt x="221" y="12"/>
                      </a:lnTo>
                      <a:lnTo>
                        <a:pt x="212" y="14"/>
                      </a:lnTo>
                      <a:lnTo>
                        <a:pt x="201" y="16"/>
                      </a:lnTo>
                      <a:lnTo>
                        <a:pt x="189" y="19"/>
                      </a:lnTo>
                      <a:lnTo>
                        <a:pt x="180" y="23"/>
                      </a:lnTo>
                      <a:lnTo>
                        <a:pt x="168" y="30"/>
                      </a:lnTo>
                      <a:lnTo>
                        <a:pt x="157" y="37"/>
                      </a:lnTo>
                      <a:lnTo>
                        <a:pt x="143" y="44"/>
                      </a:lnTo>
                      <a:lnTo>
                        <a:pt x="127" y="51"/>
                      </a:lnTo>
                      <a:lnTo>
                        <a:pt x="111" y="60"/>
                      </a:lnTo>
                      <a:lnTo>
                        <a:pt x="92" y="70"/>
                      </a:lnTo>
                      <a:lnTo>
                        <a:pt x="76" y="81"/>
                      </a:lnTo>
                      <a:lnTo>
                        <a:pt x="62" y="93"/>
                      </a:lnTo>
                      <a:lnTo>
                        <a:pt x="48" y="106"/>
                      </a:lnTo>
                      <a:lnTo>
                        <a:pt x="28" y="134"/>
                      </a:lnTo>
                      <a:lnTo>
                        <a:pt x="11" y="164"/>
                      </a:lnTo>
                      <a:lnTo>
                        <a:pt x="2" y="187"/>
                      </a:lnTo>
                      <a:lnTo>
                        <a:pt x="0" y="201"/>
                      </a:lnTo>
                      <a:lnTo>
                        <a:pt x="7" y="203"/>
                      </a:lnTo>
                      <a:lnTo>
                        <a:pt x="21" y="203"/>
                      </a:lnTo>
                      <a:lnTo>
                        <a:pt x="41" y="199"/>
                      </a:lnTo>
                      <a:lnTo>
                        <a:pt x="67" y="194"/>
                      </a:lnTo>
                      <a:lnTo>
                        <a:pt x="92" y="189"/>
                      </a:lnTo>
                      <a:lnTo>
                        <a:pt x="115" y="180"/>
                      </a:lnTo>
                      <a:lnTo>
                        <a:pt x="138" y="173"/>
                      </a:lnTo>
                      <a:lnTo>
                        <a:pt x="155" y="164"/>
                      </a:lnTo>
                      <a:lnTo>
                        <a:pt x="168" y="155"/>
                      </a:lnTo>
                      <a:lnTo>
                        <a:pt x="182" y="143"/>
                      </a:lnTo>
                      <a:lnTo>
                        <a:pt x="196" y="129"/>
                      </a:lnTo>
                      <a:lnTo>
                        <a:pt x="212" y="118"/>
                      </a:lnTo>
                      <a:lnTo>
                        <a:pt x="224" y="104"/>
                      </a:lnTo>
                      <a:lnTo>
                        <a:pt x="235" y="93"/>
                      </a:lnTo>
                      <a:lnTo>
                        <a:pt x="247" y="83"/>
                      </a:lnTo>
                      <a:lnTo>
                        <a:pt x="254" y="76"/>
                      </a:lnTo>
                      <a:lnTo>
                        <a:pt x="265" y="56"/>
                      </a:lnTo>
                      <a:lnTo>
                        <a:pt x="279" y="30"/>
                      </a:lnTo>
                      <a:lnTo>
                        <a:pt x="288" y="10"/>
                      </a:lnTo>
                      <a:lnTo>
                        <a:pt x="293" y="0"/>
                      </a:lnTo>
                      <a:lnTo>
                        <a:pt x="24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005360" y="3889440"/>
                  <a:ext cx="480960" cy="336240"/>
                </a:xfrm>
                <a:custGeom>
                  <a:avLst/>
                  <a:gdLst/>
                  <a:ahLst/>
                  <a:rect l="l" t="t" r="r" b="b"/>
                  <a:pathLst>
                    <a:path w="303" h="212">
                      <a:moveTo>
                        <a:pt x="240" y="2"/>
                      </a:moveTo>
                      <a:lnTo>
                        <a:pt x="238" y="4"/>
                      </a:lnTo>
                      <a:lnTo>
                        <a:pt x="233" y="7"/>
                      </a:lnTo>
                      <a:lnTo>
                        <a:pt x="226" y="9"/>
                      </a:lnTo>
                      <a:lnTo>
                        <a:pt x="217" y="11"/>
                      </a:lnTo>
                      <a:lnTo>
                        <a:pt x="206" y="14"/>
                      </a:lnTo>
                      <a:lnTo>
                        <a:pt x="194" y="16"/>
                      </a:lnTo>
                      <a:lnTo>
                        <a:pt x="180" y="23"/>
                      </a:lnTo>
                      <a:lnTo>
                        <a:pt x="169" y="30"/>
                      </a:lnTo>
                      <a:lnTo>
                        <a:pt x="164" y="32"/>
                      </a:lnTo>
                      <a:lnTo>
                        <a:pt x="157" y="37"/>
                      </a:lnTo>
                      <a:lnTo>
                        <a:pt x="148" y="39"/>
                      </a:lnTo>
                      <a:lnTo>
                        <a:pt x="139" y="44"/>
                      </a:lnTo>
                      <a:lnTo>
                        <a:pt x="127" y="50"/>
                      </a:lnTo>
                      <a:lnTo>
                        <a:pt x="116" y="55"/>
                      </a:lnTo>
                      <a:lnTo>
                        <a:pt x="104" y="62"/>
                      </a:lnTo>
                      <a:lnTo>
                        <a:pt x="90" y="71"/>
                      </a:lnTo>
                      <a:lnTo>
                        <a:pt x="79" y="78"/>
                      </a:lnTo>
                      <a:lnTo>
                        <a:pt x="67" y="87"/>
                      </a:lnTo>
                      <a:lnTo>
                        <a:pt x="58" y="97"/>
                      </a:lnTo>
                      <a:lnTo>
                        <a:pt x="49" y="106"/>
                      </a:lnTo>
                      <a:lnTo>
                        <a:pt x="30" y="133"/>
                      </a:lnTo>
                      <a:lnTo>
                        <a:pt x="12" y="163"/>
                      </a:lnTo>
                      <a:lnTo>
                        <a:pt x="0" y="189"/>
                      </a:lnTo>
                      <a:lnTo>
                        <a:pt x="0" y="207"/>
                      </a:lnTo>
                      <a:lnTo>
                        <a:pt x="3" y="210"/>
                      </a:lnTo>
                      <a:lnTo>
                        <a:pt x="5" y="210"/>
                      </a:lnTo>
                      <a:lnTo>
                        <a:pt x="5" y="212"/>
                      </a:lnTo>
                      <a:lnTo>
                        <a:pt x="7" y="212"/>
                      </a:lnTo>
                      <a:lnTo>
                        <a:pt x="19" y="212"/>
                      </a:lnTo>
                      <a:lnTo>
                        <a:pt x="37" y="212"/>
                      </a:lnTo>
                      <a:lnTo>
                        <a:pt x="58" y="207"/>
                      </a:lnTo>
                      <a:lnTo>
                        <a:pt x="81" y="203"/>
                      </a:lnTo>
                      <a:lnTo>
                        <a:pt x="104" y="198"/>
                      </a:lnTo>
                      <a:lnTo>
                        <a:pt x="127" y="191"/>
                      </a:lnTo>
                      <a:lnTo>
                        <a:pt x="146" y="182"/>
                      </a:lnTo>
                      <a:lnTo>
                        <a:pt x="162" y="175"/>
                      </a:lnTo>
                      <a:lnTo>
                        <a:pt x="178" y="163"/>
                      </a:lnTo>
                      <a:lnTo>
                        <a:pt x="192" y="152"/>
                      </a:lnTo>
                      <a:lnTo>
                        <a:pt x="208" y="138"/>
                      </a:lnTo>
                      <a:lnTo>
                        <a:pt x="222" y="124"/>
                      </a:lnTo>
                      <a:lnTo>
                        <a:pt x="236" y="113"/>
                      </a:lnTo>
                      <a:lnTo>
                        <a:pt x="247" y="101"/>
                      </a:lnTo>
                      <a:lnTo>
                        <a:pt x="256" y="90"/>
                      </a:lnTo>
                      <a:lnTo>
                        <a:pt x="263" y="83"/>
                      </a:lnTo>
                      <a:lnTo>
                        <a:pt x="275" y="64"/>
                      </a:lnTo>
                      <a:lnTo>
                        <a:pt x="289" y="39"/>
                      </a:lnTo>
                      <a:lnTo>
                        <a:pt x="298" y="18"/>
                      </a:lnTo>
                      <a:lnTo>
                        <a:pt x="303" y="9"/>
                      </a:lnTo>
                      <a:lnTo>
                        <a:pt x="303" y="9"/>
                      </a:lnTo>
                      <a:lnTo>
                        <a:pt x="303" y="7"/>
                      </a:lnTo>
                      <a:lnTo>
                        <a:pt x="303" y="4"/>
                      </a:lnTo>
                      <a:lnTo>
                        <a:pt x="303" y="2"/>
                      </a:lnTo>
                      <a:lnTo>
                        <a:pt x="300" y="0"/>
                      </a:lnTo>
                      <a:lnTo>
                        <a:pt x="298" y="0"/>
                      </a:lnTo>
                      <a:lnTo>
                        <a:pt x="296" y="0"/>
                      </a:lnTo>
                      <a:lnTo>
                        <a:pt x="293" y="0"/>
                      </a:lnTo>
                      <a:lnTo>
                        <a:pt x="291" y="2"/>
                      </a:lnTo>
                      <a:lnTo>
                        <a:pt x="291" y="2"/>
                      </a:lnTo>
                      <a:lnTo>
                        <a:pt x="291" y="2"/>
                      </a:lnTo>
                      <a:lnTo>
                        <a:pt x="286" y="11"/>
                      </a:lnTo>
                      <a:lnTo>
                        <a:pt x="277" y="34"/>
                      </a:lnTo>
                      <a:lnTo>
                        <a:pt x="266" y="57"/>
                      </a:lnTo>
                      <a:lnTo>
                        <a:pt x="254" y="76"/>
                      </a:lnTo>
                      <a:lnTo>
                        <a:pt x="245" y="85"/>
                      </a:lnTo>
                      <a:lnTo>
                        <a:pt x="236" y="94"/>
                      </a:lnTo>
                      <a:lnTo>
                        <a:pt x="224" y="106"/>
                      </a:lnTo>
                      <a:lnTo>
                        <a:pt x="210" y="120"/>
                      </a:lnTo>
                      <a:lnTo>
                        <a:pt x="196" y="131"/>
                      </a:lnTo>
                      <a:lnTo>
                        <a:pt x="183" y="143"/>
                      </a:lnTo>
                      <a:lnTo>
                        <a:pt x="169" y="154"/>
                      </a:lnTo>
                      <a:lnTo>
                        <a:pt x="155" y="163"/>
                      </a:lnTo>
                      <a:lnTo>
                        <a:pt x="139" y="173"/>
                      </a:lnTo>
                      <a:lnTo>
                        <a:pt x="120" y="180"/>
                      </a:lnTo>
                      <a:lnTo>
                        <a:pt x="97" y="187"/>
                      </a:lnTo>
                      <a:lnTo>
                        <a:pt x="74" y="191"/>
                      </a:lnTo>
                      <a:lnTo>
                        <a:pt x="51" y="196"/>
                      </a:lnTo>
                      <a:lnTo>
                        <a:pt x="33" y="200"/>
                      </a:lnTo>
                      <a:lnTo>
                        <a:pt x="19" y="200"/>
                      </a:lnTo>
                      <a:lnTo>
                        <a:pt x="10" y="200"/>
                      </a:lnTo>
                      <a:lnTo>
                        <a:pt x="10" y="200"/>
                      </a:lnTo>
                      <a:lnTo>
                        <a:pt x="10" y="200"/>
                      </a:lnTo>
                      <a:lnTo>
                        <a:pt x="10" y="200"/>
                      </a:lnTo>
                      <a:lnTo>
                        <a:pt x="12" y="200"/>
                      </a:lnTo>
                      <a:lnTo>
                        <a:pt x="12" y="200"/>
                      </a:lnTo>
                      <a:lnTo>
                        <a:pt x="12" y="200"/>
                      </a:lnTo>
                      <a:lnTo>
                        <a:pt x="12" y="200"/>
                      </a:lnTo>
                      <a:lnTo>
                        <a:pt x="12" y="200"/>
                      </a:lnTo>
                      <a:lnTo>
                        <a:pt x="12" y="189"/>
                      </a:lnTo>
                      <a:lnTo>
                        <a:pt x="21" y="168"/>
                      </a:lnTo>
                      <a:lnTo>
                        <a:pt x="37" y="143"/>
                      </a:lnTo>
                      <a:lnTo>
                        <a:pt x="58" y="113"/>
                      </a:lnTo>
                      <a:lnTo>
                        <a:pt x="67" y="103"/>
                      </a:lnTo>
                      <a:lnTo>
                        <a:pt x="76" y="94"/>
                      </a:lnTo>
                      <a:lnTo>
                        <a:pt x="88" y="87"/>
                      </a:lnTo>
                      <a:lnTo>
                        <a:pt x="100" y="80"/>
                      </a:lnTo>
                      <a:lnTo>
                        <a:pt x="111" y="74"/>
                      </a:lnTo>
                      <a:lnTo>
                        <a:pt x="123" y="67"/>
                      </a:lnTo>
                      <a:lnTo>
                        <a:pt x="134" y="62"/>
                      </a:lnTo>
                      <a:lnTo>
                        <a:pt x="146" y="55"/>
                      </a:lnTo>
                      <a:lnTo>
                        <a:pt x="155" y="50"/>
                      </a:lnTo>
                      <a:lnTo>
                        <a:pt x="162" y="46"/>
                      </a:lnTo>
                      <a:lnTo>
                        <a:pt x="169" y="44"/>
                      </a:lnTo>
                      <a:lnTo>
                        <a:pt x="176" y="39"/>
                      </a:lnTo>
                      <a:lnTo>
                        <a:pt x="187" y="32"/>
                      </a:lnTo>
                      <a:lnTo>
                        <a:pt x="199" y="30"/>
                      </a:lnTo>
                      <a:lnTo>
                        <a:pt x="208" y="25"/>
                      </a:lnTo>
                      <a:lnTo>
                        <a:pt x="219" y="23"/>
                      </a:lnTo>
                      <a:lnTo>
                        <a:pt x="229" y="20"/>
                      </a:lnTo>
                      <a:lnTo>
                        <a:pt x="238" y="18"/>
                      </a:lnTo>
                      <a:lnTo>
                        <a:pt x="245" y="16"/>
                      </a:lnTo>
                      <a:lnTo>
                        <a:pt x="249" y="11"/>
                      </a:lnTo>
                      <a:lnTo>
                        <a:pt x="249" y="11"/>
                      </a:lnTo>
                      <a:lnTo>
                        <a:pt x="252" y="9"/>
                      </a:lnTo>
                      <a:lnTo>
                        <a:pt x="252" y="7"/>
                      </a:lnTo>
                      <a:lnTo>
                        <a:pt x="252" y="4"/>
                      </a:lnTo>
                      <a:lnTo>
                        <a:pt x="249" y="2"/>
                      </a:lnTo>
                      <a:lnTo>
                        <a:pt x="247" y="0"/>
                      </a:lnTo>
                      <a:lnTo>
                        <a:pt x="245" y="0"/>
                      </a:lnTo>
                      <a:lnTo>
                        <a:pt x="243" y="0"/>
                      </a:lnTo>
                      <a:lnTo>
                        <a:pt x="240" y="2"/>
                      </a:lnTo>
                      <a:lnTo>
                        <a:pt x="24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511880" y="3687480"/>
                  <a:ext cx="317520" cy="157320"/>
                </a:xfrm>
                <a:custGeom>
                  <a:avLst/>
                  <a:gdLst/>
                  <a:ahLst/>
                  <a:rect l="l" t="t" r="r" b="b"/>
                  <a:pathLst>
                    <a:path w="200" h="99">
                      <a:moveTo>
                        <a:pt x="16" y="64"/>
                      </a:moveTo>
                      <a:lnTo>
                        <a:pt x="46" y="41"/>
                      </a:lnTo>
                      <a:lnTo>
                        <a:pt x="76" y="23"/>
                      </a:lnTo>
                      <a:lnTo>
                        <a:pt x="106" y="9"/>
                      </a:lnTo>
                      <a:lnTo>
                        <a:pt x="134" y="2"/>
                      </a:lnTo>
                      <a:lnTo>
                        <a:pt x="159" y="0"/>
                      </a:lnTo>
                      <a:lnTo>
                        <a:pt x="180" y="5"/>
                      </a:lnTo>
                      <a:lnTo>
                        <a:pt x="193" y="11"/>
                      </a:lnTo>
                      <a:lnTo>
                        <a:pt x="200" y="25"/>
                      </a:lnTo>
                      <a:lnTo>
                        <a:pt x="198" y="37"/>
                      </a:lnTo>
                      <a:lnTo>
                        <a:pt x="193" y="48"/>
                      </a:lnTo>
                      <a:lnTo>
                        <a:pt x="182" y="58"/>
                      </a:lnTo>
                      <a:lnTo>
                        <a:pt x="170" y="64"/>
                      </a:lnTo>
                      <a:lnTo>
                        <a:pt x="157" y="71"/>
                      </a:lnTo>
                      <a:lnTo>
                        <a:pt x="143" y="78"/>
                      </a:lnTo>
                      <a:lnTo>
                        <a:pt x="129" y="83"/>
                      </a:lnTo>
                      <a:lnTo>
                        <a:pt x="115" y="85"/>
                      </a:lnTo>
                      <a:lnTo>
                        <a:pt x="99" y="88"/>
                      </a:lnTo>
                      <a:lnTo>
                        <a:pt x="78" y="92"/>
                      </a:lnTo>
                      <a:lnTo>
                        <a:pt x="53" y="97"/>
                      </a:lnTo>
                      <a:lnTo>
                        <a:pt x="30" y="99"/>
                      </a:lnTo>
                      <a:lnTo>
                        <a:pt x="11" y="99"/>
                      </a:lnTo>
                      <a:lnTo>
                        <a:pt x="0" y="94"/>
                      </a:lnTo>
                      <a:lnTo>
                        <a:pt x="2" y="83"/>
                      </a:lnTo>
                      <a:lnTo>
                        <a:pt x="16" y="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4287960" y="4649760"/>
                <a:ext cx="1179360" cy="450720"/>
              </a:xfrm>
              <a:custGeom>
                <a:avLst/>
                <a:gdLst/>
                <a:ahLst/>
                <a:rect l="l" t="t" r="r" b="b"/>
                <a:pathLst>
                  <a:path w="743" h="284">
                    <a:moveTo>
                      <a:pt x="0" y="35"/>
                    </a:moveTo>
                    <a:lnTo>
                      <a:pt x="12" y="26"/>
                    </a:lnTo>
                    <a:lnTo>
                      <a:pt x="30" y="19"/>
                    </a:lnTo>
                    <a:lnTo>
                      <a:pt x="53" y="12"/>
                    </a:lnTo>
                    <a:lnTo>
                      <a:pt x="81" y="7"/>
                    </a:lnTo>
                    <a:lnTo>
                      <a:pt x="115" y="3"/>
                    </a:lnTo>
                    <a:lnTo>
                      <a:pt x="152" y="0"/>
                    </a:lnTo>
                    <a:lnTo>
                      <a:pt x="191" y="0"/>
                    </a:lnTo>
                    <a:lnTo>
                      <a:pt x="238" y="3"/>
                    </a:lnTo>
                    <a:lnTo>
                      <a:pt x="286" y="5"/>
                    </a:lnTo>
                    <a:lnTo>
                      <a:pt x="337" y="10"/>
                    </a:lnTo>
                    <a:lnTo>
                      <a:pt x="390" y="16"/>
                    </a:lnTo>
                    <a:lnTo>
                      <a:pt x="445" y="26"/>
                    </a:lnTo>
                    <a:lnTo>
                      <a:pt x="503" y="37"/>
                    </a:lnTo>
                    <a:lnTo>
                      <a:pt x="563" y="51"/>
                    </a:lnTo>
                    <a:lnTo>
                      <a:pt x="623" y="70"/>
                    </a:lnTo>
                    <a:lnTo>
                      <a:pt x="685" y="88"/>
                    </a:lnTo>
                    <a:lnTo>
                      <a:pt x="724" y="109"/>
                    </a:lnTo>
                    <a:lnTo>
                      <a:pt x="743" y="139"/>
                    </a:lnTo>
                    <a:lnTo>
                      <a:pt x="741" y="171"/>
                    </a:lnTo>
                    <a:lnTo>
                      <a:pt x="729" y="206"/>
                    </a:lnTo>
                    <a:lnTo>
                      <a:pt x="708" y="236"/>
                    </a:lnTo>
                    <a:lnTo>
                      <a:pt x="685" y="261"/>
                    </a:lnTo>
                    <a:lnTo>
                      <a:pt x="664" y="279"/>
                    </a:lnTo>
                    <a:lnTo>
                      <a:pt x="653" y="284"/>
                    </a:lnTo>
                    <a:lnTo>
                      <a:pt x="561" y="259"/>
                    </a:lnTo>
                    <a:lnTo>
                      <a:pt x="478" y="233"/>
                    </a:lnTo>
                    <a:lnTo>
                      <a:pt x="404" y="208"/>
                    </a:lnTo>
                    <a:lnTo>
                      <a:pt x="337" y="185"/>
                    </a:lnTo>
                    <a:lnTo>
                      <a:pt x="275" y="164"/>
                    </a:lnTo>
                    <a:lnTo>
                      <a:pt x="221" y="143"/>
                    </a:lnTo>
                    <a:lnTo>
                      <a:pt x="175" y="125"/>
                    </a:lnTo>
                    <a:lnTo>
                      <a:pt x="136" y="106"/>
                    </a:lnTo>
                    <a:lnTo>
                      <a:pt x="101" y="90"/>
                    </a:lnTo>
                    <a:lnTo>
                      <a:pt x="71" y="76"/>
                    </a:lnTo>
                    <a:lnTo>
                      <a:pt x="48" y="65"/>
                    </a:lnTo>
                    <a:lnTo>
                      <a:pt x="30" y="53"/>
                    </a:lnTo>
                    <a:lnTo>
                      <a:pt x="16" y="46"/>
                    </a:lnTo>
                    <a:lnTo>
                      <a:pt x="7" y="40"/>
                    </a:lnTo>
                    <a:lnTo>
                      <a:pt x="2" y="37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5695920" y="4238640"/>
              <a:ext cx="439920" cy="165240"/>
            </a:xfrm>
            <a:custGeom>
              <a:avLst/>
              <a:gdLst/>
              <a:ahLst/>
              <a:rect l="l" t="t" r="r" b="b"/>
              <a:pathLst>
                <a:path w="277" h="104">
                  <a:moveTo>
                    <a:pt x="30" y="39"/>
                  </a:moveTo>
                  <a:lnTo>
                    <a:pt x="74" y="19"/>
                  </a:lnTo>
                  <a:lnTo>
                    <a:pt x="120" y="5"/>
                  </a:lnTo>
                  <a:lnTo>
                    <a:pt x="163" y="0"/>
                  </a:lnTo>
                  <a:lnTo>
                    <a:pt x="203" y="2"/>
                  </a:lnTo>
                  <a:lnTo>
                    <a:pt x="235" y="9"/>
                  </a:lnTo>
                  <a:lnTo>
                    <a:pt x="260" y="21"/>
                  </a:lnTo>
                  <a:lnTo>
                    <a:pt x="274" y="37"/>
                  </a:lnTo>
                  <a:lnTo>
                    <a:pt x="277" y="55"/>
                  </a:lnTo>
                  <a:lnTo>
                    <a:pt x="270" y="72"/>
                  </a:lnTo>
                  <a:lnTo>
                    <a:pt x="258" y="83"/>
                  </a:lnTo>
                  <a:lnTo>
                    <a:pt x="242" y="92"/>
                  </a:lnTo>
                  <a:lnTo>
                    <a:pt x="223" y="99"/>
                  </a:lnTo>
                  <a:lnTo>
                    <a:pt x="203" y="102"/>
                  </a:lnTo>
                  <a:lnTo>
                    <a:pt x="184" y="104"/>
                  </a:lnTo>
                  <a:lnTo>
                    <a:pt x="163" y="104"/>
                  </a:lnTo>
                  <a:lnTo>
                    <a:pt x="147" y="102"/>
                  </a:lnTo>
                  <a:lnTo>
                    <a:pt x="124" y="99"/>
                  </a:lnTo>
                  <a:lnTo>
                    <a:pt x="94" y="97"/>
                  </a:lnTo>
                  <a:lnTo>
                    <a:pt x="62" y="95"/>
                  </a:lnTo>
                  <a:lnTo>
                    <a:pt x="34" y="90"/>
                  </a:lnTo>
                  <a:lnTo>
                    <a:pt x="11" y="83"/>
                  </a:lnTo>
                  <a:lnTo>
                    <a:pt x="0" y="72"/>
                  </a:lnTo>
                  <a:lnTo>
                    <a:pt x="4" y="58"/>
                  </a:lnTo>
                  <a:lnTo>
                    <a:pt x="3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19640" y="4429080"/>
              <a:ext cx="1127160" cy="204840"/>
            </a:xfrm>
            <a:custGeom>
              <a:avLst/>
              <a:gdLst/>
              <a:ahLst/>
              <a:rect l="l" t="t" r="r" b="b"/>
              <a:pathLst>
                <a:path w="710" h="129">
                  <a:moveTo>
                    <a:pt x="0" y="58"/>
                  </a:moveTo>
                  <a:lnTo>
                    <a:pt x="27" y="44"/>
                  </a:lnTo>
                  <a:lnTo>
                    <a:pt x="53" y="30"/>
                  </a:lnTo>
                  <a:lnTo>
                    <a:pt x="78" y="18"/>
                  </a:lnTo>
                  <a:lnTo>
                    <a:pt x="111" y="9"/>
                  </a:lnTo>
                  <a:lnTo>
                    <a:pt x="147" y="2"/>
                  </a:lnTo>
                  <a:lnTo>
                    <a:pt x="196" y="0"/>
                  </a:lnTo>
                  <a:lnTo>
                    <a:pt x="256" y="5"/>
                  </a:lnTo>
                  <a:lnTo>
                    <a:pt x="332" y="14"/>
                  </a:lnTo>
                  <a:lnTo>
                    <a:pt x="360" y="18"/>
                  </a:lnTo>
                  <a:lnTo>
                    <a:pt x="390" y="25"/>
                  </a:lnTo>
                  <a:lnTo>
                    <a:pt x="424" y="32"/>
                  </a:lnTo>
                  <a:lnTo>
                    <a:pt x="459" y="39"/>
                  </a:lnTo>
                  <a:lnTo>
                    <a:pt x="496" y="48"/>
                  </a:lnTo>
                  <a:lnTo>
                    <a:pt x="533" y="58"/>
                  </a:lnTo>
                  <a:lnTo>
                    <a:pt x="567" y="67"/>
                  </a:lnTo>
                  <a:lnTo>
                    <a:pt x="602" y="76"/>
                  </a:lnTo>
                  <a:lnTo>
                    <a:pt x="632" y="88"/>
                  </a:lnTo>
                  <a:lnTo>
                    <a:pt x="660" y="95"/>
                  </a:lnTo>
                  <a:lnTo>
                    <a:pt x="683" y="104"/>
                  </a:lnTo>
                  <a:lnTo>
                    <a:pt x="699" y="111"/>
                  </a:lnTo>
                  <a:lnTo>
                    <a:pt x="708" y="118"/>
                  </a:lnTo>
                  <a:lnTo>
                    <a:pt x="710" y="122"/>
                  </a:lnTo>
                  <a:lnTo>
                    <a:pt x="706" y="124"/>
                  </a:lnTo>
                  <a:lnTo>
                    <a:pt x="690" y="127"/>
                  </a:lnTo>
                  <a:lnTo>
                    <a:pt x="660" y="127"/>
                  </a:lnTo>
                  <a:lnTo>
                    <a:pt x="632" y="129"/>
                  </a:lnTo>
                  <a:lnTo>
                    <a:pt x="607" y="129"/>
                  </a:lnTo>
                  <a:lnTo>
                    <a:pt x="583" y="127"/>
                  </a:lnTo>
                  <a:lnTo>
                    <a:pt x="560" y="127"/>
                  </a:lnTo>
                  <a:lnTo>
                    <a:pt x="540" y="127"/>
                  </a:lnTo>
                  <a:lnTo>
                    <a:pt x="519" y="124"/>
                  </a:lnTo>
                  <a:lnTo>
                    <a:pt x="496" y="124"/>
                  </a:lnTo>
                  <a:lnTo>
                    <a:pt x="475" y="122"/>
                  </a:lnTo>
                  <a:lnTo>
                    <a:pt x="452" y="120"/>
                  </a:lnTo>
                  <a:lnTo>
                    <a:pt x="429" y="115"/>
                  </a:lnTo>
                  <a:lnTo>
                    <a:pt x="404" y="113"/>
                  </a:lnTo>
                  <a:lnTo>
                    <a:pt x="374" y="108"/>
                  </a:lnTo>
                  <a:lnTo>
                    <a:pt x="344" y="104"/>
                  </a:lnTo>
                  <a:lnTo>
                    <a:pt x="311" y="99"/>
                  </a:lnTo>
                  <a:lnTo>
                    <a:pt x="274" y="95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08600" y="4381560"/>
              <a:ext cx="819000" cy="344520"/>
            </a:xfrm>
            <a:custGeom>
              <a:avLst/>
              <a:gdLst/>
              <a:ahLst/>
              <a:rect l="l" t="t" r="r" b="b"/>
              <a:pathLst>
                <a:path w="516" h="217">
                  <a:moveTo>
                    <a:pt x="339" y="0"/>
                  </a:moveTo>
                  <a:lnTo>
                    <a:pt x="316" y="2"/>
                  </a:lnTo>
                  <a:lnTo>
                    <a:pt x="279" y="9"/>
                  </a:lnTo>
                  <a:lnTo>
                    <a:pt x="235" y="21"/>
                  </a:lnTo>
                  <a:lnTo>
                    <a:pt x="187" y="35"/>
                  </a:lnTo>
                  <a:lnTo>
                    <a:pt x="138" y="53"/>
                  </a:lnTo>
                  <a:lnTo>
                    <a:pt x="94" y="74"/>
                  </a:lnTo>
                  <a:lnTo>
                    <a:pt x="57" y="92"/>
                  </a:lnTo>
                  <a:lnTo>
                    <a:pt x="32" y="113"/>
                  </a:lnTo>
                  <a:lnTo>
                    <a:pt x="9" y="143"/>
                  </a:lnTo>
                  <a:lnTo>
                    <a:pt x="0" y="168"/>
                  </a:lnTo>
                  <a:lnTo>
                    <a:pt x="2" y="187"/>
                  </a:lnTo>
                  <a:lnTo>
                    <a:pt x="7" y="203"/>
                  </a:lnTo>
                  <a:lnTo>
                    <a:pt x="7" y="205"/>
                  </a:lnTo>
                  <a:lnTo>
                    <a:pt x="9" y="208"/>
                  </a:lnTo>
                  <a:lnTo>
                    <a:pt x="14" y="210"/>
                  </a:lnTo>
                  <a:lnTo>
                    <a:pt x="16" y="212"/>
                  </a:lnTo>
                  <a:lnTo>
                    <a:pt x="18" y="212"/>
                  </a:lnTo>
                  <a:lnTo>
                    <a:pt x="39" y="214"/>
                  </a:lnTo>
                  <a:lnTo>
                    <a:pt x="69" y="217"/>
                  </a:lnTo>
                  <a:lnTo>
                    <a:pt x="108" y="214"/>
                  </a:lnTo>
                  <a:lnTo>
                    <a:pt x="152" y="212"/>
                  </a:lnTo>
                  <a:lnTo>
                    <a:pt x="196" y="208"/>
                  </a:lnTo>
                  <a:lnTo>
                    <a:pt x="237" y="201"/>
                  </a:lnTo>
                  <a:lnTo>
                    <a:pt x="272" y="191"/>
                  </a:lnTo>
                  <a:lnTo>
                    <a:pt x="297" y="182"/>
                  </a:lnTo>
                  <a:lnTo>
                    <a:pt x="313" y="175"/>
                  </a:lnTo>
                  <a:lnTo>
                    <a:pt x="330" y="166"/>
                  </a:lnTo>
                  <a:lnTo>
                    <a:pt x="346" y="157"/>
                  </a:lnTo>
                  <a:lnTo>
                    <a:pt x="364" y="150"/>
                  </a:lnTo>
                  <a:lnTo>
                    <a:pt x="380" y="143"/>
                  </a:lnTo>
                  <a:lnTo>
                    <a:pt x="394" y="134"/>
                  </a:lnTo>
                  <a:lnTo>
                    <a:pt x="408" y="127"/>
                  </a:lnTo>
                  <a:lnTo>
                    <a:pt x="422" y="120"/>
                  </a:lnTo>
                  <a:lnTo>
                    <a:pt x="433" y="115"/>
                  </a:lnTo>
                  <a:lnTo>
                    <a:pt x="445" y="108"/>
                  </a:lnTo>
                  <a:lnTo>
                    <a:pt x="454" y="101"/>
                  </a:lnTo>
                  <a:lnTo>
                    <a:pt x="461" y="97"/>
                  </a:lnTo>
                  <a:lnTo>
                    <a:pt x="477" y="78"/>
                  </a:lnTo>
                  <a:lnTo>
                    <a:pt x="493" y="62"/>
                  </a:lnTo>
                  <a:lnTo>
                    <a:pt x="507" y="51"/>
                  </a:lnTo>
                  <a:lnTo>
                    <a:pt x="512" y="46"/>
                  </a:lnTo>
                  <a:lnTo>
                    <a:pt x="512" y="46"/>
                  </a:lnTo>
                  <a:lnTo>
                    <a:pt x="514" y="44"/>
                  </a:lnTo>
                  <a:lnTo>
                    <a:pt x="516" y="39"/>
                  </a:lnTo>
                  <a:lnTo>
                    <a:pt x="514" y="37"/>
                  </a:lnTo>
                  <a:lnTo>
                    <a:pt x="512" y="32"/>
                  </a:lnTo>
                  <a:lnTo>
                    <a:pt x="510" y="30"/>
                  </a:lnTo>
                  <a:lnTo>
                    <a:pt x="505" y="28"/>
                  </a:lnTo>
                  <a:lnTo>
                    <a:pt x="503" y="30"/>
                  </a:lnTo>
                  <a:lnTo>
                    <a:pt x="498" y="32"/>
                  </a:lnTo>
                  <a:lnTo>
                    <a:pt x="498" y="32"/>
                  </a:lnTo>
                  <a:lnTo>
                    <a:pt x="491" y="37"/>
                  </a:lnTo>
                  <a:lnTo>
                    <a:pt x="480" y="48"/>
                  </a:lnTo>
                  <a:lnTo>
                    <a:pt x="463" y="65"/>
                  </a:lnTo>
                  <a:lnTo>
                    <a:pt x="445" y="83"/>
                  </a:lnTo>
                  <a:lnTo>
                    <a:pt x="440" y="88"/>
                  </a:lnTo>
                  <a:lnTo>
                    <a:pt x="431" y="92"/>
                  </a:lnTo>
                  <a:lnTo>
                    <a:pt x="422" y="99"/>
                  </a:lnTo>
                  <a:lnTo>
                    <a:pt x="410" y="104"/>
                  </a:lnTo>
                  <a:lnTo>
                    <a:pt x="396" y="111"/>
                  </a:lnTo>
                  <a:lnTo>
                    <a:pt x="385" y="118"/>
                  </a:lnTo>
                  <a:lnTo>
                    <a:pt x="371" y="125"/>
                  </a:lnTo>
                  <a:lnTo>
                    <a:pt x="357" y="131"/>
                  </a:lnTo>
                  <a:lnTo>
                    <a:pt x="348" y="136"/>
                  </a:lnTo>
                  <a:lnTo>
                    <a:pt x="339" y="141"/>
                  </a:lnTo>
                  <a:lnTo>
                    <a:pt x="330" y="145"/>
                  </a:lnTo>
                  <a:lnTo>
                    <a:pt x="320" y="148"/>
                  </a:lnTo>
                  <a:lnTo>
                    <a:pt x="311" y="152"/>
                  </a:lnTo>
                  <a:lnTo>
                    <a:pt x="304" y="157"/>
                  </a:lnTo>
                  <a:lnTo>
                    <a:pt x="295" y="161"/>
                  </a:lnTo>
                  <a:lnTo>
                    <a:pt x="288" y="166"/>
                  </a:lnTo>
                  <a:lnTo>
                    <a:pt x="263" y="175"/>
                  </a:lnTo>
                  <a:lnTo>
                    <a:pt x="228" y="182"/>
                  </a:lnTo>
                  <a:lnTo>
                    <a:pt x="187" y="189"/>
                  </a:lnTo>
                  <a:lnTo>
                    <a:pt x="145" y="194"/>
                  </a:lnTo>
                  <a:lnTo>
                    <a:pt x="101" y="196"/>
                  </a:lnTo>
                  <a:lnTo>
                    <a:pt x="64" y="196"/>
                  </a:lnTo>
                  <a:lnTo>
                    <a:pt x="37" y="196"/>
                  </a:lnTo>
                  <a:lnTo>
                    <a:pt x="23" y="194"/>
                  </a:lnTo>
                  <a:lnTo>
                    <a:pt x="23" y="194"/>
                  </a:lnTo>
                  <a:lnTo>
                    <a:pt x="25" y="194"/>
                  </a:lnTo>
                  <a:lnTo>
                    <a:pt x="25" y="194"/>
                  </a:lnTo>
                  <a:lnTo>
                    <a:pt x="25" y="196"/>
                  </a:lnTo>
                  <a:lnTo>
                    <a:pt x="25" y="196"/>
                  </a:lnTo>
                  <a:lnTo>
                    <a:pt x="25" y="196"/>
                  </a:lnTo>
                  <a:lnTo>
                    <a:pt x="25" y="196"/>
                  </a:lnTo>
                  <a:lnTo>
                    <a:pt x="25" y="196"/>
                  </a:lnTo>
                  <a:lnTo>
                    <a:pt x="20" y="184"/>
                  </a:lnTo>
                  <a:lnTo>
                    <a:pt x="20" y="171"/>
                  </a:lnTo>
                  <a:lnTo>
                    <a:pt x="27" y="152"/>
                  </a:lnTo>
                  <a:lnTo>
                    <a:pt x="48" y="125"/>
                  </a:lnTo>
                  <a:lnTo>
                    <a:pt x="71" y="108"/>
                  </a:lnTo>
                  <a:lnTo>
                    <a:pt x="103" y="90"/>
                  </a:lnTo>
                  <a:lnTo>
                    <a:pt x="147" y="71"/>
                  </a:lnTo>
                  <a:lnTo>
                    <a:pt x="193" y="53"/>
                  </a:lnTo>
                  <a:lnTo>
                    <a:pt x="240" y="39"/>
                  </a:lnTo>
                  <a:lnTo>
                    <a:pt x="281" y="28"/>
                  </a:lnTo>
                  <a:lnTo>
                    <a:pt x="316" y="21"/>
                  </a:lnTo>
                  <a:lnTo>
                    <a:pt x="337" y="18"/>
                  </a:lnTo>
                  <a:lnTo>
                    <a:pt x="337" y="18"/>
                  </a:lnTo>
                  <a:lnTo>
                    <a:pt x="341" y="18"/>
                  </a:lnTo>
                  <a:lnTo>
                    <a:pt x="346" y="16"/>
                  </a:lnTo>
                  <a:lnTo>
                    <a:pt x="348" y="14"/>
                  </a:lnTo>
                  <a:lnTo>
                    <a:pt x="348" y="9"/>
                  </a:lnTo>
                  <a:lnTo>
                    <a:pt x="348" y="7"/>
                  </a:lnTo>
                  <a:lnTo>
                    <a:pt x="346" y="2"/>
                  </a:lnTo>
                  <a:lnTo>
                    <a:pt x="343" y="0"/>
                  </a:lnTo>
                  <a:lnTo>
                    <a:pt x="339" y="0"/>
                  </a:lnTo>
                  <a:lnTo>
                    <a:pt x="3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7T18:08:23Z</dcterms:created>
  <dc:creator>Computer</dc:creator>
  <dc:description/>
  <dc:language>en-US</dc:language>
  <cp:lastModifiedBy>Computer</cp:lastModifiedBy>
  <dcterms:modified xsi:type="dcterms:W3CDTF">2002-06-17T18:45:52Z</dcterms:modified>
  <cp:revision>10</cp:revision>
  <dc:subject/>
  <dc:title>Презентация PowerPoint</dc:title>
</cp:coreProperties>
</file>